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6B1-2637-4551-8BDD-DE21556E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002-A6EF-41F3-99CD-09038588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5C9-494B-42EC-A194-366B1F07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287-D44D-4629-8D8C-7C05F3B5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5BA-2781-49EC-87C4-8F2CFB0A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22B-C8D4-4CB1-B0A8-4BDFDBD5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C2E-CF5E-457A-BCA3-9CC36FBA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6D2-4A46-48D9-899E-FD559B0E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58E-4BAE-4306-99F9-8A33E8CC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1E8-A8D0-44FB-9C04-8CF50E95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D13-3CBE-49F9-BDB2-0D4174F7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301-8FB9-4235-899B-2DEDBB40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A2C4-9714-49AA-90F7-FBCA1682618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D2DA-F768-43B7-ADDF-D407004B9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: An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from a presentation in: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mission Systems for Commun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l Telephone Laboratories, 1970, 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CFA5-3140-420E-849E-E571E83D6E7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67F4E-B929-4536-ABDD-8A24EA6708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ensity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1304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ea under a portion of this curve is the probability that the voltage lies in that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DF is zero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38200" y="3645000"/>
          <a:ext cx="6870600" cy="245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3645000"/>
                    <a:ext cx="687060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879800" y="1557360"/>
                <a:ext cx="26751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94320" y="2536920"/>
                <a:ext cx="28843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D61-A686-4450-A2EF-D4D450EDD0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3D120-A1A5-4EB1-AAF4-508F24C769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6120"/>
            <a:ext cx="77724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Average of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emble”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e a large number of examples of the noise signal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e set of all examples is the “ensembl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any particular time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verage the set of values of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get the “Expected Value”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time and ensemble averages give the same val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y usually do), the noise process is said to be “Ergod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95440" y="1833480"/>
                <a:ext cx="16336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63760" y="4081320"/>
                <a:ext cx="2109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882960" y="4113360"/>
                <a:ext cx="4178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for the infinite se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90B-959D-40D1-B757-0766BE0865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6B3D9-AABD-4BD3-9FB0-74D6C6B01A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0460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calculate the ensemble average of our sinusoidal “nois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obviously zer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d symmetry, balance point, 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t should since this noise the has no DC compone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365120" y="2563920"/>
                <a:ext cx="35337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65120" y="3416400"/>
                <a:ext cx="44164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8A6-8A0F-4958-84C3-C1C0393D51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4B7D5-8519-4B78-9551-DE6570AB79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[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is also known as the “First Moment” of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also calculate other important moments of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he “Second Central Moment” or “Variance”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for our sinusoidal nois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77880" y="1911240"/>
                <a:ext cx="32036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339920" y="3579840"/>
                <a:ext cx="5753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09840" y="4843440"/>
                <a:ext cx="36180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24C-6207-477E-9B75-D2DBC3CA70C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151F0-518D-4965-A8BE-16E10A7635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ng this requires “Integration by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19360" y="2637000"/>
                <a:ext cx="321948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19360" y="2049480"/>
                <a:ext cx="2827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9440" y="3643200"/>
                <a:ext cx="517680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    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3880" y="5305320"/>
                <a:ext cx="5672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2867040" y="5460840"/>
            <a:ext cx="839880" cy="85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519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1E3-6B74-4CEC-8027-9D3AAEEC6E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F2B8D-B6DA-47AA-800E-AB7E71109C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orresponds to the power of our sine wav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ithout the “squared”) is called the “Standard Deviation”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oise and corresponds to the RMS value of th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70240" y="1482840"/>
                <a:ext cx="2789280" cy="33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434-B9C8-4A5B-B8FC-2C7A9CB2C2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683C5-1076-4250-9750-CFEE59E734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985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robability Density Func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ussian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Limit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density function for a random variable that is the result of adding the effects of many small contributors tends to be Gaussian as the number of contributors gets l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46440" y="1436760"/>
                <a:ext cx="32446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1800360" y="2303640"/>
          <a:ext cx="5543280" cy="21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2303640"/>
                    <a:ext cx="554328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C7B-D638-4FFA-8B88-91CE3470DFA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2408A-1EE6-48A6-BA37-854489B1C1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985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robability Density Func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onential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naturally in discrete “Poison Process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between occurr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phone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135160" y="1741320"/>
                <a:ext cx="44686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for v 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 0 , 0 for v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5" name=""/>
          <p:cNvGraphicFramePr/>
          <p:nvPr/>
        </p:nvGraphicFramePr>
        <p:xfrm>
          <a:off x="1800360" y="2443320"/>
          <a:ext cx="5543280" cy="197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2443320"/>
                    <a:ext cx="5543280" cy="19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07B-3C1E-4A61-A278-E97BA984E8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CA997-CD7A-4A60-A1C6-64D309BCFA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Noise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f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e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187-D557-4CB7-8439-196CAA341B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BC629-C3DD-480E-B76A-7AF5D3B365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59000"/>
            <a:ext cx="77724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Brownian motion of electrons in a resistive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) = k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power spectr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1.3805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oltzmann’s constan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is the absolute temperature (°Kelv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“white” noise (“flat” spectr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color an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light has all colors at equal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distribution is Gauss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685-BCB8-4AF4-91D4-874F27EEFE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C52DD-9AC2-4135-959B-558D1FE389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: An 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noi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veforms with incomple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: h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can we determ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sine waves of unknown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 Spectral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distribution function: P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density function: p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probability density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in the real-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and Power Spectral den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D57-0C89-4460-A63E-48AA44A36F0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D7B15-359F-433B-B4D9-BBA8C87AA0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Nois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59000"/>
            <a:ext cx="77724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re accurate model (Quantum The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orrects for the high frequency roll of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ove 4000 GHz at room tempera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 in the noise is sim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k*T*BW Watts 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74 + 1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W) in dB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cibels relative to a milliwa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B = 1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/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/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73400" y="1887480"/>
                <a:ext cx="247464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∗</m:t>
                        </m:r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f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F4C-BC7D-4C7C-9E4D-99535B047DF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BBF7A-4A77-4908-9E06-6EBAB5C082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492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irregular flow of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*q*I*f  wher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= 1.6 *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arge on an elec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noise is proportional to the signal lev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t tempera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lso white (flat spectrum) and Gauss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834-C560-4274-B3A5-2FE741EBEB6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2C240-61AA-4984-802B-17F592D81F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f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ed b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egularities in semiconductor d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many naturally occurring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red silhouettes (Mountains, clouds, rocky walls, forest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) =A / f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0.8 &lt;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1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824-8FA5-49D6-9513-6FBEDF4CE76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830D0-53AC-429D-88B9-855D9EC147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ulse Noi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668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energy spikes, clicks and p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hicle igni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white noise, but NOT Gauss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multiple sources - more impulse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ception to the “Central Limit Theor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824-D247-4DAB-BA50-E17438DF906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43A1D-948F-43C8-B03C-3BF2952D46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Measu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uman 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ch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ing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-Weigh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Weigh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47A-5835-4108-BAE1-F6C7B68FC1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5445B-CE95-4108-B563-604875144F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ing Performanc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 average, good, e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91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response is a function of sound 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dB here is the threshold of he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intensities yield flatter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oudness" descr=""/>
          <p:cNvPicPr/>
          <p:nvPr/>
        </p:nvPicPr>
        <p:blipFill>
          <a:blip r:embed="rId1"/>
          <a:stretch/>
        </p:blipFill>
        <p:spPr>
          <a:xfrm>
            <a:off x="2846520" y="1981080"/>
            <a:ext cx="5611680" cy="382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09A-56F7-44E2-B4EE-16892AFD09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C8425-B48C-4BCA-99B9-EB8154CBED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chl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3873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luid-filled spiral vibration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fil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frequencies travel the full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frequencies only affect the near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llia: hairs put out signals when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ring damage occurs when these are inj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at the near end are easily damaged (high frequency hearing 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chlea" descr=""/>
          <p:cNvPicPr/>
          <p:nvPr/>
        </p:nvPicPr>
        <p:blipFill>
          <a:blip r:embed="rId1"/>
          <a:stretch/>
        </p:blipFill>
        <p:spPr>
          <a:xfrm>
            <a:off x="4730760" y="1752480"/>
            <a:ext cx="4000320" cy="31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49DF-9199-4861-A023-1B6B9DCFE7D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258A0-7FFD-444B-9C42-A5314D765F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Intensity Level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- Weighted Fil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5231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he sensitivity of the ear at the threshold of hearing; used to specify OSHA safety levels (dB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A-Weight_Curve" descr=""/>
          <p:cNvPicPr/>
          <p:nvPr/>
        </p:nvPicPr>
        <p:blipFill>
          <a:blip r:embed="rId1"/>
          <a:stretch/>
        </p:blipFill>
        <p:spPr>
          <a:xfrm>
            <a:off x="914400" y="1776240"/>
            <a:ext cx="7315200" cy="33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111-55CB-4E80-ABFE-88A34D6AD6A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AD2CE-FE1B-423C-8E3D-EC32ACB6FB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-Weighting 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ow is an active filter that will accurately perform A-Weighting for sound measurement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nks to: Rod Elliot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http://sound.westhost.com/project17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A-weight_schematic" descr=""/>
          <p:cNvPicPr/>
          <p:nvPr/>
        </p:nvPicPr>
        <p:blipFill>
          <a:blip r:embed="rId1"/>
          <a:stretch/>
        </p:blipFill>
        <p:spPr>
          <a:xfrm>
            <a:off x="947880" y="3627360"/>
            <a:ext cx="724680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213-72FC-42B6-A4A6-D511742896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E874D-3640-4230-9979-76AC6B0FCC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Intensity Level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- Weighted Fil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5231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he sensitivity of the ear at normal listening levels; used to specify noise in telephone systems (dB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-Weight_Curve" descr=""/>
          <p:cNvPicPr/>
          <p:nvPr/>
        </p:nvPicPr>
        <p:blipFill>
          <a:blip r:embed="rId1"/>
          <a:stretch/>
        </p:blipFill>
        <p:spPr>
          <a:xfrm>
            <a:off x="914400" y="1776240"/>
            <a:ext cx="7315200" cy="33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92B8-3A82-42AA-B657-8D2CC0BDC6F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3B625-0859-4B66-AE18-DB8CCA168B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requency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936-464E-4F73-B027-96C7778D5F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2EAE9-DAA4-4864-8C83-18C3486D01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Spectral Density (ES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9120" y="1384200"/>
                <a:ext cx="8359920" cy="464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s the Energy in a time waveform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but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s the Inverse Fourier Transform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den>
                                </m:f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s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ωt</m:t>
                                        </m:r>
                                      </m:sup>
                                    </m:sSup>
                                    <m:r>
                                      <m:t xml:space="preserve">dω</m:t>
                                    </m:r>
                                  </m:e>
                                </m:nary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Substituting for one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  <m:s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ω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nterchanging the order of integ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inner integral is almost the Fourier Transfor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xcept for the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but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the complex conjugate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so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the </m:t>
                        </m:r>
                        <m:r>
                          <m:t xml:space="preserve">Energy</m:t>
                        </m:r>
                        <m:r>
                          <m:t xml:space="preserve">Spectral</m:t>
                        </m:r>
                        <m:r>
                          <m:t xml:space="preserve">Density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BCC-4A3C-4377-8B4E-3381FFF5A65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F4172-2712-4B5B-BB00-BB99BB4EEE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44240"/>
            <a:ext cx="777240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Spectral Density (ESD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Linea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475740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 the ESD of the output of a linear system is obtained by multiplying the ESD of the input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5160" y="208296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84680" y="1752480"/>
            <a:ext cx="1092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09556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35160" y="175896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175896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= X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H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2960" y="1927080"/>
            <a:ext cx="9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5360" y="2438280"/>
                <a:ext cx="8356680" cy="23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changing to f eliminates the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r>
                                      <m:t xml:space="preserve">∗</m:t>
                                    </m:r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o if 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re uncorrelated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∗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ADE-2287-4880-8118-8357705B605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FCE9E-099D-43C7-A827-861C104536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Spectral Density (PS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34600"/>
            <a:ext cx="777240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that exist for all time have an infinite energy so we define power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82800" y="2590920"/>
                <a:ext cx="6700680" cy="36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this is energy/tim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fine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≡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for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zero elsewhere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which does exist and the Power is: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lim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t</m:t>
                                      </m:r>
                                      <m:r>
                                        <m:t xml:space="preserve">→</m:t>
                                      </m:r>
                                      <m:r>
                                        <m:t xml:space="preserve">∞</m:t>
                                      </m:r>
                                    </m:e>
                                  </m:mr>
                                </m: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d>
                                              <m:dPr>
                                                <m:begChr m:val="|"/>
                                                <m:endChr m:val="|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F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T</m:t>
                                                    </m:r>
                                                  </m:sub>
                                                </m:sSub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r>
                                                      <m:t xml:space="preserve">ω</m:t>
                                                    </m:r>
                                                  </m:e>
                                                </m:d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BD9-8BF9-4374-AF38-7E68BA27F82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B4534-7373-4DAB-A883-7F76058DDE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Spectral Density (PSD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3496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efore, the function in the integral is a density.  This time it’s the 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e ESD and PSD functions are real and even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06400" y="2286000"/>
                <a:ext cx="32212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SD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</m:mr>
                      <m:mr>
                        <m:e>
                          <m:r>
                            <m:t xml:space="preserve">t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mr>
                    </m:m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2FD-F21F-44AE-9799-383A65A03DA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24576-AD81-450D-AF9F-6EA5ED5018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undesired signal that interferes with the reproduction of a desired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: predictable, often periodic, noi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generated by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unpredictable noise, generated by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stochastic” process in nature or by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C9E-9CDF-49A5-8F6B-AD13AA637E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48C38-1AA4-47F1-9B8E-6D37488D82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dom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” of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spectrum: distribution of energ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s a function of frequen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know the details of the waveform only its “average”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3F5-866D-467C-B9E8-24E64B00BF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C1ABC-BB16-457B-A27C-8B71903B11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 analysis Introduc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ine wave of unknown 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frequency interfer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(t) = A si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known, b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not know its value at time “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28800" y="3276720"/>
            <a:ext cx="4676760" cy="2990880"/>
            <a:chOff x="1828800" y="3276720"/>
            <a:chExt cx="4676760" cy="2990880"/>
          </a:xfrm>
        </p:grpSpPr>
        <p:graphicFrame>
          <p:nvGraphicFramePr>
            <p:cNvPr id="54" name=""/>
            <p:cNvGraphicFramePr/>
            <p:nvPr/>
          </p:nvGraphicFramePr>
          <p:xfrm>
            <a:off x="1828800" y="3276720"/>
            <a:ext cx="4676760" cy="2990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3276720"/>
                      <a:ext cx="4676760" cy="299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3581280" y="3657600"/>
              <a:ext cx="0" cy="20574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F3E-59F2-4A11-89AF-89CE64C0FE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CB62E-A62D-45E2-BEAC-956CC30695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Spectral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the “Energy Spectral Density” is just the magnitude squared of the Fourier transform of n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all of the energy is concentrated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ach half of the energy is at 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the Fourier transform is based on the complex exponential not sine and cos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2438280"/>
                <a:ext cx="5715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752480" y="4343400"/>
            <a:ext cx="5543640" cy="1971720"/>
            <a:chOff x="1752480" y="4343400"/>
            <a:chExt cx="5543640" cy="1971720"/>
          </a:xfrm>
        </p:grpSpPr>
        <p:graphicFrame>
          <p:nvGraphicFramePr>
            <p:cNvPr id="61" name=""/>
            <p:cNvGraphicFramePr/>
            <p:nvPr/>
          </p:nvGraphicFramePr>
          <p:xfrm>
            <a:off x="1752480" y="4343400"/>
            <a:ext cx="5543640" cy="1971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4343400"/>
                      <a:ext cx="5543640" cy="19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2846520" y="5029200"/>
              <a:ext cx="1440" cy="87624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1" y="55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08560" y="5029200"/>
              <a:ext cx="1800" cy="87624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1" y="55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1BD6-9162-40DE-92C7-3104878628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288C3-6CA3-4C87-B378-6A540B52C8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95080"/>
            <a:ext cx="77724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distribution” of the ‘noise”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probability that at any time t the voltage is less than or equal to a particular value “v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ies at some values are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-A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0) = 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ual equation is: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½ +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arcsin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013360" y="2320920"/>
                <a:ext cx="1960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8" name=""/>
          <p:cNvGraphicFramePr/>
          <p:nvPr/>
        </p:nvGraphicFramePr>
        <p:xfrm>
          <a:off x="1800360" y="4414680"/>
          <a:ext cx="5543280" cy="19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4414680"/>
                    <a:ext cx="5543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7207200" y="5052960"/>
            <a:ext cx="16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n for A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77F-29F2-4750-80A7-E8FA1BA079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5C2A0-ED4A-42BA-ABD6-DD1F5614B8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952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istribu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68600"/>
            <a:ext cx="777240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tual equation is: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½ +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arcsin(v/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the noise spends more time near the extremes and less time near zero.  Think of a pendul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stops at the extremes and is moving slowly near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move fastest at the bottom and therefore spends less time t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ther useful function is the derivative of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Probability Density Function”,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(note the lower case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392120" y="2128680"/>
          <a:ext cx="5543640" cy="19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2128680"/>
                    <a:ext cx="55436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784920" y="2792520"/>
            <a:ext cx="16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n for A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9C6-C8ED-46C9-BDC1-00E757D60A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F71C9-BE35-414F-B8F6-9ABF7BBF3C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4:07:05Z</dcterms:created>
  <dc:creator>Jeffrey N. Denenberg</dc:creator>
  <dc:description/>
  <dc:language>en-US</dc:language>
  <cp:lastModifiedBy>Jeffrey N Denenberg</cp:lastModifiedBy>
  <cp:lastPrinted>2002-11-24T18:12:09Z</cp:lastPrinted>
  <dcterms:modified xsi:type="dcterms:W3CDTF">2002-11-24T18:18:55Z</dcterms:modified>
  <cp:revision>234</cp:revision>
  <dc:subject/>
  <dc:title>Noise: An Introduction</dc:title>
</cp:coreProperties>
</file>