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B58-71E7-4212-8871-A62514AC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E8D-4B66-4535-BD66-53205D82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503-7F43-4FB8-8E43-46D496BE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737-8606-463A-B915-8B4EDAAC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93B-7D9D-40B9-AEA7-399B4C2D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744-E541-45A7-A715-9B655282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767-A348-411D-88C2-0561D6BB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FB9-AF87-4626-8EF5-7C0B5798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2CB-FC0A-4889-A896-5FEEFD16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5B5-7F25-4C21-B444-7B363273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28D-CF05-4C43-9D28-55CF6750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D40-A2AF-46DE-8B2C-26912EFC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1776-E85D-4D16-B7DC-7128B16968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CEFD-198E-4C64-A087-DF75F1624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 Approxim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erworth, Chebyshev, and Elliptic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H(s)| for n=4, r=1 (Type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715000" cy="413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0.2457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9528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.4539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7426s + 0.27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lie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7B4-A9BF-4B7E-B450-FC6D140BB0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86E9F-FF25-42F3-B88D-CBB404B544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the Jacobian elliptic function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pproximately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on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ly controlled equiripple in the pass-band and stop-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per cutoff than Chebyshev (optimal transition b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1523880"/>
            <a:ext cx="5213160" cy="2303640"/>
            <a:chOff x="914400" y="1523880"/>
            <a:chExt cx="5213160" cy="23036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16594" r="0" b="0"/>
            <a:stretch/>
          </p:blipFill>
          <p:spPr>
            <a:xfrm>
              <a:off x="1371600" y="1523880"/>
              <a:ext cx="44956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14400" y="152388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342864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0960" y="342864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079960" y="1600200"/>
                <a:ext cx="2843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880-27D5-4B75-8125-D300054E73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B5699-2346-4220-8C6C-812017DA2A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s) for n=4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327400" cy="2689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5715000" cy="4378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57150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(s) = (0.0032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0595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1554)/( 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5769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1.2227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4369s + 0.219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219-3756-4786-A858-D8995C519C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4CF6B-6DD0-4F5F-8B79-13885EA70C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se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utterworth and Chebyshev filters with sharp cutoffs (high order) carry a penalty that is evident from the positions of their poles in the s plane. Bringing the poles closer to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 increases their Q, which degrades the filter's transient response. Overshoot or ringing at the response edges can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ssel filter represents a trade-off in the opposite direction from the Butterworth. The Bessel's poles lie on a locus further from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. Transient response is improved, but at the expense of a less steep cutoff in the stop-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00400" cy="317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F98-172E-4C11-89FE-DD7979A59D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7C750-8D34-42D4-8203-562611E045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tool to establish a prototyp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Lab is a great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doctord.webhop.net/courses/Topics/Matlab/index.ht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Matlab tutorial by Dr. Bouzid Aliane; Chapter 5 is on filter d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design for ringing/oversh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trimental, increase the filter order and redesign to exceed the frequency respons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poles near the 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to the left to reduce their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resulting filter against your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poles to the left will reduce ringing/overshoo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degrade the transition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CE6-7168-4101-A090-72013A2942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68F44-BCA6-4164-AEF9-E35E84CCDB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ximation Polynom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hysically realizable circuit has a transfer function that is a rational polynomial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determine classes of rational polynomials that approximate the “Ideal” low-pass filter respon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igh-pass band-pass and band-stop filters can be derived from a low pass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well known approximations are discussed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erworth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ven Butterworth,"On the Theory of Filter Amplifiers", Wireless Engineer (also called Experimental Wireless and the Radio Engineer), vol. 7, 1930, pp. 536-5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byshev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fnuty Lvovich Chebyshev (1821-1894) - Russi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illic alphabet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lled many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Func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helm Cauer (1900-1945) - Germ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patents 1,958,742 (1934), 1,989,545 (1935), 2,048,426 (19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sel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drich Wilhelm Bessel, 1784 - 18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692360" cy="3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7C4-4C5A-438C-81F2-F289CBB002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86D04-4BE2-48A5-83A6-D43FB693FA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|H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approximation to the ideal low-pass filter response |I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deal filter cutoff frequenc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t is normalized to one for conven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00200" y="2438280"/>
            <a:ext cx="4495320" cy="1947600"/>
            <a:chOff x="1600200" y="2438280"/>
            <a:chExt cx="4495320" cy="1947600"/>
          </a:xfrm>
        </p:grpSpPr>
        <p:sp>
          <p:nvSpPr>
            <p:cNvPr id="49" name=""/>
            <p:cNvSpPr/>
            <p:nvPr/>
          </p:nvSpPr>
          <p:spPr>
            <a:xfrm flipV="1">
              <a:off x="2701080" y="2531880"/>
              <a:ext cx="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01080" y="3851280"/>
              <a:ext cx="27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0200" y="2438280"/>
              <a:ext cx="91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I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94640" y="3945240"/>
              <a:ext cx="110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01080" y="3003480"/>
              <a:ext cx="10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10160" y="3003480"/>
              <a:ext cx="0" cy="84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18360" y="394524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33880" y="281448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EFD-D836-42B1-AFA7-724D69DEA1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C7996-47CB-4944-B68A-1B2A332DB5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tions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writte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“Characteristic Function” which attempts to approximate: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not be done with a finite order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lexibility for the degree of error in the passband or stop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752480" y="1676520"/>
                <a:ext cx="2843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828800" y="3429000"/>
            <a:ext cx="3047760" cy="1378080"/>
            <a:chOff x="1828800" y="3429000"/>
            <a:chExt cx="3047760" cy="1378080"/>
          </a:xfrm>
        </p:grpSpPr>
        <p:sp>
          <p:nvSpPr>
            <p:cNvPr id="61" name=""/>
            <p:cNvSpPr/>
            <p:nvPr/>
          </p:nvSpPr>
          <p:spPr>
            <a:xfrm flipV="1">
              <a:off x="2641320" y="3543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41320" y="4350600"/>
              <a:ext cx="20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3486600"/>
              <a:ext cx="6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37800" y="44082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18480" y="440820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0240" y="371556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41320" y="4350600"/>
              <a:ext cx="7448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454200" y="3659040"/>
              <a:ext cx="0" cy="690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18480" y="34290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C05-0A14-4B6D-AFC9-39FA19CFBB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4A083-9E0C-43BC-8E2A-CBCB1EAF59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er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stay within the shaded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an incomplete specification.  The phase response and transient response are also important and need to be appropriate for the filter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47920" y="1676520"/>
            <a:ext cx="4230720" cy="3245400"/>
            <a:chOff x="1447920" y="1676520"/>
            <a:chExt cx="4230720" cy="3245400"/>
          </a:xfrm>
        </p:grpSpPr>
        <p:sp>
          <p:nvSpPr>
            <p:cNvPr id="73" name=""/>
            <p:cNvSpPr/>
            <p:nvPr/>
          </p:nvSpPr>
          <p:spPr>
            <a:xfrm flipV="1">
              <a:off x="2482920" y="1738440"/>
              <a:ext cx="1440" cy="17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2920" y="3505320"/>
              <a:ext cx="300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16765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69040" y="3635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82920" y="2368440"/>
              <a:ext cx="11034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6320" y="2368440"/>
              <a:ext cx="1440" cy="113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78240" y="35701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41640" y="21985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82920" y="2368440"/>
              <a:ext cx="11034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86320" y="2368440"/>
              <a:ext cx="199800" cy="113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86120" y="3251160"/>
              <a:ext cx="140328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308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8936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84360" y="3505320"/>
              <a:ext cx="180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22600" y="3765600"/>
              <a:ext cx="89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ss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4040" y="3765600"/>
              <a:ext cx="89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p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7760" y="4614840"/>
              <a:ext cx="16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ition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651120" y="4484520"/>
              <a:ext cx="20664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DE3-B99F-48C3-8ED7-4BDA0C9EBB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2C47D-DEF1-4537-BD69-5B8E36AB45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terwo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ransfer function (no rip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ally flat and Linear phase (in the pass-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cutof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43000" y="1828800"/>
            <a:ext cx="5899320" cy="2044440"/>
            <a:chOff x="1143000" y="1828800"/>
            <a:chExt cx="5899320" cy="20444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565280" y="1915920"/>
              <a:ext cx="538668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43000" y="182880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350496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5720" y="34290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4120" y="1676520"/>
                <a:ext cx="2842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10080" y="2514600"/>
                <a:ext cx="2133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7D2-D548-407E-ABBB-B4D3684C91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C10E5-F506-4F48-B120-0E21BC2256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 locations in the s-plane 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1/2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re equally spaced on the unit circle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only uses the n poles in the left half plane for 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no z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05520" y="1066680"/>
                <a:ext cx="2374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1447920" y="2057400"/>
            <a:ext cx="5257800" cy="2971800"/>
            <a:chOff x="1447920" y="2057400"/>
            <a:chExt cx="5257800" cy="29718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47920" y="2057400"/>
              <a:ext cx="32176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214960" y="3512880"/>
              <a:ext cx="14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B75-120F-4EF7-B995-B6B43DF2E2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5A7D8-A22A-4427-A29B-5E85632CA5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Filter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H(s)| for n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715000" cy="422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5791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1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.414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8A5-DC6A-42B5-AABA-F37DCD12201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805D7-14FF-4CDD-B674-E1B9DBD989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equiripple in the pass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er cutoff than Butter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352680" cy="238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3047760" cy="2198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– Typ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29200" y="1066680"/>
                <a:ext cx="2790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514600" y="388620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80988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13372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158-D0F8-46A2-A031-6B855B5FE9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4939C-CCA1-448D-9506-359DA20524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8:08:16Z</dcterms:created>
  <dc:creator>Jeffrey N Denenberg</dc:creator>
  <dc:description/>
  <dc:language>en-US</dc:language>
  <cp:lastModifiedBy>Jeffrey Denenberg</cp:lastModifiedBy>
  <dcterms:modified xsi:type="dcterms:W3CDTF">2005-06-13T12:56:45Z</dcterms:modified>
  <cp:revision>21</cp:revision>
  <dc:subject/>
  <dc:title>Filter Approximation Theory</dc:title>
</cp:coreProperties>
</file>