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FA4-C867-4FE8-A6DC-B0A65E22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A69-F022-445C-9448-E5BAB2CC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CB0-9747-49DA-B2B1-D3C9A5E0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1DF-4744-4489-BFCA-3C543B1E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5E0-8CF1-4BDB-B9F9-77E46834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2A2-5CEA-4117-92D1-D6D78D35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DE8-7A91-4A3D-9E63-EBE76B27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A9D-A9D1-4AA3-B9D8-DD7D119D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438-E6BC-4FF4-8366-8C8808C2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830-2882-4960-B6C1-95E3C4A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FBC-FF2F-401D-B53B-9851026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688-B482-46A1-BE28-C5E2669B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5CA0-310B-46C9-9002-D2114BE3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nn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amming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lackman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quiripple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of FIR filters can be accomplished throug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v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tho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 iterative method is known as the weighted-Chebyshev method; an error function is formulated in terms of linear combination of cosine functions and is then minimized by using a very efficient multivariable optimization algorithm known as the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Reme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change algorith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convergence is achieved, the error function becom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plitude of the error in different frequency bands is controlled by applyin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ight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error fun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80000" y="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quiripple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65520" y="4413240"/>
          <a:ext cx="4543560" cy="240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4413240"/>
                    <a:ext cx="45435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6000" y="61326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mez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signs a linear-phase FIR filter using th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rks-McClella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gorith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360" y="404280"/>
            <a:ext cx="1593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nstrained Equiripple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firceqrip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52920" y="4467240"/>
          <a:ext cx="459108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2920" y="4467240"/>
                    <a:ext cx="45910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east squares and related techniqu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ed on approach of minimizing, in some specified manner, the mean squared error between the transfer function of the filter and the frequency characteristics of a desired filter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 approaches exist: unweighted list squares, frequency sampling, weighted list squares, and eigen filter metho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0360" y="-360"/>
            <a:ext cx="1512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square linear-phase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562640" y="4457880"/>
          <a:ext cx="4581360" cy="24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2640" y="4457880"/>
                    <a:ext cx="45813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3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square linear-phase FIR filter design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r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920" y="131760"/>
            <a:ext cx="1593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east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th-norm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400" y="54000"/>
            <a:ext cx="7410240" cy="603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495680" y="4476600"/>
          <a:ext cx="46483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476600"/>
                    <a:ext cx="46483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33920" y="5876640"/>
            <a:ext cx="2601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aximally fla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54000"/>
            <a:ext cx="7410600" cy="6039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5084640"/>
            <a:ext cx="16556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FIR Butterworth filter 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xfl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desig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Filter Design Toolbo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filt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 is characterized by a unit sample response that has a finite dur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 advantage of FIR filters compared to IIR counterparts is that FIR filters can be designed with exactly linear pha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hase is important for applications where phase distortion due to nonlinear phase can degrade performance (e.g., data transmissio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of FIR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indow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quiripple FI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ast squares and related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programming (LP) and mixed integer linear programming (MILP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utationally efficient FIR filters using periodic subfilters as building bloc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indowing techniq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of the earliest design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efficients can be obtained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is no need for solving complex optimization probl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ost frequently used window functions are Bartlett, Hann, Hamming, Blackman, and Kais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17269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0920" y="0"/>
          <a:ext cx="7093080" cy="677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709308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0" y="4365720"/>
            <a:ext cx="1368360" cy="2421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869000"/>
            <a:ext cx="165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ilter Design Toolbox window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89520" y="1052640"/>
          <a:ext cx="42195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1052640"/>
                    <a:ext cx="421956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9280" y="177336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ain role of the window is to damp out the effects of the Gibbs phenomenon that results from truncation of an infinit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Kais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594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rtlet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414360"/>
            <a:ext cx="7410240" cy="603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9892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445000"/>
            <a:ext cx="1656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29T01:15:25Z</dcterms:modified>
  <cp:revision>217</cp:revision>
  <dc:subject>Analog and Digital  Filter Design</dc:subject>
  <dc:title>Digital filters, FIR filter design</dc:title>
</cp:coreProperties>
</file>