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5FA-5B11-4113-97CA-8E21C306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106-4C23-4772-9DAB-3DBD3F02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412-638C-491A-A1A4-FB0EF77A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DDC-BB00-4E89-919C-CC178260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A44-7AB6-4E4A-A695-63BF4E65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992-503E-481C-B598-2838918B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0DF-133B-4AB2-9DA2-204D9E56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F43-2972-49F7-AE8C-85ECF439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1C5-EBA4-4953-B373-6FF3F6FB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624-FDA9-4E48-BF6F-DFC9F0ED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BBD-C551-4AAF-AD9D-153456A0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728-8A1C-4F06-B689-842F7C80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7D25-B87B-49D0-B1CB-7C7A924DD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assical digital filter desig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3: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udy of imperfec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0" b="16190"/>
          <a:stretch/>
        </p:blipFill>
        <p:spPr>
          <a:xfrm>
            <a:off x="866880" y="1628640"/>
            <a:ext cx="7410240" cy="4997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5877000"/>
            <a:ext cx="64764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494172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5372280"/>
            <a:ext cx="50472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0000" y="1413000"/>
            <a:ext cx="1655640" cy="718920"/>
          </a:xfrm>
          <a:prstGeom prst="wedgeRoundRectCallout">
            <a:avLst>
              <a:gd name="adj1" fmla="val -89884"/>
              <a:gd name="adj2" fmla="val 207837"/>
              <a:gd name="adj3" fmla="val 16667"/>
            </a:avLst>
          </a:prstGeom>
          <a:solidFill>
            <a:srgbClr val="3399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spec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ep 4: Implement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968720" cy="1576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564000" y="2790720"/>
            <a:ext cx="4610160" cy="373392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pecific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1: Approximation - Select Chebyshev Type 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2: Realization - Cascade of biqua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3: Study of imperfections - Quantiz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do design step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1: Approxim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2: Realiz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3: Study of imperfection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4: Implement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LAB FDAtool docu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363080" cy="5419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art with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0360" y="4653000"/>
            <a:ext cx="1656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4292640"/>
            <a:ext cx="3743280" cy="187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1848"/>
          <a:stretch/>
        </p:blipFill>
        <p:spPr>
          <a:xfrm>
            <a:off x="866880" y="1413000"/>
            <a:ext cx="7410240" cy="5256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elect Chebyshev Type I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60360" y="6164280"/>
            <a:ext cx="1656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rt coefficients: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File, Expor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19330"/>
          <a:stretch/>
        </p:blipFill>
        <p:spPr>
          <a:xfrm>
            <a:off x="900000" y="1714680"/>
            <a:ext cx="7410600" cy="480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2009520" cy="263844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2: Realiz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rect-form II biquad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48872"/>
          <a:stretch/>
        </p:blipFill>
        <p:spPr>
          <a:xfrm>
            <a:off x="1042920" y="2421000"/>
            <a:ext cx="72295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6190"/>
          <a:stretch/>
        </p:blipFill>
        <p:spPr>
          <a:xfrm>
            <a:off x="866880" y="1628640"/>
            <a:ext cx="7410240" cy="4997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3: Study of imperfections: Quantiz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877000"/>
            <a:ext cx="64764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494172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5372280"/>
            <a:ext cx="50472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1341360"/>
            <a:ext cx="2087640" cy="719280"/>
          </a:xfrm>
          <a:prstGeom prst="wedgeRoundRectCallout">
            <a:avLst>
              <a:gd name="adj1" fmla="val -167564"/>
              <a:gd name="adj2" fmla="val 222847"/>
              <a:gd name="adj3" fmla="val 16667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spec is viola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crease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66880" y="1600200"/>
            <a:ext cx="7410240" cy="5068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300720" y="544500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3355920"/>
            <a:ext cx="180036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do step 2: 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53431"/>
          <a:stretch/>
        </p:blipFill>
        <p:spPr>
          <a:xfrm>
            <a:off x="471600" y="2492280"/>
            <a:ext cx="82008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MIROSLAV</cp:lastModifiedBy>
  <dcterms:modified xsi:type="dcterms:W3CDTF">2005-03-21T02:00:47Z</dcterms:modified>
  <cp:revision>407</cp:revision>
  <dc:subject>Analog and Digital  Filter Design</dc:subject>
  <dc:title>Classical digital filter design</dc:title>
</cp:coreProperties>
</file>