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5246-77D7-4877-8A9A-162897C3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A352-E767-4154-A5FE-444743D1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F6D2-D0CE-49B6-94F4-0C3E4E25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2A38-20CF-4945-9EA4-2182049E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27C-53E1-4F5D-9430-E7181BEB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0A8-56A6-4322-81DE-B1F45189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7D3B-40B4-4E75-901F-EA750ABD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323-E982-4FC3-B1FE-8CAEF55C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0AB-400E-4133-8252-897D9EE9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A50-2C84-441C-842F-7FD14131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BF8-BA69-4B20-BA56-284CA9B1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468-37BC-460C-B230-B33B1FA0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ACFE-F6C3-42B3-B1D6-7BC869078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Digital filters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FIR and IIR structure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ample 3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838160"/>
            <a:ext cx="302400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 = 80; k = 0:(N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0.9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= [0 1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[1 -a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(k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filter(B,A,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1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raw1stIIR(0,0,4,5,10,'b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2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x,'r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inpu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3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y,'b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outpu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3645000"/>
            <a:ext cx="19447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427640" y="1589040"/>
            <a:ext cx="4647960" cy="5153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295800" y="2039760"/>
                <a:ext cx="2644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2411280" y="2565360"/>
            <a:ext cx="2952720" cy="1366920"/>
          </a:xfrm>
          <a:prstGeom prst="wedgeRoundRectCallout">
            <a:avLst>
              <a:gd name="adj1" fmla="val 130912"/>
              <a:gd name="adj2" fmla="val 194949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impulse response does not vanish after finite number of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sic FIR structur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rect form, Transposed form, Cascade form, Linear-phase, Symmetr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rect form 2</a:t>
            </a:r>
            <a:r>
              <a:rPr b="0" lang="en-US" sz="4400" spc="-1" strike="noStrike" baseline="30000">
                <a:solidFill>
                  <a:srgbClr val="8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Transposed direct form 2</a:t>
            </a:r>
            <a:r>
              <a:rPr b="0" lang="en-US" sz="4000" spc="-1" strike="noStrike" baseline="30000">
                <a:solidFill>
                  <a:srgbClr val="8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scade direct for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rect form (Tapped delay line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ransposed direct for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inear-phase type 1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inear-phase type 2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ymmetric FIR type I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view: Discrete-time system, Digital system, LTI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mpulse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finition of FIR and IIR syst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and IIR structu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examp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DAtool design examp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ymmetric FIR type II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sic IIR structur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rect form, Transposed for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rect form I 2</a:t>
            </a:r>
            <a:r>
              <a:rPr b="0" lang="en-US" sz="4400" spc="-1" strike="noStrike" baseline="30000">
                <a:solidFill>
                  <a:srgbClr val="8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rect form II 1</a:t>
            </a:r>
            <a:r>
              <a:rPr b="0" lang="en-US" sz="4400" spc="-1" strike="noStrike" baseline="30000">
                <a:solidFill>
                  <a:srgbClr val="8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rect form II 2</a:t>
            </a:r>
            <a:r>
              <a:rPr b="0" lang="en-US" sz="4400" spc="-1" strike="noStrike" baseline="30000">
                <a:solidFill>
                  <a:srgbClr val="8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scade direct form II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Transposed direct form II 1</a:t>
            </a:r>
            <a:r>
              <a:rPr b="0" lang="en-US" sz="4000" spc="-1" strike="noStrike" baseline="30000">
                <a:solidFill>
                  <a:srgbClr val="800000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Transposed direct form II 2</a:t>
            </a:r>
            <a:r>
              <a:rPr b="0" lang="en-US" sz="4000" spc="-1" strike="noStrike" baseline="30000">
                <a:solidFill>
                  <a:srgbClr val="8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R design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rder linear-phase filt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DAtool FIR design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66880" y="423720"/>
            <a:ext cx="7410240" cy="6010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987640" y="3933720"/>
            <a:ext cx="1440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4920" y="3933720"/>
            <a:ext cx="165744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4508640"/>
            <a:ext cx="165600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view: Discrete-time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54864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iscrete-time syste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has discrete-time input and output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38120" y="1766880"/>
            <a:ext cx="8267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le, Export …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2560" y="1614600"/>
            <a:ext cx="3011400" cy="3625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11280" y="4726080"/>
            <a:ext cx="11509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902040" y="4562640"/>
          <a:ext cx="4991040" cy="19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02040" y="4562640"/>
                    <a:ext cx="499104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dit, Convert Structure …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544920" cy="334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5867280" y="1782720"/>
          <a:ext cx="3159360" cy="495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782720"/>
                    <a:ext cx="31593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76720" y="3213000"/>
            <a:ext cx="3959280" cy="792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88000" y="274680"/>
            <a:ext cx="3898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R example design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600" y="79200"/>
            <a:ext cx="4495680" cy="4429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851280" y="2133720"/>
            <a:ext cx="5229360" cy="4657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49400" y="4797360"/>
            <a:ext cx="3990960" cy="15685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view: Digital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discrete-time system i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igit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f it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erates on discrete-time signals whose amplitudes are quantiz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zatio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aps each continuou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mplitude level into a numb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digital system employs digital hardwa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xplicitly in the form of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gic circuit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mplicitly when the operations on the signals are executed by writing a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er progra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inear time-invariant (LTI) system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90840" y="2997360"/>
            <a:ext cx="5962320" cy="1419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21400" y="1557360"/>
            <a:ext cx="683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crete-time system is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LT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f its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put-output relationship can be described by th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near constant coefficien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differenc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0880" y="4508640"/>
            <a:ext cx="79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output sampl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ight depend on all input sampl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at can be represented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940120" y="5568840"/>
                <a:ext cx="32623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ample 1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1413000"/>
            <a:ext cx="30240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 = 80; k = 0:(N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0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1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2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= [b0 b1 b2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 = 1/8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sin(2*pi*f*k+pi/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filter(B,1,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2,1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ystemFIR(0,0,4,5,10,'b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2,1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lot(k,x,'go', k,y,'bo',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,x,'g-', k,y,'b-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gend('input','outpu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43400" cy="528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284640" y="3984480"/>
                <a:ext cx="38797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755640" y="3933720"/>
            <a:ext cx="19447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1484280"/>
            <a:ext cx="2303280" cy="1366920"/>
          </a:xfrm>
          <a:prstGeom prst="wedgeRoundRectCallout">
            <a:avLst>
              <a:gd name="adj1" fmla="val -109546"/>
              <a:gd name="adj2" fmla="val 123518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TLAB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filte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command corresponds to the symbol 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Impulse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1000" y="2179800"/>
            <a:ext cx="5914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sponse of a system to th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nit impulse sequence is called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unit impulse response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r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for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911320" y="4829040"/>
                <a:ext cx="32641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ample 2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838160"/>
            <a:ext cx="302400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 = 16; k = 0:(N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0 = 1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1 = -1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2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= [b0 b1 b2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(k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filter(B,1,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1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ystemFIR(0,0,4,5,10,'b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2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x,'r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inpu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3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y,'b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outpu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3429000"/>
            <a:ext cx="19447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46480" y="1374840"/>
            <a:ext cx="4962600" cy="5438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84640" y="1968480"/>
                <a:ext cx="3879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are FIR and IIR systems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discrete system is said to be a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I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ystem if its impulse response has zero-valued samples f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gt;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teger numbe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called the </a:t>
            </a:r>
            <a:br>
              <a:rPr sz="3200"/>
            </a:b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lengt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the impulse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I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ystem is a discrete system with an infinite impulse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= Finite Impulse Respons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IR = Infinite Impulse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3-12T03:49:56Z</dcterms:modified>
  <cp:revision>179</cp:revision>
  <dc:subject>Analog and Digital  Filter Design</dc:subject>
  <dc:title>Digital filters, FIR and IIR structures</dc:title>
</cp:coreProperties>
</file>