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2DEC-6C1E-433B-B4DF-09512307D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9CDF-EF15-415B-A206-346B5A2D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F0C3-F241-465F-8792-D68805853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3AB3-7113-42D8-9001-E2A29F7F8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0FD7-8AF4-4CB8-BF9F-CDA56453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8548-B4A8-4921-9772-F5875293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4C8C-D492-4778-BA9D-7D11EC00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5A54-6245-402C-8E88-77A9242D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49A9-A619-4A96-9E03-6036B33B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1442-4C23-459C-A45B-EEFE6FAD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2D27-4676-4A67-ABE0-522BA8DF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52D4-1768-465B-A1D3-41F92A05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AE51-47AC-4C78-B49D-23F95AA22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pecification of an analog filter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Magnitude-tolerance specification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4720" y="6308640"/>
            <a:ext cx="705636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e assume that the maximal value of the magnitude response is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490760" y="1566720"/>
          <a:ext cx="6164280" cy="372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0760" y="1566720"/>
                    <a:ext cx="6164280" cy="37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2338560" y="5384880"/>
          <a:ext cx="4466880" cy="78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5384880"/>
                    <a:ext cx="446688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gnitude-ripple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95440" y="1504800"/>
          <a:ext cx="6153120" cy="384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5440" y="1504800"/>
                    <a:ext cx="6153120" cy="38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2724120" y="5430960"/>
          <a:ext cx="3695760" cy="59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24120" y="5430960"/>
                    <a:ext cx="369576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ttenuation-limit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44720" y="6308640"/>
            <a:ext cx="705636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e assume that the maximal value of the magnitude response is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638360" y="1438200"/>
          <a:ext cx="5867280" cy="39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1438200"/>
                    <a:ext cx="586728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643120" y="5568840"/>
          <a:ext cx="385776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43120" y="5568840"/>
                    <a:ext cx="38577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Gain-limit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44720" y="6308640"/>
            <a:ext cx="705636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e assume that the maximal value of the magnitude response is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90840" y="1457280"/>
          <a:ext cx="5962320" cy="394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0840" y="1457280"/>
                    <a:ext cx="596232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633760" y="5459400"/>
          <a:ext cx="387648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33760" y="5459400"/>
                    <a:ext cx="38764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Characteristic-function-limit specification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4720" y="6308640"/>
            <a:ext cx="705636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e assume that the maximal value of the magnitude response is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619280" y="1628640"/>
          <a:ext cx="5905440" cy="36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628640"/>
                    <a:ext cx="5905440" cy="36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2509920" y="5416560"/>
          <a:ext cx="4124160" cy="6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920" y="5416560"/>
                    <a:ext cx="4124160" cy="6764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We convert all specs into characteristic-function-limit spec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8000" y="1773360"/>
          <a:ext cx="2467080" cy="15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773360"/>
                    <a:ext cx="246708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203640" y="1484280"/>
          <a:ext cx="2657520" cy="15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1484280"/>
                    <a:ext cx="265752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6307200" y="1844640"/>
          <a:ext cx="2657520" cy="166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7200" y="1844640"/>
                    <a:ext cx="265752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108000" y="5013360"/>
          <a:ext cx="2533680" cy="1752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8000" y="5013360"/>
                    <a:ext cx="253368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6516720" y="5084640"/>
          <a:ext cx="2523960" cy="165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16720" y="5084640"/>
                    <a:ext cx="252396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2535120" y="3500280"/>
          <a:ext cx="3981600" cy="2343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35120" y="3500280"/>
                    <a:ext cx="3981600" cy="23432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1258920" y="2637000"/>
            <a:ext cx="1081080" cy="1655640"/>
          </a:xfrm>
          <a:prstGeom prst="line">
            <a:avLst/>
          </a:prstGeom>
          <a:ln w="7632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258920" y="4797360"/>
            <a:ext cx="1081080" cy="1224000"/>
          </a:xfrm>
          <a:prstGeom prst="line">
            <a:avLst/>
          </a:prstGeom>
          <a:ln w="7632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6805080" y="4797360"/>
            <a:ext cx="1079640" cy="1224000"/>
          </a:xfrm>
          <a:prstGeom prst="line">
            <a:avLst/>
          </a:prstGeom>
          <a:ln w="7632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804000" y="2637000"/>
            <a:ext cx="936720" cy="1655640"/>
          </a:xfrm>
          <a:prstGeom prst="line">
            <a:avLst/>
          </a:prstGeom>
          <a:ln w="7632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2421000"/>
            <a:ext cx="0" cy="1008000"/>
          </a:xfrm>
          <a:prstGeom prst="line">
            <a:avLst/>
          </a:prstGeom>
          <a:ln w="7632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6093000"/>
            <a:ext cx="251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e pp.247-248 for conversion form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rototype elliptic approxim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671480" y="1419120"/>
          <a:ext cx="5801040" cy="40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1480" y="1419120"/>
                    <a:ext cx="5801040" cy="40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3095640" y="5641920"/>
          <a:ext cx="295272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95640" y="5641920"/>
                    <a:ext cx="2952720" cy="66672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lliptic design parameter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elliptic rational function; it is a ratio of two polynomials in real variabl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</a:t>
            </a:r>
            <a:r>
              <a:rPr b="0" i="1" lang="en-US" sz="3200" spc="-1" strike="noStrike">
                <a:solidFill>
                  <a:srgbClr val="800000"/>
                </a:solidFill>
                <a:latin typeface="Arial"/>
              </a:rPr>
              <a:t>order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s the </a:t>
            </a:r>
            <a:r>
              <a:rPr b="0" i="1" lang="en-US" sz="3200" spc="-1" strike="noStrike">
                <a:solidFill>
                  <a:srgbClr val="800000"/>
                </a:solidFill>
                <a:latin typeface="Arial"/>
              </a:rPr>
              <a:t>selectivity facto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s the </a:t>
            </a:r>
            <a:r>
              <a:rPr b="0" i="1" lang="en-US" sz="3200" spc="-1" strike="noStrike">
                <a:solidFill>
                  <a:srgbClr val="800000"/>
                </a:solidFill>
                <a:latin typeface="Arial"/>
              </a:rPr>
              <a:t>ripple facto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</a:t>
            </a:r>
            <a:r>
              <a:rPr b="0" i="1" lang="en-US" sz="3200" spc="-1" strike="noStrike">
                <a:solidFill>
                  <a:srgbClr val="800000"/>
                </a:solidFill>
                <a:latin typeface="Arial"/>
              </a:rPr>
              <a:t>actual passband edg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095640" y="5589720"/>
            <a:ext cx="2952720" cy="666720"/>
          </a:xfrm>
          <a:prstGeom prst="rect">
            <a:avLst/>
          </a:prstGeom>
          <a:ln w="936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graphicFrame>
        <p:nvGraphicFramePr>
          <p:cNvPr id="141" name=""/>
          <p:cNvGraphicFramePr/>
          <p:nvPr/>
        </p:nvGraphicFramePr>
        <p:xfrm>
          <a:off x="6732720" y="5516640"/>
          <a:ext cx="1600200" cy="83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32720" y="5516640"/>
                    <a:ext cx="16002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sign spa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552760" y="3495600"/>
          <a:ext cx="4038480" cy="5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2760" y="3495600"/>
                    <a:ext cx="403848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433520" y="4241880"/>
          <a:ext cx="6276960" cy="20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33520" y="4241880"/>
                    <a:ext cx="62769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755640" y="1989000"/>
          <a:ext cx="287640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1989000"/>
                    <a:ext cx="28764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5003640" y="2131920"/>
            <a:ext cx="3745080" cy="1152720"/>
          </a:xfrm>
          <a:prstGeom prst="wedgeRoundRectCallout">
            <a:avLst>
              <a:gd name="adj1" fmla="val -87305"/>
              <a:gd name="adj2" fmla="val -38152"/>
              <a:gd name="adj3" fmla="val 16667"/>
            </a:avLst>
          </a:prstGeom>
          <a:solidFill>
            <a:srgbClr val="ffffcc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set of all quadruples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, for a given specification, is called the 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desig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sign exampl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FDesign D5 alternativ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mportance of analog filter specific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ays in presenting the specific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asic filter functions: frequency response, attenuation, gain, characteristic function …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rototype elliptic approxim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lliptic design paramet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sign spa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ATLAB design example Lecture12.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Given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sign a lowpass filter that satisfies the following specification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p = 3000 Hz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s = 3225 Hz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p = 0.2 dB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s = 40 dB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sign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 real life, practical element values are significant to about 3 digits, temperature changes element values, etc., so we choose a more restrictive specification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p = 3000 Hz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s = 3225 Hz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p =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0.05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dB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s =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45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dB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sign strategy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hoose RLC singly terminated ladder realization with complex zero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xplore two design alternatives: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Matlab default design D3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Minimal Q-factor design D5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se AFDesign to find transfer func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pute element values (see previous lecture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ound element values to 3 digits of precis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Validate desig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tlab default design is D3a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990880" y="1484280"/>
          <a:ext cx="3162240" cy="49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0880" y="1484280"/>
                    <a:ext cx="3162240" cy="49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3a respon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866960" y="1600200"/>
            <a:ext cx="5410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5 respon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866960" y="1600200"/>
            <a:ext cx="5410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66960" y="1600200"/>
            <a:ext cx="5410080" cy="47815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3a violates given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451640" y="3213000"/>
            <a:ext cx="1584360" cy="1152720"/>
          </a:xfrm>
          <a:prstGeom prst="wedgeRectCallout">
            <a:avLst>
              <a:gd name="adj1" fmla="val -107814"/>
              <a:gd name="adj2" fmla="val 112532"/>
            </a:avLst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3a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(red) violates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given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5229360"/>
            <a:ext cx="1513080" cy="1152360"/>
          </a:xfrm>
          <a:prstGeom prst="wedgeRectCallout">
            <a:avLst>
              <a:gd name="adj1" fmla="val 187564"/>
              <a:gd name="adj2" fmla="val -128925"/>
            </a:avLst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5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(blue) satisfies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given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lement valu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866960" y="1600200"/>
            <a:ext cx="5410080" cy="478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2" name=""/>
          <p:cNvGraphicFramePr/>
          <p:nvPr/>
        </p:nvGraphicFramePr>
        <p:xfrm>
          <a:off x="879480" y="1341360"/>
          <a:ext cx="1676520" cy="295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9480" y="1341360"/>
                    <a:ext cx="1676520" cy="295272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7020000" y="3141720"/>
          <a:ext cx="1790640" cy="360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20000" y="3141720"/>
                    <a:ext cx="1790640" cy="360036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Importance of filter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Usually, the filter specification is give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 many cases the designer has to establish the specification by himself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pecification is the most important prerequisite for the filter desig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f the specification is too restrictive (e.g., very low passband and stopband tolerances, narrow transition region), the filter may not be feasible!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How to choose specification?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proper selection of the specification must be done according to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e nature of signals (i.e., frequency bands and the corresponding levels of the desired and undesired signals or noise)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e available hardware (element tolerances, parasitic effects, etc.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re are several ways in presenting the analog filter specific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gnitude and phase respon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620800" y="2084400"/>
          <a:ext cx="389592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0800" y="2084400"/>
                    <a:ext cx="389592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08000" y="3627360"/>
            <a:ext cx="3313080" cy="505080"/>
          </a:xfrm>
          <a:prstGeom prst="wedgeRoundRectCallout">
            <a:avLst>
              <a:gd name="adj1" fmla="val 64662"/>
              <a:gd name="adj2" fmla="val 136162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gnitude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5068800"/>
            <a:ext cx="2594160" cy="505080"/>
          </a:xfrm>
          <a:prstGeom prst="wedgeRoundRectCallout">
            <a:avLst>
              <a:gd name="adj1" fmla="val 93208"/>
              <a:gd name="adj2" fmla="val 142138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hase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08000" y="1536840"/>
          <a:ext cx="3267000" cy="52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1536840"/>
                    <a:ext cx="32670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5697360" y="1593720"/>
          <a:ext cx="3267360" cy="466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97360" y="1593720"/>
                    <a:ext cx="326736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995640" y="3916440"/>
                <a:ext cx="248436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995640" y="5716440"/>
                <a:ext cx="25290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η</m:t>
                    </m:r>
                    <m:r>
                      <m:t xml:space="preserve">−</m:t>
                    </m:r>
                    <m:r>
                      <m:t xml:space="preserve">ζ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requency respon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481560" y="2060640"/>
                <a:ext cx="217008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108000" y="1557360"/>
            <a:ext cx="2881440" cy="503280"/>
          </a:xfrm>
          <a:prstGeom prst="wedgeRoundRectCallout">
            <a:avLst>
              <a:gd name="adj1" fmla="val 65263"/>
              <a:gd name="adj2" fmla="val 150629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fer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572000" y="5734080"/>
                <a:ext cx="41259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179280" y="6237360"/>
            <a:ext cx="3313080" cy="504720"/>
          </a:xfrm>
          <a:prstGeom prst="wedgeRoundRectCallout">
            <a:avLst>
              <a:gd name="adj1" fmla="val 79708"/>
              <a:gd name="adj2" fmla="val -60064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requency respon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6200" y="3429000"/>
            <a:ext cx="3313440" cy="504720"/>
          </a:xfrm>
          <a:prstGeom prst="wedgeRoundRectCallout">
            <a:avLst>
              <a:gd name="adj1" fmla="val -2421"/>
              <a:gd name="adj2" fmla="val 134907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gnitude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72360" y="3284640"/>
            <a:ext cx="2593800" cy="504720"/>
          </a:xfrm>
          <a:prstGeom prst="wedgeRoundRectCallout">
            <a:avLst>
              <a:gd name="adj1" fmla="val -60833"/>
              <a:gd name="adj2" fmla="val 148111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hase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187280" y="4508640"/>
                <a:ext cx="30607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148360" y="4564080"/>
                <a:ext cx="34160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Loss and characteristic func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1844640"/>
            <a:ext cx="2232000" cy="503280"/>
          </a:xfrm>
          <a:prstGeom prst="wedgeRoundRectCallout">
            <a:avLst>
              <a:gd name="adj1" fmla="val 68703"/>
              <a:gd name="adj2" fmla="val 147791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ss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935440" y="2131920"/>
                <a:ext cx="323820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612880" y="4583160"/>
                <a:ext cx="39038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179280" y="3573360"/>
            <a:ext cx="2232000" cy="792360"/>
          </a:xfrm>
          <a:prstGeom prst="wedgeRoundRectCallout">
            <a:avLst>
              <a:gd name="adj1" fmla="val 56685"/>
              <a:gd name="adj2" fmla="val 159819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aracteristic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ttenuation and gai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1844640"/>
            <a:ext cx="2232000" cy="503280"/>
          </a:xfrm>
          <a:prstGeom prst="wedgeRoundRectCallout">
            <a:avLst>
              <a:gd name="adj1" fmla="val 68703"/>
              <a:gd name="adj2" fmla="val 147791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ten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247840" y="2997360"/>
                <a:ext cx="46134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179280" y="3986280"/>
            <a:ext cx="2232000" cy="503280"/>
          </a:xfrm>
          <a:prstGeom prst="wedgeRoundRectCallout">
            <a:avLst>
              <a:gd name="adj1" fmla="val 68703"/>
              <a:gd name="adj2" fmla="val 147791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359080" y="5138640"/>
                <a:ext cx="43909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gnitude-limit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638360" y="1552680"/>
          <a:ext cx="5867280" cy="37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1552680"/>
                    <a:ext cx="5867280" cy="37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044720" y="6308640"/>
            <a:ext cx="705636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e assume that the maximal value of the magnitude response is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343240" y="5492880"/>
          <a:ext cx="445752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3240" y="5492880"/>
                    <a:ext cx="445752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nn</cp:lastModifiedBy>
  <dcterms:modified xsi:type="dcterms:W3CDTF">2005-03-04T02:51:52Z</dcterms:modified>
  <cp:revision>511</cp:revision>
  <dc:subject>Analog and Digital  Filter Design</dc:subject>
  <dc:title>Specification of an analog filter</dc:title>
</cp:coreProperties>
</file>