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8A4B-F6EB-4C47-8EA7-1F758342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AA3-7E86-4B5F-A97B-B8539C3B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A1E-C684-4748-A060-C103E305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14D-EF4C-4893-B347-1CB5421E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DFB-BD87-4D4D-9D94-D7F290B8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C9C-727D-4B43-BB70-FBAE4DEB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45A-9285-4F59-8F8D-B1E075A9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B85-B080-426A-AB32-3246B262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C350-DD2F-461E-8BB9-B15372B3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CE4B-AAE2-4843-9B33-5E666EFB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0C2-40CC-4779-A700-119144A7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E7B-97A3-43E8-94FF-7AC28207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5113-B1E1-4207-B066-9064FD8A33E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9650-9CC7-47AA-A298-7DBAAC8C2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: An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from a presentation in: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mission Systems for Commun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l Telephone Laboratories, 1970, 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7EB0-70BC-4A22-B9B0-FAE189D85AF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71F4E-8F24-4266-AE24-08991C4806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Density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1304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ea under a portion of this curve is the probability that the voltage lies in that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DF is zero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38200" y="3645000"/>
          <a:ext cx="6870600" cy="245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8200" y="3645000"/>
                    <a:ext cx="687060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879800" y="1557360"/>
                <a:ext cx="26751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94320" y="2536920"/>
                <a:ext cx="28843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25C4-B269-4C1B-A9D0-C27A6E3632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4253D-235B-4E22-AAF2-D92AA4137C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6120"/>
            <a:ext cx="77724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Average of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emble”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e a large number of examples of the noise signal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e set of all examples is the “ensemble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any particular time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verage the set of values of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get the “Expected Value”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time and ensemble averages give the same valu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y usually do), the noise process is said to be “Ergod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495440" y="1833480"/>
                <a:ext cx="16336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n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463760" y="4081320"/>
                <a:ext cx="21096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882960" y="4113360"/>
                <a:ext cx="4178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for the infinite se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A63-AAC4-413B-BD0E-1E0FDE6485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5B2D7-8397-4BA8-8273-BB30504B70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0460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calculate the ensemble average of our sinusoidal “noise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s obviously zer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d symmetry, balance point, etc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t should since this noise the has no DC compone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365120" y="2563920"/>
                <a:ext cx="35337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65120" y="3416400"/>
                <a:ext cx="441648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AFD-4CB9-48FE-8D6F-55B6CD72676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C1BA4-BD4B-48E1-97CF-E341D091DD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[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is also known as the “First Moment” of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also calculate other important moments of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 The “Second Central Moment” or “Variance”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for our sinusoidal nois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577880" y="1911240"/>
                <a:ext cx="32036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339920" y="3579840"/>
                <a:ext cx="57531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409840" y="4843440"/>
                <a:ext cx="361800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4315-CFC3-4FD3-9CDF-9AA7856BEE2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95948-AEC3-41AB-A813-27A0C9585F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ng this requires “Integration by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719360" y="2637000"/>
                <a:ext cx="321948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719360" y="2049480"/>
                <a:ext cx="28270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V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9440" y="3643200"/>
                <a:ext cx="5176800" cy="16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     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n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23880" y="5305320"/>
                <a:ext cx="56721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2867040" y="5460840"/>
            <a:ext cx="839880" cy="85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519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161-D8DB-4DD4-AB19-364C90D085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98442-CFF7-4118-B311-A68590B709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orresponds to the power of our sine wav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without the “squared”) is called the “Standard Deviation”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oise and corresponds to the RMS value of th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370240" y="1482840"/>
                <a:ext cx="2789280" cy="33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02A-FCE6-4F49-BD7E-5117EE94BBE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80A89-A69A-4F00-8C4E-ACB3F1EA8E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985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Probability Density Function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aussian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Limit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density function for a random variable that is the result of adding the effects of many small contributors tends to be Gaussian as the number of contributors gets la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746440" y="1436760"/>
                <a:ext cx="32446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1800360" y="2303640"/>
          <a:ext cx="5543280" cy="217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2303640"/>
                    <a:ext cx="554328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D7E2-7AEC-4575-BD8A-5A60993E8F4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6A1FC-4876-48AD-A9D7-8807D5A91A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985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Probability Density Function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onential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naturally in discrete “Poison Process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between occurr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phone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135160" y="1741320"/>
                <a:ext cx="44686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v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for v 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 0 , 0 for v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5" name=""/>
          <p:cNvGraphicFramePr/>
          <p:nvPr/>
        </p:nvGraphicFramePr>
        <p:xfrm>
          <a:off x="1800360" y="2443320"/>
          <a:ext cx="5543280" cy="197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2443320"/>
                    <a:ext cx="5543280" cy="19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7A4-8555-4BF2-9795-0F4E1A3B145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2BA11-F3F1-41FD-A56B-9280DC2635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Noise 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t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/f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e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F7D5-FD5B-411D-A8F3-C715B28E427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F379F-705D-4E5F-9D5B-49D9E91C1B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59000"/>
            <a:ext cx="77724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Brownian motion of electrons in a resistive mate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) = k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power spectr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1.3805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oltzmann’s constan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is the absolute temperature (°Kelv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“white” noise (“flat” spectr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 color ana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light has all colors at equal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distribution is Gauss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EEE-BCA0-4DA0-8F82-CD739A365A0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0F424-F4D3-48AA-B01F-A7D8099BA3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ise: An 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noi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veforms with incomple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: ho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can we determi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sine waves of unknown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y Spectral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distribution function: P(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density function: p(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probability density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in the real-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and Power Spectral den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2D0-28A3-4EE0-AA45-B42A57C8514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F8E12-DBB9-43FC-8FC8-5988773CF3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Nois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59000"/>
            <a:ext cx="77724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re accurate model (Quantum The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orrects for the high frequency roll of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bove 4000 GHz at room tempera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wer in the noise is sim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k*T*BW Watts 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74 + 10*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W) in dB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cibels relative to a milliwa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B = 10*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/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20*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/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73400" y="1887480"/>
                <a:ext cx="247464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  <m:r>
                          <m:t xml:space="preserve">∗</m:t>
                        </m:r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f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343-8A91-46BC-AFAC-50218CA9507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009A5-61FA-4072-A06F-B7A9A3267D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492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t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irregular flow of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*q*I*f  wher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= 1.6 *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arge on an elect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noise is proportional to the signal lev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ot tempera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lso white (flat spectrum) and Gauss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729B-C56E-44D4-B3A7-6AE4AE8D011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07AAF-2A85-4F31-9488-0B85246D05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f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ted b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egularities in semiconductor d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many naturally occurring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red silhouettes (Mountains, clouds, rocky walls, forest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) =A / f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(0.8 &lt;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lt; 1.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096-D615-45D2-97DF-6612207B7E4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AE209-C9C8-410C-910E-97D60AB6F8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pulse Noi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6680"/>
            <a:ext cx="77724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energy spikes, clicks and p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hicle igni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white noise, but NOT Gauss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multiple sources - more impulse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ception to the “Central Limit Theor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5DA-E81A-46D6-997E-0A936B25554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2E6FD-1B6E-4DC5-8368-7160D5EE9E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Measu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uman 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chl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ring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is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-Weigh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-Weigh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451-AB0C-47C2-AA45-245EAA6B131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05F14-5C1F-495C-8231-6C2C433B33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ing Performance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 average, good, ea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91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response is a function of sound le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dB here is the threshold of he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intensities yield flatter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Loudness" descr=""/>
          <p:cNvPicPr/>
          <p:nvPr/>
        </p:nvPicPr>
        <p:blipFill>
          <a:blip r:embed="rId1"/>
          <a:stretch/>
        </p:blipFill>
        <p:spPr>
          <a:xfrm>
            <a:off x="2846520" y="1981080"/>
            <a:ext cx="5611680" cy="382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089-879F-4C08-BFA7-F0F0999AE69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EEAB0-11D6-4D0F-98A8-E2C19BAD28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chl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62040"/>
            <a:ext cx="3873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luid-filled spiral vibration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fil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frequencies travel the full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frequencies only affect the near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llia: hairs put out signals when 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ring damage occurs when these are inj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at the near end are easily damaged (high frequency hearing lo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ochlea" descr=""/>
          <p:cNvPicPr/>
          <p:nvPr/>
        </p:nvPicPr>
        <p:blipFill>
          <a:blip r:embed="rId1"/>
          <a:stretch/>
        </p:blipFill>
        <p:spPr>
          <a:xfrm>
            <a:off x="4730760" y="1752480"/>
            <a:ext cx="4000320" cy="31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B395-456F-46EF-9F18-360AAA7877A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A7791-88CC-4763-849D-DEC6DD09E6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Intensity Levels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- Weighted Fil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52318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the sensitivity of the ear at the threshold of hearing; used to specify OSHA safety levels (dB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A-Weight_Curve" descr=""/>
          <p:cNvPicPr/>
          <p:nvPr/>
        </p:nvPicPr>
        <p:blipFill>
          <a:blip r:embed="rId1"/>
          <a:stretch/>
        </p:blipFill>
        <p:spPr>
          <a:xfrm>
            <a:off x="914400" y="1776240"/>
            <a:ext cx="7315200" cy="33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6AA-F86D-463A-A284-E703072EAEF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E7156-541E-45FD-A804-F6538893EF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-Weighting Fi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ow is an active filter that will accurately perform A-Weighting for sound measurements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nks to: Rod Elliot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http://sound.westhost.com/project17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A-weight_schematic" descr=""/>
          <p:cNvPicPr/>
          <p:nvPr/>
        </p:nvPicPr>
        <p:blipFill>
          <a:blip r:embed="rId1"/>
          <a:stretch/>
        </p:blipFill>
        <p:spPr>
          <a:xfrm>
            <a:off x="947880" y="3627360"/>
            <a:ext cx="7246800" cy="24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97E-90E0-4126-9071-202B2C9461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5AF09-2239-4507-B98C-76B27D755B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Intensity Levels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- Weighted Fil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52318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the sensitivity of the ear at normal listening levels; used to specify noise in telephone systems (dB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-Weight_Curve" descr=""/>
          <p:cNvPicPr/>
          <p:nvPr/>
        </p:nvPicPr>
        <p:blipFill>
          <a:blip r:embed="rId1"/>
          <a:stretch/>
        </p:blipFill>
        <p:spPr>
          <a:xfrm>
            <a:off x="914400" y="1776240"/>
            <a:ext cx="7315200" cy="33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6E4E-CFDC-4E35-92E1-52491149BAE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E6F3D-7F71-4F7F-B5BF-A5A84F5E63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requency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Trans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580-F061-48A5-8A5B-CCCE7E66EC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15874-0A30-4FD3-8493-672032DD25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Spectral Density (ES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19120" y="1384200"/>
                <a:ext cx="8359920" cy="464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is the Energy in a time waveform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but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is the Inverse Fourier Transform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den>
                                </m:f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  <m:sSup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jωt</m:t>
                                        </m:r>
                                      </m:sup>
                                    </m:sSup>
                                    <m:r>
                                      <m:t xml:space="preserve">dω</m:t>
                                    </m:r>
                                  </m:e>
                                </m:nary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Substituting for one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  <m:sSup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jω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Interchanging the order of integ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the inner integral is almost the Fourier Transfor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xcept for the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but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the complex conjugate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so 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 the </m:t>
                        </m:r>
                        <m:r>
                          <m:t xml:space="preserve">Energy</m:t>
                        </m:r>
                        <m:r>
                          <m:t xml:space="preserve">Spectral</m:t>
                        </m:r>
                        <m:r>
                          <m:t xml:space="preserve">Density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1478-BACF-480D-9B59-83330B426EC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CCBF4-102E-441B-B273-C4F00A950D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44240"/>
            <a:ext cx="777240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Spectral Density (ESD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Linear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475740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 the ESD of the output of a linear system is obtained by multiplying the ESD of the input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5160" y="208296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84680" y="1752480"/>
            <a:ext cx="1092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209556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35160" y="175896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175896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= X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H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2960" y="1927080"/>
            <a:ext cx="99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95360" y="2438280"/>
                <a:ext cx="8356680" cy="23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Y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changing to f eliminates the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H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  <m:r>
                                      <m:t xml:space="preserve">∗</m:t>
                                    </m:r>
                                    <m:r>
                                      <m:t xml:space="preserve">X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o if 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re uncorrelated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H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∗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23C-7FE9-4F74-B410-AD3468E3FB0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B3CB1-D7AB-4DB7-8D63-F4D14D411E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 Spectral Density (PS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34600"/>
            <a:ext cx="777240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that exist for all time have an infinite energy so we define power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982800" y="2590920"/>
                <a:ext cx="6700680" cy="36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this is energy/tim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fine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≡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for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nd zero elsewhere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which does exist and the Power is: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lim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t</m:t>
                                      </m:r>
                                      <m:r>
                                        <m:t xml:space="preserve">→</m:t>
                                      </m:r>
                                      <m:r>
                                        <m:t xml:space="preserve">∞</m:t>
                                      </m:r>
                                    </m:e>
                                  </m:mr>
                                </m: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p>
                                          <m:e>
                                            <m:d>
                                              <m:dPr>
                                                <m:begChr m:val="|"/>
                                                <m:endChr m:val="|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F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T</m:t>
                                                    </m:r>
                                                  </m:sub>
                                                </m:sSub>
                                                <m:d>
                                                  <m:dPr>
                                                    <m:begChr m:val="("/>
                                                    <m:endChr m:val=")"/>
                                                  </m:dPr>
                                                  <m:e>
                                                    <m:r>
                                                      <m:t xml:space="preserve">ω</m:t>
                                                    </m:r>
                                                  </m:e>
                                                </m:d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898E-E893-4062-BD37-312858D2877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08B3D-BE9E-4FDC-81F0-8A227E7564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 Spectral Density (PSD-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3496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efore, the function in the integral is a density.  This time it’s the 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the ESD and PSD functions are real and even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06400" y="2286000"/>
                <a:ext cx="32212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SD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</m:mr>
                      <m:mr>
                        <m:e>
                          <m:r>
                            <m:t xml:space="preserve">t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mr>
                    </m:m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02FC-B272-487F-9396-4D20B350766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18328-3FEC-4C03-9CD0-0D80F2DF34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undesired signal that interferes with the reproduction of a desired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: predictable, often periodic, noi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generated by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unpredictable noise, generated by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stochastic” process in nature or by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2FE-F5D9-421C-BF9A-16FD3CE8B8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787A3-60F4-4D96-9943-D49C53A6A6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dom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” of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spectrum: distribution of energ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s a function of frequenc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not know the details of the waveform only its “average”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7862-525B-4D01-AB9B-BA2EE8BAF0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4265D-3672-4B94-A515-F646C657AD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ise analysis Introduc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ine wave of unknown 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frequency interfer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(t) = A sin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known, bu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not know its value at time “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828800" y="3276720"/>
            <a:ext cx="4676760" cy="2990880"/>
            <a:chOff x="1828800" y="3276720"/>
            <a:chExt cx="4676760" cy="2990880"/>
          </a:xfrm>
        </p:grpSpPr>
        <p:graphicFrame>
          <p:nvGraphicFramePr>
            <p:cNvPr id="54" name=""/>
            <p:cNvGraphicFramePr/>
            <p:nvPr/>
          </p:nvGraphicFramePr>
          <p:xfrm>
            <a:off x="1828800" y="3276720"/>
            <a:ext cx="4676760" cy="2990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3276720"/>
                      <a:ext cx="4676760" cy="299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/>
            <p:nvPr/>
          </p:nvSpPr>
          <p:spPr>
            <a:xfrm>
              <a:off x="3581280" y="3657600"/>
              <a:ext cx="0" cy="20574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F7ED-E5D6-411F-B148-005E5C45D2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EB223-C3C5-4064-88F0-2AF17A29EE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 Spectral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the “Energy Spectral Density” is just the magnitude squared of the Fourier transform of n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all of the energy is concentrated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ach half of the energy is at ±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ce the Fourier transform is based on the complex exponential not sine and cos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3880" y="2438280"/>
                <a:ext cx="5715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1752480" y="4343400"/>
            <a:ext cx="5543640" cy="1971720"/>
            <a:chOff x="1752480" y="4343400"/>
            <a:chExt cx="5543640" cy="1971720"/>
          </a:xfrm>
        </p:grpSpPr>
        <p:graphicFrame>
          <p:nvGraphicFramePr>
            <p:cNvPr id="61" name=""/>
            <p:cNvGraphicFramePr/>
            <p:nvPr/>
          </p:nvGraphicFramePr>
          <p:xfrm>
            <a:off x="1752480" y="4343400"/>
            <a:ext cx="5543640" cy="1971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4343400"/>
                      <a:ext cx="5543640" cy="197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2846520" y="5029200"/>
              <a:ext cx="1440" cy="876240"/>
            </a:xfrm>
            <a:custGeom>
              <a:avLst/>
              <a:gdLst/>
              <a:ahLst/>
              <a:rect l="l" t="t" r="r" b="b"/>
              <a:pathLst>
                <a:path w="1" h="552">
                  <a:moveTo>
                    <a:pt x="1" y="55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08560" y="5029200"/>
              <a:ext cx="1800" cy="876240"/>
            </a:xfrm>
            <a:custGeom>
              <a:avLst/>
              <a:gdLst/>
              <a:ahLst/>
              <a:rect l="l" t="t" r="r" b="b"/>
              <a:pathLst>
                <a:path w="1" h="552">
                  <a:moveTo>
                    <a:pt x="1" y="55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15C-1C85-4C20-94BB-F19A027E92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27CD2-D559-4FB8-A4BA-A420A4F682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95080"/>
            <a:ext cx="77724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distribution” of the ‘noise”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the probability that at any time t the voltage is less than or equal to a particular value “v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ies at some values are e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-A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)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0) = 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ual equation is: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½ +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arcsin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013360" y="2320920"/>
                <a:ext cx="19605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8" name=""/>
          <p:cNvGraphicFramePr/>
          <p:nvPr/>
        </p:nvGraphicFramePr>
        <p:xfrm>
          <a:off x="1800360" y="4414680"/>
          <a:ext cx="5543280" cy="19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4414680"/>
                    <a:ext cx="5543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7207200" y="5052960"/>
            <a:ext cx="16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wn for A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BFE-6A03-4E90-BC16-B17AAE3997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81889-B38E-4FF9-8421-3FD18C640D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952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Distribution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68600"/>
            <a:ext cx="777240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ctual equation is: P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½ +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arcsin(v/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the noise spends more time near the extremes and less time near zero.  Think of a pendul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stops at the extremes and is moving slowly near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move fastest at the bottom and therefore spends less time t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other useful function is the derivative of P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Probability Density Function”, p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(note the lower case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392120" y="2128680"/>
          <a:ext cx="5543640" cy="19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2120" y="2128680"/>
                    <a:ext cx="55436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784920" y="2792520"/>
            <a:ext cx="16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wn for A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5E0-71F7-4122-8AF3-CC38A01BF5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0754A-F130-4E00-B7F4-7556DE8F00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04:07:05Z</dcterms:created>
  <dc:creator>Jeffrey N. Denenberg</dc:creator>
  <dc:description/>
  <dc:language>en-US</dc:language>
  <cp:lastModifiedBy>Jeffrey N Denenberg</cp:lastModifiedBy>
  <cp:lastPrinted>2002-11-24T18:12:09Z</cp:lastPrinted>
  <dcterms:modified xsi:type="dcterms:W3CDTF">2002-11-24T18:18:55Z</dcterms:modified>
  <cp:revision>234</cp:revision>
  <dc:subject/>
  <dc:title>Noise: An Introduction</dc:title>
</cp:coreProperties>
</file>