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48D-51F2-438A-9097-8B40B190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A03-0A61-4E55-94B0-1D0194DA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D59-A88A-40C0-86CB-D4330FE6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466-CA2E-40E7-86A1-F92F9EEA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D30-5C20-4A69-B743-CFD727FB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A77-E3B0-4E07-AD70-32975E97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923-A44A-40DC-86B1-582E1CDC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8C2-C0AE-4594-8781-CF1DD4F5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49A-71E9-4AEC-A0D7-855CDF5F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C26-DC44-4386-8ACC-68C47086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816C-CC9A-4079-A87A-C82847E7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E37-3FE2-4108-A4DF-0EC436F6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1DA9-360F-4B3B-AA44-76FE17ECD80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8E69-9ABA-4349-95D6-90FB347AB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er Approximatio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erworth, Chebyshev, and Elliptic Fi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byshev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H(s)| for n=4, r=1 (Type 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715000" cy="413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2362320" cy="234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s) = 0.2457/(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9528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.4539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7426s + 0.27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057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lie on an el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0DD-1DF3-45A6-ACE0-3048613462D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7FBA3-81D8-4497-976C-F0354DCF2E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iptic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the Jacobian elliptic function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approximately on an el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s on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ly controlled equiripple in the pass-band and stop-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per cutoff than Chebyshev (optimal transition b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linear phase (Group delay distortion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1523880"/>
            <a:ext cx="5213160" cy="2303640"/>
            <a:chOff x="914400" y="1523880"/>
            <a:chExt cx="5213160" cy="23036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rcRect l="0" t="16594" r="0" b="0"/>
            <a:stretch/>
          </p:blipFill>
          <p:spPr>
            <a:xfrm>
              <a:off x="1371600" y="1523880"/>
              <a:ext cx="449568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914400" y="152388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6880" y="342864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0960" y="342864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079960" y="1600200"/>
                <a:ext cx="2843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3065-9B43-4832-8F3F-BE3DEA6B89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6F37E-CF84-4A2C-A46C-D0CDC7A258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iptic Fun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s) for n=4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327400" cy="2689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5715000" cy="4378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" y="57150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(s) = (0.0032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0595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1554)/( 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5769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1.2227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4369s + 0.2195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14E-5EE3-45B6-89E4-1CB51D45F6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A1CC2-9B3E-41A8-9DB8-E12C1B5447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ssel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il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utterworth and Chebyshev filters with sharp cutoffs (high order) carry a penalty that is evident from the positions of their poles in the s plane. Bringing the poles closer to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xis increases their Q, which degrades the filter's transient response. Overshoot or ringing at the response edges can re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ssel filter represents a trade-off in the opposite direction from the Butterworth. The Bessel's poles lie on a locus further from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xis. Transient response is improved, but at the expense of a less steep cutoff in the stop-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200400" cy="317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D47-757D-4AB2-84B5-5A214CCD08F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542E2-34D5-488B-87AF-24C0E670AB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Filt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tool to establish a prototyp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Lab is a great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doctord.webhop.net/courses/Topics/Matlab/index.ht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Matlab tutorial by Dr. Bouzid Aliane; Chapter 5 is on filter desig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your design for ringing/oversh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trimental, increase the filter order and redesign to exceed the frequency respons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poles near the 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 to the left to reduce their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e resulting filter against your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ng poles to the left will reduce ringing/overshoo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degrade the transition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D26-52D0-42C2-9307-2136673803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9C7A0-93DE-4ADF-9349-C60A0B4FE0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ximation Polynom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physically realizable circuit has a transfer function that is a rational polynomial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determine classes of rational polynomials that approximate the “Ideal” low-pass filter respon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igh-pass band-pass and band-stop filters can be derived from a low pass de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well known approximations are discussed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erworth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ven Butterworth,"On the Theory of Filter Amplifiers", Wireless Engineer (also called Experimental Wireless and the Radio Engineer), vol. 7, 1930, pp. 536-5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byshev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fnuty Lvovich Chebyshev (1821-1894) - Russi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rillic alphabet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lled many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Func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helm Cauer (1900-1945) - Germ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patents 1,958,742 (1934), 1,989,545 (1935), 2,048,426 (19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sel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drich Wilhelm Bessel, 1784 - 18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692360" cy="39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0E5-DEC0-484C-B51D-0299652F4B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B7C25-91B2-4FAF-B0AF-36B0395079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|H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approximation to the ideal low-pass filter response |I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ideal filter cutoff frequenc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t is normalized to one for conven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00200" y="2438280"/>
            <a:ext cx="4495320" cy="1947600"/>
            <a:chOff x="1600200" y="2438280"/>
            <a:chExt cx="4495320" cy="1947600"/>
          </a:xfrm>
        </p:grpSpPr>
        <p:sp>
          <p:nvSpPr>
            <p:cNvPr id="49" name=""/>
            <p:cNvSpPr/>
            <p:nvPr/>
          </p:nvSpPr>
          <p:spPr>
            <a:xfrm flipV="1">
              <a:off x="2701080" y="2531880"/>
              <a:ext cx="0" cy="13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01080" y="3851280"/>
              <a:ext cx="27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00200" y="2438280"/>
              <a:ext cx="91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I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94640" y="3945240"/>
              <a:ext cx="110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01080" y="3003480"/>
              <a:ext cx="100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10160" y="3003480"/>
              <a:ext cx="0" cy="84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18360" y="394524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33880" y="281448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BB5C-0BDD-4D91-BD9B-C6ECD00351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3B640-D6A3-4120-914C-1B96A0E058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initions -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writte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“Characteristic Function” which attempts to approximate: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not be done with a finite order poly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lexibility for the degree of error in the passband or stop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752480" y="1676520"/>
                <a:ext cx="2843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828800" y="3429000"/>
            <a:ext cx="3047760" cy="1378080"/>
            <a:chOff x="1828800" y="3429000"/>
            <a:chExt cx="3047760" cy="1378080"/>
          </a:xfrm>
        </p:grpSpPr>
        <p:sp>
          <p:nvSpPr>
            <p:cNvPr id="61" name=""/>
            <p:cNvSpPr/>
            <p:nvPr/>
          </p:nvSpPr>
          <p:spPr>
            <a:xfrm flipV="1">
              <a:off x="2641320" y="3543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41320" y="4350600"/>
              <a:ext cx="20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8800" y="3486600"/>
              <a:ext cx="6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37800" y="4408200"/>
              <a:ext cx="33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18480" y="4408200"/>
              <a:ext cx="20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70240" y="3715560"/>
              <a:ext cx="20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41320" y="4350600"/>
              <a:ext cx="7448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454200" y="3659040"/>
              <a:ext cx="0" cy="690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18480" y="3429000"/>
              <a:ext cx="33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5ED-A30B-4821-8A5F-7A00AA0551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85FEF-D4C1-4C3F-B5D6-F070B64834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ter Spec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stay within the shaded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is is an incomplete specification.  The phase response and transient response are also important and need to be appropriate for the filter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47920" y="1676520"/>
            <a:ext cx="4230720" cy="3245400"/>
            <a:chOff x="1447920" y="1676520"/>
            <a:chExt cx="4230720" cy="3245400"/>
          </a:xfrm>
        </p:grpSpPr>
        <p:sp>
          <p:nvSpPr>
            <p:cNvPr id="73" name=""/>
            <p:cNvSpPr/>
            <p:nvPr/>
          </p:nvSpPr>
          <p:spPr>
            <a:xfrm flipV="1">
              <a:off x="2482920" y="1738440"/>
              <a:ext cx="1440" cy="17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82920" y="3505320"/>
              <a:ext cx="300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167652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69040" y="3635280"/>
              <a:ext cx="3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82920" y="2368440"/>
              <a:ext cx="11034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6320" y="2368440"/>
              <a:ext cx="1440" cy="113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78240" y="3570120"/>
              <a:ext cx="2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41640" y="2198520"/>
              <a:ext cx="2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82920" y="2368440"/>
              <a:ext cx="11034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86320" y="2368440"/>
              <a:ext cx="199800" cy="1136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86120" y="3251160"/>
              <a:ext cx="1403280" cy="254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3080" y="3505320"/>
              <a:ext cx="144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89360" y="3505320"/>
              <a:ext cx="144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84360" y="3505320"/>
              <a:ext cx="180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22600" y="3765600"/>
              <a:ext cx="89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ss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64040" y="3765600"/>
              <a:ext cx="89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p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57760" y="4614840"/>
              <a:ext cx="16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ition 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651120" y="4484520"/>
              <a:ext cx="20664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9C6-32AB-48D9-B8DB-91771EC632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D1B1B-22F4-4881-948C-5F9F423EE5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terwo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transfer function (no rip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ally flat and Linear phase (in the pass-b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cutof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43000" y="1828800"/>
            <a:ext cx="5899320" cy="2044440"/>
            <a:chOff x="1143000" y="1828800"/>
            <a:chExt cx="5899320" cy="20444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1565280" y="1915920"/>
              <a:ext cx="538668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143000" y="182880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3200" y="350496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5720" y="342900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34120" y="1676520"/>
                <a:ext cx="28429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410080" y="2514600"/>
                <a:ext cx="2133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0B6-2389-4FE9-9ED1-C248F15BBE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5929E-6EE6-4C01-A380-8A5D3A2F31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erworth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 locations in the s-plane a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1/2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are equally spaced on the unit circle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s) only uses the n poles in the left half plane for st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no z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105520" y="1066680"/>
                <a:ext cx="2374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1447920" y="2057400"/>
            <a:ext cx="5257800" cy="2971800"/>
            <a:chOff x="1447920" y="2057400"/>
            <a:chExt cx="5257800" cy="29718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447920" y="2057400"/>
              <a:ext cx="32176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214960" y="3512880"/>
              <a:ext cx="14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B88-9571-48E6-917E-66FEB18FC5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802F4-F8B3-4177-8226-615CEDA858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erworth Filter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H(s)| for n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715000" cy="422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71600" y="5791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s) = 1/(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.613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.414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.6131s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D4A-9B28-43AC-938D-6D96B901A0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F2EED-9E98-4940-925C-BEBD5668DA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–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equiripple in the pass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per cutoff than Butter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linear phase (Group delay distortio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352680" cy="2384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3047760" cy="2198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byshev – Typ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29200" y="1066680"/>
                <a:ext cx="2790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514600" y="388620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80988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13372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918-293E-4608-8F08-6298B45020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5DC51-7CE2-459D-B14F-CE9E2038AD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18:08:16Z</dcterms:created>
  <dc:creator>Jeffrey N Denenberg</dc:creator>
  <dc:description/>
  <dc:language>en-US</dc:language>
  <cp:lastModifiedBy>Jeffrey Denenberg</cp:lastModifiedBy>
  <dcterms:modified xsi:type="dcterms:W3CDTF">2005-06-13T12:56:45Z</dcterms:modified>
  <cp:revision>21</cp:revision>
  <dc:subject/>
  <dc:title>Filter Approximation Theory</dc:title>
</cp:coreProperties>
</file>