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066-C5D8-489F-A66A-DDC57271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9C9-15BE-4D2A-9CED-D03A6F13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3B8-E680-4C80-A2F7-3FCD335B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B32-4D0D-465C-ABD1-B1F73721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B28-B085-4C42-B115-0688BBB6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78E-A96B-413B-BE4D-DD73D4AE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E1F-AA23-417C-B6EA-303088E7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87F-62DE-4573-9E0B-613D4A54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EA8-AD45-45C6-9BC0-DB16FF2B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E72-573B-4F54-859E-24052C48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7E0-6381-43EE-BBE9-F0EF1973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517-5A30-49D0-9096-9E034012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1B40-6628-4AC8-807F-0A57A0D0E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Finite precision effec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mit cycles and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overflow oscilla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the input sequence to a digital filter is a constant sequence or if it varies slowly, then the output sequence may oscill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ose small-amplitude oscillations are caused by rounding errors, or truncating errors, and are called 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limit-cycle eff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flows generated by additions can result in undesirable large-amplitude oscillations that are called 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overflow oscill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oth limit-cycle oscillations and overflow oscillations settle the filter into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nlinea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ode of ope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ad band effec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a result of roundoff operations, sometimes the output sequence can beco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output sequence does not follow the input sequence the phenomenon is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ead band effec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gnal quantization err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practical digital systems the input sequence can be of higher precision compared to the precision of the DSP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the DSP system operates with B bits then we have to quantize the sequence to B b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quantization err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difference between the higher precision sequence value and the value obtained after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oundoff noi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en fixed-point arithmetic is used, and quantization to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bits is performed after each multiplication, the variance of output noise 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type of quantization is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90840" y="3409920"/>
            <a:ext cx="23335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ifica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59280" y="3359160"/>
            <a:ext cx="4038480" cy="3309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1628640"/>
            <a:ext cx="547200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 = 22;             % Filt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 [0 0.4 0.5 1];  % Frequency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1 0 0];      % Magnitud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 = [1 5];          % Weigh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2928960"/>
            <a:ext cx="561672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b,err,res] = firgr(N,F,A,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fvt = fvtool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2360" y="1557360"/>
            <a:ext cx="2232000" cy="1008000"/>
          </a:xfrm>
          <a:prstGeom prst="wedgeRoundRectCallout">
            <a:avLst>
              <a:gd name="adj1" fmla="val 34069"/>
              <a:gd name="adj2" fmla="val 89685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r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utes the filter coefficient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5300640"/>
            <a:ext cx="4104000" cy="1008000"/>
          </a:xfrm>
          <a:prstGeom prst="wedgeRoundRectCallout">
            <a:avLst>
              <a:gd name="adj1" fmla="val -49226"/>
              <a:gd name="adj2" fmla="val -185592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vt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graphical user interface that allows you to analyze digital filters using the hand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f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fir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4240" y="1484280"/>
            <a:ext cx="3292200" cy="397080"/>
          </a:xfrm>
          <a:prstGeom prst="wedgeRoundRectCallout">
            <a:avLst>
              <a:gd name="adj1" fmla="val 20037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FIR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63360" y="1725480"/>
            <a:ext cx="3564000" cy="500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FIR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Mode: 'AvoidOverflow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2274840"/>
            <a:ext cx="2016360" cy="290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1989000"/>
            <a:ext cx="35290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s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5960" y="1895400"/>
            <a:ext cx="703872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1 = copy(H); % Keep a copy of the origin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Bits1 = 8; % Use 8 bits fo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1,'CoeffWordLength',nBits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51480" y="3500280"/>
            <a:ext cx="4341240" cy="322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1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terStructure: 'Direct-Form FIR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8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573408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lot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240" y="1766880"/>
            <a:ext cx="7313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fvt, 'Filters', [H, H1],'ShowReference','off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66960" y="2349360"/>
            <a:ext cx="5410080" cy="427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18440" y="4005360"/>
            <a:ext cx="2622240" cy="397080"/>
          </a:xfrm>
          <a:prstGeom prst="wedgeRoundRectCallout">
            <a:avLst>
              <a:gd name="adj1" fmla="val -48259"/>
              <a:gd name="adj2" fmla="val 177898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responses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ite wordlength eff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efficient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alizations v. s.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e location for quantized coeffic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flow arithmetic oper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mit cycles and overflow oscill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ad band effe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quantization err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ndoff noi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LAB examp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te input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90280" y="1766880"/>
            <a:ext cx="5118480" cy="203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1 = 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0:n1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1 = 1/8; f2 = 3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sin(2*pi*f1*k) + sin(2*pi*f2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in = fi(x,true,8,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4320" y="5730840"/>
            <a:ext cx="6325560" cy="792360"/>
          </a:xfrm>
          <a:prstGeom prst="wedgeRoundRectCallout">
            <a:avLst>
              <a:gd name="adj1" fmla="val -60046"/>
              <a:gd name="adj2" fmla="val -300587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a fixed-point object with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ign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ord length 8, and fraction length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8520" y="1413000"/>
            <a:ext cx="77245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2 = copy(H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2,'ProductMode','KeepMSB','ProductWordLength', 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51480" y="2565360"/>
            <a:ext cx="4341240" cy="419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2 = FilterStructure: 'Direct-Form FIR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8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Mode: 'AvoidOverflow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Mode: 'KeepMSB'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WordLength: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638172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1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 and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57400" y="1484280"/>
            <a:ext cx="6829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direct-form I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5289480" cy="3743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ifica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1413000"/>
            <a:ext cx="6624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 = 9;         % Filt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 0.5;       % Cutoff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p = 0.01;     % Maximum passband atte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 = 40;       % Minimum stopband atte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2928960"/>
            <a:ext cx="5616720" cy="212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z,p,k] = ellip(N,Ap,As,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b,a]   = ellip(N,Ap,As,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1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fvt = fvtool(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2360" y="1773360"/>
            <a:ext cx="3167280" cy="792000"/>
          </a:xfrm>
          <a:prstGeom prst="wedgeRoundRectCallout">
            <a:avLst>
              <a:gd name="adj1" fmla="val -925"/>
              <a:gd name="adj2" fmla="val 160018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l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utes the fil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5661000"/>
            <a:ext cx="4103640" cy="1008000"/>
          </a:xfrm>
          <a:prstGeom prst="wedgeRoundRectCallout">
            <a:avLst>
              <a:gd name="adj1" fmla="val -56537"/>
              <a:gd name="adj2" fmla="val -113620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vt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graphical user interface that allows you to analyze digital filters using the hand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f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1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9840" y="1484280"/>
            <a:ext cx="2962800" cy="397080"/>
          </a:xfrm>
          <a:prstGeom prst="wedgeRoundRectCallout">
            <a:avLst>
              <a:gd name="adj1" fmla="val 20027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I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82360" y="1413000"/>
            <a:ext cx="3564000" cy="527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I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1989000"/>
            <a:ext cx="251928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9640" y="1700280"/>
            <a:ext cx="352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s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557360"/>
            <a:ext cx="849780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1 = copy(H); % Keep a copy of the origin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1,'Arithmetic','fixed','CoeffWordLength',1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 Use 12 bits fo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51840" y="3500280"/>
            <a:ext cx="4234680" cy="25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1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terStructure: 'Direct-Form I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573408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custom fixed-point implementations of digital filters, such as VLSI or FPGA implementations,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duction of accurac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aves in chip area and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creases processing spe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reduction requires analysis and optimization of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nite wordlengt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properti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efficient quantiz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ounding or truncation of intermediate resul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rithmetic overflow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25560" y="2349360"/>
            <a:ext cx="5410440" cy="4276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lot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5240" y="1766880"/>
            <a:ext cx="7313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fvt, 'Filters', [H, H1],'ShowReference','off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13680" y="2565360"/>
            <a:ext cx="2622240" cy="397080"/>
          </a:xfrm>
          <a:prstGeom prst="wedgeRoundRectCallout">
            <a:avLst>
              <a:gd name="adj1" fmla="val -107101"/>
              <a:gd name="adj2" fmla="val 269018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responses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te input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8480" y="1766880"/>
            <a:ext cx="5941440" cy="245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1 = 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0:n1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1 = 1/8; f2 = 340/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 = 1/(2^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Am*sin(2*pi*f1*k) + Am*sin(2*pi*f2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in = fi(x,true,64,6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14320" y="5730840"/>
            <a:ext cx="6325560" cy="792360"/>
          </a:xfrm>
          <a:prstGeom prst="wedgeRoundRectCallout">
            <a:avLst>
              <a:gd name="adj1" fmla="val -58995"/>
              <a:gd name="adj2" fmla="val -239462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a fixed-point object with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ign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ord length 64, and fraction length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8160" y="1341360"/>
            <a:ext cx="786168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2 = copy(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2,'ProductMode','KeepMSB','ProductWordLength', 1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97920" y="2276640"/>
            <a:ext cx="4127760" cy="45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2 = FilterStructure: 'Direct-Form I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32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WordLength: 16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FracLength: 15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WordLength: 16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FracLength: 15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Mode: 'KeepMSB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WordLength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644364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360" y="1268280"/>
            <a:ext cx="5410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66960" y="148428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direct-form II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2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4200" y="1484280"/>
            <a:ext cx="3032640" cy="397080"/>
          </a:xfrm>
          <a:prstGeom prst="wedgeRoundRectCallout">
            <a:avLst>
              <a:gd name="adj1" fmla="val 20013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II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82360" y="1413000"/>
            <a:ext cx="3564000" cy="527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II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1989000"/>
            <a:ext cx="251928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1700280"/>
            <a:ext cx="352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54280" y="1647720"/>
            <a:ext cx="5410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us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oefficient sensitivit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o denote the sensitivity of the transfer function (or frequency response, or magnitude response, or phase response) to its coefficients or parame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Quantized filter coefficien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ke the transfer function different from the ideal on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with infinite-precision coeffici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fferences can be predicted by the coefficient sensitivity analysis of a fil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flow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62080" y="1484280"/>
            <a:ext cx="2830320" cy="989640"/>
          </a:xfrm>
          <a:prstGeom prst="wedgeRoundRectCallout">
            <a:avLst>
              <a:gd name="adj1" fmla="val 109555"/>
              <a:gd name="adj2" fmla="val 274472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verflow occurs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input signal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arg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mit cycl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66960" y="150336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069880" y="6165720"/>
            <a:ext cx="3884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cture17IIRdf2limitcycle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ad band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66960" y="148428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0600" y="6165720"/>
            <a:ext cx="36097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cture17IIRdf2deadband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s v. s.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filter realizations can be found for a given transfer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we assume that the coefficients are exact, all realizations exhibit the same performan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coefficients are quantized then performances of the realized filter can differ from the performances of the filter with exact coeffic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rious filter realizations have different amount of degradation after coefficient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v. s. allpass IIR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4000680" cy="266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3971880" cy="265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610080" y="5734080"/>
            <a:ext cx="1923840" cy="50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124080" y="1773360"/>
            <a:ext cx="2895840" cy="64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5805360"/>
            <a:ext cx="1873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cade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5280" y="5775480"/>
            <a:ext cx="1873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pass 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ole location for quantized coefficients 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6200" y="5805360"/>
            <a:ext cx="1873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 form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5775480"/>
            <a:ext cx="1873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sari-Liu 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3440" y="2133720"/>
            <a:ext cx="3076560" cy="2904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2108160"/>
            <a:ext cx="3009960" cy="290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22400" y="5157720"/>
            <a:ext cx="2685960" cy="362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75280" y="5157720"/>
            <a:ext cx="345744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flow arithmetic oper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fixed-point arithmetic the result of an arithmetic operation (for example, adding) can exceed the allowed range of numeric values which we call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overflow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n, a new value from allowed range of numbers must be used for representing the resul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 practice, two rules of replacements are used: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24160" y="2046240"/>
            <a:ext cx="6295680" cy="303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0720" y="5348160"/>
            <a:ext cx="5531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the result of an arithmetic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1680" y="6089760"/>
            <a:ext cx="71089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the number that belongs to the permitted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4-12T23:35:05Z</dcterms:modified>
  <cp:revision>568</cp:revision>
  <dc:subject>Analog and Digital  Filter Design</dc:subject>
  <dc:title>Finite precision effects</dc:title>
</cp:coreProperties>
</file>