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DBD-BE04-4469-8954-7C1E6D26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FD6-A1A9-447D-A7AB-E12BADB4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9BE-F194-4566-B8B3-A7C1A860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4DB-12B2-4E33-998D-4E160401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59C-B510-415A-8973-D8287106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F6C-6D9C-4F22-8237-2FB77DB3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57C-4BE6-427C-A0BC-A6B0B01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BCF-02DD-4C03-A31D-94A6DCFC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A55-235C-4D25-B8E3-4D0430AA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D10-B835-4DD9-8617-B024FD67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9D3-4B0F-404E-AE1D-CF72B5BE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ACB-3149-43B4-90F9-BD4F9BD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DE53-E5BA-47ED-8B24-64D59055F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assical digital filter desig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3: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udy of imperfec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1413000"/>
            <a:ext cx="1655640" cy="718920"/>
          </a:xfrm>
          <a:prstGeom prst="wedgeRoundRectCallout">
            <a:avLst>
              <a:gd name="adj1" fmla="val -89884"/>
              <a:gd name="adj2" fmla="val 207837"/>
              <a:gd name="adj3" fmla="val 16667"/>
            </a:avLst>
          </a:prstGeom>
          <a:solidFill>
            <a:srgbClr val="3399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968720" cy="157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64000" y="2790720"/>
            <a:ext cx="4610160" cy="373392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1: Approximation - Select Chebyshev Type 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2: Realization - Cascade of biqu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3: Study of imperfections - Quantiz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o design ste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1: Approxi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2: Realiz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3: Study of imperfect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4: Implem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LAB FDAtool docu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363080" cy="5419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rt with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360" y="465300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4292640"/>
            <a:ext cx="3743280" cy="187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1848"/>
          <a:stretch/>
        </p:blipFill>
        <p:spPr>
          <a:xfrm>
            <a:off x="866880" y="1413000"/>
            <a:ext cx="7410240" cy="5256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lect Chebyshev Type I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60360" y="616428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rt coefficients: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File, Expor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19330"/>
          <a:stretch/>
        </p:blipFill>
        <p:spPr>
          <a:xfrm>
            <a:off x="900000" y="1714680"/>
            <a:ext cx="7410600" cy="480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2009520" cy="263844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2: Realiz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rect-form II biquad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48872"/>
          <a:stretch/>
        </p:blipFill>
        <p:spPr>
          <a:xfrm>
            <a:off x="1042920" y="2421000"/>
            <a:ext cx="72295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3: Study of imperfections: Quantiz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341360"/>
            <a:ext cx="2087640" cy="719280"/>
          </a:xfrm>
          <a:prstGeom prst="wedgeRoundRectCallout">
            <a:avLst>
              <a:gd name="adj1" fmla="val -167564"/>
              <a:gd name="adj2" fmla="val 222847"/>
              <a:gd name="adj3" fmla="val 16667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viol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crease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6880" y="1600200"/>
            <a:ext cx="7410240" cy="5068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00720" y="544500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3355920"/>
            <a:ext cx="180036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do step 2: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53431"/>
          <a:stretch/>
        </p:blipFill>
        <p:spPr>
          <a:xfrm>
            <a:off x="471600" y="2492280"/>
            <a:ext cx="82008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3-21T02:00:47Z</dcterms:modified>
  <cp:revision>407</cp:revision>
  <dc:subject>Analog and Digital  Filter Design</dc:subject>
  <dc:title>Classical digital filter design</dc:title>
</cp:coreProperties>
</file>