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AC89-3DBE-4C55-A386-461242B7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CB6-B89B-4807-AB41-1E52B3F5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33B5-15AE-48C6-8CC3-C42F4656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AA28-7B8C-43E9-B1C3-814BD9DD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9C2B-8868-4BF0-8A1A-A0C3F63E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ED3E-2741-4FBF-AF77-DB7B79E1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E03-CF34-4D89-A425-35FB6D78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5841-9B0A-4E03-A075-B6B08964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135-3074-4781-9359-8EF367AE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AFB-5BD6-4EB2-AB0E-9F8346AF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88E-3943-4C31-A443-D75A5A43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EBFA-1E32-4838-B353-BAD74792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7A04-CF9E-4DCC-B09E-1183D28C7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pecification of an analog filte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Magnitude-tolerance specificatio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490760" y="1566720"/>
          <a:ext cx="6164280" cy="37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0760" y="1566720"/>
                    <a:ext cx="6164280" cy="37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338560" y="5384880"/>
          <a:ext cx="4466880" cy="78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5384880"/>
                    <a:ext cx="44668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gnitude-ripple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95440" y="1504800"/>
          <a:ext cx="6153120" cy="38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5440" y="1504800"/>
                    <a:ext cx="615312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724120" y="5430960"/>
          <a:ext cx="369576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24120" y="5430960"/>
                    <a:ext cx="36957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ttenuation-limit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38360" y="1438200"/>
          <a:ext cx="586728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1438200"/>
                    <a:ext cx="586728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643120" y="5568840"/>
          <a:ext cx="385776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5568840"/>
                    <a:ext cx="38577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ain-limit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90840" y="1457280"/>
          <a:ext cx="596232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0840" y="1457280"/>
                    <a:ext cx="596232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633760" y="5459400"/>
          <a:ext cx="387648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3760" y="5459400"/>
                    <a:ext cx="38764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haracteristic-function-limit specificatio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19280" y="1628640"/>
          <a:ext cx="5905440" cy="36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590544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509920" y="5416560"/>
          <a:ext cx="4124160" cy="6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920" y="5416560"/>
                    <a:ext cx="4124160" cy="6764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We convert all specs into characteristic-function-limit spec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8000" y="1773360"/>
          <a:ext cx="246708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773360"/>
                    <a:ext cx="246708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203640" y="1484280"/>
          <a:ext cx="265752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484280"/>
                    <a:ext cx="265752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307200" y="1844640"/>
          <a:ext cx="2657520" cy="16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7200" y="1844640"/>
                    <a:ext cx="26575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08000" y="5013360"/>
          <a:ext cx="2533680" cy="175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000" y="5013360"/>
                    <a:ext cx="25336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516720" y="5084640"/>
          <a:ext cx="2523960" cy="165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6720" y="5084640"/>
                    <a:ext cx="252396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535120" y="3500280"/>
          <a:ext cx="3981600" cy="2343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35120" y="3500280"/>
                    <a:ext cx="3981600" cy="23432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1258920" y="2637000"/>
            <a:ext cx="1081080" cy="165564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258920" y="4797360"/>
            <a:ext cx="1081080" cy="1224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805080" y="4797360"/>
            <a:ext cx="1079640" cy="1224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04000" y="2637000"/>
            <a:ext cx="936720" cy="165564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21000"/>
            <a:ext cx="0" cy="1008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609300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e pp.247-248 for conversion form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totype elliptic approxim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71480" y="1419120"/>
          <a:ext cx="5801040" cy="40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1480" y="1419120"/>
                    <a:ext cx="58010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095640" y="5641920"/>
          <a:ext cx="295272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5640" y="5641920"/>
                    <a:ext cx="2952720" cy="6667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lliptic design parame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elliptic rational function; it is a ratio of two polynomials in real variabl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orde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selectivity facto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ripple facto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actual passband edg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95640" y="5589720"/>
            <a:ext cx="2952720" cy="666720"/>
          </a:xfrm>
          <a:prstGeom prst="rect">
            <a:avLst/>
          </a:prstGeom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aphicFrame>
        <p:nvGraphicFramePr>
          <p:cNvPr id="141" name=""/>
          <p:cNvGraphicFramePr/>
          <p:nvPr/>
        </p:nvGraphicFramePr>
        <p:xfrm>
          <a:off x="6732720" y="5516640"/>
          <a:ext cx="16002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720" y="5516640"/>
                    <a:ext cx="1600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552760" y="3495600"/>
          <a:ext cx="403848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2760" y="3495600"/>
                    <a:ext cx="40384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433520" y="4241880"/>
          <a:ext cx="6276960" cy="20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3520" y="4241880"/>
                    <a:ext cx="6276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755640" y="1989000"/>
          <a:ext cx="28764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1989000"/>
                    <a:ext cx="28764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5003640" y="2131920"/>
            <a:ext cx="3745080" cy="1152720"/>
          </a:xfrm>
          <a:prstGeom prst="wedgeRoundRectCallout">
            <a:avLst>
              <a:gd name="adj1" fmla="val -87305"/>
              <a:gd name="adj2" fmla="val -38152"/>
              <a:gd name="adj3" fmla="val 16667"/>
            </a:avLst>
          </a:prstGeom>
          <a:solidFill>
            <a:srgbClr val="ffffcc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t of all quadrupl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for a given specification, is called the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desig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FDesign D5 alternativ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mportance of analog filter spec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ays in presenting the spec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asic filter functions: frequency response, attenuation, gain, characteristic function 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ototype elliptic approxi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lliptic design parame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sign sp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design example Lecture12.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iven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sign a lowpass filter that satisfies the following specification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p = 3000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s = 3225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p = 0.2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 = 40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real life, practical element values are significant to about 3 digits, temperature changes element values, etc., so we choose a more restrictive specification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p = 3000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s = 3225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p =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0.05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 =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45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strateg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oose RLC singly terminated ladder realization with complex zero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plore two design alternatives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atlab default design D3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inimal Q-factor design D5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e AFDesign to find transfer fun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ute element values (see previous lecture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ound element values to 3 digits of precis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alidate desig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default design is D3a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990880" y="1484280"/>
          <a:ext cx="316224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0880" y="1484280"/>
                    <a:ext cx="316224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3a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5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3a violates given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51640" y="3213000"/>
            <a:ext cx="1584360" cy="1152720"/>
          </a:xfrm>
          <a:prstGeom prst="wedgeRectCallout">
            <a:avLst>
              <a:gd name="adj1" fmla="val -107814"/>
              <a:gd name="adj2" fmla="val 112532"/>
            </a:avLst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3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red) violates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given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5229360"/>
            <a:ext cx="1513080" cy="1152360"/>
          </a:xfrm>
          <a:prstGeom prst="wedgeRectCallout">
            <a:avLst>
              <a:gd name="adj1" fmla="val 187564"/>
              <a:gd name="adj2" fmla="val -128925"/>
            </a:avLst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5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blue) satisfies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given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lement valu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879480" y="1341360"/>
          <a:ext cx="1676520" cy="29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9480" y="1341360"/>
                    <a:ext cx="1676520" cy="295272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020000" y="3141720"/>
          <a:ext cx="1790640" cy="360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0000" y="3141720"/>
                    <a:ext cx="1790640" cy="36003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Importance of filter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sually, the filter specification is give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many cases the designer has to establish the specification by himself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pecification is the most important prerequisite for the filter desig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the specification is too restrictive (e.g., very low passband and stopband tolerances, narrow transition region), the filter may not be feasible!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ow to choose specification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proper selection of the specification must be done according to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nature of signals (i.e., frequency bands and the corresponding levels of the desired and undesired signals or noise)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available hardware (element tolerances, parasitic effects, etc.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re are several ways in presenting the analog filter spec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gnitude and phase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620800" y="2084400"/>
          <a:ext cx="389592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0" y="2084400"/>
                    <a:ext cx="389592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8000" y="3627360"/>
            <a:ext cx="3313080" cy="505080"/>
          </a:xfrm>
          <a:prstGeom prst="wedgeRoundRectCallout">
            <a:avLst>
              <a:gd name="adj1" fmla="val 64662"/>
              <a:gd name="adj2" fmla="val 136162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itud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5068800"/>
            <a:ext cx="2594160" cy="505080"/>
          </a:xfrm>
          <a:prstGeom prst="wedgeRoundRectCallout">
            <a:avLst>
              <a:gd name="adj1" fmla="val 93208"/>
              <a:gd name="adj2" fmla="val 142138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as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8000" y="1536840"/>
          <a:ext cx="326700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1536840"/>
                    <a:ext cx="32670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697360" y="1593720"/>
          <a:ext cx="3267360" cy="46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7360" y="1593720"/>
                    <a:ext cx="32673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995640" y="3916440"/>
                <a:ext cx="248436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995640" y="5716440"/>
                <a:ext cx="25290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−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requency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481560" y="2060640"/>
                <a:ext cx="21700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08000" y="1557360"/>
            <a:ext cx="2881440" cy="503280"/>
          </a:xfrm>
          <a:prstGeom prst="wedgeRoundRectCallout">
            <a:avLst>
              <a:gd name="adj1" fmla="val 65263"/>
              <a:gd name="adj2" fmla="val 150629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572000" y="5734080"/>
                <a:ext cx="41259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179280" y="6237360"/>
            <a:ext cx="3313080" cy="504720"/>
          </a:xfrm>
          <a:prstGeom prst="wedgeRoundRectCallout">
            <a:avLst>
              <a:gd name="adj1" fmla="val 79708"/>
              <a:gd name="adj2" fmla="val -60064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equency respon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200" y="3429000"/>
            <a:ext cx="3313440" cy="504720"/>
          </a:xfrm>
          <a:prstGeom prst="wedgeRoundRectCallout">
            <a:avLst>
              <a:gd name="adj1" fmla="val -2421"/>
              <a:gd name="adj2" fmla="val 134907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itud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3284640"/>
            <a:ext cx="2593800" cy="504720"/>
          </a:xfrm>
          <a:prstGeom prst="wedgeRoundRectCallout">
            <a:avLst>
              <a:gd name="adj1" fmla="val -60833"/>
              <a:gd name="adj2" fmla="val 14811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as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4508640"/>
                <a:ext cx="3060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148360" y="4564080"/>
                <a:ext cx="3416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ss and characteristic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1844640"/>
            <a:ext cx="2232000" cy="503280"/>
          </a:xfrm>
          <a:prstGeom prst="wedgeRoundRectCallout">
            <a:avLst>
              <a:gd name="adj1" fmla="val 68703"/>
              <a:gd name="adj2" fmla="val 14779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ss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935440" y="2131920"/>
                <a:ext cx="32382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612880" y="4583160"/>
                <a:ext cx="39038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79280" y="3573360"/>
            <a:ext cx="2232000" cy="792360"/>
          </a:xfrm>
          <a:prstGeom prst="wedgeRoundRectCallout">
            <a:avLst>
              <a:gd name="adj1" fmla="val 56685"/>
              <a:gd name="adj2" fmla="val 159819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racteristic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ttenuation and gai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1844640"/>
            <a:ext cx="2232000" cy="503280"/>
          </a:xfrm>
          <a:prstGeom prst="wedgeRoundRectCallout">
            <a:avLst>
              <a:gd name="adj1" fmla="val 68703"/>
              <a:gd name="adj2" fmla="val 14779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ten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247840" y="2997360"/>
                <a:ext cx="4613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179280" y="3986280"/>
            <a:ext cx="2232000" cy="503280"/>
          </a:xfrm>
          <a:prstGeom prst="wedgeRoundRectCallout">
            <a:avLst>
              <a:gd name="adj1" fmla="val 68703"/>
              <a:gd name="adj2" fmla="val 14779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359080" y="5138640"/>
                <a:ext cx="4390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gnitude-limit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638360" y="1552680"/>
          <a:ext cx="5867280" cy="37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1552680"/>
                    <a:ext cx="586728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343240" y="5492880"/>
          <a:ext cx="445752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3240" y="5492880"/>
                    <a:ext cx="44575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3-04T02:51:52Z</dcterms:modified>
  <cp:revision>511</cp:revision>
  <dc:subject>Analog and Digital  Filter Design</dc:subject>
  <dc:title>Specification of an analog filter</dc:title>
</cp:coreProperties>
</file>