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E39C-151C-42BC-B8E2-71D64DBB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3D6-0E4A-4889-9284-E46E1A85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EC76-450C-44B1-8F17-A555E51F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5DC-4E05-4AD6-A945-23881BE5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A0B-5932-4212-B5AC-6003802A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7136-DA0B-4F5C-B722-DD3636FB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BD3-A8C1-4C91-9A6C-9191AD10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B538-CA21-4E2D-81A3-6ADA08DB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C32C-1434-4C65-A81B-DFEC1D0E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3357-89A3-4744-BE0D-849F0811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B13B-2719-4095-A633-95FC96D7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D2D0-7DD6-443C-8051-F65FDA88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8EBD-3C2C-4C25-B8AD-6EB93CDF2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assical analog filter design: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Op amp and RLC realization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ample biquad desig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669000" y="2924280"/>
                <a:ext cx="162720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300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476280"/>
            <a:ext cx="8713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% Given a second-order lowpass transfer function we iden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p = 230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p = 2*pi*f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Qp = 1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% Choose K &lt;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  = 0.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% Choose 0.1 &lt; P=R3/R1 &lt;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  = 3.3865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% Choose 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ano = 10^(-9); Cx = 3.3*nan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4 = C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% Compute element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2 = 2*Qp^2*Cx*(1+(1+P^2)/(2*P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1 = 1/(wp*Cx*Qp*(1+P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3 = P*R1; R11 = R1/K; R12 = R1/(1-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% Generate transfer function in terms of element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 = R1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n = [(C2*C4*R11*R12*R3) (C4*R11*R12+C4*R11*R3+C4*R12*R3) (R11+R12)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 = 0:80:8000; w = i*2*pi*f; H = num./polyval(den,w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bplot(2,1,1); drawlplq(0,0,4,5,10,'b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bplot(2,1,2); plot(f,abs(H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ighpass Low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68400" y="1413000"/>
          <a:ext cx="72086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1413000"/>
                    <a:ext cx="72086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114640" y="5430960"/>
          <a:ext cx="4914720" cy="123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14640" y="5430960"/>
                    <a:ext cx="4914720" cy="12380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pass low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71640" y="1557360"/>
          <a:ext cx="720252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57360"/>
                    <a:ext cx="720252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245120" y="5229360"/>
          <a:ext cx="4790880" cy="15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45120" y="5229360"/>
                    <a:ext cx="4790880" cy="15332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reject low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44640" y="1484280"/>
          <a:ext cx="7256520" cy="435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484280"/>
                    <a:ext cx="7256520" cy="43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50920" y="5300640"/>
          <a:ext cx="4734000" cy="130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300640"/>
                    <a:ext cx="4734000" cy="13050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llpass low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06560" y="1528920"/>
          <a:ext cx="7132680" cy="42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528920"/>
                    <a:ext cx="713268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266760" y="5035680"/>
          <a:ext cx="4809960" cy="15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760" y="5035680"/>
                    <a:ext cx="4809960" cy="15620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wpass medium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47880" y="1292400"/>
          <a:ext cx="72500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7880" y="1292400"/>
                    <a:ext cx="72500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50920" y="5297400"/>
          <a:ext cx="48006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297400"/>
                    <a:ext cx="4800600" cy="13716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ighpass medium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90720" y="1349280"/>
          <a:ext cx="7164360" cy="47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49280"/>
                    <a:ext cx="7164360" cy="47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38040" y="5373720"/>
          <a:ext cx="481032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8040" y="5373720"/>
                    <a:ext cx="4810320" cy="12002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pass medium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81000" y="1268280"/>
          <a:ext cx="7183440" cy="52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268280"/>
                    <a:ext cx="718344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23840" y="5589720"/>
          <a:ext cx="3584520" cy="115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840" y="5589720"/>
                    <a:ext cx="3584520" cy="11588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reject medium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25640" y="1484280"/>
          <a:ext cx="7094520" cy="51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484280"/>
                    <a:ext cx="709452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427640" y="5326200"/>
          <a:ext cx="4486320" cy="13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5326200"/>
                    <a:ext cx="4486320" cy="13428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assification of analog fil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ctive RC fil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ow Q-, Medium Q-, High Q-factor fil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lbum of op amp RC biquad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xample biquad desig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script Lecture08lplq.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llpass medium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20600" y="1484280"/>
          <a:ext cx="710424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1484280"/>
                    <a:ext cx="710424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356000" y="5113440"/>
          <a:ext cx="4581720" cy="162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5113440"/>
                    <a:ext cx="4581720" cy="16286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Lowpass notch medium-Q-facto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09800" y="1197000"/>
          <a:ext cx="7126200" cy="49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7000"/>
                    <a:ext cx="712620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09520" y="5373720"/>
          <a:ext cx="4867200" cy="13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520" y="5373720"/>
                    <a:ext cx="4867200" cy="13143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Highpass notch medium-Q facto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90720" y="1268280"/>
          <a:ext cx="7164360" cy="53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68280"/>
                    <a:ext cx="716436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08000" y="5516640"/>
          <a:ext cx="4924440" cy="12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5516640"/>
                    <a:ext cx="4924440" cy="12477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wpass high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862280" y="1413000"/>
          <a:ext cx="537372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2280" y="1413000"/>
                    <a:ext cx="537372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327400" y="5418000"/>
          <a:ext cx="447660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27400" y="5418000"/>
                    <a:ext cx="4476600" cy="13240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ighpass high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08000" y="1390680"/>
          <a:ext cx="5297760" cy="39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390680"/>
                    <a:ext cx="5297760" cy="39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305080" y="5427720"/>
          <a:ext cx="4533840" cy="13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05080" y="5427720"/>
                    <a:ext cx="4533840" cy="13143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pass high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920960" y="1268280"/>
          <a:ext cx="5243400" cy="39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0960" y="1268280"/>
                    <a:ext cx="5243400" cy="39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338560" y="5157720"/>
          <a:ext cx="446688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5157720"/>
                    <a:ext cx="4466880" cy="16002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reject high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908000" y="1341360"/>
          <a:ext cx="5308920" cy="38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341360"/>
                    <a:ext cx="530892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314440" y="5402160"/>
          <a:ext cx="4515120" cy="12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4440" y="5402160"/>
                    <a:ext cx="4515120" cy="12668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wpass notch high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8000" y="1444680"/>
          <a:ext cx="5254920" cy="37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444680"/>
                    <a:ext cx="525492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2271600" y="5340240"/>
          <a:ext cx="4600800" cy="12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71600" y="5340240"/>
                    <a:ext cx="4600800" cy="12574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ighpass notch high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979640" y="1531800"/>
          <a:ext cx="5138640" cy="36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31800"/>
                    <a:ext cx="5138640" cy="36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224080" y="5373720"/>
          <a:ext cx="4695840" cy="127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24080" y="5373720"/>
                    <a:ext cx="4695840" cy="12762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eneral-purpose real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71640" y="1500120"/>
          <a:ext cx="7202520" cy="38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00120"/>
                    <a:ext cx="720252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692360" y="6021360"/>
            <a:ext cx="56880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HN filter (Kerwin-Huelsman-Newco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nalog filter realization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fter having accomplished the approximation step, the filter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ansfer function is know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xt, the designer must choose 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realiza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that is, an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lectric circui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nalog filters can be classified on the basis of their constituent compon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assification of analog fil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assive RL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perational amplifier R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filter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op amp active RC filter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witched-capacitor (SC)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erational transconductance amplifier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OTA)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urrent-conveyor (CC)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icrowave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lectromechanical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rystal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assive RLC fil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onsist of passive macrocomponents: resistors, capacitors, and inductors (coils and transformers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o not require a power suppl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rawbacks: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Exhibit a significant passband loss, 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Inductors cannot be miniaturized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Practical at frequencies up to a few hundred MHz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Important in deriving realizations of some </a:t>
            </a:r>
            <a:br>
              <a:rPr sz="2600"/>
            </a:b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ctive filters, such as active RC, OTA, and </a:t>
            </a:r>
            <a:br>
              <a:rPr sz="2600"/>
            </a:b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urrent-conveyor filter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ctive RC fil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be reduced in size and weight, especially when implemented as integrated circui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ufacturing can be automated with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 production yiel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de out of resistors, capacitors, and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erational amplifi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Require a power suppl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Output signal can be distorted if the input signal is too larg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Extra noise is generated in active device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erate over the frequency rage from 0.1 Hz to 500 kHz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Arial"/>
              </a:rPr>
              <a:t>Op amp active RC fil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alization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Classification of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biquadratic realization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Low Q-facto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realizations (Q &lt; 2) exhibit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 problems with tolerances, no need for tuning, minimal number of passive components, and only one operational amplifi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Medium Q-facto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realizations (2 &lt; Q &lt; 20) selected on the basis of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inimum gain-sensitivity product, simple tuning,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inimal number of passive components, and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nly one operational amplifi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High Q-facto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realizations (20 &lt; Q) require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wo operational amplifiers, sensitivities are lower than the sensitivity of single-amplifier biqua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wpass low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44640" y="1341360"/>
          <a:ext cx="7256520" cy="39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341360"/>
                    <a:ext cx="7256520" cy="39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176560" y="5408640"/>
          <a:ext cx="4771800" cy="13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6560" y="5408640"/>
                    <a:ext cx="4771800" cy="13334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2-11T01:34:59Z</dcterms:modified>
  <cp:revision>404</cp:revision>
  <dc:subject>Analog and Digital  Filter Design</dc:subject>
  <dc:title>Classical analog filter design: Op Amp and RLC realization</dc:title>
</cp:coreProperties>
</file>