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721-6C91-47CC-9D30-BE57BF34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936-0332-40AA-B494-605BF58F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514-644C-45D3-9D1F-503EDD15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40C-493E-40CF-B3D5-B7DF2779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13E-E3C1-44A9-90FF-E7DB9134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62E-5D1B-413B-ACB1-20F9A121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0A5-A007-4D91-8402-EC8C96EF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B60-4F5C-44F9-9421-2EFA6E7F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243-E0B9-4303-BE3D-85FC581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F46-14A9-4A69-879A-2ADEC95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C95-A6BC-40DD-BB3A-FA73ED9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4DF-D9E3-473B-BB38-110475EA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3F38-3461-4FC6-9B5F-4785C669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rogrammable analog ch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30800" y="69840"/>
            <a:ext cx="4705200" cy="443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403280" y="321300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p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iqua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iqua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57400" y="271440"/>
          <a:ext cx="6831000" cy="63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71440"/>
                    <a:ext cx="68310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with 3 biqu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4113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57360" y="2309760"/>
            <a:ext cx="4229280" cy="223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use Anadigm c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39760" y="266760"/>
          <a:ext cx="686592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66760"/>
                    <a:ext cx="68659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of one 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94160" y="44280"/>
            <a:ext cx="4714920" cy="481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0" y="4428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03280" y="325116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ss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94160" y="44280"/>
            <a:ext cx="4714920" cy="48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080" y="4428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03280" y="325116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p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er and gai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rat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95480" y="266760"/>
          <a:ext cx="69548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266760"/>
                    <a:ext cx="69548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with 2 biqu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360" y="13320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30800" y="115920"/>
            <a:ext cx="4705200" cy="4438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15880" y="321300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ss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20:22:52Z</dcterms:created>
  <dc:creator>Miroslav Lutovac and Dejan Tosic</dc:creator>
  <dc:description/>
  <dc:language>en-US</dc:language>
  <cp:lastModifiedBy>nn</cp:lastModifiedBy>
  <dcterms:modified xsi:type="dcterms:W3CDTF">2005-02-03T23:23:58Z</dcterms:modified>
  <cp:revision>26</cp:revision>
  <dc:subject>Analog and Digital  Filter Design</dc:subject>
  <dc:title>Implementation of an analog filter</dc:title>
</cp:coreProperties>
</file>