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75E-C101-4779-87A5-10CD279D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E56-332C-42DC-8D38-32514613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A3F-E0B7-4C06-A2AE-379433E4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F9F-3DB3-4E20-A09F-2BA7F48D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C91-92C9-4630-AE26-3E02DD18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419-925C-4A57-A174-D41CE3A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7F4-43C7-488D-B0F7-87D5FF41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B3B-B4E1-444D-ACB9-8811ED59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32B-9BFD-4B3F-9072-DB6F7F3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6DA-A443-4F47-9BD6-8896AF0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DE5-5DB4-4093-A9F7-88656E9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D2C-FBCA-41E0-BCBB-AEA6FD3B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85B7-DDEE-446B-BC10-C97E6D22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ig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1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2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2: Realization - Cascade of programmable biqu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3: Study of imperfections - Sensitivity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LAB script Lecture07design.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ascade of programmable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nsitivity analysi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03T22:57:43Z</dcterms:modified>
  <cp:revision>369</cp:revision>
  <dc:subject>Analog and Digital  Filter Design</dc:subject>
  <dc:title>Design of an analog filter</dc:title>
</cp:coreProperties>
</file>