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56.png" ContentType="image/png"/>
  <Override PartName="/ppt/media/image55.png" ContentType="image/png"/>
  <Override PartName="/ppt/media/image54.png" ContentType="image/png"/>
  <Override PartName="/ppt/media/image10.png" ContentType="image/png"/>
  <Override PartName="/ppt/media/image4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6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3B30-1B3F-43F5-BE0C-A8EC13E1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3C31-BA68-458F-A455-7F3C8D9E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07FF-EADE-4F32-BEE6-F475E2A3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7A90-5633-4D33-B0BD-FC62D487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73E0-4D7A-4959-A4E5-A6F0C31E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319F-D231-42A2-86CE-F52A80B4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66FB-1622-47A5-8623-F3FBFCB4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A917-3F11-4DA6-8A9A-06B46654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B51B-CC86-482C-9B19-6818CE60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6863-1BAF-4FD6-B7EB-2A2C2C28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294F-1760-435E-AF2F-D4D5A957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251E-7424-44EA-95F7-75249C63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7886-B29A-4AF1-9891-18189CD42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png"/><Relationship Id="rId9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png"/><Relationship Id="rId7" Type="http://schemas.openxmlformats.org/officeDocument/2006/relationships/image" Target="../media/image52.png"/><Relationship Id="rId8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ystem transfer function,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oles and zeros, pole-zero pairing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oot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140360" y="1268280"/>
          <a:ext cx="4829040" cy="542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268280"/>
                    <a:ext cx="4829040" cy="542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08000" y="2006640"/>
            <a:ext cx="4032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 = [1 0.4 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 = [0.2 0.3 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 = roots(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= roots(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lot(real(z),imag(z),'ro',…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al(p),imag(p),'bx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-1 0.1 -2.5 2.5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real par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imaginary par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gend('zeros','poles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033640" y="4365720"/>
          <a:ext cx="5076720" cy="8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3640" y="4365720"/>
                    <a:ext cx="507672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Quality factor (Q-factor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63640" y="1579680"/>
          <a:ext cx="558180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1579680"/>
                    <a:ext cx="558180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871720" y="2924280"/>
          <a:ext cx="3400560" cy="104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71720" y="2924280"/>
                    <a:ext cx="3400560" cy="10476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524720" y="5084640"/>
          <a:ext cx="131436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24720" y="5084640"/>
                    <a:ext cx="1314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348000" y="5445000"/>
          <a:ext cx="2448000" cy="914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48000" y="5445000"/>
                    <a:ext cx="2448000" cy="9144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6732720" y="2708280"/>
            <a:ext cx="2016000" cy="792000"/>
          </a:xfrm>
          <a:prstGeom prst="wedgeRoundRectCallout">
            <a:avLst>
              <a:gd name="adj1" fmla="val -64407"/>
              <a:gd name="adj2" fmla="val 92282"/>
              <a:gd name="adj3" fmla="val 16667"/>
            </a:avLst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x-conjugate p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mplex pole-zero pai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676600" y="2133720"/>
          <a:ext cx="3790800" cy="15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6600" y="2133720"/>
                    <a:ext cx="3790800" cy="15811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233880" y="4062240"/>
          <a:ext cx="2676240" cy="10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33880" y="4062240"/>
                    <a:ext cx="26762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50920" y="530064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 reduce the sensitivity of a transfer function with respect to deviations of the coefficient values, it is preferable to represent the transfer function by a product of the first-order and second-order transf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owpass 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4360" y="2001960"/>
          <a:ext cx="7046640" cy="46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01960"/>
                    <a:ext cx="7046640" cy="46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148360" y="1616040"/>
          <a:ext cx="3733560" cy="138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1616040"/>
                    <a:ext cx="3733560" cy="13813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611280" y="1828800"/>
          <a:ext cx="704052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28800"/>
                    <a:ext cx="704052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ighpass 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859280" y="1557360"/>
          <a:ext cx="3772080" cy="146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1557360"/>
                    <a:ext cx="3772080" cy="14670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353880" y="1835280"/>
          <a:ext cx="695484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80" y="1835280"/>
                    <a:ext cx="695484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pass transfer function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967280" y="1557360"/>
          <a:ext cx="3781440" cy="16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7280" y="1557360"/>
                    <a:ext cx="3781440" cy="16668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38240" y="1700280"/>
          <a:ext cx="6954840" cy="46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40" y="1700280"/>
                    <a:ext cx="6954840" cy="46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reject 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48360" y="4149720"/>
          <a:ext cx="3819600" cy="15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4149720"/>
                    <a:ext cx="3819600" cy="154296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79280" y="1673280"/>
          <a:ext cx="656460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73280"/>
                    <a:ext cx="656460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llpass 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076720" y="2289240"/>
          <a:ext cx="3934080" cy="15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2289240"/>
                    <a:ext cx="3934080" cy="15714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867280" y="5805360"/>
          <a:ext cx="2981520" cy="8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5805360"/>
                    <a:ext cx="2981520" cy="8575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08000" y="2060640"/>
          <a:ext cx="7008840" cy="47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2060640"/>
                    <a:ext cx="700884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mplitude equalize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264280" y="1301760"/>
          <a:ext cx="3771720" cy="169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64280" y="1301760"/>
                    <a:ext cx="37717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ole-zero pair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composition of the numerator and the denominator into products of constant terms, and the first-order and the second-order func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structing the first-order and the second-order rational functions by pairing the numerator and denominator term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requently used: pairing the poles with higher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Q-factors with zeros that are as close as possible to the pol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ransfer function in s domai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ransfer function in z domai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ole-zero-gain represent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freqs, roo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freqz, zplane, tf2pzk, tf2so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ole-zero pairing criteria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Maximal dynamic rang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: a ratio of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(a) the maximum magnitude response computed over the whole frequency range to (b) the minimum magnitude response in the passban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Maximal signal-to-noise rati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Minimal sensitivit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screte-time LTI system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transfer function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consider a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laxed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single-input, single-output, discrete-time LTI system described by means of a linear constant-coefficients difference equ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assume a causal excitation – inpu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ransfer functio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is the ratio of the out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transform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and the input 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transform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831000" y="5527800"/>
                <a:ext cx="21337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z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)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is a rational function in </a:t>
            </a: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z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ransfer function is a ratio of two polynomials in the complex variabl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e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j</a:t>
            </a:r>
            <a:r>
              <a:rPr b="0" lang="en-US" sz="32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frequency respons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the LTI syste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ny properties of LTI systems can be closely associated with the characteristics of the transfer function in th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plan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187280" y="5495760"/>
          <a:ext cx="1914840" cy="8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5495760"/>
                    <a:ext cx="19148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781440" y="5734080"/>
          <a:ext cx="4390920" cy="3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1440" y="5734080"/>
                    <a:ext cx="43909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oles and zeros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oots of the transfer function denominator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re called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pol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compute the poles from the equation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= denominator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) = 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oots of the transfer function numerator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re called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zero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obtain the zeros from the equation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= numerator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) = 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ole-zero represent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871720" y="5300640"/>
          <a:ext cx="3400560" cy="4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1720" y="5300640"/>
                    <a:ext cx="34005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7020000" y="3646440"/>
            <a:ext cx="792000" cy="503280"/>
          </a:xfrm>
          <a:prstGeom prst="wedgeRoundRectCallout">
            <a:avLst>
              <a:gd name="adj1" fmla="val -234166"/>
              <a:gd name="adj2" fmla="val 43375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z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20000" y="4284720"/>
            <a:ext cx="792000" cy="503280"/>
          </a:xfrm>
          <a:prstGeom prst="wedgeRoundRectCallout">
            <a:avLst>
              <a:gd name="adj1" fmla="val -234166"/>
              <a:gd name="adj2" fmla="val 43375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06560" y="6027840"/>
            <a:ext cx="71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olynomial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have real coefficients, so zeros and poles must be real or occur in complex conjugat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938320" y="1700280"/>
          <a:ext cx="3267360" cy="16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38320" y="1700280"/>
                    <a:ext cx="326736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576600" y="4641840"/>
          <a:ext cx="199080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6600" y="4641840"/>
                    <a:ext cx="19908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586320" y="4005360"/>
          <a:ext cx="197136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6320" y="4005360"/>
                    <a:ext cx="19713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214720" y="2894040"/>
          <a:ext cx="471456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2894040"/>
                    <a:ext cx="471456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2700360" y="1751040"/>
          <a:ext cx="3724200" cy="8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1751040"/>
                    <a:ext cx="372420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rst-order sections &amp; biquad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64360" y="1341360"/>
            <a:ext cx="1871640" cy="647640"/>
          </a:xfrm>
          <a:prstGeom prst="wedgeRoundRectCallout">
            <a:avLst>
              <a:gd name="adj1" fmla="val -155935"/>
              <a:gd name="adj2" fmla="val 57842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he first-order transf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64360" y="2421000"/>
            <a:ext cx="1871640" cy="647640"/>
          </a:xfrm>
          <a:prstGeom prst="wedgeRoundRectCallout">
            <a:avLst>
              <a:gd name="adj1" fmla="val -132865"/>
              <a:gd name="adj2" fmla="val 51717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he second-order transf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409716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ystems described by the first-order transfer function we call </a:t>
            </a:r>
            <a:br>
              <a:rPr sz="1800"/>
            </a:b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first-order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00720" y="409716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system characterized by the second-order transfer function we call a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biquadratic sectio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biqu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5516640"/>
            <a:ext cx="7921440" cy="10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y transfer function can be expressed as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product of first-order and second-order transfer functions, so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y LTI system can be resolved into first-order sections and biqu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800000"/>
                </a:solidFill>
                <a:latin typeface="Times New Roman"/>
              </a:rPr>
              <a:t>H</a:t>
            </a: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800000"/>
                </a:solidFill>
                <a:latin typeface="Times New Roman"/>
              </a:rPr>
              <a:t>z</a:t>
            </a: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)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 can be expressed in terms of </a:t>
            </a:r>
            <a:r>
              <a:rPr b="0" i="1" lang="en-US" sz="4000" spc="-1" strike="noStrike">
                <a:solidFill>
                  <a:srgbClr val="800000"/>
                </a:solidFill>
                <a:latin typeface="Times New Roman"/>
              </a:rPr>
              <a:t>z</a:t>
            </a:r>
            <a:r>
              <a:rPr b="0" lang="en-US" sz="4000" spc="-1" strike="noStrike" baseline="30000">
                <a:solidFill>
                  <a:srgbClr val="800000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873000" y="2008080"/>
          <a:ext cx="7399440" cy="11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3000" y="2008080"/>
                    <a:ext cx="739944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611280" y="51944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quotient of two polynomials is called a rational function and the highest power in the polynomials is called the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orde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f the rational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76360" y="3933720"/>
            <a:ext cx="5472000" cy="1008000"/>
          </a:xfrm>
          <a:prstGeom prst="cloudCallout">
            <a:avLst>
              <a:gd name="adj1" fmla="val 27574"/>
              <a:gd name="adj2" fmla="val -12732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is presentation is preferred in the DSP 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reqz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141300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B = [0.0093 -0.0123 0.0232 -0.0172 0.0233 -0.0124 0.0094]</a:t>
            </a:r>
            <a:br>
              <a:rPr sz="1800"/>
            </a:b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A = [1 -4.312 8.5888 -9.8704 6.8602 -2.7272 0.4865]</a:t>
            </a:r>
            <a:br>
              <a:rPr sz="1800"/>
            </a:b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freqz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163520" y="2492280"/>
          <a:ext cx="68184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2492280"/>
                    <a:ext cx="68184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zplan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141300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B = [0.0093 -0.0123 0.0232 -0.0172 0.0233 -0.0124 0.0094]</a:t>
            </a:r>
            <a:br>
              <a:rPr sz="1800"/>
            </a:b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A = [1 -4.312 8.5888 -9.8704 6.8602 -2.7272 0.4865]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plane(B,A)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gend('zeros','poles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166840" y="2744640"/>
          <a:ext cx="481032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6840" y="2744640"/>
                    <a:ext cx="481032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tinuous-time LTI system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f2zpk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141300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B = [0.0093 -0.0123 0.0232 -0.0172 0.0233 -0.0124 0.0094]</a:t>
            </a:r>
            <a:br>
              <a:rPr sz="1800"/>
            </a:b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A = [1 -4.312 8.5888 -9.8704 6.8602 -2.7272 0.4865]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z,p,k] = tf2zp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408480" y="2476440"/>
          <a:ext cx="2363760" cy="40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476440"/>
                    <a:ext cx="236376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f2so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41300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B = [0.0093 -0.0123 0.0232 -0.0172 0.0233 -0.0124 0.0094]</a:t>
            </a:r>
            <a:br>
              <a:rPr sz="1800"/>
            </a:b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A = [1 -4.312 8.5888 -9.8704 6.8602 -2.7272 0.4865]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os = tf2sos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538280" y="2614680"/>
          <a:ext cx="606744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8280" y="2614680"/>
                    <a:ext cx="606744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5364000" y="4797360"/>
          <a:ext cx="2514600" cy="126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4797360"/>
                    <a:ext cx="251460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63520" y="4702320"/>
          <a:ext cx="3228840" cy="74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3520" y="4702320"/>
                    <a:ext cx="322884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324000" y="5589720"/>
          <a:ext cx="3809880" cy="77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000" y="5589720"/>
                    <a:ext cx="380988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Quality factor (Q-factor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32720" y="2708280"/>
            <a:ext cx="2016000" cy="792000"/>
          </a:xfrm>
          <a:prstGeom prst="wedgeRoundRectCallout">
            <a:avLst>
              <a:gd name="adj1" fmla="val -64407"/>
              <a:gd name="adj2" fmla="val 92282"/>
              <a:gd name="adj3" fmla="val 16667"/>
            </a:avLst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x-conjugate p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757520" y="1546200"/>
          <a:ext cx="562896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7520" y="1546200"/>
                    <a:ext cx="56289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819520" y="2919240"/>
          <a:ext cx="3504960" cy="101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919240"/>
                    <a:ext cx="3504960" cy="10195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34920" y="4365720"/>
          <a:ext cx="9063000" cy="61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0" y="4365720"/>
                    <a:ext cx="90630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2895480" y="5373720"/>
          <a:ext cx="3353040" cy="117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95480" y="5373720"/>
                    <a:ext cx="3353040" cy="11714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250920" y="2565360"/>
          <a:ext cx="5811840" cy="40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565360"/>
                    <a:ext cx="581184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owpass 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73080" y="1650960"/>
          <a:ext cx="899964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080" y="1650960"/>
                    <a:ext cx="899964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292720" y="4292640"/>
          <a:ext cx="3267000" cy="100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4292640"/>
                    <a:ext cx="326700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ighpass 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96840" y="1441440"/>
          <a:ext cx="895176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" y="1441440"/>
                    <a:ext cx="89517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95280" y="2565360"/>
          <a:ext cx="5811840" cy="394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565360"/>
                    <a:ext cx="581184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5508720" y="3716280"/>
            <a:ext cx="32670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pass transfer function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50920" y="2637000"/>
          <a:ext cx="5943600" cy="40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37000"/>
                    <a:ext cx="5943600" cy="40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95160" y="1484280"/>
          <a:ext cx="7751880" cy="10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5160" y="1484280"/>
                    <a:ext cx="775188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877000" y="3716280"/>
            <a:ext cx="32670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reject 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2565360"/>
          <a:ext cx="5983200" cy="40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565360"/>
                    <a:ext cx="598320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204840" y="1557360"/>
          <a:ext cx="8732880" cy="79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4840" y="1557360"/>
                    <a:ext cx="8732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5651640" y="4076640"/>
            <a:ext cx="32670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llpass 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68360" y="2492280"/>
          <a:ext cx="5905440" cy="40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92280"/>
                    <a:ext cx="590544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258920" y="1413000"/>
          <a:ext cx="6095880" cy="98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413000"/>
                    <a:ext cx="60958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6443640" y="3125880"/>
          <a:ext cx="2381400" cy="59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3125880"/>
                    <a:ext cx="238140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5877000" y="4076640"/>
            <a:ext cx="32670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ole-zero pair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composition of the numerator and the denominator into products of constant terms, the first-order and the second-order polynomi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structing the first-order and the second-order rational functions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y pairing the numerator and denominator term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requently used: pairing the poles with higher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with zeros that are as close as possible to those pol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transfer function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consider a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laxed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single-input, single-output, continuous-time LTI system described by means of a linear constant-coefficients differential equ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assume a causal excitation – inpu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ransfer functio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is the ratio of the output Laplace transform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and the input Laplace transform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831000" y="5527800"/>
                <a:ext cx="21337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)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is a rational function in </a:t>
            </a: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ransfer function is a ratio of two polynomials in the complex frequency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j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frequency respons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the LTI syste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ny properties of LTI systems can be closely associated with the characteristics of the transfer function in th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plan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00280" y="5516640"/>
          <a:ext cx="751680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5516640"/>
                    <a:ext cx="75168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oles and zeros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oots of the transfer function denominator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re called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pol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compute the poles from the equation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= denominator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) = 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oots of the transfer function numerator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re called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zero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obtain the zeros from the equation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= numerator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) = 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ole-zero represent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938320" y="1916280"/>
          <a:ext cx="326736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8320" y="1916280"/>
                    <a:ext cx="326736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584520" y="4573440"/>
          <a:ext cx="1924200" cy="4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4520" y="4573440"/>
                    <a:ext cx="19242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643200" y="4005360"/>
          <a:ext cx="1857600" cy="3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43200" y="4005360"/>
                    <a:ext cx="18576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2871720" y="5300640"/>
          <a:ext cx="3400560" cy="40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71720" y="5300640"/>
                    <a:ext cx="34005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7020000" y="3646440"/>
            <a:ext cx="792000" cy="503280"/>
          </a:xfrm>
          <a:prstGeom prst="wedgeRoundRectCallout">
            <a:avLst>
              <a:gd name="adj1" fmla="val -234166"/>
              <a:gd name="adj2" fmla="val 43375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z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4284720"/>
            <a:ext cx="792000" cy="503280"/>
          </a:xfrm>
          <a:prstGeom prst="wedgeRoundRectCallout">
            <a:avLst>
              <a:gd name="adj1" fmla="val -234166"/>
              <a:gd name="adj2" fmla="val 43375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06560" y="6027840"/>
            <a:ext cx="71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olynomial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have real coefficients, so zeros and poles must be real or occur in complex conjugat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rst-order sections &amp; biquad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543040" y="1650960"/>
          <a:ext cx="40579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3040" y="1650960"/>
                    <a:ext cx="4057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085840" y="2781360"/>
          <a:ext cx="4972320" cy="98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5840" y="2781360"/>
                    <a:ext cx="497232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7164360" y="1341360"/>
            <a:ext cx="1871640" cy="647640"/>
          </a:xfrm>
          <a:prstGeom prst="wedgeRoundRectCallout">
            <a:avLst>
              <a:gd name="adj1" fmla="val -162384"/>
              <a:gd name="adj2" fmla="val 43384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he first-order transf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64360" y="2421000"/>
            <a:ext cx="1871640" cy="647640"/>
          </a:xfrm>
          <a:prstGeom prst="wedgeRoundRectCallout">
            <a:avLst>
              <a:gd name="adj1" fmla="val -139314"/>
              <a:gd name="adj2" fmla="val 55884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he second-order transf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409716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ystems described by the first-order transfer function we call </a:t>
            </a:r>
            <a:br>
              <a:rPr sz="1800"/>
            </a:b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first-order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00720" y="409716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system characterized by the second-order transfer function we call a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biquadratic sectio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biqu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5516640"/>
            <a:ext cx="7921440" cy="10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y transfer function can be expressed as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product of first-order and second-order transfer functions, so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y LTI system can be resolved into first-order sections and biqu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req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16240" y="1468440"/>
          <a:ext cx="4848480" cy="52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468440"/>
                    <a:ext cx="484848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324000" y="2457360"/>
            <a:ext cx="3311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 = [1 0.4 1]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 = [0.2 0.3 1]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 = 0.1:0.01:10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 = freqs(B,A,w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 = abs(H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= angle(H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plot(2,1,1); 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glog(w,M); grid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Magnitude'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H = freqs(B,A,w)'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plot(2,1,2); 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milogx(w,P); grid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Phase (rad)'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\omega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66880" y="1614600"/>
          <a:ext cx="1904760" cy="59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6880" y="1614600"/>
                    <a:ext cx="19047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1-29T01:38:51Z</dcterms:modified>
  <cp:revision>323</cp:revision>
  <dc:subject>Analog and Digital  Filter Design</dc:subject>
  <dc:title>System transfer function, poles and zeros, pole-zero pairing</dc:title>
</cp:coreProperties>
</file>