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F63B-7A53-4EFD-BD1D-8ABC70F3B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67E7-DA10-4C6A-A4B5-510D3A28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7E11-7C8C-4375-AB8A-84ABED592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EFA2-00CF-4A04-BFE0-368426AC2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3B46-7E53-413A-9F50-9BE4D1A6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B4F0-4204-4361-8476-71EE694F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F19A-AFEE-4711-89B4-C5597E5E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9E86-5B0F-44CC-BB8F-1E9CE912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B1AC-D7EF-4D8E-A678-0BC582C3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520B-3CFA-4FF3-B59A-8DD20D8F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9C57-96C6-4E00-8051-55E671EA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0B19-5401-4C91-AE2C-D1ED519B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15B5-CC04-4405-A003-560BD6045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nalog and Digital Filter Design 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Review System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404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roslav Lutovac and Dejan Tos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nalysis and desig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Analysi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of a system is investigation of the properties and the behavior (response) of an existing syste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Design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of a system is the choice and arrangement of systems components to perform a specific task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Design by analysi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s accomplished by modifying the characteristics of an existing syste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Design by synthesi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: we define the form of the system directly from its specifica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Block diagra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Block diagra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s a pictorial representation of a system that provides a method for characterizing the relationships among the compone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ngle block with one input and one output is the simplest form of the block diagra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terior of the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ectangl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representing the block contains (a) component name,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(b) component description, or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(c) the symbol for the mathematical operation to be performed on input to yield outpu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rrow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represent the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irection of signal flow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541840" y="5516640"/>
          <a:ext cx="299088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1840" y="5516640"/>
                    <a:ext cx="299088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lements of block diagra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690560" y="1432080"/>
          <a:ext cx="5762880" cy="113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0560" y="1432080"/>
                    <a:ext cx="576288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39640" y="2860560"/>
            <a:ext cx="3876840" cy="2800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5037120" y="3533760"/>
            <a:ext cx="3638520" cy="11905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08000" y="5950080"/>
            <a:ext cx="2089080" cy="431640"/>
          </a:xfrm>
          <a:prstGeom prst="wedgeRoundRectCallout">
            <a:avLst>
              <a:gd name="adj1" fmla="val 41032"/>
              <a:gd name="adj2" fmla="val -316546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Summing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86560" y="5950080"/>
            <a:ext cx="2089080" cy="431640"/>
          </a:xfrm>
          <a:prstGeom prst="wedgeRoundRectCallout">
            <a:avLst>
              <a:gd name="adj1" fmla="val -39439"/>
              <a:gd name="adj2" fmla="val -319851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akeoff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8000" y="1628640"/>
            <a:ext cx="5048280" cy="8575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Interconnections of block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43640" y="1413000"/>
            <a:ext cx="2449440" cy="649080"/>
          </a:xfrm>
          <a:prstGeom prst="wedgeRoundRectCallout">
            <a:avLst>
              <a:gd name="adj1" fmla="val -120449"/>
              <a:gd name="adj2" fmla="val 23106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locks connected in casc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08000" y="4622760"/>
            <a:ext cx="5371920" cy="21909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419640" y="2565360"/>
            <a:ext cx="5638680" cy="2152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06200" y="3141720"/>
            <a:ext cx="2449800" cy="649080"/>
          </a:xfrm>
          <a:prstGeom prst="wedgeRoundRectCallout">
            <a:avLst>
              <a:gd name="adj1" fmla="val 102430"/>
              <a:gd name="adj2" fmla="val 18949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locks connected in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43640" y="5587920"/>
            <a:ext cx="2449440" cy="649440"/>
          </a:xfrm>
          <a:prstGeom prst="wedgeRoundRectCallout">
            <a:avLst>
              <a:gd name="adj1" fmla="val -120449"/>
              <a:gd name="adj2" fmla="val 23106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locks connected in parall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tat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r some systems, the output at time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depends not only on the input applied at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but also on the input applied before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 stat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the information at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that, together with input for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≥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determines uniquely output for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≥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Dynamical equation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the set of equations that describes unique relations between the input, output, and stat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elaxed syste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system is said to be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relaxed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at time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f the output for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≥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solely and uniquely determined by the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inpu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for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≥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f the concept of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nergy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applicable, the system is said to be relaxed at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f no energy is stored in the system at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system is said to be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zero-inpu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f the output for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≥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solely and uniquely determined by the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tat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ausality and stability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system is called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causal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f the output depends only on the present and past values of the inpu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tuitively, a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stable syste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s one that will remain at rest unless excited by an external source and will return to rest if all excitations are remov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relaxed system is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BIBO stabl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(bounded-input bounded-output) if every bounded input produces a bounded outpu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Time-invariant syste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relaxed system is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time-invarian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f a time shift in the input signal causes a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ime shift in the output signa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 the case of discrete-time digital systems, we often use the term </a:t>
            </a:r>
            <a:br>
              <a:rPr sz="3200"/>
            </a:b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shift-invarian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nstead of time-invarian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haracteristics and parameters of a time-invariant system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o not chang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with tim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Linear syste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onsider a relaxed system in which there is one independent variable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linear system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a system which has the property that if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put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produces an output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t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and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put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produces an output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the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put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+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produces an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utput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+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for any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and arbitrary constants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rinciple of superposi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response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f a linear system due to several inputs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, …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acting simultaneously is equal to the sum of the responses of each input acting alon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f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the response due to the input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the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987640" y="4724280"/>
                <a:ext cx="311328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efinition of a syste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lock diagra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ystem properti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Linear time-invariant (LTI) syste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esponse of LTI system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onvolution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ATLAB exercis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Linear time-invariant (LTI) system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05240" y="2616120"/>
            <a:ext cx="4133520" cy="1533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90840" y="5157720"/>
            <a:ext cx="5962320" cy="1419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179064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ntinuous-time system is </a:t>
            </a: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LTI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if its input-output relationship can be described by the ordinary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near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stant coefficien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differential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429264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screte-time system is </a:t>
            </a: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LTI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if its input-output relationship can be described by th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near constant coefficient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differenc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esponse of an LTI syste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Free respons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zero-input respons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) is the solution of the differential equation when the input is zer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Forced respons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zero-state respons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) is the solution of the differential equation when the state is zer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Total respons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is the sum of the free response and the forced respon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tal response can be viewed, also, as the sum of the steady-state response and transient respon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Steady-state respons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is that part of the total response which does not approach zero as time approaches infin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Transient respons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is that part of the total response which approaches zero as time goes to infin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Procedure for analyzing a system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etermine the equations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r each system componen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hoose a model for representing the system (e.g., block diagram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rmulate the system model by appropriately connected the component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etermine the system characteristic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onvolution integr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42472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Unit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impulse respons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the output of a continuous-time LTI system to a unit impulse input when the state is zero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f we know the input and impulse response of a causal LTI system, the forced response can be found by the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convolution integra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808280" y="4773600"/>
                <a:ext cx="5472000" cy="18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Transient system specification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Unit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step respons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s the output of an LTI system to a unit step input when the state is zer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Overshoot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Delay tim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Rise tim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Settling tim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8360" y="3746520"/>
            <a:ext cx="3762360" cy="2419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788000" y="3765600"/>
            <a:ext cx="378144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onvolution su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42472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Unit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impulse respons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the output of a discrete-time LTI system to a unit impulse input when the state is zero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f we know the input and impulse response of a causal LTI system, the forced response can be found by the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convolution su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909800" y="4848120"/>
                <a:ext cx="527040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ν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ν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ν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ATLAB exercise 2.1, page 62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9280" y="1628640"/>
            <a:ext cx="4392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 = inline('exp(-t).*(t&gt;0)', 't')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x = inline('sin(t).*(t&gt;0)', 't')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 = inline('exp(-(t-tau)).*(…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t-tau)&gt;0).*sin(tau).*(tau&gt;0)', 'tau', 't')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=inline('0.5*(exp(-t)-cos(t)+sin(t)).*(t&gt;0)','t')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1 = 0; t2 = 6; TR = [t1, t2]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ubplot(2,1,1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plot(h, TR, 2e-3, 1, ':b'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old on; fplot(x, TR, 2e-3, 1, '-r'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old off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egend('impulse response', 'input'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i = t1:0.2:t2; y = []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or i = 1:length(ti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y = [y, quad(u,0,ti(i),1e-8,0,ti(i))]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nd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ubplot(2,1,2); plot(ti, y)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xlabel('t'); ylabel('forced response'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old on; fplot(r, TR, 2e-2, 1, 'or'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egend('numerical', 'exact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745160" y="1700280"/>
          <a:ext cx="42195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5160" y="1700280"/>
                    <a:ext cx="42195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ATLAB exercise 2.5, page 62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71640" y="1744560"/>
            <a:ext cx="3024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 = 0:15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 = ((0.7).^k).*(k&gt;=0)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x = (k&gt;=0) - (k&gt;=4)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 = conv(h,x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y = c(1:length(x)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ubplot(3,1,1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em(k,h,'g'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ylabel('h_k','FontSize',14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xis([k(1) k(end) -1 2]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ubplot(3,1,2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em(k,x,'b'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ylabel('x_k','FontSize',14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xis([k(1) k(end) -1 2]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ubplot(3,1,3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em(k,y,'r'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xlabel('k','FontSize',14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ylabel('y_k','FontSize',14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xis([k(1) k(end) -1 3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8480" y="1341360"/>
            <a:ext cx="44575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191880"/>
            <a:ext cx="84960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Drawing systems in MATLAB with DrawFil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22240" y="936720"/>
            <a:ext cx="752472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urther reading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8720" y="2565360"/>
            <a:ext cx="5688000" cy="2669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. D. Lutovac, D. V. Tošić, B. L. Ev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ilter Design for Signal Processing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sing MATLAB and Math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ntice Hal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per Saddle  River, New Jersey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BN 0-201-36130-2, (c)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77080" y="2924280"/>
            <a:ext cx="1542960" cy="18856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042920" y="57340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http://kondor.etf.bg.ac.yu/~lutovac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What is a system?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signal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a physical quantity, or quality, which conveys inform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ystems take one or more signals as input, perform operations on the signals, and produce one or more signals as outpu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system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a group of related parts working together, or an ordered set of ideas, methods, or ways of working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finition of a syste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mplementation point-of-view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: a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syste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s an arrangement of physical components connected or related in such a manner as to form and/or act as an entire uni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gnal processing perspectiv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: a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syste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can be viewed as any process that results in the transformation of signals, in which systems act on signals in prescribed way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athematical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: a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syste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as a mapping of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nput signals onto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output signals; the mapping carries out a transformation on the input signals according to a set of rul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Basic definitions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Single-variable syste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SO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system) has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nly one input and only one outpu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Multivariable syste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IMO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system) has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ore than one input or more than one outpu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Input-output relationship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(external description) is an equation that describes the relation between the input and the output of a syste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Black box concept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: the knowledge of the internal structure of a system is unavailable; the only access to the system is by means of the input ports and the output por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Time respons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One-dimensional syste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: required for processing a signal that is a function of the single independent variab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e assume that the independent variable is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im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even in cases where the independent variable is a physical quantity other than tim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Time respons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s the output signal as a function of time, following the application of a set of prescribed input signals, under specified operating condi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28760" y="1685880"/>
            <a:ext cx="8286480" cy="34862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ontinuous-time syste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54864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Continuous-time system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: the input and output signals are continuous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iscrete-time syste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63640" y="548640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Discrete-time system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has discrete-time input and output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38120" y="1766880"/>
            <a:ext cx="82677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igital syste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discrete-time system is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digital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f it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perates on discrete-time signals whose amplitudes are quantiz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zation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maps each continuous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mplitude level into a numb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digital system employs digital hardwa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explicitly in the form of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ogic circuit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implicitly when the operations on the signals are executed by writing a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er program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22:06:30Z</dcterms:created>
  <dc:creator>Miroslav Lutovac and Dejan Tosic</dc:creator>
  <dc:description/>
  <dc:language>en-US</dc:language>
  <cp:lastModifiedBy>nn</cp:lastModifiedBy>
  <dcterms:modified xsi:type="dcterms:W3CDTF">2005-01-16T23:56:01Z</dcterms:modified>
  <cp:revision>135</cp:revision>
  <dc:subject>Analog and Digital  Filter Design</dc:subject>
  <dc:title>Review Systems</dc:title>
</cp:coreProperties>
</file>