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3EC0-BBE7-46C8-A4D1-4C9EB6F7F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5A27-A20C-4C6A-8449-FDE3411E3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18B8-8A27-4E31-A61B-FDC2BEBF9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4843-2F65-4053-AE4E-20B82F1C0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BA44-2997-40D4-9F8F-51FC734F8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48CB-8988-43AE-B71C-552F61AF9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636E-B339-4188-A37D-A847E956E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8F72-2E33-467A-8435-C83DA10E4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1813-9376-421C-BBCE-EBCFBB2E8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8CB4-C1CE-4269-B248-43C80D528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2BF8-EA6D-45CB-B3CC-91FA480A5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0F94-45A3-4F76-9378-53E9F98C9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7DD8C-FF2B-4B1E-BFA6-23BA080D45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DrawFilt</a:t>
            </a: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Miroslav Lutovac, Dejan Tosic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5450040" y="5391000"/>
          <a:ext cx="3514680" cy="113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50040" y="5391000"/>
                    <a:ext cx="3514680" cy="113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"/>
          <p:cNvGraphicFramePr/>
          <p:nvPr/>
        </p:nvGraphicFramePr>
        <p:xfrm>
          <a:off x="5965920" y="1844640"/>
          <a:ext cx="1342800" cy="1095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65920" y="1844640"/>
                    <a:ext cx="134280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Let’s draw input</a:t>
            </a: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1980720"/>
            <a:ext cx="4392720" cy="44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spcBef>
                <a:spcPts val="799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lick the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In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button</a:t>
            </a:r>
            <a:br>
              <a:rPr sz="3200"/>
            </a:b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591120" indent="-591120">
              <a:spcBef>
                <a:spcPts val="799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Point and click where </a:t>
            </a:r>
            <a:br>
              <a:rPr sz="3200"/>
            </a:b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input node should appear</a:t>
            </a:r>
            <a:br>
              <a:rPr sz="3200"/>
            </a:b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591120" indent="-591120">
              <a:spcBef>
                <a:spcPts val="799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New element appears on the schematic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067280" y="2349360"/>
            <a:ext cx="2305080" cy="358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435640" y="3429000"/>
          <a:ext cx="3591000" cy="1209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35640" y="3429000"/>
                    <a:ext cx="3591000" cy="12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"/>
          <p:cNvSpPr/>
          <p:nvPr/>
        </p:nvSpPr>
        <p:spPr>
          <a:xfrm>
            <a:off x="4572000" y="3429000"/>
            <a:ext cx="2305080" cy="289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72000" y="5445000"/>
            <a:ext cx="194328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Example RLC schematic</a:t>
            </a: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468360" y="1851120"/>
          <a:ext cx="1554120" cy="200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851120"/>
                    <a:ext cx="1554120" cy="200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"/>
          <p:cNvSpPr/>
          <p:nvPr/>
        </p:nvSpPr>
        <p:spPr>
          <a:xfrm>
            <a:off x="2666880" y="1844640"/>
            <a:ext cx="3810240" cy="936720"/>
          </a:xfrm>
          <a:prstGeom prst="wedgeRoundRectCallout">
            <a:avLst>
              <a:gd name="adj1" fmla="val -68375"/>
              <a:gd name="adj2" fmla="val 115930"/>
              <a:gd name="adj3" fmla="val 16667"/>
            </a:avLst>
          </a:prstGeom>
          <a:solidFill>
            <a:srgbClr val="ffffcc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lick the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NEW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button to start a new schema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4262400" y="3500280"/>
          <a:ext cx="3981600" cy="2781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62400" y="3500280"/>
                    <a:ext cx="3981600" cy="27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>
            <a:off x="250920" y="4941720"/>
            <a:ext cx="3673440" cy="1727280"/>
          </a:xfrm>
          <a:prstGeom prst="wedgeRoundRectCallout">
            <a:avLst>
              <a:gd name="adj1" fmla="val 131287"/>
              <a:gd name="adj2" fmla="val -72611"/>
              <a:gd name="adj3" fmla="val 16667"/>
            </a:avLst>
          </a:prstGeom>
          <a:solidFill>
            <a:srgbClr val="ffffcc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Draw the schematic; 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use the buttons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GRND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(V)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, and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6732720" y="2852640"/>
          <a:ext cx="2181240" cy="191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32720" y="2852640"/>
                    <a:ext cx="2181240" cy="19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324000" y="1809720"/>
          <a:ext cx="1180800" cy="1619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4000" y="1809720"/>
                    <a:ext cx="118080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Delete the OUT element</a:t>
            </a: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666880" y="1844640"/>
            <a:ext cx="3810240" cy="936720"/>
          </a:xfrm>
          <a:prstGeom prst="wedgeRoundRectCallout">
            <a:avLst>
              <a:gd name="adj1" fmla="val -79833"/>
              <a:gd name="adj2" fmla="val 18305"/>
              <a:gd name="adj3" fmla="val 16667"/>
            </a:avLst>
          </a:prstGeom>
          <a:solidFill>
            <a:srgbClr val="ffffcc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lick the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DELETE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button to delete an el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11280" y="3789360"/>
            <a:ext cx="4321080" cy="1368360"/>
          </a:xfrm>
          <a:prstGeom prst="wedgeRoundRectCallout">
            <a:avLst>
              <a:gd name="adj1" fmla="val 113263"/>
              <a:gd name="adj2" fmla="val -56263"/>
              <a:gd name="adj3" fmla="val 16667"/>
            </a:avLst>
          </a:prstGeom>
          <a:solidFill>
            <a:srgbClr val="ffffcc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lick near the node of the element you want to delete. The element appears in gre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397400" y="5608800"/>
          <a:ext cx="4638600" cy="1133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97400" y="5608800"/>
                    <a:ext cx="4638600" cy="113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108000" y="5734080"/>
            <a:ext cx="3024000" cy="936720"/>
          </a:xfrm>
          <a:prstGeom prst="wedgeRoundRectCallout">
            <a:avLst>
              <a:gd name="adj1" fmla="val 89578"/>
              <a:gd name="adj2" fmla="val 13560"/>
              <a:gd name="adj3" fmla="val 16667"/>
            </a:avLst>
          </a:prstGeom>
          <a:solidFill>
            <a:srgbClr val="ffffcc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lick the left mouse button to dele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5364000" y="4098960"/>
          <a:ext cx="3695760" cy="271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64000" y="4098960"/>
                    <a:ext cx="3695760" cy="271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6724800" y="2060640"/>
          <a:ext cx="2095200" cy="1466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24800" y="2060640"/>
                    <a:ext cx="2095200" cy="146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Edit C1 element</a:t>
            </a: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666880" y="1844640"/>
            <a:ext cx="3810240" cy="936720"/>
          </a:xfrm>
          <a:prstGeom prst="wedgeRoundRectCallout">
            <a:avLst>
              <a:gd name="adj1" fmla="val -81583"/>
              <a:gd name="adj2" fmla="val -18643"/>
              <a:gd name="adj3" fmla="val 16667"/>
            </a:avLst>
          </a:prstGeom>
          <a:solidFill>
            <a:srgbClr val="ffffcc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lick the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EDIT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button to change element prope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26920" y="3213000"/>
            <a:ext cx="4321440" cy="1368360"/>
          </a:xfrm>
          <a:prstGeom prst="wedgeRoundRectCallout">
            <a:avLst>
              <a:gd name="adj1" fmla="val 123069"/>
              <a:gd name="adj2" fmla="val -94777"/>
              <a:gd name="adj3" fmla="val 16667"/>
            </a:avLst>
          </a:prstGeom>
          <a:solidFill>
            <a:srgbClr val="ffffcc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lick near the node of the element you want to edit. 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The element appears in gre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95280" y="5661000"/>
            <a:ext cx="3024360" cy="936720"/>
          </a:xfrm>
          <a:prstGeom prst="wedgeRoundRectCallout">
            <a:avLst>
              <a:gd name="adj1" fmla="val 130893"/>
              <a:gd name="adj2" fmla="val 39662"/>
              <a:gd name="adj3" fmla="val 16667"/>
            </a:avLst>
          </a:prstGeom>
          <a:solidFill>
            <a:srgbClr val="ffffcc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Typ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\it C}_1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to change 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C1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66"/>
                </a:solidFill>
                <a:latin typeface="Courier New"/>
              </a:rPr>
              <a:t>C</a:t>
            </a:r>
            <a:r>
              <a:rPr b="0" lang="en-US" sz="2400" spc="-1" strike="noStrike" baseline="-25000">
                <a:solidFill>
                  <a:srgbClr val="000066"/>
                </a:solidFill>
                <a:latin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324000" y="1874880"/>
          <a:ext cx="933480" cy="1266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4000" y="1874880"/>
                    <a:ext cx="933480" cy="12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>
            <a:off x="755640" y="4797360"/>
            <a:ext cx="3384720" cy="576360"/>
          </a:xfrm>
          <a:prstGeom prst="wedgeRoundRectCallout">
            <a:avLst>
              <a:gd name="adj1" fmla="val 83115"/>
              <a:gd name="adj2" fmla="val 13634"/>
              <a:gd name="adj3" fmla="val 16667"/>
            </a:avLst>
          </a:prstGeom>
          <a:solidFill>
            <a:srgbClr val="ffffcc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Change the color to ‘r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924360" y="1628640"/>
            <a:ext cx="4057560" cy="2581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9" name=""/>
          <p:cNvGraphicFramePr/>
          <p:nvPr/>
        </p:nvGraphicFramePr>
        <p:xfrm>
          <a:off x="8028000" y="4200480"/>
          <a:ext cx="942840" cy="2657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028000" y="4200480"/>
                    <a:ext cx="942840" cy="26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109440" y="476280"/>
          <a:ext cx="933480" cy="2647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9440" y="476280"/>
                    <a:ext cx="933480" cy="264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31640" y="609120"/>
            <a:ext cx="67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Save the schematic to file</a:t>
            </a: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3429000"/>
            <a:ext cx="3817800" cy="936720"/>
          </a:xfrm>
          <a:prstGeom prst="wedgeRoundRectCallout">
            <a:avLst>
              <a:gd name="adj1" fmla="val -31703"/>
              <a:gd name="adj2" fmla="val -100509"/>
              <a:gd name="adj3" fmla="val 16667"/>
            </a:avLst>
          </a:prstGeom>
          <a:solidFill>
            <a:srgbClr val="ffffcc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lick the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save as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button to save schematic to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50920" y="5157720"/>
            <a:ext cx="4321080" cy="647640"/>
          </a:xfrm>
          <a:prstGeom prst="wedgeRoundRectCallout">
            <a:avLst>
              <a:gd name="adj1" fmla="val 59222"/>
              <a:gd name="adj2" fmla="val -247305"/>
              <a:gd name="adj3" fmla="val 16667"/>
            </a:avLst>
          </a:prstGeom>
          <a:solidFill>
            <a:srgbClr val="ffffcc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Type the name of the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700360" y="5921280"/>
            <a:ext cx="4824360" cy="936720"/>
          </a:xfrm>
          <a:prstGeom prst="wedgeRoundRectCallout">
            <a:avLst>
              <a:gd name="adj1" fmla="val 62865"/>
              <a:gd name="adj2" fmla="val -19324"/>
              <a:gd name="adj3" fmla="val 16667"/>
            </a:avLst>
          </a:prstGeom>
          <a:solidFill>
            <a:srgbClr val="ffffcc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lick the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OPEN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button to 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open existing schematic from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08000" y="1916280"/>
            <a:ext cx="5410080" cy="47815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Times New Roman"/>
              </a:rPr>
              <a:t>Combine schematic with other plots</a:t>
            </a:r>
            <a:endParaRPr b="0" lang="en-US" sz="40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219640" y="2349360"/>
            <a:ext cx="3816360" cy="863640"/>
          </a:xfrm>
          <a:prstGeom prst="wedgeRectCallout">
            <a:avLst>
              <a:gd name="adj1" fmla="val -53245"/>
              <a:gd name="adj2" fmla="val 119300"/>
            </a:avLst>
          </a:prstGeom>
          <a:solidFill>
            <a:srgbClr val="dfffff"/>
          </a:solidFill>
          <a:ln w="38160">
            <a:solidFill>
              <a:srgbClr val="00008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Courier New"/>
              </a:rPr>
              <a:t>subplot(2,1,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Courier New"/>
              </a:rPr>
              <a:t>dfirtdfa(0,0,4,5,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Further reading</a:t>
            </a: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28720" y="2565360"/>
            <a:ext cx="5688000" cy="2669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. D. Lutovac, D. V. Tošić, B. L. Ev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Filter Design for Signal Processing </a:t>
            </a:r>
            <a:br>
              <a:rPr sz="2400"/>
            </a:b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Using MATLAB and Mathema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rentice Hall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Upper Saddle  River, New Jersey 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SBN 0-201-36130-2, (c)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877080" y="2924280"/>
            <a:ext cx="1542960" cy="188568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042920" y="5734080"/>
            <a:ext cx="53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http://kondor.etf.bg.ac.yu/~lutovac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What is DrawFilt?</a:t>
            </a: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DrawFilt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is a MATLAB toolbox for creating schematics of filters and system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By mouse point-and-click you draw schematics in MATLAB figure window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chematics are saved as M-files that can be called as standalone MATLAB function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Use these functions in your MATLAB scripts to illustrate or document the filter realization on which you work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How to install DrawFilt?</a:t>
            </a: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DrawFilt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is distributed in compressed form as the file DF28.zip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Decompress DF28.zip with path names; </a:t>
            </a:r>
            <a:br>
              <a:rPr sz="3200"/>
            </a:b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or example, if you decompress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DrawFilt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in the folder C:\afd, you obtain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800000"/>
                </a:solidFill>
                <a:latin typeface="Courier New"/>
              </a:rPr>
              <a:t>C:\afd\DrawFil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800000"/>
                </a:solidFill>
                <a:latin typeface="Courier New"/>
              </a:rPr>
              <a:t>C:\afd\DrawFilt\album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Add DrawFilt to MATLAB path</a:t>
            </a: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DrawFilt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directory (folder) has to be appended to the MATLAB path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or example, add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DrawFilt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to the MATLAB path with the command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800000"/>
                </a:solidFill>
                <a:latin typeface="Courier New"/>
              </a:rPr>
              <a:t>path(path,'C:\afd\DrawFilt')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179280" y="2662200"/>
          <a:ext cx="8669520" cy="230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2662200"/>
                    <a:ext cx="8669520" cy="23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Change to the working folder</a:t>
            </a: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780000" y="3174840"/>
            <a:ext cx="4392360" cy="758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1452600" y="2355840"/>
          <a:ext cx="6215040" cy="438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52600" y="2355840"/>
                    <a:ext cx="6215040" cy="438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Run DrawFilt</a:t>
            </a: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413160" y="3809880"/>
            <a:ext cx="27432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37960" y="42840"/>
            <a:ext cx="8668080" cy="677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Let’s draw resistor</a:t>
            </a: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8920" y="1980720"/>
            <a:ext cx="482436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lick the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button 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Point and click where </a:t>
            </a:r>
            <a:br>
              <a:rPr sz="3200"/>
            </a:b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irst node should appear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Point and click where </a:t>
            </a:r>
            <a:br>
              <a:rPr sz="3200"/>
            </a:b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cond node should appear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You can draw only </a:t>
            </a:r>
            <a:br>
              <a:rPr sz="3200"/>
            </a:b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horizontal or vertical element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5537160" y="1700280"/>
          <a:ext cx="3571920" cy="110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37160" y="1700280"/>
                    <a:ext cx="357192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3995640" y="2276640"/>
            <a:ext cx="1656000" cy="360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5508720" y="3619440"/>
            <a:ext cx="3571920" cy="1104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5445000" y="5459400"/>
          <a:ext cx="3591000" cy="1209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445000" y="5459400"/>
                    <a:ext cx="3591000" cy="12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/>
          <p:nvPr/>
        </p:nvSpPr>
        <p:spPr>
          <a:xfrm>
            <a:off x="4932360" y="3213000"/>
            <a:ext cx="2087640" cy="576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2340000" y="3933720"/>
            <a:ext cx="547200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3564000" y="1844640"/>
          <a:ext cx="5514840" cy="117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64000" y="1844640"/>
                    <a:ext cx="5514840" cy="117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3635280" y="3716280"/>
          <a:ext cx="5372280" cy="1276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35280" y="3716280"/>
                    <a:ext cx="5372280" cy="12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3835440" y="5573880"/>
          <a:ext cx="5200560" cy="1095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35440" y="5573880"/>
                    <a:ext cx="5200560" cy="109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Prompts tell you what to do</a:t>
            </a: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9280" y="2268000"/>
            <a:ext cx="3168720" cy="41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lick a button</a:t>
            </a:r>
            <a:br>
              <a:rPr sz="3200"/>
            </a:b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RESISTOR 1st node</a:t>
            </a:r>
            <a:br>
              <a:rPr sz="3200"/>
            </a:b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RESISTOR 2nd node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76720" y="2637000"/>
            <a:ext cx="410364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43280" y="3716280"/>
            <a:ext cx="4465440" cy="793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987640" y="5300640"/>
            <a:ext cx="4464000" cy="1081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8T19:56:34Z</dcterms:created>
  <dc:creator>Miroslav Lutovac, Dejan Tosic</dc:creator>
  <dc:description/>
  <dc:language>en-US</dc:language>
  <cp:lastModifiedBy>nn</cp:lastModifiedBy>
  <dcterms:modified xsi:type="dcterms:W3CDTF">2005-03-05T03:18:54Z</dcterms:modified>
  <cp:revision>53</cp:revision>
  <dc:subject/>
  <dc:title>DrawFilt</dc:title>
</cp:coreProperties>
</file>