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06A-E281-42F0-B575-3AA80027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0F3-547C-46D7-AB74-88D63A16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1B1-4D09-4D7A-AF78-D7319561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843-3DB9-43F9-B68E-955307F5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1E8-51E0-4718-B7B1-552FD51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287-83ED-40F2-B4F1-0AF60B5B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D80-2183-4F0C-87CE-9FB983C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B08-D915-4CC8-9E10-31CDE933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B21-578C-4105-AD29-19264C09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B2F-66EC-4E50-A782-FA4CB39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491-8889-4C9B-A83D-2F5B27B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C44-4F22-4E37-878D-32EC6C7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E0C9-9617-4BFF-A9D7-985BAFD7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F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tenuation plot: passband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139068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2514600"/>
            <a:ext cx="2057400" cy="1371600"/>
          </a:xfrm>
          <a:prstGeom prst="wedgeRectCallout">
            <a:avLst>
              <a:gd name="adj1" fmla="val 94907"/>
              <a:gd name="adj2" fmla="val 236689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hang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10080"/>
            <a:ext cx="11430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47840" y="2038320"/>
            <a:ext cx="4648320" cy="443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3733920"/>
            <a:ext cx="1905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438280"/>
            <a:ext cx="9903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design: Click D1, Click Pas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314360"/>
            <a:ext cx="6553440" cy="539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61722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848360" y="548640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600200"/>
            <a:ext cx="762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743200"/>
            <a:ext cx="761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648320"/>
            <a:ext cx="2971800" cy="914400"/>
          </a:xfrm>
          <a:prstGeom prst="wedgeRoundRectCallout">
            <a:avLst>
              <a:gd name="adj1" fmla="val 57532"/>
              <a:gd name="adj2" fmla="val 148787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zoom the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Zoom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zooms attenuation plo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39068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4876920"/>
            <a:ext cx="2971800" cy="609480"/>
          </a:xfrm>
          <a:prstGeom prst="wedgeRoundRectCallout">
            <a:avLst>
              <a:gd name="adj1" fmla="val 57532"/>
              <a:gd name="adj2" fmla="val 210675"/>
              <a:gd name="adj3" fmla="val 16667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frequency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343400"/>
            <a:ext cx="2666880" cy="914400"/>
          </a:xfrm>
          <a:prstGeom prst="wedgeRoundRectCallout">
            <a:avLst>
              <a:gd name="adj1" fmla="val 69819"/>
              <a:gd name="adj2" fmla="val 157120"/>
              <a:gd name="adj3" fmla="val 16667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number of plo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oose the AFDesign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71680" y="2638440"/>
          <a:ext cx="620064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638440"/>
                    <a:ext cx="6200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11680" y="2819520"/>
            <a:ext cx="350028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AF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86080" y="2057400"/>
          <a:ext cx="250524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7400"/>
                    <a:ext cx="250524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895480" y="44956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ANALOG 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61960" y="1971720"/>
          <a:ext cx="622008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971720"/>
                    <a:ext cx="62200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952880" y="4038480"/>
            <a:ext cx="23623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View example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876920"/>
            <a:ext cx="2206800" cy="1527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AFDesign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3880" y="2666880"/>
            <a:ext cx="228600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3809880" cy="1828800"/>
          </a:xfrm>
          <a:prstGeom prst="wedgeRoundRectCallout">
            <a:avLst>
              <a:gd name="adj1" fmla="val -135583"/>
              <a:gd name="adj2" fmla="val 148351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desig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 design butt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alternative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MATLAB Command window shows the design summary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1749600"/>
          <a:ext cx="5475240" cy="48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49600"/>
                    <a:ext cx="5475240" cy="48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umD, denD are transfer function numerator and denomina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48040"/>
          <a:ext cx="8218440" cy="41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8040"/>
                    <a:ext cx="8218440" cy="41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205740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962520"/>
            <a:ext cx="1523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752480"/>
            <a:ext cx="54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variable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further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tenuation plo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fter you click design button D1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8280" y="3884760"/>
            <a:ext cx="4341960" cy="987120"/>
          </a:xfrm>
          <a:prstGeom prst="wedgeRoundRectCallout">
            <a:avLst>
              <a:gd name="adj1" fmla="val 61518"/>
              <a:gd name="adj2" fmla="val 125402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ee passband, transition, stop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Dejan Tosic</dc:creator>
  <dc:description/>
  <dc:language>en-US</dc:language>
  <cp:lastModifiedBy>Dejan Tosic</cp:lastModifiedBy>
  <dcterms:modified xsi:type="dcterms:W3CDTF">2005-02-28T22:27:14Z</dcterms:modified>
  <cp:revision>27</cp:revision>
  <dc:subject/>
  <dc:title>AFDesign</dc:title>
</cp:coreProperties>
</file>