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23F-02C0-40BA-928A-B6FA57327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DFC-DAF0-4628-AB75-5CB06DFF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2A23-5A1C-4818-8BE7-3533F77B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1DEA-CC40-48AA-8EF4-B453C71DC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F61-84F6-4DCB-9CB3-BBE6F0BE0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FED-DCAD-4BA0-A41F-017E4BFBC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5D5-41A0-4EAD-B3DE-42118621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371-773E-4310-921B-42C2BB26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516C-75C6-4071-B3E0-3D595D7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25D-2E92-4F1B-B9DC-218AB0D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A6F0-A3C2-4BEC-B4EB-08B342F0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A8E-A89E-47A6-83A9-0A3F42CE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30EF-2F1E-42B6-AE89-5999B8D7DA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CONTEXT DEPENDENT CLASSIF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3683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ember:  Bayes r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: The class to which a feature vect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ongs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ts own valu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values of the other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-28548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n existing relation among the various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125244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60680" y="1916280"/>
                <a:ext cx="29430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D34-1A53-4F2C-92EF-B15921B24646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093320" y="59976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hannel Equ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387520" y="2255760"/>
                <a:ext cx="3745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411280" y="2997360"/>
                <a:ext cx="3203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433600" y="3789360"/>
                <a:ext cx="194328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I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r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00240" y="470376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 equalizer  </m:t>
                    </m:r>
                    <m:r>
                      <m:t xml:space="preserve">→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I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035160" y="4802040"/>
            <a:ext cx="1224000" cy="35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167-4D7E-4017-88FE-838DBBBD8C95}" type="slidenum">
              <a:t>10</a:t>
            </a:fld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440" y="312480"/>
            <a:ext cx="657396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ree input symbols are involve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k-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2124000" y="1494000"/>
                <a:ext cx="2952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124000" y="2382840"/>
                <a:ext cx="2376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6547-8774-4471-B655-6D47EE1A361C}" type="slidenum">
              <a:t>11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763640" y="3665520"/>
            <a:ext cx="5904000" cy="3141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556000" y="44280"/>
          <a:ext cx="3784320" cy="3557520"/>
        </p:xfrm>
        <a:graphic>
          <a:graphicData uri="http://schemas.openxmlformats.org/drawingml/2006/table">
            <a:tbl>
              <a:tblPr/>
              <a:tblGrid>
                <a:gridCol w="630000"/>
                <a:gridCol w="630360"/>
                <a:gridCol w="631800"/>
                <a:gridCol w="630360"/>
                <a:gridCol w="630000"/>
                <a:gridCol w="631800"/>
              </a:tblGrid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1" i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l-GR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961E-3040-439E-BD3B-D665ED83D51A}" type="slidenum">
              <a:t>12</a:t>
            </a:fld>
          </a:p>
        </p:txBody>
      </p:sp>
    </p:spTree>
  </p:cSld>
  <p:transition>
    <p:random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t 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itions are a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6560" y="1197000"/>
            <a:ext cx="6625440" cy="4392000"/>
            <a:chOff x="1906560" y="1197000"/>
            <a:chExt cx="6625440" cy="4392000"/>
          </a:xfrm>
        </p:grpSpPr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06560" y="1197000"/>
                  <a:ext cx="287604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0" name=""/>
                <p:cNvSpPr txBox="1"/>
                <p:nvPr/>
              </p:nvSpPr>
              <p:spPr>
                <a:xfrm>
                  <a:off x="2030760" y="2773080"/>
                  <a:ext cx="2078640" cy="53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,</m:t>
                      </m:r>
                      <m:sSub>
                        <m:e>
                          <m:r>
                            <m:t xml:space="preserve">I</m:t>
                          </m:r>
                        </m:e>
                        <m:sub>
                          <m:r>
                            <m:t xml:space="preserve">k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b>
                      </m:sSub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57000" y="2333160"/>
                  <a:ext cx="874080" cy="354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2" name=""/>
                <p:cNvSpPr txBox="1"/>
                <p:nvPr/>
              </p:nvSpPr>
              <p:spPr>
                <a:xfrm>
                  <a:off x="5157000" y="3389400"/>
                  <a:ext cx="874080" cy="32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0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93" name=""/>
            <p:cNvSpPr/>
            <p:nvPr/>
          </p:nvSpPr>
          <p:spPr>
            <a:xfrm flipV="1">
              <a:off x="4404240" y="25682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4240" y="3039840"/>
              <a:ext cx="548640" cy="32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2124720" y="4450680"/>
                  <a:ext cx="471240" cy="470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3486240" y="3976920"/>
                  <a:ext cx="418680" cy="47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5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3362760" y="5035320"/>
                  <a:ext cx="410760" cy="46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8" name=""/>
            <p:cNvSpPr/>
            <p:nvPr/>
          </p:nvSpPr>
          <p:spPr>
            <a:xfrm flipV="1">
              <a:off x="2758680" y="4434480"/>
              <a:ext cx="501120" cy="24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58680" y="4906080"/>
              <a:ext cx="501120" cy="24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4759920" y="4564440"/>
                  <a:ext cx="1521720" cy="50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|</m:t>
                      </m:r>
                      <m:sSub>
                        <m:e>
                          <m:r>
                            <m:t xml:space="preserve">ω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7136640" y="4188600"/>
                  <a:ext cx="1312200" cy="37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136640" y="5245200"/>
                  <a:ext cx="1395360" cy="34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 otherwise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3" name=""/>
            <p:cNvSpPr/>
            <p:nvPr/>
          </p:nvSpPr>
          <p:spPr>
            <a:xfrm flipV="1">
              <a:off x="6384600" y="4424760"/>
              <a:ext cx="573120" cy="30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84600" y="4895640"/>
              <a:ext cx="573120" cy="3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9FB-4F28-4BA9-98FC-620ECCB490D6}" type="slidenum">
              <a:t>13</a:t>
            </a:fld>
          </a:p>
        </p:txBody>
      </p:sp>
    </p:spTree>
  </p:cSld>
  <p:transition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2" marL="10285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is context,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re related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Given the current state and the transmitted bit,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, we determine the next state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The probabilit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 the state dependence mode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ransi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or all allowable trans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081160" y="3873600"/>
                <a:ext cx="281484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0920" y="4653000"/>
                <a:ext cx="18003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902040" y="4508640"/>
                <a:ext cx="342756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D6EF-E039-479E-8AED-01013AFBE0CF}" type="slidenum">
              <a:t>14</a:t>
            </a:fld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ise white and Gauss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hannel impulse response    estimate to be avail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tates are determined by the values of the binary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1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,…,I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k-n+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will b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5508720" y="981000"/>
                <a:ext cx="3394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08000" y="2035080"/>
                <a:ext cx="3311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≈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016000" y="2720880"/>
                <a:ext cx="49482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3FA2-928B-43C6-9A1F-1891B2EEF522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5800" y="671400"/>
            <a:ext cx="724680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idden Markov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hannel equalization problem, the states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“learned” during the training peri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w we shall assume that stat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re no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only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err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train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lica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eech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Music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C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lind Equ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ioinformatic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84A1-E9B7-436B-B1C2-9173D81DF072}" type="slidenum">
              <a:t>16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267920"/>
            <a:ext cx="7437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 HMM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finite state automat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at generates the observation sequence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assume that: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observation sequence is produced as a result of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uccessive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transitions between states, upon arrival at a stat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771640" y="3457440"/>
            <a:ext cx="3600720" cy="184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B01A-DAEB-4E4A-96E8-D282EEA248B0}" type="slidenum">
              <a:t>17</a:t>
            </a:fld>
          </a:p>
        </p:txBody>
      </p:sp>
    </p:spTree>
  </p:cSld>
  <p:transition>
    <p:random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type of modeling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nstationary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ochastic proces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undergo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stinc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nsitions among a set of different stationary proce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7056360" cy="411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A1E0-7136-4155-A587-65D4B85E8E14}" type="slidenum">
              <a:t>18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 of HM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ingle coin case: Assume a coin that is tossed behind a curtain. All it is available to us is the outcome, i.e.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ssume the two states to b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n example of a random experiment with observable states. The model is characterized by a single parameter, e.g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t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1)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 = 1 –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771640" y="4221000"/>
            <a:ext cx="4753080" cy="257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3F73-12D0-4CA9-BDA3-200BE2DC2895}" type="slidenum">
              <a:t>19</a:t>
            </a:fld>
          </a:p>
        </p:txBody>
      </p:sp>
    </p:spTree>
  </p:cSld>
  <p:transition>
    <p:random/>
  </p:transition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950760"/>
            <a:ext cx="724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interrelatio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ma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classification to be performed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ll avail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ve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us, we will assume that the training vector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occur in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e after the oth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we will refer to them as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90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1103400" y="2894040"/>
                <a:ext cx="17272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65A3-801C-4C64-BF61-674AAC63E364}" type="slidenum">
              <a:t>2</a:t>
            </a:fld>
          </a:p>
        </p:txBody>
      </p:sp>
    </p:spTree>
  </p:cSld>
  <p:transition>
    <p:random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366480"/>
            <a:ext cx="777384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wo-coins case: For this case, we observe a sequence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have no access to know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hich coin was tos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dentify one state for each coin. This is an example whe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tates are not observa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mitted from either state. The model depends 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|1)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|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411280" y="3473280"/>
            <a:ext cx="5400720" cy="298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74D-623E-4DF7-A22F-724CD11C1E60}" type="slidenum">
              <a:t>20</a:t>
            </a:fld>
          </a:p>
        </p:txBody>
      </p:sp>
    </p:spTree>
  </p:cSld>
  <p:transition>
    <p:random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440" y="366480"/>
            <a:ext cx="8134200" cy="59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hree-coins case example is shown below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te that in all previous examples, specifying the model is equivalent to kn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bability of each observa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,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be emitted from each sta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just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ransition probabilities among state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360" y="765000"/>
            <a:ext cx="3743640" cy="360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3E35-3D12-43ED-9D73-3250B62DB82D}" type="slidenum">
              <a:t>21</a:t>
            </a:fld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1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43760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general HMM model is characterized by the following set of paramet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Κ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umber of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835280" y="3573360"/>
                <a:ext cx="25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924200" y="2852640"/>
                <a:ext cx="260496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|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922400" y="4414680"/>
                <a:ext cx="65246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nitial state probabilities,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042920" y="2205000"/>
            <a:ext cx="78501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2133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1989000"/>
            <a:ext cx="770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76360" y="2133720"/>
            <a:ext cx="71280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475-F189-4333-AB1D-4848FE0A8965}" type="slidenum">
              <a:t>22</a:t>
            </a:fld>
          </a:p>
        </p:txBody>
      </p:sp>
    </p:spTree>
  </p:cSld>
  <p:transition>
    <p:random/>
  </p:transition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31520" y="76176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is the problem in Pattern Recogni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ference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ach described by an HMM, find the paramete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or each of the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training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n unknown pattern, find to which one of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known patter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ches be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(recognition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766880" y="1351080"/>
                <a:ext cx="321300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611-6C61-4806-BD09-189777F3DF5F}" type="slidenum">
              <a:t>23</a:t>
            </a:fld>
          </a:p>
        </p:txBody>
      </p:sp>
    </p:spTree>
  </p:cSld>
  <p:transition>
    <p:random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1520" y="188640"/>
            <a:ext cx="71038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gnition:  Any path metho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 to be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sequence of observa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observations to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issio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pon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riv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 successive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cide in favor of the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from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vailable) according to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ayes ru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quiprobable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atter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184560" y="3889440"/>
                <a:ext cx="27734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186000" y="5516640"/>
                <a:ext cx="277344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S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546D-444F-44C3-B830-AADA0A1407A3}" type="slidenum">
              <a:t>24</a:t>
            </a:fld>
          </a:p>
        </p:txBody>
      </p:sp>
    </p:spTree>
  </p:cSld>
  <p:transition>
    <p:random/>
  </p:transition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31880" y="549360"/>
            <a:ext cx="739152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mode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re is more than one possible sets of successive state transition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ach with probabi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efficient computation of the above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898720" y="1871640"/>
                <a:ext cx="280836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700360" y="4508640"/>
                <a:ext cx="38876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00360" y="5157720"/>
                <a:ext cx="4176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  <m:sup/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2916360" y="5013360"/>
            <a:ext cx="1224000" cy="93672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86080" y="5072040"/>
            <a:ext cx="2808360" cy="719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22560" y="6130800"/>
            <a:ext cx="11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st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7560" y="5989680"/>
            <a:ext cx="185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cal a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537000" y="602100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586480" y="5876640"/>
            <a:ext cx="0" cy="2142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1600" y="1197000"/>
                <a:ext cx="114300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FFB-5DFD-485C-903A-73A28B62F69D}" type="slidenum">
              <a:t>25</a:t>
            </a:fld>
          </a:p>
        </p:txBody>
      </p:sp>
    </p:spTree>
  </p:cSld>
  <p:transition>
    <p:random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440" y="169992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124000" y="5445000"/>
                <a:ext cx="2232000" cy="9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4681440" y="5445000"/>
            <a:ext cx="212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ute this for eac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446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CC67-CDD9-44EB-A80C-2EACBAF7C02E}" type="slidenum">
              <a:t>26</a:t>
            </a:fld>
          </a:p>
        </p:txBody>
      </p:sp>
    </p:spTree>
  </p:cSld>
  <p:transition>
    <p:random/>
  </p:transition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440" y="887040"/>
            <a:ext cx="734220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more quantit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755800" y="2111400"/>
                <a:ext cx="46371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/>
                          <m:e>
                            <m:r>
                              <m:t xml:space="preserve">β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770200" y="3695760"/>
                <a:ext cx="33145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γ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2D59-4F56-45F8-BC8D-54AA8CFDEC12}" type="slidenum">
              <a:t>27</a:t>
            </a:fld>
          </a:p>
        </p:txBody>
      </p:sp>
    </p:spTree>
  </p:cSld>
  <p:transition>
    <p:random/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iven a training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to belong to the specific mode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estimate the unknown parameter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so that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outpu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odel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o be max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 ML estimation problem with missing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908000" y="2925720"/>
                <a:ext cx="2232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r>
                          <m:t xml:space="preserve">α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Ν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45E-50AA-4EA7-B50A-02F3EE200688}" type="slidenum">
              <a:t>28</a:t>
            </a:fld>
          </a:p>
        </p:txBody>
      </p:sp>
    </p:spTree>
  </p:cSld>
  <p:transition>
    <p:random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7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2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440" y="764640"/>
            <a:ext cx="7342200" cy="541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ption:  Data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scre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584360" y="1341360"/>
                <a:ext cx="4103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r</m:t>
                        </m:r>
                      </m:e>
                    </m:d>
                    <m:r>
                      <m:t xml:space="preserve">⇒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49560" y="2925720"/>
                <a:ext cx="5997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|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38320" y="4187880"/>
                <a:ext cx="307188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β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C65-2A1A-4ABD-8611-A24CC7226996}" type="slidenum">
              <a:t>29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24680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ntext Dependent Bayesian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a sequence of classes, that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re a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o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the Bayesian rule can equivalently be sta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arkov Chain Models (for class dependen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24000" y="952560"/>
                <a:ext cx="22320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124000" y="1623960"/>
                <a:ext cx="2016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992240" y="2262240"/>
                <a:ext cx="384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24000" y="2655720"/>
                <a:ext cx="23050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628640" y="4672080"/>
                <a:ext cx="6318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1560600" y="5967360"/>
                <a:ext cx="487044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D390-F234-4C7D-95DE-4600D32357CA}" type="slidenum">
              <a:t>3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lgorith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itial conditions for all the unknown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1:  From the current estimates of the model paramete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new mod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870200" y="1112760"/>
                <a:ext cx="2701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mpute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054160" y="2513160"/>
                <a:ext cx="2441520" cy="14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49840" y="2833560"/>
                <a:ext cx="36273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 of transition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 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transitions 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rom </m:t>
                            </m:r>
                            <m:r>
                              <m:t xml:space="preserve">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090880" y="4078440"/>
                <a:ext cx="2873160" cy="16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bar>
                      <m:barPr>
                        <m:pos m:val="bot"/>
                      </m:barPr>
                      <m:e>
                        <m:sSub>
                          <m:e/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ba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→</m:t>
                            </m:r>
                            <m:r>
                              <m:t xml:space="preserve">r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γ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219640" y="4475160"/>
                <a:ext cx="28814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t state </m:t>
                            </m:r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 of being at state </m:t>
                            </m:r>
                            <m:r>
                              <m:t xml:space="preserve">i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772080" y="5950080"/>
                <a:ext cx="16952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P</m:t>
                        </m:r>
                      </m:e>
                    </m:ba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7C56-88EE-471A-ABC6-69DF023A4B91}" type="slidenum">
              <a:t>30</a:t>
            </a:fld>
          </a:p>
        </p:txBody>
      </p:sp>
    </p:spTree>
  </p:cSld>
  <p:transition>
    <p:random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85440" y="923400"/>
            <a:ext cx="7535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ep 3:  Comput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o to step 2.  Otherwise sto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cc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ach iter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model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nverge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a maximum (local or global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lgorithm is an implementation of the EM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38560" y="939960"/>
                <a:ext cx="38894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If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|</m:t>
                        </m:r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ε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S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2411280" y="2976480"/>
                <a:ext cx="23767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S</m:t>
                        </m:r>
                      </m:e>
                    </m:ba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6FB-106E-4357-8681-850D30607EB4}" type="slidenum">
              <a:t>31</a:t>
            </a:fld>
          </a:p>
        </p:txBody>
      </p:sp>
    </p:spTree>
  </p:cSld>
  <p:transition>
    <p:random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5" dur="500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rememb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stically mutually independen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df in one class independent of the others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197000" y="620640"/>
                <a:ext cx="418932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1189080" y="2863800"/>
                <a:ext cx="388764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1547640" y="4483080"/>
                <a:ext cx="365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48080" y="5661000"/>
                <a:ext cx="303984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CE2-42A5-4D84-8E65-15CBA017A92C}" type="slidenum">
              <a:t>4</a:t>
            </a:fld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440" y="-243360"/>
            <a:ext cx="705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the above, the Bayes rule is readily seen to be equivalent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, it rests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nd the above maximum in brute-force task we need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Ν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s!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16000" y="1197000"/>
                <a:ext cx="41054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&gt;&lt;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258920" y="3357720"/>
                <a:ext cx="4176720" cy="15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030-16EB-483B-8CF5-2C0AA8693DC5}" type="slidenum">
              <a:t>5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Viterbi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274760"/>
            <a:ext cx="8064360" cy="474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B44-959B-4EF4-A898-9EB135303639}" type="slidenum">
              <a:t>6</a:t>
            </a:fld>
          </a:p>
        </p:txBody>
      </p:sp>
    </p:spTree>
  </p:cSld>
  <p:transition>
    <p:random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31520" y="4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ea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rresponds to one path through the trellis diagram.  One of them is the optimum (e.g., black).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classes along the optimal path determine the classes to whic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re assign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each transition corresponds a cost.  For our cas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206800" y="2637000"/>
                <a:ext cx="292860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109960" y="3825720"/>
                <a:ext cx="331308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200320" y="4894200"/>
                <a:ext cx="4340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8491-F95E-44EA-BA46-B32C5512F28D}" type="slidenum">
              <a:t>7</a:t>
            </a:fld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31520" y="314280"/>
            <a:ext cx="7777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quivale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cost up to a no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k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233440" y="1177920"/>
                <a:ext cx="3814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ln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nary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403360" y="2475000"/>
                <a:ext cx="3400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556000" y="4059360"/>
                <a:ext cx="331128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8F3B-E4A8-43C4-99D2-CAC945DBF6D8}" type="slidenum">
              <a:t>8</a:t>
            </a:fld>
          </a:p>
        </p:txBody>
      </p:sp>
    </p:spTree>
  </p:cSld>
  <p:transition>
    <p:random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5440" y="836280"/>
            <a:ext cx="686268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llman’s princi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ow st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path terminates 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it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855800" y="1413000"/>
                <a:ext cx="54324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77880" y="2708280"/>
                <a:ext cx="19544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5508720" y="3573360"/>
                <a:ext cx="79200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  <m:sup/>
                    </m:sSubSup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1684440" y="4292640"/>
                <a:ext cx="3830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</m:lim>
                    </m:limLow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D0F-3033-4ECF-83CD-E230BEBC9DAB}" type="slidenum">
              <a:t>9</a:t>
            </a:fld>
          </a:p>
        </p:txBody>
      </p:sp>
    </p:spTree>
  </p:cSld>
  <p:transition>
    <p:random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8-31T07:21:24Z</dcterms:modified>
  <cp:revision>601</cp:revision>
  <dc:subject/>
  <dc:title>PowerPoint Presentation</dc:title>
</cp:coreProperties>
</file>