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1C2-C069-4106-9CC3-12F779B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BAD4-FC2E-4A35-B996-7DE34273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A6A-7184-48CD-8130-412113784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C5F4-CEAF-45E2-86E9-3B042E4A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B18-483C-43A2-8B32-7C0877CB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B58-F778-41BC-BCAA-E267EE224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E2E-E72C-4637-B600-C8CAD675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CBBC-C9D1-4B9B-BDC6-35C71BAF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7602-8F11-46F5-9B97-C61923E93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3CAA-7CC1-464B-8858-DF906F2B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4A86-15A3-4A97-8FF3-7BAEF5AB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AB3-362C-4256-B66D-D14A0C6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447C-A762-40AB-8B04-46F646F10F9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725040"/>
            <a:ext cx="79185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optimum” numb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 the “best”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a three-fold disadvant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High computational dema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w 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error estimat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053080" y="401760"/>
            <a:ext cx="443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FEATURE SE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3EBA-DC15-4D31-9E29-AAF74A5C25BD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440" y="-243000"/>
            <a:ext cx="753588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cision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…,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fro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able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=[-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A random variabl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variance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i="1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(0.23)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Ν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easurements are obtained giving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significance level is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br>
              <a:rPr sz="2200"/>
            </a:b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the hypothes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908000" y="3284640"/>
                <a:ext cx="251964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accep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f   </m:t>
                        </m:r>
                        <m:r>
                          <m:t xml:space="preserve">q</m:t>
                        </m:r>
                        <m:r>
                          <m:t xml:space="preserve">∈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D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reject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476360" y="4776840"/>
                <a:ext cx="93672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547640" y="5878440"/>
                <a:ext cx="183528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μ</m:t>
                        </m:r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979640" y="1701720"/>
            <a:ext cx="4392720" cy="144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31920" y="1701720"/>
            <a:ext cx="123408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C07D-4882-4A8E-B2F7-A04BBF3EECA3}" type="slidenum">
              <a:t>10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28728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0" lang="el-GR" sz="2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able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the values with acceptance intervals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i="1" lang="el-GR" sz="2200" spc="-1" strike="noStrike" baseline="-25000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norma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851280" y="108000"/>
                <a:ext cx="108108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76360" y="3645000"/>
                <a:ext cx="4464000" cy="26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3</m:t>
                                    </m:r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7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  <m:r>
                              <m:t xml:space="preserve">&lt;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ob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&lt;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&lt;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63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476360" y="5877000"/>
            <a:ext cx="352728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258920" y="1628640"/>
          <a:ext cx="7056360" cy="851040"/>
        </p:xfrm>
        <a:graphic>
          <a:graphicData uri="http://schemas.openxmlformats.org/drawingml/2006/table">
            <a:tbl>
              <a:tblPr/>
              <a:tblGrid>
                <a:gridCol w="673200"/>
                <a:gridCol w="695160"/>
                <a:gridCol w="865080"/>
                <a:gridCol w="792360"/>
                <a:gridCol w="718920"/>
                <a:gridCol w="720720"/>
                <a:gridCol w="792360"/>
                <a:gridCol w="863640"/>
                <a:gridCol w="93492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-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9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el-GR" sz="2200" spc="-1" strike="noStrike" baseline="-25000">
                          <a:solidFill>
                            <a:srgbClr val="00cc99"/>
                          </a:solidFill>
                          <a:latin typeface="Times New Roman"/>
                        </a:rPr>
                        <a:t>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9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5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F5B1-F55C-497C-9367-05EF3BED3FAE}" type="slidenum">
              <a:t>11</a:t>
            </a:fld>
          </a:p>
        </p:txBody>
      </p:sp>
    </p:spTree>
  </p:cSld>
  <p:transition>
    <p:random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85800" y="782640"/>
            <a:ext cx="74376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inc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l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in the abov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accep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terval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e accept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interval [1.237, 1.463] is also known as confidence interval at the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.95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:  There is n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vid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t the 5% level that the mean value is not equal to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268360" y="1197000"/>
                <a:ext cx="1079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635280" y="1979640"/>
                <a:ext cx="122400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0360" y="3911760"/>
                <a:ext cx="324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E3D2-2C93-45AD-BDFA-820C6DEBB227}" type="slidenum">
              <a:t>12</a:t>
            </a:fld>
          </a:p>
        </p:txBody>
      </p:sp>
    </p:spTree>
  </p:cSld>
  <p:transition>
    <p:random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563400"/>
            <a:ext cx="7437600" cy="531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nknown Variance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stimate the variance.  The estima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47640" y="1844640"/>
                <a:ext cx="2592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476360" y="3284640"/>
                <a:ext cx="136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547640" y="4437000"/>
                <a:ext cx="15130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f>
                          <m:fPr>
                            <m:type m:val="lin"/>
                          </m:fPr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7AD-C425-4748-984B-26DF7009B1EA}" type="slidenum">
              <a:t>13</a:t>
            </a:fld>
          </a:p>
        </p:txBody>
      </p:sp>
    </p:spTree>
  </p:cSld>
  <p:transition>
    <p:random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437600" cy="53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no longer Gaussian. 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aussian,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follows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-distributio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with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1 degrees of freedo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An 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496880" y="3398760"/>
                <a:ext cx="6912000" cy="19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is Gaussian,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obtained from measurements, 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and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Test the hypothesis</m:t>
                        </m:r>
                      </m:e>
                    </m:eqAr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μ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t the significance level </m:t>
                    </m:r>
                    <m:r>
                      <m:t xml:space="preserve">ρ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FD2A-3152-43F7-AF24-FCDCFD4D0F4F}" type="slidenum">
              <a:t>14</a:t>
            </a:fld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ble of acceptance intervals for t-distrib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824120" y="4869000"/>
                <a:ext cx="3408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rob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&lt;</m:t>
                            </m:r>
                            <m:f>
                              <m:num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</m:num>
                              <m:den>
                                <m:f>
                                  <m:fPr>
                                    <m:type m:val="lin"/>
                                  </m:fPr>
                                  <m:num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</m:acc>
                                  </m:num>
                                  <m:den>
                                    <m:r>
                                      <m:t xml:space="preserve">4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d>
                      </m:e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7</m:t>
                        </m:r>
                        <m:r>
                          <m:t xml:space="preserve">&lt;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93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us,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 is accepte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00" name=""/>
          <p:cNvGraphicFramePr/>
          <p:nvPr/>
        </p:nvGraphicFramePr>
        <p:xfrm>
          <a:off x="755640" y="1254240"/>
          <a:ext cx="7561440" cy="3470040"/>
        </p:xfrm>
        <a:graphic>
          <a:graphicData uri="http://schemas.openxmlformats.org/drawingml/2006/table">
            <a:tbl>
              <a:tblPr/>
              <a:tblGrid>
                <a:gridCol w="1262160"/>
                <a:gridCol w="1006560"/>
                <a:gridCol w="1514160"/>
                <a:gridCol w="1257480"/>
                <a:gridCol w="1262160"/>
                <a:gridCol w="1258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grees of Freed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-</a:t>
                      </a: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.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25"/>
                        </a:spcBef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907D-1B56-4996-AE69-6F1CC72042C1}" type="slidenum">
              <a:t>15</a:t>
            </a:fld>
          </a:p>
        </p:txBody>
      </p:sp>
    </p:spTree>
  </p:cSld>
  <p:transition>
    <p:random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77680" y="-17172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pplication in Feature Sel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here is to test agains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the respective means in </a:t>
            </a:r>
            <a:br>
              <a:rPr sz="2200"/>
            </a:b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 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 single feat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…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of a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i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,…,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f the sa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in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in both classe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unknown or not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st becom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668840" y="3789360"/>
                <a:ext cx="172872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5219640"/>
                <a:ext cx="30240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μ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47C3-A8C6-45DF-8083-F123E025623C}" type="slidenum">
              <a:t>16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-27360"/>
            <a:ext cx="79185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=x-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vious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-μ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aver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nown Variance Ca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0,1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one follows the procedure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547640" y="2840040"/>
                <a:ext cx="31687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z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19280" y="4437000"/>
                <a:ext cx="23050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A558-2C66-4E88-A984-D93FB0BAA6E2}" type="slidenum">
              <a:t>17</a:t>
            </a:fld>
          </a:p>
        </p:txBody>
      </p:sp>
    </p:spTree>
  </p:cSld>
  <p:transition>
    <p:random/>
  </p:transition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0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lvl="1" marL="542160" indent="-2084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nknown Variance Cas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the test statistic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grees of freedom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-1666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 apply appropriate tables as befo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341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-2084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The values of a feature in two classes a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5, 3.7, 3.9, 4.1, 3.4, 3.5, 4.1, 3.8, 3.6, 3.7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lang="el-GR" sz="2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: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.2, 3.6, 3.1, 3.4, 3.0, 3.4, 2.8, 3.1, 3.3, 3.6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21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if the mean values in the two classes differ significantly, at the significance level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36560" y="811080"/>
                <a:ext cx="4932360" cy="22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6EDF-10FD-407D-A539-4FFF94003BEA}" type="slidenum">
              <a:t>18</a:t>
            </a:fld>
          </a:p>
        </p:txBody>
      </p:sp>
    </p:spTree>
  </p:cSld>
  <p:transition>
    <p:random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0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0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54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hav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table of the t-distribution with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8 degrees of freedom and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.05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e obtain          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.10,2.10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si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=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.25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outsid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ccepted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feature is selec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849320" y="493560"/>
                <a:ext cx="29955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{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01</m:t>
                        </m:r>
                      </m:e>
                    </m:eqAr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σ</m:t>
                        </m:r>
                      </m:e>
                    </m:acc>
                    <m:sSubSup>
                      <m:e/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7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85800" y="2133720"/>
                <a:ext cx="21337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z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1476360" y="4365720"/>
            <a:ext cx="1224000" cy="3603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1EDE-9485-4129-9F2D-8BEE21A693F0}" type="slidenum">
              <a:t>19</a:t>
            </a:fld>
          </a:p>
        </p:txBody>
      </p:sp>
    </p:spTree>
  </p:cSld>
  <p:transition>
    <p:random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367920"/>
            <a:ext cx="835344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enoug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class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at makes patterns in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mila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mall enoug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learn what makes patterns of the same clas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practic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has been reported to be a sensible choice for a number of ca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been decided, choose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st informative feat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t: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between class distance, </a:t>
            </a:r>
            <a:br>
              <a:rPr sz="2200"/>
            </a:b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within class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3276720" y="3141720"/>
                <a:ext cx="8636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Ν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1E40-A0F2-4C2E-8F03-3D2797B0B496}" type="slidenum">
              <a:t>2</a:t>
            </a:fld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emphasis so far was on individually considered features. However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ch an approach cannot take into account existing correlations among the features. That is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 features may be rich in information, but if they are high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rrelated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w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ed not consider both of the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o this end, in order to search for possible correlations, we consider featur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elements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poor in information features, by means of a statistical te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maximum number,   , of features to be used. This is dictated by the specific problem (e.g., the number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available training patterns and the type of the classifier to be adopted)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03640" y="422100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FCC-9C23-4A1D-A8F0-8ACB02A9C4AE}" type="slidenum">
              <a:t>20</a:t>
            </a:fld>
          </a:p>
        </p:txBody>
      </p:sp>
    </p:spTree>
  </p:cSld>
  <p:transition>
    <p:random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remaining features to search for the “best”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bin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this end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e different feature combinations to form the feature vector. Train the classifier, and choose the combination resulting in the best classifier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advant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is approach is the high complexity. Also, local minima,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give misleading resul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measure and choose the best feature combination against this cos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645E-DFCA-47FD-AE0B-4AAF1148B540}" type="slidenum">
              <a:t>21</a:t>
            </a:fld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601560" indent="-2314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separability measur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et     be the current feature combination vecto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-18504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o see the rationale behind this cost, consider the two – class case. Obviously, if o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alue of                 is close to zero, then    should be 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oor feature combination. Defin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255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-1850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296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an be used as a class separability measur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391000" y="15876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556320" y="1716120"/>
                <a:ext cx="2890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595600" y="1616040"/>
                <a:ext cx="13748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103480" y="2781360"/>
                <a:ext cx="3929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089080" y="3979800"/>
                <a:ext cx="395604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|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|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52720" y="5059440"/>
                <a:ext cx="1900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8E73-47F7-42F8-B2D5-AAB6D22F7764}" type="slidenum">
              <a:t>22</a:t>
            </a:fld>
          </a:p>
        </p:txBody>
      </p:sp>
    </p:spTree>
  </p:cSld>
  <p:transition>
    <p:random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8" dur="500"/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multi-class case, defin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every pair of classe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verage diverg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defin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me properti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indicative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535200" y="1011240"/>
                <a:ext cx="331344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51360" y="2565360"/>
                <a:ext cx="194292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j</m:t>
                        </m:r>
                      </m:e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79F-5481-4276-A731-4105460CE864}" type="slidenum">
              <a:t>23</a:t>
            </a:fld>
          </a:p>
        </p:txBody>
      </p:sp>
    </p:spTree>
  </p:cSld>
  <p:transition>
    <p:random/>
  </p:transition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catter Matrices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se are used as a measure of the way data are scattered in the respective feature spa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ithin-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umber of training samples in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featu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808440" y="1268280"/>
                <a:ext cx="1728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059280" y="2620800"/>
                <a:ext cx="32302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532320" y="3594240"/>
                <a:ext cx="21603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≈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2909-8705-4A12-B2E1-7EA3C9D5ED36}" type="slidenum">
              <a:t>24</a:t>
            </a:fld>
          </a:p>
        </p:txBody>
      </p:sp>
    </p:spTree>
  </p:cSld>
  <p:transition>
    <p:random/>
  </p:transition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1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5" dur="500"/>
                                        <p:tgtEl>
                                          <p:spTgt spid="1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Between-class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catter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ce {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} is a measure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verage 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mean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 clas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respectiv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lobal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xture scatt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703600" y="738360"/>
                <a:ext cx="393696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695760" y="1820880"/>
                <a:ext cx="18414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μ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μ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492360" y="4653000"/>
                <a:ext cx="3529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μ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Τ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2BFD-A14E-48CD-81CC-BB0E9BC1A3FA}" type="slidenum">
              <a:t>25</a:t>
            </a:fld>
          </a:p>
        </p:txBody>
      </p:sp>
    </p:spTree>
  </p:cSld>
  <p:transition>
    <p:random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5" dur="500"/>
                                        <p:tgtEl>
                                          <p:spTgt spid="13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1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-24552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sures based on Scatter Matric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ther criteria are also possible, by using various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0" algn="just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riteria  take high values for the cases wher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ata are clustered together within each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s of the various classes are fa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619280" y="620640"/>
                <a:ext cx="211608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rac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09560" y="1751040"/>
                <a:ext cx="26164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620720" y="3141720"/>
                <a:ext cx="25876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race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2FF1-0020-4F44-B775-FA97DECE4AA3}" type="slidenum">
              <a:t>26</a:t>
            </a:fld>
          </a:p>
        </p:txBody>
      </p:sp>
    </p:spTree>
  </p:cSld>
  <p:transition>
    <p:random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6" dur="500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4" dur="500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9" dur="500"/>
                                        <p:tgtEl>
                                          <p:spTgt spid="1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13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9" dur="500"/>
                                        <p:tgtEl>
                                          <p:spTgt spid="13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90160" cy="352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CAD0-60CF-4927-AE1D-63DF8FA2FFDA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sher’s discriminant rati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mension and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w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quiprobable classes the determinants becom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scher’s rati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838680" y="1052640"/>
                <a:ext cx="1900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3863880" y="1622520"/>
                <a:ext cx="20908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  <m:r>
                      <m:t xml:space="preserve">∝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3836880" y="2492280"/>
                <a:ext cx="2160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0E7-2796-40D1-B461-4E16B80B5726}" type="slidenum">
              <a:t>28</a:t>
            </a:fld>
          </a:p>
        </p:txBody>
      </p:sp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9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ays to combine featu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ying to form all possible combinations of     features from an original se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features is a computationally hard task. Thus, a number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arching techniques have been deriv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05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for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available features 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. The procedure consists of the following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dopt a class separability criterion (could also be the error rate of the respective classifier). Compute its val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eatures consider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liminate one feature and for each of the possible resulting combinations, that is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compute the class reparability criterion valu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Select the best combination, say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6227640" y="649440"/>
                <a:ext cx="2304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296-8F0E-4ED2-98E4-E529AE218F1A}" type="slidenum">
              <a:t>29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0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5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187280" y="0"/>
            <a:ext cx="60073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81F-E866-4EE1-9433-AD040D1EB080}" type="slidenum">
              <a:t>3</a:t>
            </a:fld>
          </a:p>
        </p:txBody>
      </p:sp>
    </p:spTree>
  </p:cSld>
  <p:transition>
    <p:random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the above selected feature vector eliminate one feature and for each of the resulting combinations,           ,            ,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select the best combina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selection procedure shows how one can start from   features and end up with the “best”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s. Obviously, the choic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number of required calculations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contrast,  a full search  requir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5508720" y="23814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84720" y="3032280"/>
                <a:ext cx="277164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273480" y="4294080"/>
                <a:ext cx="208908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m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894800" y="511200"/>
                <a:ext cx="10508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1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62120" y="812880"/>
                <a:ext cx="10526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749680" y="793800"/>
                <a:ext cx="1001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987800" y="955800"/>
                <a:ext cx="2444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748720" y="2060640"/>
                <a:ext cx="3952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E6E-CAE8-40B3-AC7A-FF3105699D9C}" type="slidenum">
              <a:t>30</a:t>
            </a:fld>
          </a:p>
        </p:txBody>
      </p:sp>
    </p:spTree>
  </p:cSld>
  <p:transition>
    <p:random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4" dur="500"/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quential backward selec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ere the reverse procedure is follow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feature. Select the “best” one, say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 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, sa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ll possible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mbinations of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.g.,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tc., compute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choose the best on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procedure is repeated till the “best” vector with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eatures has been formed. This is also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chnique, requir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perat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459640" y="4076640"/>
                <a:ext cx="2304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635280" y="5013360"/>
                <a:ext cx="168768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m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ℓ</m:t>
                        </m:r>
                        <m:r>
                          <m:t xml:space="preserve">(</m:t>
                        </m:r>
                        <m:r>
                          <m:t xml:space="preserve">ℓ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0F93-BE89-407F-8589-81EA248640B7}" type="slidenum">
              <a:t>31</a:t>
            </a:fld>
          </a:p>
        </p:txBody>
      </p:sp>
    </p:spTree>
  </p:cSld>
  <p:transition>
    <p:random/>
  </p:transition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9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4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7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0" dur="500"/>
                                        <p:tgtEl>
                                          <p:spTgt spid="1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loating Search Metho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two procedures suffer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sting effe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Once a bad choice has been done, there is no way to reconsider it in the following step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floating search methods one is given the opportunity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considering a previously discarded feature or to discard a feature that was previously chos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thod is still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optim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however it lead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rov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erformance, at the expense of complexit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EB6D-2D67-4B44-9FFC-358F02FA78DF}" type="slidenum">
              <a:t>32</a:t>
            </a:fld>
          </a:p>
        </p:txBody>
      </p:sp>
    </p:spTree>
  </p:cSld>
  <p:transition>
    <p:random/>
  </p:transition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8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sides suboptimal techniques, some optimal searching techniques can also be used, provided that the optimizing cost has certain properties, e.g., monotonic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stead of using a class separability measure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lt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or using directly the classifier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apper techniqu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ne c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odif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st function of the classifier appropriately, so that to perform feature selection and classifier design in a single step (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mbedd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 metho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choice of the separability measure a multiplicity of costs have been proposed, inclu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formation theoreti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s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45AC-433A-47BC-B42E-F3427F3ED68D}" type="slidenum">
              <a:t>33</a:t>
            </a:fld>
          </a:p>
        </p:txBody>
      </p:sp>
    </p:spTree>
  </p:cSld>
  <p:transition>
    <p:random/>
  </p:transition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550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nts from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Theory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Generalization theory aims at providing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ounds that relate the error performance of a classifier with the number of training point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 one hand, and so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ifier dependent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n the other. Up to now, the classifier dependent parameters that we considered were the number of it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ree paramet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  , of the subspace, in which the classifier operates. (  also affects the number of free parameters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the classifier be a binary on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1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e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ll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can be realized by the adopted classifier (e.g., changing the synapses of a given neural network different functions are implemented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148360" y="2317680"/>
                <a:ext cx="230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4067280" y="2637000"/>
                <a:ext cx="230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635280" y="4508640"/>
                <a:ext cx="204624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50B-6652-454A-B30D-CBB0D5467496}" type="slidenum">
              <a:t>34</a:t>
            </a:fld>
          </a:p>
        </p:txBody>
      </p:sp>
    </p:spTree>
  </p:cSld>
  <p:transition>
    <p:random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hatter coefficie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defined as: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maximum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number of dichotomi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ints that can be formed by the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possib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number of dichotomies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However,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 ALL dichotomi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realized by the set of functions in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Vapnik – Chernovenkis (VC) dimension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a class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argest integ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whi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,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30000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e say that th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C dimension is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in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VC is the integer for which the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achiev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dichotomies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easily seen that the VC dimens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ingle perceptr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, operating in the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-dimension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pace, is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ℓ+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8244000" y="3213000"/>
                <a:ext cx="4935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N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33A2-634A-47DF-820C-4526BF720E33}" type="slidenum">
              <a:t>35</a:t>
            </a:fld>
          </a:p>
        </p:txBody>
      </p:sp>
    </p:spTree>
  </p:cSld>
  <p:transition>
    <p:random/>
  </p:transition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8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3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8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9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3" marL="1440000" indent="-20556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the VC dimension of the clas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the shatter coefficien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ither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</a:t>
            </a:r>
            <a:r>
              <a:rPr b="0" i="1" lang="en-US" sz="2200" spc="-1" strike="noStrike" baseline="30000">
                <a:solidFill>
                  <a:srgbClr val="3333cc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(the maximum possible number of dichotomies) 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t is upper bounded, as suggested by the above inequa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words,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large enoug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shatter coefficient is bounded by a polynomial growt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51480" indent="-20556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 that in order to have a polynomial growth of the shatter coefficient,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ust be larger than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mens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 algn="just">
              <a:spcBef>
                <a:spcPts val="550"/>
              </a:spcBef>
              <a:buClr>
                <a:srgbClr val="ff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The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dimension can be considered as an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intrinsic capacity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of the classifier, and, as we will soon see, only if the number of training vectors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xceed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this number sufficiently, we can expect good generalization perform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708360" y="549360"/>
                <a:ext cx="25210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63B-1E76-4C01-A0FA-A959C5212F04}" type="slidenum">
              <a:t>36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9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9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   dimensio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y or may </a:t>
            </a:r>
            <a:r>
              <a:rPr b="1" lang="en-US" sz="2200" spc="-1" strike="noStrike">
                <a:solidFill>
                  <a:srgbClr val="3333cc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related to the dimension    and the number of free parameter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erceptr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layer perceptron with hard limiting activation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     is the total number of hidden layer nodes,    the total number of nodes, and      the total number of weigh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be  a training data sample  and assume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240000" y="2111400"/>
                <a:ext cx="37432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h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ℓ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97200" y="3257640"/>
                <a:ext cx="33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h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459640" y="3284640"/>
                <a:ext cx="330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867280" y="36450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36600" y="203040"/>
                <a:ext cx="3445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475080" y="922320"/>
                <a:ext cx="1216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ℓ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2798640" y="565200"/>
                <a:ext cx="23832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398680" y="4697280"/>
                <a:ext cx="384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635280" y="5445000"/>
                <a:ext cx="23274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r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72D9-B5F3-49C1-B596-1F8E558689F1}" type="slidenum">
              <a:t>37</a:t>
            </a:fld>
          </a:p>
        </p:txBody>
      </p:sp>
    </p:spTree>
  </p:cSld>
  <p:transition>
    <p:random/>
  </p:transition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5" dur="5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lso a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i.e.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onstraints we met in the SVM formulation). The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by controlling the constan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    of the linear classifier can be less than   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 other words,    can be controlled independently of the dimension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by minimizing       in the SVM, one attempts to keep      as small as possible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oreover, one can achieve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     dimension, </a:t>
            </a: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even for infinite dimensional spaces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is is an explanation of the potential for good generalization performance of the SVM’s, as this is readily deduced from the following bound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0" algn="just">
              <a:spcBef>
                <a:spcPts val="55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427640" y="620640"/>
                <a:ext cx="974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≤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067280" y="1341360"/>
                <a:ext cx="168408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4211640" y="2492280"/>
                <a:ext cx="139068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≤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ℓ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7093080" y="2955960"/>
                <a:ext cx="32040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5900760" y="3300480"/>
                <a:ext cx="241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8237520" y="331632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00720" y="3933720"/>
                <a:ext cx="5284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627280" y="439740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724280"/>
                <a:ext cx="311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F4DB-6ED3-434D-9E44-31C17121702B}" type="slidenum">
              <a:t>38</a:t>
            </a:fld>
          </a:p>
        </p:txBody>
      </p:sp>
    </p:spTree>
  </p:cSld>
  <p:transition>
    <p:random/>
  </p:transition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4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7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3" dur="500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Perform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be the error rate of classifier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ased on th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empirical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be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ue error proba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also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eneralization err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),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confronted with dat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finite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minimum error probability that can be attained over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ALL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 in the set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1908000" y="620640"/>
                <a:ext cx="86364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925640" y="1716120"/>
                <a:ext cx="857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052720" y="3228840"/>
                <a:ext cx="46332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F5A6-E431-4CE7-A8E9-7192CC4C1746}" type="slidenum">
              <a:t>39</a:t>
            </a:fld>
          </a:p>
        </p:txBody>
      </p:sp>
    </p:spTree>
  </p:cSld>
  <p:transition>
    <p:random/>
  </p:transition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6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4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28036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basic philosop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card individual features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o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formation cont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remaining information rich features are examine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s vecto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Feature Selection based on statistical Hypothesis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For each individual feature, find whether the values, which the feature takes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ifferent classes,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differ significantly.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answ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lues do not differ significantl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f they do not differ significantly reject feature from subsequent stag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ypothesis Testing Bas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692360" y="4005360"/>
                <a:ext cx="13683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≠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C13-E547-4363-8C9D-A40F2E8B66DF}" type="slidenum">
              <a:t>4</a:t>
            </a:fld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be the function resulting by minimizing the empirical (over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 train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et) error functio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shown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fo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dimension,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rowth of              is only polynomia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above bounds tell us that for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r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</a:t>
            </a:r>
            <a:r>
              <a:rPr b="0" lang="en-US" sz="2000" spc="-1" strike="noStrike">
                <a:solidFill>
                  <a:srgbClr val="ff33cc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995480" indent="-221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close to      , with high probabi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87560" y="1874880"/>
                <a:ext cx="666576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f</m:t>
                            </m:r>
                            <m:r>
                              <m:t xml:space="preserve">∈</m:t>
                            </m:r>
                            <m:r>
                              <m:t xml:space="preserve">F</m:t>
                            </m:r>
                          </m:lim>
                        </m:limLow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481120" y="2681280"/>
                <a:ext cx="5581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8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N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279520" y="4813200"/>
                <a:ext cx="844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338720" y="4797360"/>
                <a:ext cx="79992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4448160" y="5157720"/>
                <a:ext cx="43344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340000" y="5157720"/>
                <a:ext cx="88740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516720" y="3757680"/>
                <a:ext cx="311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521160" y="4116240"/>
                <a:ext cx="113328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1924200" y="204840"/>
                <a:ext cx="3254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5142-6694-486A-8A6C-48A77A557529}" type="slidenum">
              <a:t>40</a:t>
            </a:fld>
          </a:p>
        </p:txBody>
      </p:sp>
    </p:spTree>
  </p:cSld>
  <p:transition>
    <p:random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5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3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2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547560" y="4052880"/>
            <a:ext cx="7508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,               constants.  In word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                 the performance of the classifier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uaranteed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close to the optimal classifier in the clas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           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ample complexity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more useful bound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number of points,          , that guarantees, with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 good generalization error performance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n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   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12000" y="476280"/>
                <a:ext cx="7920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556000" y="1557360"/>
                <a:ext cx="470052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t xml:space="preserve">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3924360" y="2708280"/>
                <a:ext cx="14637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203640" y="3357720"/>
                <a:ext cx="28544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b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≤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132000" y="4076640"/>
                <a:ext cx="935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076720" y="4846680"/>
                <a:ext cx="9604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308720" y="4037040"/>
                <a:ext cx="13604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ε</m:t>
                        </m:r>
                        <m:r>
                          <m:t xml:space="preserve">,</m:t>
                        </m:r>
                        <m:r>
                          <m:t xml:space="preserve">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648-3D9F-4D48-A3DF-9D21D378E877}" type="slidenum">
              <a:t>41</a:t>
            </a:fld>
          </a:p>
        </p:txBody>
      </p:sp>
    </p:spTree>
  </p:cSld>
  <p:transition>
    <p:random/>
  </p:transition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2" dur="500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5" dur="500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85400"/>
            <a:ext cx="8642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3" marL="1504080" indent="-21456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a probability of at least          the following bound hold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33cc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ahoma"/>
              </a:rPr>
              <a:t>Remar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Observe that all the bounds given so far a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mens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istribution fre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5545080" y="236520"/>
                <a:ext cx="6508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597120" y="932040"/>
                <a:ext cx="31021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768760" y="2179800"/>
                <a:ext cx="4614840" cy="15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N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ρ</m:t>
                                        </m:r>
                                      </m:num>
                                      <m:den>
                                        <m:r>
                                          <m:t xml:space="preserve">4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C702-027B-424E-B422-655224BD5CE7}" type="slidenum">
              <a:t>42</a:t>
            </a:fld>
          </a:p>
        </p:txBody>
      </p:sp>
    </p:spTree>
  </p:cSld>
  <p:transition>
    <p:random/>
  </p:transition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5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3" dur="500"/>
                                        <p:tgtEl>
                                          <p:spTgt spid="21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6" dur="500"/>
                                        <p:tgtEl>
                                          <p:spTgt spid="21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9" dur="500"/>
                                        <p:tgtEl>
                                          <p:spTgt spid="21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 Complexity vs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sue has already been touched in the form of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verfitt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neural networks modeling and in the form of bias-variance dilemma. A different perspective of the issue is dealt belo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ructural Risk Minimization (SR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be he Bayesian error probability for a given task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true (generalization) error of an optimally design classifier   , from class     , given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inimum error attainable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the class      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secon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expec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o be </a:t>
            </a: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opposite is true when the class    is lar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979640" y="2652840"/>
                <a:ext cx="3492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35080" y="3044880"/>
                <a:ext cx="838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75320" y="3349800"/>
                <a:ext cx="4046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516720" y="343692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619280" y="4076640"/>
                <a:ext cx="4191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619280" y="4524480"/>
                <a:ext cx="3016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7219800" y="5645160"/>
                <a:ext cx="285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3532320" y="4981680"/>
                <a:ext cx="287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08640" y="4572000"/>
                <a:ext cx="28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EE4-3E93-4300-8D30-B7F9E36FD57C}" type="slidenum">
              <a:t>43</a:t>
            </a:fld>
          </a:p>
        </p:txBody>
      </p:sp>
    </p:spTree>
  </p:cSld>
  <p:transition>
    <p:random/>
  </p:transition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9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6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fill="hold">
                      <p:stCondLst>
                        <p:cond delay="indefinite"/>
                      </p:stCondLst>
                      <p:childTnLst>
                        <p:par>
                          <p:cTn id="1477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0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                  be a sequence of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est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e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th increasing, yet finite     dimension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le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each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class of function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1, 2, …, compute the optimum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,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with respect to the empirical error. Then from all these classifiers choose the one than minimizes, over al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 upper bound i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1981080" y="399960"/>
                <a:ext cx="15591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567240" y="793800"/>
                <a:ext cx="20001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4716360" y="1268280"/>
                <a:ext cx="281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589200" y="1660680"/>
                <a:ext cx="21812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3349800" y="2376360"/>
                <a:ext cx="27349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i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e>
                      <m:lim>
                        <m:r>
                          <m:t xml:space="preserve">f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p>
                        </m:sSup>
                      </m:lim>
                    </m:limLow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916360" y="4545000"/>
                <a:ext cx="3962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≤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2556000" y="5589720"/>
                <a:ext cx="45878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i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Ν</m:t>
                            </m:r>
                            <m:r>
                              <m:t xml:space="preserve">,</m:t>
                            </m:r>
                            <m:r>
                              <m:t xml:space="preserve">ι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p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)</m:t>
                                        </m:r>
                                      </m:sup>
                                    </m:sSup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916-5DB0-4C28-ABC7-3697532317D4}" type="slidenum">
              <a:t>44</a:t>
            </a:fld>
          </a:p>
        </p:txBody>
      </p:sp>
    </p:spTree>
  </p:cSld>
  <p:transition>
    <p:random/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323640" y="404280"/>
            <a:ext cx="856908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n, a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er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minimized bound is  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penal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If the classifier model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nalty term is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the empirical error term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ll be 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ppos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rue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3921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RM criterion aims at achieving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est trade-off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formance and complex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2708280" y="506520"/>
                <a:ext cx="82404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3780000" y="907920"/>
                <a:ext cx="188100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140360" y="1773360"/>
                <a:ext cx="116496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t xml:space="preserve">,</m:t>
                                </m:r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429080" y="4076640"/>
                <a:ext cx="1079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Ν</m:t>
                        </m:r>
                        <m:r>
                          <m:t xml:space="preserve">,</m:t>
                        </m:r>
                        <m:r>
                          <m:t xml:space="preserve">ι</m:t>
                        </m:r>
                      </m:sub>
                      <m:sup/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E14-41BF-4116-8E59-D43085E47AF7}" type="slidenum">
              <a:t>45</a:t>
            </a:fld>
          </a:p>
        </p:txBody>
      </p:sp>
    </p:spTree>
  </p:cSld>
  <p:transition>
    <p:random/>
  </p:transition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9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2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8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1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6" dur="500"/>
                                        <p:tgtEl>
                                          <p:spTgt spid="23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23640" y="169560"/>
            <a:ext cx="85690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Bayesian Information Criterion (BI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   the size of the training set,   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vecto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unknown parameters of the classifier,  th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imension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    , and    runs over all possible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mode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BIC criterion chooses the model by minimiz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log-likelihood computed at the ML estimate      , and it is the performance index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the model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omplexity ter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kaike Information Criterion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635120" y="63648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940360" y="62064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724880" y="923760"/>
                <a:ext cx="41256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708360" y="1268280"/>
                <a:ext cx="3906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θ</m:t>
                            </m:r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5229360" y="1309680"/>
                <a:ext cx="358560" cy="28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059280" y="2708280"/>
                <a:ext cx="374472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124000" y="3348000"/>
                <a:ext cx="7016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195720" y="3716280"/>
                <a:ext cx="3650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</m:ba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24080" y="5430960"/>
                <a:ext cx="32371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IC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L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θ</m:t>
                                    </m:r>
                                  </m:e>
                                </m:acc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50920" y="4076640"/>
                <a:ext cx="107964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CE8-D0EA-44BF-8C75-421B4ACD5C79}" type="slidenum">
              <a:t>46</a:t>
            </a:fld>
          </a:p>
        </p:txBody>
      </p:sp>
    </p:spTree>
  </p:cSld>
  <p:transition>
    <p:random/>
  </p:transition>
  <p:timing>
    <p:tnLst>
      <p:par>
        <p:cTn id="1577" dur="indefinite" restart="never" nodeType="tmRoot">
          <p:childTnLst>
            <p:seq>
              <p:cTn id="1578" dur="indefinite" nodeType="mainSeq">
                <p:childTnLst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3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8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8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1" dur="500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5" dur="500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31520" y="115560"/>
            <a:ext cx="72961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easuremen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function of them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est statistic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easily parameterized in terms of </a:t>
            </a:r>
            <a:r>
              <a:rPr b="0" i="1" lang="el-GR" sz="2200" spc="-1" strike="noStrike">
                <a:solidFill>
                  <a:srgbClr val="ff0000"/>
                </a:solidFill>
                <a:latin typeface="Times New Roman"/>
              </a:rPr>
              <a:t>θ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n interval, 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ha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probability to lie under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, i.e.,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he-IL" sz="22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׀</a:t>
            </a:r>
            <a:r>
              <a:rPr b="0" i="1" lang="el-GR" sz="2200" spc="-1" strike="noStrike">
                <a:solidFill>
                  <a:srgbClr val="3333cc"/>
                </a:solidFill>
                <a:latin typeface="Times New Roman"/>
              </a:rPr>
              <a:t>θ</a:t>
            </a:r>
            <a:r>
              <a:rPr b="0" i="1" lang="el-GR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 D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e the complement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cceptanc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terval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itical Interva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resulting from </a:t>
            </a:r>
            <a:br>
              <a:rPr sz="2200"/>
            </a:b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es in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we accept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ff0000"/>
                </a:solidFill>
                <a:latin typeface="Times New Roman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otherwise we reject it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221000" y="547560"/>
                <a:ext cx="156852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462040" y="1989000"/>
                <a:ext cx="2489400" cy="4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: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46320" y="2589120"/>
                <a:ext cx="11066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;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59280" y="2660760"/>
            <a:ext cx="115236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11280" y="4581360"/>
            <a:ext cx="216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11280" y="54072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79640" y="5229360"/>
            <a:ext cx="192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11280" y="5084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414680" y="5784840"/>
                <a:ext cx="15368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507C-3AFC-4A37-AA83-D43C0F34F19D}" type="slidenum">
              <a:t>5</a:t>
            </a:fld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31880" y="404640"/>
            <a:ext cx="7918560" cy="626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Probability of an err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reselected and it is known a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ignificance level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3146400" y="981000"/>
                <a:ext cx="256392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∈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D</m:t>
                        </m:r>
                      </m:e>
                    </m:bar>
                    <m:r>
                      <m:t xml:space="preserve">|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076480" y="1905120"/>
            <a:ext cx="5591160" cy="2531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027760" y="3500280"/>
            <a:ext cx="76824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1-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ECB8-F2D5-490E-A1AF-984F0EA7CF21}" type="slidenum">
              <a:t>6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31880" y="115560"/>
            <a:ext cx="791856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:  The known variance c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 a random variable and the experimental samples,                 , are assumed mutuall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depende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Also le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ute the sample mean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also a random variable with mean value</a:t>
            </a:r>
            <a:br>
              <a:rPr sz="2200"/>
            </a:b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a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biased Estima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651040" y="1141560"/>
                <a:ext cx="14907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692360" y="1989000"/>
                <a:ext cx="2087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x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835280" y="3429000"/>
                <a:ext cx="15127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763640" y="4653000"/>
                <a:ext cx="30243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]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μ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F12A-978A-405C-9F6F-BC8FE4EDC740}" type="slidenum">
              <a:t>7</a:t>
            </a:fld>
          </a:p>
        </p:txBody>
      </p:sp>
    </p:spTree>
  </p:cSld>
  <p:transition>
    <p:random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440" y="69480"/>
            <a:ext cx="71499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ar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e to independe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, it i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symptotically Effici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ypothesis te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st Statistic: Define the variabl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251160" y="38160"/>
                <a:ext cx="461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547640" y="722160"/>
                <a:ext cx="7056720" cy="15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−</m:t>
                        </m:r>
                        <m:r>
                          <m:t xml:space="preserve">μ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]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μ</m:t>
                                </m:r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547640" y="2781360"/>
                <a:ext cx="12240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547640" y="4653000"/>
                <a:ext cx="1513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≠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547640" y="6002280"/>
                <a:ext cx="1368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−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780000" y="0"/>
            <a:ext cx="52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1C5-3C38-4107-BC15-27874404285E}" type="slidenum">
              <a:t>8</a:t>
            </a:fld>
          </a:p>
        </p:txBody>
      </p:sp>
    </p:spTree>
  </p:cSld>
  <p:transition>
    <p:random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440" y="1071720"/>
            <a:ext cx="753588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entral limit theorem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us, under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</a:rPr>
              <a:t>H</a:t>
            </a:r>
            <a:r>
              <a:rPr b="0" i="1" lang="en-US" sz="2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2523960" y="1535040"/>
                <a:ext cx="38484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sub>
                    </m:sSub>
                    <m:r>
                      <m:t xml:space="preserve">(</m:t>
                    </m:r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484360" y="3017880"/>
                <a:ext cx="388944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q</m:t>
                    </m:r>
                    <m:r>
                      <m:t xml:space="preserve">≈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E8C-330E-42A8-B88B-0D8F13172744}" type="slidenum">
              <a:t>9</a:t>
            </a:fld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5:48:50Z</dcterms:modified>
  <cp:revision>901</cp:revision>
  <dc:subject/>
  <dc:title>PowerPoint Presentation</dc:title>
</cp:coreProperties>
</file>