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7A9-D52A-49B5-B6A9-349115F4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360F-BD15-4618-83A0-7AFF484B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4C7-1FB1-4F62-B8A7-92A53B2D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FA49-57F0-4FB0-8D10-EAFB0B04B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93C-0779-4AC5-8A10-5E05492E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53F-E24D-4E99-9E93-A4B7560C5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C7E4-4DC2-4D99-9C4C-164B1FA4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AF9-8253-49B2-8232-40BAC1CE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4E0C-143A-4691-B9C6-F48A633D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40B7-7CB8-444E-B334-5260E1AB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FC3-2E71-4FCD-A06B-26B75B9D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8990-DD55-407C-8A64-7F96B756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CAF7-E18D-40FF-A25C-4DF0F37A1D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440" y="512280"/>
            <a:ext cx="753588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blem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der a two class task with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ω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763640" y="1614600"/>
                <a:ext cx="27370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835280" y="2997360"/>
                <a:ext cx="432108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e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on the decision hyperplane:</m:t>
                        </m:r>
                      </m:e>
                      <m:e>
                        <m:r>
                          <m:t xml:space="preserve">0</m:t>
                        </m:r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2075040" y="243000"/>
            <a:ext cx="499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INEAR CLASSIFI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5305-61CC-45F2-A02E-02192094AD27}" type="slidenum">
              <a:t>1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52600" y="603360"/>
            <a:ext cx="6143760" cy="3004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4760" y="1159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ercept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2484360" y="3700440"/>
                <a:ext cx="4211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'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    synapses or synaptic weights</m:t>
                        </m:r>
                      </m:e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threshol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1644480" y="5403960"/>
            <a:ext cx="652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rning mach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ear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raining 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via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algorith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69520" y="5022720"/>
            <a:ext cx="6209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network is calle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or neur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686B-0ACE-4F83-BA56-28B99199A692}" type="slidenum">
              <a:t>10</a:t>
            </a:fld>
          </a:p>
        </p:txBody>
      </p:sp>
    </p:spTree>
  </p:cSld>
  <p:transition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85440" y="-387360"/>
            <a:ext cx="7535880" cy="562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t some stag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perceptron algorithm results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orresponding hyperplane 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79640" y="2536920"/>
            <a:ext cx="5834160" cy="3122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386160" y="880920"/>
                <a:ext cx="3092400" cy="4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3348000" y="1289160"/>
                <a:ext cx="22320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124000" y="5748480"/>
                <a:ext cx="54039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75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5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6102000" y="3218040"/>
            <a:ext cx="1539000" cy="42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200" spc="-1" strike="noStrike">
                <a:solidFill>
                  <a:srgbClr val="000000"/>
                </a:solidFill>
                <a:latin typeface="Times New Roman"/>
              </a:rPr>
              <a:t>ρ=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0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38D3-5548-47BB-AFE3-954A8DCE2B4C}" type="slidenum">
              <a:t>11</a:t>
            </a:fld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43920"/>
            <a:ext cx="80517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east Squares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asses are linearly separable, the perceptron output results i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f classes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inearly separable, we shall compute the we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ffere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etwe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actual output of the classifier,          ,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desired outputs, e.g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o b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700360" y="895320"/>
                <a:ext cx="36036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87640" y="1760400"/>
                <a:ext cx="1584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29160" y="2706840"/>
                <a:ext cx="85680" cy="16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300720" y="2746440"/>
                <a:ext cx="57636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340000" y="3789360"/>
                <a:ext cx="1297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if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B64B-38BA-416D-93EF-77A57FC57A00}" type="slidenum">
              <a:t>12</a:t>
            </a:fld>
          </a:p>
        </p:txBody>
      </p:sp>
    </p:spTree>
  </p:cSld>
  <p:transition>
    <p:random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755640"/>
            <a:ext cx="80517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n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ean squa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error sense, means to choose        so that the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29160" y="3417840"/>
                <a:ext cx="85680" cy="1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8432640" y="1116000"/>
                <a:ext cx="3556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619280" y="2268360"/>
                <a:ext cx="475128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≡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rPr>
                            <m:lit/>
                            <m:nor/>
                          </m:rPr>
                          <m:t xml:space="preserve"> is minimum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lim>
                        </m:limLow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the corresponding desired respons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C205-846A-4B5D-9582-EFCEDACA2B5E}" type="slidenum">
              <a:t>13</a:t>
            </a:fld>
          </a:p>
        </p:txBody>
      </p:sp>
    </p:spTree>
  </p:cSld>
  <p:transition>
    <p:random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8134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lvl="1" marL="564480" indent="-217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autocorrelatio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68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rosscorrel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ecto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0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06680" y="476280"/>
                <a:ext cx="535608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w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to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results in</m:t>
                        </m:r>
                        <m:r>
                          <m:t xml:space="preserve">:</m:t>
                        </m:r>
                      </m:e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E</m:t>
                        </m:r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]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y</m:t>
                        </m:r>
                        <m:r>
                          <m:t xml:space="preserve">]</m:t>
                        </m:r>
                        <m:r>
                          <m:t xml:space="preserve">⇒</m:t>
                        </m:r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E</m:t>
                        </m:r>
                        <m:r>
                          <m:t xml:space="preserve">[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y</m:t>
                        </m:r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3924360" y="2975040"/>
            <a:ext cx="1871640" cy="358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92360" y="4005360"/>
                <a:ext cx="5256000" cy="12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195640" y="5316480"/>
                <a:ext cx="2089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[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y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E</m:t>
                              </m:r>
                              <m:r>
                                <m:t xml:space="preserve">[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l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D082-2C53-40A1-A6E4-996AB53A0DAF}" type="slidenum">
              <a:t>14</a:t>
            </a:fld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lvl="1" marL="579240" indent="-222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-class gener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is to compu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inear discriminant func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ording to the M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opt as desired responses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he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490920" y="930240"/>
                <a:ext cx="19447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321000" y="2674800"/>
                <a:ext cx="23162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if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102120" y="4149720"/>
                <a:ext cx="25794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057480" y="5337000"/>
                <a:ext cx="268596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C5C6-0035-483F-B663-29048A58FBD3}" type="slidenum">
              <a:t>15</a:t>
            </a:fld>
          </a:p>
        </p:txBody>
      </p:sp>
    </p:spTree>
  </p:cSld>
  <p:transition>
    <p:random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0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goal is to compute   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is equivalent to a numbe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MSE minimization problems. That i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Design each    so that its desired output is 1 for           and 0 for any other clas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lnSpc>
                <a:spcPct val="90000"/>
              </a:lnSpc>
              <a:spcBef>
                <a:spcPts val="550"/>
              </a:spcBef>
              <a:buClr>
                <a:srgbClr val="33cc33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cc33"/>
                </a:solidFill>
                <a:latin typeface="Tahoma"/>
              </a:rPr>
              <a:t>Remark: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SE criterion belongs to a more general class of cost function with the follow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mportan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ropert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value of          is a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stimate, in the MSE sense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f th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-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osteriori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ability              ,  provided that the desired responses used during training are                    and 0 otherwis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154160" y="549360"/>
                <a:ext cx="744696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r>
                          <m:t xml:space="preserve">W</m:t>
                        </m:r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bar>
                                          <m:barPr>
                                            <m:pos m:val="bot"/>
                                          </m:barPr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</m:bar>
                                      </m:e>
                                      <m:sub>
                                        <m:sSup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771640" y="2781360"/>
                <a:ext cx="3304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804000" y="2781360"/>
                <a:ext cx="7318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43280" y="4797360"/>
                <a:ext cx="68256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995640" y="5084640"/>
                <a:ext cx="10350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364000" y="5373720"/>
                <a:ext cx="143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067280" y="189000"/>
                <a:ext cx="32220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B6CD-7AE1-48DF-ACA8-D042F897D7C5}" type="slidenum">
              <a:t>16</a:t>
            </a:fld>
          </a:p>
        </p:txBody>
      </p:sp>
    </p:spTree>
  </p:cSld>
  <p:transition>
    <p:random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640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ean square error reg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Let          ,           be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int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stributed random vectors with a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joi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pd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Give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value of 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stima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value of    . In the pattern recognition framework, given      one wants to estimate the respective label          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SE estimate     of      given       is defined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turns out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known a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regress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of       given     and it is, in general, a non-linear function of      . If            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Gaussia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SE regressor is linea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665680" y="146160"/>
                <a:ext cx="982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684840" y="152280"/>
                <a:ext cx="8575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sSup>
                      <m:e>
                        <m:r>
                          <m:t xml:space="preserve">ℜ</m:t>
                        </m:r>
                      </m:e>
                      <m:sup>
                        <m:r>
                          <m:t xml:space="preserve">ℓ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7740720" y="517680"/>
                <a:ext cx="9334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5003640" y="836640"/>
                <a:ext cx="297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132760" y="915840"/>
                <a:ext cx="2476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6948360" y="1125360"/>
                <a:ext cx="3081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708360" y="2243160"/>
                <a:ext cx="2509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427640" y="2227320"/>
                <a:ext cx="250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651640" y="2189160"/>
                <a:ext cx="35064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25680" y="2643120"/>
                <a:ext cx="271152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lim>
                        <m:acc>
                          <m:accPr>
                            <m:chr m:val="~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lim>
                    </m:limLow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014640" y="3675240"/>
                <a:ext cx="325908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≡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p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  <m:r>
                      <m:t xml:space="preserve">d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580080" y="4836960"/>
                <a:ext cx="2336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759800" y="4813200"/>
                <a:ext cx="2602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453360" y="5140440"/>
                <a:ext cx="2458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292880" y="5140440"/>
                <a:ext cx="9334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62560" y="1541520"/>
                <a:ext cx="760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AD7-CD53-4BE3-8659-FCF9374DD783}" type="slidenum">
              <a:t>17</a:t>
            </a:fld>
          </a:p>
        </p:txBody>
      </p:sp>
    </p:spTree>
  </p:cSld>
  <p:transition>
    <p:random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620640"/>
            <a:ext cx="79898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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MAL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th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um of erro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quares sense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i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input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i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rresponding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lass label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(±1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692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20720" y="1819440"/>
                <a:ext cx="3095640" cy="13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2116800" y="2755800"/>
            <a:ext cx="2845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training pai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601640" y="3614760"/>
                <a:ext cx="4133880" cy="20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∂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⇒</m:t>
                        </m:r>
                      </m:e>
                      <m:e/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r>
                          <m:t xml:space="preserve">)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476360" y="4768920"/>
            <a:ext cx="2654280" cy="86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7020000" y="3100320"/>
                <a:ext cx="32220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EE7F-8F41-4350-867C-02DC885E6165}" type="slidenum">
              <a:t>18</a:t>
            </a:fld>
          </a:p>
        </p:txBody>
      </p:sp>
    </p:spTree>
  </p:cSld>
  <p:transition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-243000"/>
            <a:ext cx="7772400" cy="58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lvl="1" marL="639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eudoinverse Matri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835280" y="766800"/>
                <a:ext cx="4824360" cy="34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Sup>
                                    <m:e>
                                      <m:bar>
                                        <m:barPr>
                                          <m:pos m:val="bot"/>
                                        </m:barPr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</m:ba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n </m:t>
                        </m:r>
                        <m:r>
                          <m:rPr>
                            <m:lit/>
                            <m:nor/>
                          </m:rPr>
                          <m:t xml:space="preserve">Nxl</m:t>
                        </m:r>
                        <m:r>
                          <m:rPr>
                            <m:lit/>
                            <m:nor/>
                          </m:rPr>
                          <m:t xml:space="preserve"> matrix</m:t>
                        </m:r>
                        <m:r>
                          <m:t xml:space="preserve">)</m:t>
                        </m:r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e>
                              </m:mr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mr>
                              <m:mr>
                                <m:e>
                                  <m:sSub>
                                    <m:e>
                                      <m:r>
                                        <m:t xml:space="preserve">y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corresponding desired respons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930320" y="4437000"/>
                <a:ext cx="4708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[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n </m:t>
                    </m:r>
                    <m:r>
                      <m:rPr>
                        <m:lit/>
                        <m:nor/>
                      </m:rPr>
                      <m:t xml:space="preserve">lxN</m:t>
                    </m:r>
                    <m:r>
                      <m:rPr>
                        <m:lit/>
                        <m:nor/>
                      </m:rPr>
                      <m:t xml:space="preserve"> matri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835280" y="5051520"/>
                <a:ext cx="20890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835280" y="5862600"/>
                <a:ext cx="2016000" cy="95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F30-492A-4890-8564-43BC09C34119}" type="slidenum">
              <a:t>19</a:t>
            </a:fld>
          </a:p>
        </p:txBody>
      </p:sp>
    </p:spTree>
  </p:cSld>
  <p:transition>
    <p:random/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4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260280"/>
            <a:ext cx="662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1476360" y="907920"/>
                <a:ext cx="414828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 on the hyperplan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473120" y="1308240"/>
                <a:ext cx="41371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9920" y="1989000"/>
            <a:ext cx="4960800" cy="3260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95640" y="5445000"/>
                <a:ext cx="3313080" cy="8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,   </m:t>
                    </m:r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B3FE-3C9A-4B17-9F66-4C195610FDDA}" type="slidenum">
              <a:t>2</a:t>
            </a:fld>
          </a:p>
        </p:txBody>
      </p:sp>
    </p:spTree>
  </p:cSld>
  <p:transition>
    <p:random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545760"/>
            <a:ext cx="772632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=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quare and invertible.  Th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73280" y="403200"/>
                <a:ext cx="241308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</m:e>
                            </m:bar>
                            <m:r>
                              <m:t xml:space="preserve">=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)</m:t>
                        </m:r>
                      </m:e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⇒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654200" y="2786040"/>
                <a:ext cx="21272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≡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3962520" y="2754360"/>
            <a:ext cx="2685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seudoinverse of </a:t>
            </a:r>
            <a:r>
              <a:rPr b="0" i="1" lang="en-US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235240" y="4435560"/>
                <a:ext cx="46720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⇒</m:t>
                        </m:r>
                      </m:e>
                      <m:e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195640" y="5299200"/>
            <a:ext cx="129672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276720" y="3828960"/>
                <a:ext cx="396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20B5-F283-4F27-80F5-F46A9360B496}" type="slidenum">
              <a:t>20</a:t>
            </a:fld>
          </a:p>
        </p:txBody>
      </p:sp>
    </p:spTree>
  </p:cSld>
  <p:transition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777240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&gt;l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hen, in general, there is no solution to satisfy all equations simultaneously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“solution”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     corresponds to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um sum of squares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76360" y="1413000"/>
                <a:ext cx="5905440" cy="18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  </m:t>
                    </m:r>
                    <m:m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sSubSup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T</m:t>
                              </m:r>
                            </m:sup>
                          </m:sSubSup>
                          <m:bar>
                            <m:barPr>
                              <m:pos m:val="bot"/>
                            </m:barPr>
                            <m:e>
                              <m:r>
                                <m:t xml:space="preserve">w</m:t>
                              </m:r>
                            </m:e>
                          </m:ba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equations 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l </m:t>
                    </m:r>
                    <m:r>
                      <m:rPr>
                        <m:lit/>
                        <m:nor/>
                      </m:rPr>
                      <m:t xml:space="preserve">unknown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987640" y="4330800"/>
                <a:ext cx="11527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25AE-C07A-47A8-BDDD-4CD8BE09E73F}" type="slidenum">
              <a:t>21</a:t>
            </a:fld>
          </a:p>
        </p:txBody>
      </p:sp>
    </p:spTree>
  </p:cSld>
  <p:transition>
    <p:random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440" y="115560"/>
            <a:ext cx="75358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87640" y="160200"/>
                <a:ext cx="3311640" cy="14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: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4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156360" y="2133720"/>
                <a:ext cx="2901960" cy="34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y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5688000" cy="3272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1B8-333E-4D2B-B70E-35C6BC688BE5}" type="slidenum">
              <a:t>22</a:t>
            </a:fld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440" y="620280"/>
            <a:ext cx="753588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619280" y="1317600"/>
                <a:ext cx="4510080" cy="28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  <m:e>
                                  <m:r>
                                    <m:t xml:space="preserve">2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  <m:e>
                                  <m:r>
                                    <m:t xml:space="preserve">4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6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</m:e>
                      <m:e/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e>
                              </m:mr>
                            </m:m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35F7-6D2A-4755-86F7-FE35418D3E1A}" type="slidenum">
              <a:t>23</a:t>
            </a:fld>
          </a:p>
        </p:txBody>
      </p:sp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8051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The Bias – Variance Dilem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classifier       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rning machi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at tries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redi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class label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   . In practice,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nit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ata set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used for its training. Let us write           . Observe that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raining sets,                                    ,  the training may result to good estimates, 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ome oth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result may be wors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verage performance of the classifier can be tested against the MSE optimal value, in the mean squares sense, that i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ean over all possible data sets</a:t>
            </a:r>
            <a:r>
              <a:rPr b="0" lang="en-US" sz="2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436840" y="533520"/>
                <a:ext cx="6555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3451320" y="852480"/>
                <a:ext cx="247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92800" y="1197000"/>
                <a:ext cx="10080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;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6000" y="2013120"/>
                <a:ext cx="316728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276720" y="4653000"/>
                <a:ext cx="325584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035D-1C4B-489B-A587-D332ACD7D0C2}" type="slidenum">
              <a:t>24</a:t>
            </a:fld>
          </a:p>
        </p:txBody>
      </p:sp>
    </p:spTree>
  </p:cSld>
  <p:transition>
    <p:random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805176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written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above,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fir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erm is the contribution of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nd the second term is the contribution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a finit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there is a trade-off between the two terms.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creasing bias it reduces variance and vice vers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This is known a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he bias-variance dilemma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Using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mplex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 results in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ow-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high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as one changes from one training set to another. Using a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simpl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model results in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high bia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but </a:t>
            </a:r>
            <a:r>
              <a:rPr b="0" lang="en-US" sz="2200" spc="-1" strike="noStrike">
                <a:solidFill>
                  <a:srgbClr val="66ff33"/>
                </a:solidFill>
                <a:latin typeface="Tahoma"/>
              </a:rPr>
              <a:t>low vari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446640" y="549360"/>
                <a:ext cx="35337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E</m:t>
                                </m:r>
                                <m:r>
                                  <m:t xml:space="preserve">[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]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71520" y="1197000"/>
                <a:ext cx="734868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E</m:t>
                            </m:r>
                            <m:r>
                              <m:t xml:space="preserve">[</m:t>
                            </m:r>
                            <m:r>
                              <m:t xml:space="preserve">y</m:t>
                            </m:r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]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r>
                                  <m:t xml:space="preserve">;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g</m:t>
                                    </m:r>
                                    <m:r>
                                      <m:t xml:space="preserve">(</m:t>
                                    </m:r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bar>
                                    <m:r>
                                      <m:t xml:space="preserve">;</m:t>
                                    </m:r>
                                    <m:r>
                                      <m:t xml:space="preserve">D</m:t>
                                    </m:r>
                                    <m:r>
                                      <m:t xml:space="preserve">)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792-A9F3-4AA1-8512-5F5DA6C32166}" type="slidenum">
              <a:t>25</a:t>
            </a:fld>
          </a:p>
        </p:txBody>
      </p:sp>
    </p:spTree>
  </p:cSld>
  <p:transition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et an   -class task,                  . In logistic discrimination, the logarithm of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kelihood ratio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e modeled vi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inear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unctions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aking into account that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 can be easily shown that the above is equivalent with modeling posterior probabilities a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787680" y="379440"/>
            <a:ext cx="44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LOGISTIC DISCR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195640" y="1989000"/>
                <a:ext cx="51130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|</m:t>
                                </m:r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M-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906720" y="3645000"/>
                <a:ext cx="174492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|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968640" y="868320"/>
                <a:ext cx="15843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268360" y="907920"/>
                <a:ext cx="42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2F4E-1782-4BCF-8480-FD72C715BE73}" type="slidenum">
              <a:t>26</a:t>
            </a:fld>
          </a:p>
        </p:txBody>
      </p:sp>
    </p:spTree>
  </p:cSld>
  <p:transition>
    <p:random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0881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the two-class case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2548080" y="169920"/>
                <a:ext cx="39686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706400" y="1413000"/>
                <a:ext cx="552456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b>
                                <m:s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sub>
                            </m:s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bar>
                                      <m:barPr>
                                        <m:pos m:val="bot"/>
                                      </m:barPr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</m:bar>
                                  </m:e>
                                  <m:sub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</m:sSub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</m:e>
                            </m:d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ι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Μ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024360" y="3789360"/>
                <a:ext cx="33462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048120" y="4826160"/>
                <a:ext cx="332424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p>
                              <m:e>
                                <m:bar>
                                  <m:barPr>
                                    <m:pos m:val="bot"/>
                                  </m:barPr>
                                  <m:e>
                                    <m:r>
                                      <m:t xml:space="preserve">w</m:t>
                                    </m:r>
                                  </m:e>
                                </m:ba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240D-97B9-4BB4-ACE9-2D7BF606BF09}" type="slidenum">
              <a:t>27</a:t>
            </a:fld>
          </a:p>
        </p:txBody>
      </p:sp>
    </p:spTree>
  </p:cSld>
  <p:transition>
    <p:random/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0881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unknown parameters                                     are usually estimated by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um likelihoo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argument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Logistic discrimination is a useful tool, since it allows linear modeling and at the same tim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nsure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terior probabilitie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to add to 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424400" y="419040"/>
                <a:ext cx="291456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 M-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79D6-DBBB-4739-AC45-779919005014}" type="slidenum">
              <a:t>28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2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:  Given two linearly separable classes, design the classifier</a:t>
            </a: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at leave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maximum 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both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330720" y="1557360"/>
                <a:ext cx="25794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6408720" cy="348156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17480" y="379440"/>
            <a:ext cx="412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upport Vecto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B68A-1BCB-4925-9071-518541B95471}" type="slidenum">
              <a:t>29</a:t>
            </a:fld>
          </a:p>
        </p:txBody>
      </p:sp>
    </p:spTree>
  </p:cSld>
  <p:transition>
    <p:random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514440"/>
            <a:ext cx="777240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he Perceptr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ssume linearly separable classes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cas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alls under the above formulation, si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060720" y="1781280"/>
                <a:ext cx="287964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*: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sSup>
                          <m:e>
                            <m:r>
                              <m:t xml:space="preserve">∗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2738520" y="3181320"/>
                <a:ext cx="1295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sSup>
                          <m:e/>
                          <m:sup>
                            <m:r>
                              <m:t xml:space="preserve">T</m:t>
                            </m:r>
                          </m:sup>
                        </m:sSup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2124000" y="4221000"/>
                <a:ext cx="23036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'</m:t>
                    </m:r>
                    <m:r>
                      <m:t xml:space="preserve">≡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w</m:t>
                                  </m:r>
                                </m:e>
                              </m:bar>
                              <m:r>
                                <m:t xml:space="preserve">∗</m:t>
                              </m:r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  <m:sup/>
                              </m:sSubSup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'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bar>
                                <m:barPr>
                                  <m:pos m:val="bot"/>
                                </m:barPr>
                                <m:e>
                                  <m:r>
                                    <m:t xml:space="preserve">x</m:t>
                                  </m:r>
                                </m:e>
                              </m:ba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2050920" y="5589720"/>
                <a:ext cx="28814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sSup>
                      <m:e>
                        <m:r>
                          <m:t xml:space="preserve">∗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  <m:sup/>
                    </m:sSubSup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sSup>
                      <m:e>
                        <m:r>
                          <m:t xml:space="preserve">'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AF3-8AE2-494F-A0B9-7033658647FC}" type="slidenum">
              <a:t>3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869760"/>
            <a:ext cx="7726320" cy="55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:  Each hyperplane is characterized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direction in space, i.e.,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ts position in spac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EACH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direction,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the hyperplane that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leaves the SAME 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distanc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ares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ints from each clas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rgin is twice this distance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219640" y="2060640"/>
                <a:ext cx="30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148360" y="2852640"/>
                <a:ext cx="4190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356000" y="3700440"/>
                <a:ext cx="304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F14-3AA8-48D2-9B64-CA82DF2E542A}" type="slidenum">
              <a:t>30</a:t>
            </a:fld>
          </a:p>
        </p:txBody>
      </p:sp>
    </p:spTree>
  </p:cSld>
  <p:transition>
    <p:random/>
  </p:transition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440" y="43920"/>
            <a:ext cx="7342200" cy="46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distance of a point  from a hyperplan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s given by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cale,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so that 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nearest point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rom each class the discriminant function is ±1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given b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 algn="just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so, the following is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003640" y="47520"/>
                <a:ext cx="2556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314440" y="1830240"/>
                <a:ext cx="8892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459240" y="692280"/>
                <a:ext cx="13590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ba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836720" y="2637000"/>
                <a:ext cx="590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rPr>
                            <m:lit/>
                            <m:nor/>
                          </m:rPr>
                          <m:t xml:space="preserve">1 for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706920" y="3789360"/>
                <a:ext cx="1873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348000" y="5516640"/>
                <a:ext cx="295272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∀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64DE-009B-4DB6-907E-16643203513A}" type="slidenum">
              <a:t>31</a:t>
            </a:fld>
          </a:p>
        </p:txBody>
      </p:sp>
    </p:spTree>
  </p:cSld>
  <p:transition>
    <p:random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000" y="253800"/>
            <a:ext cx="7149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lvl="1" marL="594360" indent="-228600">
              <a:spcBef>
                <a:spcPts val="55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VM (linear) classifi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743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justified since by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ing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94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argi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s maximis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2868480" y="736560"/>
                <a:ext cx="201312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798640" y="1665360"/>
                <a:ext cx="18176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2556000" y="3538440"/>
                <a:ext cx="23032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for 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567160" y="2962440"/>
                <a:ext cx="36493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877080" y="4941720"/>
                <a:ext cx="4525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‖"/>
                        <m:endChr m:val="‖"/>
                      </m:dP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03640" y="5445000"/>
                <a:ext cx="495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w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B2B8-A19A-4EC4-AC11-9507E36B74E7}" type="slidenum">
              <a:t>32</a:t>
            </a:fld>
          </a:p>
        </p:txBody>
      </p:sp>
    </p:spTree>
  </p:cSld>
  <p:transition>
    <p:random/>
  </p:transition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1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/>
                                        <p:tgtEl>
                                          <p:spTgt spid="1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bove is a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quadratic optimization task</a:t>
            </a:r>
            <a:r>
              <a:rPr b="0" lang="el-GR" sz="2200" spc="-1" strike="noStrike">
                <a:solidFill>
                  <a:srgbClr val="3333cc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ubject to a set of linear inequality constraints. 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Karush-Kuhh-Tuck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onditions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e that th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nimizer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satisfies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is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grangia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2411280" y="1776240"/>
                <a:ext cx="21607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rPr>
                        <m:lit/>
                        <m:nor/>
                      </m:rPr>
                      <m:t xml:space="preserve"> 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0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424240" y="2565360"/>
                <a:ext cx="22780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2556000" y="3573360"/>
                <a:ext cx="244764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627280" y="4292640"/>
                <a:ext cx="4332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843280" y="5229360"/>
                <a:ext cx="86508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⋅</m:t>
                    </m:r>
                    <m:r>
                      <m:t xml:space="preserve">,</m:t>
                    </m:r>
                    <m:r>
                      <m:t xml:space="preserve">⋅</m:t>
                    </m:r>
                    <m:r>
                      <m:t xml:space="preserve">,</m:t>
                    </m:r>
                    <m:r>
                      <m:t xml:space="preserve">⋅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340000" y="5589720"/>
                <a:ext cx="5289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B535-3776-4811-9F6A-074DBE7A73DC}" type="slidenum">
              <a:t>33</a:t>
            </a:fld>
          </a:p>
        </p:txBody>
      </p:sp>
    </p:spTree>
  </p:cSld>
  <p:transition>
    <p:random/>
  </p:transition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1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33320" y="1152000"/>
            <a:ext cx="7726320" cy="38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olution:  from the above, it turns out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171880" y="2160720"/>
                <a:ext cx="19443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171880" y="3359160"/>
                <a:ext cx="14396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5D3-4EAC-4863-875A-20B475E5038E}" type="slidenum">
              <a:t>34</a:t>
            </a:fld>
          </a:p>
        </p:txBody>
      </p:sp>
    </p:spTree>
  </p:cSld>
  <p:transition>
    <p:random/>
  </p:transition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1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1155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 algn="just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Lagrange multiplie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an be either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zero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r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 Thus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  , corresponding to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Lagrange multipli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-200880" algn="just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rom constraint (4) above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vectors contributing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407960" indent="0" algn="just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484360" y="1413000"/>
                <a:ext cx="172728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220920" y="2508120"/>
                <a:ext cx="1008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825640" y="4076640"/>
                <a:ext cx="4643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[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3924360" y="5373720"/>
                <a:ext cx="2160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729400" y="4756320"/>
                <a:ext cx="3553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5725440" y="4802040"/>
            <a:ext cx="170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atis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B648-18A5-4EAE-996C-05BC5BD3C84E}" type="slidenum">
              <a:t>35</a:t>
            </a:fld>
          </a:p>
        </p:txBody>
      </p:sp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7203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se vectors 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UPPORT VECTORS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nd are th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closest vector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from each class, to the classifier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ce  is computed,  is determined from conditions (4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ptimal hyperplane classifier of a support vector machine i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UNIQU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hough the solution is unique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resulting Lagrange multipliers are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o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unique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16160" y="2405160"/>
                <a:ext cx="304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5286240" y="2421000"/>
                <a:ext cx="3603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8F55-4146-4C39-A58E-45B2DD589F39}" type="slidenum">
              <a:t>36</a:t>
            </a:fld>
          </a:p>
        </p:txBody>
      </p:sp>
    </p:spTree>
  </p:cSld>
  <p:transition>
    <p:random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3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6948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ual Problem Formul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VM formulation is a convex programming problem, with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vex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nvex region of feasible solu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us, its solution can be achieved by its dual problem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l-GR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3741840" y="3173400"/>
                <a:ext cx="13874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021120" y="4292640"/>
                <a:ext cx="1695240" cy="22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λ</m:t>
                            </m:r>
                          </m:e>
                        </m:bar>
                        <m:r>
                          <m:t xml:space="preserve">≥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2556000" y="3429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77EB-F440-4C38-933D-7892E3564AC4}" type="slidenum">
              <a:t>37</a:t>
            </a:fld>
          </a:p>
        </p:txBody>
      </p:sp>
    </p:spTree>
  </p:cSld>
  <p:transition>
    <p:random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9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2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7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9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2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6948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bine the above to obt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3333cc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635280" y="1052640"/>
                <a:ext cx="36720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203640" y="2997360"/>
                <a:ext cx="1224000" cy="115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λ</m:t>
                            </m:r>
                          </m:e>
                        </m:bar>
                        <m:r>
                          <m:t xml:space="preserve">≥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0</m:t>
                            </m:r>
                          </m:e>
                        </m:ba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332000" y="15192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 u="sng">
                <a:solidFill>
                  <a:srgbClr val="000000"/>
                </a:solidFill>
                <a:uFillTx/>
                <a:latin typeface="Times New Roman"/>
              </a:rPr>
              <a:t>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6E89-F266-4576-947C-8BC0AB4A5133}" type="slidenum">
              <a:t>38</a:t>
            </a:fld>
          </a:p>
        </p:txBody>
      </p:sp>
    </p:spTree>
  </p:cSld>
  <p:transition>
    <p:random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8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7823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Remarks</a:t>
            </a:r>
            <a:r>
              <a:rPr b="0" lang="el-GR" sz="22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 vectors enter via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inner produ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n-Separable class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189840" y="365760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971640" y="2579760"/>
            <a:ext cx="7489800" cy="3297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B86-6872-4329-BEF8-5F9465FB75EB}" type="slidenum">
              <a:t>39</a:t>
            </a:fld>
          </a:p>
        </p:txBody>
      </p:sp>
    </p:spTree>
  </p:cSld>
  <p:transition>
    <p:random/>
  </p:transition>
  <p:timing>
    <p:tnLst>
      <p:par>
        <p:cTn id="1168" dur="indefinite" restart="never" nodeType="tmRoot">
          <p:childTnLst>
            <p:seq>
              <p:cTn id="1169" dur="indefinite" nodeType="mainSeq">
                <p:childTnLst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865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ur goal:  Compute a solution, i.e., a hyperplane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o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tep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Define a cost function to be minimiz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hoose an algorithm to minimize the cost func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minimum corresponds to a solu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056040" y="1843200"/>
                <a:ext cx="346068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m>
                      <m:m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 flipV="1">
            <a:off x="5078520" y="2130120"/>
            <a:ext cx="9334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91120" y="2328840"/>
            <a:ext cx="99360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324-1A63-45C9-A024-DBB4BC9A433B}" type="slidenum">
              <a:t>4</a:t>
            </a:fld>
          </a:p>
        </p:txBody>
      </p:sp>
    </p:spTree>
  </p:cSld>
  <p:transition>
    <p:random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85440" y="44280"/>
            <a:ext cx="7823160" cy="54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is case, there is no hyperplane such tha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call that the margin is defined as twice the distance between the following two hyperplan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916360" y="2205000"/>
                <a:ext cx="3141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&lt;</m:t>
                    </m:r>
                    <m:r>
                      <m:t xml:space="preserve">)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∀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189840" y="365760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3132000" y="4213080"/>
                <a:ext cx="28083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E22-4134-42EB-927D-EB81CEFFE6E0}" type="slidenum">
              <a:t>40</a:t>
            </a:fld>
          </a:p>
        </p:txBody>
      </p:sp>
    </p:spTree>
  </p:cSld>
  <p:transition>
    <p:random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685800" y="277560"/>
            <a:ext cx="7726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708480" indent="-283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training vectors belong to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one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f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thre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possible categori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8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out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band which are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rrectly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classified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insid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he band, and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correct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ified,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3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isclassifi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, i.e.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983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48080" y="2193840"/>
                <a:ext cx="21733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189840" y="3139920"/>
                <a:ext cx="750600" cy="14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20960" y="3849840"/>
                <a:ext cx="32846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09800" y="5146560"/>
                <a:ext cx="32371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077C-E6FE-4B35-8FB0-16AA19033041}" type="slidenum">
              <a:t>41</a:t>
            </a:fld>
          </a:p>
        </p:txBody>
      </p:sp>
    </p:spTree>
  </p:cSld>
  <p:transition>
    <p:random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5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3" dur="500"/>
                                        <p:tgtEl>
                                          <p:spTgt spid="2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8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792000"/>
            <a:ext cx="77263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62120" indent="-3049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l three cases above can be represented 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1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2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0000"/>
                </a:solidFill>
                <a:latin typeface="Tahoma"/>
              </a:rPr>
              <a:t>3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811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re known as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slack varia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6189840" y="3654360"/>
                <a:ext cx="7506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881440" y="1268280"/>
                <a:ext cx="2585880" cy="5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sup>
                        <m:r>
                          <m:t xml:space="preserve">T</m:t>
                        </m:r>
                      </m:sup>
                    </m:sSup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268360" y="1955880"/>
                <a:ext cx="14400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0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→</m:t>
                        </m:r>
                        <m:r>
                          <m:t xml:space="preserve">1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763640" y="3571920"/>
                <a:ext cx="338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11E-8AD6-47EC-8D7F-5975D66AE256}" type="slidenum">
              <a:t>42</a:t>
            </a:fld>
          </a:p>
        </p:txBody>
      </p:sp>
    </p:spTree>
  </p:cSld>
  <p:transition>
    <p:random/>
  </p:transition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8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1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7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0" dur="5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85800" y="-243000"/>
            <a:ext cx="7631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goal of the optimization is now two-fol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aximize marg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inimize the number of patterns with           ,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ne way to achieve this goal is via the cos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249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3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a constant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0">
              <a:spcBef>
                <a:spcPts val="2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(.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not differentiable.  In practice, we use an approxim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ollowing a similar procedure as before we obta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0">
              <a:spcBef>
                <a:spcPts val="550"/>
              </a:spcBef>
              <a:buNone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659640" y="993600"/>
                <a:ext cx="7207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736720" y="1773360"/>
                <a:ext cx="3667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ξ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ξ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348000" y="2997360"/>
                <a:ext cx="237636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ξ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944720" y="4869000"/>
                <a:ext cx="3336840" cy="80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ξ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F32-D7FB-4907-BDE7-A97B5501D1C4}" type="slidenum">
              <a:t>43</a:t>
            </a:fld>
          </a:p>
        </p:txBody>
      </p:sp>
    </p:spTree>
  </p:cSld>
  <p:transition>
    <p:random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5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2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2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9" dur="500"/>
                                        <p:tgtEl>
                                          <p:spTgt spid="2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685800" y="387000"/>
            <a:ext cx="7726320" cy="59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KKT condi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185920" y="1330200"/>
                <a:ext cx="5058000" cy="32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[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AF32-79EB-4361-835B-412AFC1A030F}" type="slidenum">
              <a:t>44</a:t>
            </a:fld>
          </a:p>
        </p:txBody>
      </p:sp>
    </p:spTree>
  </p:cSld>
  <p:transition>
    <p:random/>
  </p:transition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6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7263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associated dual proble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Maximiz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subject to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cc99"/>
                </a:solidFill>
                <a:uFillTx/>
                <a:latin typeface="Tahoma"/>
              </a:rPr>
              <a:t>Remarks</a:t>
            </a: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only difference with the separabl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lass case is the existence of     in the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trai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019320" y="1071720"/>
                <a:ext cx="332100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λ</m:t>
                        </m:r>
                      </m:e>
                    </m:bar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Sup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771640" y="2565360"/>
                <a:ext cx="266400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0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7124760" y="4844880"/>
                <a:ext cx="30168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C9DF-0EC8-469D-89CE-CC3571A91F0E}" type="slidenum">
              <a:t>45</a:t>
            </a:fld>
          </a:p>
        </p:txBody>
      </p:sp>
    </p:spTree>
  </p:cSld>
  <p:transition>
    <p:random/>
  </p:transition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6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2" dur="500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3" dur="500"/>
                                        <p:tgtEl>
                                          <p:spTgt spid="2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726320" cy="599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raining the SV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 major problem is the high computational cost. To this end, decomposition techniques are used. The rationale behind them consists of the following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t with an arbitrary data subset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(working 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at can fit in the memory. Perform optimization, via a general purpose optimiz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ing support vector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remain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the working set, while others are replaced by new ones (outside the set) that violate severely the KKT condi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eat the procedu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above procedure guarantees that the cost function decrea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tt’s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MO algorith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hooses a working set of two samples, thus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 analytic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mization solution can be obtain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3ED-DA47-4B7D-87A4-D70C44EF10AB}" type="slidenum">
              <a:t>46</a:t>
            </a:fld>
          </a:p>
        </p:txBody>
      </p:sp>
    </p:spTree>
  </p:cSld>
  <p:transition>
    <p:random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1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6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91856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Multi-class generaliz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lthough theoretical generalizations exist, the most popular in practice is to look at the problem as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two-class problems (one against all)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cc99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ahoma"/>
              </a:rPr>
              <a:t>Example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Observe the effect of different values of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in the case of non-separable class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835280" y="2708280"/>
            <a:ext cx="6264000" cy="275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CB9-7FF9-4813-8183-3CCDE0B5DB23}" type="slidenum">
              <a:t>47</a:t>
            </a:fld>
          </a:p>
        </p:txBody>
      </p:sp>
    </p:spTree>
  </p:cSld>
  <p:transition>
    <p:random/>
  </p:transition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1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6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2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333000"/>
            <a:ext cx="7726320" cy="56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st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 algn="just"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here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subset of the vectors </a:t>
            </a: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rongl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classified by 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When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=(empty set) a solution is achieved 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689200" y="836640"/>
                <a:ext cx="23256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154240" y="3213000"/>
                <a:ext cx="1449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050920" y="4108320"/>
                <a:ext cx="32403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=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if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124000" y="5300640"/>
                <a:ext cx="16606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(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849-B83A-4226-93EF-85BD554BAC0B}" type="slidenum">
              <a:t>5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9800" y="907920"/>
            <a:ext cx="7054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w</a:t>
            </a:r>
            <a:r>
              <a:rPr b="0" lang="el-GR" sz="22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s piecewise linear (WHY?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philosophy of the gradient descent is adopt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124000" y="1596960"/>
            <a:ext cx="5329440" cy="215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F24-E34D-4B81-82D0-38D4304C08E5}" type="slidenum">
              <a:t>6</a:t>
            </a:fld>
          </a:p>
        </p:txBody>
      </p:sp>
    </p:spTree>
  </p:cSld>
  <p:transition>
    <p:random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259920"/>
            <a:ext cx="763128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550"/>
              </a:spcBef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Tahoma"/>
              </a:rPr>
              <a:t>Wherever vali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is is the celebrated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Perceptron Algorith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362240" y="3068640"/>
                <a:ext cx="273996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e>
                      <m:e>
                        <m:r>
                          <m:t xml:space="preserve">Δ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J</m:t>
                            </m:r>
                            <m:r>
                              <m:t xml:space="preserve">(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∂</m:t>
                            </m:r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den>
                        </m:f>
                        <m:r>
                          <m:t xml:space="preserve">|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978200" y="4719600"/>
                <a:ext cx="3819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J</m:t>
                        </m:r>
                        <m:r>
                          <m:t xml:space="preserve">(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p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w</m:t>
                                </m:r>
                              </m:e>
                            </m:ba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∈</m:t>
                            </m:r>
                            <m:r>
                              <m:t xml:space="preserve">Y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</m:nary>
                      </m:e>
                    </m:nary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195640" y="5805360"/>
                <a:ext cx="252072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bot"/>
                      </m:barPr>
                      <m:e>
                        <m:r>
                          <m:t xml:space="preserve">w</m:t>
                        </m:r>
                      </m:e>
                    </m:ba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∈</m:t>
                        </m:r>
                        <m:r>
                          <m:t xml:space="preserve">Y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e>
                    </m:nary>
                    <m:bar>
                      <m:barPr>
                        <m:pos m:val="bot"/>
                      </m:barPr>
                      <m:e>
                        <m:r>
                          <m:t xml:space="preserve">x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293840" y="115920"/>
            <a:ext cx="6556320" cy="2808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994440" y="2917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E4E8-B9CA-46BC-855A-BD62B0311BA3}" type="slidenum">
              <a:t>7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6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44280"/>
            <a:ext cx="76312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ahoma"/>
              </a:rPr>
              <a:t>An example</a:t>
            </a:r>
            <a:r>
              <a:rPr b="0" lang="el-GR" sz="2400" spc="-1" strike="noStrike">
                <a:solidFill>
                  <a:srgbClr val="00cc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erceptron algorithm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nverg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a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fini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umber of iteration steps to a solution 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41760" y="3463920"/>
                <a:ext cx="3752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bar>
                          <m:barPr>
                            <m:pos m:val="bot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82560" y="5181480"/>
                <a:ext cx="5942160" cy="14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  <m:r>
                          <m:t xml:space="preserve">→</m:t>
                        </m:r>
                        <m:r>
                          <m:t xml:space="preserve">∞</m:t>
                        </m:r>
                        <m:r>
                          <m:t xml:space="preserve">,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&lt;+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: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068560" y="566640"/>
            <a:ext cx="5006880" cy="2862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E84-40F3-4180-9541-94E5832C91F8}" type="slidenum">
              <a:t>8</a:t>
            </a:fld>
          </a:p>
        </p:txBody>
      </p:sp>
    </p:spTree>
  </p:cSld>
  <p:transition>
    <p:random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88640"/>
            <a:ext cx="7631280" cy="54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useful variant of the perceptr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reward and punishme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type of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206800" y="1285920"/>
                <a:ext cx="4464000" cy="22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,   </m:t>
                        </m:r>
                        <m:m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sSub>
                          <m:e>
                            <m:bar>
                              <m:barPr>
                                <m:pos m:val="bot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,   </m:t>
                        </m:r>
                        <m:m>
                          <m:mr>
                            <m:e>
                              <m:sSup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bar>
                                </m:e>
                                <m:sup>
                                  <m:r>
                                    <m:t xml:space="preserve">T</m:t>
                                  </m:r>
                                </m:sup>
                              </m:sSup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bar>
                                    <m:barPr>
                                      <m:pos m:val="bot"/>
                                    </m:barPr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</m:bar>
                                </m:e>
                                <m:sub>
                                  <m:r>
                                    <m:t xml:space="preserve">(</m:t>
                                  </m:r>
                                  <m:r>
                                    <m:t xml:space="preserve">t</m:t>
                                  </m:r>
                                  <m:r>
                                    <m:t xml:space="preserve">)</m:t>
                                  </m:r>
                                </m:sub>
                              </m:sSub>
                              <m:r>
                                <m:t xml:space="preserve">∈</m:t>
                              </m:r>
                              <m:sSub>
                                <m:e>
                                  <m:r>
                                    <m:t xml:space="preserve">ω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bar>
                          <m:barPr>
                            <m:pos m:val="bot"/>
                          </m:barPr>
                          <m:e>
                            <m:r>
                              <m:t xml:space="preserve">w</m:t>
                            </m:r>
                          </m:e>
                        </m:ba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otherwise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2556000" y="4653000"/>
            <a:ext cx="3240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DBFB-2479-4000-90CA-527DC9B651ED}" type="slidenum">
              <a:t>9</a:t>
            </a:fld>
          </a:p>
        </p:txBody>
      </p:sp>
    </p:spTree>
  </p:cSld>
  <p:transition>
    <p:random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2T18:14:25Z</dcterms:created>
  <dc:creator>Jim</dc:creator>
  <dc:description/>
  <dc:language>en-US</dc:language>
  <cp:lastModifiedBy>ST</cp:lastModifiedBy>
  <dcterms:modified xsi:type="dcterms:W3CDTF">2006-09-01T12:56:11Z</dcterms:modified>
  <cp:revision>733</cp:revision>
  <dc:subject/>
  <dc:title>PowerPoint Presentation</dc:title>
</cp:coreProperties>
</file>