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F9A-FD1B-4550-A17E-28A4C18C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E81-2FFF-4DCE-BA36-DA537C26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D8A-F4D4-4148-BC5E-C7AE0137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926-4C89-42A7-8596-F9CE99A4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047-2B76-46EE-887B-438201BC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6DB-325E-4F9B-A349-FAF2AD15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467-8BF6-440C-99FC-DA85679F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11F-F890-4527-B866-3DE9930F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FE8-2DD1-4DFF-A410-B56C2E0C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E57-6D60-4191-8467-DD9A6E9D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D30-E465-429B-ACBA-60B30C86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E60-F17B-4542-8766-9490DF76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B946-60B9-4878-B4F8-AD876CFFA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360" y="76320"/>
            <a:ext cx="774144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AGNETICALLY COUPL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8680" y="973080"/>
            <a:ext cx="19638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4320" y="1582560"/>
            <a:ext cx="6078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inductors sharing a common 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66480" y="2438280"/>
            <a:ext cx="6870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to establish relationship between  mutual reluctan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f-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6080" y="3639960"/>
            <a:ext cx="6746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ice modeling components used to  change voltage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7800" y="4782960"/>
            <a:ext cx="745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ortant issues for the safe operation of circuits with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E08.002_W086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142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666880" y="16668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0" name=""/>
          <p:cNvGrpSpPr/>
          <p:nvPr/>
        </p:nvGrpSpPr>
        <p:grpSpPr>
          <a:xfrm>
            <a:off x="838080" y="1219320"/>
            <a:ext cx="2438640" cy="825480"/>
            <a:chOff x="838080" y="1219320"/>
            <a:chExt cx="2438640" cy="82548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752480" y="121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057400" y="1219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83808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743200" y="1905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93960" y="219240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000" y="26496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90720" y="4572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85800" y="313848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85800" y="34434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85800" y="41911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8160" y="3792600"/>
            <a:ext cx="331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Coupled inductors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762120" y="5334120"/>
                <a:ext cx="204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169200" y="493560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365640" y="6094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55" name=""/>
          <p:cNvGrpSpPr/>
          <p:nvPr/>
        </p:nvGrpSpPr>
        <p:grpSpPr>
          <a:xfrm>
            <a:off x="304920" y="5334120"/>
            <a:ext cx="3568680" cy="685800"/>
            <a:chOff x="304920" y="5334120"/>
            <a:chExt cx="3568680" cy="685800"/>
          </a:xfrm>
        </p:grpSpPr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895480" y="5334120"/>
                  <a:ext cx="978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"/>
            <p:cNvSpPr/>
            <p:nvPr/>
          </p:nvSpPr>
          <p:spPr>
            <a:xfrm>
              <a:off x="304920" y="6019920"/>
              <a:ext cx="3124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62120" y="60958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00600" y="228600"/>
                <a:ext cx="134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705720" y="228600"/>
                <a:ext cx="914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172200" y="228600"/>
                <a:ext cx="493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696080" y="228600"/>
                <a:ext cx="1231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791320" y="85248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2316240" y="2514600"/>
            <a:ext cx="23112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876920" y="121932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/>
                    </m:f>
                    <m:r>
                      <m:t xml:space="preserve">j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927680" y="16002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02400" y="19810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2438280"/>
                <a:ext cx="388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632560" y="289548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E08.003_W0864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047760" cy="26524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720520" y="120600"/>
            <a:ext cx="294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KVL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43000" y="762120"/>
            <a:ext cx="2843280" cy="1052280"/>
            <a:chOff x="1143000" y="762120"/>
            <a:chExt cx="2843280" cy="1052280"/>
          </a:xfrm>
        </p:grpSpPr>
        <p:sp>
          <p:nvSpPr>
            <p:cNvPr id="380" name=""/>
            <p:cNvSpPr/>
            <p:nvPr/>
          </p:nvSpPr>
          <p:spPr>
            <a:xfrm>
              <a:off x="1371600" y="9907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047760" y="91440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1143000" y="7621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581280" y="76212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1523880" y="1523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895480" y="1523880"/>
                  <a:ext cx="648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"/>
          <p:cNvSpPr/>
          <p:nvPr/>
        </p:nvSpPr>
        <p:spPr>
          <a:xfrm>
            <a:off x="80640" y="3564000"/>
            <a:ext cx="404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838080" y="4191120"/>
                <a:ext cx="283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838080" y="4495680"/>
                <a:ext cx="304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99000" y="487692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14400" y="52578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876240" y="55627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134640" y="5925960"/>
            <a:ext cx="370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876920" y="914400"/>
                <a:ext cx="377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876920" y="1447920"/>
                <a:ext cx="386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F08.009_W0865" descr=""/>
          <p:cNvPicPr/>
          <p:nvPr/>
        </p:nvPicPr>
        <p:blipFill>
          <a:blip r:embed="rId1"/>
          <a:stretch/>
        </p:blipFill>
        <p:spPr>
          <a:xfrm>
            <a:off x="9360" y="533520"/>
            <a:ext cx="3800520" cy="190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0" y="6094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743200" y="76212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57200" y="2438280"/>
                <a:ext cx="129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362320" y="2438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447920" y="274320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ωM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253188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7467480" y="0"/>
                <a:ext cx="787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9" name=""/>
          <p:cNvGrpSpPr/>
          <p:nvPr/>
        </p:nvGrpSpPr>
        <p:grpSpPr>
          <a:xfrm>
            <a:off x="609480" y="1143000"/>
            <a:ext cx="2971800" cy="366840"/>
            <a:chOff x="609480" y="1143000"/>
            <a:chExt cx="2971800" cy="366840"/>
          </a:xfrm>
        </p:grpSpPr>
        <p:sp>
          <p:nvSpPr>
            <p:cNvPr id="410" name=""/>
            <p:cNvSpPr/>
            <p:nvPr/>
          </p:nvSpPr>
          <p:spPr>
            <a:xfrm>
              <a:off x="838080" y="1371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590560" y="12952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60948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3176640" y="11430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1893960" y="1371600"/>
            <a:ext cx="468360" cy="1054080"/>
            <a:chOff x="1893960" y="1371600"/>
            <a:chExt cx="468360" cy="1054080"/>
          </a:xfrm>
        </p:grpSpPr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1893960" y="1371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097000" y="160020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89120" y="42670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374760" y="3182760"/>
            <a:ext cx="362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0240" y="363996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447920" y="45720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384840" y="501156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66680" y="541008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066680" y="57150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57480" y="6078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4572000" y="914400"/>
                <a:ext cx="294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4419720" y="941400"/>
            <a:ext cx="4572000" cy="620640"/>
            <a:chOff x="4419720" y="941400"/>
            <a:chExt cx="4572000" cy="6206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7594560" y="941400"/>
                  <a:ext cx="1397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ωM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"/>
            <p:cNvSpPr/>
            <p:nvPr/>
          </p:nvSpPr>
          <p:spPr>
            <a:xfrm>
              <a:off x="4419720" y="1562040"/>
              <a:ext cx="44193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724280" y="1638360"/>
                <a:ext cx="3543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jω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76920" y="2590920"/>
                <a:ext cx="3327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952880" y="34290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705720" y="35053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8153280" y="3517920"/>
                <a:ext cx="60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952880" y="4267080"/>
                <a:ext cx="3098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952880" y="4952880"/>
            <a:ext cx="3477960" cy="642240"/>
            <a:chOff x="4952880" y="4952880"/>
            <a:chExt cx="3477960" cy="642240"/>
          </a:xfrm>
        </p:grpSpPr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4952880" y="4952880"/>
                  <a:ext cx="2019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7" name=""/>
            <p:cNvSpPr/>
            <p:nvPr/>
          </p:nvSpPr>
          <p:spPr>
            <a:xfrm>
              <a:off x="5058720" y="5257800"/>
              <a:ext cx="33721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: This is NOT a pha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E08.004_W0866" descr=""/>
          <p:cNvPicPr/>
          <p:nvPr/>
        </p:nvPicPr>
        <p:blipFill>
          <a:blip r:embed="rId1"/>
          <a:stretch/>
        </p:blipFill>
        <p:spPr>
          <a:xfrm>
            <a:off x="0" y="762120"/>
            <a:ext cx="5743440" cy="1574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77632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90720" y="609480"/>
            <a:ext cx="1523880" cy="1067040"/>
            <a:chOff x="990720" y="609480"/>
            <a:chExt cx="1523880" cy="1067040"/>
          </a:xfrm>
        </p:grpSpPr>
        <p:sp>
          <p:nvSpPr>
            <p:cNvPr id="447" name=""/>
            <p:cNvSpPr/>
            <p:nvPr/>
          </p:nvSpPr>
          <p:spPr>
            <a:xfrm>
              <a:off x="990720" y="91440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1041480" y="609480"/>
                  <a:ext cx="1396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9" name=""/>
          <p:cNvGrpSpPr/>
          <p:nvPr/>
        </p:nvGrpSpPr>
        <p:grpSpPr>
          <a:xfrm>
            <a:off x="3657600" y="457200"/>
            <a:ext cx="2133720" cy="1981080"/>
            <a:chOff x="3657600" y="457200"/>
            <a:chExt cx="2133720" cy="1981080"/>
          </a:xfrm>
        </p:grpSpPr>
        <p:sp>
          <p:nvSpPr>
            <p:cNvPr id="450" name=""/>
            <p:cNvSpPr/>
            <p:nvPr/>
          </p:nvSpPr>
          <p:spPr>
            <a:xfrm>
              <a:off x="3657600" y="762120"/>
              <a:ext cx="2057400" cy="1676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038480" y="457200"/>
                  <a:ext cx="175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943600" y="914400"/>
                <a:ext cx="229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265320" y="3657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238560" y="4064040"/>
                <a:ext cx="3327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251160" y="476244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6362640" y="4800600"/>
                <a:ext cx="184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8267760" y="4800600"/>
                <a:ext cx="87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238560" y="55627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632448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362320" y="2895480"/>
                <a:ext cx="1358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800600" y="3200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1187280" y="1155600"/>
            <a:ext cx="2970360" cy="1206720"/>
            <a:chOff x="1187280" y="1155600"/>
            <a:chExt cx="2970360" cy="1206720"/>
          </a:xfrm>
        </p:grpSpPr>
        <p:grpSp>
          <p:nvGrpSpPr>
            <p:cNvPr id="463" name=""/>
            <p:cNvGrpSpPr/>
            <p:nvPr/>
          </p:nvGrpSpPr>
          <p:grpSpPr>
            <a:xfrm>
              <a:off x="1187280" y="1382760"/>
              <a:ext cx="1305000" cy="770040"/>
              <a:chOff x="1187280" y="1382760"/>
              <a:chExt cx="1305000" cy="770040"/>
            </a:xfrm>
          </p:grpSpPr>
          <p:sp>
            <p:nvSpPr>
              <p:cNvPr id="464" name=""/>
              <p:cNvSpPr/>
              <p:nvPr/>
            </p:nvSpPr>
            <p:spPr>
              <a:xfrm>
                <a:off x="1187280" y="1382760"/>
                <a:ext cx="1305000" cy="770040"/>
              </a:xfrm>
              <a:custGeom>
                <a:avLst/>
                <a:gdLst/>
                <a:ahLst/>
                <a:rect l="l" t="t" r="r" b="b"/>
                <a:pathLst>
                  <a:path w="822" h="485">
                    <a:moveTo>
                      <a:pt x="0" y="469"/>
                    </a:moveTo>
                    <a:cubicBezTo>
                      <a:pt x="13" y="378"/>
                      <a:pt x="33" y="288"/>
                      <a:pt x="47" y="197"/>
                    </a:cubicBezTo>
                    <a:cubicBezTo>
                      <a:pt x="54" y="151"/>
                      <a:pt x="51" y="103"/>
                      <a:pt x="101" y="88"/>
                    </a:cubicBezTo>
                    <a:cubicBezTo>
                      <a:pt x="309" y="93"/>
                      <a:pt x="544" y="0"/>
                      <a:pt x="725" y="103"/>
                    </a:cubicBezTo>
                    <a:cubicBezTo>
                      <a:pt x="822" y="158"/>
                      <a:pt x="724" y="327"/>
                      <a:pt x="717" y="438"/>
                    </a:cubicBezTo>
                    <a:cubicBezTo>
                      <a:pt x="716" y="455"/>
                      <a:pt x="718" y="485"/>
                      <a:pt x="701" y="485"/>
                    </a:cubicBezTo>
                    <a:cubicBezTo>
                      <a:pt x="486" y="485"/>
                      <a:pt x="270" y="485"/>
                      <a:pt x="55" y="485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5" name=""/>
                  <p:cNvSpPr txBox="1"/>
                  <p:nvPr/>
                </p:nvSpPr>
                <p:spPr>
                  <a:xfrm>
                    <a:off x="1676520" y="1828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2884320" y="15368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812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8" name=""/>
            <p:cNvGrpSpPr/>
            <p:nvPr/>
          </p:nvGrpSpPr>
          <p:grpSpPr>
            <a:xfrm>
              <a:off x="3438360" y="1392120"/>
              <a:ext cx="719280" cy="797040"/>
              <a:chOff x="3438360" y="1392120"/>
              <a:chExt cx="719280" cy="797040"/>
            </a:xfrm>
          </p:grpSpPr>
          <mc:AlternateContent>
            <mc:Choice xmlns:a14="http://schemas.microsoft.com/office/drawing/2010/main" Requires="a14">
              <p:sp>
                <p:nvSpPr>
                  <p:cNvPr id="469" name=""/>
                  <p:cNvSpPr txBox="1"/>
                  <p:nvPr/>
                </p:nvSpPr>
                <p:spPr>
                  <a:xfrm>
                    <a:off x="380988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0" name=""/>
              <p:cNvSpPr/>
              <p:nvPr/>
            </p:nvSpPr>
            <p:spPr>
              <a:xfrm>
                <a:off x="3438360" y="1392120"/>
                <a:ext cx="719280" cy="797040"/>
              </a:xfrm>
              <a:custGeom>
                <a:avLst/>
                <a:gdLst/>
                <a:ahLst/>
                <a:rect l="l" t="t" r="r" b="b"/>
                <a:pathLst>
                  <a:path w="453" h="502">
                    <a:moveTo>
                      <a:pt x="0" y="11"/>
                    </a:moveTo>
                    <a:cubicBezTo>
                      <a:pt x="145" y="0"/>
                      <a:pt x="291" y="35"/>
                      <a:pt x="437" y="43"/>
                    </a:cubicBezTo>
                    <a:cubicBezTo>
                      <a:pt x="434" y="123"/>
                      <a:pt x="432" y="204"/>
                      <a:pt x="429" y="284"/>
                    </a:cubicBezTo>
                    <a:cubicBezTo>
                      <a:pt x="423" y="424"/>
                      <a:pt x="453" y="485"/>
                      <a:pt x="304" y="502"/>
                    </a:cubicBezTo>
                    <a:cubicBezTo>
                      <a:pt x="231" y="500"/>
                      <a:pt x="158" y="501"/>
                      <a:pt x="86" y="495"/>
                    </a:cubicBezTo>
                    <a:cubicBezTo>
                      <a:pt x="72" y="494"/>
                      <a:pt x="51" y="493"/>
                      <a:pt x="47" y="479"/>
                    </a:cubicBezTo>
                    <a:cubicBezTo>
                      <a:pt x="36" y="439"/>
                      <a:pt x="47" y="396"/>
                      <a:pt x="47" y="354"/>
                    </a:cubicBezTo>
                    <a:lnTo>
                      <a:pt x="90" y="371"/>
                    </a:ln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369360" y="2496960"/>
            <a:ext cx="356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520" y="4191120"/>
            <a:ext cx="3164760" cy="204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choose di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urr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2 is reversed one 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equations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evious exam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for I1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and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must b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6880" y="28782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55200" y="287820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52280" y="12952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24920" y="34920"/>
            <a:ext cx="2489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F08.010_W0867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934240" cy="1571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814840" y="58680"/>
            <a:ext cx="620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termine the total energy stored in a coupled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8560" y="2133720"/>
            <a:ext cx="7104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development is different from the one in the book. But the 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 is obviously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6320" y="2743200"/>
                <a:ext cx="4064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ATIONS FOR COUPLED INDUCTOR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76320" y="4408560"/>
                <a:ext cx="4101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POWER SUPPLIED TO NETWORK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895480" y="3124080"/>
                <a:ext cx="698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03040" y="5067360"/>
                <a:ext cx="3505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9" name=""/>
          <p:cNvGrpSpPr/>
          <p:nvPr/>
        </p:nvGrpSpPr>
        <p:grpSpPr>
          <a:xfrm>
            <a:off x="644400" y="4944960"/>
            <a:ext cx="2957760" cy="1938600"/>
            <a:chOff x="644400" y="4944960"/>
            <a:chExt cx="2957760" cy="1938600"/>
          </a:xfrm>
        </p:grpSpPr>
        <p:sp>
          <p:nvSpPr>
            <p:cNvPr id="490" name=""/>
            <p:cNvSpPr/>
            <p:nvPr/>
          </p:nvSpPr>
          <p:spPr>
            <a:xfrm>
              <a:off x="644400" y="4944960"/>
              <a:ext cx="2957760" cy="1413000"/>
            </a:xfrm>
            <a:custGeom>
              <a:avLst/>
              <a:gdLst/>
              <a:ahLst/>
              <a:rect l="l" t="t" r="r" b="b"/>
              <a:pathLst>
                <a:path w="1863" h="890">
                  <a:moveTo>
                    <a:pt x="1394" y="509"/>
                  </a:moveTo>
                  <a:cubicBezTo>
                    <a:pt x="1541" y="503"/>
                    <a:pt x="1702" y="491"/>
                    <a:pt x="1830" y="408"/>
                  </a:cubicBezTo>
                  <a:cubicBezTo>
                    <a:pt x="1834" y="399"/>
                    <a:pt x="1862" y="343"/>
                    <a:pt x="1862" y="322"/>
                  </a:cubicBezTo>
                  <a:cubicBezTo>
                    <a:pt x="1862" y="273"/>
                    <a:pt x="1863" y="222"/>
                    <a:pt x="1854" y="174"/>
                  </a:cubicBezTo>
                  <a:cubicBezTo>
                    <a:pt x="1851" y="156"/>
                    <a:pt x="1797" y="149"/>
                    <a:pt x="1784" y="143"/>
                  </a:cubicBezTo>
                  <a:cubicBezTo>
                    <a:pt x="1682" y="100"/>
                    <a:pt x="1573" y="91"/>
                    <a:pt x="1464" y="72"/>
                  </a:cubicBezTo>
                  <a:cubicBezTo>
                    <a:pt x="1322" y="75"/>
                    <a:pt x="940" y="0"/>
                    <a:pt x="1028" y="127"/>
                  </a:cubicBezTo>
                  <a:cubicBezTo>
                    <a:pt x="997" y="217"/>
                    <a:pt x="1022" y="198"/>
                    <a:pt x="934" y="213"/>
                  </a:cubicBezTo>
                  <a:cubicBezTo>
                    <a:pt x="914" y="301"/>
                    <a:pt x="874" y="351"/>
                    <a:pt x="810" y="415"/>
                  </a:cubicBezTo>
                  <a:cubicBezTo>
                    <a:pt x="786" y="439"/>
                    <a:pt x="798" y="463"/>
                    <a:pt x="747" y="470"/>
                  </a:cubicBezTo>
                  <a:cubicBezTo>
                    <a:pt x="726" y="473"/>
                    <a:pt x="706" y="475"/>
                    <a:pt x="685" y="478"/>
                  </a:cubicBezTo>
                  <a:cubicBezTo>
                    <a:pt x="456" y="472"/>
                    <a:pt x="254" y="461"/>
                    <a:pt x="30" y="532"/>
                  </a:cubicBezTo>
                  <a:cubicBezTo>
                    <a:pt x="0" y="595"/>
                    <a:pt x="3" y="666"/>
                    <a:pt x="38" y="727"/>
                  </a:cubicBezTo>
                  <a:cubicBezTo>
                    <a:pt x="44" y="737"/>
                    <a:pt x="44" y="752"/>
                    <a:pt x="54" y="758"/>
                  </a:cubicBezTo>
                  <a:cubicBezTo>
                    <a:pt x="193" y="835"/>
                    <a:pt x="352" y="859"/>
                    <a:pt x="506" y="875"/>
                  </a:cubicBezTo>
                  <a:cubicBezTo>
                    <a:pt x="567" y="873"/>
                    <a:pt x="805" y="890"/>
                    <a:pt x="919" y="852"/>
                  </a:cubicBezTo>
                  <a:cubicBezTo>
                    <a:pt x="946" y="768"/>
                    <a:pt x="924" y="818"/>
                    <a:pt x="1004" y="711"/>
                  </a:cubicBezTo>
                  <a:cubicBezTo>
                    <a:pt x="1023" y="686"/>
                    <a:pt x="1026" y="652"/>
                    <a:pt x="1043" y="626"/>
                  </a:cubicBezTo>
                  <a:cubicBezTo>
                    <a:pt x="1047" y="600"/>
                    <a:pt x="1042" y="568"/>
                    <a:pt x="1059" y="548"/>
                  </a:cubicBezTo>
                  <a:cubicBezTo>
                    <a:pt x="1092" y="508"/>
                    <a:pt x="1152" y="507"/>
                    <a:pt x="1199" y="501"/>
                  </a:cubicBezTo>
                  <a:cubicBezTo>
                    <a:pt x="1277" y="475"/>
                    <a:pt x="1215" y="492"/>
                    <a:pt x="1394" y="50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143000" y="6324480"/>
                  <a:ext cx="990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2" name=""/>
          <p:cNvGrpSpPr/>
          <p:nvPr/>
        </p:nvGrpSpPr>
        <p:grpSpPr>
          <a:xfrm>
            <a:off x="2666880" y="5638680"/>
            <a:ext cx="1352520" cy="1225800"/>
            <a:chOff x="2666880" y="5638680"/>
            <a:chExt cx="1352520" cy="1225800"/>
          </a:xfrm>
        </p:grpSpPr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3168720" y="6243480"/>
                  <a:ext cx="8506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4" name=""/>
            <p:cNvSpPr/>
            <p:nvPr/>
          </p:nvSpPr>
          <p:spPr>
            <a:xfrm>
              <a:off x="2666880" y="5638680"/>
              <a:ext cx="1067040" cy="6098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78120" y="6259680"/>
              <a:ext cx="412920" cy="495000"/>
            </a:xfrm>
            <a:custGeom>
              <a:avLst/>
              <a:gdLst/>
              <a:ahLst/>
              <a:rect l="l" t="t" r="r" b="b"/>
              <a:pathLst>
                <a:path w="260" h="312">
                  <a:moveTo>
                    <a:pt x="3" y="0"/>
                  </a:moveTo>
                  <a:cubicBezTo>
                    <a:pt x="6" y="101"/>
                    <a:pt x="0" y="203"/>
                    <a:pt x="11" y="304"/>
                  </a:cubicBezTo>
                  <a:cubicBezTo>
                    <a:pt x="12" y="312"/>
                    <a:pt x="27" y="299"/>
                    <a:pt x="34" y="296"/>
                  </a:cubicBezTo>
                  <a:cubicBezTo>
                    <a:pt x="73" y="280"/>
                    <a:pt x="71" y="277"/>
                    <a:pt x="112" y="250"/>
                  </a:cubicBezTo>
                  <a:cubicBezTo>
                    <a:pt x="152" y="223"/>
                    <a:pt x="216" y="227"/>
                    <a:pt x="260" y="20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46160" y="5029200"/>
            <a:ext cx="1987560" cy="1828800"/>
            <a:chOff x="146160" y="5029200"/>
            <a:chExt cx="1987560" cy="1828800"/>
          </a:xfrm>
        </p:grpSpPr>
        <p:sp>
          <p:nvSpPr>
            <p:cNvPr id="497" name=""/>
            <p:cNvSpPr/>
            <p:nvPr/>
          </p:nvSpPr>
          <p:spPr>
            <a:xfrm>
              <a:off x="1143000" y="5029200"/>
              <a:ext cx="9907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46160" y="6248520"/>
                  <a:ext cx="7873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"/>
            <p:cNvSpPr/>
            <p:nvPr/>
          </p:nvSpPr>
          <p:spPr>
            <a:xfrm>
              <a:off x="351000" y="5429160"/>
              <a:ext cx="774360" cy="819360"/>
            </a:xfrm>
            <a:custGeom>
              <a:avLst/>
              <a:gdLst/>
              <a:ahLst/>
              <a:rect l="l" t="t" r="r" b="b"/>
              <a:pathLst>
                <a:path w="488" h="516">
                  <a:moveTo>
                    <a:pt x="488" y="87"/>
                  </a:moveTo>
                  <a:cubicBezTo>
                    <a:pt x="338" y="68"/>
                    <a:pt x="143" y="0"/>
                    <a:pt x="28" y="110"/>
                  </a:cubicBezTo>
                  <a:cubicBezTo>
                    <a:pt x="0" y="236"/>
                    <a:pt x="13" y="395"/>
                    <a:pt x="13" y="5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4330800" y="2800440"/>
                <a:ext cx="4254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8597880" y="2666880"/>
                <a:ext cx="3938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267080" y="3505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±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356000" y="4724280"/>
                <a:ext cx="46227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04" name=""/>
          <p:cNvGrpSpPr/>
          <p:nvPr/>
        </p:nvGrpSpPr>
        <p:grpSpPr>
          <a:xfrm>
            <a:off x="4419720" y="4064040"/>
            <a:ext cx="3504960" cy="660240"/>
            <a:chOff x="4419720" y="4064040"/>
            <a:chExt cx="3504960" cy="660240"/>
          </a:xfrm>
        </p:grpSpPr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5079960" y="4064040"/>
                  <a:ext cx="2387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"/>
            <p:cNvSpPr/>
            <p:nvPr/>
          </p:nvSpPr>
          <p:spPr>
            <a:xfrm>
              <a:off x="4419720" y="4724280"/>
              <a:ext cx="3504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419720" y="5486400"/>
                <a:ext cx="20318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"/>
          <p:cNvGrpSpPr/>
          <p:nvPr/>
        </p:nvGrpSpPr>
        <p:grpSpPr>
          <a:xfrm>
            <a:off x="6477120" y="5638680"/>
            <a:ext cx="1409760" cy="341280"/>
            <a:chOff x="6477120" y="5638680"/>
            <a:chExt cx="1409760" cy="341280"/>
          </a:xfrm>
        </p:grpSpPr>
        <p:sp>
          <p:nvSpPr>
            <p:cNvPr id="509" name=""/>
            <p:cNvSpPr/>
            <p:nvPr/>
          </p:nvSpPr>
          <p:spPr>
            <a:xfrm>
              <a:off x="6477120" y="5715000"/>
              <a:ext cx="304560" cy="152280"/>
            </a:xfrm>
            <a:prstGeom prst="leftRightArrow">
              <a:avLst>
                <a:gd name="adj1" fmla="val 50000"/>
                <a:gd name="adj2" fmla="val 39815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6781680" y="563868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"/>
          <p:cNvGrpSpPr/>
          <p:nvPr/>
        </p:nvGrpSpPr>
        <p:grpSpPr>
          <a:xfrm>
            <a:off x="4724280" y="6154560"/>
            <a:ext cx="2697480" cy="638280"/>
            <a:chOff x="4724280" y="6154560"/>
            <a:chExt cx="2697480" cy="638280"/>
          </a:xfrm>
        </p:grpSpPr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724280" y="6172200"/>
                  <a:ext cx="10288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3" name=""/>
            <p:cNvSpPr/>
            <p:nvPr/>
          </p:nvSpPr>
          <p:spPr>
            <a:xfrm>
              <a:off x="5883120" y="61545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effici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F08.011A_W0868" descr=""/>
          <p:cNvPicPr/>
          <p:nvPr/>
        </p:nvPicPr>
        <p:blipFill>
          <a:blip r:embed="rId1"/>
          <a:stretch/>
        </p:blipFill>
        <p:spPr>
          <a:xfrm>
            <a:off x="0" y="533520"/>
            <a:ext cx="4419720" cy="17431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34760" y="58680"/>
            <a:ext cx="645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energy stored in the mutually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362320" y="1600200"/>
                <a:ext cx="469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143000" y="2057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200400" y="4572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28600" y="2362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4223520" y="380880"/>
            <a:ext cx="3324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steady stat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55080" y="744480"/>
            <a:ext cx="438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an use frequency domai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84200" y="1424160"/>
            <a:ext cx="201600" cy="176040"/>
            <a:chOff x="484200" y="1424160"/>
            <a:chExt cx="201600" cy="17604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484200" y="1424160"/>
                  <a:ext cx="2016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"/>
            <p:cNvSpPr/>
            <p:nvPr/>
          </p:nvSpPr>
          <p:spPr>
            <a:xfrm>
              <a:off x="484200" y="1424160"/>
              <a:ext cx="152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4920" y="34290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80880" y="2971800"/>
                <a:ext cx="293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COMPUTE 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819520" y="35053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63360" y="3886200"/>
                <a:ext cx="2679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362320" y="428148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6" name=""/>
          <p:cNvGrpSpPr/>
          <p:nvPr/>
        </p:nvGrpSpPr>
        <p:grpSpPr>
          <a:xfrm>
            <a:off x="0" y="4710240"/>
            <a:ext cx="4419720" cy="1919880"/>
            <a:chOff x="0" y="4710240"/>
            <a:chExt cx="4419720" cy="1919880"/>
          </a:xfrm>
        </p:grpSpPr>
        <p:graphicFrame>
          <p:nvGraphicFramePr>
            <p:cNvPr id="537" name=""/>
            <p:cNvGraphicFramePr/>
            <p:nvPr/>
          </p:nvGraphicFramePr>
          <p:xfrm>
            <a:off x="0" y="4710240"/>
            <a:ext cx="4419720" cy="1558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4710240"/>
                      <a:ext cx="441972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" name=""/>
            <p:cNvSpPr/>
            <p:nvPr/>
          </p:nvSpPr>
          <p:spPr>
            <a:xfrm>
              <a:off x="963720" y="6292800"/>
              <a:ext cx="299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143000" y="5319720"/>
            <a:ext cx="2603520" cy="685800"/>
            <a:chOff x="1143000" y="5319720"/>
            <a:chExt cx="2603520" cy="685800"/>
          </a:xfrm>
        </p:grpSpPr>
        <p:graphicFrame>
          <p:nvGraphicFramePr>
            <p:cNvPr id="541" name=""/>
            <p:cNvGraphicFramePr/>
            <p:nvPr/>
          </p:nvGraphicFramePr>
          <p:xfrm>
            <a:off x="3174840" y="5319720"/>
            <a:ext cx="571680" cy="6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74840" y="5319720"/>
                      <a:ext cx="57168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3" name=""/>
            <p:cNvGraphicFramePr/>
            <p:nvPr/>
          </p:nvGraphicFramePr>
          <p:xfrm>
            <a:off x="1143000" y="5357880"/>
            <a:ext cx="5079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357880"/>
                      <a:ext cx="5079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5" name=""/>
          <p:cNvGrpSpPr/>
          <p:nvPr/>
        </p:nvGrpSpPr>
        <p:grpSpPr>
          <a:xfrm>
            <a:off x="914400" y="5014800"/>
            <a:ext cx="2995560" cy="1079640"/>
            <a:chOff x="914400" y="5014800"/>
            <a:chExt cx="2995560" cy="1079640"/>
          </a:xfrm>
        </p:grpSpPr>
        <p:sp>
          <p:nvSpPr>
            <p:cNvPr id="546" name=""/>
            <p:cNvSpPr/>
            <p:nvPr/>
          </p:nvSpPr>
          <p:spPr>
            <a:xfrm>
              <a:off x="1143000" y="516744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2895480" y="5243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2209680" y="5167440"/>
                  <a:ext cx="368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914400" y="5014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3505320" y="50292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"/>
          <p:cNvGrpSpPr/>
          <p:nvPr/>
        </p:nvGrpSpPr>
        <p:grpSpPr>
          <a:xfrm>
            <a:off x="4492080" y="1143000"/>
            <a:ext cx="4452480" cy="1257120"/>
            <a:chOff x="4492080" y="1143000"/>
            <a:chExt cx="4452480" cy="1257120"/>
          </a:xfrm>
        </p:grpSpPr>
        <p:sp>
          <p:nvSpPr>
            <p:cNvPr id="552" name=""/>
            <p:cNvSpPr/>
            <p:nvPr/>
          </p:nvSpPr>
          <p:spPr>
            <a:xfrm>
              <a:off x="4492080" y="1143000"/>
              <a:ext cx="4452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rge the writing of the loop and coup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equations in one st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5257800" y="1752480"/>
                  <a:ext cx="2577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394160" y="2438280"/>
                <a:ext cx="4229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TO GE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4952880" y="3086280"/>
                <a:ext cx="328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4724280" y="373392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RNING: The term  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is in radians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4876920" y="4038480"/>
                <a:ext cx="3555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8320" y="4343400"/>
                <a:ext cx="397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597560" y="4724280"/>
                <a:ext cx="42415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34120" y="5867280"/>
                <a:ext cx="1828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819520" y="152280"/>
                <a:ext cx="4457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ENERGY  STORED 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28600" y="533520"/>
                <a:ext cx="96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9" name=""/>
          <p:cNvGraphicFramePr/>
          <p:nvPr/>
        </p:nvGraphicFramePr>
        <p:xfrm>
          <a:off x="152280" y="914400"/>
          <a:ext cx="4267440" cy="14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426744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1" name=""/>
          <p:cNvGrpSpPr/>
          <p:nvPr/>
        </p:nvGrpSpPr>
        <p:grpSpPr>
          <a:xfrm>
            <a:off x="1295280" y="1523880"/>
            <a:ext cx="2557440" cy="571680"/>
            <a:chOff x="1295280" y="1523880"/>
            <a:chExt cx="2557440" cy="571680"/>
          </a:xfrm>
        </p:grpSpPr>
        <p:graphicFrame>
          <p:nvGraphicFramePr>
            <p:cNvPr id="572" name=""/>
            <p:cNvGraphicFramePr/>
            <p:nvPr/>
          </p:nvGraphicFramePr>
          <p:xfrm>
            <a:off x="1295280" y="1523880"/>
            <a:ext cx="44784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1523880"/>
                      <a:ext cx="4478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4" name=""/>
            <p:cNvGraphicFramePr/>
            <p:nvPr/>
          </p:nvGraphicFramePr>
          <p:xfrm>
            <a:off x="3368520" y="1523880"/>
            <a:ext cx="484200" cy="55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68520" y="1523880"/>
                      <a:ext cx="48420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6" name=""/>
          <p:cNvGrpSpPr/>
          <p:nvPr/>
        </p:nvGrpSpPr>
        <p:grpSpPr>
          <a:xfrm>
            <a:off x="1219320" y="1371600"/>
            <a:ext cx="2437920" cy="1079640"/>
            <a:chOff x="1219320" y="1371600"/>
            <a:chExt cx="2437920" cy="1079640"/>
          </a:xfrm>
        </p:grpSpPr>
        <p:sp>
          <p:nvSpPr>
            <p:cNvPr id="577" name=""/>
            <p:cNvSpPr/>
            <p:nvPr/>
          </p:nvSpPr>
          <p:spPr>
            <a:xfrm>
              <a:off x="12193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047760" y="2209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298600" y="1523880"/>
                  <a:ext cx="36828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57200" y="250344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2120" y="3138480"/>
                <a:ext cx="266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723960" y="344340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62120" y="3809880"/>
                <a:ext cx="23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762120" y="44956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5" name=""/>
          <p:cNvGrpSpPr/>
          <p:nvPr/>
        </p:nvGrpSpPr>
        <p:grpSpPr>
          <a:xfrm>
            <a:off x="2438280" y="3254400"/>
            <a:ext cx="1681200" cy="1162080"/>
            <a:chOff x="2438280" y="3254400"/>
            <a:chExt cx="1681200" cy="116208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2438280" y="4114800"/>
                  <a:ext cx="140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3451320" y="3254400"/>
              <a:ext cx="668160" cy="1162080"/>
            </a:xfrm>
            <a:custGeom>
              <a:avLst/>
              <a:gdLst/>
              <a:ahLst/>
              <a:rect l="l" t="t" r="r" b="b"/>
              <a:pathLst>
                <a:path w="421" h="732">
                  <a:moveTo>
                    <a:pt x="296" y="732"/>
                  </a:moveTo>
                  <a:cubicBezTo>
                    <a:pt x="327" y="711"/>
                    <a:pt x="366" y="699"/>
                    <a:pt x="390" y="670"/>
                  </a:cubicBezTo>
                  <a:cubicBezTo>
                    <a:pt x="403" y="654"/>
                    <a:pt x="396" y="628"/>
                    <a:pt x="398" y="607"/>
                  </a:cubicBezTo>
                  <a:cubicBezTo>
                    <a:pt x="405" y="529"/>
                    <a:pt x="414" y="452"/>
                    <a:pt x="421" y="374"/>
                  </a:cubicBezTo>
                  <a:cubicBezTo>
                    <a:pt x="413" y="293"/>
                    <a:pt x="409" y="212"/>
                    <a:pt x="398" y="132"/>
                  </a:cubicBezTo>
                  <a:cubicBezTo>
                    <a:pt x="396" y="116"/>
                    <a:pt x="401" y="96"/>
                    <a:pt x="390" y="85"/>
                  </a:cubicBezTo>
                  <a:cubicBezTo>
                    <a:pt x="320" y="15"/>
                    <a:pt x="293" y="24"/>
                    <a:pt x="211" y="15"/>
                  </a:cubicBezTo>
                  <a:cubicBezTo>
                    <a:pt x="165" y="0"/>
                    <a:pt x="139" y="23"/>
                    <a:pt x="94" y="31"/>
                  </a:cubicBezTo>
                  <a:cubicBezTo>
                    <a:pt x="32" y="42"/>
                    <a:pt x="63" y="39"/>
                    <a:pt x="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152280" y="4876920"/>
                <a:ext cx="2616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743200" y="5029200"/>
                <a:ext cx="1790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5486400"/>
                <a:ext cx="378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257800" y="457200"/>
                <a:ext cx="2603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952880" y="1714680"/>
                <a:ext cx="336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343400" y="2400480"/>
                <a:ext cx="4660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62720" y="2781360"/>
                <a:ext cx="1942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724280" y="3505320"/>
                <a:ext cx="3683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6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4343400" y="838080"/>
                <a:ext cx="302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8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334120" y="1143000"/>
                <a:ext cx="1625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27600" y="6154560"/>
            <a:ext cx="259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 back to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648320" y="4622760"/>
                <a:ext cx="4406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562720" y="5029200"/>
                <a:ext cx="2539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1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684520" y="34920"/>
            <a:ext cx="3446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08.012_W0870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334120" cy="177804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4876920" y="2139840"/>
            <a:ext cx="4094640" cy="785520"/>
            <a:chOff x="4876920" y="2139840"/>
            <a:chExt cx="4094640" cy="785520"/>
          </a:xfrm>
        </p:grpSpPr>
        <p:sp>
          <p:nvSpPr>
            <p:cNvPr id="609" name=""/>
            <p:cNvSpPr/>
            <p:nvPr/>
          </p:nvSpPr>
          <p:spPr>
            <a:xfrm>
              <a:off x="4876920" y="2139840"/>
              <a:ext cx="938160" cy="419040"/>
            </a:xfrm>
            <a:custGeom>
              <a:avLst/>
              <a:gdLst/>
              <a:ahLst/>
              <a:rect l="l" t="t" r="r" b="b"/>
              <a:pathLst>
                <a:path w="591" h="264">
                  <a:moveTo>
                    <a:pt x="22" y="0"/>
                  </a:moveTo>
                  <a:cubicBezTo>
                    <a:pt x="21" y="16"/>
                    <a:pt x="0" y="160"/>
                    <a:pt x="29" y="195"/>
                  </a:cubicBezTo>
                  <a:cubicBezTo>
                    <a:pt x="41" y="210"/>
                    <a:pt x="65" y="207"/>
                    <a:pt x="84" y="211"/>
                  </a:cubicBezTo>
                  <a:cubicBezTo>
                    <a:pt x="131" y="221"/>
                    <a:pt x="191" y="228"/>
                    <a:pt x="240" y="234"/>
                  </a:cubicBezTo>
                  <a:cubicBezTo>
                    <a:pt x="357" y="264"/>
                    <a:pt x="467" y="242"/>
                    <a:pt x="591" y="2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39840" y="2344680"/>
              <a:ext cx="3231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res that ‘no magnetic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es astra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438280" y="1828800"/>
            <a:ext cx="4000680" cy="366840"/>
            <a:chOff x="2438280" y="1828800"/>
            <a:chExt cx="4000680" cy="36684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2438280" y="1828800"/>
                  <a:ext cx="82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5562720" y="190512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457200" y="2514600"/>
                <a:ext cx="2781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3312720" y="2895480"/>
            <a:ext cx="2477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7200" y="3657600"/>
            <a:ext cx="5518080" cy="337320"/>
            <a:chOff x="457200" y="3657600"/>
            <a:chExt cx="5518080" cy="337320"/>
          </a:xfrm>
        </p:grpSpPr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457200" y="3674880"/>
                  <a:ext cx="2247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8" name=""/>
            <p:cNvSpPr/>
            <p:nvPr/>
          </p:nvSpPr>
          <p:spPr>
            <a:xfrm>
              <a:off x="2946240" y="3657600"/>
              <a:ext cx="3029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transformer is loss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362320" y="4038480"/>
                <a:ext cx="927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3389760" y="4067280"/>
            <a:ext cx="2743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04920" y="4800600"/>
            <a:ext cx="3724200" cy="1919880"/>
            <a:chOff x="304920" y="4800600"/>
            <a:chExt cx="3724200" cy="1919880"/>
          </a:xfrm>
        </p:grpSpPr>
        <p:pic>
          <p:nvPicPr>
            <p:cNvPr id="622" name="F08.013A_W0871" descr=""/>
            <p:cNvPicPr/>
            <p:nvPr/>
          </p:nvPicPr>
          <p:blipFill>
            <a:blip r:embed="rId2"/>
            <a:stretch/>
          </p:blipFill>
          <p:spPr>
            <a:xfrm>
              <a:off x="304920" y="4800600"/>
              <a:ext cx="3724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950040" y="6383160"/>
              <a:ext cx="257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876920" y="4724280"/>
            <a:ext cx="3724200" cy="2057400"/>
            <a:chOff x="4876920" y="4724280"/>
            <a:chExt cx="3724200" cy="2057400"/>
          </a:xfrm>
        </p:grpSpPr>
        <p:pic>
          <p:nvPicPr>
            <p:cNvPr id="625" name="F08.013B_W0871" descr=""/>
            <p:cNvPicPr/>
            <p:nvPr/>
          </p:nvPicPr>
          <p:blipFill>
            <a:blip r:embed="rId3"/>
            <a:stretch/>
          </p:blipFill>
          <p:spPr>
            <a:xfrm>
              <a:off x="4876920" y="4724280"/>
              <a:ext cx="3724200" cy="1838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5715000" y="6172200"/>
                  <a:ext cx="1955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7" name=""/>
          <p:cNvSpPr/>
          <p:nvPr/>
        </p:nvSpPr>
        <p:spPr>
          <a:xfrm>
            <a:off x="6869160" y="3259080"/>
            <a:ext cx="21711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lgebraic, th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unchang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. J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F08.014_W087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781440" cy="153324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271440" y="136440"/>
            <a:ext cx="277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ING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28600" y="2133720"/>
                <a:ext cx="302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oth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signs at d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28600" y="2819520"/>
                <a:ext cx="406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rrent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ving transform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28600" y="3505320"/>
                <a:ext cx="238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m's La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291960" y="3962520"/>
                <a:ext cx="1613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9" name=""/>
          <p:cNvGrpSpPr/>
          <p:nvPr/>
        </p:nvGrpSpPr>
        <p:grpSpPr>
          <a:xfrm>
            <a:off x="111240" y="3476520"/>
            <a:ext cx="1981080" cy="1320840"/>
            <a:chOff x="111240" y="3476520"/>
            <a:chExt cx="1981080" cy="1320840"/>
          </a:xfrm>
        </p:grpSpPr>
        <p:sp>
          <p:nvSpPr>
            <p:cNvPr id="640" name=""/>
            <p:cNvSpPr/>
            <p:nvPr/>
          </p:nvSpPr>
          <p:spPr>
            <a:xfrm>
              <a:off x="111240" y="3476520"/>
              <a:ext cx="782640" cy="1305000"/>
            </a:xfrm>
            <a:custGeom>
              <a:avLst/>
              <a:gdLst/>
              <a:ahLst/>
              <a:rect l="l" t="t" r="r" b="b"/>
              <a:pathLst>
                <a:path w="493" h="822">
                  <a:moveTo>
                    <a:pt x="249" y="218"/>
                  </a:moveTo>
                  <a:cubicBezTo>
                    <a:pt x="245" y="153"/>
                    <a:pt x="256" y="84"/>
                    <a:pt x="234" y="23"/>
                  </a:cubicBezTo>
                  <a:cubicBezTo>
                    <a:pt x="230" y="12"/>
                    <a:pt x="196" y="3"/>
                    <a:pt x="187" y="0"/>
                  </a:cubicBezTo>
                  <a:cubicBezTo>
                    <a:pt x="148" y="16"/>
                    <a:pt x="104" y="23"/>
                    <a:pt x="70" y="47"/>
                  </a:cubicBezTo>
                  <a:cubicBezTo>
                    <a:pt x="57" y="56"/>
                    <a:pt x="62" y="79"/>
                    <a:pt x="55" y="93"/>
                  </a:cubicBezTo>
                  <a:cubicBezTo>
                    <a:pt x="49" y="105"/>
                    <a:pt x="39" y="114"/>
                    <a:pt x="31" y="125"/>
                  </a:cubicBezTo>
                  <a:cubicBezTo>
                    <a:pt x="23" y="151"/>
                    <a:pt x="17" y="177"/>
                    <a:pt x="8" y="202"/>
                  </a:cubicBezTo>
                  <a:cubicBezTo>
                    <a:pt x="5" y="228"/>
                    <a:pt x="0" y="254"/>
                    <a:pt x="0" y="280"/>
                  </a:cubicBezTo>
                  <a:cubicBezTo>
                    <a:pt x="0" y="415"/>
                    <a:pt x="1" y="551"/>
                    <a:pt x="8" y="686"/>
                  </a:cubicBezTo>
                  <a:cubicBezTo>
                    <a:pt x="14" y="795"/>
                    <a:pt x="181" y="803"/>
                    <a:pt x="257" y="810"/>
                  </a:cubicBezTo>
                  <a:cubicBezTo>
                    <a:pt x="314" y="804"/>
                    <a:pt x="403" y="822"/>
                    <a:pt x="437" y="771"/>
                  </a:cubicBezTo>
                  <a:cubicBezTo>
                    <a:pt x="481" y="626"/>
                    <a:pt x="493" y="596"/>
                    <a:pt x="429" y="335"/>
                  </a:cubicBezTo>
                  <a:cubicBezTo>
                    <a:pt x="421" y="303"/>
                    <a:pt x="335" y="304"/>
                    <a:pt x="335" y="304"/>
                  </a:cubicBezTo>
                  <a:cubicBezTo>
                    <a:pt x="265" y="233"/>
                    <a:pt x="294" y="261"/>
                    <a:pt x="249" y="21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73080" y="3487680"/>
              <a:ext cx="1119240" cy="1309680"/>
            </a:xfrm>
            <a:custGeom>
              <a:avLst/>
              <a:gdLst/>
              <a:ahLst/>
              <a:rect l="l" t="t" r="r" b="b"/>
              <a:pathLst>
                <a:path w="705" h="825">
                  <a:moveTo>
                    <a:pt x="197" y="188"/>
                  </a:moveTo>
                  <a:cubicBezTo>
                    <a:pt x="183" y="141"/>
                    <a:pt x="201" y="37"/>
                    <a:pt x="135" y="16"/>
                  </a:cubicBezTo>
                  <a:cubicBezTo>
                    <a:pt x="110" y="8"/>
                    <a:pt x="82" y="8"/>
                    <a:pt x="57" y="1"/>
                  </a:cubicBezTo>
                  <a:cubicBezTo>
                    <a:pt x="41" y="3"/>
                    <a:pt x="24" y="0"/>
                    <a:pt x="10" y="8"/>
                  </a:cubicBezTo>
                  <a:cubicBezTo>
                    <a:pt x="3" y="12"/>
                    <a:pt x="3" y="24"/>
                    <a:pt x="3" y="32"/>
                  </a:cubicBezTo>
                  <a:cubicBezTo>
                    <a:pt x="3" y="94"/>
                    <a:pt x="0" y="157"/>
                    <a:pt x="10" y="219"/>
                  </a:cubicBezTo>
                  <a:cubicBezTo>
                    <a:pt x="11" y="227"/>
                    <a:pt x="26" y="224"/>
                    <a:pt x="34" y="227"/>
                  </a:cubicBezTo>
                  <a:cubicBezTo>
                    <a:pt x="78" y="245"/>
                    <a:pt x="174" y="258"/>
                    <a:pt x="174" y="258"/>
                  </a:cubicBezTo>
                  <a:cubicBezTo>
                    <a:pt x="186" y="291"/>
                    <a:pt x="187" y="325"/>
                    <a:pt x="197" y="359"/>
                  </a:cubicBezTo>
                  <a:cubicBezTo>
                    <a:pt x="201" y="391"/>
                    <a:pt x="210" y="421"/>
                    <a:pt x="213" y="453"/>
                  </a:cubicBezTo>
                  <a:cubicBezTo>
                    <a:pt x="218" y="498"/>
                    <a:pt x="212" y="617"/>
                    <a:pt x="244" y="671"/>
                  </a:cubicBezTo>
                  <a:cubicBezTo>
                    <a:pt x="264" y="705"/>
                    <a:pt x="306" y="742"/>
                    <a:pt x="338" y="764"/>
                  </a:cubicBezTo>
                  <a:cubicBezTo>
                    <a:pt x="367" y="784"/>
                    <a:pt x="397" y="787"/>
                    <a:pt x="431" y="796"/>
                  </a:cubicBezTo>
                  <a:cubicBezTo>
                    <a:pt x="620" y="788"/>
                    <a:pt x="601" y="825"/>
                    <a:pt x="665" y="702"/>
                  </a:cubicBezTo>
                  <a:cubicBezTo>
                    <a:pt x="679" y="619"/>
                    <a:pt x="689" y="537"/>
                    <a:pt x="696" y="453"/>
                  </a:cubicBezTo>
                  <a:cubicBezTo>
                    <a:pt x="693" y="406"/>
                    <a:pt x="705" y="356"/>
                    <a:pt x="688" y="312"/>
                  </a:cubicBezTo>
                  <a:cubicBezTo>
                    <a:pt x="681" y="294"/>
                    <a:pt x="651" y="298"/>
                    <a:pt x="634" y="289"/>
                  </a:cubicBezTo>
                  <a:cubicBezTo>
                    <a:pt x="552" y="244"/>
                    <a:pt x="672" y="284"/>
                    <a:pt x="540" y="250"/>
                  </a:cubicBezTo>
                  <a:cubicBezTo>
                    <a:pt x="431" y="184"/>
                    <a:pt x="378" y="188"/>
                    <a:pt x="252" y="1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438280" y="388620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371600" y="4724280"/>
                <a:ext cx="1854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54120" y="5562720"/>
                <a:ext cx="2984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edance,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refle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to the primary s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4610160" y="152280"/>
            <a:ext cx="3848040" cy="1044720"/>
            <a:chOff x="4610160" y="152280"/>
            <a:chExt cx="3848040" cy="1044720"/>
          </a:xfrm>
        </p:grpSpPr>
        <p:sp>
          <p:nvSpPr>
            <p:cNvPr id="646" name=""/>
            <p:cNvSpPr/>
            <p:nvPr/>
          </p:nvSpPr>
          <p:spPr>
            <a:xfrm>
              <a:off x="5379480" y="152280"/>
              <a:ext cx="2236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futur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4610160" y="474480"/>
                  <a:ext cx="38480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/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38680" y="1295280"/>
                <a:ext cx="198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turns rati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9" name=""/>
          <p:cNvGrpSpPr/>
          <p:nvPr/>
        </p:nvGrpSpPr>
        <p:grpSpPr>
          <a:xfrm>
            <a:off x="4482000" y="2209680"/>
            <a:ext cx="4135680" cy="2171880"/>
            <a:chOff x="4482000" y="2209680"/>
            <a:chExt cx="4135680" cy="2171880"/>
          </a:xfrm>
        </p:grpSpPr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6019920" y="2514600"/>
                  <a:ext cx="81108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1" name=""/>
            <p:cNvSpPr/>
            <p:nvPr/>
          </p:nvSpPr>
          <p:spPr>
            <a:xfrm>
              <a:off x="4482000" y="220968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F08.015_W0873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4476600" cy="1943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40960" y="58680"/>
            <a:ext cx="483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ll indicated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2590920" y="45720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1" name=""/>
          <p:cNvGraphicFramePr/>
          <p:nvPr/>
        </p:nvGraphicFramePr>
        <p:xfrm>
          <a:off x="76320" y="4038480"/>
          <a:ext cx="464796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4038480"/>
                    <a:ext cx="46479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3" name=""/>
          <p:cNvGrpSpPr/>
          <p:nvPr/>
        </p:nvGrpSpPr>
        <p:grpSpPr>
          <a:xfrm>
            <a:off x="395280" y="2649600"/>
            <a:ext cx="3849120" cy="1109520"/>
            <a:chOff x="395280" y="2649600"/>
            <a:chExt cx="3849120" cy="1109520"/>
          </a:xfrm>
        </p:grpSpPr>
        <p:sp>
          <p:nvSpPr>
            <p:cNvPr id="664" name=""/>
            <p:cNvSpPr/>
            <p:nvPr/>
          </p:nvSpPr>
          <p:spPr>
            <a:xfrm>
              <a:off x="395280" y="26496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5" name=""/>
                <p:cNvSpPr txBox="1"/>
                <p:nvPr/>
              </p:nvSpPr>
              <p:spPr>
                <a:xfrm>
                  <a:off x="2895480" y="32004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6" name=""/>
          <p:cNvGrpSpPr/>
          <p:nvPr/>
        </p:nvGrpSpPr>
        <p:grpSpPr>
          <a:xfrm>
            <a:off x="3809880" y="3886200"/>
            <a:ext cx="990720" cy="2286000"/>
            <a:chOff x="3809880" y="3886200"/>
            <a:chExt cx="990720" cy="2286000"/>
          </a:xfrm>
        </p:grpSpPr>
        <p:sp>
          <p:nvSpPr>
            <p:cNvPr id="667" name=""/>
            <p:cNvSpPr/>
            <p:nvPr/>
          </p:nvSpPr>
          <p:spPr>
            <a:xfrm>
              <a:off x="3809880" y="3886200"/>
              <a:ext cx="990720" cy="228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4497480" y="38862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2457360" y="4341960"/>
            <a:ext cx="1257480" cy="1892160"/>
            <a:chOff x="2457360" y="4341960"/>
            <a:chExt cx="1257480" cy="1892160"/>
          </a:xfrm>
        </p:grpSpPr>
        <p:sp>
          <p:nvSpPr>
            <p:cNvPr id="670" name=""/>
            <p:cNvSpPr/>
            <p:nvPr/>
          </p:nvSpPr>
          <p:spPr>
            <a:xfrm>
              <a:off x="2971800" y="4648320"/>
              <a:ext cx="152280" cy="838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33840" y="5479920"/>
              <a:ext cx="338040" cy="371520"/>
            </a:xfrm>
            <a:custGeom>
              <a:avLst/>
              <a:gdLst/>
              <a:ahLst/>
              <a:rect l="l" t="t" r="r" b="b"/>
              <a:pathLst>
                <a:path w="213" h="234">
                  <a:moveTo>
                    <a:pt x="195" y="0"/>
                  </a:moveTo>
                  <a:cubicBezTo>
                    <a:pt x="213" y="108"/>
                    <a:pt x="203" y="31"/>
                    <a:pt x="203" y="234"/>
                  </a:cubicBezTo>
                  <a:cubicBezTo>
                    <a:pt x="135" y="234"/>
                    <a:pt x="68" y="234"/>
                    <a:pt x="0" y="2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47800" y="4341960"/>
              <a:ext cx="392400" cy="420480"/>
            </a:xfrm>
            <a:custGeom>
              <a:avLst/>
              <a:gdLst/>
              <a:ahLst/>
              <a:rect l="l" t="t" r="r" b="b"/>
              <a:pathLst>
                <a:path w="247" h="265">
                  <a:moveTo>
                    <a:pt x="0" y="0"/>
                  </a:moveTo>
                  <a:cubicBezTo>
                    <a:pt x="31" y="5"/>
                    <a:pt x="62" y="13"/>
                    <a:pt x="93" y="16"/>
                  </a:cubicBezTo>
                  <a:cubicBezTo>
                    <a:pt x="140" y="20"/>
                    <a:pt x="233" y="24"/>
                    <a:pt x="233" y="24"/>
                  </a:cubicBezTo>
                  <a:cubicBezTo>
                    <a:pt x="247" y="156"/>
                    <a:pt x="241" y="76"/>
                    <a:pt x="241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2457360" y="5943600"/>
                  <a:ext cx="1257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876920" y="609480"/>
                <a:ext cx="4089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952880" y="1295280"/>
                <a:ext cx="2540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419720" y="2019240"/>
                <a:ext cx="339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7720920" y="1905120"/>
            <a:ext cx="1476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419720" y="3200400"/>
                <a:ext cx="464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486400" y="4191120"/>
                <a:ext cx="3276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urrent in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952880" y="4876920"/>
                <a:ext cx="403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s opposite 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5076720" y="3564000"/>
            <a:ext cx="341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POLARITI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657520" y="387360"/>
            <a:ext cx="2262240" cy="3111480"/>
            <a:chOff x="2657520" y="387360"/>
            <a:chExt cx="2262240" cy="3111480"/>
          </a:xfrm>
        </p:grpSpPr>
        <p:grpSp>
          <p:nvGrpSpPr>
            <p:cNvPr id="51" name=""/>
            <p:cNvGrpSpPr/>
            <p:nvPr/>
          </p:nvGrpSpPr>
          <p:grpSpPr>
            <a:xfrm>
              <a:off x="2657520" y="387360"/>
              <a:ext cx="2262240" cy="3111480"/>
              <a:chOff x="2657520" y="387360"/>
              <a:chExt cx="2262240" cy="3111480"/>
            </a:xfrm>
          </p:grpSpPr>
          <p:graphicFrame>
            <p:nvGraphicFramePr>
              <p:cNvPr id="52" name=""/>
              <p:cNvGraphicFramePr/>
              <p:nvPr/>
            </p:nvGraphicFramePr>
            <p:xfrm>
              <a:off x="2657520" y="1084320"/>
              <a:ext cx="2262240" cy="2414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657520" y="1084320"/>
                        <a:ext cx="2262240" cy="241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" name=""/>
              <p:cNvSpPr/>
              <p:nvPr/>
            </p:nvSpPr>
            <p:spPr>
              <a:xfrm>
                <a:off x="3224160" y="457200"/>
                <a:ext cx="154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ed lin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n seco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400" y="387360"/>
                <a:ext cx="1511280" cy="1047600"/>
              </a:xfrm>
              <a:custGeom>
                <a:avLst/>
                <a:gdLst/>
                <a:ahLst/>
                <a:rect l="l" t="t" r="r" b="b"/>
                <a:pathLst>
                  <a:path w="952" h="660">
                    <a:moveTo>
                      <a:pt x="950" y="192"/>
                    </a:moveTo>
                    <a:cubicBezTo>
                      <a:pt x="948" y="156"/>
                      <a:pt x="952" y="118"/>
                      <a:pt x="943" y="83"/>
                    </a:cubicBezTo>
                    <a:cubicBezTo>
                      <a:pt x="941" y="75"/>
                      <a:pt x="927" y="79"/>
                      <a:pt x="919" y="76"/>
                    </a:cubicBezTo>
                    <a:cubicBezTo>
                      <a:pt x="875" y="58"/>
                      <a:pt x="861" y="51"/>
                      <a:pt x="810" y="44"/>
                    </a:cubicBezTo>
                    <a:cubicBezTo>
                      <a:pt x="664" y="0"/>
                      <a:pt x="433" y="17"/>
                      <a:pt x="296" y="13"/>
                    </a:cubicBezTo>
                    <a:cubicBezTo>
                      <a:pt x="224" y="4"/>
                      <a:pt x="157" y="9"/>
                      <a:pt x="85" y="21"/>
                    </a:cubicBezTo>
                    <a:cubicBezTo>
                      <a:pt x="59" y="47"/>
                      <a:pt x="58" y="66"/>
                      <a:pt x="46" y="99"/>
                    </a:cubicBezTo>
                    <a:cubicBezTo>
                      <a:pt x="43" y="173"/>
                      <a:pt x="14" y="501"/>
                      <a:pt x="39" y="574"/>
                    </a:cubicBezTo>
                    <a:cubicBezTo>
                      <a:pt x="46" y="594"/>
                      <a:pt x="80" y="585"/>
                      <a:pt x="101" y="590"/>
                    </a:cubicBezTo>
                    <a:cubicBezTo>
                      <a:pt x="176" y="587"/>
                      <a:pt x="252" y="582"/>
                      <a:pt x="327" y="582"/>
                    </a:cubicBezTo>
                    <a:cubicBezTo>
                      <a:pt x="384" y="582"/>
                      <a:pt x="211" y="576"/>
                      <a:pt x="156" y="590"/>
                    </a:cubicBezTo>
                    <a:cubicBezTo>
                      <a:pt x="135" y="595"/>
                      <a:pt x="130" y="631"/>
                      <a:pt x="109" y="637"/>
                    </a:cubicBezTo>
                    <a:cubicBezTo>
                      <a:pt x="74" y="647"/>
                      <a:pt x="37" y="660"/>
                      <a:pt x="0" y="66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809880" y="990720"/>
                  <a:ext cx="48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" name=""/>
          <p:cNvSpPr/>
          <p:nvPr/>
        </p:nvSpPr>
        <p:spPr>
          <a:xfrm>
            <a:off x="130680" y="76320"/>
            <a:ext cx="30200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08.001_W0854" descr=""/>
          <p:cNvPicPr/>
          <p:nvPr/>
        </p:nvPicPr>
        <p:blipFill>
          <a:blip r:embed="rId3"/>
          <a:stretch/>
        </p:blipFill>
        <p:spPr>
          <a:xfrm>
            <a:off x="244440" y="1117440"/>
            <a:ext cx="2819520" cy="2311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9880" y="53352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verview of Induction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914400"/>
            <a:ext cx="1130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880" y="2971800"/>
                <a:ext cx="1828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flux linkage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Nφ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8840" y="3581280"/>
            <a:ext cx="4342680" cy="947160"/>
            <a:chOff x="78840" y="3581280"/>
            <a:chExt cx="4342680" cy="947160"/>
          </a:xfrm>
        </p:grpSpPr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692360" y="4208400"/>
                  <a:ext cx="633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78840" y="3581280"/>
              <a:ext cx="4342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linkage is created by a current flow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the coils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66720" y="4191120"/>
              <a:ext cx="172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mpere’s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11240" y="4648320"/>
            <a:ext cx="4348800" cy="1109520"/>
            <a:chOff x="111240" y="4648320"/>
            <a:chExt cx="4348800" cy="1109520"/>
          </a:xfrm>
        </p:grpSpPr>
        <p:sp>
          <p:nvSpPr>
            <p:cNvPr id="67" name=""/>
            <p:cNvSpPr/>
            <p:nvPr/>
          </p:nvSpPr>
          <p:spPr>
            <a:xfrm>
              <a:off x="111240" y="4648320"/>
              <a:ext cx="4195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voltage created at the terminals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onents 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674640" y="5199120"/>
                  <a:ext cx="772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1684080" y="5334120"/>
              <a:ext cx="277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Faraday’s Induction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280" y="5743440"/>
            <a:ext cx="4188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happens if the flux creat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inks to another coi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0320" y="6324480"/>
            <a:ext cx="4268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has the effect of 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699080" y="533520"/>
                <a:ext cx="444492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flux linking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x linking circuit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caused by a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 circuit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902120" y="2438280"/>
                <a:ext cx="2641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linear inductor models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35360" y="3200400"/>
                <a:ext cx="4508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self</m:t>
                        </m:r>
                        <m:r>
                          <m:t xml:space="preserve">inductance</m:t>
                        </m:r>
                        <m:r>
                          <m:rPr>
                            <m:lit/>
                            <m:nor/>
                          </m:rPr>
                          <m:t xml:space="preserve"> of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utual inductance between circui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780080" y="152280"/>
            <a:ext cx="313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circuits intera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701960" y="4267080"/>
            <a:ext cx="2210040" cy="1046160"/>
            <a:chOff x="4701960" y="4267080"/>
            <a:chExt cx="2210040" cy="1046160"/>
          </a:xfrm>
        </p:grpSpPr>
        <p:sp>
          <p:nvSpPr>
            <p:cNvPr id="77" name=""/>
            <p:cNvSpPr/>
            <p:nvPr/>
          </p:nvSpPr>
          <p:spPr>
            <a:xfrm>
              <a:off x="4701960" y="4267080"/>
              <a:ext cx="1792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pecial case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n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5349960" y="4665600"/>
                  <a:ext cx="15620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5486400"/>
                <a:ext cx="339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plify notation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315200" y="46483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 Model: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E08.006_W0874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167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66880" y="9036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current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396252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1" name=""/>
          <p:cNvGrpSpPr/>
          <p:nvPr/>
        </p:nvGrpSpPr>
        <p:grpSpPr>
          <a:xfrm>
            <a:off x="258840" y="2743200"/>
            <a:ext cx="3849120" cy="1109520"/>
            <a:chOff x="258840" y="2743200"/>
            <a:chExt cx="3849120" cy="1109520"/>
          </a:xfrm>
        </p:grpSpPr>
        <p:sp>
          <p:nvSpPr>
            <p:cNvPr id="692" name=""/>
            <p:cNvSpPr/>
            <p:nvPr/>
          </p:nvSpPr>
          <p:spPr>
            <a:xfrm>
              <a:off x="258840" y="27432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2759040" y="32940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94" name=""/>
          <p:cNvGraphicFramePr/>
          <p:nvPr/>
        </p:nvGraphicFramePr>
        <p:xfrm>
          <a:off x="4343400" y="2286000"/>
          <a:ext cx="3494160" cy="202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286000"/>
                    <a:ext cx="349416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7669080" y="2733840"/>
            <a:ext cx="812880" cy="1287360"/>
            <a:chOff x="7669080" y="2733840"/>
            <a:chExt cx="812880" cy="1287360"/>
          </a:xfrm>
        </p:grpSpPr>
        <p:sp>
          <p:nvSpPr>
            <p:cNvPr id="697" name=""/>
            <p:cNvSpPr/>
            <p:nvPr/>
          </p:nvSpPr>
          <p:spPr>
            <a:xfrm>
              <a:off x="7924680" y="3048120"/>
              <a:ext cx="228600" cy="6858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94640" y="2733840"/>
              <a:ext cx="345960" cy="296640"/>
            </a:xfrm>
            <a:custGeom>
              <a:avLst/>
              <a:gdLst/>
              <a:ahLst/>
              <a:rect l="l" t="t" r="r" b="b"/>
              <a:pathLst>
                <a:path w="218" h="187">
                  <a:moveTo>
                    <a:pt x="218" y="187"/>
                  </a:moveTo>
                  <a:cubicBezTo>
                    <a:pt x="215" y="142"/>
                    <a:pt x="203" y="53"/>
                    <a:pt x="203" y="0"/>
                  </a:cubicBezTo>
                  <a:cubicBezTo>
                    <a:pt x="135" y="0"/>
                    <a:pt x="68" y="0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69080" y="3736800"/>
              <a:ext cx="384480" cy="284400"/>
            </a:xfrm>
            <a:custGeom>
              <a:avLst/>
              <a:gdLst/>
              <a:ahLst/>
              <a:rect l="l" t="t" r="r" b="b"/>
              <a:pathLst>
                <a:path w="242" h="179">
                  <a:moveTo>
                    <a:pt x="242" y="0"/>
                  </a:moveTo>
                  <a:cubicBezTo>
                    <a:pt x="225" y="67"/>
                    <a:pt x="219" y="108"/>
                    <a:pt x="219" y="179"/>
                  </a:cubicBezTo>
                  <a:cubicBezTo>
                    <a:pt x="16" y="171"/>
                    <a:pt x="89" y="171"/>
                    <a:pt x="0" y="1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8229600" y="3200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486080" y="3886200"/>
                <a:ext cx="2158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5321160" y="3568680"/>
            <a:ext cx="1384560" cy="912960"/>
            <a:chOff x="5321160" y="3568680"/>
            <a:chExt cx="1384560" cy="912960"/>
          </a:xfrm>
        </p:grpSpPr>
        <p:sp>
          <p:nvSpPr>
            <p:cNvPr id="703" name=""/>
            <p:cNvSpPr/>
            <p:nvPr/>
          </p:nvSpPr>
          <p:spPr>
            <a:xfrm>
              <a:off x="5587920" y="3568680"/>
              <a:ext cx="362160" cy="625320"/>
            </a:xfrm>
            <a:custGeom>
              <a:avLst/>
              <a:gdLst/>
              <a:ahLst/>
              <a:rect l="l" t="t" r="r" b="b"/>
              <a:pathLst>
                <a:path w="228" h="394">
                  <a:moveTo>
                    <a:pt x="10" y="394"/>
                  </a:moveTo>
                  <a:cubicBezTo>
                    <a:pt x="15" y="269"/>
                    <a:pt x="0" y="142"/>
                    <a:pt x="26" y="20"/>
                  </a:cubicBezTo>
                  <a:cubicBezTo>
                    <a:pt x="30" y="0"/>
                    <a:pt x="67" y="25"/>
                    <a:pt x="88" y="28"/>
                  </a:cubicBezTo>
                  <a:cubicBezTo>
                    <a:pt x="135" y="36"/>
                    <a:pt x="180" y="43"/>
                    <a:pt x="228" y="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5321160" y="4191120"/>
                  <a:ext cx="138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66680" y="4648320"/>
                <a:ext cx="1359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2438280" y="46483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6805080" y="4191120"/>
            <a:ext cx="2210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..Current in 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67040" y="5316480"/>
            <a:ext cx="3287520" cy="337320"/>
            <a:chOff x="167040" y="5316480"/>
            <a:chExt cx="3287520" cy="337320"/>
          </a:xfrm>
        </p:grpSpPr>
        <p:sp>
          <p:nvSpPr>
            <p:cNvPr id="709" name=""/>
            <p:cNvSpPr/>
            <p:nvPr/>
          </p:nvSpPr>
          <p:spPr>
            <a:xfrm>
              <a:off x="167040" y="53164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0" name=""/>
                <p:cNvSpPr txBox="1"/>
                <p:nvPr/>
              </p:nvSpPr>
              <p:spPr>
                <a:xfrm>
                  <a:off x="2743200" y="533412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1" name=""/>
          <p:cNvSpPr/>
          <p:nvPr/>
        </p:nvSpPr>
        <p:spPr>
          <a:xfrm>
            <a:off x="231480" y="5759280"/>
            <a:ext cx="6272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Find current in secondary and then use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948200" y="1136520"/>
            <a:ext cx="1108080" cy="668520"/>
            <a:chOff x="4948200" y="1136520"/>
            <a:chExt cx="1108080" cy="668520"/>
          </a:xfrm>
        </p:grpSpPr>
        <p:sp>
          <p:nvSpPr>
            <p:cNvPr id="713" name=""/>
            <p:cNvSpPr/>
            <p:nvPr/>
          </p:nvSpPr>
          <p:spPr>
            <a:xfrm>
              <a:off x="4948200" y="1136520"/>
              <a:ext cx="1108080" cy="668520"/>
            </a:xfrm>
            <a:custGeom>
              <a:avLst/>
              <a:gdLst/>
              <a:ahLst/>
              <a:rect l="l" t="t" r="r" b="b"/>
              <a:pathLst>
                <a:path w="698" h="421">
                  <a:moveTo>
                    <a:pt x="0" y="359"/>
                  </a:moveTo>
                  <a:cubicBezTo>
                    <a:pt x="11" y="175"/>
                    <a:pt x="3" y="265"/>
                    <a:pt x="23" y="87"/>
                  </a:cubicBezTo>
                  <a:cubicBezTo>
                    <a:pt x="25" y="69"/>
                    <a:pt x="13" y="36"/>
                    <a:pt x="31" y="32"/>
                  </a:cubicBezTo>
                  <a:cubicBezTo>
                    <a:pt x="165" y="0"/>
                    <a:pt x="306" y="18"/>
                    <a:pt x="444" y="9"/>
                  </a:cubicBezTo>
                  <a:cubicBezTo>
                    <a:pt x="698" y="125"/>
                    <a:pt x="638" y="25"/>
                    <a:pt x="655" y="243"/>
                  </a:cubicBezTo>
                  <a:cubicBezTo>
                    <a:pt x="656" y="258"/>
                    <a:pt x="660" y="274"/>
                    <a:pt x="662" y="289"/>
                  </a:cubicBezTo>
                  <a:cubicBezTo>
                    <a:pt x="660" y="320"/>
                    <a:pt x="684" y="370"/>
                    <a:pt x="655" y="383"/>
                  </a:cubicBezTo>
                  <a:cubicBezTo>
                    <a:pt x="584" y="415"/>
                    <a:pt x="421" y="398"/>
                    <a:pt x="421" y="398"/>
                  </a:cubicBezTo>
                  <a:cubicBezTo>
                    <a:pt x="285" y="421"/>
                    <a:pt x="146" y="414"/>
                    <a:pt x="8" y="4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5181480" y="1219320"/>
                  <a:ext cx="685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048120" y="6095880"/>
                <a:ext cx="386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88000" y="76320"/>
            <a:ext cx="836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 TO SIMPLIFY CIRCUITS WITH IDEAL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4" name=""/>
          <p:cNvGrpSpPr/>
          <p:nvPr/>
        </p:nvGrpSpPr>
        <p:grpSpPr>
          <a:xfrm>
            <a:off x="31680" y="361800"/>
            <a:ext cx="4027680" cy="2581200"/>
            <a:chOff x="31680" y="361800"/>
            <a:chExt cx="4027680" cy="2581200"/>
          </a:xfrm>
        </p:grpSpPr>
        <p:sp>
          <p:nvSpPr>
            <p:cNvPr id="725" name=""/>
            <p:cNvSpPr/>
            <p:nvPr/>
          </p:nvSpPr>
          <p:spPr>
            <a:xfrm>
              <a:off x="31680" y="361800"/>
              <a:ext cx="3076560" cy="1984680"/>
            </a:xfrm>
            <a:custGeom>
              <a:avLst/>
              <a:gdLst/>
              <a:ahLst/>
              <a:rect l="l" t="t" r="r" b="b"/>
              <a:pathLst>
                <a:path w="1938" h="1250">
                  <a:moveTo>
                    <a:pt x="1897" y="1167"/>
                  </a:moveTo>
                  <a:cubicBezTo>
                    <a:pt x="1933" y="920"/>
                    <a:pt x="1938" y="545"/>
                    <a:pt x="1881" y="294"/>
                  </a:cubicBezTo>
                  <a:cubicBezTo>
                    <a:pt x="1868" y="180"/>
                    <a:pt x="1891" y="280"/>
                    <a:pt x="1819" y="169"/>
                  </a:cubicBezTo>
                  <a:cubicBezTo>
                    <a:pt x="1777" y="105"/>
                    <a:pt x="1834" y="139"/>
                    <a:pt x="1772" y="92"/>
                  </a:cubicBezTo>
                  <a:cubicBezTo>
                    <a:pt x="1704" y="41"/>
                    <a:pt x="1539" y="44"/>
                    <a:pt x="1461" y="37"/>
                  </a:cubicBezTo>
                  <a:cubicBezTo>
                    <a:pt x="1315" y="0"/>
                    <a:pt x="1151" y="13"/>
                    <a:pt x="1001" y="6"/>
                  </a:cubicBezTo>
                  <a:cubicBezTo>
                    <a:pt x="776" y="10"/>
                    <a:pt x="643" y="1"/>
                    <a:pt x="455" y="21"/>
                  </a:cubicBezTo>
                  <a:cubicBezTo>
                    <a:pt x="398" y="27"/>
                    <a:pt x="339" y="35"/>
                    <a:pt x="284" y="53"/>
                  </a:cubicBezTo>
                  <a:cubicBezTo>
                    <a:pt x="248" y="65"/>
                    <a:pt x="190" y="115"/>
                    <a:pt x="190" y="115"/>
                  </a:cubicBezTo>
                  <a:cubicBezTo>
                    <a:pt x="157" y="166"/>
                    <a:pt x="113" y="206"/>
                    <a:pt x="89" y="263"/>
                  </a:cubicBezTo>
                  <a:cubicBezTo>
                    <a:pt x="85" y="274"/>
                    <a:pt x="78" y="283"/>
                    <a:pt x="74" y="294"/>
                  </a:cubicBezTo>
                  <a:cubicBezTo>
                    <a:pt x="67" y="314"/>
                    <a:pt x="58" y="356"/>
                    <a:pt x="58" y="356"/>
                  </a:cubicBezTo>
                  <a:cubicBezTo>
                    <a:pt x="46" y="453"/>
                    <a:pt x="42" y="468"/>
                    <a:pt x="42" y="598"/>
                  </a:cubicBezTo>
                  <a:cubicBezTo>
                    <a:pt x="42" y="736"/>
                    <a:pt x="0" y="886"/>
                    <a:pt x="58" y="1011"/>
                  </a:cubicBezTo>
                  <a:cubicBezTo>
                    <a:pt x="97" y="1097"/>
                    <a:pt x="177" y="1130"/>
                    <a:pt x="261" y="1151"/>
                  </a:cubicBezTo>
                  <a:cubicBezTo>
                    <a:pt x="515" y="1214"/>
                    <a:pt x="770" y="1208"/>
                    <a:pt x="1032" y="1214"/>
                  </a:cubicBezTo>
                  <a:cubicBezTo>
                    <a:pt x="1210" y="1227"/>
                    <a:pt x="1368" y="1233"/>
                    <a:pt x="1554" y="1237"/>
                  </a:cubicBezTo>
                  <a:cubicBezTo>
                    <a:pt x="1712" y="1250"/>
                    <a:pt x="1621" y="1245"/>
                    <a:pt x="1827" y="12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9400" y="2362320"/>
              <a:ext cx="3909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this circuit with its 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7" name=""/>
          <p:cNvGraphicFramePr/>
          <p:nvPr/>
        </p:nvGraphicFramePr>
        <p:xfrm>
          <a:off x="152280" y="2971800"/>
          <a:ext cx="40798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40798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28600" y="4800600"/>
                <a:ext cx="1727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1981080" y="496728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228600" y="5500800"/>
                <a:ext cx="229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732" name=""/>
          <p:cNvGraphicFramePr/>
          <p:nvPr/>
        </p:nvGraphicFramePr>
        <p:xfrm>
          <a:off x="4572000" y="685800"/>
          <a:ext cx="4067280" cy="179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85800"/>
                    <a:ext cx="4067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24200" y="6230880"/>
            <a:ext cx="4266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the Thevenin imped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7966080" y="1422360"/>
            <a:ext cx="998640" cy="1382760"/>
            <a:chOff x="7966080" y="1422360"/>
            <a:chExt cx="998640" cy="1382760"/>
          </a:xfrm>
        </p:grpSpPr>
        <p:sp>
          <p:nvSpPr>
            <p:cNvPr id="736" name=""/>
            <p:cNvSpPr/>
            <p:nvPr/>
          </p:nvSpPr>
          <p:spPr>
            <a:xfrm>
              <a:off x="7966080" y="1422360"/>
              <a:ext cx="768240" cy="1138320"/>
            </a:xfrm>
            <a:custGeom>
              <a:avLst/>
              <a:gdLst/>
              <a:ahLst/>
              <a:rect l="l" t="t" r="r" b="b"/>
              <a:pathLst>
                <a:path w="484" h="717">
                  <a:moveTo>
                    <a:pt x="460" y="717"/>
                  </a:moveTo>
                  <a:cubicBezTo>
                    <a:pt x="455" y="585"/>
                    <a:pt x="452" y="458"/>
                    <a:pt x="429" y="328"/>
                  </a:cubicBezTo>
                  <a:cubicBezTo>
                    <a:pt x="415" y="0"/>
                    <a:pt x="484" y="140"/>
                    <a:pt x="0" y="14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8534520" y="2514600"/>
                  <a:ext cx="43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8" name=""/>
          <p:cNvSpPr/>
          <p:nvPr/>
        </p:nvSpPr>
        <p:spPr>
          <a:xfrm>
            <a:off x="5118480" y="2496960"/>
            <a:ext cx="2520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 impedance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772400" y="2895480"/>
                <a:ext cx="110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40" name=""/>
          <p:cNvGrpSpPr/>
          <p:nvPr/>
        </p:nvGrpSpPr>
        <p:grpSpPr>
          <a:xfrm>
            <a:off x="4800600" y="3276720"/>
            <a:ext cx="4032720" cy="2468160"/>
            <a:chOff x="4800600" y="3276720"/>
            <a:chExt cx="4032720" cy="2468160"/>
          </a:xfrm>
        </p:grpSpPr>
        <p:graphicFrame>
          <p:nvGraphicFramePr>
            <p:cNvPr id="741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3" name=""/>
            <p:cNvSpPr/>
            <p:nvPr/>
          </p:nvSpPr>
          <p:spPr>
            <a:xfrm>
              <a:off x="5072760" y="5164200"/>
              <a:ext cx="3760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with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de transparent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4765320" y="5850000"/>
            <a:ext cx="3969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at 1 - 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485280" y="58680"/>
            <a:ext cx="645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: REFLECTING INTO THE PRI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533600" y="390600"/>
            <a:ext cx="3728520" cy="2611080"/>
            <a:chOff x="1533600" y="390600"/>
            <a:chExt cx="3728520" cy="2611080"/>
          </a:xfrm>
        </p:grpSpPr>
        <p:sp>
          <p:nvSpPr>
            <p:cNvPr id="754" name=""/>
            <p:cNvSpPr/>
            <p:nvPr/>
          </p:nvSpPr>
          <p:spPr>
            <a:xfrm>
              <a:off x="1533600" y="390600"/>
              <a:ext cx="3192480" cy="2333520"/>
            </a:xfrm>
            <a:custGeom>
              <a:avLst/>
              <a:gdLst/>
              <a:ahLst/>
              <a:rect l="l" t="t" r="r" b="b"/>
              <a:pathLst>
                <a:path w="2011" h="1470">
                  <a:moveTo>
                    <a:pt x="328" y="74"/>
                  </a:moveTo>
                  <a:cubicBezTo>
                    <a:pt x="255" y="63"/>
                    <a:pt x="238" y="56"/>
                    <a:pt x="148" y="81"/>
                  </a:cubicBezTo>
                  <a:cubicBezTo>
                    <a:pt x="128" y="87"/>
                    <a:pt x="127" y="117"/>
                    <a:pt x="117" y="136"/>
                  </a:cubicBezTo>
                  <a:cubicBezTo>
                    <a:pt x="107" y="228"/>
                    <a:pt x="100" y="319"/>
                    <a:pt x="78" y="409"/>
                  </a:cubicBezTo>
                  <a:cubicBezTo>
                    <a:pt x="66" y="512"/>
                    <a:pt x="58" y="618"/>
                    <a:pt x="39" y="720"/>
                  </a:cubicBezTo>
                  <a:cubicBezTo>
                    <a:pt x="26" y="793"/>
                    <a:pt x="8" y="857"/>
                    <a:pt x="0" y="931"/>
                  </a:cubicBezTo>
                  <a:cubicBezTo>
                    <a:pt x="3" y="1027"/>
                    <a:pt x="2" y="1123"/>
                    <a:pt x="8" y="1219"/>
                  </a:cubicBezTo>
                  <a:cubicBezTo>
                    <a:pt x="24" y="1470"/>
                    <a:pt x="166" y="1393"/>
                    <a:pt x="421" y="1398"/>
                  </a:cubicBezTo>
                  <a:cubicBezTo>
                    <a:pt x="662" y="1392"/>
                    <a:pt x="898" y="1370"/>
                    <a:pt x="1138" y="1352"/>
                  </a:cubicBezTo>
                  <a:cubicBezTo>
                    <a:pt x="1200" y="1336"/>
                    <a:pt x="1262" y="1323"/>
                    <a:pt x="1325" y="1313"/>
                  </a:cubicBezTo>
                  <a:cubicBezTo>
                    <a:pt x="1367" y="1307"/>
                    <a:pt x="1450" y="1297"/>
                    <a:pt x="1450" y="1297"/>
                  </a:cubicBezTo>
                  <a:cubicBezTo>
                    <a:pt x="1471" y="1292"/>
                    <a:pt x="1491" y="1285"/>
                    <a:pt x="1512" y="1281"/>
                  </a:cubicBezTo>
                  <a:cubicBezTo>
                    <a:pt x="1532" y="1277"/>
                    <a:pt x="1554" y="1278"/>
                    <a:pt x="1574" y="1274"/>
                  </a:cubicBezTo>
                  <a:cubicBezTo>
                    <a:pt x="1659" y="1256"/>
                    <a:pt x="1739" y="1228"/>
                    <a:pt x="1824" y="1211"/>
                  </a:cubicBezTo>
                  <a:cubicBezTo>
                    <a:pt x="1850" y="1196"/>
                    <a:pt x="1875" y="1178"/>
                    <a:pt x="1902" y="1165"/>
                  </a:cubicBezTo>
                  <a:cubicBezTo>
                    <a:pt x="1917" y="1158"/>
                    <a:pt x="1937" y="1161"/>
                    <a:pt x="1948" y="1149"/>
                  </a:cubicBezTo>
                  <a:cubicBezTo>
                    <a:pt x="1960" y="1137"/>
                    <a:pt x="1957" y="1117"/>
                    <a:pt x="1964" y="1102"/>
                  </a:cubicBezTo>
                  <a:cubicBezTo>
                    <a:pt x="1973" y="1081"/>
                    <a:pt x="1985" y="1061"/>
                    <a:pt x="1995" y="1040"/>
                  </a:cubicBezTo>
                  <a:cubicBezTo>
                    <a:pt x="2010" y="951"/>
                    <a:pt x="2011" y="958"/>
                    <a:pt x="2011" y="822"/>
                  </a:cubicBezTo>
                  <a:cubicBezTo>
                    <a:pt x="2011" y="723"/>
                    <a:pt x="2009" y="625"/>
                    <a:pt x="2003" y="526"/>
                  </a:cubicBezTo>
                  <a:cubicBezTo>
                    <a:pt x="1993" y="361"/>
                    <a:pt x="1916" y="357"/>
                    <a:pt x="1793" y="261"/>
                  </a:cubicBezTo>
                  <a:cubicBezTo>
                    <a:pt x="1704" y="191"/>
                    <a:pt x="1691" y="148"/>
                    <a:pt x="1574" y="128"/>
                  </a:cubicBezTo>
                  <a:cubicBezTo>
                    <a:pt x="1333" y="39"/>
                    <a:pt x="1081" y="14"/>
                    <a:pt x="826" y="3"/>
                  </a:cubicBezTo>
                  <a:cubicBezTo>
                    <a:pt x="719" y="7"/>
                    <a:pt x="592" y="0"/>
                    <a:pt x="483" y="27"/>
                  </a:cubicBezTo>
                  <a:cubicBezTo>
                    <a:pt x="443" y="67"/>
                    <a:pt x="383" y="84"/>
                    <a:pt x="328" y="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70200" y="2421000"/>
              <a:ext cx="33919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Thevenin equival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28600" y="304812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 open circui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429000" y="3048120"/>
                <a:ext cx="99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129240" y="3716280"/>
            <a:ext cx="3818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impedance will b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impedance reflec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imary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228600" y="1768320"/>
            <a:ext cx="1503360" cy="1076400"/>
            <a:chOff x="228600" y="1768320"/>
            <a:chExt cx="1503360" cy="1076400"/>
          </a:xfrm>
        </p:grpSpPr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228600" y="2286000"/>
                  <a:ext cx="965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1046160" y="1768320"/>
              <a:ext cx="685800" cy="879480"/>
            </a:xfrm>
            <a:custGeom>
              <a:avLst/>
              <a:gdLst/>
              <a:ahLst/>
              <a:rect l="l" t="t" r="r" b="b"/>
              <a:pathLst>
                <a:path w="432" h="554">
                  <a:moveTo>
                    <a:pt x="151" y="554"/>
                  </a:moveTo>
                  <a:cubicBezTo>
                    <a:pt x="158" y="112"/>
                    <a:pt x="0" y="67"/>
                    <a:pt x="229" y="32"/>
                  </a:cubicBezTo>
                  <a:cubicBezTo>
                    <a:pt x="295" y="10"/>
                    <a:pt x="362" y="0"/>
                    <a:pt x="432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952880" y="533520"/>
            <a:ext cx="3864240" cy="2468160"/>
            <a:chOff x="4952880" y="533520"/>
            <a:chExt cx="3864240" cy="2468160"/>
          </a:xfrm>
        </p:grpSpPr>
        <p:graphicFrame>
          <p:nvGraphicFramePr>
            <p:cNvPr id="763" name=""/>
            <p:cNvGraphicFramePr/>
            <p:nvPr/>
          </p:nvGraphicFramePr>
          <p:xfrm>
            <a:off x="4952880" y="533520"/>
            <a:ext cx="3864240" cy="19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533520"/>
                      <a:ext cx="386424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5" name=""/>
            <p:cNvSpPr/>
            <p:nvPr/>
          </p:nvSpPr>
          <p:spPr>
            <a:xfrm>
              <a:off x="5601600" y="24210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800600" y="3276720"/>
            <a:ext cx="3978360" cy="2468160"/>
            <a:chOff x="4800600" y="3276720"/>
            <a:chExt cx="3978360" cy="2468160"/>
          </a:xfrm>
        </p:grpSpPr>
        <p:graphicFrame>
          <p:nvGraphicFramePr>
            <p:cNvPr id="767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9" name=""/>
            <p:cNvSpPr/>
            <p:nvPr/>
          </p:nvSpPr>
          <p:spPr>
            <a:xfrm>
              <a:off x="5677560" y="51642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76320" y="2666880"/>
          <a:ext cx="601956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66880"/>
                    <a:ext cx="60195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84360" y="120600"/>
            <a:ext cx="348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the two equivale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76320" y="457200"/>
          <a:ext cx="7549920" cy="22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57200"/>
                    <a:ext cx="754992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1" name=""/>
          <p:cNvGrpSpPr/>
          <p:nvPr/>
        </p:nvGrpSpPr>
        <p:grpSpPr>
          <a:xfrm>
            <a:off x="5965920" y="4419720"/>
            <a:ext cx="3210480" cy="2175840"/>
            <a:chOff x="5965920" y="4419720"/>
            <a:chExt cx="3210480" cy="2175840"/>
          </a:xfrm>
        </p:grpSpPr>
        <p:graphicFrame>
          <p:nvGraphicFramePr>
            <p:cNvPr id="782" name=""/>
            <p:cNvGraphicFramePr/>
            <p:nvPr/>
          </p:nvGraphicFramePr>
          <p:xfrm>
            <a:off x="5965920" y="4419720"/>
            <a:ext cx="3178080" cy="16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44197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6179400" y="60148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058800" y="2224080"/>
            <a:ext cx="3085200" cy="2118960"/>
            <a:chOff x="6058800" y="2224080"/>
            <a:chExt cx="3085200" cy="2118960"/>
          </a:xfrm>
        </p:grpSpPr>
        <p:graphicFrame>
          <p:nvGraphicFramePr>
            <p:cNvPr id="786" name=""/>
            <p:cNvGraphicFramePr/>
            <p:nvPr/>
          </p:nvGraphicFramePr>
          <p:xfrm>
            <a:off x="6080040" y="2224080"/>
            <a:ext cx="3063960" cy="154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80040" y="222408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8" name=""/>
            <p:cNvSpPr/>
            <p:nvPr/>
          </p:nvSpPr>
          <p:spPr>
            <a:xfrm>
              <a:off x="6058800" y="376236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43200" y="121932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90" name=""/>
          <p:cNvGraphicFramePr/>
          <p:nvPr/>
        </p:nvGraphicFramePr>
        <p:xfrm>
          <a:off x="0" y="4800600"/>
          <a:ext cx="624852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800600"/>
                    <a:ext cx="62485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52280" y="609480"/>
          <a:ext cx="81471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1471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90920" y="16668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304920" y="2743200"/>
                <a:ext cx="486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better to reflect into seconda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389160" y="3106800"/>
            <a:ext cx="8568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before doing that it is better to simplify the primary 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42920" y="439560"/>
            <a:ext cx="6833520" cy="2302200"/>
            <a:chOff x="142920" y="439560"/>
            <a:chExt cx="6833520" cy="2302200"/>
          </a:xfrm>
        </p:grpSpPr>
        <p:sp>
          <p:nvSpPr>
            <p:cNvPr id="804" name=""/>
            <p:cNvSpPr/>
            <p:nvPr/>
          </p:nvSpPr>
          <p:spPr>
            <a:xfrm>
              <a:off x="142920" y="531720"/>
              <a:ext cx="3925800" cy="2210040"/>
            </a:xfrm>
            <a:custGeom>
              <a:avLst/>
              <a:gdLst/>
              <a:ahLst/>
              <a:rect l="l" t="t" r="r" b="b"/>
              <a:pathLst>
                <a:path w="2473" h="1392">
                  <a:moveTo>
                    <a:pt x="2396" y="1294"/>
                  </a:moveTo>
                  <a:cubicBezTo>
                    <a:pt x="2415" y="888"/>
                    <a:pt x="2393" y="1392"/>
                    <a:pt x="2411" y="655"/>
                  </a:cubicBezTo>
                  <a:cubicBezTo>
                    <a:pt x="2414" y="550"/>
                    <a:pt x="2419" y="444"/>
                    <a:pt x="2450" y="343"/>
                  </a:cubicBezTo>
                  <a:cubicBezTo>
                    <a:pt x="2453" y="322"/>
                    <a:pt x="2455" y="302"/>
                    <a:pt x="2458" y="281"/>
                  </a:cubicBezTo>
                  <a:cubicBezTo>
                    <a:pt x="2460" y="270"/>
                    <a:pt x="2473" y="257"/>
                    <a:pt x="2466" y="249"/>
                  </a:cubicBezTo>
                  <a:cubicBezTo>
                    <a:pt x="2377" y="146"/>
                    <a:pt x="2368" y="177"/>
                    <a:pt x="2263" y="133"/>
                  </a:cubicBezTo>
                  <a:cubicBezTo>
                    <a:pt x="2231" y="120"/>
                    <a:pt x="2203" y="98"/>
                    <a:pt x="2170" y="86"/>
                  </a:cubicBezTo>
                  <a:cubicBezTo>
                    <a:pt x="2150" y="79"/>
                    <a:pt x="2129" y="82"/>
                    <a:pt x="2108" y="78"/>
                  </a:cubicBezTo>
                  <a:cubicBezTo>
                    <a:pt x="2024" y="64"/>
                    <a:pt x="1915" y="34"/>
                    <a:pt x="1827" y="23"/>
                  </a:cubicBezTo>
                  <a:cubicBezTo>
                    <a:pt x="1796" y="19"/>
                    <a:pt x="1764" y="19"/>
                    <a:pt x="1733" y="16"/>
                  </a:cubicBezTo>
                  <a:cubicBezTo>
                    <a:pt x="1681" y="11"/>
                    <a:pt x="1578" y="0"/>
                    <a:pt x="1578" y="0"/>
                  </a:cubicBezTo>
                  <a:cubicBezTo>
                    <a:pt x="1373" y="3"/>
                    <a:pt x="1167" y="3"/>
                    <a:pt x="962" y="8"/>
                  </a:cubicBezTo>
                  <a:cubicBezTo>
                    <a:pt x="780" y="12"/>
                    <a:pt x="597" y="59"/>
                    <a:pt x="417" y="78"/>
                  </a:cubicBezTo>
                  <a:cubicBezTo>
                    <a:pt x="358" y="98"/>
                    <a:pt x="307" y="123"/>
                    <a:pt x="245" y="133"/>
                  </a:cubicBezTo>
                  <a:cubicBezTo>
                    <a:pt x="229" y="148"/>
                    <a:pt x="214" y="163"/>
                    <a:pt x="198" y="179"/>
                  </a:cubicBezTo>
                  <a:cubicBezTo>
                    <a:pt x="187" y="190"/>
                    <a:pt x="167" y="211"/>
                    <a:pt x="167" y="211"/>
                  </a:cubicBezTo>
                  <a:cubicBezTo>
                    <a:pt x="152" y="257"/>
                    <a:pt x="138" y="278"/>
                    <a:pt x="105" y="312"/>
                  </a:cubicBezTo>
                  <a:cubicBezTo>
                    <a:pt x="93" y="382"/>
                    <a:pt x="107" y="344"/>
                    <a:pt x="58" y="413"/>
                  </a:cubicBezTo>
                  <a:cubicBezTo>
                    <a:pt x="52" y="421"/>
                    <a:pt x="42" y="437"/>
                    <a:pt x="42" y="437"/>
                  </a:cubicBezTo>
                  <a:cubicBezTo>
                    <a:pt x="35" y="469"/>
                    <a:pt x="19" y="490"/>
                    <a:pt x="11" y="522"/>
                  </a:cubicBezTo>
                  <a:cubicBezTo>
                    <a:pt x="9" y="561"/>
                    <a:pt x="4" y="600"/>
                    <a:pt x="4" y="639"/>
                  </a:cubicBezTo>
                  <a:cubicBezTo>
                    <a:pt x="4" y="800"/>
                    <a:pt x="0" y="961"/>
                    <a:pt x="11" y="1122"/>
                  </a:cubicBezTo>
                  <a:cubicBezTo>
                    <a:pt x="15" y="1174"/>
                    <a:pt x="50" y="1184"/>
                    <a:pt x="89" y="1192"/>
                  </a:cubicBezTo>
                  <a:cubicBezTo>
                    <a:pt x="195" y="1212"/>
                    <a:pt x="302" y="1229"/>
                    <a:pt x="409" y="1247"/>
                  </a:cubicBezTo>
                  <a:cubicBezTo>
                    <a:pt x="465" y="1257"/>
                    <a:pt x="523" y="1252"/>
                    <a:pt x="580" y="1255"/>
                  </a:cubicBezTo>
                  <a:cubicBezTo>
                    <a:pt x="699" y="1278"/>
                    <a:pt x="819" y="1277"/>
                    <a:pt x="939" y="1286"/>
                  </a:cubicBezTo>
                  <a:cubicBezTo>
                    <a:pt x="1077" y="1310"/>
                    <a:pt x="1359" y="1309"/>
                    <a:pt x="1359" y="1309"/>
                  </a:cubicBezTo>
                  <a:cubicBezTo>
                    <a:pt x="1685" y="1339"/>
                    <a:pt x="2013" y="1309"/>
                    <a:pt x="2341" y="130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46720" y="439560"/>
              <a:ext cx="342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of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76320" y="3505320"/>
          <a:ext cx="5081400" cy="21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05320"/>
                    <a:ext cx="508140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1828800" y="4343400"/>
                <a:ext cx="279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9" name=""/>
          <p:cNvGrpSpPr/>
          <p:nvPr/>
        </p:nvGrpSpPr>
        <p:grpSpPr>
          <a:xfrm>
            <a:off x="3206880" y="4189320"/>
            <a:ext cx="4311360" cy="1001880"/>
            <a:chOff x="3206880" y="4189320"/>
            <a:chExt cx="4311360" cy="1001880"/>
          </a:xfrm>
        </p:grpSpPr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5638680" y="4191120"/>
                  <a:ext cx="1879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1" name=""/>
            <p:cNvSpPr/>
            <p:nvPr/>
          </p:nvSpPr>
          <p:spPr>
            <a:xfrm>
              <a:off x="3206880" y="4189320"/>
              <a:ext cx="1382760" cy="1001880"/>
            </a:xfrm>
            <a:custGeom>
              <a:avLst/>
              <a:gdLst/>
              <a:ahLst/>
              <a:rect l="l" t="t" r="r" b="b"/>
              <a:pathLst>
                <a:path w="871" h="631">
                  <a:moveTo>
                    <a:pt x="871" y="65"/>
                  </a:moveTo>
                  <a:cubicBezTo>
                    <a:pt x="643" y="28"/>
                    <a:pt x="442" y="46"/>
                    <a:pt x="201" y="50"/>
                  </a:cubicBezTo>
                  <a:cubicBezTo>
                    <a:pt x="0" y="58"/>
                    <a:pt x="20" y="0"/>
                    <a:pt x="37" y="167"/>
                  </a:cubicBezTo>
                  <a:cubicBezTo>
                    <a:pt x="39" y="182"/>
                    <a:pt x="42" y="198"/>
                    <a:pt x="45" y="213"/>
                  </a:cubicBezTo>
                  <a:cubicBezTo>
                    <a:pt x="48" y="338"/>
                    <a:pt x="9" y="470"/>
                    <a:pt x="53" y="587"/>
                  </a:cubicBezTo>
                  <a:cubicBezTo>
                    <a:pt x="70" y="631"/>
                    <a:pt x="146" y="601"/>
                    <a:pt x="193" y="603"/>
                  </a:cubicBezTo>
                  <a:cubicBezTo>
                    <a:pt x="398" y="613"/>
                    <a:pt x="583" y="611"/>
                    <a:pt x="785" y="6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5638680" y="4572000"/>
                <a:ext cx="1714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3" name=""/>
          <p:cNvGrpSpPr/>
          <p:nvPr/>
        </p:nvGrpSpPr>
        <p:grpSpPr>
          <a:xfrm>
            <a:off x="4267080" y="5027760"/>
            <a:ext cx="1803600" cy="1130040"/>
            <a:chOff x="4267080" y="5027760"/>
            <a:chExt cx="1803600" cy="1130040"/>
          </a:xfrm>
        </p:grpSpPr>
        <p:sp>
          <p:nvSpPr>
            <p:cNvPr id="814" name=""/>
            <p:cNvSpPr/>
            <p:nvPr/>
          </p:nvSpPr>
          <p:spPr>
            <a:xfrm>
              <a:off x="4390920" y="5027760"/>
              <a:ext cx="814320" cy="836640"/>
            </a:xfrm>
            <a:custGeom>
              <a:avLst/>
              <a:gdLst/>
              <a:ahLst/>
              <a:rect l="l" t="t" r="r" b="b"/>
              <a:pathLst>
                <a:path w="513" h="527">
                  <a:moveTo>
                    <a:pt x="507" y="527"/>
                  </a:moveTo>
                  <a:cubicBezTo>
                    <a:pt x="501" y="398"/>
                    <a:pt x="513" y="135"/>
                    <a:pt x="413" y="20"/>
                  </a:cubicBezTo>
                  <a:cubicBezTo>
                    <a:pt x="396" y="0"/>
                    <a:pt x="361" y="13"/>
                    <a:pt x="335" y="13"/>
                  </a:cubicBezTo>
                  <a:cubicBezTo>
                    <a:pt x="223" y="11"/>
                    <a:pt x="112" y="13"/>
                    <a:pt x="0" y="1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4267080" y="58672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5715000" y="525780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6248520" y="58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304920" y="5486400"/>
                <a:ext cx="286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380880" y="617220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7391520" y="4572000"/>
                <a:ext cx="116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265280" y="6154560"/>
            <a:ext cx="461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ivalent circuit is now transferr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"/>
          <p:cNvGraphicFramePr/>
          <p:nvPr/>
        </p:nvGraphicFramePr>
        <p:xfrm>
          <a:off x="533520" y="380880"/>
          <a:ext cx="677376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677376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200880" y="5868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9760" y="304920"/>
            <a:ext cx="2960640" cy="2211120"/>
          </a:xfrm>
          <a:custGeom>
            <a:avLst/>
            <a:gdLst/>
            <a:ahLst/>
            <a:rect l="l" t="t" r="r" b="b"/>
            <a:pathLst>
              <a:path w="1865" h="1393">
                <a:moveTo>
                  <a:pt x="1841" y="415"/>
                </a:moveTo>
                <a:cubicBezTo>
                  <a:pt x="1845" y="376"/>
                  <a:pt x="1865" y="336"/>
                  <a:pt x="1857" y="298"/>
                </a:cubicBezTo>
                <a:cubicBezTo>
                  <a:pt x="1842" y="229"/>
                  <a:pt x="1826" y="158"/>
                  <a:pt x="1794" y="95"/>
                </a:cubicBezTo>
                <a:cubicBezTo>
                  <a:pt x="1752" y="11"/>
                  <a:pt x="1590" y="19"/>
                  <a:pt x="1514" y="9"/>
                </a:cubicBezTo>
                <a:cubicBezTo>
                  <a:pt x="1098" y="12"/>
                  <a:pt x="682" y="0"/>
                  <a:pt x="267" y="17"/>
                </a:cubicBezTo>
                <a:cubicBezTo>
                  <a:pt x="197" y="20"/>
                  <a:pt x="111" y="157"/>
                  <a:pt x="111" y="157"/>
                </a:cubicBezTo>
                <a:cubicBezTo>
                  <a:pt x="92" y="271"/>
                  <a:pt x="125" y="130"/>
                  <a:pt x="56" y="251"/>
                </a:cubicBezTo>
                <a:cubicBezTo>
                  <a:pt x="51" y="260"/>
                  <a:pt x="25" y="391"/>
                  <a:pt x="25" y="391"/>
                </a:cubicBezTo>
                <a:cubicBezTo>
                  <a:pt x="20" y="443"/>
                  <a:pt x="3" y="494"/>
                  <a:pt x="2" y="547"/>
                </a:cubicBezTo>
                <a:cubicBezTo>
                  <a:pt x="0" y="692"/>
                  <a:pt x="5" y="838"/>
                  <a:pt x="10" y="983"/>
                </a:cubicBezTo>
                <a:cubicBezTo>
                  <a:pt x="20" y="1308"/>
                  <a:pt x="382" y="1329"/>
                  <a:pt x="625" y="1350"/>
                </a:cubicBezTo>
                <a:cubicBezTo>
                  <a:pt x="807" y="1393"/>
                  <a:pt x="980" y="1369"/>
                  <a:pt x="1171" y="1365"/>
                </a:cubicBezTo>
                <a:cubicBezTo>
                  <a:pt x="1243" y="1332"/>
                  <a:pt x="1309" y="1289"/>
                  <a:pt x="1381" y="1256"/>
                </a:cubicBezTo>
                <a:cubicBezTo>
                  <a:pt x="1415" y="1240"/>
                  <a:pt x="1454" y="1237"/>
                  <a:pt x="1490" y="1225"/>
                </a:cubicBezTo>
                <a:cubicBezTo>
                  <a:pt x="1543" y="1172"/>
                  <a:pt x="1601" y="1130"/>
                  <a:pt x="1654" y="1077"/>
                </a:cubicBezTo>
                <a:cubicBezTo>
                  <a:pt x="1673" y="1014"/>
                  <a:pt x="1698" y="955"/>
                  <a:pt x="1708" y="890"/>
                </a:cubicBezTo>
                <a:cubicBezTo>
                  <a:pt x="1720" y="448"/>
                  <a:pt x="1657" y="694"/>
                  <a:pt x="1802" y="492"/>
                </a:cubicBezTo>
                <a:cubicBezTo>
                  <a:pt x="1822" y="434"/>
                  <a:pt x="1808" y="459"/>
                  <a:pt x="1841" y="41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44720" y="2438280"/>
            <a:ext cx="383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equivalent of primary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335268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3" name=""/>
          <p:cNvGrpSpPr/>
          <p:nvPr/>
        </p:nvGrpSpPr>
        <p:grpSpPr>
          <a:xfrm>
            <a:off x="0" y="3567240"/>
            <a:ext cx="7562880" cy="2224800"/>
            <a:chOff x="0" y="3567240"/>
            <a:chExt cx="7562880" cy="2224800"/>
          </a:xfrm>
        </p:grpSpPr>
        <p:graphicFrame>
          <p:nvGraphicFramePr>
            <p:cNvPr id="834" name=""/>
            <p:cNvGraphicFramePr/>
            <p:nvPr/>
          </p:nvGraphicFramePr>
          <p:xfrm>
            <a:off x="0" y="3567240"/>
            <a:ext cx="7562880" cy="194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67240"/>
                      <a:ext cx="756288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6" name=""/>
            <p:cNvSpPr/>
            <p:nvPr/>
          </p:nvSpPr>
          <p:spPr>
            <a:xfrm>
              <a:off x="436680" y="5454720"/>
              <a:ext cx="480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primary transferred 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380880" y="58672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3124080" y="5867280"/>
                <a:ext cx="2032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39" name=""/>
          <p:cNvGrpSpPr/>
          <p:nvPr/>
        </p:nvGrpSpPr>
        <p:grpSpPr>
          <a:xfrm>
            <a:off x="5132880" y="2266920"/>
            <a:ext cx="4026960" cy="1542960"/>
            <a:chOff x="5132880" y="2266920"/>
            <a:chExt cx="4026960" cy="1542960"/>
          </a:xfrm>
        </p:grpSpPr>
        <p:graphicFrame>
          <p:nvGraphicFramePr>
            <p:cNvPr id="840" name=""/>
            <p:cNvGraphicFramePr/>
            <p:nvPr/>
          </p:nvGraphicFramePr>
          <p:xfrm>
            <a:off x="6095880" y="2266920"/>
            <a:ext cx="3063960" cy="15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2" name=""/>
            <p:cNvSpPr/>
            <p:nvPr/>
          </p:nvSpPr>
          <p:spPr>
            <a:xfrm>
              <a:off x="513288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E08.008_W0878" descr=""/>
          <p:cNvPicPr/>
          <p:nvPr/>
        </p:nvPicPr>
        <p:blipFill>
          <a:blip r:embed="rId1"/>
          <a:stretch/>
        </p:blipFill>
        <p:spPr>
          <a:xfrm>
            <a:off x="0" y="685800"/>
            <a:ext cx="4638600" cy="1476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666880" y="1522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1" name=""/>
          <p:cNvGrpSpPr/>
          <p:nvPr/>
        </p:nvGrpSpPr>
        <p:grpSpPr>
          <a:xfrm>
            <a:off x="5410080" y="304920"/>
            <a:ext cx="3210480" cy="2175840"/>
            <a:chOff x="5410080" y="304920"/>
            <a:chExt cx="3210480" cy="2175840"/>
          </a:xfrm>
        </p:grpSpPr>
        <p:graphicFrame>
          <p:nvGraphicFramePr>
            <p:cNvPr id="852" name=""/>
            <p:cNvGraphicFramePr/>
            <p:nvPr/>
          </p:nvGraphicFramePr>
          <p:xfrm>
            <a:off x="5410080" y="304920"/>
            <a:ext cx="3178080" cy="161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10080" y="3049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5623560" y="19000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590920" y="6094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57200" y="2362320"/>
          <a:ext cx="3178080" cy="16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362320"/>
                    <a:ext cx="31780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819520" y="251460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9" name=""/>
          <p:cNvGrpSpPr/>
          <p:nvPr/>
        </p:nvGrpSpPr>
        <p:grpSpPr>
          <a:xfrm>
            <a:off x="228600" y="2355840"/>
            <a:ext cx="1625760" cy="1454040"/>
            <a:chOff x="228600" y="2355840"/>
            <a:chExt cx="1625760" cy="1454040"/>
          </a:xfrm>
        </p:grpSpPr>
        <mc:AlternateContent>
          <mc:Choice xmlns:a14="http://schemas.microsoft.com/office/drawing/2010/main" Requires="a14">
            <p:sp>
              <p:nvSpPr>
                <p:cNvPr id="860" name=""/>
                <p:cNvSpPr txBox="1"/>
                <p:nvPr/>
              </p:nvSpPr>
              <p:spPr>
                <a:xfrm>
                  <a:off x="901800" y="2355840"/>
                  <a:ext cx="952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228600" y="3581280"/>
                  <a:ext cx="647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62" name=""/>
            <p:cNvGrpSpPr/>
            <p:nvPr/>
          </p:nvGrpSpPr>
          <p:grpSpPr>
            <a:xfrm>
              <a:off x="990720" y="2971800"/>
              <a:ext cx="533160" cy="290520"/>
              <a:chOff x="990720" y="2971800"/>
              <a:chExt cx="533160" cy="290520"/>
            </a:xfrm>
          </p:grpSpPr>
          <p:sp>
            <p:nvSpPr>
              <p:cNvPr id="863" name=""/>
              <p:cNvSpPr/>
              <p:nvPr/>
            </p:nvSpPr>
            <p:spPr>
              <a:xfrm>
                <a:off x="990720" y="2971800"/>
                <a:ext cx="5331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4" name=""/>
                  <p:cNvSpPr txBox="1"/>
                  <p:nvPr/>
                </p:nvSpPr>
                <p:spPr>
                  <a:xfrm>
                    <a:off x="1143000" y="2971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549600" y="39625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492360" y="48960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7" name=""/>
          <p:cNvGrpSpPr/>
          <p:nvPr/>
        </p:nvGrpSpPr>
        <p:grpSpPr>
          <a:xfrm>
            <a:off x="3657600" y="3124080"/>
            <a:ext cx="3935880" cy="639360"/>
            <a:chOff x="3657600" y="3124080"/>
            <a:chExt cx="3935880" cy="639360"/>
          </a:xfrm>
        </p:grpSpPr>
        <mc:AlternateContent>
          <mc:Choice xmlns:a14="http://schemas.microsoft.com/office/drawing/2010/main" Requires="a14">
            <p:sp>
              <p:nvSpPr>
                <p:cNvPr id="868" name=""/>
                <p:cNvSpPr txBox="1"/>
                <p:nvPr/>
              </p:nvSpPr>
              <p:spPr>
                <a:xfrm>
                  <a:off x="3657600" y="3124080"/>
                  <a:ext cx="977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9" name=""/>
            <p:cNvSpPr/>
            <p:nvPr/>
          </p:nvSpPr>
          <p:spPr>
            <a:xfrm>
              <a:off x="4825080" y="3182760"/>
              <a:ext cx="2768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the position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 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743200" y="1522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75" name="E08.009_W0879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638960" cy="1562040"/>
          </a:xfrm>
          <a:prstGeom prst="rect">
            <a:avLst/>
          </a:prstGeom>
          <a:ln w="0">
            <a:noFill/>
          </a:ln>
        </p:spPr>
      </p:pic>
      <p:grpSp>
        <p:nvGrpSpPr>
          <p:cNvPr id="876" name=""/>
          <p:cNvGrpSpPr/>
          <p:nvPr/>
        </p:nvGrpSpPr>
        <p:grpSpPr>
          <a:xfrm>
            <a:off x="5115240" y="2266920"/>
            <a:ext cx="4026960" cy="1542960"/>
            <a:chOff x="5115240" y="2266920"/>
            <a:chExt cx="4026960" cy="1542960"/>
          </a:xfrm>
        </p:grpSpPr>
        <p:graphicFrame>
          <p:nvGraphicFramePr>
            <p:cNvPr id="877" name=""/>
            <p:cNvGraphicFramePr/>
            <p:nvPr/>
          </p:nvGraphicFramePr>
          <p:xfrm>
            <a:off x="6078240" y="2266920"/>
            <a:ext cx="3063960" cy="1542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7824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9" name=""/>
            <p:cNvSpPr/>
            <p:nvPr/>
          </p:nvSpPr>
          <p:spPr>
            <a:xfrm>
              <a:off x="511524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0" name=""/>
          <p:cNvGraphicFramePr/>
          <p:nvPr/>
        </p:nvGraphicFramePr>
        <p:xfrm>
          <a:off x="762120" y="3124080"/>
          <a:ext cx="306360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124080"/>
                    <a:ext cx="306360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2743200" y="6858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33520" y="4267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914400" y="3164040"/>
                <a:ext cx="571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5" name=""/>
          <p:cNvGrpSpPr/>
          <p:nvPr/>
        </p:nvGrpSpPr>
        <p:grpSpPr>
          <a:xfrm>
            <a:off x="3048120" y="3290760"/>
            <a:ext cx="912600" cy="1280880"/>
            <a:chOff x="3048120" y="3290760"/>
            <a:chExt cx="912600" cy="1280880"/>
          </a:xfrm>
        </p:grpSpPr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3429000" y="434304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7" name=""/>
                <p:cNvSpPr txBox="1"/>
                <p:nvPr/>
              </p:nvSpPr>
              <p:spPr>
                <a:xfrm>
                  <a:off x="3048120" y="329076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514600" y="2895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505320" y="4800600"/>
                <a:ext cx="218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581280" y="553716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1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8.019_W0880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457800" cy="18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514600" y="1522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335160" y="2819520"/>
            <a:ext cx="3620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hing can be transferred.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 equations an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145080" y="3733920"/>
            <a:ext cx="4135680" cy="1206360"/>
            <a:chOff x="145080" y="3733920"/>
            <a:chExt cx="4135680" cy="1206360"/>
          </a:xfrm>
        </p:grpSpPr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1758960" y="4038480"/>
                  <a:ext cx="7617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00" name=""/>
            <p:cNvSpPr/>
            <p:nvPr/>
          </p:nvSpPr>
          <p:spPr>
            <a:xfrm>
              <a:off x="145080" y="373392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8600" y="4952880"/>
                <a:ext cx="375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 Node 1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2" name=""/>
          <p:cNvGrpSpPr/>
          <p:nvPr/>
        </p:nvGrpSpPr>
        <p:grpSpPr>
          <a:xfrm>
            <a:off x="1294920" y="990720"/>
            <a:ext cx="838800" cy="685800"/>
            <a:chOff x="1294920" y="990720"/>
            <a:chExt cx="838800" cy="685800"/>
          </a:xfrm>
        </p:grpSpPr>
        <p:sp>
          <p:nvSpPr>
            <p:cNvPr id="903" name=""/>
            <p:cNvSpPr/>
            <p:nvPr/>
          </p:nvSpPr>
          <p:spPr>
            <a:xfrm flipH="1">
              <a:off x="1294920" y="167652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05120" y="167652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533520" y="548640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Node 2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7" name=""/>
          <p:cNvGrpSpPr/>
          <p:nvPr/>
        </p:nvGrpSpPr>
        <p:grpSpPr>
          <a:xfrm>
            <a:off x="2514240" y="1142640"/>
            <a:ext cx="763920" cy="533880"/>
            <a:chOff x="2514240" y="1142640"/>
            <a:chExt cx="763920" cy="533880"/>
          </a:xfrm>
        </p:grpSpPr>
        <p:sp>
          <p:nvSpPr>
            <p:cNvPr id="908" name=""/>
            <p:cNvSpPr/>
            <p:nvPr/>
          </p:nvSpPr>
          <p:spPr>
            <a:xfrm>
              <a:off x="2897280" y="16714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895480" y="11426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2514240" y="16765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656280" y="6154560"/>
            <a:ext cx="294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equations in 4 unknow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3124080" y="10666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4952880" y="228600"/>
                <a:ext cx="2260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4678200" y="469800"/>
            <a:ext cx="244800" cy="681120"/>
          </a:xfrm>
          <a:custGeom>
            <a:avLst/>
            <a:gdLst/>
            <a:ahLst/>
            <a:rect l="l" t="t" r="r" b="b"/>
            <a:pathLst>
              <a:path w="154" h="429">
                <a:moveTo>
                  <a:pt x="154" y="429"/>
                </a:moveTo>
                <a:cubicBezTo>
                  <a:pt x="147" y="398"/>
                  <a:pt x="138" y="343"/>
                  <a:pt x="123" y="312"/>
                </a:cubicBezTo>
                <a:cubicBezTo>
                  <a:pt x="87" y="240"/>
                  <a:pt x="26" y="187"/>
                  <a:pt x="6" y="109"/>
                </a:cubicBezTo>
                <a:cubicBezTo>
                  <a:pt x="9" y="86"/>
                  <a:pt x="0" y="58"/>
                  <a:pt x="14" y="39"/>
                </a:cubicBezTo>
                <a:cubicBezTo>
                  <a:pt x="32" y="16"/>
                  <a:pt x="147" y="17"/>
                  <a:pt x="14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315200" y="228600"/>
                <a:ext cx="120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6019920" y="1233360"/>
            <a:ext cx="2590560" cy="290520"/>
            <a:chOff x="6019920" y="1233360"/>
            <a:chExt cx="2590560" cy="290520"/>
          </a:xfrm>
        </p:grpSpPr>
        <p:sp>
          <p:nvSpPr>
            <p:cNvPr id="917" name=""/>
            <p:cNvSpPr/>
            <p:nvPr/>
          </p:nvSpPr>
          <p:spPr>
            <a:xfrm>
              <a:off x="6019920" y="138564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7467480" y="123336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9" name=""/>
          <p:cNvGrpSpPr/>
          <p:nvPr/>
        </p:nvGrpSpPr>
        <p:grpSpPr>
          <a:xfrm>
            <a:off x="4361040" y="730080"/>
            <a:ext cx="3004920" cy="1236960"/>
            <a:chOff x="4361040" y="730080"/>
            <a:chExt cx="3004920" cy="1236960"/>
          </a:xfrm>
        </p:grpSpPr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5029200" y="1676520"/>
                  <a:ext cx="2336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>
              <a:off x="4361040" y="730080"/>
              <a:ext cx="574560" cy="1063800"/>
            </a:xfrm>
            <a:custGeom>
              <a:avLst/>
              <a:gdLst/>
              <a:ahLst/>
              <a:rect l="l" t="t" r="r" b="b"/>
              <a:pathLst>
                <a:path w="362" h="670">
                  <a:moveTo>
                    <a:pt x="331" y="0"/>
                  </a:moveTo>
                  <a:cubicBezTo>
                    <a:pt x="249" y="18"/>
                    <a:pt x="210" y="34"/>
                    <a:pt x="136" y="78"/>
                  </a:cubicBezTo>
                  <a:cubicBezTo>
                    <a:pt x="101" y="186"/>
                    <a:pt x="151" y="57"/>
                    <a:pt x="74" y="171"/>
                  </a:cubicBezTo>
                  <a:cubicBezTo>
                    <a:pt x="65" y="185"/>
                    <a:pt x="65" y="203"/>
                    <a:pt x="58" y="218"/>
                  </a:cubicBezTo>
                  <a:cubicBezTo>
                    <a:pt x="52" y="230"/>
                    <a:pt x="43" y="239"/>
                    <a:pt x="35" y="249"/>
                  </a:cubicBezTo>
                  <a:cubicBezTo>
                    <a:pt x="14" y="330"/>
                    <a:pt x="0" y="409"/>
                    <a:pt x="27" y="491"/>
                  </a:cubicBezTo>
                  <a:cubicBezTo>
                    <a:pt x="46" y="618"/>
                    <a:pt x="10" y="488"/>
                    <a:pt x="82" y="561"/>
                  </a:cubicBezTo>
                  <a:cubicBezTo>
                    <a:pt x="94" y="573"/>
                    <a:pt x="88" y="594"/>
                    <a:pt x="97" y="608"/>
                  </a:cubicBezTo>
                  <a:cubicBezTo>
                    <a:pt x="120" y="645"/>
                    <a:pt x="216" y="644"/>
                    <a:pt x="245" y="647"/>
                  </a:cubicBezTo>
                  <a:cubicBezTo>
                    <a:pt x="279" y="668"/>
                    <a:pt x="362" y="670"/>
                    <a:pt x="362" y="67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5105520" y="23623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772400" y="25146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334120" y="31240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2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F08.020A_W088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943520" cy="214308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249120" y="152280"/>
            <a:ext cx="4173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: A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879800" y="21096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uses fed from different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45480" y="973080"/>
            <a:ext cx="2818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X-Y opens, hou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powere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09480" y="3429000"/>
            <a:ext cx="4962600" cy="2714400"/>
            <a:chOff x="609480" y="3429000"/>
            <a:chExt cx="4962600" cy="2714400"/>
          </a:xfrm>
        </p:grpSpPr>
        <p:pic>
          <p:nvPicPr>
            <p:cNvPr id="933" name="F08.020B_W0882" descr=""/>
            <p:cNvPicPr/>
            <p:nvPr/>
          </p:nvPicPr>
          <p:blipFill>
            <a:blip r:embed="rId2"/>
            <a:stretch/>
          </p:blipFill>
          <p:spPr>
            <a:xfrm>
              <a:off x="609480" y="3429000"/>
              <a:ext cx="4962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1283040" y="5562720"/>
              <a:ext cx="3550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od neighbor runs an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 powers hous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716800" y="3106800"/>
            <a:ext cx="3304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echnician reset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he finds 7200V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ints X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98560" y="4419720"/>
            <a:ext cx="3693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he did not expect to find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8.003_W0856" descr=""/>
          <p:cNvPicPr/>
          <p:nvPr/>
        </p:nvPicPr>
        <p:blipFill>
          <a:blip r:embed="rId1"/>
          <a:stretch/>
        </p:blipFill>
        <p:spPr>
          <a:xfrm>
            <a:off x="82440" y="1312920"/>
            <a:ext cx="43531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560" y="135000"/>
            <a:ext cx="248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4040" y="609480"/>
            <a:ext cx="3441600" cy="2214720"/>
            <a:chOff x="554040" y="609480"/>
            <a:chExt cx="3441600" cy="2214720"/>
          </a:xfrm>
        </p:grpSpPr>
        <p:sp>
          <p:nvSpPr>
            <p:cNvPr id="89" name=""/>
            <p:cNvSpPr/>
            <p:nvPr/>
          </p:nvSpPr>
          <p:spPr>
            <a:xfrm>
              <a:off x="554040" y="1222200"/>
              <a:ext cx="1144440" cy="1497240"/>
            </a:xfrm>
            <a:custGeom>
              <a:avLst/>
              <a:gdLst/>
              <a:ahLst/>
              <a:rect l="l" t="t" r="r" b="b"/>
              <a:pathLst>
                <a:path w="721" h="943">
                  <a:moveTo>
                    <a:pt x="619" y="390"/>
                  </a:moveTo>
                  <a:cubicBezTo>
                    <a:pt x="652" y="305"/>
                    <a:pt x="698" y="230"/>
                    <a:pt x="721" y="141"/>
                  </a:cubicBezTo>
                  <a:cubicBezTo>
                    <a:pt x="702" y="55"/>
                    <a:pt x="694" y="52"/>
                    <a:pt x="627" y="0"/>
                  </a:cubicBezTo>
                  <a:cubicBezTo>
                    <a:pt x="443" y="7"/>
                    <a:pt x="352" y="19"/>
                    <a:pt x="183" y="70"/>
                  </a:cubicBezTo>
                  <a:cubicBezTo>
                    <a:pt x="157" y="90"/>
                    <a:pt x="151" y="90"/>
                    <a:pt x="136" y="117"/>
                  </a:cubicBezTo>
                  <a:cubicBezTo>
                    <a:pt x="125" y="138"/>
                    <a:pt x="105" y="180"/>
                    <a:pt x="105" y="180"/>
                  </a:cubicBezTo>
                  <a:cubicBezTo>
                    <a:pt x="96" y="242"/>
                    <a:pt x="87" y="303"/>
                    <a:pt x="58" y="359"/>
                  </a:cubicBezTo>
                  <a:cubicBezTo>
                    <a:pt x="30" y="485"/>
                    <a:pt x="25" y="603"/>
                    <a:pt x="19" y="733"/>
                  </a:cubicBezTo>
                  <a:cubicBezTo>
                    <a:pt x="22" y="782"/>
                    <a:pt x="0" y="840"/>
                    <a:pt x="27" y="881"/>
                  </a:cubicBezTo>
                  <a:cubicBezTo>
                    <a:pt x="48" y="913"/>
                    <a:pt x="220" y="931"/>
                    <a:pt x="253" y="935"/>
                  </a:cubicBezTo>
                  <a:cubicBezTo>
                    <a:pt x="284" y="939"/>
                    <a:pt x="316" y="940"/>
                    <a:pt x="347" y="943"/>
                  </a:cubicBezTo>
                  <a:cubicBezTo>
                    <a:pt x="401" y="924"/>
                    <a:pt x="400" y="828"/>
                    <a:pt x="425" y="780"/>
                  </a:cubicBezTo>
                  <a:cubicBezTo>
                    <a:pt x="434" y="691"/>
                    <a:pt x="443" y="590"/>
                    <a:pt x="495" y="515"/>
                  </a:cubicBezTo>
                  <a:cubicBezTo>
                    <a:pt x="509" y="474"/>
                    <a:pt x="494" y="506"/>
                    <a:pt x="526" y="468"/>
                  </a:cubicBezTo>
                  <a:cubicBezTo>
                    <a:pt x="569" y="418"/>
                    <a:pt x="552" y="418"/>
                    <a:pt x="619" y="39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20960" y="1141560"/>
              <a:ext cx="1152720" cy="1682640"/>
            </a:xfrm>
            <a:custGeom>
              <a:avLst/>
              <a:gdLst/>
              <a:ahLst/>
              <a:rect l="l" t="t" r="r" b="b"/>
              <a:pathLst>
                <a:path w="726" h="1059">
                  <a:moveTo>
                    <a:pt x="195" y="796"/>
                  </a:moveTo>
                  <a:cubicBezTo>
                    <a:pt x="200" y="833"/>
                    <a:pt x="203" y="870"/>
                    <a:pt x="210" y="906"/>
                  </a:cubicBezTo>
                  <a:cubicBezTo>
                    <a:pt x="227" y="990"/>
                    <a:pt x="292" y="1006"/>
                    <a:pt x="366" y="1015"/>
                  </a:cubicBezTo>
                  <a:cubicBezTo>
                    <a:pt x="565" y="1003"/>
                    <a:pt x="599" y="1059"/>
                    <a:pt x="678" y="945"/>
                  </a:cubicBezTo>
                  <a:cubicBezTo>
                    <a:pt x="683" y="929"/>
                    <a:pt x="688" y="914"/>
                    <a:pt x="693" y="898"/>
                  </a:cubicBezTo>
                  <a:cubicBezTo>
                    <a:pt x="696" y="890"/>
                    <a:pt x="701" y="874"/>
                    <a:pt x="701" y="874"/>
                  </a:cubicBezTo>
                  <a:cubicBezTo>
                    <a:pt x="704" y="768"/>
                    <a:pt x="709" y="661"/>
                    <a:pt x="709" y="555"/>
                  </a:cubicBezTo>
                  <a:cubicBezTo>
                    <a:pt x="709" y="531"/>
                    <a:pt x="726" y="299"/>
                    <a:pt x="670" y="235"/>
                  </a:cubicBezTo>
                  <a:cubicBezTo>
                    <a:pt x="636" y="197"/>
                    <a:pt x="597" y="162"/>
                    <a:pt x="561" y="126"/>
                  </a:cubicBezTo>
                  <a:cubicBezTo>
                    <a:pt x="522" y="87"/>
                    <a:pt x="544" y="99"/>
                    <a:pt x="499" y="87"/>
                  </a:cubicBezTo>
                  <a:cubicBezTo>
                    <a:pt x="455" y="59"/>
                    <a:pt x="402" y="49"/>
                    <a:pt x="351" y="41"/>
                  </a:cubicBezTo>
                  <a:cubicBezTo>
                    <a:pt x="135" y="47"/>
                    <a:pt x="110" y="0"/>
                    <a:pt x="15" y="142"/>
                  </a:cubicBezTo>
                  <a:cubicBezTo>
                    <a:pt x="0" y="246"/>
                    <a:pt x="17" y="352"/>
                    <a:pt x="62" y="446"/>
                  </a:cubicBezTo>
                  <a:cubicBezTo>
                    <a:pt x="73" y="511"/>
                    <a:pt x="61" y="480"/>
                    <a:pt x="101" y="539"/>
                  </a:cubicBezTo>
                  <a:cubicBezTo>
                    <a:pt x="121" y="569"/>
                    <a:pt x="127" y="610"/>
                    <a:pt x="148" y="641"/>
                  </a:cubicBezTo>
                  <a:cubicBezTo>
                    <a:pt x="159" y="684"/>
                    <a:pt x="166" y="730"/>
                    <a:pt x="179" y="773"/>
                  </a:cubicBezTo>
                  <a:cubicBezTo>
                    <a:pt x="187" y="799"/>
                    <a:pt x="179" y="796"/>
                    <a:pt x="195" y="79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6400" y="609480"/>
              <a:ext cx="3099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and voltages fo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0360" y="1768320"/>
            <a:ext cx="2178720" cy="1766520"/>
            <a:chOff x="270360" y="1768320"/>
            <a:chExt cx="2178720" cy="1766520"/>
          </a:xfrm>
        </p:grpSpPr>
        <p:sp>
          <p:nvSpPr>
            <p:cNvPr id="93" name=""/>
            <p:cNvSpPr/>
            <p:nvPr/>
          </p:nvSpPr>
          <p:spPr>
            <a:xfrm>
              <a:off x="1066680" y="1768320"/>
              <a:ext cx="890640" cy="1225800"/>
            </a:xfrm>
            <a:custGeom>
              <a:avLst/>
              <a:gdLst/>
              <a:ahLst/>
              <a:rect l="l" t="t" r="r" b="b"/>
              <a:pathLst>
                <a:path w="561" h="772">
                  <a:moveTo>
                    <a:pt x="561" y="71"/>
                  </a:moveTo>
                  <a:cubicBezTo>
                    <a:pt x="552" y="56"/>
                    <a:pt x="554" y="32"/>
                    <a:pt x="538" y="24"/>
                  </a:cubicBezTo>
                  <a:cubicBezTo>
                    <a:pt x="521" y="16"/>
                    <a:pt x="501" y="19"/>
                    <a:pt x="483" y="16"/>
                  </a:cubicBezTo>
                  <a:cubicBezTo>
                    <a:pt x="452" y="11"/>
                    <a:pt x="421" y="5"/>
                    <a:pt x="390" y="0"/>
                  </a:cubicBezTo>
                  <a:cubicBezTo>
                    <a:pt x="354" y="12"/>
                    <a:pt x="349" y="39"/>
                    <a:pt x="366" y="78"/>
                  </a:cubicBezTo>
                  <a:cubicBezTo>
                    <a:pt x="387" y="124"/>
                    <a:pt x="536" y="165"/>
                    <a:pt x="553" y="172"/>
                  </a:cubicBezTo>
                  <a:cubicBezTo>
                    <a:pt x="551" y="206"/>
                    <a:pt x="549" y="239"/>
                    <a:pt x="546" y="273"/>
                  </a:cubicBezTo>
                  <a:cubicBezTo>
                    <a:pt x="537" y="390"/>
                    <a:pt x="549" y="638"/>
                    <a:pt x="405" y="702"/>
                  </a:cubicBezTo>
                  <a:cubicBezTo>
                    <a:pt x="335" y="733"/>
                    <a:pt x="254" y="737"/>
                    <a:pt x="179" y="749"/>
                  </a:cubicBezTo>
                  <a:cubicBezTo>
                    <a:pt x="121" y="758"/>
                    <a:pt x="58" y="772"/>
                    <a:pt x="0" y="772"/>
                  </a:cubicBezTo>
                  <a:lnTo>
                    <a:pt x="59" y="75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0360" y="2954160"/>
              <a:ext cx="2178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ux 2 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has + at d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38098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4495680" y="76320"/>
            <a:ext cx="4496040" cy="2184120"/>
            <a:chOff x="4495680" y="76320"/>
            <a:chExt cx="4496040" cy="2184120"/>
          </a:xfrm>
        </p:grpSpPr>
        <p:sp>
          <p:nvSpPr>
            <p:cNvPr id="97" name=""/>
            <p:cNvSpPr/>
            <p:nvPr/>
          </p:nvSpPr>
          <p:spPr>
            <a:xfrm>
              <a:off x="4663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F08.005_W0858" descr=""/>
            <p:cNvPicPr/>
            <p:nvPr/>
          </p:nvPicPr>
          <p:blipFill>
            <a:blip r:embed="rId2"/>
            <a:stretch/>
          </p:blipFill>
          <p:spPr>
            <a:xfrm>
              <a:off x="4495680" y="762120"/>
              <a:ext cx="4496040" cy="14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5257800" y="2209680"/>
            <a:ext cx="685800" cy="366480"/>
            <a:chOff x="5257800" y="2209680"/>
            <a:chExt cx="685800" cy="366480"/>
          </a:xfrm>
        </p:grpSpPr>
        <p:sp>
          <p:nvSpPr>
            <p:cNvPr id="100" name=""/>
            <p:cNvSpPr/>
            <p:nvPr/>
          </p:nvSpPr>
          <p:spPr>
            <a:xfrm>
              <a:off x="5257800" y="2209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257800" y="228564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"/>
          <p:cNvGrpSpPr/>
          <p:nvPr/>
        </p:nvGrpSpPr>
        <p:grpSpPr>
          <a:xfrm>
            <a:off x="7162920" y="2133720"/>
            <a:ext cx="838080" cy="366480"/>
            <a:chOff x="7162920" y="2133720"/>
            <a:chExt cx="838080" cy="366480"/>
          </a:xfrm>
        </p:grpSpPr>
        <p:sp>
          <p:nvSpPr>
            <p:cNvPr id="103" name=""/>
            <p:cNvSpPr/>
            <p:nvPr/>
          </p:nvSpPr>
          <p:spPr>
            <a:xfrm flipH="1">
              <a:off x="7162920" y="213372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7238880" y="2209680"/>
                  <a:ext cx="620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70720" y="1143000"/>
                <a:ext cx="773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77920" y="5164200"/>
            <a:ext cx="381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other cases change polariti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 to convert t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10080" y="28321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4120" y="3505320"/>
                <a:ext cx="2908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867280" y="4267080"/>
                <a:ext cx="1854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44040" y="76320"/>
            <a:ext cx="394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high voltage transmission li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36520" y="533520"/>
            <a:ext cx="654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STUDY: Transmit 24MW over 100miles with 95%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84720" y="533520"/>
            <a:ext cx="134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AT 24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AT 240k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76320" y="851040"/>
                <a:ext cx="52830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Conductor resistance, R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stivity of material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copper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/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ondu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ross section 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76320" y="2590920"/>
                <a:ext cx="5640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Maximum losses,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6320" y="3276720"/>
                <a:ext cx="528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63360" y="28954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own: Line losses: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272880" y="3962520"/>
                <a:ext cx="3937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4191120" y="419112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35080" y="4724280"/>
                <a:ext cx="5435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k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36600" y="5486400"/>
                <a:ext cx="3873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267080" y="5715000"/>
                <a:ext cx="1562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24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F08.021_W088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572000" cy="20257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2485440" y="76320"/>
            <a:ext cx="3573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ating a distribution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952880" y="91440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holds per transforme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 per househol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3124080" y="27432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267080" y="2743200"/>
                <a:ext cx="1600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8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855000" y="2863800"/>
            <a:ext cx="201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51400" y="35640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power 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71800" y="3962520"/>
                <a:ext cx="3200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 secondary curre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962520" y="4419720"/>
                <a:ext cx="1689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048120" y="5029200"/>
                <a:ext cx="286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3124080" y="5410080"/>
                <a:ext cx="2781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so:  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F08.022A_W0884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000520" cy="23526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52320" y="76320"/>
            <a:ext cx="639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a 120V - 12V transformer to build a 108V auto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58840" y="2787480"/>
            <a:ext cx="282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ntion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3505320" y="762120"/>
            <a:ext cx="4790880" cy="2453400"/>
            <a:chOff x="3505320" y="762120"/>
            <a:chExt cx="4790880" cy="2453400"/>
          </a:xfrm>
        </p:grpSpPr>
        <p:pic>
          <p:nvPicPr>
            <p:cNvPr id="976" name="F08.022B_W0884" descr=""/>
            <p:cNvPicPr/>
            <p:nvPr/>
          </p:nvPicPr>
          <p:blipFill>
            <a:blip r:embed="rId2"/>
            <a:stretch/>
          </p:blipFill>
          <p:spPr>
            <a:xfrm>
              <a:off x="3505320" y="762120"/>
              <a:ext cx="47908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4673880" y="2878200"/>
              <a:ext cx="324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to transformer conn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3892680" y="3263760"/>
            <a:ext cx="4095720" cy="343080"/>
            <a:chOff x="3892680" y="3263760"/>
            <a:chExt cx="4095720" cy="343080"/>
          </a:xfrm>
        </p:grpSpPr>
        <mc:AlternateContent>
          <mc:Choice xmlns:a14="http://schemas.microsoft.com/office/drawing/2010/main" Requires="a14">
            <p:sp>
              <p:nvSpPr>
                <p:cNvPr id="979" name=""/>
                <p:cNvSpPr txBox="1"/>
                <p:nvPr/>
              </p:nvSpPr>
              <p:spPr>
                <a:xfrm>
                  <a:off x="3892680" y="3263760"/>
                  <a:ext cx="1358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6629400" y="3276720"/>
                  <a:ext cx="13590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4191120" y="3657600"/>
            <a:ext cx="4162320" cy="2453400"/>
            <a:chOff x="4191120" y="3657600"/>
            <a:chExt cx="4162320" cy="2453400"/>
          </a:xfrm>
        </p:grpSpPr>
        <p:pic>
          <p:nvPicPr>
            <p:cNvPr id="982" name="F08.022C_W0884" descr=""/>
            <p:cNvPicPr/>
            <p:nvPr/>
          </p:nvPicPr>
          <p:blipFill>
            <a:blip r:embed="rId3"/>
            <a:stretch/>
          </p:blipFill>
          <p:spPr>
            <a:xfrm>
              <a:off x="4191120" y="3657600"/>
              <a:ext cx="416232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4741560" y="5773680"/>
              <a:ext cx="2529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267480" y="3200400"/>
            <a:ext cx="3336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subtractive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120V - 12V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F08.023_W0885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3714840" cy="2352600"/>
          </a:xfrm>
          <a:prstGeom prst="rect">
            <a:avLst/>
          </a:prstGeom>
          <a:ln w="0">
            <a:noFill/>
          </a:ln>
        </p:spPr>
      </p:pic>
      <p:grpSp>
        <p:nvGrpSpPr>
          <p:cNvPr id="986" name=""/>
          <p:cNvGrpSpPr/>
          <p:nvPr/>
        </p:nvGrpSpPr>
        <p:grpSpPr>
          <a:xfrm>
            <a:off x="7322400" y="5714280"/>
            <a:ext cx="1826640" cy="1078560"/>
            <a:chOff x="7322400" y="5714280"/>
            <a:chExt cx="1826640" cy="1078560"/>
          </a:xfrm>
        </p:grpSpPr>
        <p:pic>
          <p:nvPicPr>
            <p:cNvPr id="987" name="stop" descr=""/>
            <p:cNvPicPr/>
            <p:nvPr/>
          </p:nvPicPr>
          <p:blipFill>
            <a:blip r:embed="rId5"/>
            <a:stretch/>
          </p:blipFill>
          <p:spPr>
            <a:xfrm>
              <a:off x="8199360" y="62784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7322400" y="571428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for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08.003_W0856" descr=""/>
          <p:cNvPicPr/>
          <p:nvPr/>
        </p:nvPicPr>
        <p:blipFill>
          <a:blip r:embed="rId1"/>
          <a:stretch/>
        </p:blipFill>
        <p:spPr>
          <a:xfrm>
            <a:off x="66600" y="457200"/>
            <a:ext cx="4353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6320" y="2286000"/>
            <a:ext cx="4267080" cy="1419120"/>
            <a:chOff x="76320" y="2286000"/>
            <a:chExt cx="4267080" cy="1419120"/>
          </a:xfrm>
        </p:grpSpPr>
        <p:graphicFrame>
          <p:nvGraphicFramePr>
            <p:cNvPr id="117" name=""/>
            <p:cNvGraphicFramePr/>
            <p:nvPr/>
          </p:nvGraphicFramePr>
          <p:xfrm>
            <a:off x="76320" y="2286000"/>
            <a:ext cx="4267080" cy="141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2286000"/>
                      <a:ext cx="4267080" cy="14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 flipH="1">
              <a:off x="1904400" y="2819160"/>
              <a:ext cx="1522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19320" y="3429000"/>
            <a:ext cx="457200" cy="442800"/>
            <a:chOff x="1219320" y="3429000"/>
            <a:chExt cx="457200" cy="442800"/>
          </a:xfrm>
        </p:grpSpPr>
        <p:sp>
          <p:nvSpPr>
            <p:cNvPr id="121" name=""/>
            <p:cNvSpPr/>
            <p:nvPr/>
          </p:nvSpPr>
          <p:spPr>
            <a:xfrm>
              <a:off x="121932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3581280"/>
                  <a:ext cx="330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2603520"/>
                <a:ext cx="380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48320" y="2514600"/>
                <a:ext cx="2019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6094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864480" y="3886200"/>
            <a:ext cx="1861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t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ative mu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4419720"/>
            <a:ext cx="4419720" cy="1469880"/>
            <a:chOff x="0" y="4419720"/>
            <a:chExt cx="4419720" cy="1469880"/>
          </a:xfrm>
        </p:grpSpPr>
        <p:graphicFrame>
          <p:nvGraphicFramePr>
            <p:cNvPr id="128" name=""/>
            <p:cNvGraphicFramePr/>
            <p:nvPr/>
          </p:nvGraphicFramePr>
          <p:xfrm>
            <a:off x="0" y="4419720"/>
            <a:ext cx="4419720" cy="1469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4419720"/>
                      <a:ext cx="441972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2286000" y="4952880"/>
              <a:ext cx="22860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666520" y="5715000"/>
            <a:ext cx="685800" cy="366840"/>
            <a:chOff x="2666520" y="5715000"/>
            <a:chExt cx="685800" cy="366840"/>
          </a:xfrm>
        </p:grpSpPr>
        <p:sp>
          <p:nvSpPr>
            <p:cNvPr id="132" name=""/>
            <p:cNvSpPr/>
            <p:nvPr/>
          </p:nvSpPr>
          <p:spPr>
            <a:xfrm flipH="1">
              <a:off x="2666520" y="57150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819520" y="5791320"/>
                  <a:ext cx="353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809880" y="4737240"/>
                <a:ext cx="405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724280" y="4572000"/>
                <a:ext cx="171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5181480"/>
                <a:ext cx="1942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7772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on 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E08.001_W0859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934240" cy="1485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914400"/>
            <a:ext cx="457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914400"/>
                <a:ext cx="176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 flipH="1">
            <a:off x="4114440" y="990720"/>
            <a:ext cx="6094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33720" y="1905120"/>
                <a:ext cx="2730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2590920"/>
                <a:ext cx="267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5403960" y="2057400"/>
            <a:ext cx="2685960" cy="1168560"/>
            <a:chOff x="5403960" y="2057400"/>
            <a:chExt cx="2685960" cy="116856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403960" y="2057400"/>
                  <a:ext cx="2438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5410080" y="2666880"/>
                  <a:ext cx="26798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"/>
          <p:cNvSpPr/>
          <p:nvPr/>
        </p:nvSpPr>
        <p:spPr>
          <a:xfrm>
            <a:off x="153360" y="1963800"/>
            <a:ext cx="125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43200" y="152280"/>
                <a:ext cx="3365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the equations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66600" y="3411360"/>
            <a:ext cx="6905880" cy="1922760"/>
            <a:chOff x="66600" y="3411360"/>
            <a:chExt cx="6905880" cy="1922760"/>
          </a:xfrm>
        </p:grpSpPr>
        <p:pic>
          <p:nvPicPr>
            <p:cNvPr id="156" name="F08.003_W0856" descr=""/>
            <p:cNvPicPr/>
            <p:nvPr/>
          </p:nvPicPr>
          <p:blipFill>
            <a:blip r:embed="rId2"/>
            <a:stretch/>
          </p:blipFill>
          <p:spPr>
            <a:xfrm>
              <a:off x="66600" y="3886200"/>
              <a:ext cx="4353120" cy="14479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57" name=""/>
            <p:cNvSpPr/>
            <p:nvPr/>
          </p:nvSpPr>
          <p:spPr>
            <a:xfrm>
              <a:off x="245880" y="3411360"/>
              <a:ext cx="39481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S AND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4419720" y="3962520"/>
                  <a:ext cx="2552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" name=""/>
          <p:cNvGrpSpPr/>
          <p:nvPr/>
        </p:nvGrpSpPr>
        <p:grpSpPr>
          <a:xfrm>
            <a:off x="3352680" y="5410080"/>
            <a:ext cx="5135400" cy="648000"/>
            <a:chOff x="3352680" y="5410080"/>
            <a:chExt cx="5135400" cy="64800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352680" y="5410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5602320" y="5410080"/>
              <a:ext cx="288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model for mutu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ed linear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47520" y="5486400"/>
            <a:ext cx="221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ing comple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04920" y="533520"/>
          <a:ext cx="358272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35827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1640" y="0"/>
            <a:ext cx="6549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upled inductors can be connected in four different w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odel for each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6480" y="1905120"/>
            <a:ext cx="3651480" cy="2100240"/>
            <a:chOff x="96480" y="1905120"/>
            <a:chExt cx="3651480" cy="2100240"/>
          </a:xfrm>
        </p:grpSpPr>
        <p:graphicFrame>
          <p:nvGraphicFramePr>
            <p:cNvPr id="173" name=""/>
            <p:cNvGraphicFramePr/>
            <p:nvPr/>
          </p:nvGraphicFramePr>
          <p:xfrm>
            <a:off x="152280" y="2227320"/>
            <a:ext cx="3595680" cy="177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2227320"/>
                      <a:ext cx="359568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96480" y="1905120"/>
              <a:ext cx="807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8320" y="2851200"/>
            <a:ext cx="2779920" cy="290520"/>
            <a:chOff x="598320" y="285120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598320" y="285120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2730600" y="28512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648320" y="2590920"/>
                <a:ext cx="1879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57200" y="1981080"/>
            <a:ext cx="3891240" cy="398520"/>
            <a:chOff x="457200" y="1981080"/>
            <a:chExt cx="3891240" cy="398520"/>
          </a:xfrm>
        </p:grpSpPr>
        <p:sp>
          <p:nvSpPr>
            <p:cNvPr id="181" name=""/>
            <p:cNvSpPr/>
            <p:nvPr/>
          </p:nvSpPr>
          <p:spPr>
            <a:xfrm>
              <a:off x="457200" y="2379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2379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23800" y="19810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3960" y="4097160"/>
            <a:ext cx="3717720" cy="2760840"/>
            <a:chOff x="93960" y="4097160"/>
            <a:chExt cx="3717720" cy="2760840"/>
          </a:xfrm>
        </p:grpSpPr>
        <p:graphicFrame>
          <p:nvGraphicFramePr>
            <p:cNvPr id="185" name=""/>
            <p:cNvGraphicFramePr/>
            <p:nvPr/>
          </p:nvGraphicFramePr>
          <p:xfrm>
            <a:off x="228600" y="4278240"/>
            <a:ext cx="3583080" cy="257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278240"/>
                      <a:ext cx="358308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93960" y="40971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09480" y="4952880"/>
            <a:ext cx="2779920" cy="290520"/>
            <a:chOff x="609480" y="495288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09480" y="495288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2741760" y="495288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490680" y="4038480"/>
            <a:ext cx="3891240" cy="398520"/>
            <a:chOff x="490680" y="4038480"/>
            <a:chExt cx="3891240" cy="398520"/>
          </a:xfrm>
        </p:grpSpPr>
        <p:sp>
          <p:nvSpPr>
            <p:cNvPr id="192" name=""/>
            <p:cNvSpPr/>
            <p:nvPr/>
          </p:nvSpPr>
          <p:spPr>
            <a:xfrm>
              <a:off x="490680" y="4437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1760" y="4437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57280" y="40384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4920" y="4495680"/>
            <a:ext cx="2311200" cy="214560"/>
            <a:chOff x="304920" y="4495680"/>
            <a:chExt cx="2311200" cy="2145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304920" y="44956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2286000" y="4495680"/>
                  <a:ext cx="3301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28600" y="2438280"/>
            <a:ext cx="2227320" cy="214560"/>
            <a:chOff x="228600" y="2438280"/>
            <a:chExt cx="2227320" cy="21456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2860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29248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76920" y="2286000"/>
                <a:ext cx="104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52880" y="40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4419720"/>
                <a:ext cx="1866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635360" y="3276720"/>
                <a:ext cx="2984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419720" y="5181480"/>
                <a:ext cx="222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5133960" y="5456160"/>
            <a:ext cx="1249200" cy="436680"/>
            <a:chOff x="5133960" y="5456160"/>
            <a:chExt cx="1249200" cy="436680"/>
          </a:xfrm>
        </p:grpSpPr>
        <p:sp>
          <p:nvSpPr>
            <p:cNvPr id="207" name=""/>
            <p:cNvSpPr/>
            <p:nvPr/>
          </p:nvSpPr>
          <p:spPr>
            <a:xfrm>
              <a:off x="5133960" y="5456160"/>
              <a:ext cx="1249200" cy="84240"/>
            </a:xfrm>
            <a:custGeom>
              <a:avLst/>
              <a:gdLst/>
              <a:ahLst/>
              <a:rect l="l" t="t" r="r" b="b"/>
              <a:pathLst>
                <a:path w="787" h="53">
                  <a:moveTo>
                    <a:pt x="0" y="8"/>
                  </a:moveTo>
                  <a:cubicBezTo>
                    <a:pt x="63" y="27"/>
                    <a:pt x="138" y="7"/>
                    <a:pt x="203" y="0"/>
                  </a:cubicBezTo>
                  <a:cubicBezTo>
                    <a:pt x="247" y="6"/>
                    <a:pt x="293" y="8"/>
                    <a:pt x="335" y="23"/>
                  </a:cubicBezTo>
                  <a:cubicBezTo>
                    <a:pt x="330" y="31"/>
                    <a:pt x="309" y="46"/>
                    <a:pt x="319" y="47"/>
                  </a:cubicBezTo>
                  <a:cubicBezTo>
                    <a:pt x="375" y="53"/>
                    <a:pt x="450" y="21"/>
                    <a:pt x="506" y="8"/>
                  </a:cubicBezTo>
                  <a:cubicBezTo>
                    <a:pt x="587" y="11"/>
                    <a:pt x="667" y="23"/>
                    <a:pt x="748" y="23"/>
                  </a:cubicBezTo>
                  <a:cubicBezTo>
                    <a:pt x="761" y="23"/>
                    <a:pt x="774" y="15"/>
                    <a:pt x="787" y="1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5562720" y="556272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10080" y="5932440"/>
                <a:ext cx="3708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mposes a physical constra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n the value of 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52280" y="533520"/>
          <a:ext cx="374832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374832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09800" y="76320"/>
            <a:ext cx="843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28600"/>
            <a:ext cx="3891240" cy="398520"/>
            <a:chOff x="457200" y="228600"/>
            <a:chExt cx="3891240" cy="398520"/>
          </a:xfrm>
        </p:grpSpPr>
        <p:sp>
          <p:nvSpPr>
            <p:cNvPr id="219" name=""/>
            <p:cNvSpPr/>
            <p:nvPr/>
          </p:nvSpPr>
          <p:spPr>
            <a:xfrm>
              <a:off x="457200" y="627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38280" y="627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3800" y="22860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61800" y="647640"/>
            <a:ext cx="2284560" cy="290520"/>
            <a:chOff x="361800" y="647640"/>
            <a:chExt cx="2284560" cy="290520"/>
          </a:xfrm>
        </p:grpSpPr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61800" y="64764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2406600" y="64764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5" name=""/>
          <p:cNvGrpSpPr/>
          <p:nvPr/>
        </p:nvGrpSpPr>
        <p:grpSpPr>
          <a:xfrm>
            <a:off x="696960" y="1147680"/>
            <a:ext cx="2743200" cy="279360"/>
            <a:chOff x="696960" y="1147680"/>
            <a:chExt cx="2743200" cy="279360"/>
          </a:xfrm>
        </p:grpSpPr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69696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284328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7632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029200" y="380880"/>
                <a:ext cx="1943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705720" y="763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029200" y="10666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16600" y="1752480"/>
                <a:ext cx="2679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3" name=""/>
          <p:cNvGrpSpPr/>
          <p:nvPr/>
        </p:nvGrpSpPr>
        <p:grpSpPr>
          <a:xfrm>
            <a:off x="4724280" y="1752480"/>
            <a:ext cx="4267440" cy="685800"/>
            <a:chOff x="4724280" y="1752480"/>
            <a:chExt cx="4267440" cy="685800"/>
          </a:xfrm>
        </p:grpSpPr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7772400" y="1752480"/>
                  <a:ext cx="1104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"/>
            <p:cNvSpPr/>
            <p:nvPr/>
          </p:nvSpPr>
          <p:spPr>
            <a:xfrm>
              <a:off x="4724280" y="2438280"/>
              <a:ext cx="42674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197240" y="2529000"/>
                <a:ext cx="472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981080" y="2590920"/>
                <a:ext cx="2133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4419720" y="3429000"/>
          <a:ext cx="377352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29000"/>
                    <a:ext cx="37735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0" y="3411360"/>
            <a:ext cx="3762360" cy="3067200"/>
            <a:chOff x="0" y="3411360"/>
            <a:chExt cx="3762360" cy="3067200"/>
          </a:xfrm>
        </p:grpSpPr>
        <p:graphicFrame>
          <p:nvGraphicFramePr>
            <p:cNvPr id="241" name=""/>
            <p:cNvGraphicFramePr/>
            <p:nvPr/>
          </p:nvGraphicFramePr>
          <p:xfrm>
            <a:off x="0" y="3962520"/>
            <a:ext cx="3762360" cy="251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62520"/>
                      <a:ext cx="3762360" cy="25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169920" y="34113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920" y="3581280"/>
            <a:ext cx="3891240" cy="398520"/>
            <a:chOff x="304920" y="3581280"/>
            <a:chExt cx="3891240" cy="398520"/>
          </a:xfrm>
        </p:grpSpPr>
        <p:sp>
          <p:nvSpPr>
            <p:cNvPr id="245" name=""/>
            <p:cNvSpPr/>
            <p:nvPr/>
          </p:nvSpPr>
          <p:spPr>
            <a:xfrm>
              <a:off x="304920" y="3979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39798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520" y="35812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28600" y="4038480"/>
            <a:ext cx="2367000" cy="290520"/>
            <a:chOff x="228600" y="4038480"/>
            <a:chExt cx="2367000" cy="29052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228600" y="4038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2190600" y="403848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609480" y="4572000"/>
            <a:ext cx="2876760" cy="279360"/>
            <a:chOff x="609480" y="4572000"/>
            <a:chExt cx="2876760" cy="27936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609480" y="457200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624040" y="4572000"/>
                  <a:ext cx="862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"/>
          <p:cNvGrpSpPr/>
          <p:nvPr/>
        </p:nvGrpSpPr>
        <p:grpSpPr>
          <a:xfrm>
            <a:off x="5791320" y="3886200"/>
            <a:ext cx="1676160" cy="457200"/>
            <a:chOff x="5791320" y="3886200"/>
            <a:chExt cx="1676160" cy="457200"/>
          </a:xfrm>
        </p:grpSpPr>
        <p:sp>
          <p:nvSpPr>
            <p:cNvPr id="255" name=""/>
            <p:cNvSpPr/>
            <p:nvPr/>
          </p:nvSpPr>
          <p:spPr>
            <a:xfrm>
              <a:off x="6019560" y="38862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5791320" y="3886200"/>
                  <a:ext cx="20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"/>
            <p:cNvSpPr/>
            <p:nvPr/>
          </p:nvSpPr>
          <p:spPr>
            <a:xfrm>
              <a:off x="7467480" y="3886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7162560" y="38862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848720" y="380988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51400" y="5181480"/>
                <a:ext cx="2108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010280" y="5334120"/>
                <a:ext cx="1828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F08.007_W0861" descr=""/>
          <p:cNvPicPr/>
          <p:nvPr/>
        </p:nvPicPr>
        <p:blipFill>
          <a:blip r:embed="rId1"/>
          <a:stretch/>
        </p:blipFill>
        <p:spPr>
          <a:xfrm>
            <a:off x="1238400" y="927000"/>
            <a:ext cx="4095720" cy="1371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62320" y="152280"/>
                <a:ext cx="2514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048120" y="139716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352680" y="1397160"/>
                <a:ext cx="265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2" name=""/>
          <p:cNvGrpSpPr/>
          <p:nvPr/>
        </p:nvGrpSpPr>
        <p:grpSpPr>
          <a:xfrm>
            <a:off x="3733560" y="560520"/>
            <a:ext cx="609480" cy="366480"/>
            <a:chOff x="3733560" y="560520"/>
            <a:chExt cx="609480" cy="366480"/>
          </a:xfrm>
        </p:grpSpPr>
        <p:sp>
          <p:nvSpPr>
            <p:cNvPr id="273" name=""/>
            <p:cNvSpPr/>
            <p:nvPr/>
          </p:nvSpPr>
          <p:spPr>
            <a:xfrm flipH="1">
              <a:off x="3733560" y="927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3886200" y="56052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"/>
          <p:cNvGrpSpPr/>
          <p:nvPr/>
        </p:nvGrpSpPr>
        <p:grpSpPr>
          <a:xfrm>
            <a:off x="1447920" y="1231920"/>
            <a:ext cx="2273040" cy="1356840"/>
            <a:chOff x="1447920" y="1231920"/>
            <a:chExt cx="2273040" cy="13568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1447920" y="2298600"/>
                  <a:ext cx="22730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2133360" y="1231920"/>
              <a:ext cx="860040" cy="788760"/>
            </a:xfrm>
            <a:custGeom>
              <a:avLst/>
              <a:gdLst/>
              <a:ahLst/>
              <a:rect l="l" t="t" r="r" b="b"/>
              <a:pathLst>
                <a:path w="542" h="497">
                  <a:moveTo>
                    <a:pt x="401" y="497"/>
                  </a:moveTo>
                  <a:cubicBezTo>
                    <a:pt x="373" y="487"/>
                    <a:pt x="353" y="473"/>
                    <a:pt x="323" y="466"/>
                  </a:cubicBezTo>
                  <a:cubicBezTo>
                    <a:pt x="261" y="469"/>
                    <a:pt x="198" y="482"/>
                    <a:pt x="136" y="474"/>
                  </a:cubicBezTo>
                  <a:cubicBezTo>
                    <a:pt x="95" y="469"/>
                    <a:pt x="27" y="468"/>
                    <a:pt x="20" y="427"/>
                  </a:cubicBezTo>
                  <a:cubicBezTo>
                    <a:pt x="0" y="311"/>
                    <a:pt x="51" y="193"/>
                    <a:pt x="66" y="76"/>
                  </a:cubicBezTo>
                  <a:cubicBezTo>
                    <a:pt x="542" y="90"/>
                    <a:pt x="258" y="0"/>
                    <a:pt x="355" y="19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124080" y="1370160"/>
            <a:ext cx="2502000" cy="1600200"/>
            <a:chOff x="3124080" y="1370160"/>
            <a:chExt cx="2502000" cy="1600200"/>
          </a:xfrm>
        </p:grpSpPr>
        <p:sp>
          <p:nvSpPr>
            <p:cNvPr id="279" name=""/>
            <p:cNvSpPr/>
            <p:nvPr/>
          </p:nvSpPr>
          <p:spPr>
            <a:xfrm>
              <a:off x="4078440" y="1370160"/>
              <a:ext cx="606240" cy="789120"/>
            </a:xfrm>
            <a:custGeom>
              <a:avLst/>
              <a:gdLst/>
              <a:ahLst/>
              <a:rect l="l" t="t" r="r" b="b"/>
              <a:pathLst>
                <a:path w="382" h="497">
                  <a:moveTo>
                    <a:pt x="356" y="497"/>
                  </a:moveTo>
                  <a:cubicBezTo>
                    <a:pt x="248" y="469"/>
                    <a:pt x="142" y="471"/>
                    <a:pt x="29" y="466"/>
                  </a:cubicBezTo>
                  <a:cubicBezTo>
                    <a:pt x="0" y="297"/>
                    <a:pt x="30" y="285"/>
                    <a:pt x="91" y="61"/>
                  </a:cubicBezTo>
                  <a:cubicBezTo>
                    <a:pt x="382" y="71"/>
                    <a:pt x="294" y="0"/>
                    <a:pt x="294" y="333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3124080" y="267984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-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320840" y="2984400"/>
                <a:ext cx="32511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TUAL INDUCTANCE 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336564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209680" y="260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257480" y="4127400"/>
                <a:ext cx="2476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150920" y="2370240"/>
            <a:ext cx="255600" cy="1114200"/>
          </a:xfrm>
          <a:custGeom>
            <a:avLst/>
            <a:gdLst/>
            <a:ahLst/>
            <a:rect l="l" t="t" r="r" b="b"/>
            <a:pathLst>
              <a:path w="161" h="705">
                <a:moveTo>
                  <a:pt x="75" y="695"/>
                </a:moveTo>
                <a:cubicBezTo>
                  <a:pt x="57" y="692"/>
                  <a:pt x="23" y="705"/>
                  <a:pt x="20" y="687"/>
                </a:cubicBezTo>
                <a:cubicBezTo>
                  <a:pt x="0" y="556"/>
                  <a:pt x="13" y="422"/>
                  <a:pt x="13" y="290"/>
                </a:cubicBezTo>
                <a:cubicBezTo>
                  <a:pt x="13" y="225"/>
                  <a:pt x="16" y="160"/>
                  <a:pt x="20" y="95"/>
                </a:cubicBezTo>
                <a:cubicBezTo>
                  <a:pt x="21" y="74"/>
                  <a:pt x="14" y="48"/>
                  <a:pt x="28" y="33"/>
                </a:cubicBezTo>
                <a:cubicBezTo>
                  <a:pt x="58" y="0"/>
                  <a:pt x="117" y="25"/>
                  <a:pt x="161" y="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4160" y="3000240"/>
            <a:ext cx="1249200" cy="841680"/>
          </a:xfrm>
          <a:custGeom>
            <a:avLst/>
            <a:gdLst/>
            <a:ahLst/>
            <a:rect l="l" t="t" r="r" b="b"/>
            <a:pathLst>
              <a:path w="787" h="530">
                <a:moveTo>
                  <a:pt x="0" y="530"/>
                </a:moveTo>
                <a:cubicBezTo>
                  <a:pt x="28" y="507"/>
                  <a:pt x="59" y="486"/>
                  <a:pt x="85" y="460"/>
                </a:cubicBezTo>
                <a:cubicBezTo>
                  <a:pt x="123" y="422"/>
                  <a:pt x="119" y="395"/>
                  <a:pt x="163" y="374"/>
                </a:cubicBezTo>
                <a:cubicBezTo>
                  <a:pt x="191" y="360"/>
                  <a:pt x="219" y="344"/>
                  <a:pt x="249" y="335"/>
                </a:cubicBezTo>
                <a:cubicBezTo>
                  <a:pt x="282" y="325"/>
                  <a:pt x="350" y="312"/>
                  <a:pt x="350" y="312"/>
                </a:cubicBezTo>
                <a:cubicBezTo>
                  <a:pt x="426" y="273"/>
                  <a:pt x="523" y="264"/>
                  <a:pt x="607" y="249"/>
                </a:cubicBezTo>
                <a:cubicBezTo>
                  <a:pt x="642" y="233"/>
                  <a:pt x="677" y="223"/>
                  <a:pt x="709" y="202"/>
                </a:cubicBezTo>
                <a:cubicBezTo>
                  <a:pt x="727" y="159"/>
                  <a:pt x="746" y="131"/>
                  <a:pt x="771" y="93"/>
                </a:cubicBezTo>
                <a:cubicBezTo>
                  <a:pt x="779" y="62"/>
                  <a:pt x="787" y="32"/>
                  <a:pt x="78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76680" y="349200"/>
            <a:ext cx="1828800" cy="1963800"/>
          </a:xfrm>
          <a:custGeom>
            <a:avLst/>
            <a:gdLst/>
            <a:ahLst/>
            <a:rect l="l" t="t" r="r" b="b"/>
            <a:pathLst>
              <a:path w="1152" h="1237">
                <a:moveTo>
                  <a:pt x="1114" y="400"/>
                </a:moveTo>
                <a:cubicBezTo>
                  <a:pt x="1124" y="308"/>
                  <a:pt x="1152" y="182"/>
                  <a:pt x="1130" y="88"/>
                </a:cubicBezTo>
                <a:cubicBezTo>
                  <a:pt x="1129" y="85"/>
                  <a:pt x="1085" y="74"/>
                  <a:pt x="1067" y="72"/>
                </a:cubicBezTo>
                <a:cubicBezTo>
                  <a:pt x="1033" y="68"/>
                  <a:pt x="1000" y="67"/>
                  <a:pt x="966" y="64"/>
                </a:cubicBezTo>
                <a:cubicBezTo>
                  <a:pt x="572" y="85"/>
                  <a:pt x="727" y="0"/>
                  <a:pt x="623" y="150"/>
                </a:cubicBezTo>
                <a:cubicBezTo>
                  <a:pt x="605" y="204"/>
                  <a:pt x="610" y="280"/>
                  <a:pt x="568" y="322"/>
                </a:cubicBezTo>
                <a:cubicBezTo>
                  <a:pt x="551" y="339"/>
                  <a:pt x="543" y="336"/>
                  <a:pt x="522" y="345"/>
                </a:cubicBezTo>
                <a:cubicBezTo>
                  <a:pt x="446" y="379"/>
                  <a:pt x="333" y="385"/>
                  <a:pt x="249" y="392"/>
                </a:cubicBezTo>
                <a:cubicBezTo>
                  <a:pt x="201" y="409"/>
                  <a:pt x="182" y="453"/>
                  <a:pt x="155" y="493"/>
                </a:cubicBezTo>
                <a:cubicBezTo>
                  <a:pt x="150" y="501"/>
                  <a:pt x="145" y="508"/>
                  <a:pt x="140" y="516"/>
                </a:cubicBezTo>
                <a:cubicBezTo>
                  <a:pt x="135" y="523"/>
                  <a:pt x="139" y="536"/>
                  <a:pt x="132" y="540"/>
                </a:cubicBezTo>
                <a:cubicBezTo>
                  <a:pt x="103" y="556"/>
                  <a:pt x="39" y="571"/>
                  <a:pt x="39" y="571"/>
                </a:cubicBezTo>
                <a:cubicBezTo>
                  <a:pt x="9" y="610"/>
                  <a:pt x="7" y="631"/>
                  <a:pt x="0" y="680"/>
                </a:cubicBezTo>
                <a:cubicBezTo>
                  <a:pt x="2" y="761"/>
                  <a:pt x="1" y="842"/>
                  <a:pt x="7" y="922"/>
                </a:cubicBezTo>
                <a:cubicBezTo>
                  <a:pt x="12" y="989"/>
                  <a:pt x="36" y="1066"/>
                  <a:pt x="78" y="1117"/>
                </a:cubicBezTo>
                <a:cubicBezTo>
                  <a:pt x="98" y="1141"/>
                  <a:pt x="97" y="1165"/>
                  <a:pt x="140" y="1171"/>
                </a:cubicBezTo>
                <a:cubicBezTo>
                  <a:pt x="161" y="1174"/>
                  <a:pt x="181" y="1176"/>
                  <a:pt x="202" y="1179"/>
                </a:cubicBezTo>
                <a:cubicBezTo>
                  <a:pt x="295" y="1224"/>
                  <a:pt x="426" y="1224"/>
                  <a:pt x="530" y="1233"/>
                </a:cubicBezTo>
                <a:cubicBezTo>
                  <a:pt x="574" y="1231"/>
                  <a:pt x="619" y="1237"/>
                  <a:pt x="662" y="1226"/>
                </a:cubicBezTo>
                <a:cubicBezTo>
                  <a:pt x="675" y="1223"/>
                  <a:pt x="678" y="1205"/>
                  <a:pt x="685" y="1194"/>
                </a:cubicBezTo>
                <a:cubicBezTo>
                  <a:pt x="708" y="1156"/>
                  <a:pt x="715" y="1126"/>
                  <a:pt x="748" y="1093"/>
                </a:cubicBezTo>
                <a:cubicBezTo>
                  <a:pt x="760" y="1053"/>
                  <a:pt x="782" y="1017"/>
                  <a:pt x="794" y="976"/>
                </a:cubicBezTo>
                <a:cubicBezTo>
                  <a:pt x="810" y="848"/>
                  <a:pt x="869" y="735"/>
                  <a:pt x="974" y="657"/>
                </a:cubicBezTo>
                <a:cubicBezTo>
                  <a:pt x="1007" y="589"/>
                  <a:pt x="1031" y="537"/>
                  <a:pt x="1083" y="4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676520" y="1003320"/>
            <a:ext cx="609480" cy="290520"/>
            <a:chOff x="1676520" y="1003320"/>
            <a:chExt cx="609480" cy="290520"/>
          </a:xfrm>
        </p:grpSpPr>
        <p:sp>
          <p:nvSpPr>
            <p:cNvPr id="289" name=""/>
            <p:cNvSpPr/>
            <p:nvPr/>
          </p:nvSpPr>
          <p:spPr>
            <a:xfrm>
              <a:off x="1828800" y="1155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1676520" y="1003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1219320" y="4127400"/>
            <a:ext cx="3581280" cy="685800"/>
            <a:chOff x="1219320" y="4127400"/>
            <a:chExt cx="3581280" cy="685800"/>
          </a:xfrm>
        </p:grpSpPr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810240" y="4127400"/>
                  <a:ext cx="8506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t xml:space="preserve">2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"/>
            <p:cNvSpPr/>
            <p:nvPr/>
          </p:nvSpPr>
          <p:spPr>
            <a:xfrm>
              <a:off x="1219320" y="4813200"/>
              <a:ext cx="3581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981080" y="4889520"/>
                <a:ext cx="2210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3000" y="5270400"/>
                <a:ext cx="129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514600" y="5270400"/>
                <a:ext cx="67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200400" y="5270400"/>
                <a:ext cx="69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43000" y="5880240"/>
                <a:ext cx="162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755800" y="5880240"/>
                <a:ext cx="143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191120" y="60325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479200" y="685800"/>
            <a:ext cx="3574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oupled inductors. Define the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80800" y="2057400"/>
            <a:ext cx="25261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Writ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31640" y="3048120"/>
            <a:ext cx="237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51440" y="4114800"/>
            <a:ext cx="32194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F08.008_W086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552840" cy="2438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316600" y="0"/>
            <a:ext cx="285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741320" y="138420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1447920" y="700200"/>
            <a:ext cx="620640" cy="671400"/>
            <a:chOff x="1447920" y="700200"/>
            <a:chExt cx="620640" cy="671400"/>
          </a:xfrm>
        </p:grpSpPr>
        <p:sp>
          <p:nvSpPr>
            <p:cNvPr id="315" name=""/>
            <p:cNvSpPr/>
            <p:nvPr/>
          </p:nvSpPr>
          <p:spPr>
            <a:xfrm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447920" y="700200"/>
                  <a:ext cx="620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62320" y="13716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8" name=""/>
          <p:cNvGrpSpPr/>
          <p:nvPr/>
        </p:nvGrpSpPr>
        <p:grpSpPr>
          <a:xfrm>
            <a:off x="2286000" y="685800"/>
            <a:ext cx="647640" cy="685800"/>
            <a:chOff x="2286000" y="685800"/>
            <a:chExt cx="647640" cy="685800"/>
          </a:xfrm>
        </p:grpSpPr>
        <p:sp>
          <p:nvSpPr>
            <p:cNvPr id="319" name=""/>
            <p:cNvSpPr/>
            <p:nvPr/>
          </p:nvSpPr>
          <p:spPr>
            <a:xfrm>
              <a:off x="2590560" y="914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2286000" y="685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0360" y="3564000"/>
            <a:ext cx="459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Write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838080" y="419112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4800600"/>
                <a:ext cx="389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04920" y="5410080"/>
                <a:ext cx="340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105520" y="838080"/>
                <a:ext cx="3225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05560" y="439560"/>
            <a:ext cx="425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00880" y="1582560"/>
            <a:ext cx="365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00600" y="2209680"/>
                <a:ext cx="37083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280040" y="3822840"/>
                <a:ext cx="48639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24280" y="5638680"/>
                <a:ext cx="3327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8:57:55Z</dcterms:created>
  <dc:creator>Jorge Aravena</dc:creator>
  <dc:description/>
  <dc:language>en-US</dc:language>
  <cp:lastModifiedBy>student</cp:lastModifiedBy>
  <dcterms:modified xsi:type="dcterms:W3CDTF">2001-08-08T17:22:51Z</dcterms:modified>
  <cp:revision>14</cp:revision>
  <dc:subject/>
  <dc:title>No Slide Title</dc:title>
</cp:coreProperties>
</file>