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778-6B94-47B3-9311-032CC5BD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5B6-1027-43E6-BBD1-08C4BE32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948-7700-4B8B-8289-824936AD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33E-CC24-4CA2-8472-B1E3661F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03E-EACA-49E6-A41B-E004403C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484-A828-46C4-8F99-EA4F4D46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D6F-AC73-4822-A16E-E0F3856C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E7E-6C00-4D44-A4F1-3881AD7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AA2-E9E2-4FC6-8A92-49459BB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83C-3CAC-43FD-8EFE-A1B6E109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6BD-A366-442D-9E0E-AF17F3BF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B90-8CF1-4DA0-9637-EBE25720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687-16E8-4032-A88F-7F2848B7E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stop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geaux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DoubleSwitching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stop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Example6p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student</cp:lastModifiedBy>
  <cp:lastPrinted>2000-11-17T12:11:06Z</cp:lastPrinted>
  <dcterms:modified xsi:type="dcterms:W3CDTF">2001-05-31T16:25:10Z</dcterms:modified>
  <cp:revision>27</cp:revision>
  <dc:subject/>
  <dc:title>No Slide Title</dc:title>
</cp:coreProperties>
</file>