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60-B0B1-4495-8A21-B5A6BC8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51F-BE14-4D57-ACA3-80E7A48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23E-35CF-4132-A37E-CF2501E0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5DD-B711-456A-86D2-7FE4755E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FA1-1387-49CC-932A-C0479717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2E5-D2E8-4241-B40B-EBD2110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6CA-A30E-412A-91F3-DED6E08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D6F-A591-4005-AC79-7800DCE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F32-47F5-437A-9E7C-F852718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28D-2AF4-4BBC-9E27-0628646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B68-31EB-4F10-B96E-C8FA37C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422-F7C8-401C-BF24-77DF812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DD6-1929-4EC1-934F-96A3BE38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3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29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6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6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6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8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1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4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5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3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0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8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4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8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0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3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59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4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0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2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2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7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2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6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4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8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6" name="geaux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0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8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49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7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0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8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1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0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eaux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1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4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7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0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3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6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4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5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8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0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49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7" name="stop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eaux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EffectOfTimeConstant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 rot="10800000">
                <a:off x="744480" y="3276360"/>
                <a:ext cx="71042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CT: WHEN ALL INDEPENDENT SOURCES ARE CONST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ARIABLE,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N THE CIRCUI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IS  OF  THE  FORM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4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0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4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0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3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student</cp:lastModifiedBy>
  <dcterms:modified xsi:type="dcterms:W3CDTF">2001-05-23T13:47:38Z</dcterms:modified>
  <cp:revision>22</cp:revision>
  <dc:subject/>
  <dc:title>No Slide Title</dc:title>
</cp:coreProperties>
</file>