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3B5A-BCA2-4BD8-B0B1-11CC56B7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2F3D-494C-47AB-BF1A-4DF03CBA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3015-CC60-44E1-88FF-D1B318EF2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E24E-60BE-4F4B-9D11-5E321BC5F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71FF-C766-4173-80D4-CC3E89A1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DDD1-2D4F-47A7-8634-257F97B5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6241-03F5-44BB-91D4-7E67AF94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8BAB-C655-4B3B-AA64-02D9DE61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40AE-1E9E-49A6-8CC1-AF93A3A6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9579-63B0-449B-8EE5-556FD62E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E5FA-707D-46C2-AFDD-8A821E9F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A271-0A1B-43A4-9077-3607F7AE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1452-07F5-4FCE-B4B9-2F4360C88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760" y="0"/>
            <a:ext cx="2672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05120" y="0"/>
            <a:ext cx="2116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EART PACEMA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775040" y="41400"/>
            <a:ext cx="4368960" cy="3388320"/>
            <a:chOff x="4775040" y="41400"/>
            <a:chExt cx="4368960" cy="3388320"/>
          </a:xfrm>
        </p:grpSpPr>
        <p:grpSp>
          <p:nvGrpSpPr>
            <p:cNvPr id="44" name=""/>
            <p:cNvGrpSpPr/>
            <p:nvPr/>
          </p:nvGrpSpPr>
          <p:grpSpPr>
            <a:xfrm>
              <a:off x="4876920" y="41400"/>
              <a:ext cx="4267080" cy="3388320"/>
              <a:chOff x="4876920" y="41400"/>
              <a:chExt cx="4267080" cy="3388320"/>
            </a:xfrm>
          </p:grpSpPr>
          <p:grpSp>
            <p:nvGrpSpPr>
              <p:cNvPr id="45" name=""/>
              <p:cNvGrpSpPr/>
              <p:nvPr/>
            </p:nvGrpSpPr>
            <p:grpSpPr>
              <a:xfrm>
                <a:off x="5029200" y="41400"/>
                <a:ext cx="4114800" cy="1177920"/>
                <a:chOff x="5029200" y="41400"/>
                <a:chExt cx="4114800" cy="1177920"/>
              </a:xfrm>
            </p:grpSpPr>
            <p:graphicFrame>
              <p:nvGraphicFramePr>
                <p:cNvPr id="46" name=""/>
                <p:cNvGraphicFramePr/>
                <p:nvPr/>
              </p:nvGraphicFramePr>
              <p:xfrm>
                <a:off x="5029200" y="41400"/>
                <a:ext cx="4114800" cy="117792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47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5029200" y="41400"/>
                          <a:ext cx="4114800" cy="1177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mc:AlternateContent>
              <mc:Choice xmlns:a14="http://schemas.microsoft.com/office/drawing/2010/main" Requires="a14">
                <p:sp>
                  <p:nvSpPr>
                    <p:cNvPr id="48" name=""/>
                    <p:cNvSpPr txBox="1"/>
                    <p:nvPr/>
                  </p:nvSpPr>
                  <p:spPr>
                    <a:xfrm>
                      <a:off x="8824680" y="513720"/>
                      <a:ext cx="177120" cy="189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μ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aphicFrame>
            <p:nvGraphicFramePr>
              <p:cNvPr id="49" name=""/>
              <p:cNvGraphicFramePr/>
              <p:nvPr/>
            </p:nvGraphicFramePr>
            <p:xfrm>
              <a:off x="4876920" y="1187280"/>
              <a:ext cx="3292200" cy="1951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876920" y="1187280"/>
                        <a:ext cx="3292200" cy="1951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1" name=""/>
              <p:cNvSpPr/>
              <p:nvPr/>
            </p:nvSpPr>
            <p:spPr>
              <a:xfrm>
                <a:off x="6130800" y="1474920"/>
                <a:ext cx="231264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implified SCR mode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81280" y="3092400"/>
                <a:ext cx="124128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CR “fires”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4775040" y="1760400"/>
                  <a:ext cx="5590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50</m:t>
                      </m:r>
                      <m:r>
                        <m:t xml:space="preserve">μ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" name=""/>
          <p:cNvGrpSpPr/>
          <p:nvPr/>
        </p:nvGrpSpPr>
        <p:grpSpPr>
          <a:xfrm>
            <a:off x="0" y="3505320"/>
            <a:ext cx="4114800" cy="2171520"/>
            <a:chOff x="0" y="3505320"/>
            <a:chExt cx="4114800" cy="2171520"/>
          </a:xfrm>
        </p:grpSpPr>
        <p:pic>
          <p:nvPicPr>
            <p:cNvPr id="55" name="F06.042_W0654" descr=""/>
            <p:cNvPicPr/>
            <p:nvPr/>
          </p:nvPicPr>
          <p:blipFill>
            <a:blip r:embed="rId5"/>
            <a:stretch/>
          </p:blipFill>
          <p:spPr>
            <a:xfrm>
              <a:off x="0" y="3754440"/>
              <a:ext cx="4114800" cy="19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3840" y="3505320"/>
              <a:ext cx="1764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arging p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0120" y="5773680"/>
            <a:ext cx="4410000" cy="841320"/>
            <a:chOff x="60120" y="5773680"/>
            <a:chExt cx="4410000" cy="841320"/>
          </a:xfrm>
        </p:grpSpPr>
        <p:sp>
          <p:nvSpPr>
            <p:cNvPr id="58" name=""/>
            <p:cNvSpPr/>
            <p:nvPr/>
          </p:nvSpPr>
          <p:spPr>
            <a:xfrm>
              <a:off x="60120" y="5773680"/>
              <a:ext cx="4410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 soon as the SCR switches off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 starts charging. Hence, assum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1219320" y="6324480"/>
                  <a:ext cx="1054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572000" y="3429000"/>
                <a:ext cx="22986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572000" y="3962520"/>
                <a:ext cx="1511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572000" y="426708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572000" y="4572000"/>
                <a:ext cx="2171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7010280" y="4114800"/>
                <a:ext cx="825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257800" y="4876920"/>
                <a:ext cx="2362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297360" y="2344680"/>
            <a:ext cx="4085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R so that the SCR is ready to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fter one second of capacitor char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952880" y="5410080"/>
                <a:ext cx="33912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quired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876920" y="5943600"/>
                <a:ext cx="2311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162920" y="6095880"/>
                <a:ext cx="1333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69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7238880" y="6324480"/>
                <a:ext cx="1320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9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1" name="geaux" descr=""/>
          <p:cNvPicPr/>
          <p:nvPr/>
        </p:nvPicPr>
        <p:blipFill>
          <a:blip r:embed="rId6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F06.040_W0652" descr=""/>
          <p:cNvPicPr/>
          <p:nvPr/>
        </p:nvPicPr>
        <p:blipFill>
          <a:blip r:embed="rId7"/>
          <a:stretch/>
        </p:blipFill>
        <p:spPr>
          <a:xfrm>
            <a:off x="0" y="360360"/>
            <a:ext cx="457200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F06.043_W0655" descr=""/>
          <p:cNvPicPr/>
          <p:nvPr/>
        </p:nvPicPr>
        <p:blipFill>
          <a:blip r:embed="rId1"/>
          <a:stretch/>
        </p:blipFill>
        <p:spPr>
          <a:xfrm>
            <a:off x="152280" y="368280"/>
            <a:ext cx="4038840" cy="2222640"/>
          </a:xfrm>
          <a:prstGeom prst="rect">
            <a:avLst/>
          </a:prstGeom>
          <a:ln w="0">
            <a:noFill/>
          </a:ln>
        </p:spPr>
      </p:pic>
      <p:pic>
        <p:nvPicPr>
          <p:cNvPr id="76" name="Example6p12" descr=""/>
          <p:cNvPicPr/>
          <p:nvPr/>
        </p:nvPicPr>
        <p:blipFill>
          <a:blip r:embed="rId2"/>
          <a:stretch/>
        </p:blipFill>
        <p:spPr>
          <a:xfrm>
            <a:off x="4191120" y="2743200"/>
            <a:ext cx="5029200" cy="4114800"/>
          </a:xfrm>
          <a:prstGeom prst="rect">
            <a:avLst/>
          </a:prstGeom>
          <a:ln w="0">
            <a:noFill/>
          </a:ln>
        </p:spPr>
      </p:pic>
      <p:pic>
        <p:nvPicPr>
          <p:cNvPr id="77" name="geaux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4480" y="58680"/>
            <a:ext cx="2459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DISCHARGE S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360" y="2573280"/>
            <a:ext cx="45212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the chosen resistor discharge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fter one second and the capacitor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5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76320" y="3429000"/>
                <a:ext cx="25398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666880" y="3429000"/>
                <a:ext cx="990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9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666880" y="3733920"/>
                <a:ext cx="1016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0" y="4038480"/>
                <a:ext cx="4622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73200" y="4419720"/>
                <a:ext cx="2438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80880" y="5105520"/>
                <a:ext cx="31626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69</m:t>
                            </m:r>
                          </m:den>
                        </m:f>
                      </m:sup>
                    </m:sSup>
                    <m:r>
                      <m:t xml:space="preserve">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8" name=""/>
          <p:cNvGrpSpPr/>
          <p:nvPr/>
        </p:nvGrpSpPr>
        <p:grpSpPr>
          <a:xfrm>
            <a:off x="180720" y="5697360"/>
            <a:ext cx="3451320" cy="347760"/>
            <a:chOff x="180720" y="5697360"/>
            <a:chExt cx="3451320" cy="347760"/>
          </a:xfrm>
        </p:grpSpPr>
        <p:sp>
          <p:nvSpPr>
            <p:cNvPr id="89" name=""/>
            <p:cNvSpPr/>
            <p:nvPr/>
          </p:nvSpPr>
          <p:spPr>
            <a:xfrm>
              <a:off x="180720" y="5697360"/>
              <a:ext cx="1770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SCR turn o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2057400" y="5715000"/>
                  <a:ext cx="157464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f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04920" y="6121440"/>
                <a:ext cx="26668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69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4796280" y="-22320"/>
            <a:ext cx="43408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example6p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visualizes one cycle of pacema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charge cy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au=0.569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c=linspace(0,1,20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=6-5.8*exp(-tc/tau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ischarge cycle. SCR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d=linspace(1,1.11,2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d=-22.45+27.45*exp(-(td-1)/tau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c,vc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bd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d,vcd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ro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grid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PACEMAKER CYCLE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voltage(V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gend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SCR off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SCR on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F06.045B_W0657" descr=""/>
          <p:cNvPicPr/>
          <p:nvPr/>
        </p:nvPicPr>
        <p:blipFill>
          <a:blip r:embed="rId1"/>
          <a:stretch/>
        </p:blipFill>
        <p:spPr>
          <a:xfrm>
            <a:off x="5105520" y="533520"/>
            <a:ext cx="3581280" cy="2695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67480" y="6276960"/>
            <a:ext cx="8667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 current at the beginning of ON period MUST be the same than the curr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the end of OFF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05240" y="76320"/>
            <a:ext cx="2366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OOSTER CON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08640" y="2895480"/>
            <a:ext cx="3221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ANDARD DC POWER 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28600" y="3581280"/>
            <a:ext cx="8772480" cy="2630520"/>
            <a:chOff x="228600" y="3581280"/>
            <a:chExt cx="8772480" cy="2630520"/>
          </a:xfrm>
        </p:grpSpPr>
        <p:graphicFrame>
          <p:nvGraphicFramePr>
            <p:cNvPr id="100" name=""/>
            <p:cNvGraphicFramePr/>
            <p:nvPr/>
          </p:nvGraphicFramePr>
          <p:xfrm>
            <a:off x="228600" y="3581280"/>
            <a:ext cx="8772480" cy="1812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8600" y="3581280"/>
                      <a:ext cx="8772480" cy="181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1187280" y="5387760"/>
              <a:ext cx="302904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OOSTER “ON” PERI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nergy is stored in induc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 dischar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41280" y="5329080"/>
              <a:ext cx="277308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OOSTER “OFF”  PERI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or releases energ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 char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4" name="geaux" descr=""/>
          <p:cNvPicPr/>
          <p:nvPr/>
        </p:nvPicPr>
        <p:blipFill>
          <a:blip r:embed="rId4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25040" y="228600"/>
            <a:ext cx="1377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.g. boo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F06.045A_W0657" descr=""/>
          <p:cNvPicPr/>
          <p:nvPr/>
        </p:nvPicPr>
        <p:blipFill>
          <a:blip r:embed="rId5"/>
          <a:stretch/>
        </p:blipFill>
        <p:spPr>
          <a:xfrm>
            <a:off x="0" y="398520"/>
            <a:ext cx="457200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152280" y="380880"/>
          <a:ext cx="4419720" cy="18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80880"/>
                    <a:ext cx="4419720" cy="18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347760" y="58680"/>
            <a:ext cx="1791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“ON”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22120" y="2209680"/>
                <a:ext cx="3759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3" name=""/>
          <p:cNvGrpSpPr/>
          <p:nvPr/>
        </p:nvGrpSpPr>
        <p:grpSpPr>
          <a:xfrm>
            <a:off x="0" y="3092400"/>
            <a:ext cx="4038480" cy="2102040"/>
            <a:chOff x="0" y="3092400"/>
            <a:chExt cx="4038480" cy="2102040"/>
          </a:xfrm>
        </p:grpSpPr>
        <p:grpSp>
          <p:nvGrpSpPr>
            <p:cNvPr id="114" name=""/>
            <p:cNvGrpSpPr/>
            <p:nvPr/>
          </p:nvGrpSpPr>
          <p:grpSpPr>
            <a:xfrm>
              <a:off x="0" y="3092400"/>
              <a:ext cx="4038480" cy="2102040"/>
              <a:chOff x="0" y="3092400"/>
              <a:chExt cx="4038480" cy="2102040"/>
            </a:xfrm>
          </p:grpSpPr>
          <p:graphicFrame>
            <p:nvGraphicFramePr>
              <p:cNvPr id="115" name=""/>
              <p:cNvGraphicFramePr/>
              <p:nvPr/>
            </p:nvGraphicFramePr>
            <p:xfrm>
              <a:off x="0" y="3429000"/>
              <a:ext cx="4038480" cy="1765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1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0" y="3429000"/>
                        <a:ext cx="4038480" cy="1765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7" name=""/>
              <p:cNvSpPr/>
              <p:nvPr/>
            </p:nvSpPr>
            <p:spPr>
              <a:xfrm>
                <a:off x="298080" y="3092400"/>
                <a:ext cx="184968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THE “OFF” CYC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2286000" y="313848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&gt;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28600" y="5105520"/>
                <a:ext cx="32385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ff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20" name=""/>
          <p:cNvGrpSpPr/>
          <p:nvPr/>
        </p:nvGrpSpPr>
        <p:grpSpPr>
          <a:xfrm>
            <a:off x="45720" y="5943600"/>
            <a:ext cx="4304520" cy="841320"/>
            <a:chOff x="45720" y="5943600"/>
            <a:chExt cx="4304520" cy="841320"/>
          </a:xfrm>
        </p:grpSpPr>
        <p:sp>
          <p:nvSpPr>
            <p:cNvPr id="121" name=""/>
            <p:cNvSpPr/>
            <p:nvPr/>
          </p:nvSpPr>
          <p:spPr>
            <a:xfrm>
              <a:off x="45720" y="5943600"/>
              <a:ext cx="430452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PLIFYING ASSUMPTION: THE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(Vo) IS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1371600" y="6494400"/>
                  <a:ext cx="1168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410080" y="228600"/>
                <a:ext cx="22100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257800" y="914400"/>
                <a:ext cx="27176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800600" y="1523880"/>
                <a:ext cx="15620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f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ff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400800" y="167652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ence  booste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638680" y="2286000"/>
                <a:ext cx="23623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eriod:      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ff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uty cycle: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943600" y="3429000"/>
                <a:ext cx="1270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5009040" y="4249800"/>
            <a:ext cx="375768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adjusting the duty cycle one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djust the output voltag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geaux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F06.049_W0661" descr=""/>
          <p:cNvPicPr/>
          <p:nvPr/>
        </p:nvPicPr>
        <p:blipFill>
          <a:blip r:embed="rId1"/>
          <a:stretch/>
        </p:blipFill>
        <p:spPr>
          <a:xfrm>
            <a:off x="0" y="905040"/>
            <a:ext cx="4572000" cy="2692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4560" y="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394000" y="0"/>
                <a:ext cx="63007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SUCH  THAT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IS  OVERDAMPED, AND  SATISFIES: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Reaches  1A within  100ms; 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Stays above 1A between  1s  and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232200" y="3792600"/>
            <a:ext cx="413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FTER SWITCHING WE HAVE RLC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0" y="4114800"/>
                <a:ext cx="3111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8160" y="5105520"/>
                <a:ext cx="4152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E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:  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s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-50760" y="4764240"/>
                <a:ext cx="4889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SIRED  RESPONSE: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30080" y="5410080"/>
                <a:ext cx="2374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410080" y="4280040"/>
                <a:ext cx="300996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ITIAL  CONDITIONS: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095880" y="5486400"/>
                <a:ext cx="172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3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8680" y="5773680"/>
            <a:ext cx="43045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initial conditions analyze circu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t=0+. Assume the circuit was in stea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ate prior to the swit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876920" y="1066680"/>
            <a:ext cx="3657600" cy="3036960"/>
            <a:chOff x="4876920" y="1066680"/>
            <a:chExt cx="3657600" cy="3036960"/>
          </a:xfrm>
        </p:grpSpPr>
        <p:graphicFrame>
          <p:nvGraphicFramePr>
            <p:cNvPr id="148" name=""/>
            <p:cNvGraphicFramePr/>
            <p:nvPr/>
          </p:nvGraphicFramePr>
          <p:xfrm>
            <a:off x="4876920" y="1066680"/>
            <a:ext cx="3657600" cy="3036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76920" y="1066680"/>
                      <a:ext cx="3657600" cy="303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" name=""/>
            <p:cNvSpPr/>
            <p:nvPr/>
          </p:nvSpPr>
          <p:spPr>
            <a:xfrm>
              <a:off x="6881400" y="1201680"/>
              <a:ext cx="1604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at t=0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6934320" y="2971800"/>
                  <a:ext cx="1282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62120" y="457200"/>
                <a:ext cx="2425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5060880" y="304920"/>
            <a:ext cx="3990600" cy="824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ONE CAN USE TRIAL AND E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CAN ATTEMPT TO ESTIMAT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QUIRED CAPACI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0" y="1809720"/>
            <a:ext cx="9144000" cy="5048280"/>
            <a:chOff x="0" y="1809720"/>
            <a:chExt cx="9144000" cy="5048280"/>
          </a:xfrm>
        </p:grpSpPr>
        <p:pic>
          <p:nvPicPr>
            <p:cNvPr id="155" name="Example6p14_2" descr=""/>
            <p:cNvPicPr/>
            <p:nvPr/>
          </p:nvPicPr>
          <p:blipFill>
            <a:blip r:embed="rId1"/>
            <a:stretch/>
          </p:blipFill>
          <p:spPr>
            <a:xfrm>
              <a:off x="0" y="1809720"/>
              <a:ext cx="9144000" cy="504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471600" y="1905120"/>
              <a:ext cx="159804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sh plo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btained w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TL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7" name="geaux" descr=""/>
          <p:cNvPicPr/>
          <p:nvPr/>
        </p:nvPicPr>
        <p:blipFill>
          <a:blip r:embed="rId2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68880" y="1430280"/>
            <a:ext cx="591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FEASIBLE, GET AN IDEA OF THE FAMILY OF SOLU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953240" y="2349360"/>
            <a:ext cx="3961800" cy="2008440"/>
            <a:chOff x="4953240" y="2349360"/>
            <a:chExt cx="3961800" cy="2008440"/>
          </a:xfrm>
        </p:grpSpPr>
        <p:sp>
          <p:nvSpPr>
            <p:cNvPr id="162" name=""/>
            <p:cNvSpPr/>
            <p:nvPr/>
          </p:nvSpPr>
          <p:spPr>
            <a:xfrm>
              <a:off x="4953240" y="2349360"/>
              <a:ext cx="3961800" cy="1159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» s=[[1:9]';[11:19]']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» mesh(t,s,ils'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» view([37.5,30]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» xlabel('time(s)'),ylabel('s_1(sec^{-1})'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» title('CURRENT AS FUNCTION OF MODES'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09160" y="3533760"/>
              <a:ext cx="325476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ls is a matrix that contains a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computed responses, 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er colum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43640" y="76320"/>
            <a:ext cx="72216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example6p14.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isplays current as function of roots in characteristic eq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il(t)=(60/(s2-s1))*(exp(-s1*t)-exp(s2*t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with restriction s1+s2=20, s1~=s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=linspace(0,5,500)'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et display interval as a column v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ls=[]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reserve space to store cur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1=1: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2=20-s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1~=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l=(60/(s2-s1))*(exp(-s1*t)-exp(-s2*t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ls=[ils il]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ave new trace as a column in 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now with one command we plot all the columns as functions of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,ils), grid, 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i(A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CURRENT AS FUNCTION OF MODES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Example6p14_1" descr=""/>
          <p:cNvPicPr/>
          <p:nvPr/>
        </p:nvPicPr>
        <p:blipFill>
          <a:blip r:embed="rId1"/>
          <a:stretch/>
        </p:blipFill>
        <p:spPr>
          <a:xfrm>
            <a:off x="76320" y="3505320"/>
            <a:ext cx="8991360" cy="3314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742120" y="0"/>
            <a:ext cx="546156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stimate charge by estimating area under the cu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981080" y="3886200"/>
            <a:ext cx="4817520" cy="855720"/>
            <a:chOff x="1981080" y="3886200"/>
            <a:chExt cx="4817520" cy="855720"/>
          </a:xfrm>
        </p:grpSpPr>
        <p:sp>
          <p:nvSpPr>
            <p:cNvPr id="168" name=""/>
            <p:cNvSpPr/>
            <p:nvPr/>
          </p:nvSpPr>
          <p:spPr>
            <a:xfrm>
              <a:off x="2158560" y="3886200"/>
              <a:ext cx="46400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this curve the area is approx. 12 squa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81080" y="4284720"/>
              <a:ext cx="609480" cy="45720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384" y="0"/>
                  </a:moveTo>
                  <a:cubicBezTo>
                    <a:pt x="224" y="120"/>
                    <a:pt x="64" y="240"/>
                    <a:pt x="0" y="28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505320" y="4419720"/>
                <a:ext cx="2654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×</m:t>
                    </m:r>
                    <m:r>
                      <m:t xml:space="preserve">s</m:t>
                    </m:r>
                    <m:r>
                      <m:t xml:space="preserve">]</m:t>
                    </m:r>
                    <m:r>
                      <m:t xml:space="preserve">≈</m:t>
                    </m:r>
                    <m:r>
                      <m:t xml:space="preserve">3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429000" y="4648320"/>
                <a:ext cx="2819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rPr>
                        <m:lit/>
                        <m:nor/>
                      </m:rPr>
                      <m:t xml:space="preserve">m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800600" y="5257800"/>
                <a:ext cx="1460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248520" y="5257800"/>
                <a:ext cx="1041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4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74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43640" y="152280"/>
            <a:ext cx="743436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8b22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ver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1=18.944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2=20-s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l=(60/(s2-s1))*(exp(-s1*t)-exp(-s2*t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,il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rd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,il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b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grid, 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i(A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VERIFICATION OF DESIGN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Example6p14_3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763120" cy="472428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7308000" y="5774760"/>
            <a:ext cx="1826640" cy="1078560"/>
            <a:chOff x="7308000" y="5774760"/>
            <a:chExt cx="1826640" cy="1078560"/>
          </a:xfrm>
        </p:grpSpPr>
        <p:pic>
          <p:nvPicPr>
            <p:cNvPr id="180" name="stop" descr=""/>
            <p:cNvPicPr/>
            <p:nvPr/>
          </p:nvPicPr>
          <p:blipFill>
            <a:blip r:embed="rId2"/>
            <a:stretch/>
          </p:blipFill>
          <p:spPr>
            <a:xfrm>
              <a:off x="818496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7308000" y="5774760"/>
              <a:ext cx="18266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41148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1T09:02:51Z</dcterms:created>
  <dc:creator>Jorge Aravena</dc:creator>
  <dc:description/>
  <dc:language>en-US</dc:language>
  <cp:lastModifiedBy>student</cp:lastModifiedBy>
  <dcterms:modified xsi:type="dcterms:W3CDTF">2001-05-23T14:43:54Z</dcterms:modified>
  <cp:revision>6</cp:revision>
  <dc:subject/>
  <dc:title>No Slide Title</dc:title>
</cp:coreProperties>
</file>