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37.wmf" ContentType="image/x-wmf"/>
  <Override PartName="/ppt/media/image55.png" ContentType="image/png"/>
  <Override PartName="/ppt/media/image56.png" ContentType="image/png"/>
  <Override PartName="/ppt/media/image44.wmf" ContentType="image/x-wmf"/>
  <Override PartName="/ppt/media/image59.png" ContentType="image/png"/>
  <Override PartName="/ppt/media/image57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212-2BFA-410D-A86D-1C73C4F4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4D1-768C-4CC2-889C-7789779A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A93-5DE5-468B-9E85-39A372D2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D41-E5C1-4E4F-9D16-759C3801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698-18E3-443A-8999-DC3E0520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BB0-3891-48D7-8228-1431FDA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B9C-88A4-457D-BCEA-FBCFAF38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F2B-9D8F-44AE-A39D-B1BE7B9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604-3AF5-4D44-A944-3F6A0507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577-882F-4EF0-9A55-5DD350D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7E0-9232-4F5A-A838-28784888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7D6-E46C-41C3-B039-62C82F78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FD0-FAA1-4262-A2FC-0E1D1DAF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398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0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09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12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15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18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21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24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36" name="stop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eaux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geaux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1-04-23T20:16:23Z</dcterms:modified>
  <cp:revision>23</cp:revision>
  <dc:subject/>
  <dc:title>No Slide Title</dc:title>
</cp:coreProperties>
</file>