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97A7-3A5C-4F92-B6E5-FBA626404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74D3-6AEC-4139-9B00-AA6E63C4B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E4AD-94EF-49E5-9A0D-B9A3D8855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0F1C-CBCA-4071-91AD-F4EF50D1F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6BE8-44EC-44F0-8AB1-DDD01874D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A36F-0811-4454-AF1A-42A1CC571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6C6B-4D15-453B-8185-FFABC1398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BC3A-F8A6-48E6-B169-6B1800716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4DE2-8816-475F-AC16-10AB9AE16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4288-5817-4076-8352-985B1E2B2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2D5D-BA7D-4C5E-BDD0-AE7D593AF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CD42-7A8B-437B-AE14-BC76C996E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231BF-2B7B-49F4-93EB-3BC191FC17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20" y="380880"/>
          <a:ext cx="5146560" cy="246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380880"/>
                    <a:ext cx="5146560" cy="24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4724280" y="623880"/>
            <a:ext cx="3213360" cy="2423880"/>
            <a:chOff x="4724280" y="623880"/>
            <a:chExt cx="3213360" cy="2423880"/>
          </a:xfrm>
        </p:grpSpPr>
        <p:graphicFrame>
          <p:nvGraphicFramePr>
            <p:cNvPr id="44" name=""/>
            <p:cNvGraphicFramePr/>
            <p:nvPr/>
          </p:nvGraphicFramePr>
          <p:xfrm>
            <a:off x="4724280" y="623880"/>
            <a:ext cx="2770200" cy="24238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724280" y="623880"/>
                      <a:ext cx="2770200" cy="2423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6" name=""/>
            <p:cNvSpPr/>
            <p:nvPr/>
          </p:nvSpPr>
          <p:spPr>
            <a:xfrm>
              <a:off x="5913000" y="1496880"/>
              <a:ext cx="202464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QUIVALENT F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LEMENT+SOUR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118080" y="76320"/>
            <a:ext cx="29880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BY APPL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200400" y="0"/>
            <a:ext cx="59436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THEVENIN EQUIVALENT FOR THE UNKNOWN ELEMENT USING A RESISTOR AND A VOLTME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152280" y="2590920"/>
            <a:ext cx="5529240" cy="2490840"/>
            <a:chOff x="152280" y="2590920"/>
            <a:chExt cx="5529240" cy="2490840"/>
          </a:xfrm>
        </p:grpSpPr>
        <p:graphicFrame>
          <p:nvGraphicFramePr>
            <p:cNvPr id="50" name=""/>
            <p:cNvGraphicFramePr/>
            <p:nvPr/>
          </p:nvGraphicFramePr>
          <p:xfrm>
            <a:off x="152280" y="2590920"/>
            <a:ext cx="4816440" cy="24908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51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52280" y="2590920"/>
                      <a:ext cx="4816440" cy="2490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2" name=""/>
            <p:cNvSpPr/>
            <p:nvPr/>
          </p:nvSpPr>
          <p:spPr>
            <a:xfrm>
              <a:off x="3554640" y="4143240"/>
              <a:ext cx="21268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MEASURED ACRO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EST RESIS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7969320" y="1133640"/>
                <a:ext cx="1117440" cy="19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  <m:r>
                          <m:t xml:space="preserve">V</m:t>
                        </m:r>
                      </m:e>
                      <m:e>
                        <m:r>
                          <m:t xml:space="preserve">−</m:t>
                        </m:r>
                      </m:e>
                      <m:e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easured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n open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ircui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6553080" y="2133720"/>
                <a:ext cx="10922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5" name=""/>
          <p:cNvGrpSpPr/>
          <p:nvPr/>
        </p:nvGrpSpPr>
        <p:grpSpPr>
          <a:xfrm>
            <a:off x="3276720" y="3200400"/>
            <a:ext cx="888840" cy="1219320"/>
            <a:chOff x="3276720" y="3200400"/>
            <a:chExt cx="888840" cy="1219320"/>
          </a:xfrm>
        </p:grpSpPr>
        <p:sp>
          <p:nvSpPr>
            <p:cNvPr id="56" name=""/>
            <p:cNvSpPr/>
            <p:nvPr/>
          </p:nvSpPr>
          <p:spPr>
            <a:xfrm>
              <a:off x="3276720" y="3200400"/>
              <a:ext cx="0" cy="121932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7" name=""/>
                <p:cNvSpPr txBox="1"/>
                <p:nvPr/>
              </p:nvSpPr>
              <p:spPr>
                <a:xfrm>
                  <a:off x="3505320" y="3200400"/>
                  <a:ext cx="66024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8</m:t>
                      </m:r>
                      <m:r>
                        <m:rPr>
                          <m:lit/>
                          <m:nor/>
                        </m:rPr>
                        <m:t xml:space="preserve">mA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1371600" y="3200400"/>
                <a:ext cx="8110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t xml:space="preserve">V</m:t>
                    </m:r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228600" y="4267080"/>
                <a:ext cx="4935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219320" y="4191120"/>
                <a:ext cx="10792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k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geaux" descr=""/>
          <p:cNvPicPr/>
          <p:nvPr/>
        </p:nvPicPr>
        <p:blipFill>
          <a:blip r:embed="rId7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5638680" y="3429000"/>
          <a:ext cx="2478240" cy="23256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638680" y="3429000"/>
                    <a:ext cx="2478240" cy="2325600"/>
                  </a:xfrm>
                  <a:prstGeom prst="rect">
                    <a:avLst/>
                  </a:prstGeom>
                  <a:ln w="25560">
                    <a:solidFill>
                      <a:srgbClr val="00cc99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746280" y="228600"/>
          <a:ext cx="7651440" cy="541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6280" y="228600"/>
                    <a:ext cx="7651440" cy="541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"/>
          <p:cNvSpPr/>
          <p:nvPr/>
        </p:nvSpPr>
        <p:spPr>
          <a:xfrm>
            <a:off x="34560" y="0"/>
            <a:ext cx="23691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BY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590560" y="58680"/>
            <a:ext cx="31341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URRENT OVERLOAD SEN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5029200" y="380880"/>
            <a:ext cx="2055960" cy="341280"/>
            <a:chOff x="5029200" y="380880"/>
            <a:chExt cx="2055960" cy="341280"/>
          </a:xfrm>
        </p:grpSpPr>
        <mc:AlternateContent>
          <mc:Choice xmlns:a14="http://schemas.microsoft.com/office/drawing/2010/main" Requires="a14">
            <p:sp>
              <p:nvSpPr>
                <p:cNvPr id="71" name=""/>
                <p:cNvSpPr txBox="1"/>
                <p:nvPr/>
              </p:nvSpPr>
              <p:spPr>
                <a:xfrm>
                  <a:off x="6781680" y="380880"/>
                  <a:ext cx="30348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  <m:sup>
                          <m:r>
                            <m:t xml:space="preserve">−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2" name=""/>
                <p:cNvSpPr txBox="1"/>
                <p:nvPr/>
              </p:nvSpPr>
              <p:spPr>
                <a:xfrm>
                  <a:off x="5029200" y="380880"/>
                  <a:ext cx="30312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  <m:sup>
                          <m:r>
                            <m:t xml:space="preserve">+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3" name=""/>
          <p:cNvGrpSpPr/>
          <p:nvPr/>
        </p:nvGrpSpPr>
        <p:grpSpPr>
          <a:xfrm>
            <a:off x="228600" y="3429000"/>
            <a:ext cx="3211560" cy="711360"/>
            <a:chOff x="228600" y="3429000"/>
            <a:chExt cx="3211560" cy="711360"/>
          </a:xfrm>
        </p:grpSpPr>
        <mc:AlternateContent>
          <mc:Choice xmlns:a14="http://schemas.microsoft.com/office/drawing/2010/main" Requires="a14">
            <p:sp>
              <p:nvSpPr>
                <p:cNvPr id="74" name=""/>
                <p:cNvSpPr txBox="1"/>
                <p:nvPr/>
              </p:nvSpPr>
              <p:spPr>
                <a:xfrm>
                  <a:off x="3200400" y="3429000"/>
                  <a:ext cx="2397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−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5" name=""/>
                <p:cNvSpPr txBox="1"/>
                <p:nvPr/>
              </p:nvSpPr>
              <p:spPr>
                <a:xfrm>
                  <a:off x="228600" y="3581280"/>
                  <a:ext cx="1015920" cy="55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−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50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51</m:t>
                          </m:r>
                        </m:den>
                      </m:f>
                      <m:sSubSup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  <m:sup>
                          <m:r>
                            <m:t xml:space="preserve">+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3200400" y="2590920"/>
                <a:ext cx="6714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235080" y="4191120"/>
                <a:ext cx="200664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CL@v</m:t>
                            </m:r>
                          </m:e>
                          <m:sub>
                            <m:r>
                              <m:t xml:space="preserve">+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 </m:t>
                        </m:r>
                      </m:e>
                      <m:e>
                        <m:f>
                          <m:num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−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−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k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−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50</m:t>
                            </m:r>
                            <m:r>
                              <m:t xml:space="preserve">k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355680" y="5715000"/>
                <a:ext cx="260352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+</m:t>
                        </m:r>
                      </m:sup>
                    </m:sSubSup>
                    <m:r>
                      <m:t xml:space="preserve">−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−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ens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4572000" y="3429000"/>
                <a:ext cx="45720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att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380880" y="6095880"/>
                <a:ext cx="247680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ESIGN  REQUIREMENT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att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9</m:t>
                        </m:r>
                        <m:r>
                          <m:t xml:space="preserve">A</m:t>
                        </m:r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6</m:t>
                        </m:r>
                        <m:r>
                          <m:t xml:space="preserve">V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3048120" y="5791320"/>
                <a:ext cx="3962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×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ense</m:t>
                        </m:r>
                      </m:sub>
                    </m:sSub>
                    <m:r>
                      <m:t xml:space="preserve">×</m:t>
                    </m:r>
                    <m:r>
                      <m:t xml:space="preserve">9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V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ense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33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82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5880" y="3809880"/>
            <a:ext cx="2590920" cy="82404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IS POINT MUST GO HIGH WHEN CURRENT EXCEEDS 9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228600" y="2529000"/>
                <a:ext cx="1028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att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152280" y="609480"/>
          <a:ext cx="2971800" cy="24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609480"/>
                    <a:ext cx="2971800" cy="24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152280" y="3060720"/>
                <a:ext cx="3429000" cy="97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ESIGN  REQUIREMENT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NPUT                    OUTOUT</m:t>
                        </m:r>
                      </m:e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≤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V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≤</m:t>
                        </m:r>
                        <m:r>
                          <m:t xml:space="preserve">5</m:t>
                        </m:r>
                        <m:r>
                          <m:t xml:space="preserve">V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304920" y="4114800"/>
                <a:ext cx="236196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ERMINE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f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1219320" y="1219320"/>
                <a:ext cx="279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304920" y="4495680"/>
                <a:ext cx="2158920" cy="97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CL @ v</m:t>
                            </m:r>
                          </m:e>
                          <m:sub>
                            <m:r>
                              <m:t xml:space="preserve">−</m:t>
                            </m:r>
                          </m:sub>
                        </m:sSub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ref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304920" y="5486400"/>
                <a:ext cx="238752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d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3276720" y="0"/>
                <a:ext cx="2438280" cy="17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ESIGN  EQUATIONS</m:t>
                        </m:r>
                      </m:e>
                      <m:e>
                        <m:r>
                          <m:t xml:space="preserve">0</m:t>
                        </m:r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f</m:t>
                            </m:r>
                          </m:sub>
                        </m:sSub>
                      </m:e>
                      <m:e>
                        <m:r>
                          <m:t xml:space="preserve">5</m:t>
                        </m:r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f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5715000" y="380880"/>
                <a:ext cx="1219320" cy="115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m>
                      <m:mr>
                        <m:e>
                          <m:f>
                            <m:num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=</m:t>
                          </m:r>
                          <m:r>
                            <m:t xml:space="preserve">9</m:t>
                          </m:r>
                        </m:e>
                      </m:mr>
                      <m:m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ref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5</m:t>
                              </m:r>
                            </m:num>
                            <m:den>
                              <m:r>
                                <m:t xml:space="preserve">9</m:t>
                              </m:r>
                            </m:den>
                          </m:f>
                          <m:r>
                            <m:t xml:space="preserve">V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34560" y="58680"/>
            <a:ext cx="23691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BY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5715000" y="1523880"/>
                <a:ext cx="1955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HOOSE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k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98" name=""/>
          <p:cNvGraphicFramePr/>
          <p:nvPr/>
        </p:nvGraphicFramePr>
        <p:xfrm>
          <a:off x="3657600" y="1905120"/>
          <a:ext cx="5105520" cy="24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57600" y="1905120"/>
                    <a:ext cx="510552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4687920" y="1905120"/>
            <a:ext cx="3911040" cy="2655720"/>
            <a:chOff x="4687920" y="1905120"/>
            <a:chExt cx="3911040" cy="2655720"/>
          </a:xfrm>
        </p:grpSpPr>
        <p:sp>
          <p:nvSpPr>
            <p:cNvPr id="101" name=""/>
            <p:cNvSpPr/>
            <p:nvPr/>
          </p:nvSpPr>
          <p:spPr>
            <a:xfrm>
              <a:off x="4687920" y="1905120"/>
              <a:ext cx="2082600" cy="2281320"/>
            </a:xfrm>
            <a:custGeom>
              <a:avLst/>
              <a:gdLst/>
              <a:ahLst/>
              <a:rect l="l" t="t" r="r" b="b"/>
              <a:pathLst>
                <a:path w="1312" h="1437">
                  <a:moveTo>
                    <a:pt x="1294" y="350"/>
                  </a:moveTo>
                  <a:cubicBezTo>
                    <a:pt x="1287" y="222"/>
                    <a:pt x="1312" y="203"/>
                    <a:pt x="1208" y="155"/>
                  </a:cubicBezTo>
                  <a:cubicBezTo>
                    <a:pt x="1193" y="148"/>
                    <a:pt x="1177" y="145"/>
                    <a:pt x="1161" y="140"/>
                  </a:cubicBezTo>
                  <a:cubicBezTo>
                    <a:pt x="1116" y="108"/>
                    <a:pt x="1065" y="100"/>
                    <a:pt x="1013" y="85"/>
                  </a:cubicBezTo>
                  <a:cubicBezTo>
                    <a:pt x="852" y="39"/>
                    <a:pt x="697" y="17"/>
                    <a:pt x="530" y="0"/>
                  </a:cubicBezTo>
                  <a:cubicBezTo>
                    <a:pt x="392" y="15"/>
                    <a:pt x="253" y="18"/>
                    <a:pt x="117" y="46"/>
                  </a:cubicBezTo>
                  <a:cubicBezTo>
                    <a:pt x="88" y="52"/>
                    <a:pt x="75" y="92"/>
                    <a:pt x="47" y="101"/>
                  </a:cubicBezTo>
                  <a:cubicBezTo>
                    <a:pt x="29" y="159"/>
                    <a:pt x="28" y="218"/>
                    <a:pt x="0" y="272"/>
                  </a:cubicBezTo>
                  <a:cubicBezTo>
                    <a:pt x="3" y="459"/>
                    <a:pt x="3" y="646"/>
                    <a:pt x="8" y="833"/>
                  </a:cubicBezTo>
                  <a:cubicBezTo>
                    <a:pt x="9" y="865"/>
                    <a:pt x="21" y="969"/>
                    <a:pt x="24" y="1005"/>
                  </a:cubicBezTo>
                  <a:cubicBezTo>
                    <a:pt x="37" y="1147"/>
                    <a:pt x="27" y="1340"/>
                    <a:pt x="203" y="1379"/>
                  </a:cubicBezTo>
                  <a:cubicBezTo>
                    <a:pt x="222" y="1383"/>
                    <a:pt x="330" y="1394"/>
                    <a:pt x="343" y="1395"/>
                  </a:cubicBezTo>
                  <a:cubicBezTo>
                    <a:pt x="385" y="1399"/>
                    <a:pt x="426" y="1408"/>
                    <a:pt x="468" y="1410"/>
                  </a:cubicBezTo>
                  <a:cubicBezTo>
                    <a:pt x="543" y="1414"/>
                    <a:pt x="619" y="1415"/>
                    <a:pt x="694" y="1418"/>
                  </a:cubicBezTo>
                  <a:cubicBezTo>
                    <a:pt x="937" y="1406"/>
                    <a:pt x="977" y="1437"/>
                    <a:pt x="1138" y="1356"/>
                  </a:cubicBezTo>
                  <a:cubicBezTo>
                    <a:pt x="1192" y="1275"/>
                    <a:pt x="1192" y="1176"/>
                    <a:pt x="1208" y="1083"/>
                  </a:cubicBezTo>
                  <a:cubicBezTo>
                    <a:pt x="1205" y="1036"/>
                    <a:pt x="1204" y="990"/>
                    <a:pt x="1200" y="943"/>
                  </a:cubicBezTo>
                  <a:cubicBezTo>
                    <a:pt x="1193" y="864"/>
                    <a:pt x="1146" y="783"/>
                    <a:pt x="1123" y="709"/>
                  </a:cubicBezTo>
                  <a:cubicBezTo>
                    <a:pt x="1114" y="637"/>
                    <a:pt x="1082" y="556"/>
                    <a:pt x="1169" y="530"/>
                  </a:cubicBezTo>
                  <a:cubicBezTo>
                    <a:pt x="1218" y="497"/>
                    <a:pt x="1220" y="455"/>
                    <a:pt x="1247" y="405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283360" y="3980160"/>
              <a:ext cx="3315600" cy="5806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GENERATES Vref AND ISOLA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VOLTAGE DIVID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stop" descr=""/>
          <p:cNvPicPr/>
          <p:nvPr/>
        </p:nvPicPr>
        <p:blipFill>
          <a:blip r:embed="rId5"/>
          <a:stretch/>
        </p:blipFill>
        <p:spPr>
          <a:xfrm>
            <a:off x="8610480" y="6324480"/>
            <a:ext cx="514440" cy="514440"/>
          </a:xfrm>
          <a:prstGeom prst="rect">
            <a:avLst/>
          </a:prstGeom>
          <a:ln w="0">
            <a:noFill/>
          </a:ln>
        </p:spPr>
      </p:pic>
      <p:grpSp>
        <p:nvGrpSpPr>
          <p:cNvPr id="105" name=""/>
          <p:cNvGrpSpPr/>
          <p:nvPr/>
        </p:nvGrpSpPr>
        <p:grpSpPr>
          <a:xfrm>
            <a:off x="3124080" y="4572000"/>
            <a:ext cx="5394600" cy="2166120"/>
            <a:chOff x="3124080" y="4572000"/>
            <a:chExt cx="5394600" cy="2166120"/>
          </a:xfrm>
        </p:grpSpPr>
        <p:graphicFrame>
          <p:nvGraphicFramePr>
            <p:cNvPr id="106" name=""/>
            <p:cNvGraphicFramePr/>
            <p:nvPr/>
          </p:nvGraphicFramePr>
          <p:xfrm>
            <a:off x="3124080" y="4572000"/>
            <a:ext cx="5105520" cy="19558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3124080" y="4572000"/>
                      <a:ext cx="5105520" cy="1955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8" name=""/>
            <p:cNvSpPr/>
            <p:nvPr/>
          </p:nvSpPr>
          <p:spPr>
            <a:xfrm>
              <a:off x="4584240" y="6400800"/>
              <a:ext cx="39344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nalyzing circuit using superpo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3T20:58:31Z</dcterms:created>
  <dc:creator>Jorge Aravena</dc:creator>
  <dc:description/>
  <dc:language>en-US</dc:language>
  <cp:lastModifiedBy>Jorge Aravena</cp:lastModifiedBy>
  <dcterms:modified xsi:type="dcterms:W3CDTF">2001-04-23T21:00:04Z</dcterms:modified>
  <cp:revision>1</cp:revision>
  <dc:subject/>
  <dc:title>No Slide Title</dc:title>
</cp:coreProperties>
</file>