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wmf" ContentType="image/x-wmf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37.wmf" ContentType="image/x-wmf"/>
  <Override PartName="/ppt/media/image54.png" ContentType="image/png"/>
  <Override PartName="/ppt/media/image40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4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94E-5DC4-4507-A558-F696DE8C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064-B203-4C5E-81AB-0546A4E2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367-7934-4BED-8272-DE72C6F7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7F7-CCFB-4267-AC0C-7D19F981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7E8-D408-47FB-A163-BE443E2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8BC-C1B0-4527-BC1F-7E4A6871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900-F9E6-4B92-B7FC-D8004B6E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6C2-24FC-4635-AEAF-B3E6531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EA0-E40D-4C9B-B35D-65CFFA45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B55-6049-4676-953F-3A43606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DE0-57B2-4540-A417-14E1112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6CB-F1C5-482E-AD01-203C98EF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EB0C-ABE6-438D-94C2-A6E75205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676520"/>
            <a:ext cx="830592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The second  systematic technique to determine all currents and voltages in a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9880" y="3587760"/>
            <a:ext cx="7456320" cy="52020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IS DUAL TO NODE ANALYSIS - IT FIRST DETERMINES ALL CURRENTS IN A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IT USES OHM’S LAW TO COMPUTE NECESSARY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7680" y="4502160"/>
            <a:ext cx="731592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RE ARE SITUATION WHERE NODE ANALYSIS IS NOT AN EFFICIENT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WHERE THE NUMBER OF EQUATIONS REQUIRED BY THIS NEW METHOD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GNIFICANTLY SMALL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9280" y="436680"/>
            <a:ext cx="33505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743200" y="76320"/>
          <a:ext cx="380988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76320"/>
                    <a:ext cx="3809880" cy="2352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668680" y="245412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OOKKEEPING: B = 7, N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1141560"/>
            <a:ext cx="533520" cy="838080"/>
            <a:chOff x="3429000" y="1141560"/>
            <a:chExt cx="533520" cy="838080"/>
          </a:xfrm>
        </p:grpSpPr>
        <p:sp>
          <p:nvSpPr>
            <p:cNvPr id="332" name=""/>
            <p:cNvSpPr/>
            <p:nvPr/>
          </p:nvSpPr>
          <p:spPr>
            <a:xfrm>
              <a:off x="3429000" y="114156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48" y="528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6576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4495680" y="533520"/>
            <a:ext cx="457200" cy="609480"/>
            <a:chOff x="4495680" y="533520"/>
            <a:chExt cx="457200" cy="609480"/>
          </a:xfrm>
        </p:grpSpPr>
        <p:sp>
          <p:nvSpPr>
            <p:cNvPr id="335" name=""/>
            <p:cNvSpPr/>
            <p:nvPr/>
          </p:nvSpPr>
          <p:spPr>
            <a:xfrm>
              <a:off x="4495680" y="533520"/>
              <a:ext cx="457200" cy="60948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240"/>
                  </a:lnTo>
                  <a:lnTo>
                    <a:pt x="96" y="24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4636800" y="5335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4419720" y="1676520"/>
            <a:ext cx="533160" cy="533160"/>
            <a:chOff x="4419720" y="1676520"/>
            <a:chExt cx="533160" cy="533160"/>
          </a:xfrm>
        </p:grpSpPr>
        <p:sp>
          <p:nvSpPr>
            <p:cNvPr id="338" name=""/>
            <p:cNvSpPr/>
            <p:nvPr/>
          </p:nvSpPr>
          <p:spPr>
            <a:xfrm>
              <a:off x="4419720" y="16765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4571640" y="182880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5257800" y="431640"/>
            <a:ext cx="782640" cy="1778040"/>
            <a:chOff x="5257800" y="431640"/>
            <a:chExt cx="782640" cy="1778040"/>
          </a:xfrm>
        </p:grpSpPr>
        <p:sp>
          <p:nvSpPr>
            <p:cNvPr id="341" name=""/>
            <p:cNvSpPr/>
            <p:nvPr/>
          </p:nvSpPr>
          <p:spPr>
            <a:xfrm>
              <a:off x="5257800" y="431640"/>
              <a:ext cx="782640" cy="1778040"/>
            </a:xfrm>
            <a:custGeom>
              <a:avLst/>
              <a:gdLst/>
              <a:ahLst/>
              <a:rect l="l" t="t" r="r" b="b"/>
              <a:pathLst>
                <a:path w="493" h="1120">
                  <a:moveTo>
                    <a:pt x="0" y="736"/>
                  </a:moveTo>
                  <a:lnTo>
                    <a:pt x="0" y="64"/>
                  </a:lnTo>
                  <a:cubicBezTo>
                    <a:pt x="493" y="155"/>
                    <a:pt x="416" y="0"/>
                    <a:pt x="416" y="375"/>
                  </a:cubicBezTo>
                  <a:lnTo>
                    <a:pt x="432" y="1120"/>
                  </a:lnTo>
                  <a:lnTo>
                    <a:pt x="96" y="112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639040" y="685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"/>
          <p:cNvSpPr/>
          <p:nvPr/>
        </p:nvSpPr>
        <p:spPr>
          <a:xfrm>
            <a:off x="6428520" y="60948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0880" y="2819520"/>
            <a:ext cx="3594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MESH EQUATIONS.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80880" y="320040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1: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80880" y="3505320"/>
                <a:ext cx="435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2: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0880" y="380988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0880" y="4114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080320" y="4495680"/>
            <a:ext cx="26344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TIONS BY 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524560" y="486108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4560" y="516564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24560" y="547056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24560" y="577548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8120" y="487692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OOSE YOUR FAVORITE 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O SOLVE THE SYSTEM OF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722160"/>
          <a:ext cx="71186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22160"/>
                    <a:ext cx="7118640" cy="32403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336760" y="417600"/>
          <a:ext cx="47656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17600"/>
                    <a:ext cx="4765680" cy="419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10160" y="0"/>
            <a:ext cx="5804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INDEPENDENT CUR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2760" y="3886200"/>
            <a:ext cx="4347720" cy="898920"/>
            <a:chOff x="32760" y="3886200"/>
            <a:chExt cx="4347720" cy="898920"/>
          </a:xfrm>
        </p:grpSpPr>
        <p:sp>
          <p:nvSpPr>
            <p:cNvPr id="364" name=""/>
            <p:cNvSpPr/>
            <p:nvPr/>
          </p:nvSpPr>
          <p:spPr>
            <a:xfrm>
              <a:off x="39240" y="388620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NO RELATIONSHIP BETWEEN V1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OURCE CURRENT! HOWEVE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0" y="4478040"/>
              <a:ext cx="3274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CURRENT IS CONSTRA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3760" y="4857840"/>
            <a:ext cx="2722320" cy="307080"/>
            <a:chOff x="23760" y="4857840"/>
            <a:chExt cx="2722320" cy="307080"/>
          </a:xfrm>
        </p:grpSpPr>
        <p:sp>
          <p:nvSpPr>
            <p:cNvPr id="367" name=""/>
            <p:cNvSpPr/>
            <p:nvPr/>
          </p:nvSpPr>
          <p:spPr>
            <a:xfrm>
              <a:off x="23760" y="48578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844640" y="4857840"/>
                  <a:ext cx="90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18000" y="5237280"/>
            <a:ext cx="4049280" cy="430200"/>
            <a:chOff x="18000" y="5237280"/>
            <a:chExt cx="4049280" cy="430200"/>
          </a:xfrm>
        </p:grpSpPr>
        <p:sp>
          <p:nvSpPr>
            <p:cNvPr id="370" name=""/>
            <p:cNvSpPr/>
            <p:nvPr/>
          </p:nvSpPr>
          <p:spPr>
            <a:xfrm>
              <a:off x="18000" y="52372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838080" y="5237280"/>
            <a:ext cx="3229200" cy="43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5237280"/>
                      <a:ext cx="3229200" cy="43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23760" y="5716440"/>
            <a:ext cx="3573360" cy="307080"/>
            <a:chOff x="23760" y="5716440"/>
            <a:chExt cx="3573360" cy="307080"/>
          </a:xfrm>
        </p:grpSpPr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844640" y="571644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23760" y="57164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0" y="6019920"/>
                <a:ext cx="467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611240" y="4038480"/>
            <a:ext cx="43412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SOURCES THAT ARE NOT SH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THER MESHES (OR LOOPS) SERVE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FINE A MESH (LOOP) CURRENT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DUCE THE NUMBER OF REQUIRED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74120" y="519732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OBTAIN V1 APPLY KVL TO ANY 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TH THAT INCLUDES 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40080" y="1671480"/>
            <a:ext cx="3276360" cy="1470960"/>
            <a:chOff x="2440080" y="1671480"/>
            <a:chExt cx="3276360" cy="1470960"/>
          </a:xfrm>
        </p:grpSpPr>
        <p:sp>
          <p:nvSpPr>
            <p:cNvPr id="380" name=""/>
            <p:cNvSpPr/>
            <p:nvPr/>
          </p:nvSpPr>
          <p:spPr>
            <a:xfrm>
              <a:off x="2440080" y="1671480"/>
              <a:ext cx="3276360" cy="1447920"/>
            </a:xfrm>
            <a:custGeom>
              <a:avLst/>
              <a:gdLst/>
              <a:ahLst/>
              <a:rect l="l" t="t" r="r" b="b"/>
              <a:pathLst>
                <a:path w="2064" h="912">
                  <a:moveTo>
                    <a:pt x="0" y="912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064" y="912"/>
                  </a:lnTo>
                  <a:lnTo>
                    <a:pt x="192" y="91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8880" y="2835360"/>
              <a:ext cx="50076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2" name=""/>
          <p:cNvGraphicFramePr/>
          <p:nvPr/>
        </p:nvGraphicFramePr>
        <p:xfrm>
          <a:off x="4952880" y="5892840"/>
          <a:ext cx="387684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892840"/>
                    <a:ext cx="3876840" cy="636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4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057400" y="558720"/>
          <a:ext cx="632448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58720"/>
                    <a:ext cx="6324480" cy="31752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617920" y="111240"/>
                <a:ext cx="5688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MESH ANALYSI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93840" y="365760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MESH CURRENTS ARE DEFINED B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079640" y="419112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742640" y="4191120"/>
            <a:ext cx="4401360" cy="1066680"/>
            <a:chOff x="4742640" y="4191120"/>
            <a:chExt cx="4401360" cy="1066680"/>
          </a:xfrm>
        </p:grpSpPr>
        <p:sp>
          <p:nvSpPr>
            <p:cNvPr id="393" name=""/>
            <p:cNvSpPr/>
            <p:nvPr/>
          </p:nvSpPr>
          <p:spPr>
            <a:xfrm>
              <a:off x="4742640" y="41911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4743360" y="4570560"/>
            <a:ext cx="4400640" cy="68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3360" y="4570560"/>
                      <a:ext cx="4400640" cy="687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6" name=""/>
          <p:cNvGrpSpPr/>
          <p:nvPr/>
        </p:nvGrpSpPr>
        <p:grpSpPr>
          <a:xfrm>
            <a:off x="4750200" y="5257800"/>
            <a:ext cx="4241160" cy="380520"/>
            <a:chOff x="4750200" y="5257800"/>
            <a:chExt cx="4241160" cy="380520"/>
          </a:xfrm>
        </p:grpSpPr>
        <p:sp>
          <p:nvSpPr>
            <p:cNvPr id="397" name=""/>
            <p:cNvSpPr/>
            <p:nvPr/>
          </p:nvSpPr>
          <p:spPr>
            <a:xfrm>
              <a:off x="4750200" y="525780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6552360" y="5257800"/>
                  <a:ext cx="2439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56040" y="5715000"/>
                <a:ext cx="362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0" name=""/>
          <p:cNvGrpSpPr/>
          <p:nvPr/>
        </p:nvGrpSpPr>
        <p:grpSpPr>
          <a:xfrm>
            <a:off x="7020000" y="1219320"/>
            <a:ext cx="1341000" cy="2133360"/>
            <a:chOff x="7020000" y="1219320"/>
            <a:chExt cx="1341000" cy="2133360"/>
          </a:xfrm>
        </p:grpSpPr>
        <p:sp>
          <p:nvSpPr>
            <p:cNvPr id="401" name=""/>
            <p:cNvSpPr/>
            <p:nvPr/>
          </p:nvSpPr>
          <p:spPr>
            <a:xfrm>
              <a:off x="7020000" y="1219320"/>
              <a:ext cx="735480" cy="2133360"/>
            </a:xfrm>
            <a:custGeom>
              <a:avLst/>
              <a:gdLst/>
              <a:ahLst/>
              <a:rect l="l" t="t" r="r" b="b"/>
              <a:pathLst>
                <a:path w="480" h="1344">
                  <a:moveTo>
                    <a:pt x="480" y="480"/>
                  </a:moveTo>
                  <a:lnTo>
                    <a:pt x="480" y="0"/>
                  </a:lnTo>
                  <a:lnTo>
                    <a:pt x="0" y="0"/>
                  </a:lnTo>
                  <a:lnTo>
                    <a:pt x="0" y="1344"/>
                  </a:lnTo>
                  <a:lnTo>
                    <a:pt x="480" y="1344"/>
                  </a:lnTo>
                  <a:lnTo>
                    <a:pt x="480" y="100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3600" y="1828440"/>
              <a:ext cx="124740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FOR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90600" y="6134040"/>
            <a:ext cx="3717720" cy="647640"/>
            <a:chOff x="390600" y="6134040"/>
            <a:chExt cx="3717720" cy="647640"/>
          </a:xfrm>
        </p:grpSpPr>
        <p:graphicFrame>
          <p:nvGraphicFramePr>
            <p:cNvPr id="404" name=""/>
            <p:cNvGraphicFramePr/>
            <p:nvPr/>
          </p:nvGraphicFramePr>
          <p:xfrm>
            <a:off x="1614600" y="6134040"/>
            <a:ext cx="249372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4600" y="6134040"/>
                      <a:ext cx="2493720" cy="64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390600" y="6134040"/>
              <a:ext cx="12474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KVL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MPUTE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geaux" descr=""/>
          <p:cNvPicPr/>
          <p:nvPr/>
        </p:nvPicPr>
        <p:blipFill>
          <a:blip r:embed="rId7"/>
          <a:stretch/>
        </p:blipFill>
        <p:spPr>
          <a:xfrm>
            <a:off x="8458200" y="6481800"/>
            <a:ext cx="70632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827600" y="662004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3794"/>
                </a:moveTo>
                <a:lnTo>
                  <a:pt x="23648" y="10800"/>
                </a:lnTo>
                <a:lnTo>
                  <a:pt x="9635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294080" y="662472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10800"/>
                </a:moveTo>
                <a:lnTo>
                  <a:pt x="23648" y="3794"/>
                </a:lnTo>
                <a:lnTo>
                  <a:pt x="23648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8400" y="1173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326880"/>
          <a:ext cx="46022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6880"/>
                    <a:ext cx="4602240" cy="25686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780280" y="297180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CTUALLY NEED THE CURRENT O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MESH. HENCE, USE MESH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85680" y="1900080"/>
            <a:ext cx="685800" cy="685800"/>
            <a:chOff x="985680" y="1900080"/>
            <a:chExt cx="685800" cy="685800"/>
          </a:xfrm>
        </p:grpSpPr>
        <p:sp>
          <p:nvSpPr>
            <p:cNvPr id="415" name=""/>
            <p:cNvSpPr/>
            <p:nvPr/>
          </p:nvSpPr>
          <p:spPr>
            <a:xfrm>
              <a:off x="985680" y="19000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1143000" y="2133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2438280" y="1752480"/>
            <a:ext cx="990720" cy="914400"/>
            <a:chOff x="2438280" y="1752480"/>
            <a:chExt cx="990720" cy="914400"/>
          </a:xfrm>
        </p:grpSpPr>
        <p:sp>
          <p:nvSpPr>
            <p:cNvPr id="418" name=""/>
            <p:cNvSpPr/>
            <p:nvPr/>
          </p:nvSpPr>
          <p:spPr>
            <a:xfrm>
              <a:off x="2438280" y="1752480"/>
              <a:ext cx="99072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2590920" y="1828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308520" y="3784680"/>
            <a:ext cx="1964880" cy="307080"/>
            <a:chOff x="308520" y="3784680"/>
            <a:chExt cx="1964880" cy="307080"/>
          </a:xfrm>
        </p:grpSpPr>
        <p:sp>
          <p:nvSpPr>
            <p:cNvPr id="421" name=""/>
            <p:cNvSpPr/>
            <p:nvPr/>
          </p:nvSpPr>
          <p:spPr>
            <a:xfrm>
              <a:off x="308520" y="378468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1371600" y="378468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"/>
          <p:cNvGrpSpPr/>
          <p:nvPr/>
        </p:nvGrpSpPr>
        <p:grpSpPr>
          <a:xfrm>
            <a:off x="311400" y="4165560"/>
            <a:ext cx="3701880" cy="307080"/>
            <a:chOff x="311400" y="4165560"/>
            <a:chExt cx="3701880" cy="307080"/>
          </a:xfrm>
        </p:grpSpPr>
        <p:sp>
          <p:nvSpPr>
            <p:cNvPr id="424" name=""/>
            <p:cNvSpPr/>
            <p:nvPr/>
          </p:nvSpPr>
          <p:spPr>
            <a:xfrm>
              <a:off x="311400" y="416556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371600" y="416556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09480" y="4622760"/>
                <a:ext cx="297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143000" y="500364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8" name=""/>
          <p:cNvGraphicFramePr/>
          <p:nvPr/>
        </p:nvGraphicFramePr>
        <p:xfrm>
          <a:off x="4648320" y="468360"/>
          <a:ext cx="44528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68360"/>
                    <a:ext cx="4452840" cy="2414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30" name=""/>
          <p:cNvGrpSpPr/>
          <p:nvPr/>
        </p:nvGrpSpPr>
        <p:grpSpPr>
          <a:xfrm>
            <a:off x="5791320" y="1905120"/>
            <a:ext cx="685800" cy="685800"/>
            <a:chOff x="5791320" y="1905120"/>
            <a:chExt cx="685800" cy="685800"/>
          </a:xfrm>
        </p:grpSpPr>
        <p:sp>
          <p:nvSpPr>
            <p:cNvPr id="431" name=""/>
            <p:cNvSpPr/>
            <p:nvPr/>
          </p:nvSpPr>
          <p:spPr>
            <a:xfrm>
              <a:off x="5791320" y="19051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5948640" y="21387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6934320" y="1600200"/>
            <a:ext cx="990360" cy="914400"/>
            <a:chOff x="6934320" y="1600200"/>
            <a:chExt cx="990360" cy="914400"/>
          </a:xfrm>
        </p:grpSpPr>
        <p:sp>
          <p:nvSpPr>
            <p:cNvPr id="434" name=""/>
            <p:cNvSpPr/>
            <p:nvPr/>
          </p:nvSpPr>
          <p:spPr>
            <a:xfrm>
              <a:off x="6934320" y="1600200"/>
              <a:ext cx="99036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7086600" y="167652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5353560" y="3733920"/>
            <a:ext cx="1964880" cy="307080"/>
            <a:chOff x="5353560" y="3733920"/>
            <a:chExt cx="1964880" cy="307080"/>
          </a:xfrm>
        </p:grpSpPr>
        <p:sp>
          <p:nvSpPr>
            <p:cNvPr id="437" name=""/>
            <p:cNvSpPr/>
            <p:nvPr/>
          </p:nvSpPr>
          <p:spPr>
            <a:xfrm>
              <a:off x="5353560" y="373392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6416640" y="373392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5337720" y="4114800"/>
            <a:ext cx="2663280" cy="307080"/>
            <a:chOff x="5337720" y="4114800"/>
            <a:chExt cx="2663280" cy="307080"/>
          </a:xfrm>
        </p:grpSpPr>
        <p:sp>
          <p:nvSpPr>
            <p:cNvPr id="440" name=""/>
            <p:cNvSpPr/>
            <p:nvPr/>
          </p:nvSpPr>
          <p:spPr>
            <a:xfrm>
              <a:off x="5337720" y="411480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324840" y="411480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473880" y="4495680"/>
                <a:ext cx="1434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407280" y="51814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114800" y="228600"/>
          <a:ext cx="1270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28600"/>
                    <a:ext cx="1270080" cy="520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69680" y="41400"/>
            <a:ext cx="2786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95400" y="52560"/>
          <a:ext cx="3735360" cy="38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52560"/>
                    <a:ext cx="3735360" cy="385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83160" y="5562720"/>
            <a:ext cx="4096080" cy="1284120"/>
            <a:chOff x="83160" y="5562720"/>
            <a:chExt cx="4096080" cy="1284120"/>
          </a:xfrm>
        </p:grpSpPr>
        <p:sp>
          <p:nvSpPr>
            <p:cNvPr id="453" name=""/>
            <p:cNvSpPr/>
            <p:nvPr/>
          </p:nvSpPr>
          <p:spPr>
            <a:xfrm>
              <a:off x="83160" y="5562720"/>
              <a:ext cx="31068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1. Select loop curr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7200" y="6022800"/>
              <a:ext cx="4082040" cy="824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n this case we use meshe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note that the current 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uld define one mesh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896760" y="2540160"/>
            <a:ext cx="863640" cy="888840"/>
            <a:chOff x="896760" y="2540160"/>
            <a:chExt cx="863640" cy="888840"/>
          </a:xfrm>
        </p:grpSpPr>
        <p:sp>
          <p:nvSpPr>
            <p:cNvPr id="456" name=""/>
            <p:cNvSpPr/>
            <p:nvPr/>
          </p:nvSpPr>
          <p:spPr>
            <a:xfrm>
              <a:off x="896760" y="2540160"/>
              <a:ext cx="863640" cy="888840"/>
            </a:xfrm>
            <a:custGeom>
              <a:avLst/>
              <a:gdLst/>
              <a:ahLst/>
              <a:rect l="l" t="t" r="r" b="b"/>
              <a:pathLst>
                <a:path w="544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64" y="0"/>
                    <a:pt x="504" y="80"/>
                  </a:cubicBezTo>
                  <a:cubicBezTo>
                    <a:pt x="544" y="160"/>
                    <a:pt x="428" y="360"/>
                    <a:pt x="312" y="56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1163520" y="2819520"/>
                  <a:ext cx="247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985680" y="1181160"/>
            <a:ext cx="749520" cy="799920"/>
            <a:chOff x="985680" y="1181160"/>
            <a:chExt cx="749520" cy="799920"/>
          </a:xfrm>
        </p:grpSpPr>
        <p:sp>
          <p:nvSpPr>
            <p:cNvPr id="459" name=""/>
            <p:cNvSpPr/>
            <p:nvPr/>
          </p:nvSpPr>
          <p:spPr>
            <a:xfrm>
              <a:off x="985680" y="1181160"/>
              <a:ext cx="749520" cy="799920"/>
            </a:xfrm>
            <a:custGeom>
              <a:avLst/>
              <a:gdLst/>
              <a:ahLst/>
              <a:rect l="l" t="t" r="r" b="b"/>
              <a:pathLst>
                <a:path w="472" h="504">
                  <a:moveTo>
                    <a:pt x="64" y="504"/>
                  </a:moveTo>
                  <a:cubicBezTo>
                    <a:pt x="32" y="324"/>
                    <a:pt x="0" y="144"/>
                    <a:pt x="64" y="72"/>
                  </a:cubicBezTo>
                  <a:cubicBezTo>
                    <a:pt x="128" y="0"/>
                    <a:pt x="424" y="0"/>
                    <a:pt x="448" y="72"/>
                  </a:cubicBezTo>
                  <a:cubicBezTo>
                    <a:pt x="472" y="144"/>
                    <a:pt x="248" y="432"/>
                    <a:pt x="208" y="50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1163520" y="1219320"/>
                  <a:ext cx="373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1986120" y="885960"/>
            <a:ext cx="676080" cy="2385720"/>
            <a:chOff x="1986120" y="885960"/>
            <a:chExt cx="676080" cy="2385720"/>
          </a:xfrm>
        </p:grpSpPr>
        <p:sp>
          <p:nvSpPr>
            <p:cNvPr id="462" name=""/>
            <p:cNvSpPr/>
            <p:nvPr/>
          </p:nvSpPr>
          <p:spPr>
            <a:xfrm>
              <a:off x="1986120" y="885960"/>
              <a:ext cx="676080" cy="2385720"/>
            </a:xfrm>
            <a:custGeom>
              <a:avLst/>
              <a:gdLst/>
              <a:ahLst/>
              <a:rect l="l" t="t" r="r" b="b"/>
              <a:pathLst>
                <a:path w="424" h="1504">
                  <a:moveTo>
                    <a:pt x="56" y="1504"/>
                  </a:moveTo>
                  <a:cubicBezTo>
                    <a:pt x="28" y="960"/>
                    <a:pt x="0" y="416"/>
                    <a:pt x="56" y="208"/>
                  </a:cubicBezTo>
                  <a:cubicBezTo>
                    <a:pt x="112" y="0"/>
                    <a:pt x="360" y="40"/>
                    <a:pt x="392" y="256"/>
                  </a:cubicBezTo>
                  <a:cubicBezTo>
                    <a:pt x="424" y="472"/>
                    <a:pt x="336" y="988"/>
                    <a:pt x="248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154240" y="19051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4" name=""/>
          <p:cNvSpPr/>
          <p:nvPr/>
        </p:nvSpPr>
        <p:spPr>
          <a:xfrm>
            <a:off x="4907520" y="76320"/>
            <a:ext cx="3106800" cy="337320"/>
          </a:xfrm>
          <a:prstGeom prst="rect">
            <a:avLst/>
          </a:prstGeom>
          <a:solidFill>
            <a:srgbClr val="ccecff"/>
          </a:solidFill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loop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56480" y="533520"/>
            <a:ext cx="1715400" cy="438120"/>
            <a:chOff x="4056480" y="533520"/>
            <a:chExt cx="1715400" cy="438120"/>
          </a:xfrm>
        </p:grpSpPr>
        <p:sp>
          <p:nvSpPr>
            <p:cNvPr id="466" name=""/>
            <p:cNvSpPr/>
            <p:nvPr/>
          </p:nvSpPr>
          <p:spPr>
            <a:xfrm>
              <a:off x="4056480" y="53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946400" y="533520"/>
                  <a:ext cx="8254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8" name=""/>
          <p:cNvGrpSpPr/>
          <p:nvPr/>
        </p:nvGrpSpPr>
        <p:grpSpPr>
          <a:xfrm>
            <a:off x="4056840" y="990720"/>
            <a:ext cx="4553640" cy="406440"/>
            <a:chOff x="4056840" y="990720"/>
            <a:chExt cx="4553640" cy="406440"/>
          </a:xfrm>
        </p:grpSpPr>
        <p:sp>
          <p:nvSpPr>
            <p:cNvPr id="469" name=""/>
            <p:cNvSpPr/>
            <p:nvPr/>
          </p:nvSpPr>
          <p:spPr>
            <a:xfrm>
              <a:off x="4056840" y="9907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4879800" y="990720"/>
                  <a:ext cx="37306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1" name=""/>
          <p:cNvGrpSpPr/>
          <p:nvPr/>
        </p:nvGrpSpPr>
        <p:grpSpPr>
          <a:xfrm>
            <a:off x="4056480" y="1447920"/>
            <a:ext cx="4341240" cy="374400"/>
            <a:chOff x="4056480" y="1447920"/>
            <a:chExt cx="4341240" cy="374400"/>
          </a:xfrm>
        </p:grpSpPr>
        <p:sp>
          <p:nvSpPr>
            <p:cNvPr id="472" name=""/>
            <p:cNvSpPr/>
            <p:nvPr/>
          </p:nvSpPr>
          <p:spPr>
            <a:xfrm>
              <a:off x="4056480" y="14479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4968720" y="1447920"/>
                  <a:ext cx="34290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4" name=""/>
          <p:cNvSpPr/>
          <p:nvPr/>
        </p:nvSpPr>
        <p:spPr>
          <a:xfrm>
            <a:off x="4058280" y="1811160"/>
            <a:ext cx="43261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nce we need to compute Vo 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fficient to solve for I3 on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8600" y="2438280"/>
            <a:ext cx="4690080" cy="5202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NT: Divide the loop equations by 1k.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ecome numbers and voltage source becomes 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105520" y="4419720"/>
                <a:ext cx="3560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019920" y="5257800"/>
                <a:ext cx="2139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87480" y="3962520"/>
            <a:ext cx="4361040" cy="1602720"/>
            <a:chOff x="87480" y="3962520"/>
            <a:chExt cx="4361040" cy="1602720"/>
          </a:xfrm>
        </p:grpSpPr>
        <p:sp>
          <p:nvSpPr>
            <p:cNvPr id="479" name=""/>
            <p:cNvSpPr/>
            <p:nvPr/>
          </p:nvSpPr>
          <p:spPr>
            <a:xfrm>
              <a:off x="87480" y="4302000"/>
              <a:ext cx="39603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3 non-reference nodes. 3 mes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840" y="4673520"/>
              <a:ext cx="432612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, one super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1160" y="3962520"/>
              <a:ext cx="32745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LECTING THE SOLUTION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280" y="5045040"/>
              <a:ext cx="43412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OTH APPROACHES SEEM COMPARABLE. CHO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828240" y="2971800"/>
            <a:ext cx="4520880" cy="1262160"/>
            <a:chOff x="3828240" y="2971800"/>
            <a:chExt cx="4520880" cy="1262160"/>
          </a:xfrm>
        </p:grpSpPr>
        <p:sp>
          <p:nvSpPr>
            <p:cNvPr id="484" name=""/>
            <p:cNvSpPr/>
            <p:nvPr/>
          </p:nvSpPr>
          <p:spPr>
            <a:xfrm>
              <a:off x="5074560" y="2971800"/>
              <a:ext cx="3274560" cy="307080"/>
            </a:xfrm>
            <a:prstGeom prst="rect">
              <a:avLst/>
            </a:prstGeom>
            <a:solidFill>
              <a:srgbClr val="ccecff"/>
            </a:solidFill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We use the fact that  I1 =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28240" y="3352680"/>
              <a:ext cx="4439520" cy="549360"/>
              <a:chOff x="3828240" y="3352680"/>
              <a:chExt cx="4439520" cy="549360"/>
            </a:xfrm>
          </p:grpSpPr>
          <mc:AlternateContent>
            <mc:Choice xmlns:a14="http://schemas.microsoft.com/office/drawing/2010/main" Requires="a14">
              <p:sp>
                <p:nvSpPr>
                  <p:cNvPr id="486" name=""/>
                  <p:cNvSpPr txBox="1"/>
                  <p:nvPr/>
                </p:nvSpPr>
                <p:spPr>
                  <a:xfrm>
                    <a:off x="4664160" y="3352680"/>
                    <a:ext cx="360360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7" name=""/>
              <p:cNvSpPr/>
              <p:nvPr/>
            </p:nvSpPr>
            <p:spPr>
              <a:xfrm>
                <a:off x="3828240" y="335268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828240" y="3886200"/>
              <a:ext cx="3715560" cy="347760"/>
              <a:chOff x="3828240" y="3886200"/>
              <a:chExt cx="3715560" cy="347760"/>
            </a:xfrm>
          </p:grpSpPr>
          <mc:AlternateContent>
            <mc:Choice xmlns:a14="http://schemas.microsoft.com/office/drawing/2010/main" Requires="a14">
              <p:sp>
                <p:nvSpPr>
                  <p:cNvPr id="489" name=""/>
                  <p:cNvSpPr txBox="1"/>
                  <p:nvPr/>
                </p:nvSpPr>
                <p:spPr>
                  <a:xfrm>
                    <a:off x="4664160" y="3886200"/>
                    <a:ext cx="287964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0" name=""/>
              <p:cNvSpPr/>
              <p:nvPr/>
            </p:nvSpPr>
            <p:spPr>
              <a:xfrm>
                <a:off x="3828240" y="38862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4724280" y="3505320"/>
            <a:ext cx="4521240" cy="838080"/>
            <a:chOff x="4724280" y="3505320"/>
            <a:chExt cx="4521240" cy="838080"/>
          </a:xfrm>
        </p:grpSpPr>
        <p:grpSp>
          <p:nvGrpSpPr>
            <p:cNvPr id="492" name=""/>
            <p:cNvGrpSpPr/>
            <p:nvPr/>
          </p:nvGrpSpPr>
          <p:grpSpPr>
            <a:xfrm>
              <a:off x="7543800" y="3505320"/>
              <a:ext cx="1701720" cy="685800"/>
              <a:chOff x="7543800" y="3505320"/>
              <a:chExt cx="1701720" cy="685800"/>
            </a:xfrm>
          </p:grpSpPr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8305920" y="3505320"/>
                    <a:ext cx="3808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4" name=""/>
                  <p:cNvSpPr txBox="1"/>
                  <p:nvPr/>
                </p:nvSpPr>
                <p:spPr>
                  <a:xfrm>
                    <a:off x="7543800" y="3911760"/>
                    <a:ext cx="17017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and add eq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5" name=""/>
            <p:cNvSpPr/>
            <p:nvPr/>
          </p:nvSpPr>
          <p:spPr>
            <a:xfrm>
              <a:off x="4724280" y="4343400"/>
              <a:ext cx="441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50520" y="117360"/>
            <a:ext cx="786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LOOPS - THE SUPERMESH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80880" y="457200"/>
          <a:ext cx="3762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3762360" cy="2739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85920" y="3292560"/>
            <a:ext cx="2634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SELECT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80880" y="3603600"/>
          <a:ext cx="411012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03600"/>
                    <a:ext cx="4110120" cy="302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14640" y="533520"/>
            <a:ext cx="41277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CONSTRAINT EQUATION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SHARING CURR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019920" y="106668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831920" y="1463760"/>
            <a:ext cx="43412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3. WRITE EQUATIONS FOR THE OTHER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248520" y="1828800"/>
                <a:ext cx="90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889520" y="2225520"/>
            <a:ext cx="39146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4. DEFINE 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UPERMESH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BY (MENT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OVING THE SHARED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2120" y="3902040"/>
            <a:ext cx="3812040" cy="2422440"/>
            <a:chOff x="762120" y="3902040"/>
            <a:chExt cx="3812040" cy="2422440"/>
          </a:xfrm>
        </p:grpSpPr>
        <p:sp>
          <p:nvSpPr>
            <p:cNvPr id="511" name=""/>
            <p:cNvSpPr/>
            <p:nvPr/>
          </p:nvSpPr>
          <p:spPr>
            <a:xfrm>
              <a:off x="762120" y="4267080"/>
              <a:ext cx="2895480" cy="2057400"/>
            </a:xfrm>
            <a:custGeom>
              <a:avLst/>
              <a:gdLst/>
              <a:ahLst/>
              <a:rect l="l" t="t" r="r" b="b"/>
              <a:pathLst>
                <a:path w="1824" h="1296">
                  <a:moveTo>
                    <a:pt x="0" y="0"/>
                  </a:moveTo>
                  <a:lnTo>
                    <a:pt x="0" y="384"/>
                  </a:lnTo>
                  <a:lnTo>
                    <a:pt x="1008" y="384"/>
                  </a:lnTo>
                  <a:lnTo>
                    <a:pt x="1008" y="1296"/>
                  </a:lnTo>
                  <a:lnTo>
                    <a:pt x="1824" y="1296"/>
                  </a:lnTo>
                  <a:lnTo>
                    <a:pt x="18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3320" y="3902040"/>
              <a:ext cx="114084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962600" y="2911320"/>
            <a:ext cx="33811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5. WRITE KVL FOR THE SUPER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495680" y="3271680"/>
                <a:ext cx="457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4829760" y="3733920"/>
            <a:ext cx="4021200" cy="631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E HAVE THREE EQUATIONS IN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KNOWNS. THE MODEL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47760" y="41400"/>
            <a:ext cx="841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MESHES - THE GENERAL LOO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0" y="380880"/>
          <a:ext cx="419112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191120" cy="28972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2" name=""/>
          <p:cNvGrpSpPr/>
          <p:nvPr/>
        </p:nvGrpSpPr>
        <p:grpSpPr>
          <a:xfrm>
            <a:off x="115920" y="3444840"/>
            <a:ext cx="4447800" cy="824760"/>
            <a:chOff x="115920" y="3444840"/>
            <a:chExt cx="4447800" cy="824760"/>
          </a:xfrm>
        </p:grpSpPr>
        <p:sp>
          <p:nvSpPr>
            <p:cNvPr id="523" name=""/>
            <p:cNvSpPr/>
            <p:nvPr/>
          </p:nvSpPr>
          <p:spPr>
            <a:xfrm>
              <a:off x="115920" y="3444840"/>
              <a:ext cx="444780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TRATEGY IS TO DEFINE LOOP CURREN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AT DO NOT SHARE CURRENT SOURCES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6880" y="3962520"/>
              <a:ext cx="3807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VEN IF IT MEANS ABANDONING MES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08720" y="4435560"/>
            <a:ext cx="455472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CONVENIENCE START 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TIL REACHING A SHARED SOURCE. A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INT DEFINE A NEW LO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8000" y="5334120"/>
            <a:ext cx="444780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GUARANTEE THAT IF GIVES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EPENDENT EQUATION ONE MUST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THE LOOP INCLUDES COMPONENT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OT PART OF PREVIOUSLY DEFINED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800600" y="457200"/>
          <a:ext cx="365292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57200"/>
                    <a:ext cx="36529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91440" y="6264360"/>
            <a:ext cx="43412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SIBLE STRATEGY IS TO CREATE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PENING THE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334120" y="990720"/>
            <a:ext cx="2743200" cy="2271600"/>
            <a:chOff x="5334120" y="990720"/>
            <a:chExt cx="2743200" cy="2271600"/>
          </a:xfrm>
        </p:grpSpPr>
        <p:sp>
          <p:nvSpPr>
            <p:cNvPr id="531" name=""/>
            <p:cNvSpPr/>
            <p:nvPr/>
          </p:nvSpPr>
          <p:spPr>
            <a:xfrm>
              <a:off x="6626160" y="10684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990720"/>
              <a:ext cx="2438280" cy="2133360"/>
            </a:xfrm>
            <a:custGeom>
              <a:avLst/>
              <a:gdLst/>
              <a:ahLst/>
              <a:rect l="l" t="t" r="r" b="b"/>
              <a:pathLst>
                <a:path w="1536" h="1344">
                  <a:moveTo>
                    <a:pt x="768" y="1344"/>
                  </a:moveTo>
                  <a:lnTo>
                    <a:pt x="768" y="288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344"/>
                  </a:lnTo>
                  <a:lnTo>
                    <a:pt x="912" y="1344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7848720" y="29718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"/>
          <p:cNvGrpSpPr/>
          <p:nvPr/>
        </p:nvGrpSpPr>
        <p:grpSpPr>
          <a:xfrm>
            <a:off x="4898880" y="3444840"/>
            <a:ext cx="4127760" cy="1203480"/>
            <a:chOff x="4898880" y="3444840"/>
            <a:chExt cx="4127760" cy="1203480"/>
          </a:xfrm>
        </p:grpSpPr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311880" y="4000680"/>
                  <a:ext cx="927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4898880" y="3444840"/>
              <a:ext cx="41277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LOOP EQUATIONS FOR THE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763520" y="4775040"/>
            <a:ext cx="43412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EQUATION FOR THE THIRD LOOP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554280" y="5105520"/>
                <a:ext cx="558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4989960" y="5502240"/>
            <a:ext cx="40212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MESH CURRENTS OBTAINED WIT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RE DIFFERENT FROM THE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BTAINED WITH A SUPERMESH. EVE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SE DEFINED USING MES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304920"/>
          <a:ext cx="4495680" cy="31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495680" cy="3132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57200" y="76320"/>
                <a:ext cx="388620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VOLTAGES ACROSS RESISTORS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6" name=""/>
          <p:cNvGrpSpPr/>
          <p:nvPr/>
        </p:nvGrpSpPr>
        <p:grpSpPr>
          <a:xfrm>
            <a:off x="102240" y="3886200"/>
            <a:ext cx="4367160" cy="2834640"/>
            <a:chOff x="102240" y="3886200"/>
            <a:chExt cx="4367160" cy="2834640"/>
          </a:xfrm>
        </p:grpSpPr>
        <p:sp>
          <p:nvSpPr>
            <p:cNvPr id="547" name=""/>
            <p:cNvSpPr/>
            <p:nvPr/>
          </p:nvSpPr>
          <p:spPr>
            <a:xfrm>
              <a:off x="102240" y="4267080"/>
              <a:ext cx="4326120" cy="10674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ee independent current sour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ur 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 shared by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7840" y="3886200"/>
              <a:ext cx="383832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r loop analysis we notice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280" y="5410080"/>
              <a:ext cx="4326120" cy="131076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areful choice of loop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ould make only one loop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cessary. Three loop currents 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chosen using meshes and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aring any sour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914400" y="457200"/>
            <a:ext cx="1181160" cy="1447560"/>
            <a:chOff x="914400" y="457200"/>
            <a:chExt cx="1181160" cy="1447560"/>
          </a:xfrm>
        </p:grpSpPr>
        <p:sp>
          <p:nvSpPr>
            <p:cNvPr id="551" name=""/>
            <p:cNvSpPr/>
            <p:nvPr/>
          </p:nvSpPr>
          <p:spPr>
            <a:xfrm>
              <a:off x="914400" y="457200"/>
              <a:ext cx="1181160" cy="1447560"/>
            </a:xfrm>
            <a:custGeom>
              <a:avLst/>
              <a:gdLst/>
              <a:ahLst/>
              <a:rect l="l" t="t" r="r" b="b"/>
              <a:pathLst>
                <a:path w="744" h="912">
                  <a:moveTo>
                    <a:pt x="648" y="696"/>
                  </a:moveTo>
                  <a:cubicBezTo>
                    <a:pt x="648" y="460"/>
                    <a:pt x="648" y="224"/>
                    <a:pt x="648" y="120"/>
                  </a:cubicBezTo>
                  <a:cubicBezTo>
                    <a:pt x="648" y="16"/>
                    <a:pt x="744" y="72"/>
                    <a:pt x="648" y="72"/>
                  </a:cubicBezTo>
                  <a:cubicBezTo>
                    <a:pt x="552" y="72"/>
                    <a:pt x="144" y="0"/>
                    <a:pt x="72" y="120"/>
                  </a:cubicBezTo>
                  <a:cubicBezTo>
                    <a:pt x="0" y="240"/>
                    <a:pt x="136" y="672"/>
                    <a:pt x="216" y="792"/>
                  </a:cubicBezTo>
                  <a:cubicBezTo>
                    <a:pt x="296" y="912"/>
                    <a:pt x="496" y="832"/>
                    <a:pt x="552" y="84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1295280" y="838080"/>
                  <a:ext cx="319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2108160" y="380880"/>
            <a:ext cx="1473120" cy="1727280"/>
            <a:chOff x="2108160" y="380880"/>
            <a:chExt cx="1473120" cy="1727280"/>
          </a:xfrm>
        </p:grpSpPr>
        <p:sp>
          <p:nvSpPr>
            <p:cNvPr id="554" name=""/>
            <p:cNvSpPr/>
            <p:nvPr/>
          </p:nvSpPr>
          <p:spPr>
            <a:xfrm>
              <a:off x="2108160" y="380880"/>
              <a:ext cx="1473120" cy="1727280"/>
            </a:xfrm>
            <a:custGeom>
              <a:avLst/>
              <a:gdLst/>
              <a:ahLst/>
              <a:rect l="l" t="t" r="r" b="b"/>
              <a:pathLst>
                <a:path w="928" h="1088">
                  <a:moveTo>
                    <a:pt x="928" y="856"/>
                  </a:moveTo>
                  <a:cubicBezTo>
                    <a:pt x="916" y="556"/>
                    <a:pt x="904" y="256"/>
                    <a:pt x="880" y="136"/>
                  </a:cubicBezTo>
                  <a:cubicBezTo>
                    <a:pt x="856" y="16"/>
                    <a:pt x="904" y="136"/>
                    <a:pt x="784" y="136"/>
                  </a:cubicBezTo>
                  <a:cubicBezTo>
                    <a:pt x="664" y="136"/>
                    <a:pt x="272" y="0"/>
                    <a:pt x="160" y="136"/>
                  </a:cubicBezTo>
                  <a:cubicBezTo>
                    <a:pt x="48" y="272"/>
                    <a:pt x="0" y="816"/>
                    <a:pt x="112" y="952"/>
                  </a:cubicBezTo>
                  <a:cubicBezTo>
                    <a:pt x="224" y="1088"/>
                    <a:pt x="528" y="1020"/>
                    <a:pt x="832" y="95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725560" y="685800"/>
                  <a:ext cx="3729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"/>
          <p:cNvGrpSpPr/>
          <p:nvPr/>
        </p:nvGrpSpPr>
        <p:grpSpPr>
          <a:xfrm>
            <a:off x="533520" y="1828800"/>
            <a:ext cx="1765080" cy="1536840"/>
            <a:chOff x="533520" y="1828800"/>
            <a:chExt cx="1765080" cy="1536840"/>
          </a:xfrm>
        </p:grpSpPr>
        <p:sp>
          <p:nvSpPr>
            <p:cNvPr id="557" name=""/>
            <p:cNvSpPr/>
            <p:nvPr/>
          </p:nvSpPr>
          <p:spPr>
            <a:xfrm>
              <a:off x="533520" y="1828800"/>
              <a:ext cx="1765080" cy="1536840"/>
            </a:xfrm>
            <a:custGeom>
              <a:avLst/>
              <a:gdLst/>
              <a:ahLst/>
              <a:rect l="l" t="t" r="r" b="b"/>
              <a:pathLst>
                <a:path w="1112" h="968">
                  <a:moveTo>
                    <a:pt x="968" y="944"/>
                  </a:moveTo>
                  <a:cubicBezTo>
                    <a:pt x="968" y="704"/>
                    <a:pt x="968" y="464"/>
                    <a:pt x="968" y="320"/>
                  </a:cubicBezTo>
                  <a:cubicBezTo>
                    <a:pt x="968" y="176"/>
                    <a:pt x="1112" y="112"/>
                    <a:pt x="968" y="80"/>
                  </a:cubicBezTo>
                  <a:cubicBezTo>
                    <a:pt x="824" y="48"/>
                    <a:pt x="208" y="0"/>
                    <a:pt x="104" y="128"/>
                  </a:cubicBezTo>
                  <a:cubicBezTo>
                    <a:pt x="0" y="256"/>
                    <a:pt x="208" y="728"/>
                    <a:pt x="344" y="848"/>
                  </a:cubicBezTo>
                  <a:cubicBezTo>
                    <a:pt x="480" y="968"/>
                    <a:pt x="700" y="908"/>
                    <a:pt x="920" y="8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1600200" y="25909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081760" y="5043600"/>
                <a:ext cx="2157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081760" y="5456160"/>
                <a:ext cx="1904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4842360" y="4038480"/>
            <a:ext cx="37011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THE CURRENT I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 TO C0MPUTE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577760" y="76320"/>
            <a:ext cx="4691880" cy="1358280"/>
            <a:chOff x="4577760" y="76320"/>
            <a:chExt cx="4691880" cy="1358280"/>
          </a:xfrm>
        </p:grpSpPr>
        <p:sp>
          <p:nvSpPr>
            <p:cNvPr id="563" name=""/>
            <p:cNvSpPr/>
            <p:nvPr/>
          </p:nvSpPr>
          <p:spPr>
            <a:xfrm>
              <a:off x="4577760" y="76320"/>
              <a:ext cx="4691880" cy="82404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w we need a loop current that do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t go over any current source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sses through all unused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91080" y="914400"/>
              <a:ext cx="44478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INT: IF ALL CURRENT SOURCES ARE REMO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ONLY ONE LOOP 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09480" y="1981080"/>
            <a:ext cx="3200400" cy="1371600"/>
            <a:chOff x="609480" y="1981080"/>
            <a:chExt cx="3200400" cy="137160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3047760" y="2819520"/>
                  <a:ext cx="3142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609480" y="1981080"/>
              <a:ext cx="3200400" cy="1371600"/>
            </a:xfrm>
            <a:custGeom>
              <a:avLst/>
              <a:gdLst/>
              <a:ahLst/>
              <a:rect l="l" t="t" r="r" b="b"/>
              <a:pathLst>
                <a:path w="2016" h="864">
                  <a:moveTo>
                    <a:pt x="2016" y="864"/>
                  </a:moveTo>
                  <a:lnTo>
                    <a:pt x="2016" y="0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1920" y="81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442840" y="1523880"/>
            <a:ext cx="3274560" cy="1676520"/>
            <a:chOff x="5442840" y="1523880"/>
            <a:chExt cx="3274560" cy="1676520"/>
          </a:xfrm>
        </p:grpSpPr>
        <p:grpSp>
          <p:nvGrpSpPr>
            <p:cNvPr id="569" name=""/>
            <p:cNvGrpSpPr/>
            <p:nvPr/>
          </p:nvGrpSpPr>
          <p:grpSpPr>
            <a:xfrm>
              <a:off x="6188040" y="2041560"/>
              <a:ext cx="863640" cy="1158840"/>
              <a:chOff x="6188040" y="2041560"/>
              <a:chExt cx="863640" cy="1158840"/>
            </a:xfrm>
          </p:grpSpPr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6188040" y="2041560"/>
                    <a:ext cx="838080" cy="419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1" name=""/>
                  <p:cNvSpPr txBox="1"/>
                  <p:nvPr/>
                </p:nvSpPr>
                <p:spPr>
                  <a:xfrm>
                    <a:off x="6188040" y="2422800"/>
                    <a:ext cx="86364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2" name=""/>
                  <p:cNvSpPr txBox="1"/>
                  <p:nvPr/>
                </p:nvSpPr>
                <p:spPr>
                  <a:xfrm>
                    <a:off x="6188040" y="2803680"/>
                    <a:ext cx="85716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73" name=""/>
            <p:cNvSpPr/>
            <p:nvPr/>
          </p:nvSpPr>
          <p:spPr>
            <a:xfrm>
              <a:off x="5442840" y="1523880"/>
              <a:ext cx="32745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EQUATIONS FOR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657600" y="3276720"/>
            <a:ext cx="5486400" cy="621360"/>
            <a:chOff x="3657600" y="3276720"/>
            <a:chExt cx="5486400" cy="621360"/>
          </a:xfrm>
        </p:grpSpPr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 rot="10800000">
                  <a:off x="3657600" y="3581640"/>
                  <a:ext cx="5486400" cy="31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6" name=""/>
            <p:cNvSpPr/>
            <p:nvPr/>
          </p:nvSpPr>
          <p:spPr>
            <a:xfrm>
              <a:off x="5001120" y="3276720"/>
              <a:ext cx="242100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F REMAINING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081760" y="5897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081760" y="626256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" y="22860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295280" y="20574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362320" y="6858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43200" y="1447920"/>
                <a:ext cx="63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609480" y="1523880"/>
          <a:ext cx="44960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4496040" cy="3132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295280" y="1523880"/>
            <a:ext cx="3124440" cy="152640"/>
          </a:xfrm>
          <a:prstGeom prst="ellipse">
            <a:avLst/>
          </a:prstGeom>
          <a:solidFill>
            <a:srgbClr val="800000">
              <a:alpha val="50000"/>
            </a:srgbClr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3048120"/>
            <a:ext cx="15228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3048120"/>
            <a:ext cx="228600" cy="1522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971800"/>
            <a:ext cx="22860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4495680"/>
            <a:ext cx="3124080" cy="228600"/>
          </a:xfrm>
          <a:prstGeom prst="ellipse">
            <a:avLst/>
          </a:prstGeom>
          <a:solidFill>
            <a:srgbClr val="96969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3360" y="152280"/>
            <a:ext cx="676440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 COMMENT ON METHOD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same problem can be solved by node an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ut it requires 3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743200" y="121932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419720" y="304812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895480" y="274320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914400" y="289548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5181480" y="1600200"/>
                <a:ext cx="3810240" cy="25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0" y="644400"/>
          <a:ext cx="502920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4400"/>
                    <a:ext cx="502920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29160" y="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00000" y="-11160"/>
            <a:ext cx="456984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reat the dependent source as th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were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dd one equation for the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6320" y="3886200"/>
                <a:ext cx="27684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 CURRE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D BY SOURC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76320" y="5500800"/>
                <a:ext cx="4381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 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6320" y="5881680"/>
                <a:ext cx="419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 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76320" y="6210360"/>
                <a:ext cx="3301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035680" y="1263600"/>
            <a:ext cx="396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E EQUATIONS. DIVIDE BY 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5791320" y="1905120"/>
                <a:ext cx="1942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520" y="536400"/>
          <a:ext cx="339876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536400"/>
                    <a:ext cx="3398760" cy="1978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880" y="76320"/>
            <a:ext cx="444780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node analysis to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11680" y="369720"/>
            <a:ext cx="39603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are 4 non 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0240" y="755640"/>
            <a:ext cx="286308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533520"/>
            <a:ext cx="106704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2400" y="1141560"/>
            <a:ext cx="432612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node connected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through a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85800"/>
            <a:ext cx="91440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2400" y="1771560"/>
            <a:ext cx="444780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need three equations to compu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920" y="2465280"/>
            <a:ext cx="871524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THERE IS ONLY ONE CURRENT FLOWING THROUGH ALL COMPONENTS AND 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URRENT IS DETERMINED ALL VOLTAGES CAN BE COMPUTED WITH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066680"/>
            <a:ext cx="1726920" cy="838440"/>
            <a:chOff x="990720" y="1066680"/>
            <a:chExt cx="1726920" cy="838440"/>
          </a:xfrm>
        </p:grpSpPr>
        <p:sp>
          <p:nvSpPr>
            <p:cNvPr id="58" name=""/>
            <p:cNvSpPr/>
            <p:nvPr/>
          </p:nvSpPr>
          <p:spPr>
            <a:xfrm>
              <a:off x="990720" y="1066680"/>
              <a:ext cx="1726920" cy="838440"/>
            </a:xfrm>
            <a:custGeom>
              <a:avLst/>
              <a:gdLst/>
              <a:ahLst/>
              <a:rect l="l" t="t" r="r" b="b"/>
              <a:pathLst>
                <a:path w="1088" h="528">
                  <a:moveTo>
                    <a:pt x="136" y="528"/>
                  </a:moveTo>
                  <a:cubicBezTo>
                    <a:pt x="68" y="352"/>
                    <a:pt x="0" y="176"/>
                    <a:pt x="136" y="96"/>
                  </a:cubicBezTo>
                  <a:cubicBezTo>
                    <a:pt x="272" y="16"/>
                    <a:pt x="816" y="0"/>
                    <a:pt x="952" y="48"/>
                  </a:cubicBezTo>
                  <a:cubicBezTo>
                    <a:pt x="1088" y="96"/>
                    <a:pt x="1072" y="312"/>
                    <a:pt x="952" y="384"/>
                  </a:cubicBezTo>
                  <a:cubicBezTo>
                    <a:pt x="832" y="456"/>
                    <a:pt x="352" y="464"/>
                    <a:pt x="232" y="48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2000" y="1295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640" y="3139920"/>
            <a:ext cx="284760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TRATEG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Apply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sum of voltage drops 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048120" y="3235320"/>
                <a:ext cx="594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4130640"/>
            <a:ext cx="44478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Use Ohm’s Law to ex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 in terms of the “loop current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96960" y="4648320"/>
                <a:ext cx="6161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28560" y="5400720"/>
            <a:ext cx="49813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ULT IS ONE EQUATION IN THE LOOP CURRE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000" y="5730840"/>
            <a:ext cx="103428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8120" y="3886200"/>
            <a:ext cx="5790960" cy="379440"/>
            <a:chOff x="3048120" y="3886200"/>
            <a:chExt cx="5790960" cy="379440"/>
          </a:xfrm>
        </p:grpSpPr>
        <p:sp>
          <p:nvSpPr>
            <p:cNvPr id="67" name=""/>
            <p:cNvSpPr/>
            <p:nvPr/>
          </p:nvSpPr>
          <p:spPr>
            <a:xfrm>
              <a:off x="3048120" y="3886200"/>
              <a:ext cx="5790960" cy="0"/>
            </a:xfrm>
            <a:prstGeom prst="line">
              <a:avLst/>
            </a:prstGeom>
            <a:ln w="34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5640" y="3897360"/>
              <a:ext cx="22489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Skip this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09480" y="4987800"/>
            <a:ext cx="8193600" cy="642600"/>
            <a:chOff x="609480" y="4987800"/>
            <a:chExt cx="8193600" cy="642600"/>
          </a:xfrm>
        </p:grpSpPr>
        <p:sp>
          <p:nvSpPr>
            <p:cNvPr id="70" name=""/>
            <p:cNvSpPr/>
            <p:nvPr/>
          </p:nvSpPr>
          <p:spPr>
            <a:xfrm>
              <a:off x="609480" y="5334120"/>
              <a:ext cx="6248520" cy="0"/>
            </a:xfrm>
            <a:prstGeom prst="line">
              <a:avLst/>
            </a:prstGeom>
            <a:ln w="34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1360" y="4987800"/>
              <a:ext cx="1791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Write this 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direct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9480" y="685800"/>
            <a:ext cx="2525400" cy="1447920"/>
            <a:chOff x="609480" y="685800"/>
            <a:chExt cx="2525400" cy="1447920"/>
          </a:xfrm>
        </p:grpSpPr>
        <p:sp>
          <p:nvSpPr>
            <p:cNvPr id="73" name=""/>
            <p:cNvSpPr/>
            <p:nvPr/>
          </p:nvSpPr>
          <p:spPr>
            <a:xfrm>
              <a:off x="761760" y="1981440"/>
              <a:ext cx="152280" cy="15228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742840" y="685800"/>
              <a:ext cx="239760" cy="457200"/>
              <a:chOff x="2742840" y="685800"/>
              <a:chExt cx="239760" cy="4572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2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" name=""/>
                  <p:cNvSpPr txBox="1"/>
                  <p:nvPr/>
                </p:nvSpPr>
                <p:spPr>
                  <a:xfrm>
                    <a:off x="2742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" name=""/>
            <p:cNvGrpSpPr/>
            <p:nvPr/>
          </p:nvGrpSpPr>
          <p:grpSpPr>
            <a:xfrm>
              <a:off x="1599840" y="685800"/>
              <a:ext cx="239760" cy="457200"/>
              <a:chOff x="1599840" y="685800"/>
              <a:chExt cx="239760" cy="457200"/>
            </a:xfrm>
          </p:grpSpPr>
          <p:sp>
            <p:nvSpPr>
              <p:cNvPr id="78" name=""/>
              <p:cNvSpPr/>
              <p:nvPr/>
            </p:nvSpPr>
            <p:spPr>
              <a:xfrm>
                <a:off x="1599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1599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0" name=""/>
            <p:cNvGrpSpPr/>
            <p:nvPr/>
          </p:nvGrpSpPr>
          <p:grpSpPr>
            <a:xfrm>
              <a:off x="609480" y="762120"/>
              <a:ext cx="304200" cy="380880"/>
              <a:chOff x="609480" y="762120"/>
              <a:chExt cx="304200" cy="380880"/>
            </a:xfrm>
          </p:grpSpPr>
          <p:sp>
            <p:nvSpPr>
              <p:cNvPr id="81" name=""/>
              <p:cNvSpPr/>
              <p:nvPr/>
            </p:nvSpPr>
            <p:spPr>
              <a:xfrm>
                <a:off x="761760" y="990720"/>
                <a:ext cx="15192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" name=""/>
                  <p:cNvSpPr txBox="1"/>
                  <p:nvPr/>
                </p:nvSpPr>
                <p:spPr>
                  <a:xfrm>
                    <a:off x="609480" y="76212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3" name=""/>
            <p:cNvGrpSpPr/>
            <p:nvPr/>
          </p:nvGrpSpPr>
          <p:grpSpPr>
            <a:xfrm>
              <a:off x="2742840" y="1828800"/>
              <a:ext cx="392040" cy="304920"/>
              <a:chOff x="2742840" y="1828800"/>
              <a:chExt cx="392040" cy="304920"/>
            </a:xfrm>
          </p:grpSpPr>
          <p:sp>
            <p:nvSpPr>
              <p:cNvPr id="84" name=""/>
              <p:cNvSpPr/>
              <p:nvPr/>
            </p:nvSpPr>
            <p:spPr>
              <a:xfrm>
                <a:off x="2742840" y="198144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289512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8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380880" y="685800"/>
                <a:ext cx="1943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540360" y="19368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OLVE USING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720" y="212256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T IN MATRIX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80880" y="2666880"/>
                <a:ext cx="335304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636800" y="65160"/>
            <a:ext cx="3191400" cy="2540880"/>
            <a:chOff x="4636800" y="65160"/>
            <a:chExt cx="3191400" cy="2540880"/>
          </a:xfrm>
        </p:grpSpPr>
        <p:sp>
          <p:nvSpPr>
            <p:cNvPr id="620" name=""/>
            <p:cNvSpPr/>
            <p:nvPr/>
          </p:nvSpPr>
          <p:spPr>
            <a:xfrm>
              <a:off x="5382720" y="380880"/>
              <a:ext cx="2445480" cy="2225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R=[1,0,0,0;  %FIRST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,1, -1, 0;  %SECOND 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1,3,-2;  %THIRD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-1,-1,2] %FOURTH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0     0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    -1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 1     3    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-1    -1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36800" y="6516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MATR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63000" y="2579760"/>
            <a:ext cx="4204080" cy="2114640"/>
            <a:chOff x="4563000" y="2579760"/>
            <a:chExt cx="4204080" cy="2114640"/>
          </a:xfrm>
        </p:grpSpPr>
        <p:sp>
          <p:nvSpPr>
            <p:cNvPr id="623" name=""/>
            <p:cNvSpPr/>
            <p:nvPr/>
          </p:nvSpPr>
          <p:spPr>
            <a:xfrm>
              <a:off x="4563000" y="2579760"/>
              <a:ext cx="420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RIGHT HAND SIDE 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35120" y="2895480"/>
              <a:ext cx="1334520" cy="1798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V=[4;0;8;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-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2449440" y="625320"/>
            <a:ext cx="23144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ce we di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k the RHS is m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l the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355280" y="4724280"/>
            <a:ext cx="4025160" cy="1798920"/>
            <a:chOff x="4355280" y="4724280"/>
            <a:chExt cx="4025160" cy="1798920"/>
          </a:xfrm>
        </p:grpSpPr>
        <p:grpSp>
          <p:nvGrpSpPr>
            <p:cNvPr id="627" name=""/>
            <p:cNvGrpSpPr/>
            <p:nvPr/>
          </p:nvGrpSpPr>
          <p:grpSpPr>
            <a:xfrm>
              <a:off x="4355280" y="4724280"/>
              <a:ext cx="4025160" cy="1798920"/>
              <a:chOff x="4355280" y="4724280"/>
              <a:chExt cx="4025160" cy="1798920"/>
            </a:xfrm>
          </p:grpSpPr>
          <p:sp>
            <p:nvSpPr>
              <p:cNvPr id="628" name=""/>
              <p:cNvSpPr/>
              <p:nvPr/>
            </p:nvSpPr>
            <p:spPr>
              <a:xfrm>
                <a:off x="4355280" y="4724280"/>
                <a:ext cx="3106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OLVE AND GET THE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5760" y="4724280"/>
                <a:ext cx="814680" cy="17989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» I=R\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I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888800" y="5197320"/>
              <a:ext cx="24210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answers are in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4840" y="4359240"/>
            <a:ext cx="338112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&gt;&gt; is the MATLAB prompt. W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llows is the command en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7880" y="41400"/>
            <a:ext cx="52556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: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43880" y="2590920"/>
            <a:ext cx="7008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one more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97280" y="4121280"/>
            <a:ext cx="1689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solv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80120" y="5943600"/>
            <a:ext cx="383832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selection of loop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mplifies expression for V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computation of V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0" y="380880"/>
          <a:ext cx="45720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6884280" y="213372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380880"/>
          <a:ext cx="4572000" cy="19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 flipV="1">
            <a:off x="2362320" y="16761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20480" y="214956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07080" y="3048120"/>
            <a:ext cx="7846200" cy="322920"/>
            <a:chOff x="307080" y="3048120"/>
            <a:chExt cx="7846200" cy="322920"/>
          </a:xfrm>
        </p:grpSpPr>
        <p:grpSp>
          <p:nvGrpSpPr>
            <p:cNvPr id="647" name=""/>
            <p:cNvGrpSpPr/>
            <p:nvPr/>
          </p:nvGrpSpPr>
          <p:grpSpPr>
            <a:xfrm>
              <a:off x="307080" y="3062160"/>
              <a:ext cx="3579120" cy="308880"/>
              <a:chOff x="307080" y="3062160"/>
              <a:chExt cx="3579120" cy="308880"/>
            </a:xfrm>
          </p:grpSpPr>
          <p:sp>
            <p:nvSpPr>
              <p:cNvPr id="648" name=""/>
              <p:cNvSpPr/>
              <p:nvPr/>
            </p:nvSpPr>
            <p:spPr>
              <a:xfrm>
                <a:off x="307080" y="306396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9" name=""/>
                  <p:cNvSpPr txBox="1"/>
                  <p:nvPr/>
                </p:nvSpPr>
                <p:spPr>
                  <a:xfrm>
                    <a:off x="1143000" y="306216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0" name=""/>
            <p:cNvGrpSpPr/>
            <p:nvPr/>
          </p:nvGrpSpPr>
          <p:grpSpPr>
            <a:xfrm>
              <a:off x="4590000" y="3048120"/>
              <a:ext cx="3563280" cy="307080"/>
              <a:chOff x="4590000" y="3048120"/>
              <a:chExt cx="3563280" cy="307080"/>
            </a:xfrm>
          </p:grpSpPr>
          <p:sp>
            <p:nvSpPr>
              <p:cNvPr id="651" name=""/>
              <p:cNvSpPr/>
              <p:nvPr/>
            </p:nvSpPr>
            <p:spPr>
              <a:xfrm>
                <a:off x="4590000" y="304812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2" name=""/>
                  <p:cNvSpPr txBox="1"/>
                  <p:nvPr/>
                </p:nvSpPr>
                <p:spPr>
                  <a:xfrm>
                    <a:off x="5410080" y="304812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3" name=""/>
          <p:cNvGrpSpPr/>
          <p:nvPr/>
        </p:nvGrpSpPr>
        <p:grpSpPr>
          <a:xfrm>
            <a:off x="322920" y="3282840"/>
            <a:ext cx="8160840" cy="453240"/>
            <a:chOff x="322920" y="3282840"/>
            <a:chExt cx="8160840" cy="4532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55" name=""/>
            <p:cNvGrpSpPr/>
            <p:nvPr/>
          </p:nvGrpSpPr>
          <p:grpSpPr>
            <a:xfrm>
              <a:off x="322920" y="3429000"/>
              <a:ext cx="3334680" cy="307080"/>
              <a:chOff x="322920" y="3429000"/>
              <a:chExt cx="3334680" cy="307080"/>
            </a:xfrm>
          </p:grpSpPr>
          <p:sp>
            <p:nvSpPr>
              <p:cNvPr id="656" name=""/>
              <p:cNvSpPr/>
              <p:nvPr/>
            </p:nvSpPr>
            <p:spPr>
              <a:xfrm>
                <a:off x="32292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7" name=""/>
                  <p:cNvSpPr txBox="1"/>
                  <p:nvPr/>
                </p:nvSpPr>
                <p:spPr>
                  <a:xfrm>
                    <a:off x="1155600" y="3429000"/>
                    <a:ext cx="25020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8" name=""/>
            <p:cNvGrpSpPr/>
            <p:nvPr/>
          </p:nvGrpSpPr>
          <p:grpSpPr>
            <a:xfrm>
              <a:off x="4590000" y="3429000"/>
              <a:ext cx="3893760" cy="307080"/>
              <a:chOff x="4590000" y="3429000"/>
              <a:chExt cx="3893760" cy="307080"/>
            </a:xfrm>
          </p:grpSpPr>
          <p:sp>
            <p:nvSpPr>
              <p:cNvPr id="659" name=""/>
              <p:cNvSpPr/>
              <p:nvPr/>
            </p:nvSpPr>
            <p:spPr>
              <a:xfrm>
                <a:off x="459000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0" name=""/>
                  <p:cNvSpPr txBox="1"/>
                  <p:nvPr/>
                </p:nvSpPr>
                <p:spPr>
                  <a:xfrm>
                    <a:off x="5410080" y="3429000"/>
                    <a:ext cx="3073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61" name=""/>
          <p:cNvGrpSpPr/>
          <p:nvPr/>
        </p:nvGrpSpPr>
        <p:grpSpPr>
          <a:xfrm>
            <a:off x="1055160" y="3772080"/>
            <a:ext cx="7541640" cy="633240"/>
            <a:chOff x="1055160" y="3772080"/>
            <a:chExt cx="7541640" cy="633240"/>
          </a:xfrm>
        </p:grpSpPr>
        <p:sp>
          <p:nvSpPr>
            <p:cNvPr id="662" name=""/>
            <p:cNvSpPr/>
            <p:nvPr/>
          </p:nvSpPr>
          <p:spPr>
            <a:xfrm>
              <a:off x="1055160" y="3772080"/>
              <a:ext cx="7541640" cy="3070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W WE EXPRESS THE CONTROLLING VARIABL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TERMS OF THE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791320" y="411480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1752480" y="411480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1765440" y="4495680"/>
            <a:ext cx="5765760" cy="648000"/>
            <a:chOff x="1765440" y="4495680"/>
            <a:chExt cx="5765760" cy="64800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1765440" y="4495680"/>
                  <a:ext cx="16635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"/>
            <p:cNvSpPr/>
            <p:nvPr/>
          </p:nvSpPr>
          <p:spPr>
            <a:xfrm>
              <a:off x="3456720" y="449568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943600" y="4495680"/>
                  <a:ext cx="15876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685800" y="5181480"/>
            <a:ext cx="8077320" cy="671760"/>
            <a:chOff x="685800" y="5181480"/>
            <a:chExt cx="8077320" cy="671760"/>
          </a:xfrm>
        </p:grpSpPr>
        <mc:AlternateContent>
          <mc:Choice xmlns:a14="http://schemas.microsoft.com/office/drawing/2010/main" Requires="a14">
            <p:sp>
              <p:nvSpPr>
                <p:cNvPr id="670" name=""/>
                <p:cNvSpPr txBox="1"/>
                <p:nvPr/>
              </p:nvSpPr>
              <p:spPr>
                <a:xfrm>
                  <a:off x="685800" y="51814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489720" y="5181480"/>
                  <a:ext cx="2273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4020480" y="523224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3809880" y="5562720"/>
                  <a:ext cx="1587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4" name=""/>
          <p:cNvSpPr/>
          <p:nvPr/>
        </p:nvSpPr>
        <p:spPr>
          <a:xfrm>
            <a:off x="112680" y="5915160"/>
            <a:ext cx="39146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ICE THE DIFFERENCE BETWEEN ME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I1 AND LOOP CURRENT I1 E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UGH THEY ARE ASSOCIATED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43720" y="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ind 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0" y="457200"/>
          <a:ext cx="47242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724280" cy="2666880"/>
                  </a:xfrm>
                  <a:prstGeom prst="rect">
                    <a:avLst/>
                  </a:prstGeom>
                  <a:ln w="381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43360" y="141120"/>
            <a:ext cx="773964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PENDENT CURRENT SOURCE. CURRENT SOURCES NOT SHARED BY ME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7560" y="3048120"/>
            <a:ext cx="4447800" cy="58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4800600"/>
            <a:ext cx="4230000" cy="995400"/>
            <a:chOff x="0" y="4800600"/>
            <a:chExt cx="4230000" cy="995400"/>
          </a:xfrm>
        </p:grpSpPr>
        <p:sp>
          <p:nvSpPr>
            <p:cNvPr id="684" name=""/>
            <p:cNvSpPr/>
            <p:nvPr/>
          </p:nvSpPr>
          <p:spPr>
            <a:xfrm>
              <a:off x="25920" y="4800600"/>
              <a:ext cx="420408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KVL on the remaining loop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5" name=""/>
            <p:cNvGraphicFramePr/>
            <p:nvPr/>
          </p:nvGraphicFramePr>
          <p:xfrm>
            <a:off x="0" y="5181480"/>
            <a:ext cx="3811680" cy="61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3811680" cy="6145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7" name=""/>
          <p:cNvGrpSpPr/>
          <p:nvPr/>
        </p:nvGrpSpPr>
        <p:grpSpPr>
          <a:xfrm>
            <a:off x="26640" y="5753160"/>
            <a:ext cx="4691880" cy="1104840"/>
            <a:chOff x="26640" y="5753160"/>
            <a:chExt cx="4691880" cy="1104840"/>
          </a:xfrm>
        </p:grpSpPr>
        <p:sp>
          <p:nvSpPr>
            <p:cNvPr id="688" name=""/>
            <p:cNvSpPr/>
            <p:nvPr/>
          </p:nvSpPr>
          <p:spPr>
            <a:xfrm>
              <a:off x="26640" y="5753160"/>
              <a:ext cx="4691880" cy="5806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express the controlling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Vx, in terms of loop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9" name=""/>
            <p:cNvGraphicFramePr/>
            <p:nvPr/>
          </p:nvGraphicFramePr>
          <p:xfrm>
            <a:off x="1523880" y="6362640"/>
            <a:ext cx="1828800" cy="4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6362640"/>
                      <a:ext cx="1828800" cy="49536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91" name=""/>
          <p:cNvGrpSpPr/>
          <p:nvPr/>
        </p:nvGrpSpPr>
        <p:grpSpPr>
          <a:xfrm>
            <a:off x="40320" y="3733920"/>
            <a:ext cx="4554720" cy="1054080"/>
            <a:chOff x="40320" y="3733920"/>
            <a:chExt cx="4554720" cy="1054080"/>
          </a:xfrm>
        </p:grpSpPr>
        <p:graphicFrame>
          <p:nvGraphicFramePr>
            <p:cNvPr id="692" name=""/>
            <p:cNvGraphicFramePr/>
            <p:nvPr/>
          </p:nvGraphicFramePr>
          <p:xfrm>
            <a:off x="304920" y="4081680"/>
            <a:ext cx="15238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081680"/>
                      <a:ext cx="1523880" cy="7063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"/>
            <p:cNvGraphicFramePr/>
            <p:nvPr/>
          </p:nvGraphicFramePr>
          <p:xfrm>
            <a:off x="1905120" y="4178520"/>
            <a:ext cx="1523880" cy="473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5120" y="4178520"/>
                      <a:ext cx="1523880" cy="47304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96" name=""/>
            <p:cNvSpPr/>
            <p:nvPr/>
          </p:nvSpPr>
          <p:spPr>
            <a:xfrm>
              <a:off x="40320" y="3733920"/>
              <a:ext cx="45547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quations for meshes with 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972320" y="54936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RE ASKED FOR Vo. WE ONLY 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SOLVE FOR 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105520" y="1158840"/>
            <a:ext cx="3365280" cy="1112760"/>
            <a:chOff x="5105520" y="1158840"/>
            <a:chExt cx="3365280" cy="1112760"/>
          </a:xfrm>
        </p:grpSpPr>
        <p:sp>
          <p:nvSpPr>
            <p:cNvPr id="699" name=""/>
            <p:cNvSpPr/>
            <p:nvPr/>
          </p:nvSpPr>
          <p:spPr>
            <a:xfrm>
              <a:off x="5346000" y="115884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105520" y="1600200"/>
                  <a:ext cx="33652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"/>
          <p:cNvGrpSpPr/>
          <p:nvPr/>
        </p:nvGrpSpPr>
        <p:grpSpPr>
          <a:xfrm>
            <a:off x="3811680" y="2362320"/>
            <a:ext cx="4481280" cy="3125520"/>
            <a:chOff x="3811680" y="2362320"/>
            <a:chExt cx="4481280" cy="3125520"/>
          </a:xfrm>
        </p:grpSpPr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5562720" y="2362320"/>
                  <a:ext cx="2730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3" name=""/>
            <p:cNvSpPr/>
            <p:nvPr/>
          </p:nvSpPr>
          <p:spPr>
            <a:xfrm>
              <a:off x="3811680" y="2668680"/>
              <a:ext cx="1676160" cy="2819160"/>
            </a:xfrm>
            <a:custGeom>
              <a:avLst/>
              <a:gdLst/>
              <a:ahLst/>
              <a:rect l="l" t="t" r="r" b="b"/>
              <a:pathLst>
                <a:path w="1056" h="1776">
                  <a:moveTo>
                    <a:pt x="0" y="1776"/>
                  </a:moveTo>
                  <a:lnTo>
                    <a:pt x="768" y="1776"/>
                  </a:lnTo>
                  <a:lnTo>
                    <a:pt x="864" y="0"/>
                  </a:lnTo>
                  <a:lnTo>
                    <a:pt x="1056" y="0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5943600" y="3200400"/>
                <a:ext cx="1727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1073160" y="722160"/>
          <a:ext cx="73850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22160"/>
                    <a:ext cx="7385040" cy="2935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2533680" y="95400"/>
          <a:ext cx="41180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3680" y="95400"/>
                    <a:ext cx="4118040" cy="6476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12" name=""/>
          <p:cNvGrpSpPr/>
          <p:nvPr/>
        </p:nvGrpSpPr>
        <p:grpSpPr>
          <a:xfrm>
            <a:off x="3048120" y="1752480"/>
            <a:ext cx="914400" cy="1143000"/>
            <a:chOff x="3048120" y="1752480"/>
            <a:chExt cx="914400" cy="1143000"/>
          </a:xfrm>
        </p:grpSpPr>
        <p:sp>
          <p:nvSpPr>
            <p:cNvPr id="713" name=""/>
            <p:cNvSpPr/>
            <p:nvPr/>
          </p:nvSpPr>
          <p:spPr>
            <a:xfrm>
              <a:off x="3048120" y="175248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720"/>
                  </a:moveTo>
                  <a:lnTo>
                    <a:pt x="0" y="0"/>
                  </a:lnTo>
                  <a:lnTo>
                    <a:pt x="576" y="0"/>
                  </a:lnTo>
                  <a:lnTo>
                    <a:pt x="576" y="720"/>
                  </a:lnTo>
                  <a:lnTo>
                    <a:pt x="144" y="72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3657600" y="2438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5" name=""/>
          <p:cNvSpPr/>
          <p:nvPr/>
        </p:nvSpPr>
        <p:spPr>
          <a:xfrm>
            <a:off x="101880" y="3825720"/>
            <a:ext cx="21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95680" y="1752480"/>
            <a:ext cx="1295640" cy="1295640"/>
            <a:chOff x="4495680" y="1752480"/>
            <a:chExt cx="1295640" cy="1295640"/>
          </a:xfrm>
        </p:grpSpPr>
        <p:sp>
          <p:nvSpPr>
            <p:cNvPr id="717" name=""/>
            <p:cNvSpPr/>
            <p:nvPr/>
          </p:nvSpPr>
          <p:spPr>
            <a:xfrm>
              <a:off x="4495680" y="1752480"/>
              <a:ext cx="1295640" cy="129564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76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816"/>
                  </a:lnTo>
                  <a:lnTo>
                    <a:pt x="192" y="81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486400" y="2590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104040" y="423396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MESH EQ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76320" y="501156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2: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111600" y="538164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LING VARIABLE IN TERM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76320" y="59580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76320" y="46432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1: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5117400" y="382572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PLACE AND REAR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5562720" y="41911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111640" y="4968720"/>
            <a:ext cx="14608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562720" y="527220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638680" y="579132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5480" y="2556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OOPS, MESHES AND LOOP CUR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5560" y="749160"/>
            <a:ext cx="1887480" cy="115956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ACH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CHARACTER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TS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CROSS AND 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0720" y="2454120"/>
            <a:ext cx="41277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IS A CLOSED PATH THA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O TWICE OVER ANY N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IRCUIT HAS THREE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6440" y="533520"/>
          <a:ext cx="23781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5335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96920" y="533520"/>
            <a:ext cx="2781360" cy="3142080"/>
            <a:chOff x="196920" y="533520"/>
            <a:chExt cx="2781360" cy="3142080"/>
          </a:xfrm>
        </p:grpSpPr>
        <p:sp>
          <p:nvSpPr>
            <p:cNvPr id="95" name=""/>
            <p:cNvSpPr/>
            <p:nvPr/>
          </p:nvSpPr>
          <p:spPr>
            <a:xfrm>
              <a:off x="196920" y="53352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3368520"/>
              <a:ext cx="92736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cd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4960" y="374976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IS A LOOP THAT DOES NOT ENCL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OTHER LOO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abef, ebcde ARE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5920" y="458784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CURRENT IS A (FICTICIOUS)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ASSUMED TO FLOW AROUND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5880" y="990720"/>
            <a:ext cx="758880" cy="2689920"/>
            <a:chOff x="245880" y="990720"/>
            <a:chExt cx="758880" cy="2689920"/>
          </a:xfrm>
        </p:grpSpPr>
        <p:sp>
          <p:nvSpPr>
            <p:cNvPr id="100" name=""/>
            <p:cNvSpPr/>
            <p:nvPr/>
          </p:nvSpPr>
          <p:spPr>
            <a:xfrm>
              <a:off x="623880" y="99072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336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5880" y="3373560"/>
              <a:ext cx="7142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12920" y="990720"/>
            <a:ext cx="714240" cy="2684880"/>
            <a:chOff x="1312920" y="990720"/>
            <a:chExt cx="714240" cy="2684880"/>
          </a:xfrm>
        </p:grpSpPr>
        <p:sp>
          <p:nvSpPr>
            <p:cNvPr id="103" name=""/>
            <p:cNvSpPr/>
            <p:nvPr/>
          </p:nvSpPr>
          <p:spPr>
            <a:xfrm>
              <a:off x="1463760" y="9907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96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2920" y="3368520"/>
              <a:ext cx="714240" cy="307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bc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00200" y="1157400"/>
            <a:ext cx="1204920" cy="1128600"/>
            <a:chOff x="700200" y="1157400"/>
            <a:chExt cx="1204920" cy="11286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00200" y="115740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90920" y="11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182960" y="199548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0600" y="518148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 LOOP CURREN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14120" y="5562720"/>
            <a:ext cx="41277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CURRENT IS A LOOP CURR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SOCIATED TO A MESH. I1, I2 ARE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1960" y="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CLAIM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 CIRCUIT, THE 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COMPONENT CAN BE EXPRESSED IN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LOOP CURR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0" y="3048120"/>
          <a:ext cx="237816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481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11600" y="2225520"/>
            <a:ext cx="44481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FACT: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NOT EVERY LOOP CURREN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COMPUTE ALL THE CURRENTS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05520" y="3581280"/>
            <a:ext cx="380880" cy="533520"/>
            <a:chOff x="5105520" y="3581280"/>
            <a:chExt cx="380880" cy="533520"/>
          </a:xfrm>
        </p:grpSpPr>
        <p:sp>
          <p:nvSpPr>
            <p:cNvPr id="116" name=""/>
            <p:cNvSpPr/>
            <p:nvPr/>
          </p:nvSpPr>
          <p:spPr>
            <a:xfrm>
              <a:off x="5105520" y="3581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288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181480" y="3581280"/>
                  <a:ext cx="22860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4648320" y="3062160"/>
            <a:ext cx="2368440" cy="1890720"/>
            <a:chOff x="4648320" y="3062160"/>
            <a:chExt cx="2368440" cy="1890720"/>
          </a:xfrm>
        </p:grpSpPr>
        <p:sp>
          <p:nvSpPr>
            <p:cNvPr id="119" name=""/>
            <p:cNvSpPr/>
            <p:nvPr/>
          </p:nvSpPr>
          <p:spPr>
            <a:xfrm>
              <a:off x="4648320" y="306216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705720" y="4509720"/>
                  <a:ext cx="23976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226280" y="2870280"/>
                <a:ext cx="176544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W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4578480" y="762120"/>
            <a:ext cx="4242960" cy="1434960"/>
            <a:chOff x="4578480" y="762120"/>
            <a:chExt cx="4242960" cy="143496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4578480" y="762120"/>
                  <a:ext cx="134604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EXAMPLES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5973840" y="777960"/>
              <a:ext cx="28476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DIRECTION OF THE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S IS SIGNIFIC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6120" y="5273640"/>
            <a:ext cx="4127760" cy="1372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VERY CIRCUIT THERE IS A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UMBER OF LOOP CURRENTS THAT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ECESSARY TO COMPUTE EVER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CH A COLLECTION IS CALLED A MIN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(OF LOOP CURRENT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64320" y="320760"/>
            <a:ext cx="3487680" cy="1563480"/>
            <a:chOff x="364320" y="320760"/>
            <a:chExt cx="3487680" cy="1563480"/>
          </a:xfrm>
        </p:grpSpPr>
        <p:sp>
          <p:nvSpPr>
            <p:cNvPr id="130" name=""/>
            <p:cNvSpPr/>
            <p:nvPr/>
          </p:nvSpPr>
          <p:spPr>
            <a:xfrm>
              <a:off x="635400" y="320760"/>
              <a:ext cx="3015360" cy="733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 A GIVEN CIRCUIT 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N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4320" y="1066680"/>
              <a:ext cx="348768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MINIMUM REQUIRED NUMBER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295280" y="1600200"/>
                  <a:ext cx="14353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" name=""/>
          <p:cNvSpPr/>
          <p:nvPr/>
        </p:nvSpPr>
        <p:spPr>
          <a:xfrm>
            <a:off x="189360" y="2133720"/>
            <a:ext cx="40212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ARE ALWAYS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2655720"/>
            <a:ext cx="4015080" cy="2424240"/>
            <a:chOff x="152280" y="2655720"/>
            <a:chExt cx="4015080" cy="2424240"/>
          </a:xfrm>
        </p:grpSpPr>
        <p:graphicFrame>
          <p:nvGraphicFramePr>
            <p:cNvPr id="135" name=""/>
            <p:cNvGraphicFramePr/>
            <p:nvPr/>
          </p:nvGraphicFramePr>
          <p:xfrm>
            <a:off x="228600" y="2819520"/>
            <a:ext cx="3938760" cy="226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19520"/>
                      <a:ext cx="3938760" cy="22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52280" y="2655720"/>
              <a:ext cx="14000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6320" y="5159520"/>
            <a:ext cx="4389480" cy="1372680"/>
            <a:chOff x="76320" y="5159520"/>
            <a:chExt cx="4389480" cy="137268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76320" y="5388120"/>
                  <a:ext cx="16128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1724760" y="5159520"/>
              <a:ext cx="2741040" cy="1372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WO LOOP CURRENT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URRENTS SHOWN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CURRENTS. H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Y ARE INDEPENDENT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M A MINIMAL 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19600" y="523800"/>
            <a:ext cx="3164040" cy="722520"/>
            <a:chOff x="4719600" y="523800"/>
            <a:chExt cx="3164040" cy="722520"/>
          </a:xfrm>
        </p:grpSpPr>
        <p:sp>
          <p:nvSpPr>
            <p:cNvPr id="142" name=""/>
            <p:cNvSpPr/>
            <p:nvPr/>
          </p:nvSpPr>
          <p:spPr>
            <a:xfrm>
              <a:off x="4728240" y="523800"/>
              <a:ext cx="18874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LEF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4719600" y="828720"/>
            <a:ext cx="3164040" cy="4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19600" y="828720"/>
                      <a:ext cx="3164040" cy="417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719600" y="1371600"/>
            <a:ext cx="3610080" cy="822240"/>
            <a:chOff x="4719600" y="1371600"/>
            <a:chExt cx="3610080" cy="822240"/>
          </a:xfrm>
        </p:grpSpPr>
        <p:sp>
          <p:nvSpPr>
            <p:cNvPr id="146" name=""/>
            <p:cNvSpPr/>
            <p:nvPr/>
          </p:nvSpPr>
          <p:spPr>
            <a:xfrm>
              <a:off x="4728960" y="1371600"/>
              <a:ext cx="1994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RIGH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 rot="10800000">
            <a:off x="4719600" y="1720440"/>
            <a:ext cx="3610080" cy="473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10800000">
                      <a:off x="4719600" y="1720440"/>
                      <a:ext cx="3610080" cy="47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719600" y="2320920"/>
            <a:ext cx="4195800" cy="974880"/>
            <a:chOff x="4719600" y="2320920"/>
            <a:chExt cx="4195800" cy="974880"/>
          </a:xfrm>
        </p:grpSpPr>
        <p:sp>
          <p:nvSpPr>
            <p:cNvPr id="150" name=""/>
            <p:cNvSpPr/>
            <p:nvPr/>
          </p:nvSpPr>
          <p:spPr>
            <a:xfrm>
              <a:off x="4727520" y="232092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 rot="10800000">
            <a:off x="4719600" y="2609280"/>
            <a:ext cx="4195800" cy="33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4719600" y="2609280"/>
                      <a:ext cx="4195800" cy="33948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405400" y="3002040"/>
            <a:ext cx="2652840" cy="29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5400" y="3002040"/>
                      <a:ext cx="2652840" cy="29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4716360" y="3421080"/>
            <a:ext cx="3900600" cy="1258920"/>
            <a:chOff x="4716360" y="3421080"/>
            <a:chExt cx="3900600" cy="1258920"/>
          </a:xfrm>
        </p:grpSpPr>
        <p:graphicFrame>
          <p:nvGraphicFramePr>
            <p:cNvPr id="156" name=""/>
            <p:cNvGraphicFramePr/>
            <p:nvPr/>
          </p:nvGraphicFramePr>
          <p:xfrm>
            <a:off x="4716360" y="3710160"/>
            <a:ext cx="3900600" cy="969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6360" y="3710160"/>
                      <a:ext cx="3900600" cy="969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4734000" y="3421080"/>
              <a:ext cx="2847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ING AND REARR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703760" y="4807080"/>
            <a:ext cx="4419720" cy="1120320"/>
            <a:chOff x="4703760" y="4807080"/>
            <a:chExt cx="4419720" cy="1120320"/>
          </a:xfrm>
        </p:grpSpPr>
        <p:graphicFrame>
          <p:nvGraphicFramePr>
            <p:cNvPr id="160" name=""/>
            <p:cNvGraphicFramePr/>
            <p:nvPr/>
          </p:nvGraphicFramePr>
          <p:xfrm rot="10800000">
            <a:off x="4703760" y="5095440"/>
            <a:ext cx="4419720" cy="83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 rot="10800000">
                      <a:off x="4703760" y="5095440"/>
                      <a:ext cx="4419720" cy="831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4726800" y="4807080"/>
              <a:ext cx="16743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IN MATRIX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59160" y="5934240"/>
            <a:ext cx="35946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SE ARE LOOP EQUATIONS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92160"/>
            <a:ext cx="3381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TERMINATION OF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8520" y="4011480"/>
            <a:ext cx="286308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VL ON EACH 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62360" y="611280"/>
          <a:ext cx="33098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611280"/>
                    <a:ext cx="3309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0720" y="0"/>
            <a:ext cx="6078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BY DOING: WRIT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THE MESH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960" y="3630600"/>
            <a:ext cx="335052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DENTIFY ALL VOLTAGE D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846520" y="380880"/>
            <a:ext cx="3402000" cy="3414600"/>
            <a:chOff x="2846520" y="380880"/>
            <a:chExt cx="3402000" cy="341460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599360" y="3504960"/>
                  <a:ext cx="74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5" name=""/>
            <p:cNvGrpSpPr/>
            <p:nvPr/>
          </p:nvGrpSpPr>
          <p:grpSpPr>
            <a:xfrm>
              <a:off x="2846520" y="380880"/>
              <a:ext cx="3402000" cy="2959200"/>
              <a:chOff x="2846520" y="380880"/>
              <a:chExt cx="3402000" cy="2959200"/>
            </a:xfrm>
          </p:grpSpPr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4065840" y="380880"/>
                    <a:ext cx="722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7" name=""/>
                  <p:cNvSpPr txBox="1"/>
                  <p:nvPr/>
                </p:nvSpPr>
                <p:spPr>
                  <a:xfrm>
                    <a:off x="4065840" y="2209680"/>
                    <a:ext cx="749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5894640" y="2286000"/>
                    <a:ext cx="35388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9" name=""/>
                  <p:cNvSpPr txBox="1"/>
                  <p:nvPr/>
                </p:nvSpPr>
                <p:spPr>
                  <a:xfrm>
                    <a:off x="2846520" y="2514600"/>
                    <a:ext cx="35424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0" name=""/>
          <p:cNvGrpSpPr/>
          <p:nvPr/>
        </p:nvGrpSpPr>
        <p:grpSpPr>
          <a:xfrm>
            <a:off x="277200" y="828720"/>
            <a:ext cx="2741040" cy="1053360"/>
            <a:chOff x="277200" y="828720"/>
            <a:chExt cx="2741040" cy="1053360"/>
          </a:xfrm>
        </p:grpSpPr>
        <p:sp>
          <p:nvSpPr>
            <p:cNvPr id="181" name=""/>
            <p:cNvSpPr/>
            <p:nvPr/>
          </p:nvSpPr>
          <p:spPr>
            <a:xfrm>
              <a:off x="285480" y="828720"/>
              <a:ext cx="14608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BOOKKEE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RANCHES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DES    =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7200" y="1575000"/>
              <a:ext cx="2741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NEEDED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09680" y="441972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P MESH: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09680" y="4800600"/>
                <a:ext cx="405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TTOM: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2244600" y="5580000"/>
          <a:ext cx="42944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4600" y="5580000"/>
                    <a:ext cx="4294440" cy="654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267280" y="5257800"/>
            <a:ext cx="15674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06880" y="380880"/>
            <a:ext cx="3651120" cy="3414960"/>
            <a:chOff x="3206880" y="380880"/>
            <a:chExt cx="3651120" cy="341496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807080" y="380880"/>
                  <a:ext cx="544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261120" y="25909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16560" y="3505320"/>
                  <a:ext cx="736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4819680" y="220968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206880" y="274320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0000" y="2073240"/>
            <a:ext cx="24210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WE ARE TOL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MESH CURREN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DEFINES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666880" y="442800"/>
          <a:ext cx="38530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42800"/>
                    <a:ext cx="3853080" cy="2530440"/>
                  </a:xfrm>
                  <a:prstGeom prst="rect">
                    <a:avLst/>
                  </a:prstGeom>
                  <a:ln w="349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3505320" y="1523880"/>
            <a:ext cx="609480" cy="685800"/>
            <a:chOff x="3505320" y="1523880"/>
            <a:chExt cx="609480" cy="685800"/>
          </a:xfrm>
        </p:grpSpPr>
        <p:sp>
          <p:nvSpPr>
            <p:cNvPr id="201" name=""/>
            <p:cNvSpPr/>
            <p:nvPr/>
          </p:nvSpPr>
          <p:spPr>
            <a:xfrm>
              <a:off x="3505320" y="15238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32"/>
                  </a:lnTo>
                  <a:lnTo>
                    <a:pt x="144" y="43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58164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4572000" y="1600200"/>
            <a:ext cx="761760" cy="685800"/>
            <a:chOff x="4572000" y="1600200"/>
            <a:chExt cx="761760" cy="685800"/>
          </a:xfrm>
        </p:grpSpPr>
        <p:sp>
          <p:nvSpPr>
            <p:cNvPr id="204" name=""/>
            <p:cNvSpPr/>
            <p:nvPr/>
          </p:nvSpPr>
          <p:spPr>
            <a:xfrm>
              <a:off x="4572000" y="1600200"/>
              <a:ext cx="761760" cy="6858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96" y="0"/>
                  </a:moveTo>
                  <a:lnTo>
                    <a:pt x="480" y="0"/>
                  </a:lnTo>
                  <a:lnTo>
                    <a:pt x="480" y="432"/>
                  </a:lnTo>
                  <a:lnTo>
                    <a:pt x="0" y="432"/>
                  </a:lnTo>
                  <a:lnTo>
                    <a:pt x="0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029200" y="1905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2779560" y="3139920"/>
            <a:ext cx="3914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THE MESH CURRENTS.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ARBITRARY. BUT BY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Y ARE DEFINED CLOCK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65160" y="4054320"/>
            <a:ext cx="41277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RITE KVL FOR EACH MESH AND A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HM’S LAW TO EVERY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563868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446200" y="4648320"/>
            <a:ext cx="444816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 EACH LOOP FOLLOW THE PASSIVE SIG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VENTION USING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LOOP CURRENT REFER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43200" y="601992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960" y="0"/>
            <a:ext cx="3381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VELOPING A SHORT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97360" y="685800"/>
            <a:ext cx="5185800" cy="5883120"/>
            <a:chOff x="3897360" y="685800"/>
            <a:chExt cx="5185800" cy="5883120"/>
          </a:xfrm>
        </p:grpSpPr>
        <p:sp>
          <p:nvSpPr>
            <p:cNvPr id="216" name=""/>
            <p:cNvSpPr/>
            <p:nvPr/>
          </p:nvSpPr>
          <p:spPr>
            <a:xfrm>
              <a:off x="6342120" y="685800"/>
              <a:ext cx="2741040" cy="1797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HENEVER AN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S MORE THA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OOP CURRENT F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OUGH IT WE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T CURRENT I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RECTION OF TRA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97360" y="2276640"/>
              <a:ext cx="3760920" cy="4292280"/>
            </a:xfrm>
            <a:custGeom>
              <a:avLst/>
              <a:gdLst/>
              <a:ahLst/>
              <a:rect l="l" t="t" r="r" b="b"/>
              <a:pathLst>
                <a:path w="2369" h="2704">
                  <a:moveTo>
                    <a:pt x="662" y="2089"/>
                  </a:moveTo>
                  <a:cubicBezTo>
                    <a:pt x="417" y="2026"/>
                    <a:pt x="566" y="2065"/>
                    <a:pt x="46" y="2073"/>
                  </a:cubicBezTo>
                  <a:cubicBezTo>
                    <a:pt x="6" y="2087"/>
                    <a:pt x="10" y="2116"/>
                    <a:pt x="0" y="2151"/>
                  </a:cubicBezTo>
                  <a:cubicBezTo>
                    <a:pt x="2" y="2198"/>
                    <a:pt x="1" y="2245"/>
                    <a:pt x="7" y="2291"/>
                  </a:cubicBezTo>
                  <a:cubicBezTo>
                    <a:pt x="10" y="2316"/>
                    <a:pt x="28" y="2317"/>
                    <a:pt x="46" y="2322"/>
                  </a:cubicBezTo>
                  <a:cubicBezTo>
                    <a:pt x="103" y="2338"/>
                    <a:pt x="149" y="2348"/>
                    <a:pt x="210" y="2353"/>
                  </a:cubicBezTo>
                  <a:cubicBezTo>
                    <a:pt x="246" y="2351"/>
                    <a:pt x="283" y="2349"/>
                    <a:pt x="319" y="2346"/>
                  </a:cubicBezTo>
                  <a:cubicBezTo>
                    <a:pt x="340" y="2344"/>
                    <a:pt x="361" y="2331"/>
                    <a:pt x="381" y="2338"/>
                  </a:cubicBezTo>
                  <a:cubicBezTo>
                    <a:pt x="391" y="2341"/>
                    <a:pt x="386" y="2359"/>
                    <a:pt x="389" y="2369"/>
                  </a:cubicBezTo>
                  <a:cubicBezTo>
                    <a:pt x="392" y="2413"/>
                    <a:pt x="391" y="2458"/>
                    <a:pt x="397" y="2502"/>
                  </a:cubicBezTo>
                  <a:cubicBezTo>
                    <a:pt x="408" y="2574"/>
                    <a:pt x="459" y="2597"/>
                    <a:pt x="514" y="2634"/>
                  </a:cubicBezTo>
                  <a:cubicBezTo>
                    <a:pt x="536" y="2648"/>
                    <a:pt x="553" y="2669"/>
                    <a:pt x="576" y="2681"/>
                  </a:cubicBezTo>
                  <a:cubicBezTo>
                    <a:pt x="603" y="2694"/>
                    <a:pt x="634" y="2694"/>
                    <a:pt x="662" y="2704"/>
                  </a:cubicBezTo>
                  <a:cubicBezTo>
                    <a:pt x="722" y="2701"/>
                    <a:pt x="782" y="2702"/>
                    <a:pt x="841" y="2696"/>
                  </a:cubicBezTo>
                  <a:cubicBezTo>
                    <a:pt x="886" y="2692"/>
                    <a:pt x="974" y="2673"/>
                    <a:pt x="974" y="2673"/>
                  </a:cubicBezTo>
                  <a:cubicBezTo>
                    <a:pt x="982" y="2650"/>
                    <a:pt x="989" y="2626"/>
                    <a:pt x="997" y="2603"/>
                  </a:cubicBezTo>
                  <a:cubicBezTo>
                    <a:pt x="1000" y="2595"/>
                    <a:pt x="1005" y="2579"/>
                    <a:pt x="1005" y="2579"/>
                  </a:cubicBezTo>
                  <a:cubicBezTo>
                    <a:pt x="1008" y="2517"/>
                    <a:pt x="980" y="2445"/>
                    <a:pt x="1013" y="2392"/>
                  </a:cubicBezTo>
                  <a:cubicBezTo>
                    <a:pt x="1039" y="2351"/>
                    <a:pt x="1104" y="2351"/>
                    <a:pt x="1153" y="2346"/>
                  </a:cubicBezTo>
                  <a:cubicBezTo>
                    <a:pt x="1300" y="2332"/>
                    <a:pt x="1449" y="2341"/>
                    <a:pt x="1597" y="2338"/>
                  </a:cubicBezTo>
                  <a:cubicBezTo>
                    <a:pt x="1759" y="2317"/>
                    <a:pt x="1902" y="2319"/>
                    <a:pt x="2072" y="2315"/>
                  </a:cubicBezTo>
                  <a:cubicBezTo>
                    <a:pt x="2124" y="2312"/>
                    <a:pt x="2176" y="2310"/>
                    <a:pt x="2228" y="2307"/>
                  </a:cubicBezTo>
                  <a:cubicBezTo>
                    <a:pt x="2259" y="2305"/>
                    <a:pt x="2298" y="2319"/>
                    <a:pt x="2322" y="2299"/>
                  </a:cubicBezTo>
                  <a:cubicBezTo>
                    <a:pt x="2342" y="2282"/>
                    <a:pt x="2328" y="2247"/>
                    <a:pt x="2330" y="2221"/>
                  </a:cubicBezTo>
                  <a:cubicBezTo>
                    <a:pt x="2365" y="1841"/>
                    <a:pt x="2356" y="1983"/>
                    <a:pt x="2369" y="1707"/>
                  </a:cubicBezTo>
                  <a:cubicBezTo>
                    <a:pt x="2361" y="109"/>
                    <a:pt x="2361" y="678"/>
                    <a:pt x="2361" y="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6320" y="304920"/>
          <a:ext cx="460512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460512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1880" y="25970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HORTCUT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LARITIES ARE NOT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PPLY OHM’S LAW TO EACH ELEMENT AS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BEING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3417840"/>
            <a:ext cx="3938400" cy="541440"/>
            <a:chOff x="76320" y="3417840"/>
            <a:chExt cx="3938400" cy="54144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76320" y="3417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3" name=""/>
            <p:cNvGraphicFramePr/>
            <p:nvPr/>
          </p:nvGraphicFramePr>
          <p:xfrm>
            <a:off x="990720" y="3417840"/>
            <a:ext cx="3024000" cy="54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3417840"/>
                      <a:ext cx="3024000" cy="541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5" name=""/>
          <p:cNvGrpSpPr/>
          <p:nvPr/>
        </p:nvGrpSpPr>
        <p:grpSpPr>
          <a:xfrm>
            <a:off x="76320" y="3951360"/>
            <a:ext cx="4071960" cy="536400"/>
            <a:chOff x="76320" y="3951360"/>
            <a:chExt cx="4071960" cy="53640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76320" y="3951360"/>
                  <a:ext cx="901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7" name=""/>
            <p:cNvGraphicFramePr/>
            <p:nvPr/>
          </p:nvGraphicFramePr>
          <p:xfrm>
            <a:off x="990720" y="3951360"/>
            <a:ext cx="3157560" cy="53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3951360"/>
                      <a:ext cx="3157560" cy="536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80640" y="4484520"/>
            <a:ext cx="2891160" cy="647640"/>
            <a:chOff x="80640" y="4484520"/>
            <a:chExt cx="2891160" cy="6476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270080" y="4484520"/>
                  <a:ext cx="1701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640" y="450036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971800" y="48420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and </m:t>
                    </m:r>
                    <m:r>
                      <m:rPr>
                        <m:lit/>
                        <m:nor/>
                      </m:rPr>
                      <m:t xml:space="preserve">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31920" y="517032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219320" y="5475240"/>
                <a:ext cx="2832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39600" y="6019920"/>
            <a:ext cx="4447800" cy="609480"/>
            <a:chOff x="39600" y="6019920"/>
            <a:chExt cx="4447800" cy="609480"/>
          </a:xfrm>
        </p:grpSpPr>
        <p:sp>
          <p:nvSpPr>
            <p:cNvPr id="236" name=""/>
            <p:cNvSpPr/>
            <p:nvPr/>
          </p:nvSpPr>
          <p:spPr>
            <a:xfrm>
              <a:off x="39600" y="6019920"/>
              <a:ext cx="44478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PRESS VARIABLE OF INTEREST AS 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108160" y="6338880"/>
                  <a:ext cx="109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"/>
          <p:cNvGrpSpPr/>
          <p:nvPr/>
        </p:nvGrpSpPr>
        <p:grpSpPr>
          <a:xfrm>
            <a:off x="4451400" y="3170160"/>
            <a:ext cx="4400640" cy="563760"/>
            <a:chOff x="4451400" y="3170160"/>
            <a:chExt cx="4400640" cy="563760"/>
          </a:xfrm>
        </p:grpSpPr>
        <p:graphicFrame>
          <p:nvGraphicFramePr>
            <p:cNvPr id="239" name=""/>
            <p:cNvGraphicFramePr/>
            <p:nvPr/>
          </p:nvGraphicFramePr>
          <p:xfrm>
            <a:off x="5346720" y="3170160"/>
            <a:ext cx="350532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46720" y="3170160"/>
                      <a:ext cx="3505320" cy="56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451400" y="3282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4444920" y="3733920"/>
            <a:ext cx="4648320" cy="506160"/>
            <a:chOff x="4444920" y="3733920"/>
            <a:chExt cx="4648320" cy="50616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444920" y="3809880"/>
                  <a:ext cx="901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44" name=""/>
            <p:cNvGraphicFramePr/>
            <p:nvPr/>
          </p:nvGraphicFramePr>
          <p:xfrm rot="10800000">
            <a:off x="5346720" y="3733920"/>
            <a:ext cx="374652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5346720" y="3733920"/>
                      <a:ext cx="3746520" cy="5061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46" name=""/>
          <p:cNvGrpSpPr/>
          <p:nvPr/>
        </p:nvGrpSpPr>
        <p:grpSpPr>
          <a:xfrm>
            <a:off x="4660920" y="4419720"/>
            <a:ext cx="4308480" cy="611640"/>
            <a:chOff x="4660920" y="4419720"/>
            <a:chExt cx="4308480" cy="61164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4660920" y="4419720"/>
                  <a:ext cx="1320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W 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374800" y="4724280"/>
              <a:ext cx="35946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 SELECTION IS MORE EFFIC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452480" y="5105520"/>
            <a:ext cx="2799360" cy="647640"/>
            <a:chOff x="4452480" y="5105520"/>
            <a:chExt cx="2799360" cy="64764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651640" y="5105520"/>
                  <a:ext cx="1600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4452480" y="510552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51840" y="5105520"/>
                <a:ext cx="1866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and subs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51640" y="5791320"/>
                <a:ext cx="2209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4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2080" y="41400"/>
            <a:ext cx="6352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: FIND Io USING LOOP ANALYS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36000" y="457200"/>
            <a:ext cx="4554720" cy="2614680"/>
            <a:chOff x="4536000" y="457200"/>
            <a:chExt cx="4554720" cy="2614680"/>
          </a:xfrm>
        </p:grpSpPr>
        <p:sp>
          <p:nvSpPr>
            <p:cNvPr id="259" name=""/>
            <p:cNvSpPr/>
            <p:nvPr/>
          </p:nvSpPr>
          <p:spPr>
            <a:xfrm>
              <a:off x="4536000" y="457200"/>
              <a:ext cx="4554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 ALTERNATIVE SELECTION 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4648320" y="838080"/>
            <a:ext cx="4422600" cy="2233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648320" y="838080"/>
                      <a:ext cx="4422600" cy="22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0" y="1219320"/>
          <a:ext cx="460548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054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4240" y="76320"/>
            <a:ext cx="444780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IRCUIT CONTAINS ONLY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 THE MESH EQUATIONS CAN BE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NSPEC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5920" y="421632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IGHT HAND SIDE IS THE ALGEBRAIC 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 VOLTAGE SOURCES AROUND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VOLTAGE RISES - VOLTAGE D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160" y="777960"/>
            <a:ext cx="402120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MUST HAV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L MESH CURRENTS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6840" y="3311640"/>
            <a:ext cx="3930480" cy="866160"/>
            <a:chOff x="96840" y="3311640"/>
            <a:chExt cx="3930480" cy="866160"/>
          </a:xfrm>
        </p:grpSpPr>
        <p:sp>
          <p:nvSpPr>
            <p:cNvPr id="268" name=""/>
            <p:cNvSpPr/>
            <p:nvPr/>
          </p:nvSpPr>
          <p:spPr>
            <a:xfrm>
              <a:off x="96840" y="3311640"/>
              <a:ext cx="1247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LOOP K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680" y="3657600"/>
              <a:ext cx="39146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OEFFICENT OF Ik IS THE SUM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SISTANCES AROUND THE LOO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14480" y="498780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EFFICIENT OF Ij IS THE SUM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ANCES COMMON TO BOTH k AND j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ITH A NEGATIVE 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440" y="576576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580536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70640" y="61722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90720" y="61866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648320" y="0"/>
            <a:ext cx="4460760" cy="2846520"/>
            <a:chOff x="4648320" y="0"/>
            <a:chExt cx="4460760" cy="2846520"/>
          </a:xfrm>
        </p:grpSpPr>
        <p:graphicFrame>
          <p:nvGraphicFramePr>
            <p:cNvPr id="276" name=""/>
            <p:cNvGraphicFramePr/>
            <p:nvPr/>
          </p:nvGraphicFramePr>
          <p:xfrm>
            <a:off x="4648320" y="154080"/>
            <a:ext cx="4460760" cy="269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154080"/>
                      <a:ext cx="4460760" cy="26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6959880" y="0"/>
              <a:ext cx="21009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 PRACTICE 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666320" y="289548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486400" y="2895480"/>
                <a:ext cx="252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86400" y="3200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486400" y="350532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3" name=""/>
          <p:cNvGraphicFramePr/>
          <p:nvPr/>
        </p:nvGraphicFramePr>
        <p:xfrm>
          <a:off x="4800600" y="3959280"/>
          <a:ext cx="39369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959280"/>
                    <a:ext cx="3936960" cy="460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66320" y="45720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86400" y="45720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486400" y="4876920"/>
                <a:ext cx="254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486400" y="518148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9" name=""/>
          <p:cNvGraphicFramePr/>
          <p:nvPr/>
        </p:nvGraphicFramePr>
        <p:xfrm>
          <a:off x="4800600" y="5562720"/>
          <a:ext cx="4203720" cy="41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562720"/>
                    <a:ext cx="4203720" cy="4172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835760" y="3505320"/>
                <a:ext cx="1231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001000" y="5181480"/>
                <a:ext cx="10922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3656520" y="6019560"/>
            <a:ext cx="5444640" cy="423720"/>
            <a:chOff x="3656520" y="6019560"/>
            <a:chExt cx="5444640" cy="423720"/>
          </a:xfrm>
        </p:grpSpPr>
        <p:sp>
          <p:nvSpPr>
            <p:cNvPr id="294" name=""/>
            <p:cNvSpPr/>
            <p:nvPr/>
          </p:nvSpPr>
          <p:spPr>
            <a:xfrm>
              <a:off x="3656520" y="60958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 rot="10800000">
            <a:off x="4495680" y="6019560"/>
            <a:ext cx="4605480" cy="42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4495680" y="6019560"/>
                      <a:ext cx="4605480" cy="423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29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2362320" y="457200"/>
          <a:ext cx="457200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572000" cy="3238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370240" y="-11160"/>
          <a:ext cx="45640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0240" y="-11160"/>
                    <a:ext cx="4564080" cy="438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0240" y="1219320"/>
            <a:ext cx="2847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THE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200400" y="1447920"/>
            <a:ext cx="685800" cy="1752480"/>
            <a:chOff x="3200400" y="1447920"/>
            <a:chExt cx="685800" cy="1752480"/>
          </a:xfrm>
        </p:grpSpPr>
        <p:sp>
          <p:nvSpPr>
            <p:cNvPr id="306" name=""/>
            <p:cNvSpPr/>
            <p:nvPr/>
          </p:nvSpPr>
          <p:spPr>
            <a:xfrm>
              <a:off x="3200400" y="1447920"/>
              <a:ext cx="685800" cy="1752480"/>
            </a:xfrm>
            <a:custGeom>
              <a:avLst/>
              <a:gdLst/>
              <a:ahLst/>
              <a:rect l="l" t="t" r="r" b="b"/>
              <a:pathLst>
                <a:path w="432" h="1104">
                  <a:moveTo>
                    <a:pt x="0" y="1056"/>
                  </a:moveTo>
                  <a:lnTo>
                    <a:pt x="0" y="0"/>
                  </a:lnTo>
                  <a:lnTo>
                    <a:pt x="432" y="0"/>
                  </a:lnTo>
                  <a:lnTo>
                    <a:pt x="432" y="1104"/>
                  </a:lnTo>
                  <a:lnTo>
                    <a:pt x="96" y="110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276720" y="15238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8" name=""/>
          <p:cNvGrpSpPr/>
          <p:nvPr/>
        </p:nvGrpSpPr>
        <p:grpSpPr>
          <a:xfrm>
            <a:off x="4419720" y="1219320"/>
            <a:ext cx="914400" cy="2057400"/>
            <a:chOff x="4419720" y="1219320"/>
            <a:chExt cx="914400" cy="2057400"/>
          </a:xfrm>
        </p:grpSpPr>
        <p:sp>
          <p:nvSpPr>
            <p:cNvPr id="309" name=""/>
            <p:cNvSpPr/>
            <p:nvPr/>
          </p:nvSpPr>
          <p:spPr>
            <a:xfrm>
              <a:off x="4419720" y="1219320"/>
              <a:ext cx="914400" cy="2057400"/>
            </a:xfrm>
            <a:custGeom>
              <a:avLst/>
              <a:gdLst/>
              <a:ahLst/>
              <a:rect l="l" t="t" r="r" b="b"/>
              <a:pathLst>
                <a:path w="576" h="1296">
                  <a:moveTo>
                    <a:pt x="0" y="1200"/>
                  </a:moveTo>
                  <a:lnTo>
                    <a:pt x="0" y="0"/>
                  </a:lnTo>
                  <a:lnTo>
                    <a:pt x="576" y="96"/>
                  </a:lnTo>
                  <a:lnTo>
                    <a:pt x="576" y="1200"/>
                  </a:lnTo>
                  <a:lnTo>
                    <a:pt x="96" y="129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5029200" y="1447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1" name=""/>
          <p:cNvSpPr/>
          <p:nvPr/>
        </p:nvSpPr>
        <p:spPr>
          <a:xfrm>
            <a:off x="94320" y="3402000"/>
            <a:ext cx="2984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7080" y="3773520"/>
            <a:ext cx="3776040" cy="307080"/>
            <a:chOff x="307080" y="3773520"/>
            <a:chExt cx="3776040" cy="307080"/>
          </a:xfrm>
        </p:grpSpPr>
        <p:sp>
          <p:nvSpPr>
            <p:cNvPr id="313" name=""/>
            <p:cNvSpPr/>
            <p:nvPr/>
          </p:nvSpPr>
          <p:spPr>
            <a:xfrm>
              <a:off x="307080" y="377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136520" y="3773520"/>
                  <a:ext cx="2946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"/>
          <p:cNvGrpSpPr/>
          <p:nvPr/>
        </p:nvGrpSpPr>
        <p:grpSpPr>
          <a:xfrm>
            <a:off x="307080" y="4140360"/>
            <a:ext cx="3870720" cy="307080"/>
            <a:chOff x="307080" y="4140360"/>
            <a:chExt cx="3870720" cy="307080"/>
          </a:xfrm>
        </p:grpSpPr>
        <p:sp>
          <p:nvSpPr>
            <p:cNvPr id="316" name=""/>
            <p:cNvSpPr/>
            <p:nvPr/>
          </p:nvSpPr>
          <p:spPr>
            <a:xfrm>
              <a:off x="307080" y="414036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143000" y="4140360"/>
                  <a:ext cx="3034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4308120" y="3886200"/>
            <a:ext cx="466128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 BY 1k. GET NUMBERS FOR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 THE LEFT AND mA ON THE 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81120" y="4952880"/>
                <a:ext cx="1841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29000" y="5334120"/>
                <a:ext cx="13082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752480" y="56386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594240" y="561348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5160" y="117360"/>
            <a:ext cx="141516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800" y="456084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3. SOLV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6:38:24Z</dcterms:created>
  <dc:creator>Jorge Aravena</dc:creator>
  <dc:description/>
  <dc:language>en-US</dc:language>
  <cp:lastModifiedBy>Jorge Aravena</cp:lastModifiedBy>
  <dcterms:modified xsi:type="dcterms:W3CDTF">2001-03-26T02:00:33Z</dcterms:modified>
  <cp:revision>20</cp:revision>
  <dc:subject/>
  <dc:title>No Slide Title</dc:title>
</cp:coreProperties>
</file>