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2.png" ContentType="image/png"/>
  <Override PartName="/ppt/media/image12.png" ContentType="image/png"/>
  <Override PartName="/ppt/media/image35.wmf" ContentType="image/x-wmf"/>
  <Override PartName="/ppt/media/image37.png" ContentType="image/png"/>
  <Override PartName="/ppt/media/image7.png" ContentType="image/png"/>
  <Override PartName="/ppt/media/image40.wmf" ContentType="image/x-wmf"/>
  <Override PartName="/ppt/media/image39.wmf" ContentType="image/x-wmf"/>
  <Override PartName="/ppt/media/image41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EFAB-317A-466B-B3C1-516DC9BFB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CFF8-30E8-48BC-9896-2EA76CC4F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D05B-92D3-4797-9F3B-E70DDA668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0361-4AAA-4CAA-A70E-8EB851F42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01B6-B3D3-4F2A-9919-F4DFA94D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058D-A19C-4DD9-9FAF-C85546465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60DD-975B-4322-9083-9342051C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F1B2-FD61-434B-8748-4BB84C433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09D0-E08B-4B74-9043-7E23641B3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FD7D-34F4-402F-B8B7-AD0603DF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79BC-7D7F-4597-B28E-87B10F75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A8CA-35B3-49FF-B5F2-47FBAF61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7C598-4F3D-4027-9EF0-A07FC08B6F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png"/><Relationship Id="rId17" Type="http://schemas.openxmlformats.org/officeDocument/2006/relationships/image" Target="../media/image9.png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6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7.png"/><Relationship Id="rId19" Type="http://schemas.openxmlformats.org/officeDocument/2006/relationships/image" Target="../media/image9.png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.png"/><Relationship Id="rId2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.wmf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0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2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3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4.png"/><Relationship Id="rId19" Type="http://schemas.openxmlformats.org/officeDocument/2006/relationships/image" Target="../media/image9.png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724280" y="380880"/>
          <a:ext cx="2990880" cy="252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380880"/>
                    <a:ext cx="2990880" cy="25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85800" y="101520"/>
            <a:ext cx="29239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SINGLE LOOP CIRCU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7280" y="473040"/>
            <a:ext cx="4341240" cy="115956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BACKGROUND: USING KVL AND KCL WE CA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WRITE ENOUGH EQUATIONS TO ANALYZE 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INEAR CIRCUIT. WE NOW START THE STUD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F SYSTEMATIC, AND EFFICIENT, WAYS O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SING THE FUNDAMENTAL CIRCUIT LA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76320" y="1660680"/>
          <a:ext cx="2477880" cy="214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1660680"/>
                    <a:ext cx="2477880" cy="214920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2607480" y="1676520"/>
            <a:ext cx="1887480" cy="94644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WRITE 5 KCL EQ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R DETERMINE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NLY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L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965480" y="92160"/>
            <a:ext cx="3914640" cy="3070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OLTAGE DIVISION: THE SIMPLEST C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760" y="3902040"/>
            <a:ext cx="4660560" cy="946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BEGIN WITH THE SIMPLEST ONE LOOP CIRCU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XTEND RESULTS TO MULTIPLE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ND MULTIPLE RESISTORS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648320" y="2986200"/>
          <a:ext cx="3530520" cy="519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2986200"/>
                    <a:ext cx="3530520" cy="51912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52" name=""/>
          <p:cNvGrpSpPr/>
          <p:nvPr/>
        </p:nvGrpSpPr>
        <p:grpSpPr>
          <a:xfrm>
            <a:off x="5486400" y="914400"/>
            <a:ext cx="1298520" cy="1755720"/>
            <a:chOff x="5486400" y="914400"/>
            <a:chExt cx="1298520" cy="1755720"/>
          </a:xfrm>
        </p:grpSpPr>
        <p:sp>
          <p:nvSpPr>
            <p:cNvPr id="53" name=""/>
            <p:cNvSpPr/>
            <p:nvPr/>
          </p:nvSpPr>
          <p:spPr>
            <a:xfrm>
              <a:off x="5486400" y="914400"/>
              <a:ext cx="1298520" cy="1755720"/>
            </a:xfrm>
            <a:custGeom>
              <a:avLst/>
              <a:gdLst/>
              <a:ahLst/>
              <a:rect l="l" t="t" r="r" b="b"/>
              <a:pathLst>
                <a:path w="816" h="1104">
                  <a:moveTo>
                    <a:pt x="0" y="1008"/>
                  </a:moveTo>
                  <a:lnTo>
                    <a:pt x="0" y="0"/>
                  </a:lnTo>
                  <a:lnTo>
                    <a:pt x="816" y="0"/>
                  </a:lnTo>
                  <a:lnTo>
                    <a:pt x="816" y="1104"/>
                  </a:lnTo>
                  <a:lnTo>
                    <a:pt x="96" y="1104"/>
                  </a:lnTo>
                </a:path>
              </a:pathLst>
            </a:custGeom>
            <a:solidFill>
              <a:srgbClr val="ccecff"/>
            </a:solidFill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659560" y="1371600"/>
              <a:ext cx="927360" cy="73332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KVL O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TH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LOO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5" name=""/>
          <p:cNvGraphicFramePr/>
          <p:nvPr/>
        </p:nvGraphicFramePr>
        <p:xfrm>
          <a:off x="4876920" y="3429000"/>
          <a:ext cx="3265200" cy="1338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76920" y="3429000"/>
                    <a:ext cx="326520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3962520" y="4800600"/>
          <a:ext cx="5018040" cy="343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62520" y="4800600"/>
                    <a:ext cx="5018040" cy="34308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3352680" y="5181480"/>
          <a:ext cx="1640160" cy="725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352680" y="5181480"/>
                    <a:ext cx="1640160" cy="72576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5029200" y="5105520"/>
          <a:ext cx="1905120" cy="1619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029200" y="5105520"/>
                    <a:ext cx="190512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6934320" y="5181480"/>
          <a:ext cx="2097000" cy="817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34320" y="5181480"/>
                    <a:ext cx="2097000" cy="81756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2855520" y="6035760"/>
            <a:ext cx="1994400" cy="5202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MPORTANT VOL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DIVIDER EQU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geaux" descr=""/>
          <p:cNvPicPr/>
          <p:nvPr/>
        </p:nvPicPr>
        <p:blipFill>
          <a:blip r:embed="rId17"/>
          <a:stretch/>
        </p:blipFill>
        <p:spPr>
          <a:xfrm>
            <a:off x="840564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7" name="">
            <a:hlinkClick r:id="" action="ppaction://hlinkshowjump?jump=nextslide"/>
          </p:cNvPr>
          <p:cNvSpPr/>
          <p:nvPr/>
        </p:nvSpPr>
        <p:spPr>
          <a:xfrm>
            <a:off x="465768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2819520" y="1600200"/>
          <a:ext cx="1676160" cy="65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600200"/>
                    <a:ext cx="1676160" cy="65412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711520" y="736560"/>
                <a:ext cx="173016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25080" y="0"/>
            <a:ext cx="3594600" cy="30708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UMMARY OF BASIC VOLTAGE DIV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61920" y="2519280"/>
            <a:ext cx="4129200" cy="3052800"/>
            <a:chOff x="61920" y="2519280"/>
            <a:chExt cx="4129200" cy="3052800"/>
          </a:xfrm>
        </p:grpSpPr>
        <p:graphicFrame>
          <p:nvGraphicFramePr>
            <p:cNvPr id="73" name=""/>
            <p:cNvGraphicFramePr/>
            <p:nvPr/>
          </p:nvGraphicFramePr>
          <p:xfrm>
            <a:off x="76320" y="2971800"/>
            <a:ext cx="2917800" cy="2600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2971800"/>
                      <a:ext cx="2917800" cy="26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75" name=""/>
                <p:cNvSpPr txBox="1"/>
                <p:nvPr/>
              </p:nvSpPr>
              <p:spPr>
                <a:xfrm>
                  <a:off x="61920" y="2519280"/>
                  <a:ext cx="4129200" cy="30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EXAMPLE: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9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t xml:space="preserve">k</m:t>
                      </m:r>
                      <m:r>
                        <m:t xml:space="preserve">Ω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t xml:space="preserve">k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0" y="5867280"/>
                <a:ext cx="1523880" cy="3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77" name=""/>
          <p:cNvGraphicFramePr/>
          <p:nvPr/>
        </p:nvGraphicFramePr>
        <p:xfrm>
          <a:off x="1523880" y="5562720"/>
          <a:ext cx="1784520" cy="1004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5562720"/>
                    <a:ext cx="1784520" cy="100476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5306040" y="76320"/>
            <a:ext cx="3487680" cy="30708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 “PRACTICAL” POWER 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21280" y="4648320"/>
            <a:ext cx="1034280" cy="5202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OLU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NTRO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5181480" y="457200"/>
          <a:ext cx="3340080" cy="1784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81480" y="457200"/>
                    <a:ext cx="3340080" cy="17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5334120" y="2438280"/>
          <a:ext cx="2896920" cy="1665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34120" y="2438280"/>
                    <a:ext cx="2896920" cy="16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4691160" y="4089240"/>
          <a:ext cx="2319120" cy="787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691160" y="4089240"/>
                    <a:ext cx="2319120" cy="78768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7086600" y="4038480"/>
          <a:ext cx="1957320" cy="858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086600" y="4038480"/>
                    <a:ext cx="1957320" cy="85896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5105520" y="5029200"/>
          <a:ext cx="2681280" cy="789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105520" y="5029200"/>
                    <a:ext cx="2681280" cy="78912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4819680" y="5959440"/>
            <a:ext cx="3381120" cy="307080"/>
          </a:xfrm>
          <a:prstGeom prst="rect">
            <a:avLst/>
          </a:prstGeom>
          <a:solidFill>
            <a:srgbClr val="ccecff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OW CAN ONE REDUCE THE LOSSE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851200" y="2819520"/>
          <a:ext cx="1797120" cy="1377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851200" y="2819520"/>
                    <a:ext cx="1797120" cy="137772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94" name="geaux" descr=""/>
          <p:cNvPicPr/>
          <p:nvPr/>
        </p:nvPicPr>
        <p:blipFill>
          <a:blip r:embed="rId1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76320" y="376200"/>
          <a:ext cx="2533680" cy="21384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76320" y="376200"/>
                    <a:ext cx="2533680" cy="21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73520" y="-27000"/>
            <a:ext cx="4204080" cy="33732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 CONCEPT OF EQUIVALENT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-47880" y="320760"/>
            <a:ext cx="466128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IS CONCEPT WILL OFTEN BE USED TO SIMPLF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ANALYSIS OF CIRCUITS. WE INTRODUCE 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ERE WITH A VERY SIMPLE VOLTAGE DIV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0" y="1066680"/>
          <a:ext cx="4648320" cy="233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6680"/>
                    <a:ext cx="4648320" cy="233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178560" y="3429000"/>
            <a:ext cx="434124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S FAR AS THE CURRENT IS CONCERNED BO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IRCUITS ARE EQUIVALENT. THE ONE ON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RIGHT HAS ONLY ONE RESIS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69720" y="4233960"/>
          <a:ext cx="3776760" cy="106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9720" y="4233960"/>
                    <a:ext cx="3776760" cy="106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4896720" y="15840"/>
            <a:ext cx="3487680" cy="5202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DIFFERENCE BETWEEN ELECTR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NNECTION AND PHYSICAL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99720" y="565200"/>
            <a:ext cx="455472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OMETIMES, FOR PRACTICAL CONSTRU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REASONS, COMPONENTS THAT ARE ELECTRICAL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NNECTED MAY BE PHYSICALLY QUITE AP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000760" y="1523880"/>
          <a:ext cx="3487680" cy="839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00760" y="1523880"/>
                    <a:ext cx="3487680" cy="83988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5297400" y="2736720"/>
          <a:ext cx="3160800" cy="1233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97400" y="2736720"/>
                    <a:ext cx="3160800" cy="1233720"/>
                  </a:xfrm>
                  <a:prstGeom prst="rect">
                    <a:avLst/>
                  </a:prstGeom>
                  <a:ln w="9360">
                    <a:solidFill>
                      <a:srgbClr val="cc99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5375160" y="4376880"/>
          <a:ext cx="3006720" cy="1392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75160" y="4376880"/>
                    <a:ext cx="3006720" cy="139212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5034600" y="5959440"/>
            <a:ext cx="348768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ALL CASES THE RESISTORS A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NNECTED IN SE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geaux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76320" y="76320"/>
          <a:ext cx="37893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76320"/>
                    <a:ext cx="37893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3954960" y="6213600"/>
            <a:ext cx="210096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COMPONENT 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54960" y="117360"/>
            <a:ext cx="210096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CONNECTOR 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0160" y="2513160"/>
            <a:ext cx="1719000" cy="4506840"/>
          </a:xfrm>
          <a:custGeom>
            <a:avLst/>
            <a:gdLst/>
            <a:ahLst/>
            <a:rect l="l" t="t" r="r" b="b"/>
            <a:pathLst>
              <a:path w="1080" h="2840">
                <a:moveTo>
                  <a:pt x="928" y="2496"/>
                </a:moveTo>
                <a:cubicBezTo>
                  <a:pt x="1004" y="2668"/>
                  <a:pt x="1080" y="2840"/>
                  <a:pt x="928" y="2592"/>
                </a:cubicBezTo>
                <a:cubicBezTo>
                  <a:pt x="776" y="2344"/>
                  <a:pt x="32" y="1440"/>
                  <a:pt x="16" y="1008"/>
                </a:cubicBezTo>
                <a:cubicBezTo>
                  <a:pt x="0" y="576"/>
                  <a:pt x="416" y="288"/>
                  <a:pt x="832" y="0"/>
                </a:cubicBezTo>
              </a:path>
            </a:pathLst>
          </a:custGeom>
          <a:noFill/>
          <a:ln w="255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581280" y="2743200"/>
            <a:ext cx="165240" cy="4711680"/>
          </a:xfrm>
          <a:custGeom>
            <a:avLst/>
            <a:gdLst/>
            <a:ahLst/>
            <a:rect l="l" t="t" r="r" b="b"/>
            <a:pathLst>
              <a:path w="104" h="2968">
                <a:moveTo>
                  <a:pt x="0" y="2544"/>
                </a:moveTo>
                <a:cubicBezTo>
                  <a:pt x="44" y="2756"/>
                  <a:pt x="88" y="2968"/>
                  <a:pt x="96" y="2544"/>
                </a:cubicBezTo>
                <a:cubicBezTo>
                  <a:pt x="104" y="2120"/>
                  <a:pt x="76" y="1060"/>
                  <a:pt x="48" y="0"/>
                </a:cubicBezTo>
              </a:path>
            </a:pathLst>
          </a:custGeom>
          <a:noFill/>
          <a:ln w="255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959200" y="2743200"/>
            <a:ext cx="164880" cy="4635360"/>
          </a:xfrm>
          <a:custGeom>
            <a:avLst/>
            <a:gdLst/>
            <a:ahLst/>
            <a:rect l="l" t="t" r="r" b="b"/>
            <a:pathLst>
              <a:path w="104" h="2920">
                <a:moveTo>
                  <a:pt x="8" y="2544"/>
                </a:moveTo>
                <a:cubicBezTo>
                  <a:pt x="56" y="2548"/>
                  <a:pt x="104" y="2552"/>
                  <a:pt x="104" y="2544"/>
                </a:cubicBezTo>
                <a:cubicBezTo>
                  <a:pt x="104" y="2536"/>
                  <a:pt x="16" y="2920"/>
                  <a:pt x="8" y="2496"/>
                </a:cubicBezTo>
                <a:cubicBezTo>
                  <a:pt x="0" y="2072"/>
                  <a:pt x="28" y="1036"/>
                  <a:pt x="56" y="0"/>
                </a:cubicBezTo>
              </a:path>
            </a:pathLst>
          </a:custGeom>
          <a:noFill/>
          <a:ln w="255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73200" y="-63360"/>
            <a:ext cx="1104840" cy="3949560"/>
          </a:xfrm>
          <a:custGeom>
            <a:avLst/>
            <a:gdLst/>
            <a:ahLst/>
            <a:rect l="l" t="t" r="r" b="b"/>
            <a:pathLst>
              <a:path w="696" h="2488">
                <a:moveTo>
                  <a:pt x="680" y="136"/>
                </a:moveTo>
                <a:cubicBezTo>
                  <a:pt x="688" y="68"/>
                  <a:pt x="696" y="0"/>
                  <a:pt x="584" y="136"/>
                </a:cubicBezTo>
                <a:cubicBezTo>
                  <a:pt x="472" y="272"/>
                  <a:pt x="0" y="560"/>
                  <a:pt x="8" y="952"/>
                </a:cubicBezTo>
                <a:cubicBezTo>
                  <a:pt x="16" y="1344"/>
                  <a:pt x="324" y="1916"/>
                  <a:pt x="632" y="2488"/>
                </a:cubicBezTo>
              </a:path>
            </a:pathLst>
          </a:custGeom>
          <a:noFill/>
          <a:ln w="255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0560" y="955800"/>
            <a:ext cx="3884040" cy="91692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LLUSTRATING THE DIF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BETWEEN PHYSICAL LAYOUT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ELECTR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76520" y="990720"/>
            <a:ext cx="1981080" cy="1600200"/>
          </a:xfrm>
          <a:custGeom>
            <a:avLst/>
            <a:gdLst/>
            <a:ahLst/>
            <a:rect l="l" t="t" r="r" b="b"/>
            <a:pathLst>
              <a:path w="1248" h="1008">
                <a:moveTo>
                  <a:pt x="0" y="0"/>
                </a:moveTo>
                <a:lnTo>
                  <a:pt x="0" y="768"/>
                </a:lnTo>
                <a:lnTo>
                  <a:pt x="96" y="864"/>
                </a:lnTo>
                <a:lnTo>
                  <a:pt x="144" y="768"/>
                </a:lnTo>
                <a:lnTo>
                  <a:pt x="1056" y="816"/>
                </a:lnTo>
                <a:lnTo>
                  <a:pt x="1248" y="1008"/>
                </a:lnTo>
              </a:path>
            </a:pathLst>
          </a:custGeom>
          <a:noFill/>
          <a:ln w="2556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152280"/>
            <a:ext cx="1676520" cy="2514600"/>
          </a:xfrm>
          <a:custGeom>
            <a:avLst/>
            <a:gdLst/>
            <a:ahLst/>
            <a:rect l="l" t="t" r="r" b="b"/>
            <a:pathLst>
              <a:path w="1056" h="1584">
                <a:moveTo>
                  <a:pt x="240" y="0"/>
                </a:moveTo>
                <a:lnTo>
                  <a:pt x="48" y="192"/>
                </a:lnTo>
                <a:lnTo>
                  <a:pt x="0" y="1440"/>
                </a:lnTo>
                <a:lnTo>
                  <a:pt x="96" y="1536"/>
                </a:lnTo>
                <a:lnTo>
                  <a:pt x="432" y="1536"/>
                </a:lnTo>
                <a:lnTo>
                  <a:pt x="576" y="1392"/>
                </a:lnTo>
                <a:lnTo>
                  <a:pt x="912" y="1392"/>
                </a:lnTo>
                <a:lnTo>
                  <a:pt x="1056" y="1584"/>
                </a:lnTo>
              </a:path>
            </a:pathLst>
          </a:custGeom>
          <a:noFill/>
          <a:ln w="25560">
            <a:solidFill>
              <a:srgbClr val="ff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572000" y="2022480"/>
            <a:ext cx="3022560" cy="368280"/>
            <a:chOff x="4572000" y="2022480"/>
            <a:chExt cx="3022560" cy="368280"/>
          </a:xfrm>
        </p:grpSpPr>
        <p:sp>
          <p:nvSpPr>
            <p:cNvPr id="130" name=""/>
            <p:cNvSpPr/>
            <p:nvPr/>
          </p:nvSpPr>
          <p:spPr>
            <a:xfrm>
              <a:off x="4572000" y="2209680"/>
              <a:ext cx="990720" cy="0"/>
            </a:xfrm>
            <a:prstGeom prst="line">
              <a:avLst/>
            </a:prstGeom>
            <a:ln w="255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630760" y="2022480"/>
              <a:ext cx="1963800" cy="368280"/>
            </a:xfrm>
            <a:prstGeom prst="rect">
              <a:avLst/>
            </a:prstGeom>
            <a:solidFill>
              <a:srgbClr val="66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PHYSICAL N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4572000" y="2479680"/>
            <a:ext cx="3022560" cy="368280"/>
            <a:chOff x="4572000" y="2479680"/>
            <a:chExt cx="3022560" cy="368280"/>
          </a:xfrm>
        </p:grpSpPr>
        <p:sp>
          <p:nvSpPr>
            <p:cNvPr id="133" name=""/>
            <p:cNvSpPr/>
            <p:nvPr/>
          </p:nvSpPr>
          <p:spPr>
            <a:xfrm>
              <a:off x="4572000" y="2666880"/>
              <a:ext cx="99072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630760" y="2479680"/>
              <a:ext cx="1963800" cy="368280"/>
            </a:xfrm>
            <a:prstGeom prst="rect">
              <a:avLst/>
            </a:prstGeom>
            <a:solidFill>
              <a:srgbClr val="66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PHYSICAL N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4668840" y="3597120"/>
            <a:ext cx="3914640" cy="3070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ECTION OF 14.4 KB VOICE/DATA MOD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5029200"/>
            <a:ext cx="1143000" cy="0"/>
          </a:xfrm>
          <a:prstGeom prst="line">
            <a:avLst/>
          </a:prstGeom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89520" y="4892760"/>
            <a:ext cx="2314440" cy="30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RRESPONDING POI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5715000" y="4427640"/>
          <a:ext cx="2057400" cy="166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4427640"/>
                    <a:ext cx="2057400" cy="16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380880" y="533520"/>
          <a:ext cx="3353040" cy="334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533520"/>
                    <a:ext cx="3353040" cy="334332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1390320" y="-4680"/>
            <a:ext cx="5804280" cy="3988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FIRST GENERALIZATION: MULTIPLE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62160" y="1569960"/>
            <a:ext cx="1068120" cy="1467000"/>
          </a:xfrm>
          <a:custGeom>
            <a:avLst/>
            <a:gdLst/>
            <a:ahLst/>
            <a:rect l="l" t="t" r="r" b="b"/>
            <a:pathLst>
              <a:path w="673" h="924">
                <a:moveTo>
                  <a:pt x="8" y="0"/>
                </a:moveTo>
                <a:cubicBezTo>
                  <a:pt x="178" y="3"/>
                  <a:pt x="349" y="4"/>
                  <a:pt x="519" y="8"/>
                </a:cubicBezTo>
                <a:cubicBezTo>
                  <a:pt x="559" y="9"/>
                  <a:pt x="640" y="16"/>
                  <a:pt x="640" y="16"/>
                </a:cubicBezTo>
                <a:cubicBezTo>
                  <a:pt x="644" y="196"/>
                  <a:pt x="646" y="434"/>
                  <a:pt x="656" y="624"/>
                </a:cubicBezTo>
                <a:cubicBezTo>
                  <a:pt x="658" y="662"/>
                  <a:pt x="662" y="700"/>
                  <a:pt x="665" y="738"/>
                </a:cubicBezTo>
                <a:cubicBezTo>
                  <a:pt x="668" y="781"/>
                  <a:pt x="673" y="868"/>
                  <a:pt x="673" y="868"/>
                </a:cubicBezTo>
                <a:cubicBezTo>
                  <a:pt x="450" y="889"/>
                  <a:pt x="224" y="924"/>
                  <a:pt x="0" y="924"/>
                </a:cubicBezTo>
                <a:cubicBezTo>
                  <a:pt x="0" y="724"/>
                  <a:pt x="0" y="524"/>
                  <a:pt x="0" y="32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32080" y="222408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6720" y="3652920"/>
            <a:ext cx="65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KV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152280" y="4038480"/>
                <a:ext cx="441972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230040" y="4505400"/>
            <a:ext cx="397548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Collect all sources on one s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304920" y="4876920"/>
                <a:ext cx="419076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455840" y="5475240"/>
                <a:ext cx="203976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457200" y="5334120"/>
            <a:ext cx="25146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23880" y="6019920"/>
            <a:ext cx="6098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5334120" y="5060880"/>
                <a:ext cx="48564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6567480" y="3962520"/>
                <a:ext cx="36360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7772400" y="5105520"/>
                <a:ext cx="36684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4072680" y="380880"/>
            <a:ext cx="4284720" cy="1008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Voltage sources in series can b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algebraically added to form 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equivalent sour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28960" y="1955880"/>
            <a:ext cx="5235840" cy="100872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We select the reference direction 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move along the pa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Voltage drops are subtracted from r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1143000" y="1066680"/>
                <a:ext cx="36360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743200" y="2590920"/>
                <a:ext cx="36684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990720" y="457200"/>
                <a:ext cx="5824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3505320" y="2438280"/>
                <a:ext cx="30312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46160" y="1136520"/>
                <a:ext cx="19044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446200" y="304920"/>
                <a:ext cx="4813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664080" y="1085760"/>
                <a:ext cx="2570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  <m:e>
                        <m:r>
                          <m:t xml:space="preserve">+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2347920" y="3809880"/>
                <a:ext cx="5526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17440" y="2590920"/>
                <a:ext cx="21420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e>
                      <m:e>
                        <m:r>
                          <m:t xml:space="preserve">+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69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7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228600" y="233280"/>
          <a:ext cx="3900600" cy="299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33280"/>
                    <a:ext cx="3900600" cy="29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48240" y="23760"/>
            <a:ext cx="6429240" cy="39888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SECOND GENERALIZATION: MULTIPLE RESIS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371600" y="1224000"/>
            <a:ext cx="1752480" cy="1143000"/>
            <a:chOff x="1371600" y="1224000"/>
            <a:chExt cx="1752480" cy="1143000"/>
          </a:xfrm>
        </p:grpSpPr>
        <p:sp>
          <p:nvSpPr>
            <p:cNvPr id="176" name=""/>
            <p:cNvSpPr/>
            <p:nvPr/>
          </p:nvSpPr>
          <p:spPr>
            <a:xfrm>
              <a:off x="1371600" y="1224000"/>
              <a:ext cx="1752480" cy="1143000"/>
            </a:xfrm>
            <a:custGeom>
              <a:avLst/>
              <a:gdLst/>
              <a:ahLst/>
              <a:rect l="l" t="t" r="r" b="b"/>
              <a:pathLst>
                <a:path w="1104" h="720">
                  <a:moveTo>
                    <a:pt x="0" y="576"/>
                  </a:moveTo>
                  <a:lnTo>
                    <a:pt x="0" y="0"/>
                  </a:lnTo>
                  <a:lnTo>
                    <a:pt x="1104" y="0"/>
                  </a:lnTo>
                  <a:lnTo>
                    <a:pt x="1104" y="720"/>
                  </a:lnTo>
                  <a:lnTo>
                    <a:pt x="96" y="720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532880" y="1528920"/>
              <a:ext cx="1460880" cy="520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APPLY KV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TO THIS LOO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78" name=""/>
          <p:cNvGraphicFramePr/>
          <p:nvPr/>
        </p:nvGraphicFramePr>
        <p:xfrm>
          <a:off x="304920" y="3205080"/>
          <a:ext cx="3257280" cy="39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205080"/>
                    <a:ext cx="3257280" cy="39708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304920" y="3662280"/>
          <a:ext cx="4182840" cy="72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3662280"/>
                    <a:ext cx="4182840" cy="72720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533520" y="4424400"/>
          <a:ext cx="3450960" cy="363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520" y="4424400"/>
                    <a:ext cx="3450960" cy="36360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228600" y="4805280"/>
          <a:ext cx="1700280" cy="871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8600" y="4805280"/>
                    <a:ext cx="1700280" cy="87156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2286000" y="5491080"/>
          <a:ext cx="1957320" cy="933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86000" y="5491080"/>
                    <a:ext cx="1957320" cy="93348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117000" y="6329520"/>
            <a:ext cx="4341240" cy="3070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OLTAGE DIVISION FOR MULTIPLE RESIS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609480" y="5796000"/>
                <a:ext cx="16002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0" name=""/>
          <p:cNvGrpSpPr/>
          <p:nvPr/>
        </p:nvGrpSpPr>
        <p:grpSpPr>
          <a:xfrm>
            <a:off x="4724280" y="584280"/>
            <a:ext cx="3996000" cy="2481120"/>
            <a:chOff x="4724280" y="584280"/>
            <a:chExt cx="3996000" cy="2481120"/>
          </a:xfrm>
        </p:grpSpPr>
        <p:graphicFrame>
          <p:nvGraphicFramePr>
            <p:cNvPr id="191" name=""/>
            <p:cNvGraphicFramePr/>
            <p:nvPr/>
          </p:nvGraphicFramePr>
          <p:xfrm>
            <a:off x="4724280" y="888840"/>
            <a:ext cx="3996000" cy="21765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92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724280" y="888840"/>
                      <a:ext cx="3996000" cy="2176560"/>
                    </a:xfrm>
                    <a:prstGeom prst="rect">
                      <a:avLst/>
                    </a:prstGeom>
                    <a:ln w="2844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93" name=""/>
                <p:cNvSpPr txBox="1"/>
                <p:nvPr/>
              </p:nvSpPr>
              <p:spPr>
                <a:xfrm>
                  <a:off x="5562720" y="584280"/>
                  <a:ext cx="1904760" cy="32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IND </m:t>
                      </m:r>
                      <m:r>
                        <m:t xml:space="preserve">I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d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t xml:space="preserve">k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4" name=""/>
          <p:cNvGrpSpPr/>
          <p:nvPr/>
        </p:nvGrpSpPr>
        <p:grpSpPr>
          <a:xfrm>
            <a:off x="6095880" y="1617840"/>
            <a:ext cx="1447560" cy="761760"/>
            <a:chOff x="6095880" y="1617840"/>
            <a:chExt cx="1447560" cy="761760"/>
          </a:xfrm>
        </p:grpSpPr>
        <p:sp>
          <p:nvSpPr>
            <p:cNvPr id="195" name=""/>
            <p:cNvSpPr/>
            <p:nvPr/>
          </p:nvSpPr>
          <p:spPr>
            <a:xfrm>
              <a:off x="6095880" y="1617840"/>
              <a:ext cx="1447560" cy="761760"/>
            </a:xfrm>
            <a:custGeom>
              <a:avLst/>
              <a:gdLst/>
              <a:ahLst/>
              <a:rect l="l" t="t" r="r" b="b"/>
              <a:pathLst>
                <a:path w="1104" h="720">
                  <a:moveTo>
                    <a:pt x="0" y="576"/>
                  </a:moveTo>
                  <a:lnTo>
                    <a:pt x="0" y="0"/>
                  </a:lnTo>
                  <a:lnTo>
                    <a:pt x="1104" y="0"/>
                  </a:lnTo>
                  <a:lnTo>
                    <a:pt x="1104" y="720"/>
                  </a:lnTo>
                  <a:lnTo>
                    <a:pt x="96" y="720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77240" y="1770120"/>
              <a:ext cx="1278000" cy="459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Lucida Console"/>
                </a:rPr>
                <a:t>APPLY KV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Lucida Console"/>
                </a:rPr>
                <a:t>TO THIS 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97" name=""/>
          <p:cNvGraphicFramePr/>
          <p:nvPr/>
        </p:nvGraphicFramePr>
        <p:xfrm>
          <a:off x="5029200" y="3141720"/>
          <a:ext cx="3444840" cy="4284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029200" y="3141720"/>
                    <a:ext cx="3444840" cy="42840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6095880" y="3598920"/>
          <a:ext cx="1068480" cy="3049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095880" y="3598920"/>
                    <a:ext cx="1068480" cy="30492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01" name=""/>
          <p:cNvGrpSpPr/>
          <p:nvPr/>
        </p:nvGrpSpPr>
        <p:grpSpPr>
          <a:xfrm>
            <a:off x="6553080" y="1389240"/>
            <a:ext cx="2438280" cy="1269360"/>
            <a:chOff x="6553080" y="1389240"/>
            <a:chExt cx="2438280" cy="1269360"/>
          </a:xfrm>
        </p:grpSpPr>
        <p:sp>
          <p:nvSpPr>
            <p:cNvPr id="202" name=""/>
            <p:cNvSpPr/>
            <p:nvPr/>
          </p:nvSpPr>
          <p:spPr>
            <a:xfrm>
              <a:off x="6553080" y="1389240"/>
              <a:ext cx="1066680" cy="1218960"/>
            </a:xfrm>
            <a:custGeom>
              <a:avLst/>
              <a:gdLst/>
              <a:ahLst/>
              <a:rect l="l" t="t" r="r" b="b"/>
              <a:pathLst>
                <a:path w="672" h="768">
                  <a:moveTo>
                    <a:pt x="0" y="48"/>
                  </a:moveTo>
                  <a:lnTo>
                    <a:pt x="672" y="768"/>
                  </a:lnTo>
                  <a:lnTo>
                    <a:pt x="672" y="0"/>
                  </a:lnTo>
                  <a:lnTo>
                    <a:pt x="144" y="0"/>
                  </a:lnTo>
                </a:path>
              </a:pathLst>
            </a:custGeom>
            <a:noFill/>
            <a:ln w="28440">
              <a:solidFill>
                <a:srgbClr val="00cc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3" name=""/>
                <p:cNvSpPr txBox="1"/>
                <p:nvPr/>
              </p:nvSpPr>
              <p:spPr>
                <a:xfrm>
                  <a:off x="7619760" y="2366640"/>
                  <a:ext cx="1371600" cy="29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OP  FOR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4718160" y="4000680"/>
                <a:ext cx="4000320" cy="29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k</m:t>
                    </m:r>
                    <m:r>
                      <m:t xml:space="preserve"> </m:t>
                    </m:r>
                    <m:r>
                      <m:t xml:space="preserve">Ω</m:t>
                    </m:r>
                    <m:r>
                      <m:t xml:space="preserve">]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VL</m:t>
                    </m:r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4876920" y="4437000"/>
                <a:ext cx="396216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OWER ON 30k</m:t>
                        </m:r>
                        <m:r>
                          <m:t xml:space="preserve"> 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SISTOR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A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m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06" name="geaux" descr=""/>
          <p:cNvPicPr/>
          <p:nvPr/>
        </p:nvPicPr>
        <p:blipFill>
          <a:blip r:embed="rId19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0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" action="ppaction://hlinkshowjump?jump=previousslide"/>
          </p:cNvPr>
          <p:cNvSpPr/>
          <p:nvPr/>
        </p:nvSpPr>
        <p:spPr>
          <a:xfrm>
            <a:off x="41292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66320" y="61920"/>
            <a:ext cx="4158360" cy="36828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THE “INVERSE” VOLTAGE DIVI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947880" y="5667480"/>
                <a:ext cx="278424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INVERSE</m:t>
                        </m:r>
                        <m:r>
                          <m:rPr>
                            <m:lit/>
                            <m:nor/>
                          </m:rPr>
                          <m:t xml:space="preserve">  DIVIDER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20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2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45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0</m:t>
                        </m:r>
                        <m:r>
                          <m:t xml:space="preserve">k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211" name=""/>
          <p:cNvGraphicFramePr/>
          <p:nvPr/>
        </p:nvGraphicFramePr>
        <p:xfrm>
          <a:off x="0" y="407880"/>
          <a:ext cx="4876920" cy="24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07880"/>
                    <a:ext cx="4876920" cy="249876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13" name=""/>
          <p:cNvGrpSpPr/>
          <p:nvPr/>
        </p:nvGrpSpPr>
        <p:grpSpPr>
          <a:xfrm>
            <a:off x="304920" y="3429000"/>
            <a:ext cx="4038480" cy="2055960"/>
            <a:chOff x="304920" y="3429000"/>
            <a:chExt cx="4038480" cy="2055960"/>
          </a:xfrm>
        </p:grpSpPr>
        <p:graphicFrame>
          <p:nvGraphicFramePr>
            <p:cNvPr id="214" name=""/>
            <p:cNvGraphicFramePr/>
            <p:nvPr/>
          </p:nvGraphicFramePr>
          <p:xfrm>
            <a:off x="304920" y="3733920"/>
            <a:ext cx="4038480" cy="1751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4920" y="3733920"/>
                      <a:ext cx="4038480" cy="1751040"/>
                    </a:xfrm>
                    <a:prstGeom prst="rect">
                      <a:avLst/>
                    </a:prstGeom>
                    <a:ln w="2844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216" name=""/>
                <p:cNvSpPr txBox="1"/>
                <p:nvPr/>
              </p:nvSpPr>
              <p:spPr>
                <a:xfrm>
                  <a:off x="1371600" y="3429000"/>
                  <a:ext cx="1384200" cy="31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MPUTE 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217" name=""/>
          <p:cNvGraphicFramePr/>
          <p:nvPr/>
        </p:nvGraphicFramePr>
        <p:xfrm>
          <a:off x="4952880" y="19080"/>
          <a:ext cx="3894120" cy="2343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52880" y="19080"/>
                    <a:ext cx="3894120" cy="23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9" name=""/>
          <p:cNvGrpSpPr/>
          <p:nvPr/>
        </p:nvGrpSpPr>
        <p:grpSpPr>
          <a:xfrm>
            <a:off x="6553080" y="1219320"/>
            <a:ext cx="1447560" cy="761760"/>
            <a:chOff x="6553080" y="1219320"/>
            <a:chExt cx="1447560" cy="761760"/>
          </a:xfrm>
        </p:grpSpPr>
        <p:sp>
          <p:nvSpPr>
            <p:cNvPr id="220" name=""/>
            <p:cNvSpPr/>
            <p:nvPr/>
          </p:nvSpPr>
          <p:spPr>
            <a:xfrm>
              <a:off x="6553080" y="1219320"/>
              <a:ext cx="1447560" cy="761760"/>
            </a:xfrm>
            <a:custGeom>
              <a:avLst/>
              <a:gdLst/>
              <a:ahLst/>
              <a:rect l="l" t="t" r="r" b="b"/>
              <a:pathLst>
                <a:path w="1104" h="720">
                  <a:moveTo>
                    <a:pt x="0" y="576"/>
                  </a:moveTo>
                  <a:lnTo>
                    <a:pt x="0" y="0"/>
                  </a:lnTo>
                  <a:lnTo>
                    <a:pt x="1104" y="0"/>
                  </a:lnTo>
                  <a:lnTo>
                    <a:pt x="1104" y="720"/>
                  </a:lnTo>
                  <a:lnTo>
                    <a:pt x="96" y="720"/>
                  </a:lnTo>
                </a:path>
              </a:pathLst>
            </a:custGeom>
            <a:solidFill>
              <a:srgbClr val="ccecff"/>
            </a:solidFill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634440" y="1371600"/>
              <a:ext cx="1278000" cy="4590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Lucida Console"/>
                </a:rPr>
                <a:t>APPLY KV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Lucida Console"/>
                </a:rPr>
                <a:t>TO THIS 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4724280" y="2411280"/>
                <a:ext cx="4343400" cy="2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rPr>
                        <m:lit/>
                        <m:nor/>
                      </m:rPr>
                      <m:t xml:space="preserve">kI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kI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7086600" y="1066680"/>
            <a:ext cx="990720" cy="1219320"/>
          </a:xfrm>
          <a:custGeom>
            <a:avLst/>
            <a:gdLst/>
            <a:ahLst/>
            <a:rect l="l" t="t" r="r" b="b"/>
            <a:pathLst>
              <a:path w="624" h="768">
                <a:moveTo>
                  <a:pt x="0" y="0"/>
                </a:moveTo>
                <a:lnTo>
                  <a:pt x="624" y="768"/>
                </a:lnTo>
                <a:lnTo>
                  <a:pt x="624" y="0"/>
                </a:lnTo>
                <a:lnTo>
                  <a:pt x="96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5334120" y="2698920"/>
                <a:ext cx="335268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kI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25" name=""/>
          <p:cNvGraphicFramePr/>
          <p:nvPr/>
        </p:nvGraphicFramePr>
        <p:xfrm>
          <a:off x="4876920" y="3483000"/>
          <a:ext cx="4190760" cy="1827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76920" y="3483000"/>
                    <a:ext cx="4190760" cy="18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5407200" y="4292640"/>
                <a:ext cx="30780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V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5867280" y="5835600"/>
                <a:ext cx="22226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5119920" y="5349960"/>
            <a:ext cx="2634480" cy="307080"/>
          </a:xfrm>
          <a:prstGeom prst="rect">
            <a:avLst/>
          </a:prstGeom>
          <a:solidFill>
            <a:srgbClr val="ccecff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VERSE DIVIDER PROBL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"/>
          <p:cNvGraphicFramePr/>
          <p:nvPr/>
        </p:nvGraphicFramePr>
        <p:xfrm>
          <a:off x="0" y="685800"/>
          <a:ext cx="4619520" cy="32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85800"/>
                    <a:ext cx="4619520" cy="32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20520" y="533520"/>
            <a:ext cx="927360" cy="30708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143000" y="1676520"/>
            <a:ext cx="1447560" cy="761760"/>
            <a:chOff x="1143000" y="1676520"/>
            <a:chExt cx="1447560" cy="761760"/>
          </a:xfrm>
        </p:grpSpPr>
        <p:sp>
          <p:nvSpPr>
            <p:cNvPr id="237" name=""/>
            <p:cNvSpPr/>
            <p:nvPr/>
          </p:nvSpPr>
          <p:spPr>
            <a:xfrm>
              <a:off x="1143000" y="1676520"/>
              <a:ext cx="1447560" cy="761760"/>
            </a:xfrm>
            <a:custGeom>
              <a:avLst/>
              <a:gdLst/>
              <a:ahLst/>
              <a:rect l="l" t="t" r="r" b="b"/>
              <a:pathLst>
                <a:path w="1104" h="720">
                  <a:moveTo>
                    <a:pt x="0" y="576"/>
                  </a:moveTo>
                  <a:lnTo>
                    <a:pt x="0" y="0"/>
                  </a:lnTo>
                  <a:lnTo>
                    <a:pt x="1104" y="0"/>
                  </a:lnTo>
                  <a:lnTo>
                    <a:pt x="1104" y="720"/>
                  </a:lnTo>
                  <a:lnTo>
                    <a:pt x="96" y="720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224360" y="1828800"/>
              <a:ext cx="1278000" cy="459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Lucida Console"/>
                </a:rPr>
                <a:t>APPLY KV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Lucida Console"/>
                </a:rPr>
                <a:t>TO THIS 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304920" y="4019400"/>
                <a:ext cx="280656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VL:  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3193920" y="4019400"/>
                <a:ext cx="76212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380880" y="4400640"/>
                <a:ext cx="243864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VL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2895480" y="4400640"/>
                <a:ext cx="9907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380880" y="4781520"/>
                <a:ext cx="20448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VL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44" name=""/>
          <p:cNvGrpSpPr/>
          <p:nvPr/>
        </p:nvGrpSpPr>
        <p:grpSpPr>
          <a:xfrm>
            <a:off x="1523880" y="1447920"/>
            <a:ext cx="533520" cy="228600"/>
            <a:chOff x="1523880" y="1447920"/>
            <a:chExt cx="533520" cy="228600"/>
          </a:xfrm>
        </p:grpSpPr>
        <p:sp>
          <p:nvSpPr>
            <p:cNvPr id="245" name=""/>
            <p:cNvSpPr/>
            <p:nvPr/>
          </p:nvSpPr>
          <p:spPr>
            <a:xfrm>
              <a:off x="1523880" y="1447920"/>
              <a:ext cx="5335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6" name=""/>
                <p:cNvSpPr txBox="1"/>
                <p:nvPr/>
              </p:nvSpPr>
              <p:spPr>
                <a:xfrm>
                  <a:off x="1601640" y="1486080"/>
                  <a:ext cx="150840" cy="19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304920" y="5138640"/>
                <a:ext cx="43434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ASSIVE SIGN CONVENTIO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380880" y="5543640"/>
                <a:ext cx="25909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HMS' LAW:  </m:t>
                    </m:r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380880" y="6153120"/>
                <a:ext cx="259092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∗</m:t>
                    </m:r>
                    <m:r>
                      <m:t xml:space="preserve">1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W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0" name=""/>
          <p:cNvGrpSpPr/>
          <p:nvPr/>
        </p:nvGrpSpPr>
        <p:grpSpPr>
          <a:xfrm>
            <a:off x="5029200" y="228600"/>
            <a:ext cx="3843360" cy="4267080"/>
            <a:chOff x="5029200" y="228600"/>
            <a:chExt cx="3843360" cy="4267080"/>
          </a:xfrm>
        </p:grpSpPr>
        <p:graphicFrame>
          <p:nvGraphicFramePr>
            <p:cNvPr id="251" name=""/>
            <p:cNvGraphicFramePr/>
            <p:nvPr/>
          </p:nvGraphicFramePr>
          <p:xfrm>
            <a:off x="5029200" y="457200"/>
            <a:ext cx="3843360" cy="4038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29200" y="457200"/>
                      <a:ext cx="3843360" cy="4038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3" name=""/>
            <p:cNvSpPr/>
            <p:nvPr/>
          </p:nvSpPr>
          <p:spPr>
            <a:xfrm>
              <a:off x="5111640" y="228600"/>
              <a:ext cx="927360" cy="307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EXAMP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5867280" y="1295280"/>
            <a:ext cx="1904760" cy="1066680"/>
            <a:chOff x="5867280" y="1295280"/>
            <a:chExt cx="1904760" cy="1066680"/>
          </a:xfrm>
        </p:grpSpPr>
        <p:grpSp>
          <p:nvGrpSpPr>
            <p:cNvPr id="255" name=""/>
            <p:cNvGrpSpPr/>
            <p:nvPr/>
          </p:nvGrpSpPr>
          <p:grpSpPr>
            <a:xfrm>
              <a:off x="6324480" y="1600200"/>
              <a:ext cx="1447560" cy="761760"/>
              <a:chOff x="6324480" y="1600200"/>
              <a:chExt cx="1447560" cy="761760"/>
            </a:xfrm>
          </p:grpSpPr>
          <p:sp>
            <p:nvSpPr>
              <p:cNvPr id="256" name=""/>
              <p:cNvSpPr/>
              <p:nvPr/>
            </p:nvSpPr>
            <p:spPr>
              <a:xfrm>
                <a:off x="6324480" y="1600200"/>
                <a:ext cx="1447560" cy="761760"/>
              </a:xfrm>
              <a:custGeom>
                <a:avLst/>
                <a:gdLst/>
                <a:ahLst/>
                <a:rect l="l" t="t" r="r" b="b"/>
                <a:pathLst>
                  <a:path w="1104" h="720">
                    <a:moveTo>
                      <a:pt x="0" y="576"/>
                    </a:moveTo>
                    <a:lnTo>
                      <a:pt x="0" y="0"/>
                    </a:lnTo>
                    <a:lnTo>
                      <a:pt x="1104" y="0"/>
                    </a:lnTo>
                    <a:lnTo>
                      <a:pt x="1104" y="720"/>
                    </a:lnTo>
                    <a:lnTo>
                      <a:pt x="96" y="720"/>
                    </a:lnTo>
                  </a:path>
                </a:pathLst>
              </a:custGeom>
              <a:noFill/>
              <a:ln w="28440">
                <a:solidFill>
                  <a:srgbClr val="3333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405480" y="1752480"/>
                <a:ext cx="1186560" cy="4590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Lucida Console"/>
                  </a:rPr>
                  <a:t>DETERMINE 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Lucida Console"/>
                  </a:rPr>
                  <a:t>USING KV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5867280" y="1295280"/>
              <a:ext cx="12193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9" name=""/>
                <p:cNvSpPr txBox="1"/>
                <p:nvPr/>
              </p:nvSpPr>
              <p:spPr>
                <a:xfrm>
                  <a:off x="6477120" y="1371600"/>
                  <a:ext cx="150840" cy="19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4876920" y="4876920"/>
                <a:ext cx="37465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VL:  -1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k*I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0k*I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k*I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7442280" y="5130720"/>
                <a:ext cx="17017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k</m:t>
                        </m:r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6781680" y="4114800"/>
                <a:ext cx="69876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6781680" y="3581280"/>
                <a:ext cx="1371600" cy="2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k</m:t>
                    </m:r>
                    <m:r>
                      <m:t xml:space="preserve">∗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4" name=""/>
          <p:cNvGrpSpPr/>
          <p:nvPr/>
        </p:nvGrpSpPr>
        <p:grpSpPr>
          <a:xfrm>
            <a:off x="5410080" y="1371600"/>
            <a:ext cx="2743200" cy="1066680"/>
            <a:chOff x="5410080" y="1371600"/>
            <a:chExt cx="2743200" cy="1066680"/>
          </a:xfrm>
        </p:grpSpPr>
        <p:sp>
          <p:nvSpPr>
            <p:cNvPr id="265" name=""/>
            <p:cNvSpPr/>
            <p:nvPr/>
          </p:nvSpPr>
          <p:spPr>
            <a:xfrm>
              <a:off x="5562720" y="1371600"/>
              <a:ext cx="2590560" cy="1066680"/>
            </a:xfrm>
            <a:custGeom>
              <a:avLst/>
              <a:gdLst/>
              <a:ahLst/>
              <a:rect l="l" t="t" r="r" b="b"/>
              <a:pathLst>
                <a:path w="1632" h="672">
                  <a:moveTo>
                    <a:pt x="1632" y="672"/>
                  </a:moveTo>
                  <a:lnTo>
                    <a:pt x="0" y="0"/>
                  </a:lnTo>
                  <a:lnTo>
                    <a:pt x="0" y="576"/>
                  </a:lnTo>
                  <a:lnTo>
                    <a:pt x="1152" y="576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6" name=""/>
                <p:cNvSpPr txBox="1"/>
                <p:nvPr/>
              </p:nvSpPr>
              <p:spPr>
                <a:xfrm>
                  <a:off x="5410080" y="1981080"/>
                  <a:ext cx="116856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KVL FOR 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4952880" y="5791320"/>
                <a:ext cx="259092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VL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k</m:t>
                    </m:r>
                    <m:r>
                      <m:t xml:space="preserve">∗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6934320" y="6095880"/>
                <a:ext cx="137160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69" name="stop" descr=""/>
          <p:cNvPicPr/>
          <p:nvPr/>
        </p:nvPicPr>
        <p:blipFill>
          <a:blip r:embed="rId5"/>
          <a:stretch/>
        </p:blipFill>
        <p:spPr>
          <a:xfrm>
            <a:off x="8610480" y="6324480"/>
            <a:ext cx="514440" cy="514440"/>
          </a:xfrm>
          <a:prstGeom prst="rect">
            <a:avLst/>
          </a:prstGeom>
          <a:ln w="0">
            <a:noFill/>
          </a:ln>
        </p:spPr>
      </p:pic>
      <p:sp>
        <p:nvSpPr>
          <p:cNvPr id="27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533520" y="0"/>
            <a:ext cx="2438280" cy="1371600"/>
            <a:chOff x="533520" y="0"/>
            <a:chExt cx="2438280" cy="1371600"/>
          </a:xfrm>
        </p:grpSpPr>
        <mc:AlternateContent>
          <mc:Choice xmlns:a14="http://schemas.microsoft.com/office/drawing/2010/main" Requires="a14">
            <p:sp>
              <p:nvSpPr>
                <p:cNvPr id="272" name=""/>
                <p:cNvSpPr txBox="1"/>
                <p:nvPr/>
              </p:nvSpPr>
              <p:spPr>
                <a:xfrm>
                  <a:off x="838080" y="0"/>
                  <a:ext cx="14860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+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73" name=""/>
            <p:cNvSpPr/>
            <p:nvPr/>
          </p:nvSpPr>
          <p:spPr>
            <a:xfrm flipV="1">
              <a:off x="2971800" y="228240"/>
              <a:ext cx="0" cy="10666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533520" y="0"/>
              <a:ext cx="0" cy="13716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685800" y="228600"/>
            <a:ext cx="3264840" cy="990720"/>
            <a:chOff x="685800" y="228600"/>
            <a:chExt cx="3264840" cy="990720"/>
          </a:xfrm>
        </p:grpSpPr>
        <p:sp>
          <p:nvSpPr>
            <p:cNvPr id="276" name=""/>
            <p:cNvSpPr/>
            <p:nvPr/>
          </p:nvSpPr>
          <p:spPr>
            <a:xfrm>
              <a:off x="2916360" y="228600"/>
              <a:ext cx="1034280" cy="307080"/>
            </a:xfrm>
            <a:prstGeom prst="rect">
              <a:avLst/>
            </a:prstGeom>
            <a:noFill/>
            <a:ln w="284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KVL HE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85800" y="228600"/>
              <a:ext cx="2133720" cy="990720"/>
            </a:xfrm>
            <a:custGeom>
              <a:avLst/>
              <a:gdLst/>
              <a:ahLst/>
              <a:rect l="l" t="t" r="r" b="b"/>
              <a:pathLst>
                <a:path w="1344" h="624">
                  <a:moveTo>
                    <a:pt x="1344" y="0"/>
                  </a:moveTo>
                  <a:lnTo>
                    <a:pt x="0" y="0"/>
                  </a:lnTo>
                  <a:lnTo>
                    <a:pt x="96" y="624"/>
                  </a:lnTo>
                  <a:lnTo>
                    <a:pt x="1344" y="624"/>
                  </a:lnTo>
                  <a:lnTo>
                    <a:pt x="1344" y="144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704880" y="281160"/>
            <a:ext cx="2190600" cy="2616840"/>
            <a:chOff x="704880" y="281160"/>
            <a:chExt cx="2190600" cy="2616840"/>
          </a:xfrm>
        </p:grpSpPr>
        <p:sp>
          <p:nvSpPr>
            <p:cNvPr id="279" name=""/>
            <p:cNvSpPr/>
            <p:nvPr/>
          </p:nvSpPr>
          <p:spPr>
            <a:xfrm>
              <a:off x="1394280" y="2590920"/>
              <a:ext cx="1354320" cy="307080"/>
            </a:xfrm>
            <a:prstGeom prst="rect">
              <a:avLst/>
            </a:prstGeom>
            <a:noFill/>
            <a:ln w="284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OR KVL HE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4880" y="281160"/>
              <a:ext cx="2190600" cy="2130120"/>
            </a:xfrm>
            <a:custGeom>
              <a:avLst/>
              <a:gdLst/>
              <a:ahLst/>
              <a:rect l="l" t="t" r="r" b="b"/>
              <a:pathLst>
                <a:path w="1380" h="1342">
                  <a:moveTo>
                    <a:pt x="1380" y="15"/>
                  </a:moveTo>
                  <a:cubicBezTo>
                    <a:pt x="1000" y="0"/>
                    <a:pt x="614" y="15"/>
                    <a:pt x="234" y="10"/>
                  </a:cubicBezTo>
                  <a:cubicBezTo>
                    <a:pt x="144" y="5"/>
                    <a:pt x="95" y="10"/>
                    <a:pt x="16" y="10"/>
                  </a:cubicBezTo>
                  <a:cubicBezTo>
                    <a:pt x="13" y="275"/>
                    <a:pt x="0" y="540"/>
                    <a:pt x="0" y="805"/>
                  </a:cubicBezTo>
                  <a:cubicBezTo>
                    <a:pt x="0" y="940"/>
                    <a:pt x="3" y="1075"/>
                    <a:pt x="8" y="1210"/>
                  </a:cubicBezTo>
                  <a:cubicBezTo>
                    <a:pt x="9" y="1227"/>
                    <a:pt x="11" y="1342"/>
                    <a:pt x="31" y="1319"/>
                  </a:cubicBezTo>
                  <a:cubicBezTo>
                    <a:pt x="459" y="1332"/>
                    <a:pt x="889" y="1327"/>
                    <a:pt x="1317" y="1327"/>
                  </a:cubicBezTo>
                  <a:cubicBezTo>
                    <a:pt x="1325" y="801"/>
                    <a:pt x="1202" y="928"/>
                    <a:pt x="1333" y="797"/>
                  </a:cubicBezTo>
                </a:path>
              </a:pathLst>
            </a:custGeom>
            <a:noFill/>
            <a:ln w="28440">
              <a:solidFill>
                <a:srgbClr val="00cc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3505320" y="1066680"/>
            <a:ext cx="1143000" cy="5335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505320" y="1600200"/>
            <a:ext cx="1143000" cy="4572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505320" y="2057400"/>
            <a:ext cx="1143000" cy="5335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9T12:07:19Z</dcterms:created>
  <dc:creator>Jorge Aravena</dc:creator>
  <dc:description/>
  <dc:language>en-US</dc:language>
  <cp:lastModifiedBy>Jorge Aravena</cp:lastModifiedBy>
  <dcterms:modified xsi:type="dcterms:W3CDTF">2001-03-22T13:25:42Z</dcterms:modified>
  <cp:revision>23</cp:revision>
  <dc:subject/>
  <dc:title>No Slide Title</dc:title>
</cp:coreProperties>
</file>