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6C3-AF97-4113-8DD0-F934053F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08D-562D-4A02-8A43-CBD7E49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16F-12C4-4543-B50B-9A989F3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C74-4240-48D7-B915-6C7DFED0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C0D-82D6-4D4C-9622-A726B80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F0B-CC20-4420-BB9C-3C6B8A4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A1F-1732-4994-B8CB-60403A7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F94-265E-4EE0-B366-C803ECD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CEF-8214-45BD-A801-F013C25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318-2780-41B1-809F-2BB590A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976-30D3-4D02-B1D0-09A671F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285-BD94-4ECE-B498-D365681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1A87-6F1F-4415-8430-E26EF11E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top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95360" y="257040"/>
          <a:ext cx="815328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57040"/>
                    <a:ext cx="815328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1-03-22T13:25:54Z</dcterms:modified>
  <cp:revision>19</cp:revision>
  <dc:subject/>
  <dc:title>No Slide Title</dc:title>
</cp:coreProperties>
</file>