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A9F-C5A5-44CC-8EB9-051EF142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695-01C4-4EAF-9FC4-ED4B10D5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984-FBBC-4CBE-BB3A-B1398E60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8DF-D55C-40FB-A2D5-F0B85232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4D8-6240-4B93-A796-430FB92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E23-74F9-433A-8DDD-D22AEACB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A13-B762-493C-A408-969B2C6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D97-DD94-4242-8961-48D5BD65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989-8657-44AC-A1BC-E48F72F3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51B-83FE-4F2A-9117-6BA098B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019-0738-4A5D-8C09-07A0706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6BF-8F8B-4289-BDC3-64BBE42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E86F-B954-47D8-9D04-CA67DA781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8:43:10Z</dcterms:created>
  <dc:creator>student</dc:creator>
  <dc:description/>
  <dc:language>en-US</dc:language>
  <cp:lastModifiedBy>Jorge Aravena</cp:lastModifiedBy>
  <cp:lastPrinted>2001-01-02T18:27:37Z</cp:lastPrinted>
  <dcterms:modified xsi:type="dcterms:W3CDTF">2001-03-10T22:24:36Z</dcterms:modified>
  <cp:revision>16</cp:revision>
  <dc:subject/>
  <dc:title>No Slide Title</dc:title>
</cp:coreProperties>
</file>