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.png" ContentType="image/png"/>
  <Override PartName="/ppt/media/image3.png" ContentType="image/png"/>
  <Override PartName="/ppt/media/image33.png" ContentType="image/png"/>
  <Override PartName="/ppt/media/image27.wmf" ContentType="image/x-wmf"/>
  <Override PartName="/ppt/media/image4.wmf" ContentType="image/x-wmf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44.png" ContentType="image/png"/>
  <Override PartName="/ppt/media/image32.wmf" ContentType="image/x-wmf"/>
  <Override PartName="/ppt/media/image7.wmf" ContentType="image/x-wmf"/>
  <Override PartName="/ppt/media/image10.png" ContentType="image/png"/>
  <Override PartName="/ppt/media/image47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0.png" ContentType="image/png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13.png" ContentType="image/png"/>
  <Override PartName="/ppt/media/image53.wmf" ContentType="image/x-wmf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D65-278B-40B0-965A-6C089E90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84F-9755-4C7D-B675-241C3598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10D-AEE3-40A1-BBBC-F32F2920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580-9FD7-40C8-91B8-DC95E504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4DC-C44E-4597-A361-E9A46408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A2B-1951-47EA-ADFD-FE693BE7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63F-94E3-49CD-9E71-570FF9EF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5AC-DBFC-4733-B87E-A1D2D969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F70-F626-4990-9E83-7A8D6E91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FC7-CAB9-4696-8E62-A60AFA7E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A39-AB23-41EC-81FD-570DB3F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BD4-1FF8-4560-A12E-E5E6B03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209C-14DD-432E-B22F-01A304E96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0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5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580960" y="6084720"/>
            <a:ext cx="563040" cy="773280"/>
            <a:chOff x="8580960" y="6084720"/>
            <a:chExt cx="563040" cy="773280"/>
          </a:xfrm>
        </p:grpSpPr>
        <p:pic>
          <p:nvPicPr>
            <p:cNvPr id="283" name="stop" descr=""/>
            <p:cNvPicPr/>
            <p:nvPr/>
          </p:nvPicPr>
          <p:blipFill>
            <a:blip r:embed="rId3"/>
            <a:stretch/>
          </p:blipFill>
          <p:spPr>
            <a:xfrm>
              <a:off x="862956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8580960" y="6084720"/>
              <a:ext cx="546480" cy="3373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480960" y="-57240"/>
          <a:ext cx="33051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51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17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78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7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09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8" name="stop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105520" y="13716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3716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648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52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1219320"/>
          <a:ext cx="28954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762120" y="1219320"/>
                    <a:ext cx="28954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684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2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3886200"/>
          <a:ext cx="2209680" cy="20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86200"/>
                    <a:ext cx="2209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5943600"/>
          <a:ext cx="34959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943600"/>
                    <a:ext cx="3495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82472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7200" y="2660760"/>
            <a:ext cx="184284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4024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143680" y="487692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00600" y="4876920"/>
            <a:ext cx="3733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72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5056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 rot="10800000">
          <a:off x="5445000" y="396216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5445000" y="396216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eaux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480" y="51055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03240" y="548640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1-03-20T02:52:45Z</dcterms:modified>
  <cp:revision>20</cp:revision>
  <dc:subject/>
  <dc:title>No Slide Title</dc:title>
</cp:coreProperties>
</file>