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EC45-BB81-4178-83E6-4E4373FB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3860-73F8-4198-997C-E0F609AC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625-06F2-496A-AF7C-ED411204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1B4-F0BF-4E72-BF1F-9B3BDFF7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0192-0A1C-41CF-9BFF-DE3F7C13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6D6A-CE75-45FD-9A61-1690CD58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493D-078D-42DC-BD8F-F96369CF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A57-2FBB-404F-B0D5-A27CB9DB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BF5-30C0-4A1B-BD57-7C52709D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2E8-3C80-48DD-9F46-618C6AAE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393-FAB1-48A7-AC68-08D15E3D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6A7D-84BD-4F98-B99B-FE08A414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9F43-8DF9-47D3-87E7-44693FF3E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6200" y="533520"/>
            <a:ext cx="4861080" cy="5205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KIRCHHOFF CURRENT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1240" y="1600200"/>
            <a:ext cx="85932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ONE OF THE FUNDAMENTAL CONSERVATION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 ELECTRICAL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6400" y="4027320"/>
            <a:ext cx="5026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HARGE CANNOT BE CREATED NOR DESTROYE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0" y="219240"/>
          <a:ext cx="624852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9240"/>
                    <a:ext cx="624852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3733920" y="2743200"/>
            <a:ext cx="0" cy="1066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422520" y="3276720"/>
                <a:ext cx="228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73160" y="5029200"/>
                <a:ext cx="29192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 flipV="1">
            <a:off x="990720" y="2666880"/>
            <a:ext cx="0" cy="1371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838080" y="5486400"/>
                <a:ext cx="1708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990720" y="59436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195720" y="36576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95360" y="36450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143000" y="2590920"/>
            <a:ext cx="1371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172200" y="304812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172200" y="190512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219320" y="11430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129528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259092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666880" y="25909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47000" y="3962520"/>
            <a:ext cx="103428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22800" y="4359240"/>
            <a:ext cx="306108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ARK ALL THE KNOWN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12360" y="4740120"/>
            <a:ext cx="402120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ND NODES WHERE ALL BUT ON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KN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236232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88620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236232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9080" y="304920"/>
            <a:ext cx="456984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TERMINE THE CURRENTS IN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28600" y="-76320"/>
          <a:ext cx="5638680" cy="51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-76320"/>
                    <a:ext cx="56386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200400" y="2590920"/>
            <a:ext cx="38088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2590920"/>
            <a:ext cx="38124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5120" y="2590920"/>
            <a:ext cx="9144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828800" y="2209680"/>
                <a:ext cx="184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057400" y="3124080"/>
                <a:ext cx="18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 flipV="1">
            <a:off x="3581280" y="297144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25909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447920" y="1752480"/>
                <a:ext cx="163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286000" y="3124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006640" y="1054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6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4120" y="2516040"/>
            <a:ext cx="3124080" cy="1508400"/>
            <a:chOff x="5334120" y="2516040"/>
            <a:chExt cx="3124080" cy="1508400"/>
          </a:xfrm>
        </p:grpSpPr>
        <p:sp>
          <p:nvSpPr>
            <p:cNvPr id="260" name=""/>
            <p:cNvSpPr/>
            <p:nvPr/>
          </p:nvSpPr>
          <p:spPr>
            <a:xfrm>
              <a:off x="5334120" y="2590920"/>
              <a:ext cx="38088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791320" y="2516040"/>
              <a:ext cx="2666880" cy="1508400"/>
              <a:chOff x="5791320" y="2516040"/>
              <a:chExt cx="2666880" cy="1508400"/>
            </a:xfrm>
          </p:grpSpPr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6172200" y="2516040"/>
                    <a:ext cx="2286000" cy="110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RIFICATION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63" name=""/>
              <p:cNvGrpSpPr/>
              <p:nvPr/>
            </p:nvGrpSpPr>
            <p:grpSpPr>
              <a:xfrm>
                <a:off x="5791320" y="2971800"/>
                <a:ext cx="315720" cy="1052640"/>
                <a:chOff x="5791320" y="2971800"/>
                <a:chExt cx="315720" cy="1052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791320" y="29718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65" name=""/>
                    <p:cNvSpPr txBox="1"/>
                    <p:nvPr/>
                  </p:nvSpPr>
                  <p:spPr>
                    <a:xfrm>
                      <a:off x="5867280" y="3733920"/>
                      <a:ext cx="23976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00040" y="1330200"/>
          <a:ext cx="377028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330200"/>
                    <a:ext cx="377028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2170080" y="149400"/>
            <a:ext cx="405792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is question tests KCL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nvention to denote cur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2960" y="888840"/>
            <a:ext cx="485784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Use sum of currents leaving node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990720" y="1523880"/>
                <a:ext cx="27748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1452960" y="3962520"/>
            <a:ext cx="5785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53240" y="4267080"/>
            <a:ext cx="34992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4251240"/>
            <a:ext cx="36828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276720" y="1828440"/>
            <a:ext cx="76176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3200400"/>
            <a:ext cx="60984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2666880"/>
            <a:ext cx="7617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429000" y="2590920"/>
                <a:ext cx="19890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1605960" y="4648320"/>
            <a:ext cx="4932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02200" y="5013360"/>
            <a:ext cx="34992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5013360"/>
            <a:ext cx="39996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stop" descr=""/>
          <p:cNvPicPr/>
          <p:nvPr/>
        </p:nvPicPr>
        <p:blipFill>
          <a:blip r:embed="rId3"/>
          <a:stretch/>
        </p:blipFill>
        <p:spPr>
          <a:xfrm>
            <a:off x="8629560" y="634356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2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28600" y="739800"/>
          <a:ext cx="326700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39800"/>
                    <a:ext cx="326700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887040" y="193680"/>
            <a:ext cx="31982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DES, BRANCHES, LO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240" y="3570120"/>
            <a:ext cx="505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: point where two, or more,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re joined (e.g., big node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838080"/>
            <a:ext cx="2286000" cy="38124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240" y="4164120"/>
            <a:ext cx="4935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OOP: A closed path that never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wice over a node (e.g., the blue l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04840" y="1150920"/>
            <a:ext cx="1928880" cy="1984320"/>
          </a:xfrm>
          <a:custGeom>
            <a:avLst/>
            <a:gdLst/>
            <a:ahLst/>
            <a:rect l="l" t="t" r="r" b="b"/>
            <a:pathLst>
              <a:path w="1215" h="1247">
                <a:moveTo>
                  <a:pt x="568" y="1247"/>
                </a:moveTo>
                <a:cubicBezTo>
                  <a:pt x="572" y="1190"/>
                  <a:pt x="584" y="1133"/>
                  <a:pt x="584" y="1075"/>
                </a:cubicBezTo>
                <a:cubicBezTo>
                  <a:pt x="584" y="945"/>
                  <a:pt x="576" y="686"/>
                  <a:pt x="576" y="686"/>
                </a:cubicBezTo>
                <a:cubicBezTo>
                  <a:pt x="51" y="678"/>
                  <a:pt x="243" y="678"/>
                  <a:pt x="0" y="678"/>
                </a:cubicBezTo>
                <a:cubicBezTo>
                  <a:pt x="9" y="674"/>
                  <a:pt x="24" y="676"/>
                  <a:pt x="26" y="667"/>
                </a:cubicBezTo>
                <a:cubicBezTo>
                  <a:pt x="30" y="645"/>
                  <a:pt x="15" y="623"/>
                  <a:pt x="15" y="600"/>
                </a:cubicBezTo>
                <a:cubicBezTo>
                  <a:pt x="14" y="571"/>
                  <a:pt x="21" y="543"/>
                  <a:pt x="23" y="514"/>
                </a:cubicBezTo>
                <a:cubicBezTo>
                  <a:pt x="34" y="347"/>
                  <a:pt x="46" y="162"/>
                  <a:pt x="46" y="0"/>
                </a:cubicBezTo>
                <a:cubicBezTo>
                  <a:pt x="436" y="7"/>
                  <a:pt x="825" y="23"/>
                  <a:pt x="1215" y="23"/>
                </a:cubicBezTo>
                <a:cubicBezTo>
                  <a:pt x="1212" y="324"/>
                  <a:pt x="1212" y="626"/>
                  <a:pt x="1207" y="927"/>
                </a:cubicBezTo>
                <a:cubicBezTo>
                  <a:pt x="1206" y="1013"/>
                  <a:pt x="1184" y="1098"/>
                  <a:pt x="1184" y="1184"/>
                </a:cubicBezTo>
                <a:cubicBezTo>
                  <a:pt x="1059" y="1187"/>
                  <a:pt x="935" y="1188"/>
                  <a:pt x="810" y="1192"/>
                </a:cubicBezTo>
                <a:cubicBezTo>
                  <a:pt x="771" y="1193"/>
                  <a:pt x="732" y="1200"/>
                  <a:pt x="693" y="1200"/>
                </a:cubicBezTo>
                <a:cubicBezTo>
                  <a:pt x="672" y="1200"/>
                  <a:pt x="631" y="1192"/>
                  <a:pt x="631" y="119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295280"/>
            <a:ext cx="1676520" cy="685800"/>
          </a:xfrm>
          <a:custGeom>
            <a:avLst/>
            <a:gdLst/>
            <a:ahLst/>
            <a:rect l="l" t="t" r="r" b="b"/>
            <a:pathLst>
              <a:path w="1056" h="432">
                <a:moveTo>
                  <a:pt x="576" y="432"/>
                </a:moveTo>
                <a:lnTo>
                  <a:pt x="576" y="0"/>
                </a:lnTo>
                <a:lnTo>
                  <a:pt x="1008" y="0"/>
                </a:lnTo>
                <a:lnTo>
                  <a:pt x="1056" y="384"/>
                </a:lnTo>
                <a:lnTo>
                  <a:pt x="0" y="384"/>
                </a:lnTo>
                <a:lnTo>
                  <a:pt x="0" y="48"/>
                </a:lnTo>
                <a:lnTo>
                  <a:pt x="576" y="4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240" y="5230800"/>
            <a:ext cx="4935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RANCH: Component connected between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s (e.g., component R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438280"/>
            <a:ext cx="704880" cy="663840"/>
          </a:xfrm>
          <a:custGeom>
            <a:avLst/>
            <a:gdLst/>
            <a:ahLst/>
            <a:rect l="l" t="t" r="r" b="b"/>
            <a:pathLst>
              <a:path w="444" h="418">
                <a:moveTo>
                  <a:pt x="413" y="67"/>
                </a:moveTo>
                <a:cubicBezTo>
                  <a:pt x="355" y="62"/>
                  <a:pt x="247" y="52"/>
                  <a:pt x="194" y="52"/>
                </a:cubicBezTo>
                <a:cubicBezTo>
                  <a:pt x="12" y="52"/>
                  <a:pt x="15" y="0"/>
                  <a:pt x="15" y="67"/>
                </a:cubicBezTo>
                <a:cubicBezTo>
                  <a:pt x="5" y="176"/>
                  <a:pt x="0" y="285"/>
                  <a:pt x="0" y="395"/>
                </a:cubicBezTo>
                <a:cubicBezTo>
                  <a:pt x="1" y="395"/>
                  <a:pt x="136" y="418"/>
                  <a:pt x="155" y="418"/>
                </a:cubicBezTo>
                <a:cubicBezTo>
                  <a:pt x="251" y="418"/>
                  <a:pt x="444" y="410"/>
                  <a:pt x="444" y="410"/>
                </a:cubicBezTo>
                <a:cubicBezTo>
                  <a:pt x="436" y="132"/>
                  <a:pt x="436" y="228"/>
                  <a:pt x="436" y="122"/>
                </a:cubicBezTo>
              </a:path>
            </a:pathLst>
          </a:custGeom>
          <a:noFill/>
          <a:ln w="284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080" y="4713120"/>
            <a:ext cx="335052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red path is NOT a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9200" y="228600"/>
            <a:ext cx="4447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NODE CONNECTS SEVERAL COMPON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UT IT DOES NOT HOLD ANY CHAR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95760" y="914400"/>
            <a:ext cx="39146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TAL CURRENT FLOWING INTO 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UST BE EQUAL TO TOTAL CURRENT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96480" y="1828800"/>
            <a:ext cx="4021200" cy="3962520"/>
            <a:chOff x="4596480" y="1828800"/>
            <a:chExt cx="4021200" cy="3962520"/>
          </a:xfrm>
        </p:grpSpPr>
        <p:sp>
          <p:nvSpPr>
            <p:cNvPr id="63" name=""/>
            <p:cNvSpPr/>
            <p:nvPr/>
          </p:nvSpPr>
          <p:spPr>
            <a:xfrm>
              <a:off x="4596480" y="1828800"/>
              <a:ext cx="40212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(A CONSERVATION OF CHARGE PRINCIP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24480" y="5257800"/>
              <a:ext cx="838440" cy="53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" name=""/>
            <p:cNvGraphicFramePr/>
            <p:nvPr/>
          </p:nvGraphicFramePr>
          <p:xfrm>
            <a:off x="5257800" y="2133720"/>
            <a:ext cx="2978280" cy="3049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57800" y="2133720"/>
                      <a:ext cx="2978280" cy="30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6019920" y="4267080"/>
              <a:ext cx="1447560" cy="106704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105520" y="1371600"/>
          <a:ext cx="326700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371600"/>
                    <a:ext cx="326700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46480" y="41400"/>
            <a:ext cx="388404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KIRCHHOFF CURRENT LAW (K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520" y="41292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 OF CURRENTS FLOWING INTO A NOD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QUAL TO SUM OF CURRENTS FLOWING OU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2120" y="1219320"/>
          <a:ext cx="2895480" cy="13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219320"/>
                    <a:ext cx="28954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96840" y="3200400"/>
            <a:ext cx="44478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GEBRAIC SUM OF CURRENTS FLOWING INT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720" y="2590920"/>
            <a:ext cx="45547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GEBRAIC SUM OF CURRENT (FLOWING) OU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43000" y="3886200"/>
          <a:ext cx="2209680" cy="201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886200"/>
                    <a:ext cx="22096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09480" y="5943600"/>
          <a:ext cx="349596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5943600"/>
                    <a:ext cx="3495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4824720" y="92160"/>
            <a:ext cx="423468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GENERALIZED NODE IS ANY PART OF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 WHERE THERE IS NO ACCU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CHA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83760" y="930240"/>
            <a:ext cx="3701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.. OR WE CAN MAKE SUPERNODES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GGREGATING 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07200" y="2660760"/>
            <a:ext cx="1842840" cy="604800"/>
          </a:xfrm>
          <a:custGeom>
            <a:avLst/>
            <a:gdLst/>
            <a:ahLst/>
            <a:rect l="l" t="t" r="r" b="b"/>
            <a:pathLst>
              <a:path w="1161" h="381">
                <a:moveTo>
                  <a:pt x="46" y="23"/>
                </a:moveTo>
                <a:cubicBezTo>
                  <a:pt x="52" y="190"/>
                  <a:pt x="0" y="287"/>
                  <a:pt x="155" y="327"/>
                </a:cubicBezTo>
                <a:cubicBezTo>
                  <a:pt x="204" y="358"/>
                  <a:pt x="162" y="336"/>
                  <a:pt x="257" y="350"/>
                </a:cubicBezTo>
                <a:cubicBezTo>
                  <a:pt x="311" y="358"/>
                  <a:pt x="365" y="373"/>
                  <a:pt x="420" y="381"/>
                </a:cubicBezTo>
                <a:cubicBezTo>
                  <a:pt x="602" y="379"/>
                  <a:pt x="784" y="379"/>
                  <a:pt x="966" y="374"/>
                </a:cubicBezTo>
                <a:cubicBezTo>
                  <a:pt x="999" y="373"/>
                  <a:pt x="1031" y="352"/>
                  <a:pt x="1059" y="335"/>
                </a:cubicBezTo>
                <a:cubicBezTo>
                  <a:pt x="1083" y="320"/>
                  <a:pt x="1129" y="288"/>
                  <a:pt x="1129" y="288"/>
                </a:cubicBezTo>
                <a:cubicBezTo>
                  <a:pt x="1139" y="259"/>
                  <a:pt x="1153" y="240"/>
                  <a:pt x="1160" y="210"/>
                </a:cubicBezTo>
                <a:cubicBezTo>
                  <a:pt x="1158" y="179"/>
                  <a:pt x="1161" y="146"/>
                  <a:pt x="1153" y="116"/>
                </a:cubicBezTo>
                <a:cubicBezTo>
                  <a:pt x="1135" y="53"/>
                  <a:pt x="1050" y="39"/>
                  <a:pt x="997" y="31"/>
                </a:cubicBezTo>
                <a:cubicBezTo>
                  <a:pt x="958" y="18"/>
                  <a:pt x="928" y="7"/>
                  <a:pt x="888" y="0"/>
                </a:cubicBezTo>
                <a:cubicBezTo>
                  <a:pt x="633" y="2"/>
                  <a:pt x="379" y="0"/>
                  <a:pt x="124" y="7"/>
                </a:cubicBezTo>
                <a:cubicBezTo>
                  <a:pt x="93" y="8"/>
                  <a:pt x="85" y="37"/>
                  <a:pt x="46" y="23"/>
                </a:cubicBez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340240" y="4191120"/>
                <a:ext cx="2832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aving 2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aving 3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143680" y="4876920"/>
                <a:ext cx="331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ding 2 &amp; 3: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800600" y="4876920"/>
            <a:ext cx="3733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34720" y="5181480"/>
            <a:ext cx="43412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TERPRETATION: SUM OF CURRENTS LEA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 2&amp;3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50560" y="563868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ISUALIZATION: WE CAN ENCLOSE NODES 2&amp;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SIDE A SURFACE THAT IS VIEWED A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ENERALIZED NODE (OR SUPERN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105520" y="434880"/>
          <a:ext cx="335268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34880"/>
                    <a:ext cx="335268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97920" y="65160"/>
            <a:ext cx="4691880" cy="5806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ROBLEM SOLVING HINT: KCL CAN B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FIND A MISSING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9200" y="685800"/>
          <a:ext cx="2306880" cy="25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0" y="685800"/>
                    <a:ext cx="2306880" cy="25480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300400" y="625320"/>
            <a:ext cx="23144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 OF CURRENTS I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438280" y="1143000"/>
                <a:ext cx="21337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895480" y="146196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2104920" y="2073240"/>
            <a:ext cx="25275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ich way are ch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lowing on branch a-b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6280" y="3521160"/>
            <a:ext cx="423468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..AND PRACTICE NOTATION CONVENTION 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SAME TIM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04920" y="4114800"/>
                <a:ext cx="9144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449720" y="4054320"/>
            <a:ext cx="28476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: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,b,c,d,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RANCHES: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-b,c-b,d-b,e-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4648320"/>
          <a:ext cx="2144880" cy="143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648320"/>
                    <a:ext cx="2144880" cy="14349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327320" y="6248520"/>
                <a:ext cx="289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5043960" y="92160"/>
            <a:ext cx="263448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RITE ALL KC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685800"/>
            <a:ext cx="2362320" cy="15228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495760" y="3429000"/>
          <a:ext cx="3114720" cy="59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95760" y="3429000"/>
                    <a:ext cx="31147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486400" y="1828800"/>
            <a:ext cx="304920" cy="22860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 rot="10800000">
          <a:off x="5445000" y="3962160"/>
          <a:ext cx="3089520" cy="39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 rot="10800000">
                    <a:off x="5445000" y="3962160"/>
                    <a:ext cx="30895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781680" y="1828800"/>
            <a:ext cx="228600" cy="22860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419720" y="4314960"/>
          <a:ext cx="4114800" cy="40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4314960"/>
                    <a:ext cx="41148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924680" y="1752480"/>
            <a:ext cx="304920" cy="38124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4120" y="4648320"/>
          <a:ext cx="3198600" cy="425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4120" y="4648320"/>
                    <a:ext cx="31986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715000" y="2971800"/>
            <a:ext cx="2590920" cy="30492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48360" y="5029200"/>
          <a:ext cx="3460680" cy="52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8360" y="5029200"/>
                    <a:ext cx="34606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733640" y="5578560"/>
            <a:ext cx="41277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FIFTH EQUATION IS THE SUM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RST FOUR... IT IS REDUNDANT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geaux" descr=""/>
          <p:cNvPicPr/>
          <p:nvPr/>
        </p:nvPicPr>
        <p:blipFill>
          <a:blip r:embed="rId1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76320" y="-76320"/>
          <a:ext cx="5172120" cy="46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76320" y="-76320"/>
                    <a:ext cx="5172120" cy="46897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191200" y="0"/>
          <a:ext cx="3952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1200" y="0"/>
                    <a:ext cx="3952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410080" y="685800"/>
          <a:ext cx="34560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685800"/>
                    <a:ext cx="3456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209680" y="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320" y="2057400"/>
            <a:ext cx="38088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95840" y="1562040"/>
          <a:ext cx="444816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95840" y="1562040"/>
                    <a:ext cx="44481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438280" y="182880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213372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410080" y="2057400"/>
          <a:ext cx="341784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2057400"/>
                    <a:ext cx="3417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5410080" y="6094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2590920"/>
            <a:ext cx="7621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67480" y="12952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86320" y="-27000"/>
            <a:ext cx="27410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ND MISSING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280" y="4789440"/>
            <a:ext cx="505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CL DEPENDS ONLY ON THE INTERCONNE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YPE OF COMPONENT IS IRRE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4400" y="5398920"/>
            <a:ext cx="591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CL DEPENDS ONLY ON THE TOPOLOGY OF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228600"/>
          <a:ext cx="4792680" cy="40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228600"/>
                    <a:ext cx="479268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58040" y="-11160"/>
            <a:ext cx="45698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RITE KCL EQUATIONS FOR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5360" y="4343400"/>
          <a:ext cx="4346640" cy="21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360" y="4343400"/>
                    <a:ext cx="43466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80880" y="1981080"/>
            <a:ext cx="457200" cy="457200"/>
          </a:xfrm>
          <a:prstGeom prst="ellipse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1828800"/>
            <a:ext cx="45720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4876920"/>
            <a:ext cx="40384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4343400"/>
            <a:ext cx="35812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2057400"/>
            <a:ext cx="45720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5334120"/>
            <a:ext cx="4038480" cy="533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3809880"/>
            <a:ext cx="457200" cy="457200"/>
          </a:xfrm>
          <a:prstGeom prst="ellipse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5867280"/>
            <a:ext cx="358128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00680" y="762120"/>
            <a:ext cx="39142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RESENCE OF A DEPEND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OES NOT AFFECT APPLICATION OF K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CL DEPENDS ONLY ON THE TOP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0680" y="228600"/>
            <a:ext cx="40208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AST EQUATION IS AGAIN LINEA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OF THE PREVIOUS TH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0"/>
          <a:ext cx="5172120" cy="46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0"/>
                    <a:ext cx="5172120" cy="46893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5479920" y="249120"/>
            <a:ext cx="3527280" cy="1739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Here we illustrate the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of a more general idea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node. The shaded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ncloses a section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ircuit and can be consid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s a BIG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1752480"/>
            <a:ext cx="2590560" cy="1143000"/>
          </a:xfrm>
          <a:prstGeom prst="rect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28600" y="4800600"/>
                <a:ext cx="43434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M OF CURRENTS LEAVING BIG NOD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85800" y="510552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28800" y="5486400"/>
                <a:ext cx="99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78560" y="5807160"/>
            <a:ext cx="43412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URRENT I5 BECOMES INTERNAL TO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AND IT IS NOT NEEDED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0"/>
            <a:ext cx="4495680" cy="1143000"/>
          </a:xfrm>
          <a:prstGeom prst="rect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143000" y="4419720"/>
          <a:ext cx="749628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19720"/>
                    <a:ext cx="749628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066680" y="457200"/>
          <a:ext cx="7048800" cy="20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57200"/>
                    <a:ext cx="704880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752480" y="251460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72000" y="2590920"/>
                <a:ext cx="2476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04920" y="60199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362320" y="4267080"/>
            <a:ext cx="304560" cy="38124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6600" y="4419720"/>
            <a:ext cx="228600" cy="30456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010280" y="411480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191120" y="411480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638680" y="4343400"/>
            <a:ext cx="30492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295280" y="152280"/>
                <a:ext cx="72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952880" y="228600"/>
                <a:ext cx="83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 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133720" y="3886200"/>
                <a:ext cx="72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683320" y="365760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and  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380880" y="838080"/>
          <a:ext cx="838224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38224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828800" y="685800"/>
            <a:ext cx="228600" cy="30492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46080" y="2666880"/>
                <a:ext cx="1930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886200" y="685800"/>
            <a:ext cx="419112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041800" y="2819520"/>
                <a:ext cx="30355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5" name=""/>
          <p:cNvGraphicFramePr/>
          <p:nvPr/>
        </p:nvGraphicFramePr>
        <p:xfrm>
          <a:off x="152280" y="4038480"/>
          <a:ext cx="5715000" cy="210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38480"/>
                    <a:ext cx="571500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2590920" y="4267080"/>
            <a:ext cx="228600" cy="304920"/>
          </a:xfrm>
          <a:prstGeom prst="ellipse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413080" y="38862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029200" y="50292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523880" y="4267080"/>
            <a:ext cx="228600" cy="304920"/>
          </a:xfrm>
          <a:prstGeom prst="ellipse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14440" y="3809880"/>
                <a:ext cx="138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952880" y="4343400"/>
                <a:ext cx="582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429000" y="228600"/>
                <a:ext cx="1143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01:32:47Z</dcterms:created>
  <dc:creator>Jorge Aravena</dc:creator>
  <dc:description/>
  <dc:language>en-US</dc:language>
  <cp:lastModifiedBy>Jorge Aravena</cp:lastModifiedBy>
  <cp:lastPrinted>2000-06-07T18:25:37Z</cp:lastPrinted>
  <dcterms:modified xsi:type="dcterms:W3CDTF">2001-03-19T12:57:51Z</dcterms:modified>
  <cp:revision>18</cp:revision>
  <dc:subject/>
  <dc:title>No Slide Title</dc:title>
</cp:coreProperties>
</file>