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5BD-3865-4EBE-BD08-2F32EF41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3A1-43D7-4DC7-9A85-4A149C40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3DE-005B-4DBC-A96D-36F01552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D16-B69E-4F19-84F5-B6789A82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C37-D656-443B-9FC9-57378D62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D91-5878-4741-9174-245EF6A0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F0D-62E5-421E-89B1-15CA028E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74B-19B1-45CD-8416-252F70FE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82B-CFAC-46BD-8A83-43D04723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157-2846-4795-BCAD-2BAD97BA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9B7-2673-41C5-8EE4-3B48192C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F8F-370E-4E42-8329-78EE9FB1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654F-34CF-49D4-8A66-E161B494D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15.001B_W1378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419360" cy="227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6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geaux" descr=""/>
          <p:cNvPicPr/>
          <p:nvPr/>
        </p:nvPicPr>
        <p:blipFill>
          <a:blip r:embed="rId2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E15.003_W1383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E15.003_W1383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E15.003_W1383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E15.003_W1383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E15.003_W1383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E15.003_W1383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15.006_W1385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E15.001_W138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able15p1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086600" cy="6062400"/>
          </a:xfrm>
          <a:prstGeom prst="rect">
            <a:avLst/>
          </a:prstGeom>
          <a:ln w="0">
            <a:noFill/>
          </a:ln>
        </p:spPr>
      </p:pic>
      <p:pic>
        <p:nvPicPr>
          <p:cNvPr id="46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F15.007_W1386" descr=""/>
          <p:cNvPicPr/>
          <p:nvPr/>
        </p:nvPicPr>
        <p:blipFill>
          <a:blip r:embed="rId1"/>
          <a:stretch/>
        </p:blipFill>
        <p:spPr>
          <a:xfrm>
            <a:off x="0" y="1676520"/>
            <a:ext cx="5562720" cy="2543040"/>
          </a:xfrm>
          <a:prstGeom prst="rect">
            <a:avLst/>
          </a:prstGeom>
          <a:ln w="0">
            <a:noFill/>
          </a:ln>
        </p:spPr>
      </p:pic>
      <p:pic>
        <p:nvPicPr>
          <p:cNvPr id="469" name="F15.008_W1387" descr=""/>
          <p:cNvPicPr/>
          <p:nvPr/>
        </p:nvPicPr>
        <p:blipFill>
          <a:blip r:embed="rId2"/>
          <a:stretch/>
        </p:blipFill>
        <p:spPr>
          <a:xfrm>
            <a:off x="0" y="4343400"/>
            <a:ext cx="4219560" cy="1428840"/>
          </a:xfrm>
          <a:prstGeom prst="rect">
            <a:avLst/>
          </a:prstGeom>
          <a:ln w="0">
            <a:noFill/>
          </a:ln>
        </p:spPr>
      </p:pic>
      <p:pic>
        <p:nvPicPr>
          <p:cNvPr id="470" name="F15.009_W1388" descr=""/>
          <p:cNvPicPr/>
          <p:nvPr/>
        </p:nvPicPr>
        <p:blipFill>
          <a:blip r:embed="rId3"/>
          <a:stretch/>
        </p:blipFill>
        <p:spPr>
          <a:xfrm>
            <a:off x="76320" y="5819760"/>
            <a:ext cx="6172200" cy="1038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43920" y="432576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52760" y="5562720"/>
            <a:ext cx="2782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first 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s as input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154080" y="152280"/>
            <a:ext cx="5744880" cy="2923920"/>
            <a:chOff x="154080" y="152280"/>
            <a:chExt cx="5744880" cy="2923920"/>
          </a:xfrm>
        </p:grpSpPr>
        <p:pic>
          <p:nvPicPr>
            <p:cNvPr id="479" name="F15.007_W1386" descr=""/>
            <p:cNvPicPr/>
            <p:nvPr/>
          </p:nvPicPr>
          <p:blipFill>
            <a:blip r:embed="rId1"/>
            <a:stretch/>
          </p:blipFill>
          <p:spPr>
            <a:xfrm>
              <a:off x="154080" y="533160"/>
              <a:ext cx="55623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65120" y="152280"/>
              <a:ext cx="54338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connection. Description using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7760" y="3124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5272200" y="3124080"/>
                <a:ext cx="251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6680" y="3886200"/>
                <a:ext cx="3149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367080" y="4038480"/>
                <a:ext cx="148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6326280" y="457200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021360" y="914400"/>
                <a:ext cx="21319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cription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0384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F15.008_W1387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876920" cy="165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15.009_W1388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617220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05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06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07" name="F15.002_W137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08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F15.010B_W1389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F15.010A_W138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24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25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28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0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2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48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F15.010A_W1389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55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56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7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59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1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2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F15.011_W1390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F15.010A_W1389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75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76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79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8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F15.012_W1391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592" name="F15.006_W1385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4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03" name="F15.015_W1394" descr=""/>
            <p:cNvPicPr/>
            <p:nvPr/>
          </p:nvPicPr>
          <p:blipFill>
            <a:blip r:embed="rId1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15.013_W139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5753160" cy="19526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4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16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9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0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1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2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F15.014_W139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37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15.003A_W1380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F15.003B_W138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F15.003C_W1380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F15.016_W139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3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1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62" name="F15.017_W1396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0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7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7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7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8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8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8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9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F15.016_W1395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03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0040" y="592200"/>
            <a:ext cx="8669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parameters of the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" y="2209680"/>
                <a:ext cx="163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209680" y="213372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9" name=""/>
          <p:cNvGrpSpPr/>
          <p:nvPr/>
        </p:nvGrpSpPr>
        <p:grpSpPr>
          <a:xfrm>
            <a:off x="0" y="3124080"/>
            <a:ext cx="4114800" cy="3124080"/>
            <a:chOff x="0" y="3124080"/>
            <a:chExt cx="4114800" cy="3124080"/>
          </a:xfrm>
        </p:grpSpPr>
        <p:pic>
          <p:nvPicPr>
            <p:cNvPr id="720" name="F15.017_W1396" descr=""/>
            <p:cNvPicPr/>
            <p:nvPr/>
          </p:nvPicPr>
          <p:blipFill>
            <a:blip r:embed="rId1"/>
            <a:stretch/>
          </p:blipFill>
          <p:spPr>
            <a:xfrm>
              <a:off x="0" y="3436920"/>
              <a:ext cx="4114800" cy="28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179640" y="3124080"/>
              <a:ext cx="32104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962520" y="2209680"/>
            <a:ext cx="4952880" cy="3790800"/>
            <a:chOff x="3962520" y="2209680"/>
            <a:chExt cx="4952880" cy="3790800"/>
          </a:xfrm>
        </p:grpSpPr>
        <p:pic>
          <p:nvPicPr>
            <p:cNvPr id="723" name="F15.019_W1398" descr=""/>
            <p:cNvPicPr/>
            <p:nvPr/>
          </p:nvPicPr>
          <p:blipFill>
            <a:blip r:embed="rId2"/>
            <a:stretch/>
          </p:blipFill>
          <p:spPr>
            <a:xfrm>
              <a:off x="3962520" y="2438280"/>
              <a:ext cx="4952880" cy="35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45932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27" name="stop" descr=""/>
            <p:cNvPicPr/>
            <p:nvPr/>
          </p:nvPicPr>
          <p:blipFill>
            <a:blip r:embed="rId3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15.003D_W138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E15.001_W1381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E15.001_W1381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E15.001_W1381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E15.001_W1381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15.004A_W138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F15.004B_W138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student</cp:lastModifiedBy>
  <dcterms:modified xsi:type="dcterms:W3CDTF">2001-11-01T14:14:11Z</dcterms:modified>
  <cp:revision>13</cp:revision>
  <dc:subject/>
  <dc:title>No Slide Title</dc:title>
</cp:coreProperties>
</file>