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8.wmf" ContentType="image/x-wmf"/>
  <Override PartName="/ppt/media/image30.png" ContentType="image/png"/>
  <Override PartName="/ppt/media/image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76.png" ContentType="image/png"/>
  <Override PartName="/ppt/media/image64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1.jpeg" ContentType="image/jpeg"/>
  <Override PartName="/ppt/media/image70.jpeg" ContentType="image/jpeg"/>
  <Override PartName="/ppt/media/image35.png" ContentType="image/png"/>
  <Override PartName="/ppt/media/image72.png" ContentType="image/png"/>
  <Override PartName="/ppt/media/image69.jpeg" ContentType="image/jpeg"/>
  <Override PartName="/ppt/media/image24.png" ContentType="image/png"/>
  <Override PartName="/ppt/media/image61.png" ContentType="image/png"/>
  <Override PartName="/ppt/media/image68.jpeg" ContentType="image/jpeg"/>
  <Override PartName="/ppt/media/image31.png" ContentType="image/png"/>
  <Override PartName="/ppt/media/image13.png" ContentType="image/png"/>
  <Override PartName="/ppt/media/image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8.png" ContentType="image/png"/>
  <Override PartName="/ppt/media/image6.png" ContentType="image/png"/>
  <Override PartName="/ppt/media/image40.wmf" ContentType="image/x-wmf"/>
  <Override PartName="/ppt/media/image12.png" ContentType="image/png"/>
  <Override PartName="/ppt/media/image49.png" ContentType="image/png"/>
  <Override PartName="/ppt/media/image8.png" ContentType="image/png"/>
  <Override PartName="/ppt/media/image5.png" ContentType="image/png"/>
  <Override PartName="/ppt/media/image39.jpeg" ContentType="image/jpeg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46F6-599B-4224-B95A-9F34706C6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A9EE-4200-4271-A9EF-5D1D87DB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0A93-BFF9-4682-9C8E-2385DB809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4EC8-5EC2-4F31-BB0C-16B84612F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69FC-9E94-4078-A6E7-3ACCB798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90C3-D026-4DDA-8A1F-BFB9648E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C781-DD45-48FA-92CC-7CF7E6F4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803A-7C4D-4216-983E-B225E6F0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F239-9599-4446-9F51-DCA5497B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4F9C-E3B5-4642-A41F-300EDF4B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F029-31F4-4C07-AEA3-21E3E03D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738E-25E6-4A26-B000-774B76FF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E809-6CFF-4156-A965-CFC453301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3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9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7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4160" y="36360"/>
            <a:ext cx="5135400" cy="5508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"/>
              </a:rPr>
              <a:t>THE LAPLACE TRANSFOR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1960" y="914400"/>
            <a:ext cx="219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92080" y="1371600"/>
            <a:ext cx="69868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ransform maps a function of time into a function of a compl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23680" y="2278080"/>
            <a:ext cx="3849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important singularity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unit step and the unit impu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31960" y="2940120"/>
            <a:ext cx="4624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pai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table with commonly used trans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7120" y="3602160"/>
            <a:ext cx="62265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th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orem describing properties. Many of them are useful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ational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120" y="4508640"/>
            <a:ext cx="6409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forming the invers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restricting attention to rational functions one can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version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34480" y="5415120"/>
            <a:ext cx="3353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olution 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results in system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35200" y="6078600"/>
            <a:ext cx="5238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and Final value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ful result relating time and s-domain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64240" y="58680"/>
            <a:ext cx="37497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LTIPLICATION BY EXPON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 rot="10800000">
          <a:off x="76320" y="456840"/>
          <a:ext cx="4419360" cy="51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76320" y="456840"/>
                    <a:ext cx="44193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28600" y="990720"/>
                <a:ext cx="40514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71" name=""/>
          <p:cNvGrpSpPr/>
          <p:nvPr/>
        </p:nvGrpSpPr>
        <p:grpSpPr>
          <a:xfrm>
            <a:off x="2798640" y="1347840"/>
            <a:ext cx="1581120" cy="593640"/>
            <a:chOff x="2798640" y="1347840"/>
            <a:chExt cx="1581120" cy="593640"/>
          </a:xfrm>
        </p:grpSpPr>
        <p:sp>
          <p:nvSpPr>
            <p:cNvPr id="272" name=""/>
            <p:cNvSpPr/>
            <p:nvPr/>
          </p:nvSpPr>
          <p:spPr>
            <a:xfrm>
              <a:off x="2798640" y="1347840"/>
              <a:ext cx="1581120" cy="533520"/>
            </a:xfrm>
            <a:custGeom>
              <a:avLst/>
              <a:gdLst/>
              <a:ahLst/>
              <a:rect l="l" t="t" r="r" b="b"/>
              <a:pathLst>
                <a:path w="996" h="336">
                  <a:moveTo>
                    <a:pt x="6" y="102"/>
                  </a:moveTo>
                  <a:cubicBezTo>
                    <a:pt x="11" y="159"/>
                    <a:pt x="0" y="220"/>
                    <a:pt x="21" y="273"/>
                  </a:cubicBezTo>
                  <a:cubicBezTo>
                    <a:pt x="29" y="295"/>
                    <a:pt x="62" y="297"/>
                    <a:pt x="84" y="304"/>
                  </a:cubicBezTo>
                  <a:cubicBezTo>
                    <a:pt x="146" y="325"/>
                    <a:pt x="222" y="329"/>
                    <a:pt x="286" y="336"/>
                  </a:cubicBezTo>
                  <a:cubicBezTo>
                    <a:pt x="527" y="330"/>
                    <a:pt x="587" y="326"/>
                    <a:pt x="777" y="297"/>
                  </a:cubicBezTo>
                  <a:cubicBezTo>
                    <a:pt x="820" y="254"/>
                    <a:pt x="860" y="223"/>
                    <a:pt x="918" y="203"/>
                  </a:cubicBezTo>
                  <a:cubicBezTo>
                    <a:pt x="935" y="177"/>
                    <a:pt x="966" y="161"/>
                    <a:pt x="980" y="133"/>
                  </a:cubicBezTo>
                  <a:cubicBezTo>
                    <a:pt x="993" y="107"/>
                    <a:pt x="996" y="31"/>
                    <a:pt x="99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3200400" y="1676520"/>
                  <a:ext cx="7873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−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4" name=""/>
          <p:cNvGrpSpPr/>
          <p:nvPr/>
        </p:nvGrpSpPr>
        <p:grpSpPr>
          <a:xfrm>
            <a:off x="320400" y="2228760"/>
            <a:ext cx="2486160" cy="768600"/>
            <a:chOff x="320400" y="2228760"/>
            <a:chExt cx="2486160" cy="768600"/>
          </a:xfrm>
        </p:grpSpPr>
        <p:sp>
          <p:nvSpPr>
            <p:cNvPr id="275" name=""/>
            <p:cNvSpPr/>
            <p:nvPr/>
          </p:nvSpPr>
          <p:spPr>
            <a:xfrm>
              <a:off x="320400" y="22287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990720" y="2666880"/>
                  <a:ext cx="181584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04920" y="3200400"/>
                <a:ext cx="4292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t</m:t>
                    </m:r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rom tabl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0" y="3962520"/>
                <a:ext cx="4584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79" name=""/>
          <p:cNvGrpSpPr/>
          <p:nvPr/>
        </p:nvGrpSpPr>
        <p:grpSpPr>
          <a:xfrm>
            <a:off x="1371600" y="2300400"/>
            <a:ext cx="2602080" cy="792000"/>
            <a:chOff x="1371600" y="2300400"/>
            <a:chExt cx="2602080" cy="792000"/>
          </a:xfrm>
        </p:grpSpPr>
        <p:sp>
          <p:nvSpPr>
            <p:cNvPr id="280" name=""/>
            <p:cNvSpPr/>
            <p:nvPr/>
          </p:nvSpPr>
          <p:spPr>
            <a:xfrm>
              <a:off x="1371600" y="2300400"/>
              <a:ext cx="2247840" cy="792000"/>
            </a:xfrm>
            <a:custGeom>
              <a:avLst/>
              <a:gdLst/>
              <a:ahLst/>
              <a:rect l="l" t="t" r="r" b="b"/>
              <a:pathLst>
                <a:path w="1416" h="499">
                  <a:moveTo>
                    <a:pt x="122" y="499"/>
                  </a:moveTo>
                  <a:cubicBezTo>
                    <a:pt x="128" y="430"/>
                    <a:pt x="133" y="387"/>
                    <a:pt x="161" y="328"/>
                  </a:cubicBezTo>
                  <a:cubicBezTo>
                    <a:pt x="128" y="0"/>
                    <a:pt x="0" y="232"/>
                    <a:pt x="878" y="242"/>
                  </a:cubicBezTo>
                  <a:cubicBezTo>
                    <a:pt x="1058" y="250"/>
                    <a:pt x="1236" y="265"/>
                    <a:pt x="1416" y="26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 rot="10800000">
                  <a:off x="3352680" y="2590560"/>
                  <a:ext cx="62100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2" name=""/>
          <p:cNvGrpSpPr/>
          <p:nvPr/>
        </p:nvGrpSpPr>
        <p:grpSpPr>
          <a:xfrm>
            <a:off x="4800600" y="73080"/>
            <a:ext cx="3811320" cy="841320"/>
            <a:chOff x="4800600" y="73080"/>
            <a:chExt cx="3811320" cy="841320"/>
          </a:xfrm>
        </p:grpSpPr>
        <p:graphicFrame>
          <p:nvGraphicFramePr>
            <p:cNvPr id="283" name=""/>
            <p:cNvGraphicFramePr/>
            <p:nvPr/>
          </p:nvGraphicFramePr>
          <p:xfrm>
            <a:off x="4800600" y="454320"/>
            <a:ext cx="3811320" cy="460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00600" y="454320"/>
                      <a:ext cx="3811320" cy="46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5" name=""/>
            <p:cNvSpPr/>
            <p:nvPr/>
          </p:nvSpPr>
          <p:spPr>
            <a:xfrm>
              <a:off x="4831920" y="7308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4800600" y="1143000"/>
                <a:ext cx="37972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4419720" y="1828800"/>
                <a:ext cx="4597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88" name=""/>
          <p:cNvGraphicFramePr/>
          <p:nvPr/>
        </p:nvGraphicFramePr>
        <p:xfrm>
          <a:off x="4648320" y="2590920"/>
          <a:ext cx="4321080" cy="426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2590920"/>
                    <a:ext cx="432108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562720" y="1523880"/>
                <a:ext cx="11937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1" name=""/>
          <p:cNvGrpSpPr/>
          <p:nvPr/>
        </p:nvGrpSpPr>
        <p:grpSpPr>
          <a:xfrm>
            <a:off x="0" y="4876560"/>
            <a:ext cx="4693680" cy="991440"/>
            <a:chOff x="0" y="4876560"/>
            <a:chExt cx="4693680" cy="991440"/>
          </a:xfrm>
        </p:grpSpPr>
        <p:graphicFrame>
          <p:nvGraphicFramePr>
            <p:cNvPr id="292" name=""/>
            <p:cNvGraphicFramePr/>
            <p:nvPr/>
          </p:nvGraphicFramePr>
          <p:xfrm rot="10800000">
            <a:off x="0" y="4876560"/>
            <a:ext cx="4648320" cy="609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 rot="10800000">
                      <a:off x="0" y="4876560"/>
                      <a:ext cx="46483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4" name=""/>
            <p:cNvSpPr/>
            <p:nvPr/>
          </p:nvSpPr>
          <p:spPr>
            <a:xfrm>
              <a:off x="72000" y="5530680"/>
              <a:ext cx="4621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w entries for the table of transform pai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5" name="geaux" descr=""/>
          <p:cNvPicPr/>
          <p:nvPr/>
        </p:nvPicPr>
        <p:blipFill>
          <a:blip r:embed="rId9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0" y="76320"/>
            <a:ext cx="4344840" cy="1042920"/>
            <a:chOff x="0" y="76320"/>
            <a:chExt cx="4344840" cy="1042920"/>
          </a:xfrm>
        </p:grpSpPr>
        <p:sp>
          <p:nvSpPr>
            <p:cNvPr id="299" name=""/>
            <p:cNvSpPr/>
            <p:nvPr/>
          </p:nvSpPr>
          <p:spPr>
            <a:xfrm>
              <a:off x="181800" y="76320"/>
              <a:ext cx="2818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LTIPLICATION BY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0" name=""/>
            <p:cNvGraphicFramePr/>
            <p:nvPr/>
          </p:nvGraphicFramePr>
          <p:xfrm>
            <a:off x="0" y="474840"/>
            <a:ext cx="4344840" cy="64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474840"/>
                      <a:ext cx="4344840" cy="644400"/>
                    </a:xfrm>
                    <a:prstGeom prst="rect">
                      <a:avLst/>
                    </a:prstGeom>
                    <a:ln w="255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02" name=""/>
          <p:cNvGraphicFramePr/>
          <p:nvPr/>
        </p:nvGraphicFramePr>
        <p:xfrm>
          <a:off x="0" y="2438280"/>
          <a:ext cx="4572000" cy="263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438280"/>
                    <a:ext cx="4572000" cy="26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4" name=""/>
          <p:cNvGrpSpPr/>
          <p:nvPr/>
        </p:nvGrpSpPr>
        <p:grpSpPr>
          <a:xfrm>
            <a:off x="76320" y="1201680"/>
            <a:ext cx="3633840" cy="916200"/>
            <a:chOff x="76320" y="1201680"/>
            <a:chExt cx="3633840" cy="916200"/>
          </a:xfrm>
        </p:grpSpPr>
        <p:graphicFrame>
          <p:nvGraphicFramePr>
            <p:cNvPr id="305" name=""/>
            <p:cNvGraphicFramePr/>
            <p:nvPr/>
          </p:nvGraphicFramePr>
          <p:xfrm>
            <a:off x="76320" y="1447920"/>
            <a:ext cx="3352680" cy="66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6320" y="1447920"/>
                      <a:ext cx="3352680" cy="669960"/>
                    </a:xfrm>
                    <a:prstGeom prst="rect">
                      <a:avLst/>
                    </a:prstGeom>
                    <a:ln w="25560">
                      <a:solidFill>
                        <a:srgbClr val="ccff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07" name=""/>
            <p:cNvSpPr/>
            <p:nvPr/>
          </p:nvSpPr>
          <p:spPr>
            <a:xfrm>
              <a:off x="187200" y="1201680"/>
              <a:ext cx="352296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fferentiation under an integ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800600" y="1041480"/>
                <a:ext cx="15620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6400800" y="1727280"/>
                <a:ext cx="457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10" name=""/>
          <p:cNvGrpSpPr/>
          <p:nvPr/>
        </p:nvGrpSpPr>
        <p:grpSpPr>
          <a:xfrm>
            <a:off x="4451040" y="19080"/>
            <a:ext cx="4642200" cy="982800"/>
            <a:chOff x="4451040" y="19080"/>
            <a:chExt cx="4642200" cy="982800"/>
          </a:xfrm>
        </p:grpSpPr>
        <p:grpSp>
          <p:nvGrpSpPr>
            <p:cNvPr id="311" name=""/>
            <p:cNvGrpSpPr/>
            <p:nvPr/>
          </p:nvGrpSpPr>
          <p:grpSpPr>
            <a:xfrm>
              <a:off x="4451040" y="19080"/>
              <a:ext cx="4642200" cy="337320"/>
              <a:chOff x="4451040" y="19080"/>
              <a:chExt cx="4642200" cy="337320"/>
            </a:xfrm>
          </p:grpSpPr>
          <p:sp>
            <p:nvSpPr>
              <p:cNvPr id="312" name=""/>
              <p:cNvSpPr/>
              <p:nvPr/>
            </p:nvSpPr>
            <p:spPr>
              <a:xfrm>
                <a:off x="4451040" y="19080"/>
                <a:ext cx="2224440" cy="33732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LEARNING EXAMP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13" name=""/>
                  <p:cNvSpPr txBox="1"/>
                  <p:nvPr/>
                </p:nvSpPr>
                <p:spPr>
                  <a:xfrm>
                    <a:off x="6705720" y="44280"/>
                    <a:ext cx="2387520" cy="27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be the unit step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4572000" y="380880"/>
                  <a:ext cx="3975120" cy="62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Find the transform of the ramp function</m:t>
                          </m:r>
                        </m:e>
                        <m:e>
                          <m:r>
                            <m:t xml:space="preserve">r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tu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105520" y="3048120"/>
                <a:ext cx="2895480" cy="13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y succesive applic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f the property one shows</m:t>
                        </m:r>
                      </m:e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800600" y="2362320"/>
                <a:ext cx="1778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↔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629400" y="2438280"/>
                <a:ext cx="4428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4701240" y="4495680"/>
            <a:ext cx="39009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result, plus linearity, al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ation of the transform of 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ynom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662360" y="5392800"/>
            <a:ext cx="2306880" cy="728640"/>
            <a:chOff x="4662360" y="5392800"/>
            <a:chExt cx="2306880" cy="728640"/>
          </a:xfrm>
        </p:grpSpPr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4724280" y="5791320"/>
                  <a:ext cx="16131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21" name=""/>
            <p:cNvSpPr/>
            <p:nvPr/>
          </p:nvSpPr>
          <p:spPr>
            <a:xfrm>
              <a:off x="4662360" y="5392800"/>
              <a:ext cx="230688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BY DO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6629400" y="5791320"/>
                <a:ext cx="2006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!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52280" y="5410080"/>
                <a:ext cx="42418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member that we consider the function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be zero for t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Hence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24" name="geaux" descr=""/>
          <p:cNvPicPr/>
          <p:nvPr/>
        </p:nvPicPr>
        <p:blipFill>
          <a:blip r:embed="rId7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0" y="58680"/>
            <a:ext cx="4673520" cy="663480"/>
            <a:chOff x="0" y="58680"/>
            <a:chExt cx="4673520" cy="663480"/>
          </a:xfrm>
        </p:grpSpPr>
        <p:sp>
          <p:nvSpPr>
            <p:cNvPr id="328" name=""/>
            <p:cNvSpPr/>
            <p:nvPr/>
          </p:nvSpPr>
          <p:spPr>
            <a:xfrm>
              <a:off x="64080" y="58680"/>
              <a:ext cx="27943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IME SHIFTING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0" y="380880"/>
                  <a:ext cx="4673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↔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⇒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↔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p>
                      </m:sSup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30" name=""/>
          <p:cNvGraphicFramePr/>
          <p:nvPr/>
        </p:nvGraphicFramePr>
        <p:xfrm>
          <a:off x="0" y="838080"/>
          <a:ext cx="457200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45720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0" y="2286000"/>
          <a:ext cx="457200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86000"/>
                    <a:ext cx="4572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1981080" y="3581280"/>
          <a:ext cx="2567160" cy="118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3581280"/>
                    <a:ext cx="25671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6" name=""/>
          <p:cNvGrpSpPr/>
          <p:nvPr/>
        </p:nvGrpSpPr>
        <p:grpSpPr>
          <a:xfrm>
            <a:off x="4755960" y="76320"/>
            <a:ext cx="3257640" cy="1028520"/>
            <a:chOff x="4755960" y="76320"/>
            <a:chExt cx="3257640" cy="1028520"/>
          </a:xfrm>
        </p:grpSpPr>
        <p:sp>
          <p:nvSpPr>
            <p:cNvPr id="337" name=""/>
            <p:cNvSpPr/>
            <p:nvPr/>
          </p:nvSpPr>
          <p:spPr>
            <a:xfrm>
              <a:off x="475596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8" name=""/>
                <p:cNvSpPr txBox="1"/>
                <p:nvPr/>
              </p:nvSpPr>
              <p:spPr>
                <a:xfrm>
                  <a:off x="5867280" y="457200"/>
                  <a:ext cx="21463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≤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≤</m:t>
                                      </m:r>
                                      <m:r>
                                        <m:t xml:space="preserve">3</m:t>
                                      </m:r>
                                    </m:e>
                                  </m:mr>
                                </m:m>
                              </m:e>
                            </m:mr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lsewhere</m:t>
                                      </m:r>
                                    </m:e>
                                  </m:mr>
                                </m:m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39" name=""/>
          <p:cNvGraphicFramePr/>
          <p:nvPr/>
        </p:nvGraphicFramePr>
        <p:xfrm>
          <a:off x="5257800" y="1295280"/>
          <a:ext cx="2459160" cy="189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1295280"/>
                    <a:ext cx="245916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1" name=""/>
          <p:cNvGrpSpPr/>
          <p:nvPr/>
        </p:nvGrpSpPr>
        <p:grpSpPr>
          <a:xfrm>
            <a:off x="6172200" y="1905120"/>
            <a:ext cx="2057400" cy="990360"/>
            <a:chOff x="6172200" y="1905120"/>
            <a:chExt cx="2057400" cy="990360"/>
          </a:xfrm>
        </p:grpSpPr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7543800" y="1981080"/>
                  <a:ext cx="6858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"/>
            <p:cNvSpPr/>
            <p:nvPr/>
          </p:nvSpPr>
          <p:spPr>
            <a:xfrm>
              <a:off x="6172200" y="1905120"/>
              <a:ext cx="1981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72200" y="1905120"/>
              <a:ext cx="0" cy="9903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7086600" y="2895480"/>
            <a:ext cx="1371600" cy="914400"/>
            <a:chOff x="7086600" y="2895480"/>
            <a:chExt cx="1371600" cy="914400"/>
          </a:xfrm>
        </p:grpSpPr>
        <p:sp>
          <p:nvSpPr>
            <p:cNvPr id="346" name=""/>
            <p:cNvSpPr/>
            <p:nvPr/>
          </p:nvSpPr>
          <p:spPr>
            <a:xfrm>
              <a:off x="7086600" y="2895480"/>
              <a:ext cx="0" cy="9144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086600" y="3809880"/>
              <a:ext cx="1371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8" name=""/>
                <p:cNvSpPr txBox="1"/>
                <p:nvPr/>
              </p:nvSpPr>
              <p:spPr>
                <a:xfrm>
                  <a:off x="7537320" y="3429000"/>
                  <a:ext cx="889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6019920" y="3962520"/>
                <a:ext cx="2222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5334120" y="4343400"/>
                <a:ext cx="35049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s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51" name="geaux" descr=""/>
          <p:cNvPicPr/>
          <p:nvPr/>
        </p:nvPicPr>
        <p:blipFill>
          <a:blip r:embed="rId9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5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09480" y="457200"/>
                <a:ext cx="3505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THE TRANSFORM FOR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142560" y="1143000"/>
            <a:ext cx="43153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apply the time shifting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time variable always appears as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ears in the argument of the step.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case as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t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380880" y="2286000"/>
                <a:ext cx="40388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685800" y="2629080"/>
                <a:ext cx="37720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52280" y="3886200"/>
                <a:ext cx="176544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533520" y="5181480"/>
                <a:ext cx="29210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↔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410080" y="228600"/>
                <a:ext cx="22352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ne could also write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62" name=""/>
          <p:cNvGrpSpPr/>
          <p:nvPr/>
        </p:nvGrpSpPr>
        <p:grpSpPr>
          <a:xfrm>
            <a:off x="5181480" y="495360"/>
            <a:ext cx="3009960" cy="1116000"/>
            <a:chOff x="5181480" y="495360"/>
            <a:chExt cx="3009960" cy="1116000"/>
          </a:xfrm>
        </p:grpSpPr>
        <p:grpSp>
          <p:nvGrpSpPr>
            <p:cNvPr id="363" name=""/>
            <p:cNvGrpSpPr/>
            <p:nvPr/>
          </p:nvGrpSpPr>
          <p:grpSpPr>
            <a:xfrm>
              <a:off x="5181480" y="519120"/>
              <a:ext cx="3009960" cy="1092240"/>
              <a:chOff x="5181480" y="519120"/>
              <a:chExt cx="3009960" cy="1092240"/>
            </a:xfrm>
          </p:grpSpPr>
          <mc:AlternateContent>
            <mc:Choice xmlns:a14="http://schemas.microsoft.com/office/drawing/2010/main" Requires="a14">
              <p:sp>
                <p:nvSpPr>
                  <p:cNvPr id="364" name=""/>
                  <p:cNvSpPr txBox="1"/>
                  <p:nvPr/>
                </p:nvSpPr>
                <p:spPr>
                  <a:xfrm>
                    <a:off x="5181480" y="990720"/>
                    <a:ext cx="300996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d apply the time truncation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operty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65" name=""/>
              <p:cNvSpPr/>
              <p:nvPr/>
            </p:nvSpPr>
            <p:spPr>
              <a:xfrm>
                <a:off x="6053040" y="519120"/>
                <a:ext cx="951120" cy="484200"/>
              </a:xfrm>
              <a:custGeom>
                <a:avLst/>
                <a:gdLst/>
                <a:ahLst/>
                <a:rect l="l" t="t" r="r" b="b"/>
                <a:pathLst>
                  <a:path w="599" h="305">
                    <a:moveTo>
                      <a:pt x="520" y="289"/>
                    </a:moveTo>
                    <a:cubicBezTo>
                      <a:pt x="559" y="210"/>
                      <a:pt x="569" y="130"/>
                      <a:pt x="598" y="47"/>
                    </a:cubicBezTo>
                    <a:cubicBezTo>
                      <a:pt x="595" y="37"/>
                      <a:pt x="599" y="22"/>
                      <a:pt x="590" y="16"/>
                    </a:cubicBezTo>
                    <a:cubicBezTo>
                      <a:pt x="577" y="7"/>
                      <a:pt x="559" y="9"/>
                      <a:pt x="543" y="8"/>
                    </a:cubicBezTo>
                    <a:cubicBezTo>
                      <a:pt x="496" y="4"/>
                      <a:pt x="450" y="3"/>
                      <a:pt x="403" y="0"/>
                    </a:cubicBezTo>
                    <a:cubicBezTo>
                      <a:pt x="367" y="3"/>
                      <a:pt x="330" y="5"/>
                      <a:pt x="294" y="8"/>
                    </a:cubicBezTo>
                    <a:cubicBezTo>
                      <a:pt x="239" y="13"/>
                      <a:pt x="130" y="24"/>
                      <a:pt x="130" y="24"/>
                    </a:cubicBezTo>
                    <a:cubicBezTo>
                      <a:pt x="120" y="26"/>
                      <a:pt x="108" y="26"/>
                      <a:pt x="99" y="31"/>
                    </a:cubicBezTo>
                    <a:cubicBezTo>
                      <a:pt x="82" y="39"/>
                      <a:pt x="52" y="63"/>
                      <a:pt x="52" y="63"/>
                    </a:cubicBezTo>
                    <a:cubicBezTo>
                      <a:pt x="21" y="124"/>
                      <a:pt x="15" y="157"/>
                      <a:pt x="5" y="226"/>
                    </a:cubicBezTo>
                    <a:cubicBezTo>
                      <a:pt x="10" y="247"/>
                      <a:pt x="0" y="283"/>
                      <a:pt x="21" y="289"/>
                    </a:cubicBezTo>
                    <a:cubicBezTo>
                      <a:pt x="78" y="305"/>
                      <a:pt x="486" y="290"/>
                      <a:pt x="520" y="289"/>
                    </a:cubicBezTo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66" name=""/>
                <p:cNvSpPr txBox="1"/>
                <p:nvPr/>
              </p:nvSpPr>
              <p:spPr>
                <a:xfrm>
                  <a:off x="7696080" y="533520"/>
                  <a:ext cx="430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7" name=""/>
            <p:cNvSpPr/>
            <p:nvPr/>
          </p:nvSpPr>
          <p:spPr>
            <a:xfrm>
              <a:off x="7026120" y="495360"/>
              <a:ext cx="841680" cy="61920"/>
            </a:xfrm>
            <a:custGeom>
              <a:avLst/>
              <a:gdLst/>
              <a:ahLst/>
              <a:rect l="l" t="t" r="r" b="b"/>
              <a:pathLst>
                <a:path w="530" h="39">
                  <a:moveTo>
                    <a:pt x="0" y="39"/>
                  </a:moveTo>
                  <a:cubicBezTo>
                    <a:pt x="176" y="29"/>
                    <a:pt x="354" y="0"/>
                    <a:pt x="53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4876920" y="1828800"/>
                <a:ext cx="39495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5715000" y="2438280"/>
                <a:ext cx="21970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L</m:t>
                        </m:r>
                        <m:r>
                          <m:t xml:space="preserve">[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4870080" y="3868560"/>
            <a:ext cx="3931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wo properties are only diffe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resentations of the same 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7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107640" y="19080"/>
            <a:ext cx="4007160" cy="337320"/>
            <a:chOff x="107640" y="19080"/>
            <a:chExt cx="4007160" cy="337320"/>
          </a:xfrm>
        </p:grpSpPr>
        <p:sp>
          <p:nvSpPr>
            <p:cNvPr id="375" name=""/>
            <p:cNvSpPr/>
            <p:nvPr/>
          </p:nvSpPr>
          <p:spPr>
            <a:xfrm>
              <a:off x="107640" y="1908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6" name=""/>
                <p:cNvSpPr txBox="1"/>
                <p:nvPr/>
              </p:nvSpPr>
              <p:spPr>
                <a:xfrm>
                  <a:off x="2400480" y="19080"/>
                  <a:ext cx="17143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76320" y="2971800"/>
                <a:ext cx="2438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50760" y="3809880"/>
                <a:ext cx="4368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↔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↔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219320" y="4419720"/>
                <a:ext cx="1498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s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80" name=""/>
          <p:cNvGrpSpPr/>
          <p:nvPr/>
        </p:nvGrpSpPr>
        <p:grpSpPr>
          <a:xfrm>
            <a:off x="152280" y="380880"/>
            <a:ext cx="4648320" cy="2552760"/>
            <a:chOff x="152280" y="380880"/>
            <a:chExt cx="4648320" cy="2552760"/>
          </a:xfrm>
        </p:grpSpPr>
        <p:pic>
          <p:nvPicPr>
            <p:cNvPr id="381" name="e(-2t)u(t-3)" descr=""/>
            <p:cNvPicPr/>
            <p:nvPr/>
          </p:nvPicPr>
          <p:blipFill>
            <a:blip r:embed="rId1"/>
            <a:stretch/>
          </p:blipFill>
          <p:spPr>
            <a:xfrm>
              <a:off x="152280" y="380880"/>
              <a:ext cx="4648320" cy="25527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>
                  <a:off x="990720" y="1066680"/>
                  <a:ext cx="392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2209680" y="609480"/>
                  <a:ext cx="72252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4" name=""/>
          <p:cNvGrpSpPr/>
          <p:nvPr/>
        </p:nvGrpSpPr>
        <p:grpSpPr>
          <a:xfrm>
            <a:off x="4603320" y="58680"/>
            <a:ext cx="3893040" cy="663480"/>
            <a:chOff x="4603320" y="58680"/>
            <a:chExt cx="3893040" cy="663480"/>
          </a:xfrm>
        </p:grpSpPr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5943600" y="457200"/>
                  <a:ext cx="25527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6" name=""/>
            <p:cNvSpPr/>
            <p:nvPr/>
          </p:nvSpPr>
          <p:spPr>
            <a:xfrm>
              <a:off x="4603320" y="5868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5181480" y="762120"/>
                <a:ext cx="33530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5181480" y="1066680"/>
                <a:ext cx="278136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5181480" y="1752480"/>
                <a:ext cx="30988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5029200" y="2438280"/>
                <a:ext cx="34034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sup>
                        </m:s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5016600" y="3695760"/>
                <a:ext cx="34416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sup>
                        </m:sSup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029200" y="4952880"/>
                <a:ext cx="3581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2085840" y="2127240"/>
            <a:ext cx="2416320" cy="892080"/>
          </a:xfrm>
          <a:custGeom>
            <a:avLst/>
            <a:gdLst/>
            <a:ahLst/>
            <a:rect l="l" t="t" r="r" b="b"/>
            <a:pathLst>
              <a:path w="1522" h="562">
                <a:moveTo>
                  <a:pt x="1522" y="234"/>
                </a:moveTo>
                <a:cubicBezTo>
                  <a:pt x="1395" y="154"/>
                  <a:pt x="1361" y="153"/>
                  <a:pt x="1234" y="94"/>
                </a:cubicBezTo>
                <a:cubicBezTo>
                  <a:pt x="1158" y="59"/>
                  <a:pt x="1058" y="11"/>
                  <a:pt x="969" y="8"/>
                </a:cubicBezTo>
                <a:cubicBezTo>
                  <a:pt x="829" y="3"/>
                  <a:pt x="688" y="3"/>
                  <a:pt x="548" y="0"/>
                </a:cubicBezTo>
                <a:cubicBezTo>
                  <a:pt x="486" y="3"/>
                  <a:pt x="423" y="2"/>
                  <a:pt x="361" y="8"/>
                </a:cubicBezTo>
                <a:cubicBezTo>
                  <a:pt x="340" y="10"/>
                  <a:pt x="299" y="24"/>
                  <a:pt x="299" y="24"/>
                </a:cubicBezTo>
                <a:cubicBezTo>
                  <a:pt x="217" y="96"/>
                  <a:pt x="184" y="87"/>
                  <a:pt x="81" y="110"/>
                </a:cubicBezTo>
                <a:cubicBezTo>
                  <a:pt x="39" y="136"/>
                  <a:pt x="53" y="165"/>
                  <a:pt x="26" y="203"/>
                </a:cubicBezTo>
                <a:cubicBezTo>
                  <a:pt x="9" y="280"/>
                  <a:pt x="0" y="308"/>
                  <a:pt x="19" y="406"/>
                </a:cubicBezTo>
                <a:cubicBezTo>
                  <a:pt x="26" y="441"/>
                  <a:pt x="101" y="452"/>
                  <a:pt x="128" y="468"/>
                </a:cubicBezTo>
                <a:cubicBezTo>
                  <a:pt x="166" y="490"/>
                  <a:pt x="201" y="489"/>
                  <a:pt x="245" y="499"/>
                </a:cubicBezTo>
                <a:cubicBezTo>
                  <a:pt x="322" y="516"/>
                  <a:pt x="399" y="533"/>
                  <a:pt x="478" y="538"/>
                </a:cubicBezTo>
                <a:cubicBezTo>
                  <a:pt x="598" y="545"/>
                  <a:pt x="837" y="554"/>
                  <a:pt x="837" y="554"/>
                </a:cubicBezTo>
                <a:cubicBezTo>
                  <a:pt x="941" y="551"/>
                  <a:pt x="1047" y="562"/>
                  <a:pt x="1148" y="538"/>
                </a:cubicBezTo>
                <a:cubicBezTo>
                  <a:pt x="1206" y="524"/>
                  <a:pt x="1254" y="498"/>
                  <a:pt x="1312" y="484"/>
                </a:cubicBezTo>
                <a:cubicBezTo>
                  <a:pt x="1360" y="451"/>
                  <a:pt x="1420" y="443"/>
                  <a:pt x="1476" y="429"/>
                </a:cubicBezTo>
                <a:cubicBezTo>
                  <a:pt x="1515" y="409"/>
                  <a:pt x="1513" y="401"/>
                  <a:pt x="1522" y="359"/>
                </a:cubicBezTo>
                <a:cubicBezTo>
                  <a:pt x="1520" y="341"/>
                  <a:pt x="1515" y="304"/>
                  <a:pt x="1515" y="304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7680" y="5164200"/>
            <a:ext cx="2414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ime trun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28600" y="5486400"/>
                <a:ext cx="40892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368280" y="5867280"/>
                <a:ext cx="37465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047600" y="6248520"/>
                <a:ext cx="2032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98" name=""/>
          <p:cNvGrpSpPr/>
          <p:nvPr/>
        </p:nvGrpSpPr>
        <p:grpSpPr>
          <a:xfrm>
            <a:off x="6553080" y="76320"/>
            <a:ext cx="1219320" cy="685800"/>
            <a:chOff x="6553080" y="76320"/>
            <a:chExt cx="1219320" cy="685800"/>
          </a:xfrm>
        </p:grpSpPr>
        <p:sp>
          <p:nvSpPr>
            <p:cNvPr id="399" name=""/>
            <p:cNvSpPr/>
            <p:nvPr/>
          </p:nvSpPr>
          <p:spPr>
            <a:xfrm>
              <a:off x="6553080" y="380880"/>
              <a:ext cx="1219320" cy="3812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7238880" y="76320"/>
                  <a:ext cx="430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5943600" y="5638680"/>
                <a:ext cx="20955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02" name="geaux" descr=""/>
          <p:cNvPicPr/>
          <p:nvPr/>
        </p:nvPicPr>
        <p:blipFill>
          <a:blip r:embed="rId2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03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1016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0560" y="515880"/>
            <a:ext cx="6069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Laplace transform of the following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0" y="990720"/>
                <a:ext cx="2209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2286000" y="990720"/>
                <a:ext cx="1193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 rot="10800000">
                <a:off x="3505320" y="837720"/>
                <a:ext cx="1574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9080" y="2057400"/>
                <a:ext cx="1638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905120" y="2057400"/>
                <a:ext cx="1676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t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038480" y="2133720"/>
                <a:ext cx="16383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12600" y="3422520"/>
                <a:ext cx="23878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t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2514600" y="3429000"/>
                <a:ext cx="2400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L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092240" y="3809880"/>
                <a:ext cx="34797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b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b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1066680" y="4191120"/>
                <a:ext cx="4077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b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143000" y="4952880"/>
                <a:ext cx="3670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b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18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19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609480" y="533520"/>
                <a:ext cx="2057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≤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lsewher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3" name=""/>
          <p:cNvSpPr/>
          <p:nvPr/>
        </p:nvSpPr>
        <p:spPr>
          <a:xfrm>
            <a:off x="2689920" y="58680"/>
            <a:ext cx="3407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4343400" y="-52560"/>
            <a:ext cx="4343400" cy="2948040"/>
            <a:chOff x="4343400" y="-52560"/>
            <a:chExt cx="4343400" cy="2948040"/>
          </a:xfrm>
        </p:grpSpPr>
        <p:graphicFrame>
          <p:nvGraphicFramePr>
            <p:cNvPr id="425" name=""/>
            <p:cNvGraphicFramePr/>
            <p:nvPr/>
          </p:nvGraphicFramePr>
          <p:xfrm>
            <a:off x="4343400" y="-52560"/>
            <a:ext cx="4343400" cy="2948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43400" y="-52560"/>
                      <a:ext cx="4343400" cy="294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27" name=""/>
                <p:cNvSpPr txBox="1"/>
                <p:nvPr/>
              </p:nvSpPr>
              <p:spPr>
                <a:xfrm>
                  <a:off x="5943600" y="1623960"/>
                  <a:ext cx="4572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596880" y="1295280"/>
                <a:ext cx="247644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04920" y="2362320"/>
                <a:ext cx="39114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0" y="2895480"/>
                <a:ext cx="50673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457200" y="3429000"/>
                <a:ext cx="3505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628560" y="2808360"/>
            <a:ext cx="1227240" cy="1471680"/>
          </a:xfrm>
          <a:custGeom>
            <a:avLst/>
            <a:gdLst/>
            <a:ahLst/>
            <a:rect l="l" t="t" r="r" b="b"/>
            <a:pathLst>
              <a:path w="773" h="927">
                <a:moveTo>
                  <a:pt x="664" y="842"/>
                </a:moveTo>
                <a:cubicBezTo>
                  <a:pt x="667" y="767"/>
                  <a:pt x="654" y="625"/>
                  <a:pt x="695" y="546"/>
                </a:cubicBezTo>
                <a:cubicBezTo>
                  <a:pt x="713" y="473"/>
                  <a:pt x="726" y="398"/>
                  <a:pt x="750" y="327"/>
                </a:cubicBezTo>
                <a:cubicBezTo>
                  <a:pt x="755" y="248"/>
                  <a:pt x="765" y="173"/>
                  <a:pt x="773" y="94"/>
                </a:cubicBezTo>
                <a:cubicBezTo>
                  <a:pt x="768" y="78"/>
                  <a:pt x="773" y="52"/>
                  <a:pt x="757" y="47"/>
                </a:cubicBezTo>
                <a:cubicBezTo>
                  <a:pt x="634" y="4"/>
                  <a:pt x="354" y="12"/>
                  <a:pt x="243" y="8"/>
                </a:cubicBezTo>
                <a:cubicBezTo>
                  <a:pt x="217" y="5"/>
                  <a:pt x="191" y="0"/>
                  <a:pt x="165" y="0"/>
                </a:cubicBezTo>
                <a:cubicBezTo>
                  <a:pt x="138" y="0"/>
                  <a:pt x="72" y="47"/>
                  <a:pt x="48" y="62"/>
                </a:cubicBezTo>
                <a:cubicBezTo>
                  <a:pt x="33" y="86"/>
                  <a:pt x="18" y="106"/>
                  <a:pt x="9" y="133"/>
                </a:cubicBezTo>
                <a:cubicBezTo>
                  <a:pt x="13" y="182"/>
                  <a:pt x="0" y="285"/>
                  <a:pt x="64" y="312"/>
                </a:cubicBezTo>
                <a:cubicBezTo>
                  <a:pt x="84" y="320"/>
                  <a:pt x="105" y="322"/>
                  <a:pt x="126" y="327"/>
                </a:cubicBezTo>
                <a:cubicBezTo>
                  <a:pt x="175" y="427"/>
                  <a:pt x="167" y="418"/>
                  <a:pt x="274" y="460"/>
                </a:cubicBezTo>
                <a:cubicBezTo>
                  <a:pt x="282" y="492"/>
                  <a:pt x="297" y="521"/>
                  <a:pt x="305" y="553"/>
                </a:cubicBezTo>
                <a:cubicBezTo>
                  <a:pt x="325" y="637"/>
                  <a:pt x="322" y="733"/>
                  <a:pt x="329" y="818"/>
                </a:cubicBezTo>
                <a:cubicBezTo>
                  <a:pt x="331" y="843"/>
                  <a:pt x="336" y="907"/>
                  <a:pt x="352" y="912"/>
                </a:cubicBezTo>
                <a:cubicBezTo>
                  <a:pt x="392" y="925"/>
                  <a:pt x="435" y="922"/>
                  <a:pt x="477" y="927"/>
                </a:cubicBezTo>
                <a:cubicBezTo>
                  <a:pt x="498" y="925"/>
                  <a:pt x="519" y="925"/>
                  <a:pt x="539" y="920"/>
                </a:cubicBezTo>
                <a:cubicBezTo>
                  <a:pt x="548" y="918"/>
                  <a:pt x="554" y="908"/>
                  <a:pt x="562" y="904"/>
                </a:cubicBezTo>
                <a:cubicBezTo>
                  <a:pt x="585" y="894"/>
                  <a:pt x="614" y="897"/>
                  <a:pt x="633" y="881"/>
                </a:cubicBezTo>
                <a:cubicBezTo>
                  <a:pt x="646" y="870"/>
                  <a:pt x="654" y="855"/>
                  <a:pt x="664" y="842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704960" y="2819520"/>
            <a:ext cx="1019160" cy="1452600"/>
          </a:xfrm>
          <a:custGeom>
            <a:avLst/>
            <a:gdLst/>
            <a:ahLst/>
            <a:rect l="l" t="t" r="r" b="b"/>
            <a:pathLst>
              <a:path w="642" h="915">
                <a:moveTo>
                  <a:pt x="126" y="796"/>
                </a:moveTo>
                <a:cubicBezTo>
                  <a:pt x="127" y="698"/>
                  <a:pt x="0" y="270"/>
                  <a:pt x="188" y="172"/>
                </a:cubicBezTo>
                <a:cubicBezTo>
                  <a:pt x="209" y="113"/>
                  <a:pt x="178" y="190"/>
                  <a:pt x="220" y="126"/>
                </a:cubicBezTo>
                <a:cubicBezTo>
                  <a:pt x="225" y="119"/>
                  <a:pt x="221" y="108"/>
                  <a:pt x="227" y="102"/>
                </a:cubicBezTo>
                <a:cubicBezTo>
                  <a:pt x="286" y="50"/>
                  <a:pt x="372" y="37"/>
                  <a:pt x="446" y="24"/>
                </a:cubicBezTo>
                <a:cubicBezTo>
                  <a:pt x="496" y="0"/>
                  <a:pt x="511" y="1"/>
                  <a:pt x="570" y="9"/>
                </a:cubicBezTo>
                <a:cubicBezTo>
                  <a:pt x="593" y="66"/>
                  <a:pt x="593" y="39"/>
                  <a:pt x="633" y="79"/>
                </a:cubicBezTo>
                <a:cubicBezTo>
                  <a:pt x="635" y="167"/>
                  <a:pt x="642" y="256"/>
                  <a:pt x="640" y="344"/>
                </a:cubicBezTo>
                <a:cubicBezTo>
                  <a:pt x="638" y="443"/>
                  <a:pt x="504" y="433"/>
                  <a:pt x="438" y="476"/>
                </a:cubicBezTo>
                <a:cubicBezTo>
                  <a:pt x="426" y="577"/>
                  <a:pt x="431" y="834"/>
                  <a:pt x="414" y="889"/>
                </a:cubicBezTo>
                <a:cubicBezTo>
                  <a:pt x="406" y="915"/>
                  <a:pt x="362" y="905"/>
                  <a:pt x="336" y="913"/>
                </a:cubicBezTo>
                <a:cubicBezTo>
                  <a:pt x="287" y="910"/>
                  <a:pt x="236" y="915"/>
                  <a:pt x="188" y="905"/>
                </a:cubicBezTo>
                <a:cubicBezTo>
                  <a:pt x="159" y="899"/>
                  <a:pt x="179" y="845"/>
                  <a:pt x="165" y="819"/>
                </a:cubicBezTo>
                <a:cubicBezTo>
                  <a:pt x="158" y="806"/>
                  <a:pt x="139" y="804"/>
                  <a:pt x="126" y="796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397240" y="2722680"/>
            <a:ext cx="1854000" cy="1468440"/>
          </a:xfrm>
          <a:custGeom>
            <a:avLst/>
            <a:gdLst/>
            <a:ahLst/>
            <a:rect l="l" t="t" r="r" b="b"/>
            <a:pathLst>
              <a:path w="1168" h="925">
                <a:moveTo>
                  <a:pt x="274" y="358"/>
                </a:moveTo>
                <a:cubicBezTo>
                  <a:pt x="280" y="258"/>
                  <a:pt x="283" y="201"/>
                  <a:pt x="306" y="109"/>
                </a:cubicBezTo>
                <a:cubicBezTo>
                  <a:pt x="307" y="104"/>
                  <a:pt x="322" y="46"/>
                  <a:pt x="337" y="38"/>
                </a:cubicBezTo>
                <a:cubicBezTo>
                  <a:pt x="374" y="20"/>
                  <a:pt x="454" y="20"/>
                  <a:pt x="493" y="15"/>
                </a:cubicBezTo>
                <a:cubicBezTo>
                  <a:pt x="711" y="18"/>
                  <a:pt x="930" y="0"/>
                  <a:pt x="1147" y="23"/>
                </a:cubicBezTo>
                <a:cubicBezTo>
                  <a:pt x="1168" y="25"/>
                  <a:pt x="1155" y="64"/>
                  <a:pt x="1155" y="85"/>
                </a:cubicBezTo>
                <a:cubicBezTo>
                  <a:pt x="1155" y="97"/>
                  <a:pt x="1129" y="257"/>
                  <a:pt x="1108" y="264"/>
                </a:cubicBezTo>
                <a:cubicBezTo>
                  <a:pt x="994" y="304"/>
                  <a:pt x="861" y="302"/>
                  <a:pt x="742" y="319"/>
                </a:cubicBezTo>
                <a:cubicBezTo>
                  <a:pt x="700" y="335"/>
                  <a:pt x="660" y="354"/>
                  <a:pt x="617" y="366"/>
                </a:cubicBezTo>
                <a:cubicBezTo>
                  <a:pt x="571" y="378"/>
                  <a:pt x="536" y="374"/>
                  <a:pt x="493" y="389"/>
                </a:cubicBezTo>
                <a:cubicBezTo>
                  <a:pt x="495" y="493"/>
                  <a:pt x="495" y="597"/>
                  <a:pt x="500" y="701"/>
                </a:cubicBezTo>
                <a:cubicBezTo>
                  <a:pt x="503" y="768"/>
                  <a:pt x="597" y="791"/>
                  <a:pt x="500" y="888"/>
                </a:cubicBezTo>
                <a:cubicBezTo>
                  <a:pt x="464" y="925"/>
                  <a:pt x="397" y="894"/>
                  <a:pt x="345" y="896"/>
                </a:cubicBezTo>
                <a:cubicBezTo>
                  <a:pt x="264" y="899"/>
                  <a:pt x="184" y="901"/>
                  <a:pt x="103" y="903"/>
                </a:cubicBezTo>
                <a:cubicBezTo>
                  <a:pt x="0" y="836"/>
                  <a:pt x="28" y="586"/>
                  <a:pt x="150" y="545"/>
                </a:cubicBezTo>
                <a:cubicBezTo>
                  <a:pt x="180" y="515"/>
                  <a:pt x="201" y="489"/>
                  <a:pt x="220" y="451"/>
                </a:cubicBezTo>
                <a:cubicBezTo>
                  <a:pt x="239" y="344"/>
                  <a:pt x="214" y="450"/>
                  <a:pt x="243" y="381"/>
                </a:cubicBezTo>
                <a:cubicBezTo>
                  <a:pt x="247" y="371"/>
                  <a:pt x="242" y="356"/>
                  <a:pt x="251" y="350"/>
                </a:cubicBezTo>
                <a:cubicBezTo>
                  <a:pt x="258" y="345"/>
                  <a:pt x="266" y="355"/>
                  <a:pt x="274" y="358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338640" y="2849400"/>
            <a:ext cx="1896840" cy="1478160"/>
          </a:xfrm>
          <a:custGeom>
            <a:avLst/>
            <a:gdLst/>
            <a:ahLst/>
            <a:rect l="l" t="t" r="r" b="b"/>
            <a:pathLst>
              <a:path w="1195" h="931">
                <a:moveTo>
                  <a:pt x="617" y="153"/>
                </a:moveTo>
                <a:cubicBezTo>
                  <a:pt x="619" y="140"/>
                  <a:pt x="631" y="50"/>
                  <a:pt x="656" y="44"/>
                </a:cubicBezTo>
                <a:cubicBezTo>
                  <a:pt x="702" y="33"/>
                  <a:pt x="796" y="29"/>
                  <a:pt x="796" y="29"/>
                </a:cubicBezTo>
                <a:cubicBezTo>
                  <a:pt x="918" y="31"/>
                  <a:pt x="1045" y="0"/>
                  <a:pt x="1162" y="36"/>
                </a:cubicBezTo>
                <a:cubicBezTo>
                  <a:pt x="1195" y="46"/>
                  <a:pt x="1158" y="104"/>
                  <a:pt x="1154" y="138"/>
                </a:cubicBezTo>
                <a:cubicBezTo>
                  <a:pt x="1147" y="190"/>
                  <a:pt x="1107" y="253"/>
                  <a:pt x="1053" y="262"/>
                </a:cubicBezTo>
                <a:cubicBezTo>
                  <a:pt x="887" y="290"/>
                  <a:pt x="742" y="300"/>
                  <a:pt x="570" y="309"/>
                </a:cubicBezTo>
                <a:cubicBezTo>
                  <a:pt x="528" y="319"/>
                  <a:pt x="457" y="299"/>
                  <a:pt x="445" y="340"/>
                </a:cubicBezTo>
                <a:cubicBezTo>
                  <a:pt x="429" y="394"/>
                  <a:pt x="415" y="441"/>
                  <a:pt x="406" y="496"/>
                </a:cubicBezTo>
                <a:cubicBezTo>
                  <a:pt x="403" y="610"/>
                  <a:pt x="405" y="725"/>
                  <a:pt x="398" y="839"/>
                </a:cubicBezTo>
                <a:cubicBezTo>
                  <a:pt x="395" y="886"/>
                  <a:pt x="337" y="888"/>
                  <a:pt x="305" y="894"/>
                </a:cubicBezTo>
                <a:cubicBezTo>
                  <a:pt x="244" y="906"/>
                  <a:pt x="179" y="907"/>
                  <a:pt x="118" y="917"/>
                </a:cubicBezTo>
                <a:cubicBezTo>
                  <a:pt x="87" y="912"/>
                  <a:pt x="34" y="931"/>
                  <a:pt x="24" y="901"/>
                </a:cubicBezTo>
                <a:cubicBezTo>
                  <a:pt x="0" y="828"/>
                  <a:pt x="42" y="543"/>
                  <a:pt x="56" y="434"/>
                </a:cubicBezTo>
                <a:cubicBezTo>
                  <a:pt x="56" y="432"/>
                  <a:pt x="69" y="342"/>
                  <a:pt x="71" y="340"/>
                </a:cubicBezTo>
                <a:cubicBezTo>
                  <a:pt x="103" y="300"/>
                  <a:pt x="174" y="297"/>
                  <a:pt x="219" y="286"/>
                </a:cubicBezTo>
                <a:cubicBezTo>
                  <a:pt x="331" y="257"/>
                  <a:pt x="449" y="268"/>
                  <a:pt x="562" y="239"/>
                </a:cubicBezTo>
                <a:cubicBezTo>
                  <a:pt x="567" y="231"/>
                  <a:pt x="571" y="222"/>
                  <a:pt x="578" y="216"/>
                </a:cubicBezTo>
                <a:cubicBezTo>
                  <a:pt x="588" y="208"/>
                  <a:pt x="619" y="209"/>
                  <a:pt x="624" y="192"/>
                </a:cubicBezTo>
                <a:cubicBezTo>
                  <a:pt x="628" y="179"/>
                  <a:pt x="619" y="166"/>
                  <a:pt x="617" y="153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7335720" y="1428840"/>
            <a:ext cx="1643040" cy="958680"/>
            <a:chOff x="7335720" y="1428840"/>
            <a:chExt cx="1643040" cy="958680"/>
          </a:xfrm>
        </p:grpSpPr>
        <mc:AlternateContent>
          <mc:Choice xmlns:a14="http://schemas.microsoft.com/office/drawing/2010/main" Requires="a14">
            <p:sp>
              <p:nvSpPr>
                <p:cNvPr id="437" name=""/>
                <p:cNvSpPr txBox="1"/>
                <p:nvPr/>
              </p:nvSpPr>
              <p:spPr>
                <a:xfrm>
                  <a:off x="7391520" y="1828800"/>
                  <a:ext cx="1587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8" name=""/>
            <p:cNvSpPr/>
            <p:nvPr/>
          </p:nvSpPr>
          <p:spPr>
            <a:xfrm>
              <a:off x="7335720" y="1428840"/>
              <a:ext cx="1636920" cy="958680"/>
            </a:xfrm>
            <a:custGeom>
              <a:avLst/>
              <a:gdLst/>
              <a:ahLst/>
              <a:rect l="l" t="t" r="r" b="b"/>
              <a:pathLst>
                <a:path w="1031" h="604">
                  <a:moveTo>
                    <a:pt x="8" y="238"/>
                  </a:moveTo>
                  <a:cubicBezTo>
                    <a:pt x="84" y="216"/>
                    <a:pt x="81" y="194"/>
                    <a:pt x="132" y="144"/>
                  </a:cubicBezTo>
                  <a:cubicBezTo>
                    <a:pt x="157" y="119"/>
                    <a:pt x="190" y="103"/>
                    <a:pt x="218" y="82"/>
                  </a:cubicBezTo>
                  <a:cubicBezTo>
                    <a:pt x="228" y="75"/>
                    <a:pt x="346" y="62"/>
                    <a:pt x="366" y="59"/>
                  </a:cubicBezTo>
                  <a:cubicBezTo>
                    <a:pt x="480" y="40"/>
                    <a:pt x="595" y="31"/>
                    <a:pt x="709" y="12"/>
                  </a:cubicBezTo>
                  <a:cubicBezTo>
                    <a:pt x="880" y="21"/>
                    <a:pt x="857" y="0"/>
                    <a:pt x="966" y="98"/>
                  </a:cubicBezTo>
                  <a:cubicBezTo>
                    <a:pt x="973" y="148"/>
                    <a:pt x="989" y="183"/>
                    <a:pt x="1005" y="230"/>
                  </a:cubicBezTo>
                  <a:cubicBezTo>
                    <a:pt x="1012" y="250"/>
                    <a:pt x="1021" y="292"/>
                    <a:pt x="1021" y="292"/>
                  </a:cubicBezTo>
                  <a:cubicBezTo>
                    <a:pt x="1018" y="362"/>
                    <a:pt x="1031" y="435"/>
                    <a:pt x="1013" y="503"/>
                  </a:cubicBezTo>
                  <a:cubicBezTo>
                    <a:pt x="1008" y="523"/>
                    <a:pt x="975" y="521"/>
                    <a:pt x="958" y="534"/>
                  </a:cubicBezTo>
                  <a:cubicBezTo>
                    <a:pt x="941" y="547"/>
                    <a:pt x="931" y="570"/>
                    <a:pt x="912" y="581"/>
                  </a:cubicBezTo>
                  <a:cubicBezTo>
                    <a:pt x="891" y="593"/>
                    <a:pt x="810" y="601"/>
                    <a:pt x="787" y="604"/>
                  </a:cubicBezTo>
                  <a:cubicBezTo>
                    <a:pt x="31" y="596"/>
                    <a:pt x="294" y="596"/>
                    <a:pt x="0" y="59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9" name="geaux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4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334120" y="3733920"/>
                <a:ext cx="19555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the definition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83160" y="76320"/>
            <a:ext cx="4199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FORMING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2360" y="515880"/>
            <a:ext cx="40075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ACT: Most of the Laplace transfor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at we encounter are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proper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r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unctions of the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0" y="1295280"/>
            <a:ext cx="4572000" cy="1342800"/>
            <a:chOff x="0" y="1295280"/>
            <a:chExt cx="4572000" cy="1342800"/>
          </a:xfrm>
        </p:grpSpPr>
        <p:graphicFrame>
          <p:nvGraphicFramePr>
            <p:cNvPr id="446" name=""/>
            <p:cNvGraphicFramePr/>
            <p:nvPr/>
          </p:nvGraphicFramePr>
          <p:xfrm>
            <a:off x="0" y="1295280"/>
            <a:ext cx="4572000" cy="64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95280"/>
                      <a:ext cx="457200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8" name=""/>
            <p:cNvSpPr/>
            <p:nvPr/>
          </p:nvSpPr>
          <p:spPr>
            <a:xfrm>
              <a:off x="138960" y="2057400"/>
              <a:ext cx="31068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Zeros = roots of num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s = roots of denomin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9" name=""/>
                <p:cNvSpPr txBox="1"/>
                <p:nvPr/>
              </p:nvSpPr>
              <p:spPr>
                <a:xfrm>
                  <a:off x="3657600" y="2057400"/>
                  <a:ext cx="582480" cy="20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≤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0" name=""/>
          <p:cNvSpPr/>
          <p:nvPr/>
        </p:nvSpPr>
        <p:spPr>
          <a:xfrm>
            <a:off x="179640" y="2725560"/>
            <a:ext cx="4309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NOWN: PARTIAL FRACTION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76320" y="3137040"/>
                <a:ext cx="463536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a COPRIME factoriz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f the denominator with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∴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52" name=""/>
          <p:cNvGrpSpPr/>
          <p:nvPr/>
        </p:nvGrpSpPr>
        <p:grpSpPr>
          <a:xfrm>
            <a:off x="0" y="4859280"/>
            <a:ext cx="4572000" cy="1103400"/>
            <a:chOff x="0" y="4859280"/>
            <a:chExt cx="4572000" cy="1103400"/>
          </a:xfrm>
        </p:grpSpPr>
        <p:sp>
          <p:nvSpPr>
            <p:cNvPr id="453" name=""/>
            <p:cNvSpPr/>
            <p:nvPr/>
          </p:nvSpPr>
          <p:spPr>
            <a:xfrm>
              <a:off x="124560" y="4859280"/>
              <a:ext cx="3373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m&lt;n and the poles are si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54" name=""/>
            <p:cNvGraphicFramePr/>
            <p:nvPr/>
          </p:nvGraphicFramePr>
          <p:xfrm>
            <a:off x="0" y="5181480"/>
            <a:ext cx="4572000" cy="781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5181480"/>
                      <a:ext cx="457200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56" name=""/>
          <p:cNvGrpSpPr/>
          <p:nvPr/>
        </p:nvGrpSpPr>
        <p:grpSpPr>
          <a:xfrm>
            <a:off x="4572000" y="76320"/>
            <a:ext cx="4572000" cy="1790640"/>
            <a:chOff x="4572000" y="76320"/>
            <a:chExt cx="4572000" cy="1790640"/>
          </a:xfrm>
        </p:grpSpPr>
        <p:sp>
          <p:nvSpPr>
            <p:cNvPr id="457" name=""/>
            <p:cNvSpPr/>
            <p:nvPr/>
          </p:nvSpPr>
          <p:spPr>
            <a:xfrm>
              <a:off x="4778280" y="76320"/>
              <a:ext cx="3490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ple, complex conjugate po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58" name=""/>
            <p:cNvGraphicFramePr/>
            <p:nvPr/>
          </p:nvGraphicFramePr>
          <p:xfrm>
            <a:off x="4572000" y="474840"/>
            <a:ext cx="2800440" cy="668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5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72000" y="474840"/>
                      <a:ext cx="2800440" cy="66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0" name=""/>
            <p:cNvGraphicFramePr/>
            <p:nvPr/>
          </p:nvGraphicFramePr>
          <p:xfrm>
            <a:off x="5789520" y="1160640"/>
            <a:ext cx="3354480" cy="706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6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89520" y="1160640"/>
                      <a:ext cx="3354480" cy="70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62" name=""/>
          <p:cNvGrpSpPr/>
          <p:nvPr/>
        </p:nvGrpSpPr>
        <p:grpSpPr>
          <a:xfrm>
            <a:off x="4724280" y="3557520"/>
            <a:ext cx="4419720" cy="1928880"/>
            <a:chOff x="4724280" y="3557520"/>
            <a:chExt cx="4419720" cy="1928880"/>
          </a:xfrm>
        </p:grpSpPr>
        <p:sp>
          <p:nvSpPr>
            <p:cNvPr id="463" name=""/>
            <p:cNvSpPr/>
            <p:nvPr/>
          </p:nvSpPr>
          <p:spPr>
            <a:xfrm>
              <a:off x="4827240" y="3557520"/>
              <a:ext cx="2487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 with multiplicity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4" name=""/>
            <p:cNvGraphicFramePr/>
            <p:nvPr/>
          </p:nvGraphicFramePr>
          <p:xfrm>
            <a:off x="4724280" y="3956040"/>
            <a:ext cx="1555920" cy="714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6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724280" y="3956040"/>
                      <a:ext cx="1555920" cy="71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6" name=""/>
            <p:cNvGraphicFramePr/>
            <p:nvPr/>
          </p:nvGraphicFramePr>
          <p:xfrm>
            <a:off x="5181480" y="4870440"/>
            <a:ext cx="3962520" cy="615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6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181480" y="4870440"/>
                      <a:ext cx="3962520" cy="61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68" name=""/>
          <p:cNvSpPr/>
          <p:nvPr/>
        </p:nvSpPr>
        <p:spPr>
          <a:xfrm>
            <a:off x="4879440" y="5591160"/>
            <a:ext cx="370584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VERSE TRANSFORM OF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TIAL FRACTION IS IMMEDIAT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ONLY NEED TO COMPUTE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OUS CONS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5931000" y="2133720"/>
                <a:ext cx="3213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β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0" name="geaux" descr=""/>
          <p:cNvPicPr/>
          <p:nvPr/>
        </p:nvPicPr>
        <p:blipFill>
          <a:blip r:embed="rId1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7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3783960" y="76320"/>
            <a:ext cx="1598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P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943280" y="457200"/>
          <a:ext cx="40384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457200"/>
                    <a:ext cx="40384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5981760" y="685800"/>
                <a:ext cx="952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/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77" name=""/>
          <p:cNvGraphicFramePr/>
          <p:nvPr/>
        </p:nvGraphicFramePr>
        <p:xfrm>
          <a:off x="1943280" y="1143000"/>
          <a:ext cx="4719600" cy="4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3280" y="1143000"/>
                    <a:ext cx="47196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9" name=""/>
          <p:cNvGrpSpPr/>
          <p:nvPr/>
        </p:nvGrpSpPr>
        <p:grpSpPr>
          <a:xfrm>
            <a:off x="76320" y="1811160"/>
            <a:ext cx="2590560" cy="1008360"/>
            <a:chOff x="76320" y="1811160"/>
            <a:chExt cx="2590560" cy="1008360"/>
          </a:xfrm>
        </p:grpSpPr>
        <p:sp>
          <p:nvSpPr>
            <p:cNvPr id="480" name=""/>
            <p:cNvSpPr/>
            <p:nvPr/>
          </p:nvSpPr>
          <p:spPr>
            <a:xfrm>
              <a:off x="91800" y="18111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76320" y="2222640"/>
                  <a:ext cx="2590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82" name=""/>
          <p:cNvSpPr/>
          <p:nvPr/>
        </p:nvSpPr>
        <p:spPr>
          <a:xfrm>
            <a:off x="114480" y="2895480"/>
            <a:ext cx="3815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partial fraction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80880" y="3359160"/>
                <a:ext cx="2959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61560" y="3962520"/>
            <a:ext cx="3937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coefficients (residu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0" y="4313160"/>
                <a:ext cx="279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0" y="4886280"/>
                <a:ext cx="3441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0" y="5497560"/>
                <a:ext cx="3695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0" y="6108840"/>
                <a:ext cx="3987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9" name=""/>
          <p:cNvSpPr/>
          <p:nvPr/>
        </p:nvSpPr>
        <p:spPr>
          <a:xfrm>
            <a:off x="4684680" y="2543040"/>
            <a:ext cx="4094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t the inverse of each term and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inal ans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4800600" y="3200400"/>
                <a:ext cx="3759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1" name=""/>
          <p:cNvSpPr/>
          <p:nvPr/>
        </p:nvSpPr>
        <p:spPr>
          <a:xfrm>
            <a:off x="4732920" y="3914640"/>
            <a:ext cx="41673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tep function is necessary to mak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unction zero for t&lt;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3389400" y="3637080"/>
            <a:ext cx="5145120" cy="1809720"/>
            <a:chOff x="3389400" y="3637080"/>
            <a:chExt cx="5145120" cy="1809720"/>
          </a:xfrm>
        </p:grpSpPr>
        <p:sp>
          <p:nvSpPr>
            <p:cNvPr id="493" name=""/>
            <p:cNvSpPr/>
            <p:nvPr/>
          </p:nvSpPr>
          <p:spPr>
            <a:xfrm>
              <a:off x="3389400" y="3637080"/>
              <a:ext cx="1249200" cy="1331640"/>
            </a:xfrm>
            <a:custGeom>
              <a:avLst/>
              <a:gdLst/>
              <a:ahLst/>
              <a:rect l="l" t="t" r="r" b="b"/>
              <a:pathLst>
                <a:path w="787" h="839">
                  <a:moveTo>
                    <a:pt x="0" y="0"/>
                  </a:moveTo>
                  <a:cubicBezTo>
                    <a:pt x="138" y="11"/>
                    <a:pt x="275" y="18"/>
                    <a:pt x="413" y="24"/>
                  </a:cubicBezTo>
                  <a:cubicBezTo>
                    <a:pt x="503" y="33"/>
                    <a:pt x="499" y="25"/>
                    <a:pt x="530" y="109"/>
                  </a:cubicBezTo>
                  <a:cubicBezTo>
                    <a:pt x="547" y="278"/>
                    <a:pt x="554" y="447"/>
                    <a:pt x="569" y="616"/>
                  </a:cubicBezTo>
                  <a:cubicBezTo>
                    <a:pt x="570" y="623"/>
                    <a:pt x="584" y="816"/>
                    <a:pt x="592" y="826"/>
                  </a:cubicBezTo>
                  <a:cubicBezTo>
                    <a:pt x="602" y="839"/>
                    <a:pt x="623" y="833"/>
                    <a:pt x="639" y="834"/>
                  </a:cubicBezTo>
                  <a:cubicBezTo>
                    <a:pt x="688" y="836"/>
                    <a:pt x="738" y="834"/>
                    <a:pt x="787" y="83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686120" y="4782960"/>
              <a:ext cx="3488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M” of the inverse trans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5" name=""/>
                <p:cNvSpPr txBox="1"/>
                <p:nvPr/>
              </p:nvSpPr>
              <p:spPr>
                <a:xfrm>
                  <a:off x="4610160" y="5105520"/>
                  <a:ext cx="39243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</m:e>
                      </m:d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96" name="geaux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97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109440" y="76320"/>
            <a:ext cx="256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47240" y="76320"/>
            <a:ext cx="288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317520" y="609480"/>
                <a:ext cx="2286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2" name=""/>
          <p:cNvSpPr/>
          <p:nvPr/>
        </p:nvSpPr>
        <p:spPr>
          <a:xfrm>
            <a:off x="6493680" y="135000"/>
            <a:ext cx="25095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Partial f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Inverse of each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743200" y="609480"/>
            <a:ext cx="3309480" cy="559080"/>
            <a:chOff x="2743200" y="609480"/>
            <a:chExt cx="3309480" cy="559080"/>
          </a:xfrm>
        </p:grpSpPr>
        <mc:AlternateContent>
          <mc:Choice xmlns:a14="http://schemas.microsoft.com/office/drawing/2010/main" Requires="a14">
            <p:sp>
              <p:nvSpPr>
                <p:cNvPr id="504" name=""/>
                <p:cNvSpPr txBox="1"/>
                <p:nvPr/>
              </p:nvSpPr>
              <p:spPr>
                <a:xfrm>
                  <a:off x="2743200" y="609480"/>
                  <a:ext cx="127008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05" name=""/>
            <p:cNvSpPr/>
            <p:nvPr/>
          </p:nvSpPr>
          <p:spPr>
            <a:xfrm>
              <a:off x="4338720" y="744480"/>
              <a:ext cx="1713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rtial fr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57200" y="1600200"/>
                <a:ext cx="1866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2438280" y="1536840"/>
                <a:ext cx="1155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349200" y="2590920"/>
                <a:ext cx="1930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2362320" y="2438280"/>
                <a:ext cx="1155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0" name=""/>
          <p:cNvSpPr/>
          <p:nvPr/>
        </p:nvSpPr>
        <p:spPr>
          <a:xfrm>
            <a:off x="172800" y="2057400"/>
            <a:ext cx="103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502880" y="1430280"/>
            <a:ext cx="2282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verse of each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4952880" y="1981080"/>
                <a:ext cx="24512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3" name=""/>
          <p:cNvSpPr/>
          <p:nvPr/>
        </p:nvSpPr>
        <p:spPr>
          <a:xfrm>
            <a:off x="2403360" y="544680"/>
            <a:ext cx="3621240" cy="1854000"/>
          </a:xfrm>
          <a:custGeom>
            <a:avLst/>
            <a:gdLst/>
            <a:ahLst/>
            <a:rect l="l" t="t" r="r" b="b"/>
            <a:pathLst>
              <a:path w="2281" h="1168">
                <a:moveTo>
                  <a:pt x="629" y="397"/>
                </a:moveTo>
                <a:cubicBezTo>
                  <a:pt x="632" y="382"/>
                  <a:pt x="638" y="367"/>
                  <a:pt x="637" y="351"/>
                </a:cubicBezTo>
                <a:cubicBezTo>
                  <a:pt x="632" y="201"/>
                  <a:pt x="633" y="171"/>
                  <a:pt x="567" y="54"/>
                </a:cubicBezTo>
                <a:cubicBezTo>
                  <a:pt x="561" y="44"/>
                  <a:pt x="561" y="28"/>
                  <a:pt x="551" y="23"/>
                </a:cubicBezTo>
                <a:cubicBezTo>
                  <a:pt x="522" y="9"/>
                  <a:pt x="489" y="8"/>
                  <a:pt x="458" y="0"/>
                </a:cubicBezTo>
                <a:cubicBezTo>
                  <a:pt x="428" y="19"/>
                  <a:pt x="380" y="70"/>
                  <a:pt x="380" y="70"/>
                </a:cubicBezTo>
                <a:cubicBezTo>
                  <a:pt x="355" y="156"/>
                  <a:pt x="304" y="224"/>
                  <a:pt x="270" y="304"/>
                </a:cubicBezTo>
                <a:cubicBezTo>
                  <a:pt x="265" y="316"/>
                  <a:pt x="250" y="372"/>
                  <a:pt x="232" y="390"/>
                </a:cubicBezTo>
                <a:cubicBezTo>
                  <a:pt x="223" y="399"/>
                  <a:pt x="209" y="403"/>
                  <a:pt x="200" y="413"/>
                </a:cubicBezTo>
                <a:cubicBezTo>
                  <a:pt x="155" y="462"/>
                  <a:pt x="119" y="522"/>
                  <a:pt x="83" y="577"/>
                </a:cubicBezTo>
                <a:cubicBezTo>
                  <a:pt x="72" y="614"/>
                  <a:pt x="54" y="651"/>
                  <a:pt x="37" y="686"/>
                </a:cubicBezTo>
                <a:cubicBezTo>
                  <a:pt x="23" y="754"/>
                  <a:pt x="0" y="814"/>
                  <a:pt x="29" y="888"/>
                </a:cubicBezTo>
                <a:cubicBezTo>
                  <a:pt x="35" y="903"/>
                  <a:pt x="60" y="893"/>
                  <a:pt x="76" y="896"/>
                </a:cubicBezTo>
                <a:cubicBezTo>
                  <a:pt x="114" y="909"/>
                  <a:pt x="154" y="914"/>
                  <a:pt x="193" y="927"/>
                </a:cubicBezTo>
                <a:cubicBezTo>
                  <a:pt x="224" y="960"/>
                  <a:pt x="259" y="968"/>
                  <a:pt x="302" y="990"/>
                </a:cubicBezTo>
                <a:cubicBezTo>
                  <a:pt x="307" y="1000"/>
                  <a:pt x="308" y="1014"/>
                  <a:pt x="317" y="1021"/>
                </a:cubicBezTo>
                <a:cubicBezTo>
                  <a:pt x="351" y="1046"/>
                  <a:pt x="456" y="1050"/>
                  <a:pt x="481" y="1052"/>
                </a:cubicBezTo>
                <a:cubicBezTo>
                  <a:pt x="582" y="1047"/>
                  <a:pt x="684" y="1042"/>
                  <a:pt x="785" y="1036"/>
                </a:cubicBezTo>
                <a:cubicBezTo>
                  <a:pt x="887" y="1030"/>
                  <a:pt x="857" y="1050"/>
                  <a:pt x="902" y="1005"/>
                </a:cubicBezTo>
                <a:cubicBezTo>
                  <a:pt x="899" y="984"/>
                  <a:pt x="902" y="962"/>
                  <a:pt x="894" y="943"/>
                </a:cubicBezTo>
                <a:cubicBezTo>
                  <a:pt x="891" y="936"/>
                  <a:pt x="878" y="939"/>
                  <a:pt x="871" y="935"/>
                </a:cubicBezTo>
                <a:cubicBezTo>
                  <a:pt x="855" y="926"/>
                  <a:pt x="824" y="904"/>
                  <a:pt x="824" y="904"/>
                </a:cubicBezTo>
                <a:cubicBezTo>
                  <a:pt x="818" y="887"/>
                  <a:pt x="803" y="874"/>
                  <a:pt x="800" y="857"/>
                </a:cubicBezTo>
                <a:cubicBezTo>
                  <a:pt x="781" y="729"/>
                  <a:pt x="810" y="613"/>
                  <a:pt x="715" y="514"/>
                </a:cubicBezTo>
                <a:cubicBezTo>
                  <a:pt x="717" y="576"/>
                  <a:pt x="718" y="639"/>
                  <a:pt x="722" y="701"/>
                </a:cubicBezTo>
                <a:cubicBezTo>
                  <a:pt x="723" y="724"/>
                  <a:pt x="720" y="750"/>
                  <a:pt x="730" y="771"/>
                </a:cubicBezTo>
                <a:cubicBezTo>
                  <a:pt x="817" y="956"/>
                  <a:pt x="750" y="730"/>
                  <a:pt x="793" y="849"/>
                </a:cubicBezTo>
                <a:cubicBezTo>
                  <a:pt x="812" y="900"/>
                  <a:pt x="803" y="952"/>
                  <a:pt x="878" y="974"/>
                </a:cubicBezTo>
                <a:cubicBezTo>
                  <a:pt x="971" y="1001"/>
                  <a:pt x="986" y="1005"/>
                  <a:pt x="1089" y="1013"/>
                </a:cubicBezTo>
                <a:cubicBezTo>
                  <a:pt x="1212" y="1031"/>
                  <a:pt x="1329" y="1032"/>
                  <a:pt x="1455" y="1036"/>
                </a:cubicBezTo>
                <a:cubicBezTo>
                  <a:pt x="1458" y="1052"/>
                  <a:pt x="1454" y="1070"/>
                  <a:pt x="1463" y="1083"/>
                </a:cubicBezTo>
                <a:cubicBezTo>
                  <a:pt x="1513" y="1154"/>
                  <a:pt x="1651" y="1122"/>
                  <a:pt x="1728" y="1130"/>
                </a:cubicBezTo>
                <a:cubicBezTo>
                  <a:pt x="1838" y="1168"/>
                  <a:pt x="2119" y="1140"/>
                  <a:pt x="2211" y="1138"/>
                </a:cubicBezTo>
                <a:cubicBezTo>
                  <a:pt x="2234" y="1130"/>
                  <a:pt x="2257" y="1122"/>
                  <a:pt x="2281" y="1122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304920" y="3581280"/>
                <a:ext cx="1879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2362320" y="3581280"/>
                <a:ext cx="1117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685800" y="4267080"/>
                <a:ext cx="20829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685800" y="5029200"/>
                <a:ext cx="1943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2743200" y="4876920"/>
                <a:ext cx="11556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4572000" y="4419720"/>
                <a:ext cx="21463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20" name=""/>
          <p:cNvGrpSpPr/>
          <p:nvPr/>
        </p:nvGrpSpPr>
        <p:grpSpPr>
          <a:xfrm>
            <a:off x="6940440" y="1676520"/>
            <a:ext cx="2142000" cy="1325160"/>
            <a:chOff x="6940440" y="1676520"/>
            <a:chExt cx="2142000" cy="1325160"/>
          </a:xfrm>
        </p:grpSpPr>
        <p:sp>
          <p:nvSpPr>
            <p:cNvPr id="521" name=""/>
            <p:cNvSpPr/>
            <p:nvPr/>
          </p:nvSpPr>
          <p:spPr>
            <a:xfrm>
              <a:off x="7010280" y="1676520"/>
              <a:ext cx="533520" cy="761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40440" y="2421000"/>
              <a:ext cx="2142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kes the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zero for t&l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514600" y="3087720"/>
                <a:ext cx="4394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 of solution: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3568680" y="3657600"/>
                <a:ext cx="2222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25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2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52280" y="203040"/>
            <a:ext cx="7391520" cy="1244880"/>
            <a:chOff x="152280" y="203040"/>
            <a:chExt cx="7391520" cy="1244880"/>
          </a:xfrm>
        </p:grpSpPr>
        <p:graphicFrame>
          <p:nvGraphicFramePr>
            <p:cNvPr id="53" name=""/>
            <p:cNvGraphicFramePr/>
            <p:nvPr/>
          </p:nvGraphicFramePr>
          <p:xfrm>
            <a:off x="152280" y="203040"/>
            <a:ext cx="4191120" cy="1244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203040"/>
                      <a:ext cx="4191120" cy="124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4343400" y="736560"/>
                  <a:ext cx="320040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∀</m:t>
                          </m:r>
                          <m:r>
                            <m:t xml:space="preserve">s</m:t>
                          </m:r>
                          <m:r>
                            <m:t xml:space="preserve">∋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the integral is well defined</m:t>
                          </m:r>
                        </m:e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  <m:r>
                                <m:t xml:space="preserve">∈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RoC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6" name=""/>
          <p:cNvSpPr/>
          <p:nvPr/>
        </p:nvSpPr>
        <p:spPr>
          <a:xfrm>
            <a:off x="275400" y="58680"/>
            <a:ext cx="3538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-SIDED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914400" y="1371600"/>
                <a:ext cx="54738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t will be necessary to consider </m:t>
                    </m:r>
                    <m:r>
                      <m:t xml:space="preserve">t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as the lower limi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" name=""/>
          <p:cNvGrpSpPr/>
          <p:nvPr/>
        </p:nvGrpSpPr>
        <p:grpSpPr>
          <a:xfrm>
            <a:off x="455760" y="2209680"/>
            <a:ext cx="6971760" cy="1581120"/>
            <a:chOff x="455760" y="2209680"/>
            <a:chExt cx="6971760" cy="1581120"/>
          </a:xfrm>
        </p:grpSpPr>
        <p:sp>
          <p:nvSpPr>
            <p:cNvPr id="59" name=""/>
            <p:cNvSpPr/>
            <p:nvPr/>
          </p:nvSpPr>
          <p:spPr>
            <a:xfrm>
              <a:off x="455760" y="2209680"/>
              <a:ext cx="6971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 SUFFICIENT CONDITION FOR EXISTENCE OF LAPLACE TRANS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2911320" y="2531880"/>
            <a:ext cx="3429000" cy="1258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11320" y="2531880"/>
                      <a:ext cx="3429000" cy="12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419720" y="380880"/>
                <a:ext cx="10159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122480" y="1752480"/>
                <a:ext cx="6948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o insure uniqueness of the transform one assumes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" name=""/>
          <p:cNvGrpSpPr/>
          <p:nvPr/>
        </p:nvGrpSpPr>
        <p:grpSpPr>
          <a:xfrm>
            <a:off x="578880" y="3792600"/>
            <a:ext cx="8534160" cy="1003320"/>
            <a:chOff x="578880" y="3792600"/>
            <a:chExt cx="8534160" cy="1003320"/>
          </a:xfrm>
        </p:grpSpPr>
        <p:sp>
          <p:nvSpPr>
            <p:cNvPr id="65" name=""/>
            <p:cNvSpPr/>
            <p:nvPr/>
          </p:nvSpPr>
          <p:spPr>
            <a:xfrm>
              <a:off x="578880" y="3792600"/>
              <a:ext cx="2783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INVERSE TRANS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" name=""/>
            <p:cNvGraphicFramePr/>
            <p:nvPr/>
          </p:nvGraphicFramePr>
          <p:xfrm>
            <a:off x="2286000" y="4114800"/>
            <a:ext cx="4529160" cy="681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0" y="4114800"/>
                      <a:ext cx="4529160" cy="68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" name=""/>
            <p:cNvSpPr/>
            <p:nvPr/>
          </p:nvSpPr>
          <p:spPr>
            <a:xfrm>
              <a:off x="6814080" y="4191120"/>
              <a:ext cx="22989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tour integ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complex pla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532440" y="4935600"/>
            <a:ext cx="8097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aluating the integrals can be quite time-consuming. For this reason 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velop better procedures that apply only to certain useful classes of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geaux" descr=""/>
          <p:cNvPicPr/>
          <p:nvPr/>
        </p:nvPicPr>
        <p:blipFill>
          <a:blip r:embed="rId7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477120" y="2808360"/>
                <a:ext cx="21463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ransform exists f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σ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3054600" y="76320"/>
            <a:ext cx="3080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CONJUGATE P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9" name=""/>
          <p:cNvGraphicFramePr/>
          <p:nvPr/>
        </p:nvGraphicFramePr>
        <p:xfrm rot="10800000">
          <a:off x="1905120" y="456840"/>
          <a:ext cx="6448320" cy="6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1905120" y="456840"/>
                    <a:ext cx="644832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"/>
          <p:cNvGraphicFramePr/>
          <p:nvPr/>
        </p:nvGraphicFramePr>
        <p:xfrm>
          <a:off x="152280" y="1295280"/>
          <a:ext cx="2971800" cy="6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295280"/>
                    <a:ext cx="297180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3124080" y="1447920"/>
                <a:ext cx="939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4" name=""/>
          <p:cNvGrpSpPr/>
          <p:nvPr/>
        </p:nvGrpSpPr>
        <p:grpSpPr>
          <a:xfrm>
            <a:off x="4267080" y="1295280"/>
            <a:ext cx="4800600" cy="1285920"/>
            <a:chOff x="4267080" y="1295280"/>
            <a:chExt cx="4800600" cy="1285920"/>
          </a:xfrm>
        </p:grpSpPr>
        <p:graphicFrame>
          <p:nvGraphicFramePr>
            <p:cNvPr id="535" name=""/>
            <p:cNvGraphicFramePr/>
            <p:nvPr/>
          </p:nvGraphicFramePr>
          <p:xfrm>
            <a:off x="4800600" y="1295280"/>
            <a:ext cx="4267080" cy="1285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3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800600" y="1295280"/>
                      <a:ext cx="4267080" cy="128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7" name=""/>
            <p:cNvSpPr/>
            <p:nvPr/>
          </p:nvSpPr>
          <p:spPr>
            <a:xfrm>
              <a:off x="4267080" y="1447920"/>
              <a:ext cx="304920" cy="228600"/>
            </a:xfrm>
            <a:prstGeom prst="rightArrow">
              <a:avLst>
                <a:gd name="adj1" fmla="val 50000"/>
                <a:gd name="adj2" fmla="val 33346"/>
              </a:avLst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38" name=""/>
          <p:cNvGraphicFramePr/>
          <p:nvPr/>
        </p:nvGraphicFramePr>
        <p:xfrm>
          <a:off x="0" y="2619360"/>
          <a:ext cx="5486400" cy="80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619360"/>
                    <a:ext cx="548640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6248520" y="2743200"/>
                <a:ext cx="16383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uler's Identit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φ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φ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0" y="3505320"/>
                <a:ext cx="35812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2" name=""/>
          <p:cNvGrpSpPr/>
          <p:nvPr/>
        </p:nvGrpSpPr>
        <p:grpSpPr>
          <a:xfrm>
            <a:off x="0" y="3944880"/>
            <a:ext cx="3733920" cy="1085760"/>
            <a:chOff x="0" y="3944880"/>
            <a:chExt cx="3733920" cy="1085760"/>
          </a:xfrm>
        </p:grpSpPr>
        <p:sp>
          <p:nvSpPr>
            <p:cNvPr id="543" name=""/>
            <p:cNvSpPr/>
            <p:nvPr/>
          </p:nvSpPr>
          <p:spPr>
            <a:xfrm>
              <a:off x="153720" y="3944880"/>
              <a:ext cx="3053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QUADRATIC FA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44" name=""/>
            <p:cNvGraphicFramePr/>
            <p:nvPr/>
          </p:nvGraphicFramePr>
          <p:xfrm>
            <a:off x="0" y="4343400"/>
            <a:ext cx="3733920" cy="687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4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0" y="4343400"/>
                      <a:ext cx="3733920" cy="68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3873600" y="4419720"/>
                <a:ext cx="5270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α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β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76320" y="5221440"/>
                <a:ext cx="3632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8" name=""/>
          <p:cNvSpPr/>
          <p:nvPr/>
        </p:nvSpPr>
        <p:spPr>
          <a:xfrm>
            <a:off x="3951360" y="5240160"/>
            <a:ext cx="51015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voids using complex algebr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st determine the coefficients in different 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geaux" descr=""/>
          <p:cNvPicPr/>
          <p:nvPr/>
        </p:nvPicPr>
        <p:blipFill>
          <a:blip r:embed="rId1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5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18320" y="5773680"/>
            <a:ext cx="3276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wo forms are equivalent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0620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2413080" y="76320"/>
                <a:ext cx="1930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152280" y="685800"/>
                <a:ext cx="31752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152280" y="1447920"/>
                <a:ext cx="5423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304920" y="2209680"/>
                <a:ext cx="3771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304920" y="2832120"/>
                <a:ext cx="5346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5740560" y="2971800"/>
                <a:ext cx="1803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7613640" y="2895480"/>
                <a:ext cx="137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304920" y="3429000"/>
                <a:ext cx="3581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36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8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2" name=""/>
          <p:cNvGrpSpPr/>
          <p:nvPr/>
        </p:nvGrpSpPr>
        <p:grpSpPr>
          <a:xfrm>
            <a:off x="76320" y="3716280"/>
            <a:ext cx="4838760" cy="932040"/>
            <a:chOff x="76320" y="3716280"/>
            <a:chExt cx="4838760" cy="932040"/>
          </a:xfrm>
        </p:grpSpPr>
        <p:sp>
          <p:nvSpPr>
            <p:cNvPr id="563" name=""/>
            <p:cNvSpPr/>
            <p:nvPr/>
          </p:nvSpPr>
          <p:spPr>
            <a:xfrm>
              <a:off x="100440" y="3716280"/>
              <a:ext cx="255204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quadratic fa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4" name=""/>
                <p:cNvSpPr txBox="1"/>
                <p:nvPr/>
              </p:nvSpPr>
              <p:spPr>
                <a:xfrm>
                  <a:off x="76320" y="4038480"/>
                  <a:ext cx="48387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(</m:t>
                          </m:r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5029200" y="4038480"/>
                <a:ext cx="33019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127080" y="4724280"/>
                <a:ext cx="4292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5181480" y="5119560"/>
                <a:ext cx="179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152280" y="5181480"/>
                <a:ext cx="20574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2057400" y="5943600"/>
                <a:ext cx="90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1924200" y="5195880"/>
                <a:ext cx="1612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2425680" y="5562720"/>
                <a:ext cx="90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5181480" y="5424480"/>
                <a:ext cx="227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5181480" y="5729400"/>
                <a:ext cx="2781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4" name=""/>
          <p:cNvSpPr/>
          <p:nvPr/>
        </p:nvSpPr>
        <p:spPr>
          <a:xfrm>
            <a:off x="4620240" y="4782960"/>
            <a:ext cx="4403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ternative way to determine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7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304920" y="6248520"/>
                <a:ext cx="3784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5562720" y="457200"/>
                <a:ext cx="35812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0" name=""/>
          <p:cNvGrpSpPr/>
          <p:nvPr/>
        </p:nvGrpSpPr>
        <p:grpSpPr>
          <a:xfrm>
            <a:off x="6736320" y="1963800"/>
            <a:ext cx="2221200" cy="855720"/>
            <a:chOff x="6736320" y="1963800"/>
            <a:chExt cx="2221200" cy="855720"/>
          </a:xfrm>
        </p:grpSpPr>
        <p:sp>
          <p:nvSpPr>
            <p:cNvPr id="581" name=""/>
            <p:cNvSpPr/>
            <p:nvPr/>
          </p:nvSpPr>
          <p:spPr>
            <a:xfrm>
              <a:off x="6736320" y="1963800"/>
              <a:ext cx="2221200" cy="5806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ST use radians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pon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001000" y="2590920"/>
              <a:ext cx="83808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5257800" y="6146640"/>
                <a:ext cx="26924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584" name=""/>
          <p:cNvGrpSpPr/>
          <p:nvPr/>
        </p:nvGrpSpPr>
        <p:grpSpPr>
          <a:xfrm>
            <a:off x="2438280" y="6184800"/>
            <a:ext cx="4699080" cy="723960"/>
            <a:chOff x="2438280" y="6184800"/>
            <a:chExt cx="4699080" cy="723960"/>
          </a:xfrm>
        </p:grpSpPr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2438280" y="6184800"/>
                  <a:ext cx="259092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For 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must differentiat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ne more time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86" name=""/>
            <p:cNvSpPr/>
            <p:nvPr/>
          </p:nvSpPr>
          <p:spPr>
            <a:xfrm>
              <a:off x="4057560" y="6535800"/>
              <a:ext cx="3079800" cy="372960"/>
            </a:xfrm>
            <a:custGeom>
              <a:avLst/>
              <a:gdLst/>
              <a:ahLst/>
              <a:rect l="l" t="t" r="r" b="b"/>
              <a:pathLst>
                <a:path w="1940" h="235">
                  <a:moveTo>
                    <a:pt x="0" y="37"/>
                  </a:moveTo>
                  <a:cubicBezTo>
                    <a:pt x="117" y="7"/>
                    <a:pt x="304" y="14"/>
                    <a:pt x="436" y="6"/>
                  </a:cubicBezTo>
                  <a:cubicBezTo>
                    <a:pt x="506" y="9"/>
                    <a:pt x="580" y="0"/>
                    <a:pt x="647" y="21"/>
                  </a:cubicBezTo>
                  <a:cubicBezTo>
                    <a:pt x="678" y="31"/>
                    <a:pt x="701" y="58"/>
                    <a:pt x="732" y="68"/>
                  </a:cubicBezTo>
                  <a:cubicBezTo>
                    <a:pt x="805" y="92"/>
                    <a:pt x="883" y="112"/>
                    <a:pt x="958" y="130"/>
                  </a:cubicBezTo>
                  <a:cubicBezTo>
                    <a:pt x="1035" y="168"/>
                    <a:pt x="998" y="157"/>
                    <a:pt x="1068" y="169"/>
                  </a:cubicBezTo>
                  <a:cubicBezTo>
                    <a:pt x="1259" y="235"/>
                    <a:pt x="1473" y="180"/>
                    <a:pt x="1675" y="177"/>
                  </a:cubicBezTo>
                  <a:cubicBezTo>
                    <a:pt x="1789" y="139"/>
                    <a:pt x="1808" y="138"/>
                    <a:pt x="1940" y="13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3601440" y="135000"/>
            <a:ext cx="1872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LTIPLE P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304920" y="609480"/>
          <a:ext cx="220968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22096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"/>
          <p:cNvGraphicFramePr/>
          <p:nvPr/>
        </p:nvGraphicFramePr>
        <p:xfrm>
          <a:off x="2438280" y="609480"/>
          <a:ext cx="5489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609480"/>
                    <a:ext cx="5489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6286680" y="0"/>
                <a:ext cx="28447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593" name=""/>
          <p:cNvGraphicFramePr/>
          <p:nvPr/>
        </p:nvGraphicFramePr>
        <p:xfrm>
          <a:off x="152280" y="1523880"/>
          <a:ext cx="297180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1523880"/>
                    <a:ext cx="297180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"/>
          <p:cNvGraphicFramePr/>
          <p:nvPr/>
        </p:nvGraphicFramePr>
        <p:xfrm>
          <a:off x="4572000" y="1523880"/>
          <a:ext cx="3525840" cy="86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1523880"/>
                    <a:ext cx="352584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0" y="2516040"/>
          <a:ext cx="4021200" cy="912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2516040"/>
                    <a:ext cx="402120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4343400" y="2514600"/>
          <a:ext cx="4800600" cy="914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43400" y="2514600"/>
                    <a:ext cx="4800600" cy="914400"/>
                  </a:xfrm>
                  <a:prstGeom prst="rect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01" name=""/>
          <p:cNvSpPr/>
          <p:nvPr/>
        </p:nvSpPr>
        <p:spPr>
          <a:xfrm>
            <a:off x="634320" y="3429000"/>
            <a:ext cx="80751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ethod of identification of coefficients, or even the method of selec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lues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,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may provide a convenient alternative for the determination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7924680" y="838080"/>
                <a:ext cx="10288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/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603" name=""/>
          <p:cNvGrpSpPr/>
          <p:nvPr/>
        </p:nvGrpSpPr>
        <p:grpSpPr>
          <a:xfrm>
            <a:off x="31320" y="4267080"/>
            <a:ext cx="3870720" cy="677880"/>
            <a:chOff x="31320" y="4267080"/>
            <a:chExt cx="3870720" cy="677880"/>
          </a:xfrm>
        </p:grpSpPr>
        <mc:AlternateContent>
          <mc:Choice xmlns:a14="http://schemas.microsoft.com/office/drawing/2010/main" Requires="a14">
            <p:sp>
              <p:nvSpPr>
                <p:cNvPr id="604" name=""/>
                <p:cNvSpPr txBox="1"/>
                <p:nvPr/>
              </p:nvSpPr>
              <p:spPr>
                <a:xfrm>
                  <a:off x="2377800" y="4284360"/>
                  <a:ext cx="152424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05" name=""/>
            <p:cNvSpPr/>
            <p:nvPr/>
          </p:nvSpPr>
          <p:spPr>
            <a:xfrm>
              <a:off x="31320" y="426708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3886200" y="4267080"/>
                <a:ext cx="23623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6400800" y="4191120"/>
                <a:ext cx="26924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0" y="4894200"/>
                <a:ext cx="44956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4572000" y="4800600"/>
                <a:ext cx="4356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0" y="5504040"/>
                <a:ext cx="1486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0" y="5845320"/>
                <a:ext cx="1625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0" y="6161040"/>
                <a:ext cx="1676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0" y="6477120"/>
                <a:ext cx="1130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3505320" y="5562720"/>
                <a:ext cx="1892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5410080" y="5410080"/>
                <a:ext cx="20703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616" name="geaux" descr=""/>
          <p:cNvPicPr/>
          <p:nvPr/>
        </p:nvPicPr>
        <p:blipFill>
          <a:blip r:embed="rId1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17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>
            <a:hlinkClick r:id="" action="ppaction://hlinkshowjump?jump=previousslide"/>
          </p:cNvPr>
          <p:cNvSpPr/>
          <p:nvPr/>
        </p:nvSpPr>
        <p:spPr>
          <a:xfrm>
            <a:off x="419112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2514600" y="5562720"/>
                <a:ext cx="9651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2362320" y="0"/>
          <a:ext cx="251604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0"/>
                    <a:ext cx="251604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76320" y="838080"/>
          <a:ext cx="5867280" cy="63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838080"/>
                    <a:ext cx="586728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0" y="2438280"/>
                <a:ext cx="3263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-12600" y="2971800"/>
                <a:ext cx="3238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0" y="3556080"/>
                <a:ext cx="4280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16000" y="4191120"/>
                <a:ext cx="4356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12600" y="4876920"/>
                <a:ext cx="41277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0" y="5562720"/>
                <a:ext cx="3924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228600" y="1600200"/>
                <a:ext cx="49784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5105520" y="3657600"/>
                <a:ext cx="1511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5105520" y="4114800"/>
                <a:ext cx="2298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143680" y="4572000"/>
                <a:ext cx="2933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105520" y="5029200"/>
                <a:ext cx="30859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36" name=""/>
          <p:cNvGrpSpPr/>
          <p:nvPr/>
        </p:nvGrpSpPr>
        <p:grpSpPr>
          <a:xfrm>
            <a:off x="3390840" y="1828800"/>
            <a:ext cx="5753160" cy="1689120"/>
            <a:chOff x="3390840" y="1828800"/>
            <a:chExt cx="5753160" cy="1689120"/>
          </a:xfrm>
        </p:grpSpPr>
        <mc:AlternateContent>
          <mc:Choice xmlns:a14="http://schemas.microsoft.com/office/drawing/2010/main" Requires="a14">
            <p:sp>
              <p:nvSpPr>
                <p:cNvPr id="637" name=""/>
                <p:cNvSpPr txBox="1"/>
                <p:nvPr/>
              </p:nvSpPr>
              <p:spPr>
                <a:xfrm>
                  <a:off x="3390840" y="2209680"/>
                  <a:ext cx="5753160" cy="130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  <m:e>
                          <m:f>
                            <m:num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38" name=""/>
            <p:cNvSpPr/>
            <p:nvPr/>
          </p:nvSpPr>
          <p:spPr>
            <a:xfrm>
              <a:off x="5413680" y="1828800"/>
              <a:ext cx="36662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identification of coeffic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9" name="geaux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4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4267080" y="5410080"/>
          <a:ext cx="4800600" cy="91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67080" y="5410080"/>
                    <a:ext cx="4800600" cy="914400"/>
                  </a:xfrm>
                  <a:prstGeom prst="rect">
                    <a:avLst/>
                  </a:prstGeom>
                  <a:ln w="5400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10800" y="76320"/>
            <a:ext cx="288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5715000" y="76320"/>
                <a:ext cx="1384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71640" y="820800"/>
            <a:ext cx="1713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tial f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152280" y="1219320"/>
                <a:ext cx="2895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5181480" y="1066680"/>
                <a:ext cx="26924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m of the inverse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0" name=""/>
          <p:cNvSpPr/>
          <p:nvPr/>
        </p:nvSpPr>
        <p:spPr>
          <a:xfrm>
            <a:off x="159120" y="1963800"/>
            <a:ext cx="1080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228600" y="2362320"/>
                <a:ext cx="2527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52" name=""/>
          <p:cNvGraphicFramePr/>
          <p:nvPr/>
        </p:nvGraphicFramePr>
        <p:xfrm>
          <a:off x="4267080" y="1981080"/>
          <a:ext cx="48006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981080"/>
                    <a:ext cx="4800600" cy="914400"/>
                  </a:xfrm>
                  <a:prstGeom prst="rect">
                    <a:avLst/>
                  </a:prstGeom>
                  <a:ln w="5400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54" name=""/>
          <p:cNvSpPr/>
          <p:nvPr/>
        </p:nvSpPr>
        <p:spPr>
          <a:xfrm>
            <a:off x="63000" y="3182760"/>
            <a:ext cx="1485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terna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09480" y="3544920"/>
                <a:ext cx="30988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685800" y="3886200"/>
                <a:ext cx="2413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577800" y="4724280"/>
                <a:ext cx="2057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58" name="geaux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59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6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710800" y="76320"/>
            <a:ext cx="288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5715000" y="76320"/>
                <a:ext cx="1498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321480" y="973080"/>
            <a:ext cx="2808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tial fraction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304920" y="1447920"/>
                <a:ext cx="3263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4724280" y="1371600"/>
                <a:ext cx="2921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m of the inverse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0" name=""/>
          <p:cNvSpPr/>
          <p:nvPr/>
        </p:nvSpPr>
        <p:spPr>
          <a:xfrm>
            <a:off x="311760" y="2421000"/>
            <a:ext cx="1080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304920" y="2819520"/>
                <a:ext cx="2857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304920" y="3429000"/>
                <a:ext cx="1904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80880" y="4038480"/>
                <a:ext cx="36324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457200" y="4800600"/>
                <a:ext cx="1930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380880" y="5562720"/>
                <a:ext cx="3581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6" name=""/>
          <p:cNvGrpSpPr/>
          <p:nvPr/>
        </p:nvGrpSpPr>
        <p:grpSpPr>
          <a:xfrm>
            <a:off x="5410080" y="4343400"/>
            <a:ext cx="2336760" cy="787320"/>
            <a:chOff x="5410080" y="4343400"/>
            <a:chExt cx="2336760" cy="787320"/>
          </a:xfrm>
        </p:grpSpPr>
        <mc:AlternateContent>
          <mc:Choice xmlns:a14="http://schemas.microsoft.com/office/drawing/2010/main" Requires="a14">
            <p:sp>
              <p:nvSpPr>
                <p:cNvPr id="677" name=""/>
                <p:cNvSpPr txBox="1"/>
                <p:nvPr/>
              </p:nvSpPr>
              <p:spPr>
                <a:xfrm>
                  <a:off x="5410080" y="4800600"/>
                  <a:ext cx="23367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8" name=""/>
            <p:cNvSpPr/>
            <p:nvPr/>
          </p:nvSpPr>
          <p:spPr>
            <a:xfrm>
              <a:off x="5422320" y="4343400"/>
              <a:ext cx="924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ver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51840" y="0"/>
            <a:ext cx="2782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OLUTION 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0" y="361800"/>
                <a:ext cx="4622760" cy="270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LAIM: Given an ODE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u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re exists a function,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, such that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⊗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s a particular solution of the equation for </m:t>
                        </m:r>
                        <m:r>
                          <m:t xml:space="preserve">t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ctually, the zero state response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681" name=""/>
          <p:cNvGraphicFramePr/>
          <p:nvPr/>
        </p:nvGraphicFramePr>
        <p:xfrm>
          <a:off x="76320" y="6075360"/>
          <a:ext cx="4495680" cy="70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6075360"/>
                    <a:ext cx="449568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3" name=""/>
          <p:cNvGrpSpPr/>
          <p:nvPr/>
        </p:nvGrpSpPr>
        <p:grpSpPr>
          <a:xfrm>
            <a:off x="0" y="4997520"/>
            <a:ext cx="4038480" cy="1085760"/>
            <a:chOff x="0" y="4997520"/>
            <a:chExt cx="4038480" cy="1085760"/>
          </a:xfrm>
        </p:grpSpPr>
        <p:graphicFrame>
          <p:nvGraphicFramePr>
            <p:cNvPr id="684" name=""/>
            <p:cNvGraphicFramePr/>
            <p:nvPr/>
          </p:nvGraphicFramePr>
          <p:xfrm>
            <a:off x="0" y="5237280"/>
            <a:ext cx="4038480" cy="84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8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5237280"/>
                      <a:ext cx="4038480" cy="84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6" name=""/>
            <p:cNvSpPr/>
            <p:nvPr/>
          </p:nvSpPr>
          <p:spPr>
            <a:xfrm>
              <a:off x="25560" y="4997520"/>
              <a:ext cx="877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87" name=""/>
          <p:cNvGraphicFramePr/>
          <p:nvPr/>
        </p:nvGraphicFramePr>
        <p:xfrm>
          <a:off x="4572000" y="228600"/>
          <a:ext cx="4572000" cy="67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28600"/>
                    <a:ext cx="45720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9" name=""/>
          <p:cNvGrpSpPr/>
          <p:nvPr/>
        </p:nvGrpSpPr>
        <p:grpSpPr>
          <a:xfrm>
            <a:off x="6329520" y="152280"/>
            <a:ext cx="2557440" cy="1021680"/>
            <a:chOff x="6329520" y="152280"/>
            <a:chExt cx="2557440" cy="1021680"/>
          </a:xfrm>
        </p:grpSpPr>
        <p:sp>
          <p:nvSpPr>
            <p:cNvPr id="690" name=""/>
            <p:cNvSpPr/>
            <p:nvPr/>
          </p:nvSpPr>
          <p:spPr>
            <a:xfrm>
              <a:off x="6329520" y="152280"/>
              <a:ext cx="2557440" cy="916200"/>
            </a:xfrm>
            <a:custGeom>
              <a:avLst/>
              <a:gdLst/>
              <a:ahLst/>
              <a:rect l="l" t="t" r="r" b="b"/>
              <a:pathLst>
                <a:path w="1611" h="577">
                  <a:moveTo>
                    <a:pt x="1597" y="561"/>
                  </a:moveTo>
                  <a:cubicBezTo>
                    <a:pt x="1594" y="410"/>
                    <a:pt x="1611" y="258"/>
                    <a:pt x="1589" y="109"/>
                  </a:cubicBezTo>
                  <a:cubicBezTo>
                    <a:pt x="1575" y="14"/>
                    <a:pt x="1377" y="10"/>
                    <a:pt x="1324" y="8"/>
                  </a:cubicBezTo>
                  <a:cubicBezTo>
                    <a:pt x="1090" y="1"/>
                    <a:pt x="857" y="3"/>
                    <a:pt x="623" y="0"/>
                  </a:cubicBezTo>
                  <a:cubicBezTo>
                    <a:pt x="449" y="3"/>
                    <a:pt x="275" y="0"/>
                    <a:pt x="101" y="8"/>
                  </a:cubicBezTo>
                  <a:cubicBezTo>
                    <a:pt x="73" y="9"/>
                    <a:pt x="46" y="70"/>
                    <a:pt x="46" y="70"/>
                  </a:cubicBezTo>
                  <a:cubicBezTo>
                    <a:pt x="11" y="217"/>
                    <a:pt x="0" y="239"/>
                    <a:pt x="39" y="468"/>
                  </a:cubicBezTo>
                  <a:cubicBezTo>
                    <a:pt x="42" y="488"/>
                    <a:pt x="74" y="491"/>
                    <a:pt x="93" y="499"/>
                  </a:cubicBezTo>
                  <a:cubicBezTo>
                    <a:pt x="123" y="512"/>
                    <a:pt x="187" y="530"/>
                    <a:pt x="187" y="530"/>
                  </a:cubicBezTo>
                  <a:cubicBezTo>
                    <a:pt x="249" y="573"/>
                    <a:pt x="372" y="577"/>
                    <a:pt x="444" y="577"/>
                  </a:cubicBezTo>
                  <a:cubicBezTo>
                    <a:pt x="828" y="574"/>
                    <a:pt x="1213" y="566"/>
                    <a:pt x="1597" y="561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701760" y="836640"/>
              <a:ext cx="976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hif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92" name=""/>
          <p:cNvGraphicFramePr/>
          <p:nvPr/>
        </p:nvGraphicFramePr>
        <p:xfrm>
          <a:off x="6172200" y="2057400"/>
          <a:ext cx="2630520" cy="1158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72200" y="2057400"/>
                    <a:ext cx="263052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4" name=""/>
          <p:cNvGraphicFramePr/>
          <p:nvPr/>
        </p:nvGraphicFramePr>
        <p:xfrm>
          <a:off x="5334120" y="1295280"/>
          <a:ext cx="2928960" cy="67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4120" y="1295280"/>
                    <a:ext cx="292896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6" name=""/>
          <p:cNvGrpSpPr/>
          <p:nvPr/>
        </p:nvGrpSpPr>
        <p:grpSpPr>
          <a:xfrm>
            <a:off x="0" y="3138480"/>
            <a:ext cx="4572000" cy="1503360"/>
            <a:chOff x="0" y="3138480"/>
            <a:chExt cx="4572000" cy="1503360"/>
          </a:xfrm>
        </p:grpSpPr>
        <p:grpSp>
          <p:nvGrpSpPr>
            <p:cNvPr id="697" name=""/>
            <p:cNvGrpSpPr/>
            <p:nvPr/>
          </p:nvGrpSpPr>
          <p:grpSpPr>
            <a:xfrm>
              <a:off x="0" y="3138480"/>
              <a:ext cx="4572000" cy="947880"/>
              <a:chOff x="0" y="3138480"/>
              <a:chExt cx="4572000" cy="947880"/>
            </a:xfrm>
          </p:grpSpPr>
          <p:graphicFrame>
            <p:nvGraphicFramePr>
              <p:cNvPr id="698" name=""/>
              <p:cNvGraphicFramePr/>
              <p:nvPr/>
            </p:nvGraphicFramePr>
            <p:xfrm>
              <a:off x="0" y="3386160"/>
              <a:ext cx="4572000" cy="7002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699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0" y="3386160"/>
                        <a:ext cx="4572000" cy="70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00" name=""/>
              <p:cNvSpPr/>
              <p:nvPr/>
            </p:nvSpPr>
            <p:spPr>
              <a:xfrm>
                <a:off x="60480" y="318276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01" name=""/>
                  <p:cNvSpPr txBox="1"/>
                  <p:nvPr/>
                </p:nvSpPr>
                <p:spPr>
                  <a:xfrm>
                    <a:off x="38160" y="3138480"/>
                    <a:ext cx="45338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RESULT: If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are positive time functions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702" name=""/>
                <p:cNvSpPr txBox="1"/>
                <p:nvPr/>
              </p:nvSpPr>
              <p:spPr>
                <a:xfrm>
                  <a:off x="914400" y="4267080"/>
                  <a:ext cx="220968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3" name=""/>
          <p:cNvGrpSpPr/>
          <p:nvPr/>
        </p:nvGrpSpPr>
        <p:grpSpPr>
          <a:xfrm>
            <a:off x="4885920" y="3505320"/>
            <a:ext cx="4080240" cy="1001520"/>
            <a:chOff x="4885920" y="3505320"/>
            <a:chExt cx="4080240" cy="1001520"/>
          </a:xfrm>
        </p:grpSpPr>
        <mc:AlternateContent>
          <mc:Choice xmlns:a14="http://schemas.microsoft.com/office/drawing/2010/main" Requires="a14">
            <p:sp>
              <p:nvSpPr>
                <p:cNvPr id="704" name=""/>
                <p:cNvSpPr txBox="1"/>
                <p:nvPr/>
              </p:nvSpPr>
              <p:spPr>
                <a:xfrm>
                  <a:off x="6019920" y="3505320"/>
                  <a:ext cx="2946240" cy="100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FIND </m:t>
                          </m:r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05" name=""/>
            <p:cNvSpPr/>
            <p:nvPr/>
          </p:nvSpPr>
          <p:spPr>
            <a:xfrm>
              <a:off x="4885920" y="3552840"/>
              <a:ext cx="11149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4514760" y="4648320"/>
                <a:ext cx="2121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⊗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6781680" y="4572000"/>
                <a:ext cx="2032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648320" y="5257800"/>
                <a:ext cx="1879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6858000" y="5257800"/>
                <a:ext cx="1498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10" name="geaux" descr=""/>
          <p:cNvPicPr/>
          <p:nvPr/>
        </p:nvPicPr>
        <p:blipFill>
          <a:blip r:embed="rId1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1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79400" y="58680"/>
            <a:ext cx="5458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convolution to determine a network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152280" y="685800"/>
                <a:ext cx="19558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etwork function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2438280" y="762120"/>
                <a:ext cx="9144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17" name=""/>
          <p:cNvGrpSpPr/>
          <p:nvPr/>
        </p:nvGrpSpPr>
        <p:grpSpPr>
          <a:xfrm>
            <a:off x="4699080" y="912960"/>
            <a:ext cx="2919240" cy="1206360"/>
            <a:chOff x="4699080" y="912960"/>
            <a:chExt cx="2919240" cy="1206360"/>
          </a:xfrm>
        </p:grpSpPr>
        <p:grpSp>
          <p:nvGrpSpPr>
            <p:cNvPr id="718" name=""/>
            <p:cNvGrpSpPr/>
            <p:nvPr/>
          </p:nvGrpSpPr>
          <p:grpSpPr>
            <a:xfrm>
              <a:off x="4699080" y="912960"/>
              <a:ext cx="2919240" cy="841320"/>
              <a:chOff x="4699080" y="912960"/>
              <a:chExt cx="2919240" cy="841320"/>
            </a:xfrm>
          </p:grpSpPr>
          <p:sp>
            <p:nvSpPr>
              <p:cNvPr id="719" name=""/>
              <p:cNvSpPr/>
              <p:nvPr/>
            </p:nvSpPr>
            <p:spPr>
              <a:xfrm>
                <a:off x="5483160" y="912960"/>
                <a:ext cx="1444680" cy="84132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5105520" y="10666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5105520" y="160020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934320" y="1066680"/>
                <a:ext cx="2286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934320" y="1600200"/>
                <a:ext cx="2286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24" name=""/>
                  <p:cNvSpPr txBox="1"/>
                  <p:nvPr/>
                </p:nvSpPr>
                <p:spPr>
                  <a:xfrm>
                    <a:off x="5880240" y="1182600"/>
                    <a:ext cx="520560" cy="26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25" name=""/>
                  <p:cNvSpPr txBox="1"/>
                  <p:nvPr/>
                </p:nvSpPr>
                <p:spPr>
                  <a:xfrm>
                    <a:off x="4699080" y="1157400"/>
                    <a:ext cx="55872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26" name=""/>
                  <p:cNvSpPr txBox="1"/>
                  <p:nvPr/>
                </p:nvSpPr>
                <p:spPr>
                  <a:xfrm>
                    <a:off x="7086600" y="1157400"/>
                    <a:ext cx="53172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727" name=""/>
                <p:cNvSpPr txBox="1"/>
                <p:nvPr/>
              </p:nvSpPr>
              <p:spPr>
                <a:xfrm>
                  <a:off x="5334120" y="1828800"/>
                  <a:ext cx="175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228600" y="1752480"/>
                <a:ext cx="15112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120600" y="2438280"/>
                <a:ext cx="175248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↔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↔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0" name=""/>
              <p:cNvSpPr txBox="1"/>
              <p:nvPr/>
            </p:nvSpPr>
            <p:spPr>
              <a:xfrm>
                <a:off x="2209680" y="2438280"/>
                <a:ext cx="2044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⊗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1" name=""/>
          <p:cNvGrpSpPr/>
          <p:nvPr/>
        </p:nvGrpSpPr>
        <p:grpSpPr>
          <a:xfrm>
            <a:off x="4419720" y="2362320"/>
            <a:ext cx="4572000" cy="1503360"/>
            <a:chOff x="4419720" y="2362320"/>
            <a:chExt cx="4572000" cy="1503360"/>
          </a:xfrm>
        </p:grpSpPr>
        <p:grpSp>
          <p:nvGrpSpPr>
            <p:cNvPr id="732" name=""/>
            <p:cNvGrpSpPr/>
            <p:nvPr/>
          </p:nvGrpSpPr>
          <p:grpSpPr>
            <a:xfrm>
              <a:off x="4419720" y="2362320"/>
              <a:ext cx="4572000" cy="947880"/>
              <a:chOff x="4419720" y="2362320"/>
              <a:chExt cx="4572000" cy="947880"/>
            </a:xfrm>
          </p:grpSpPr>
          <p:graphicFrame>
            <p:nvGraphicFramePr>
              <p:cNvPr id="733" name=""/>
              <p:cNvGraphicFramePr/>
              <p:nvPr/>
            </p:nvGraphicFramePr>
            <p:xfrm>
              <a:off x="4419720" y="2610000"/>
              <a:ext cx="4572000" cy="7002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3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419720" y="2610000"/>
                        <a:ext cx="4572000" cy="70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35" name=""/>
              <p:cNvSpPr/>
              <p:nvPr/>
            </p:nvSpPr>
            <p:spPr>
              <a:xfrm>
                <a:off x="4480200" y="2406600"/>
                <a:ext cx="183960" cy="336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36" name=""/>
                  <p:cNvSpPr txBox="1"/>
                  <p:nvPr/>
                </p:nvSpPr>
                <p:spPr>
                  <a:xfrm>
                    <a:off x="4457880" y="2362320"/>
                    <a:ext cx="45338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RESULT: If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are positive time functions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737" name=""/>
                <p:cNvSpPr txBox="1"/>
                <p:nvPr/>
              </p:nvSpPr>
              <p:spPr>
                <a:xfrm>
                  <a:off x="5334120" y="3490920"/>
                  <a:ext cx="220968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127080" y="4038480"/>
                <a:ext cx="19429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nary>
                      <m:naryPr>
                        <m:chr m:val="∫"/>
                      </m:naryPr>
                      <m:sub/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dλ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739" name=""/>
          <p:cNvGrpSpPr/>
          <p:nvPr/>
        </p:nvGrpSpPr>
        <p:grpSpPr>
          <a:xfrm>
            <a:off x="533520" y="2743200"/>
            <a:ext cx="7315200" cy="838080"/>
            <a:chOff x="533520" y="2743200"/>
            <a:chExt cx="7315200" cy="838080"/>
          </a:xfrm>
        </p:grpSpPr>
        <p:sp>
          <p:nvSpPr>
            <p:cNvPr id="740" name=""/>
            <p:cNvSpPr/>
            <p:nvPr/>
          </p:nvSpPr>
          <p:spPr>
            <a:xfrm>
              <a:off x="533520" y="3124080"/>
              <a:ext cx="45720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315200" y="2743200"/>
              <a:ext cx="53352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839880" y="2513160"/>
            <a:ext cx="7846920" cy="687240"/>
            <a:chOff x="839880" y="2513160"/>
            <a:chExt cx="7846920" cy="687240"/>
          </a:xfrm>
        </p:grpSpPr>
        <p:sp>
          <p:nvSpPr>
            <p:cNvPr id="743" name=""/>
            <p:cNvSpPr/>
            <p:nvPr/>
          </p:nvSpPr>
          <p:spPr>
            <a:xfrm>
              <a:off x="839880" y="2513160"/>
              <a:ext cx="106992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848720" y="2743200"/>
              <a:ext cx="83808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2184480" y="4038480"/>
                <a:ext cx="144756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5</m:t>
                            </m:r>
                            <m:r>
                              <m:t xml:space="preserve">λ</m:t>
                            </m:r>
                          </m:sup>
                        </m:sSup>
                        <m:r>
                          <m:t xml:space="preserve">dλ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3733920" y="4038480"/>
                <a:ext cx="1447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λ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228600" y="4876920"/>
                <a:ext cx="17524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2133720" y="4876920"/>
                <a:ext cx="1650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2133720" y="3657600"/>
                <a:ext cx="8380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50" name="geaux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5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373400" y="5392800"/>
            <a:ext cx="7090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general convolution is not an efficient approach to determin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of a system.  But it can be a very useful tool in special c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-152280" y="439560"/>
            <a:ext cx="8638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example illustrates an idealized modeling approach and the use of conv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 a system simulation too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54520" y="1111320"/>
            <a:ext cx="7209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slide shows how one can obtain a “black box” model for a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273600" y="1752480"/>
            <a:ext cx="3875040" cy="1401480"/>
            <a:chOff x="273600" y="1752480"/>
            <a:chExt cx="3875040" cy="1401480"/>
          </a:xfrm>
        </p:grpSpPr>
        <p:grpSp>
          <p:nvGrpSpPr>
            <p:cNvPr id="758" name=""/>
            <p:cNvGrpSpPr/>
            <p:nvPr/>
          </p:nvGrpSpPr>
          <p:grpSpPr>
            <a:xfrm>
              <a:off x="304920" y="1752480"/>
              <a:ext cx="2588760" cy="757080"/>
              <a:chOff x="304920" y="1752480"/>
              <a:chExt cx="2588760" cy="757080"/>
            </a:xfrm>
          </p:grpSpPr>
          <p:sp>
            <p:nvSpPr>
              <p:cNvPr id="759" name=""/>
              <p:cNvSpPr/>
              <p:nvPr/>
            </p:nvSpPr>
            <p:spPr>
              <a:xfrm>
                <a:off x="1137960" y="1823760"/>
                <a:ext cx="1142640" cy="68580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60" name=""/>
                  <p:cNvSpPr txBox="1"/>
                  <p:nvPr/>
                </p:nvSpPr>
                <p:spPr>
                  <a:xfrm>
                    <a:off x="1384200" y="2020680"/>
                    <a:ext cx="520200" cy="26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61" name=""/>
              <p:cNvSpPr/>
              <p:nvPr/>
            </p:nvSpPr>
            <p:spPr>
              <a:xfrm>
                <a:off x="533160" y="2133360"/>
                <a:ext cx="6094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286000" y="2133360"/>
                <a:ext cx="5328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63" name=""/>
                  <p:cNvSpPr txBox="1"/>
                  <p:nvPr/>
                </p:nvSpPr>
                <p:spPr>
                  <a:xfrm>
                    <a:off x="304920" y="1766880"/>
                    <a:ext cx="5824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64" name=""/>
                  <p:cNvSpPr txBox="1"/>
                  <p:nvPr/>
                </p:nvSpPr>
                <p:spPr>
                  <a:xfrm>
                    <a:off x="2361960" y="1752480"/>
                    <a:ext cx="53172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65" name=""/>
            <p:cNvSpPr/>
            <p:nvPr/>
          </p:nvSpPr>
          <p:spPr>
            <a:xfrm>
              <a:off x="273600" y="2573280"/>
              <a:ext cx="38750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nknown linear system represen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Laplace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4509000" y="1506600"/>
            <a:ext cx="43855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black box model is a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system based only on input/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ta. There is no information on what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side the box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24840" y="3182760"/>
            <a:ext cx="4877280" cy="1046520"/>
            <a:chOff x="24840" y="3182760"/>
            <a:chExt cx="4877280" cy="1046520"/>
          </a:xfrm>
        </p:grpSpPr>
        <p:sp>
          <p:nvSpPr>
            <p:cNvPr id="768" name=""/>
            <p:cNvSpPr/>
            <p:nvPr/>
          </p:nvSpPr>
          <p:spPr>
            <a:xfrm>
              <a:off x="36720" y="3182760"/>
              <a:ext cx="2977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approach to mode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9" name=""/>
                <p:cNvSpPr txBox="1"/>
                <p:nvPr/>
              </p:nvSpPr>
              <p:spPr>
                <a:xfrm>
                  <a:off x="2362320" y="3581280"/>
                  <a:ext cx="253980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</m:e>
                        <m:e>
                          <m:r>
                            <m:t xml:space="preserve">∴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70" name=""/>
            <p:cNvSpPr/>
            <p:nvPr/>
          </p:nvSpPr>
          <p:spPr>
            <a:xfrm>
              <a:off x="24840" y="3581280"/>
              <a:ext cx="2312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asure the im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25560" y="4267080"/>
                <a:ext cx="279396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any other input one ha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2" name=""/>
          <p:cNvSpPr/>
          <p:nvPr/>
        </p:nvSpPr>
        <p:spPr>
          <a:xfrm>
            <a:off x="118800" y="5316480"/>
            <a:ext cx="424368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practice, a good approximation to 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ulse may be difficult, or impossi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apply. Hence we try to use “m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nsible inputs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4997520" y="2801880"/>
            <a:ext cx="3771720" cy="957240"/>
            <a:chOff x="4997520" y="2801880"/>
            <a:chExt cx="3771720" cy="957240"/>
          </a:xfrm>
        </p:grpSpPr>
        <p:sp>
          <p:nvSpPr>
            <p:cNvPr id="774" name=""/>
            <p:cNvSpPr/>
            <p:nvPr/>
          </p:nvSpPr>
          <p:spPr>
            <a:xfrm>
              <a:off x="5522040" y="2801880"/>
              <a:ext cx="2616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the step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5" name=""/>
                <p:cNvSpPr txBox="1"/>
                <p:nvPr/>
              </p:nvSpPr>
              <p:spPr>
                <a:xfrm>
                  <a:off x="4997520" y="3200400"/>
                  <a:ext cx="37717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s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5257800" y="3809880"/>
                <a:ext cx="3263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7" name=""/>
          <p:cNvSpPr/>
          <p:nvPr/>
        </p:nvSpPr>
        <p:spPr>
          <a:xfrm>
            <a:off x="4811040" y="4495680"/>
            <a:ext cx="40744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mpulse response is the deriv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step response of a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654440" y="5181480"/>
            <a:ext cx="42130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ce the impulse response is obtaine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nvolution can be evalu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umer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8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2971800" y="1752480"/>
                <a:ext cx="124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154440" y="58680"/>
            <a:ext cx="3048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CASE STUDY IN MODE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StepResponse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348624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3929400" y="1278000"/>
            <a:ext cx="3398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known system ste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0" y="3733920"/>
            <a:ext cx="9144000" cy="3124080"/>
            <a:chOff x="0" y="3733920"/>
            <a:chExt cx="9144000" cy="3124080"/>
          </a:xfrm>
        </p:grpSpPr>
        <p:pic>
          <p:nvPicPr>
            <p:cNvPr id="787" name="ex12p12ImpulseResponse" descr=""/>
            <p:cNvPicPr/>
            <p:nvPr/>
          </p:nvPicPr>
          <p:blipFill>
            <a:blip r:embed="rId2"/>
            <a:stretch/>
          </p:blipFill>
          <p:spPr>
            <a:xfrm>
              <a:off x="0" y="3733920"/>
              <a:ext cx="91440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"/>
            <p:cNvSpPr/>
            <p:nvPr/>
          </p:nvSpPr>
          <p:spPr>
            <a:xfrm>
              <a:off x="3534120" y="4371840"/>
              <a:ext cx="52585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uted impulse response uses finite dif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 to deriva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9" name="geaux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9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0680" y="58680"/>
            <a:ext cx="3323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SINGULARITY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F12.001A_W1194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3628800" cy="191448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-28440" y="3276720"/>
            <a:ext cx="4600440" cy="3543120"/>
            <a:chOff x="-28440" y="3276720"/>
            <a:chExt cx="4600440" cy="3543120"/>
          </a:xfrm>
        </p:grpSpPr>
        <p:pic>
          <p:nvPicPr>
            <p:cNvPr id="77" name="F12.001C_W1194" descr=""/>
            <p:cNvPicPr/>
            <p:nvPr/>
          </p:nvPicPr>
          <p:blipFill>
            <a:blip r:embed="rId2"/>
            <a:stretch/>
          </p:blipFill>
          <p:spPr>
            <a:xfrm>
              <a:off x="-28440" y="3276720"/>
              <a:ext cx="4600440" cy="35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57200" y="6383160"/>
              <a:ext cx="3955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the unit step to build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0" y="515880"/>
            <a:ext cx="4325040" cy="1833480"/>
            <a:chOff x="0" y="515880"/>
            <a:chExt cx="4325040" cy="1833480"/>
          </a:xfrm>
        </p:grpSpPr>
        <p:grpSp>
          <p:nvGrpSpPr>
            <p:cNvPr id="80" name=""/>
            <p:cNvGrpSpPr/>
            <p:nvPr/>
          </p:nvGrpSpPr>
          <p:grpSpPr>
            <a:xfrm>
              <a:off x="0" y="609480"/>
              <a:ext cx="3048120" cy="1739880"/>
              <a:chOff x="0" y="609480"/>
              <a:chExt cx="3048120" cy="1739880"/>
            </a:xfrm>
          </p:grpSpPr>
          <p:graphicFrame>
            <p:nvGraphicFramePr>
              <p:cNvPr id="81" name=""/>
              <p:cNvGraphicFramePr/>
              <p:nvPr/>
            </p:nvGraphicFramePr>
            <p:xfrm>
              <a:off x="0" y="779400"/>
              <a:ext cx="3048120" cy="1569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0" y="779400"/>
                        <a:ext cx="3048120" cy="1569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3" name=""/>
              <p:cNvSpPr/>
              <p:nvPr/>
            </p:nvSpPr>
            <p:spPr>
              <a:xfrm>
                <a:off x="72000" y="609480"/>
                <a:ext cx="11088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Unit ste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1481760" y="515880"/>
              <a:ext cx="2843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Important “test”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system analysi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" name="geaux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971800" y="1371600"/>
                <a:ext cx="267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positive time functions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9" name=""/>
          <p:cNvGrpSpPr/>
          <p:nvPr/>
        </p:nvGrpSpPr>
        <p:grpSpPr>
          <a:xfrm>
            <a:off x="703440" y="58680"/>
            <a:ext cx="8064000" cy="824040"/>
            <a:chOff x="703440" y="58680"/>
            <a:chExt cx="8064000" cy="824040"/>
          </a:xfrm>
        </p:grpSpPr>
        <p:sp>
          <p:nvSpPr>
            <p:cNvPr id="90" name=""/>
            <p:cNvSpPr/>
            <p:nvPr/>
          </p:nvSpPr>
          <p:spPr>
            <a:xfrm>
              <a:off x="4586040" y="58680"/>
              <a:ext cx="4181400" cy="8240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is function has derivative that is 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verywhere except at the origi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e will “define” a derivative for 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3440" y="87480"/>
              <a:ext cx="3738240" cy="431640"/>
            </a:xfrm>
            <a:custGeom>
              <a:avLst/>
              <a:gdLst/>
              <a:ahLst/>
              <a:rect l="l" t="t" r="r" b="b"/>
              <a:pathLst>
                <a:path w="2355" h="272">
                  <a:moveTo>
                    <a:pt x="1" y="0"/>
                  </a:moveTo>
                  <a:cubicBezTo>
                    <a:pt x="5" y="36"/>
                    <a:pt x="0" y="124"/>
                    <a:pt x="25" y="155"/>
                  </a:cubicBezTo>
                  <a:cubicBezTo>
                    <a:pt x="40" y="174"/>
                    <a:pt x="78" y="180"/>
                    <a:pt x="95" y="187"/>
                  </a:cubicBezTo>
                  <a:cubicBezTo>
                    <a:pt x="192" y="225"/>
                    <a:pt x="318" y="228"/>
                    <a:pt x="422" y="233"/>
                  </a:cubicBezTo>
                  <a:cubicBezTo>
                    <a:pt x="554" y="239"/>
                    <a:pt x="819" y="249"/>
                    <a:pt x="819" y="249"/>
                  </a:cubicBezTo>
                  <a:cubicBezTo>
                    <a:pt x="933" y="263"/>
                    <a:pt x="1048" y="259"/>
                    <a:pt x="1162" y="272"/>
                  </a:cubicBezTo>
                  <a:cubicBezTo>
                    <a:pt x="1484" y="269"/>
                    <a:pt x="1760" y="272"/>
                    <a:pt x="2066" y="241"/>
                  </a:cubicBezTo>
                  <a:cubicBezTo>
                    <a:pt x="2121" y="223"/>
                    <a:pt x="2062" y="240"/>
                    <a:pt x="2168" y="226"/>
                  </a:cubicBezTo>
                  <a:cubicBezTo>
                    <a:pt x="2239" y="217"/>
                    <a:pt x="2285" y="202"/>
                    <a:pt x="2355" y="20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173560" y="2209680"/>
            <a:ext cx="3829320" cy="3306600"/>
            <a:chOff x="5173560" y="2209680"/>
            <a:chExt cx="3829320" cy="3306600"/>
          </a:xfrm>
        </p:grpSpPr>
        <p:grpSp>
          <p:nvGrpSpPr>
            <p:cNvPr id="93" name=""/>
            <p:cNvGrpSpPr/>
            <p:nvPr/>
          </p:nvGrpSpPr>
          <p:grpSpPr>
            <a:xfrm>
              <a:off x="5334120" y="2209680"/>
              <a:ext cx="3504960" cy="2743200"/>
              <a:chOff x="5334120" y="2209680"/>
              <a:chExt cx="3504960" cy="2743200"/>
            </a:xfrm>
          </p:grpSpPr>
          <p:sp>
            <p:nvSpPr>
              <p:cNvPr id="94" name=""/>
              <p:cNvSpPr/>
              <p:nvPr/>
            </p:nvSpPr>
            <p:spPr>
              <a:xfrm>
                <a:off x="5334120" y="4724280"/>
                <a:ext cx="35049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5486400" y="2209680"/>
                <a:ext cx="0" cy="27432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369040" y="2792520"/>
                <a:ext cx="2795400" cy="1562040"/>
              </a:xfrm>
              <a:custGeom>
                <a:avLst/>
                <a:gdLst/>
                <a:ahLst/>
                <a:rect l="l" t="t" r="r" b="b"/>
                <a:pathLst>
                  <a:path w="1761" h="984">
                    <a:moveTo>
                      <a:pt x="0" y="984"/>
                    </a:moveTo>
                    <a:cubicBezTo>
                      <a:pt x="72" y="965"/>
                      <a:pt x="107" y="913"/>
                      <a:pt x="164" y="875"/>
                    </a:cubicBezTo>
                    <a:cubicBezTo>
                      <a:pt x="177" y="866"/>
                      <a:pt x="195" y="865"/>
                      <a:pt x="210" y="859"/>
                    </a:cubicBezTo>
                    <a:cubicBezTo>
                      <a:pt x="279" y="829"/>
                      <a:pt x="273" y="828"/>
                      <a:pt x="335" y="782"/>
                    </a:cubicBezTo>
                    <a:cubicBezTo>
                      <a:pt x="340" y="766"/>
                      <a:pt x="339" y="747"/>
                      <a:pt x="351" y="735"/>
                    </a:cubicBezTo>
                    <a:cubicBezTo>
                      <a:pt x="367" y="719"/>
                      <a:pt x="393" y="715"/>
                      <a:pt x="413" y="704"/>
                    </a:cubicBezTo>
                    <a:cubicBezTo>
                      <a:pt x="436" y="691"/>
                      <a:pt x="448" y="676"/>
                      <a:pt x="468" y="657"/>
                    </a:cubicBezTo>
                    <a:cubicBezTo>
                      <a:pt x="473" y="641"/>
                      <a:pt x="475" y="624"/>
                      <a:pt x="483" y="610"/>
                    </a:cubicBezTo>
                    <a:cubicBezTo>
                      <a:pt x="488" y="600"/>
                      <a:pt x="501" y="596"/>
                      <a:pt x="506" y="587"/>
                    </a:cubicBezTo>
                    <a:cubicBezTo>
                      <a:pt x="514" y="573"/>
                      <a:pt x="512" y="553"/>
                      <a:pt x="522" y="540"/>
                    </a:cubicBezTo>
                    <a:cubicBezTo>
                      <a:pt x="544" y="511"/>
                      <a:pt x="600" y="462"/>
                      <a:pt x="600" y="462"/>
                    </a:cubicBezTo>
                    <a:cubicBezTo>
                      <a:pt x="626" y="385"/>
                      <a:pt x="693" y="286"/>
                      <a:pt x="748" y="228"/>
                    </a:cubicBezTo>
                    <a:cubicBezTo>
                      <a:pt x="778" y="196"/>
                      <a:pt x="801" y="151"/>
                      <a:pt x="842" y="135"/>
                    </a:cubicBezTo>
                    <a:cubicBezTo>
                      <a:pt x="919" y="105"/>
                      <a:pt x="883" y="118"/>
                      <a:pt x="951" y="96"/>
                    </a:cubicBezTo>
                    <a:cubicBezTo>
                      <a:pt x="1073" y="1"/>
                      <a:pt x="1262" y="4"/>
                      <a:pt x="1410" y="2"/>
                    </a:cubicBezTo>
                    <a:cubicBezTo>
                      <a:pt x="1527" y="0"/>
                      <a:pt x="1644" y="2"/>
                      <a:pt x="1761" y="2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483160" y="4186080"/>
                <a:ext cx="384120" cy="53028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867280" y="3962520"/>
                <a:ext cx="304920" cy="76176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629400" y="3048120"/>
                <a:ext cx="152280" cy="167616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5173560" y="4935600"/>
              <a:ext cx="3829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square pulses to approxim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 arbitrary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5304240" y="5621400"/>
            <a:ext cx="36295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arrower the pulse the be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pprox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Ex12p12Whole" descr=""/>
          <p:cNvPicPr/>
          <p:nvPr/>
        </p:nvPicPr>
        <p:blipFill>
          <a:blip r:embed="rId1"/>
          <a:stretch/>
        </p:blipFill>
        <p:spPr>
          <a:xfrm>
            <a:off x="0" y="82224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483840" y="210960"/>
            <a:ext cx="1946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st of th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684880" y="58680"/>
            <a:ext cx="58014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odel output uses the computed impuls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samples of the input signal. Convolution integral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aluated numer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648320" y="5181480"/>
                <a:ext cx="4495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T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96" name="geaux" descr=""/>
          <p:cNvPicPr/>
          <p:nvPr/>
        </p:nvPicPr>
        <p:blipFill>
          <a:blip r:embed="rId2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97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Ex12p12Zoom" descr=""/>
          <p:cNvPicPr/>
          <p:nvPr/>
        </p:nvPicPr>
        <p:blipFill>
          <a:blip r:embed="rId1"/>
          <a:stretch/>
        </p:blipFill>
        <p:spPr>
          <a:xfrm>
            <a:off x="76320" y="380880"/>
            <a:ext cx="8991360" cy="621036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508680" y="135000"/>
            <a:ext cx="6958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ailed view of a segment of the signals showing bandpass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4572000" y="2362320"/>
                <a:ext cx="4495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T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2" name=""/>
          <p:cNvSpPr/>
          <p:nvPr/>
        </p:nvSpPr>
        <p:spPr>
          <a:xfrm>
            <a:off x="1487160" y="2268360"/>
            <a:ext cx="2867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C and high frequency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duced in the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geaux" descr=""/>
          <p:cNvPicPr/>
          <p:nvPr/>
        </p:nvPicPr>
        <p:blipFill>
          <a:blip r:embed="rId2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04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2591280" y="76320"/>
            <a:ext cx="3980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AND FINAL VALUE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86920" y="533520"/>
            <a:ext cx="8317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results relate behavior of a function in the time domain with the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Laplace transform in the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152280" y="1201680"/>
            <a:ext cx="4229280" cy="1554120"/>
            <a:chOff x="152280" y="1201680"/>
            <a:chExt cx="4229280" cy="1554120"/>
          </a:xfrm>
        </p:grpSpPr>
        <p:sp>
          <p:nvSpPr>
            <p:cNvPr id="809" name=""/>
            <p:cNvSpPr/>
            <p:nvPr/>
          </p:nvSpPr>
          <p:spPr>
            <a:xfrm>
              <a:off x="181800" y="1201680"/>
              <a:ext cx="2698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ITIAL VALUE THE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0" name=""/>
                <p:cNvSpPr txBox="1"/>
                <p:nvPr/>
              </p:nvSpPr>
              <p:spPr>
                <a:xfrm>
                  <a:off x="152280" y="1600200"/>
                  <a:ext cx="4229280" cy="11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ssume that both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df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 have Laplac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ransform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Then</m:t>
                          </m:r>
                        </m:e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sF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4572000" y="1523880"/>
                <a:ext cx="42292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[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if the derivative is transformable then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[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12" name=""/>
          <p:cNvGrpSpPr/>
          <p:nvPr/>
        </p:nvGrpSpPr>
        <p:grpSpPr>
          <a:xfrm>
            <a:off x="69840" y="3182760"/>
            <a:ext cx="4394160" cy="1560600"/>
            <a:chOff x="69840" y="3182760"/>
            <a:chExt cx="4394160" cy="1560600"/>
          </a:xfrm>
        </p:grpSpPr>
        <p:sp>
          <p:nvSpPr>
            <p:cNvPr id="813" name=""/>
            <p:cNvSpPr/>
            <p:nvPr/>
          </p:nvSpPr>
          <p:spPr>
            <a:xfrm>
              <a:off x="262800" y="3182760"/>
              <a:ext cx="253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NAL VALUE THE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4" name=""/>
                <p:cNvSpPr txBox="1"/>
                <p:nvPr/>
              </p:nvSpPr>
              <p:spPr>
                <a:xfrm>
                  <a:off x="69840" y="3575160"/>
                  <a:ext cx="4394160" cy="116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ssume that both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df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 have Laplac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ransform  and that 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sub>
                          </m:sSub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exist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Then</m:t>
                          </m:r>
                        </m:e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sub>
                          </m:sSub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  <m:r>
                                <m:t xml:space="preserve">→</m:t>
                              </m:r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sF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4800600" y="3581280"/>
                <a:ext cx="297180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king limits as </m:t>
                        </m:r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F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69840" y="5105520"/>
                <a:ext cx="44578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E: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will exist if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has pol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 negative real part and at most a singl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le at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17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18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1" name=""/>
              <p:cNvSpPr txBox="1"/>
              <p:nvPr/>
            </p:nvSpPr>
            <p:spPr>
              <a:xfrm>
                <a:off x="88920" y="457200"/>
                <a:ext cx="44830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ermine the initial and final values for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2" name=""/>
              <p:cNvSpPr txBox="1"/>
              <p:nvPr/>
            </p:nvSpPr>
            <p:spPr>
              <a:xfrm>
                <a:off x="152280" y="213372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3" name=""/>
              <p:cNvSpPr txBox="1"/>
              <p:nvPr/>
            </p:nvSpPr>
            <p:spPr>
              <a:xfrm>
                <a:off x="152280" y="2413080"/>
                <a:ext cx="2387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2514600" y="2565360"/>
                <a:ext cx="330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01520" y="4127400"/>
                <a:ext cx="2565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177840" y="3301920"/>
            <a:ext cx="41461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s)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has one pole at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=0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and the othe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ve negative real part. The final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orem can be appli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108000" y="4584600"/>
                <a:ext cx="3009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3124080" y="4724280"/>
                <a:ext cx="316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9" name=""/>
              <p:cNvSpPr txBox="1"/>
              <p:nvPr/>
            </p:nvSpPr>
            <p:spPr>
              <a:xfrm>
                <a:off x="101520" y="5346720"/>
                <a:ext cx="39117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E: Computing the inverse one gets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0" name=""/>
          <p:cNvSpPr/>
          <p:nvPr/>
        </p:nvSpPr>
        <p:spPr>
          <a:xfrm>
            <a:off x="230760" y="1523880"/>
            <a:ext cx="4175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learly,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t)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s Laplace transform.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F(s)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-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0)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also defined.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4572000" y="76320"/>
            <a:ext cx="4483080" cy="1358640"/>
            <a:chOff x="4572000" y="76320"/>
            <a:chExt cx="4483080" cy="1358640"/>
          </a:xfrm>
        </p:grpSpPr>
        <p:sp>
          <p:nvSpPr>
            <p:cNvPr id="832" name=""/>
            <p:cNvSpPr/>
            <p:nvPr/>
          </p:nvSpPr>
          <p:spPr>
            <a:xfrm>
              <a:off x="4739040" y="7632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3" name=""/>
                <p:cNvSpPr txBox="1"/>
                <p:nvPr/>
              </p:nvSpPr>
              <p:spPr>
                <a:xfrm>
                  <a:off x="4572000" y="433440"/>
                  <a:ext cx="4483080" cy="100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Given 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s</m:t>
                              </m:r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s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Determine the initial and final values for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4" name=""/>
              <p:cNvSpPr txBox="1"/>
              <p:nvPr/>
            </p:nvSpPr>
            <p:spPr>
              <a:xfrm>
                <a:off x="4572000" y="2286000"/>
                <a:ext cx="31370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7696080" y="2514600"/>
                <a:ext cx="330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6" name=""/>
              <p:cNvSpPr txBox="1"/>
              <p:nvPr/>
            </p:nvSpPr>
            <p:spPr>
              <a:xfrm>
                <a:off x="4572000" y="4419720"/>
                <a:ext cx="37465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7" name=""/>
              <p:cNvSpPr txBox="1"/>
              <p:nvPr/>
            </p:nvSpPr>
            <p:spPr>
              <a:xfrm>
                <a:off x="8381880" y="4495680"/>
                <a:ext cx="3542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38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39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453600" y="2268360"/>
            <a:ext cx="8267040" cy="1465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One way of using Laplace transform techniques in circuit analysis 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 following step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1. Derive the differential equation that describes th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2. Apply the transform as a tool to solve the differential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2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43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3149640" y="152280"/>
                <a:ext cx="1422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47" name=""/>
          <p:cNvGraphicFramePr/>
          <p:nvPr/>
        </p:nvGraphicFramePr>
        <p:xfrm>
          <a:off x="0" y="533520"/>
          <a:ext cx="4572000" cy="15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457200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9" name=""/>
          <p:cNvSpPr/>
          <p:nvPr/>
        </p:nvSpPr>
        <p:spPr>
          <a:xfrm>
            <a:off x="199440" y="2116080"/>
            <a:ext cx="40334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write the equation for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i(t)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e it using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914400" y="990720"/>
            <a:ext cx="1803240" cy="366480"/>
            <a:chOff x="914400" y="990720"/>
            <a:chExt cx="1803240" cy="366480"/>
          </a:xfrm>
        </p:grpSpPr>
        <mc:AlternateContent>
          <mc:Choice xmlns:a14="http://schemas.microsoft.com/office/drawing/2010/main" Requires="a14">
            <p:sp>
              <p:nvSpPr>
                <p:cNvPr id="851" name=""/>
                <p:cNvSpPr txBox="1"/>
                <p:nvPr/>
              </p:nvSpPr>
              <p:spPr>
                <a:xfrm>
                  <a:off x="914400" y="1066680"/>
                  <a:ext cx="660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2" name=""/>
                <p:cNvSpPr txBox="1"/>
                <p:nvPr/>
              </p:nvSpPr>
              <p:spPr>
                <a:xfrm>
                  <a:off x="2057400" y="990720"/>
                  <a:ext cx="660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152280" y="1523880"/>
                <a:ext cx="25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854" name=""/>
          <p:cNvGrpSpPr/>
          <p:nvPr/>
        </p:nvGrpSpPr>
        <p:grpSpPr>
          <a:xfrm>
            <a:off x="91440" y="2801880"/>
            <a:ext cx="2728080" cy="337320"/>
            <a:chOff x="91440" y="2801880"/>
            <a:chExt cx="2728080" cy="337320"/>
          </a:xfrm>
        </p:grpSpPr>
        <p:sp>
          <p:nvSpPr>
            <p:cNvPr id="855" name=""/>
            <p:cNvSpPr/>
            <p:nvPr/>
          </p:nvSpPr>
          <p:spPr>
            <a:xfrm>
              <a:off x="91440" y="2801880"/>
              <a:ext cx="872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t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6" name=""/>
                <p:cNvSpPr txBox="1"/>
                <p:nvPr/>
              </p:nvSpPr>
              <p:spPr>
                <a:xfrm>
                  <a:off x="1219320" y="2819520"/>
                  <a:ext cx="1600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0" y="3200400"/>
                <a:ext cx="2184480" cy="19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L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101520" y="5272200"/>
                <a:ext cx="38610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14480" y="5943600"/>
                <a:ext cx="3619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60" name=""/>
          <p:cNvGrpSpPr/>
          <p:nvPr/>
        </p:nvGrpSpPr>
        <p:grpSpPr>
          <a:xfrm>
            <a:off x="3886200" y="5410080"/>
            <a:ext cx="469800" cy="990720"/>
            <a:chOff x="3886200" y="5410080"/>
            <a:chExt cx="469800" cy="990720"/>
          </a:xfrm>
        </p:grpSpPr>
        <mc:AlternateContent>
          <mc:Choice xmlns:a14="http://schemas.microsoft.com/office/drawing/2010/main" Requires="a14">
            <p:sp>
              <p:nvSpPr>
                <p:cNvPr id="861" name=""/>
                <p:cNvSpPr txBox="1"/>
                <p:nvPr/>
              </p:nvSpPr>
              <p:spPr>
                <a:xfrm>
                  <a:off x="4038480" y="5791320"/>
                  <a:ext cx="201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62" name=""/>
            <p:cNvSpPr/>
            <p:nvPr/>
          </p:nvSpPr>
          <p:spPr>
            <a:xfrm>
              <a:off x="3886200" y="5410080"/>
              <a:ext cx="469800" cy="990720"/>
            </a:xfrm>
            <a:custGeom>
              <a:avLst/>
              <a:gdLst/>
              <a:ahLst/>
              <a:rect l="l" t="t" r="r" b="b"/>
              <a:pathLst>
                <a:path w="296" h="624">
                  <a:moveTo>
                    <a:pt x="48" y="0"/>
                  </a:moveTo>
                  <a:cubicBezTo>
                    <a:pt x="172" y="164"/>
                    <a:pt x="296" y="328"/>
                    <a:pt x="288" y="432"/>
                  </a:cubicBezTo>
                  <a:cubicBezTo>
                    <a:pt x="280" y="536"/>
                    <a:pt x="140" y="580"/>
                    <a:pt x="0" y="62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4953960" y="135000"/>
            <a:ext cx="3839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find the initial conditions we u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teady state assumption for t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4572000" y="685800"/>
            <a:ext cx="4473720" cy="2072520"/>
            <a:chOff x="4572000" y="685800"/>
            <a:chExt cx="4473720" cy="2072520"/>
          </a:xfrm>
        </p:grpSpPr>
        <p:graphicFrame>
          <p:nvGraphicFramePr>
            <p:cNvPr id="865" name=""/>
            <p:cNvGraphicFramePr/>
            <p:nvPr/>
          </p:nvGraphicFramePr>
          <p:xfrm>
            <a:off x="4572000" y="685800"/>
            <a:ext cx="4473720" cy="1841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6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685800"/>
                      <a:ext cx="4473720" cy="184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7" name=""/>
            <p:cNvSpPr/>
            <p:nvPr/>
          </p:nvSpPr>
          <p:spPr>
            <a:xfrm>
              <a:off x="5462640" y="2421000"/>
              <a:ext cx="3121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in steady state for t&l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4572000" y="2819520"/>
                <a:ext cx="2006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6553080" y="2819520"/>
                <a:ext cx="25783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724280" y="3505320"/>
                <a:ext cx="2641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d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4648320" y="4191120"/>
                <a:ext cx="1726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6400800" y="4191120"/>
                <a:ext cx="2171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4572000" y="4800600"/>
                <a:ext cx="2527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K</m:t>
                            </m:r>
                          </m:e>
                          <m:sup/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7162920" y="4800600"/>
                <a:ext cx="19555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4572000" y="5486400"/>
                <a:ext cx="3035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7543800" y="5638680"/>
                <a:ext cx="1562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4603680" y="6070680"/>
                <a:ext cx="2603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σ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8" name=""/>
          <p:cNvSpPr/>
          <p:nvPr/>
        </p:nvSpPr>
        <p:spPr>
          <a:xfrm>
            <a:off x="7502760" y="3533760"/>
            <a:ext cx="1407600" cy="580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lace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r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23840" y="4095720"/>
            <a:ext cx="7539120" cy="2498760"/>
          </a:xfrm>
          <a:custGeom>
            <a:avLst/>
            <a:gdLst/>
            <a:ahLst/>
            <a:rect l="l" t="t" r="r" b="b"/>
            <a:pathLst>
              <a:path w="4749" h="1574">
                <a:moveTo>
                  <a:pt x="0" y="1550"/>
                </a:moveTo>
                <a:cubicBezTo>
                  <a:pt x="702" y="1558"/>
                  <a:pt x="1402" y="1569"/>
                  <a:pt x="2104" y="1574"/>
                </a:cubicBezTo>
                <a:cubicBezTo>
                  <a:pt x="2286" y="1571"/>
                  <a:pt x="2467" y="1571"/>
                  <a:pt x="2649" y="1566"/>
                </a:cubicBezTo>
                <a:cubicBezTo>
                  <a:pt x="2685" y="1565"/>
                  <a:pt x="2715" y="1550"/>
                  <a:pt x="2751" y="1550"/>
                </a:cubicBezTo>
                <a:cubicBezTo>
                  <a:pt x="2758" y="1457"/>
                  <a:pt x="2787" y="1377"/>
                  <a:pt x="2797" y="1285"/>
                </a:cubicBezTo>
                <a:cubicBezTo>
                  <a:pt x="2793" y="1056"/>
                  <a:pt x="2791" y="852"/>
                  <a:pt x="2766" y="631"/>
                </a:cubicBezTo>
                <a:cubicBezTo>
                  <a:pt x="2754" y="527"/>
                  <a:pt x="2743" y="319"/>
                  <a:pt x="2743" y="319"/>
                </a:cubicBezTo>
                <a:cubicBezTo>
                  <a:pt x="2746" y="257"/>
                  <a:pt x="2736" y="193"/>
                  <a:pt x="2751" y="132"/>
                </a:cubicBezTo>
                <a:cubicBezTo>
                  <a:pt x="2755" y="114"/>
                  <a:pt x="2797" y="101"/>
                  <a:pt x="2797" y="101"/>
                </a:cubicBezTo>
                <a:cubicBezTo>
                  <a:pt x="2792" y="91"/>
                  <a:pt x="2773" y="77"/>
                  <a:pt x="2782" y="70"/>
                </a:cubicBezTo>
                <a:cubicBezTo>
                  <a:pt x="2798" y="57"/>
                  <a:pt x="2823" y="64"/>
                  <a:pt x="2844" y="62"/>
                </a:cubicBezTo>
                <a:cubicBezTo>
                  <a:pt x="2870" y="59"/>
                  <a:pt x="2896" y="57"/>
                  <a:pt x="2922" y="54"/>
                </a:cubicBezTo>
                <a:cubicBezTo>
                  <a:pt x="3125" y="59"/>
                  <a:pt x="3329" y="71"/>
                  <a:pt x="3530" y="38"/>
                </a:cubicBezTo>
                <a:cubicBezTo>
                  <a:pt x="3693" y="11"/>
                  <a:pt x="3514" y="32"/>
                  <a:pt x="3717" y="15"/>
                </a:cubicBezTo>
                <a:cubicBezTo>
                  <a:pt x="3774" y="10"/>
                  <a:pt x="3888" y="0"/>
                  <a:pt x="3888" y="0"/>
                </a:cubicBezTo>
                <a:cubicBezTo>
                  <a:pt x="3947" y="7"/>
                  <a:pt x="4009" y="44"/>
                  <a:pt x="4068" y="46"/>
                </a:cubicBezTo>
                <a:cubicBezTo>
                  <a:pt x="4200" y="51"/>
                  <a:pt x="4333" y="51"/>
                  <a:pt x="4465" y="54"/>
                </a:cubicBezTo>
                <a:cubicBezTo>
                  <a:pt x="4520" y="60"/>
                  <a:pt x="4574" y="70"/>
                  <a:pt x="4629" y="54"/>
                </a:cubicBezTo>
                <a:cubicBezTo>
                  <a:pt x="4749" y="19"/>
                  <a:pt x="4627" y="23"/>
                  <a:pt x="4699" y="2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306160" y="3289320"/>
            <a:ext cx="20293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ould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VL in the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omain and sk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im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1" name=""/>
              <p:cNvSpPr txBox="1"/>
              <p:nvPr/>
            </p:nvSpPr>
            <p:spPr>
              <a:xfrm>
                <a:off x="7238880" y="5943600"/>
                <a:ext cx="1117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82" name="geaux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83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6" name="E12.013_W1199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3048120" cy="1986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50760" y="446040"/>
                <a:ext cx="44449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ssuming the circuit in steady state for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ermine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88" name=""/>
          <p:cNvGrpSpPr/>
          <p:nvPr/>
        </p:nvGrpSpPr>
        <p:grpSpPr>
          <a:xfrm>
            <a:off x="914400" y="2133720"/>
            <a:ext cx="1865160" cy="825480"/>
            <a:chOff x="914400" y="2133720"/>
            <a:chExt cx="1865160" cy="825480"/>
          </a:xfrm>
        </p:grpSpPr>
        <mc:AlternateContent>
          <mc:Choice xmlns:a14="http://schemas.microsoft.com/office/drawing/2010/main" Requires="a14">
            <p:sp>
              <p:nvSpPr>
                <p:cNvPr id="889" name=""/>
                <p:cNvSpPr txBox="1"/>
                <p:nvPr/>
              </p:nvSpPr>
              <p:spPr>
                <a:xfrm>
                  <a:off x="914400" y="2209680"/>
                  <a:ext cx="660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0" name=""/>
                <p:cNvSpPr txBox="1"/>
                <p:nvPr/>
              </p:nvSpPr>
              <p:spPr>
                <a:xfrm>
                  <a:off x="2514600" y="21337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91" name=""/>
          <p:cNvSpPr/>
          <p:nvPr/>
        </p:nvSpPr>
        <p:spPr>
          <a:xfrm>
            <a:off x="122400" y="3168720"/>
            <a:ext cx="1796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 for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t&g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1981080" y="3124080"/>
                <a:ext cx="1879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3" name=""/>
          <p:cNvSpPr/>
          <p:nvPr/>
        </p:nvSpPr>
        <p:spPr>
          <a:xfrm>
            <a:off x="60120" y="3809880"/>
            <a:ext cx="3871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ing to the Laplac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152280" y="4317840"/>
                <a:ext cx="21463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95" name=""/>
          <p:cNvGrpSpPr/>
          <p:nvPr/>
        </p:nvGrpSpPr>
        <p:grpSpPr>
          <a:xfrm>
            <a:off x="4862520" y="120600"/>
            <a:ext cx="3595680" cy="2699640"/>
            <a:chOff x="4862520" y="120600"/>
            <a:chExt cx="3595680" cy="2699640"/>
          </a:xfrm>
        </p:grpSpPr>
        <p:graphicFrame>
          <p:nvGraphicFramePr>
            <p:cNvPr id="896" name=""/>
            <p:cNvGraphicFramePr/>
            <p:nvPr/>
          </p:nvGraphicFramePr>
          <p:xfrm>
            <a:off x="4862520" y="120600"/>
            <a:ext cx="3595680" cy="2351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9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862520" y="120600"/>
                      <a:ext cx="3595680" cy="235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8" name=""/>
            <p:cNvSpPr/>
            <p:nvPr/>
          </p:nvSpPr>
          <p:spPr>
            <a:xfrm>
              <a:off x="8001000" y="1415880"/>
              <a:ext cx="0" cy="76212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180040" y="2482920"/>
              <a:ext cx="3112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in steady state for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t&l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4800600" y="2870280"/>
                <a:ext cx="1587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4552920" y="3581280"/>
                <a:ext cx="17017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4572000" y="4191120"/>
                <a:ext cx="1371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5924520" y="4191120"/>
                <a:ext cx="1155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4572000" y="4952880"/>
                <a:ext cx="1270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5867280" y="4952880"/>
                <a:ext cx="316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6400800" y="4876920"/>
                <a:ext cx="1892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8305920" y="4952880"/>
                <a:ext cx="44280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5562720" y="5410080"/>
                <a:ext cx="2120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9" name=""/>
          <p:cNvSpPr/>
          <p:nvPr/>
        </p:nvSpPr>
        <p:spPr>
          <a:xfrm>
            <a:off x="175320" y="5087880"/>
            <a:ext cx="3073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 we must determin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i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7998120" y="5774760"/>
            <a:ext cx="1140840" cy="1078560"/>
            <a:chOff x="7998120" y="5774760"/>
            <a:chExt cx="1140840" cy="1078560"/>
          </a:xfrm>
        </p:grpSpPr>
        <p:pic>
          <p:nvPicPr>
            <p:cNvPr id="912" name="stop" descr=""/>
            <p:cNvPicPr/>
            <p:nvPr/>
          </p:nvPicPr>
          <p:blipFill>
            <a:blip r:embed="rId4"/>
            <a:stretch/>
          </p:blipFill>
          <p:spPr>
            <a:xfrm>
              <a:off x="853596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"/>
            <p:cNvSpPr/>
            <p:nvPr/>
          </p:nvSpPr>
          <p:spPr>
            <a:xfrm>
              <a:off x="7998120" y="5774760"/>
              <a:ext cx="11408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Lapl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4440" y="76320"/>
            <a:ext cx="4394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ing the transform of the unit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838080" y="550800"/>
                <a:ext cx="34671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447920" y="1236600"/>
                <a:ext cx="2438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x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838080" y="2075040"/>
                <a:ext cx="3581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+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434960" y="3537000"/>
                <a:ext cx="2298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s</m:t>
                    </m:r>
                    <m:r>
                      <m:t xml:space="preserve">∋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7" name=""/>
          <p:cNvGrpSpPr/>
          <p:nvPr/>
        </p:nvGrpSpPr>
        <p:grpSpPr>
          <a:xfrm>
            <a:off x="2797200" y="3481560"/>
            <a:ext cx="1733400" cy="733320"/>
            <a:chOff x="2797200" y="3481560"/>
            <a:chExt cx="1733400" cy="733320"/>
          </a:xfrm>
        </p:grpSpPr>
        <p:sp>
          <p:nvSpPr>
            <p:cNvPr id="108" name=""/>
            <p:cNvSpPr/>
            <p:nvPr/>
          </p:nvSpPr>
          <p:spPr>
            <a:xfrm>
              <a:off x="2797200" y="3481560"/>
              <a:ext cx="1249560" cy="733320"/>
            </a:xfrm>
            <a:custGeom>
              <a:avLst/>
              <a:gdLst/>
              <a:ahLst/>
              <a:rect l="l" t="t" r="r" b="b"/>
              <a:pathLst>
                <a:path w="787" h="462">
                  <a:moveTo>
                    <a:pt x="787" y="210"/>
                  </a:moveTo>
                  <a:cubicBezTo>
                    <a:pt x="774" y="189"/>
                    <a:pt x="759" y="169"/>
                    <a:pt x="748" y="147"/>
                  </a:cubicBezTo>
                  <a:cubicBezTo>
                    <a:pt x="741" y="133"/>
                    <a:pt x="744" y="112"/>
                    <a:pt x="732" y="101"/>
                  </a:cubicBezTo>
                  <a:cubicBezTo>
                    <a:pt x="644" y="20"/>
                    <a:pt x="515" y="26"/>
                    <a:pt x="405" y="7"/>
                  </a:cubicBezTo>
                  <a:cubicBezTo>
                    <a:pt x="278" y="15"/>
                    <a:pt x="177" y="0"/>
                    <a:pt x="70" y="54"/>
                  </a:cubicBezTo>
                  <a:cubicBezTo>
                    <a:pt x="50" y="113"/>
                    <a:pt x="18" y="166"/>
                    <a:pt x="0" y="225"/>
                  </a:cubicBezTo>
                  <a:cubicBezTo>
                    <a:pt x="41" y="285"/>
                    <a:pt x="55" y="382"/>
                    <a:pt x="124" y="405"/>
                  </a:cubicBezTo>
                  <a:cubicBezTo>
                    <a:pt x="292" y="462"/>
                    <a:pt x="550" y="395"/>
                    <a:pt x="724" y="334"/>
                  </a:cubicBezTo>
                  <a:cubicBezTo>
                    <a:pt x="750" y="259"/>
                    <a:pt x="738" y="286"/>
                    <a:pt x="755" y="24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61080" y="3824280"/>
              <a:ext cx="569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o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2280" y="4629240"/>
            <a:ext cx="4622760" cy="950760"/>
            <a:chOff x="152280" y="4629240"/>
            <a:chExt cx="4622760" cy="950760"/>
          </a:xfrm>
        </p:grpSpPr>
        <p:graphicFrame>
          <p:nvGraphicFramePr>
            <p:cNvPr id="111" name=""/>
            <p:cNvGraphicFramePr/>
            <p:nvPr/>
          </p:nvGraphicFramePr>
          <p:xfrm>
            <a:off x="152280" y="4629240"/>
            <a:ext cx="2590560" cy="950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4629240"/>
                      <a:ext cx="2590560" cy="95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2438280" y="4973400"/>
              <a:ext cx="228600" cy="3045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2666880" y="5010120"/>
                  <a:ext cx="210816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oC</m:t>
                      </m:r>
                      <m:r>
                        <m:t xml:space="preserve">⊃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s</m:t>
                          </m:r>
                          <m:r>
                            <m:t xml:space="preserve">: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Re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  <m:r>
                            <m:t xml:space="preserve">&gt;</m:t>
                          </m:r>
                          <m:r>
                            <m:t xml:space="preserve">−</m:t>
                          </m:r>
                          <m:r>
                            <m:t xml:space="preserve">σ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5" name=""/>
          <p:cNvSpPr/>
          <p:nvPr/>
        </p:nvSpPr>
        <p:spPr>
          <a:xfrm>
            <a:off x="768600" y="5500800"/>
            <a:ext cx="381708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is case the RoC is at least half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lane. And any linear comb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such signals will also have a R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at is a half p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187280" y="2741760"/>
                <a:ext cx="2883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σT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num>
                      <m:den>
                        <m:r>
                          <m:t xml:space="preserve">σ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984960" y="4267080"/>
            <a:ext cx="2984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simplify question of Ro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pecial class of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85120" y="58680"/>
            <a:ext cx="4018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example of Region of Converg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Ro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105520" y="1066680"/>
            <a:ext cx="3809880" cy="4358520"/>
            <a:chOff x="5105520" y="1066680"/>
            <a:chExt cx="3809880" cy="4358520"/>
          </a:xfrm>
        </p:grpSpPr>
        <p:grpSp>
          <p:nvGrpSpPr>
            <p:cNvPr id="120" name=""/>
            <p:cNvGrpSpPr/>
            <p:nvPr/>
          </p:nvGrpSpPr>
          <p:grpSpPr>
            <a:xfrm>
              <a:off x="5105520" y="1066680"/>
              <a:ext cx="3809880" cy="4114800"/>
              <a:chOff x="5105520" y="1066680"/>
              <a:chExt cx="3809880" cy="4114800"/>
            </a:xfrm>
          </p:grpSpPr>
          <p:sp>
            <p:nvSpPr>
              <p:cNvPr id="121" name=""/>
              <p:cNvSpPr/>
              <p:nvPr/>
            </p:nvSpPr>
            <p:spPr>
              <a:xfrm>
                <a:off x="5943600" y="1066680"/>
                <a:ext cx="2971800" cy="41148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5943600" y="1371600"/>
                <a:ext cx="0" cy="3581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05520" y="3276720"/>
                <a:ext cx="33526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4" name=""/>
                  <p:cNvSpPr txBox="1"/>
                  <p:nvPr/>
                </p:nvSpPr>
                <p:spPr>
                  <a:xfrm>
                    <a:off x="8280360" y="3384720"/>
                    <a:ext cx="55872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5" name=""/>
                  <p:cNvSpPr txBox="1"/>
                  <p:nvPr/>
                </p:nvSpPr>
                <p:spPr>
                  <a:xfrm>
                    <a:off x="5334120" y="1295280"/>
                    <a:ext cx="558720" cy="26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6" name=""/>
                  <p:cNvSpPr txBox="1"/>
                  <p:nvPr/>
                </p:nvSpPr>
                <p:spPr>
                  <a:xfrm>
                    <a:off x="6858000" y="2438280"/>
                    <a:ext cx="927000" cy="26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27" name=""/>
            <p:cNvSpPr/>
            <p:nvPr/>
          </p:nvSpPr>
          <p:spPr>
            <a:xfrm>
              <a:off x="6602040" y="5087880"/>
              <a:ext cx="1681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lex Pla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69560" y="135000"/>
            <a:ext cx="2644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MPULSE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8760" y="603360"/>
          <a:ext cx="4413240" cy="13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603360"/>
                    <a:ext cx="441324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1" name=""/>
          <p:cNvGrpSpPr/>
          <p:nvPr/>
        </p:nvGrpSpPr>
        <p:grpSpPr>
          <a:xfrm>
            <a:off x="1676520" y="4495680"/>
            <a:ext cx="7400880" cy="846360"/>
            <a:chOff x="1676520" y="4495680"/>
            <a:chExt cx="7400880" cy="846360"/>
          </a:xfrm>
        </p:grpSpPr>
        <p:graphicFrame>
          <p:nvGraphicFramePr>
            <p:cNvPr id="132" name=""/>
            <p:cNvGraphicFramePr/>
            <p:nvPr/>
          </p:nvGraphicFramePr>
          <p:xfrm>
            <a:off x="1676520" y="4495680"/>
            <a:ext cx="5257800" cy="846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76520" y="4495680"/>
                      <a:ext cx="5257800" cy="84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6975000" y="4508640"/>
              <a:ext cx="210240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fting or samp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erty of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28600" y="2057400"/>
            <a:ext cx="4502160" cy="2486160"/>
            <a:chOff x="228600" y="2057400"/>
            <a:chExt cx="4502160" cy="2486160"/>
          </a:xfrm>
        </p:grpSpPr>
        <p:pic>
          <p:nvPicPr>
            <p:cNvPr id="136" name="F12.002B_W1195" descr=""/>
            <p:cNvPicPr/>
            <p:nvPr/>
          </p:nvPicPr>
          <p:blipFill>
            <a:blip r:embed="rId5"/>
            <a:stretch/>
          </p:blipFill>
          <p:spPr>
            <a:xfrm>
              <a:off x="228600" y="2057400"/>
              <a:ext cx="3610080" cy="24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77800" y="4159080"/>
              <a:ext cx="3257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presentation of the im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11200" y="2496960"/>
              <a:ext cx="24195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eight is proport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 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04920" y="5486400"/>
            <a:ext cx="3431880" cy="1310400"/>
            <a:chOff x="304920" y="5486400"/>
            <a:chExt cx="3431880" cy="1310400"/>
          </a:xfrm>
        </p:grpSpPr>
        <p:graphicFrame>
          <p:nvGraphicFramePr>
            <p:cNvPr id="140" name=""/>
            <p:cNvGraphicFramePr/>
            <p:nvPr/>
          </p:nvGraphicFramePr>
          <p:xfrm>
            <a:off x="304920" y="5486400"/>
            <a:ext cx="3431880" cy="11318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04920" y="5486400"/>
                      <a:ext cx="3431880" cy="113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" name=""/>
            <p:cNvSpPr/>
            <p:nvPr/>
          </p:nvSpPr>
          <p:spPr>
            <a:xfrm>
              <a:off x="614880" y="6459480"/>
              <a:ext cx="2035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aplace trans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733920" y="5791320"/>
                <a:ext cx="8380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901960" y="5410080"/>
                <a:ext cx="462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the integral  is NOT define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72000" y="5791320"/>
                <a:ext cx="46227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order to have a valid transform for 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th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wer limit is assumed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6" name=""/>
          <p:cNvGrpSpPr/>
          <p:nvPr/>
        </p:nvGrpSpPr>
        <p:grpSpPr>
          <a:xfrm>
            <a:off x="5181480" y="1371600"/>
            <a:ext cx="3963600" cy="3181320"/>
            <a:chOff x="5181480" y="1371600"/>
            <a:chExt cx="3963600" cy="3181320"/>
          </a:xfrm>
        </p:grpSpPr>
        <p:pic>
          <p:nvPicPr>
            <p:cNvPr id="147" name="F12.002A_W1195" descr=""/>
            <p:cNvPicPr/>
            <p:nvPr/>
          </p:nvPicPr>
          <p:blipFill>
            <a:blip r:embed="rId8"/>
            <a:stretch/>
          </p:blipFill>
          <p:spPr>
            <a:xfrm>
              <a:off x="5181480" y="2057400"/>
              <a:ext cx="3600720" cy="2495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8" name=""/>
            <p:cNvGrpSpPr/>
            <p:nvPr/>
          </p:nvGrpSpPr>
          <p:grpSpPr>
            <a:xfrm>
              <a:off x="6781680" y="1676520"/>
              <a:ext cx="761760" cy="2209680"/>
              <a:chOff x="6781680" y="1676520"/>
              <a:chExt cx="761760" cy="2209680"/>
            </a:xfrm>
          </p:grpSpPr>
          <p:sp>
            <p:nvSpPr>
              <p:cNvPr id="149" name=""/>
              <p:cNvSpPr/>
              <p:nvPr/>
            </p:nvSpPr>
            <p:spPr>
              <a:xfrm flipH="1" flipV="1">
                <a:off x="7238520" y="1676520"/>
                <a:ext cx="304920" cy="22096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6781680" y="1676520"/>
                <a:ext cx="457200" cy="213336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7341120" y="1371600"/>
              <a:ext cx="18039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 the im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513320" y="0"/>
            <a:ext cx="4283280" cy="1266480"/>
            <a:chOff x="4513320" y="0"/>
            <a:chExt cx="4283280" cy="1266480"/>
          </a:xfrm>
        </p:grpSpPr>
        <p:sp>
          <p:nvSpPr>
            <p:cNvPr id="153" name=""/>
            <p:cNvSpPr/>
            <p:nvPr/>
          </p:nvSpPr>
          <p:spPr>
            <a:xfrm>
              <a:off x="4513320" y="685800"/>
              <a:ext cx="32972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se two conditions are n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easible for “normal”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1120" y="0"/>
              <a:ext cx="41554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Good model for impact, lightning, an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ther well known phenomen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5" name="geaux" descr=""/>
          <p:cNvPicPr/>
          <p:nvPr/>
        </p:nvPicPr>
        <p:blipFill>
          <a:blip r:embed="rId9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0" y="609480"/>
          <a:ext cx="2438280" cy="13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243828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98280" y="76320"/>
            <a:ext cx="230688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514600" y="838080"/>
                <a:ext cx="1600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286000" y="1371600"/>
                <a:ext cx="8380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3" name=""/>
          <p:cNvGraphicFramePr/>
          <p:nvPr/>
        </p:nvGraphicFramePr>
        <p:xfrm>
          <a:off x="152280" y="2362320"/>
          <a:ext cx="2514600" cy="12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362320"/>
                    <a:ext cx="251460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048120" y="2590920"/>
                <a:ext cx="1269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π</m:t>
                    </m:r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819520" y="3048120"/>
                <a:ext cx="330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7" name=""/>
          <p:cNvGraphicFramePr/>
          <p:nvPr/>
        </p:nvGraphicFramePr>
        <p:xfrm>
          <a:off x="2438280" y="0"/>
          <a:ext cx="4343400" cy="69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0"/>
                    <a:ext cx="43434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"/>
          <p:cNvGrpSpPr/>
          <p:nvPr/>
        </p:nvGrpSpPr>
        <p:grpSpPr>
          <a:xfrm>
            <a:off x="236160" y="3809880"/>
            <a:ext cx="7155360" cy="473040"/>
            <a:chOff x="236160" y="3809880"/>
            <a:chExt cx="7155360" cy="473040"/>
          </a:xfrm>
        </p:grpSpPr>
        <p:sp>
          <p:nvSpPr>
            <p:cNvPr id="170" name=""/>
            <p:cNvSpPr/>
            <p:nvPr/>
          </p:nvSpPr>
          <p:spPr>
            <a:xfrm>
              <a:off x="236160" y="3868560"/>
              <a:ext cx="2224440" cy="337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1" name=""/>
            <p:cNvGraphicFramePr/>
            <p:nvPr/>
          </p:nvGraphicFramePr>
          <p:xfrm>
            <a:off x="2514600" y="3809880"/>
            <a:ext cx="4876920" cy="473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14600" y="3809880"/>
                      <a:ext cx="4876920" cy="47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3" name=""/>
          <p:cNvGraphicFramePr/>
          <p:nvPr/>
        </p:nvGraphicFramePr>
        <p:xfrm>
          <a:off x="228600" y="4343400"/>
          <a:ext cx="1905120" cy="77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4343400"/>
                    <a:ext cx="19051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5560" y="5181480"/>
                <a:ext cx="24890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gration by parts with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590920" y="5257800"/>
                <a:ext cx="1739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209680" y="4343400"/>
                <a:ext cx="2552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t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 flipV="1">
            <a:off x="2357280" y="4186080"/>
            <a:ext cx="1070280" cy="9144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876920" y="4343400"/>
                <a:ext cx="1612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4981680" y="5240160"/>
            <a:ext cx="380160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develop properties that w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mit the determination of a la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umber of transforms from a sm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ble of transform pai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geaux" descr=""/>
          <p:cNvPicPr/>
          <p:nvPr/>
        </p:nvPicPr>
        <p:blipFill>
          <a:blip r:embed="rId1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685800" y="0"/>
          <a:ext cx="7743960" cy="680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0"/>
                    <a:ext cx="7743960" cy="68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6" name=""/>
          <p:cNvGrpSpPr/>
          <p:nvPr/>
        </p:nvGrpSpPr>
        <p:grpSpPr>
          <a:xfrm>
            <a:off x="990720" y="990720"/>
            <a:ext cx="6167160" cy="761760"/>
            <a:chOff x="990720" y="990720"/>
            <a:chExt cx="6167160" cy="761760"/>
          </a:xfrm>
        </p:grpSpPr>
        <p:sp>
          <p:nvSpPr>
            <p:cNvPr id="187" name=""/>
            <p:cNvSpPr/>
            <p:nvPr/>
          </p:nvSpPr>
          <p:spPr>
            <a:xfrm>
              <a:off x="990720" y="990720"/>
              <a:ext cx="5029200" cy="761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67440" y="1201680"/>
              <a:ext cx="1090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990720" y="3048120"/>
            <a:ext cx="7604280" cy="381600"/>
            <a:chOff x="990720" y="3048120"/>
            <a:chExt cx="7604280" cy="381600"/>
          </a:xfrm>
        </p:grpSpPr>
        <p:sp>
          <p:nvSpPr>
            <p:cNvPr id="190" name=""/>
            <p:cNvSpPr/>
            <p:nvPr/>
          </p:nvSpPr>
          <p:spPr>
            <a:xfrm>
              <a:off x="990720" y="3048120"/>
              <a:ext cx="4343400" cy="380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28800" y="3092400"/>
              <a:ext cx="3166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ltiplication by expon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068480" y="4040280"/>
            <a:ext cx="6699960" cy="530280"/>
            <a:chOff x="1068480" y="4040280"/>
            <a:chExt cx="6699960" cy="530280"/>
          </a:xfrm>
        </p:grpSpPr>
        <p:sp>
          <p:nvSpPr>
            <p:cNvPr id="193" name=""/>
            <p:cNvSpPr/>
            <p:nvPr/>
          </p:nvSpPr>
          <p:spPr>
            <a:xfrm>
              <a:off x="1068480" y="4040280"/>
              <a:ext cx="4186080" cy="530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42760" y="4097160"/>
              <a:ext cx="2425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ltiplication by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066680" y="2286000"/>
            <a:ext cx="5819760" cy="457200"/>
            <a:chOff x="1066680" y="2286000"/>
            <a:chExt cx="5819760" cy="457200"/>
          </a:xfrm>
        </p:grpSpPr>
        <p:sp>
          <p:nvSpPr>
            <p:cNvPr id="196" name=""/>
            <p:cNvSpPr/>
            <p:nvPr/>
          </p:nvSpPr>
          <p:spPr>
            <a:xfrm>
              <a:off x="1066680" y="2286000"/>
              <a:ext cx="419112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67600" y="2330280"/>
              <a:ext cx="1518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ime shif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6099840" y="2725560"/>
            <a:ext cx="1812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 trun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54360" y="4648320"/>
            <a:ext cx="2570400" cy="131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me properties w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 proved and used 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fficient tools i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ation of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410080" y="2795760"/>
                <a:ext cx="17640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1" name="geaux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57200" y="533520"/>
                <a:ext cx="35053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transform for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85800" y="914400"/>
                <a:ext cx="28954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990720" y="1676520"/>
                <a:ext cx="2197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08" name=""/>
          <p:cNvGrpSpPr/>
          <p:nvPr/>
        </p:nvGrpSpPr>
        <p:grpSpPr>
          <a:xfrm>
            <a:off x="152280" y="3124080"/>
            <a:ext cx="4191120" cy="2455920"/>
            <a:chOff x="152280" y="3124080"/>
            <a:chExt cx="4191120" cy="2455920"/>
          </a:xfrm>
        </p:grpSpPr>
        <p:graphicFrame>
          <p:nvGraphicFramePr>
            <p:cNvPr id="209" name=""/>
            <p:cNvGraphicFramePr/>
            <p:nvPr/>
          </p:nvGraphicFramePr>
          <p:xfrm>
            <a:off x="152280" y="3444840"/>
            <a:ext cx="4191120" cy="2135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3444840"/>
                      <a:ext cx="4191120" cy="21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1" name=""/>
            <p:cNvSpPr/>
            <p:nvPr/>
          </p:nvSpPr>
          <p:spPr>
            <a:xfrm>
              <a:off x="680040" y="3124080"/>
              <a:ext cx="3602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Table of Laplace Transfo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0" y="5773680"/>
            <a:ext cx="47242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develop properties that expan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ble and allow computation of trans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out using the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34800" y="152280"/>
            <a:ext cx="2344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ITY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572000" y="500040"/>
            <a:ext cx="4603680" cy="795240"/>
            <a:chOff x="4572000" y="500040"/>
            <a:chExt cx="4603680" cy="795240"/>
          </a:xfrm>
        </p:grpSpPr>
        <p:graphicFrame>
          <p:nvGraphicFramePr>
            <p:cNvPr id="215" name=""/>
            <p:cNvGraphicFramePr/>
            <p:nvPr/>
          </p:nvGraphicFramePr>
          <p:xfrm>
            <a:off x="4572000" y="500040"/>
            <a:ext cx="1828800" cy="371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500040"/>
                      <a:ext cx="1828800" cy="37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7" name=""/>
            <p:cNvGraphicFramePr/>
            <p:nvPr/>
          </p:nvGraphicFramePr>
          <p:xfrm>
            <a:off x="4572000" y="880920"/>
            <a:ext cx="3352680" cy="414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72000" y="880920"/>
                      <a:ext cx="33526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9" name=""/>
            <p:cNvSpPr/>
            <p:nvPr/>
          </p:nvSpPr>
          <p:spPr>
            <a:xfrm>
              <a:off x="6471000" y="558720"/>
              <a:ext cx="1553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omogene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002800" y="880920"/>
              <a:ext cx="1172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ditiv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4754520" y="1278000"/>
            <a:ext cx="4028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llow immediately from the line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the 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493520" y="1963800"/>
            <a:ext cx="3659760" cy="669960"/>
            <a:chOff x="4493520" y="1963800"/>
            <a:chExt cx="3659760" cy="669960"/>
          </a:xfrm>
        </p:grpSpPr>
        <p:sp>
          <p:nvSpPr>
            <p:cNvPr id="223" name=""/>
            <p:cNvSpPr/>
            <p:nvPr/>
          </p:nvSpPr>
          <p:spPr>
            <a:xfrm>
              <a:off x="4493520" y="1963800"/>
              <a:ext cx="1563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4" name=""/>
            <p:cNvGraphicFramePr/>
            <p:nvPr/>
          </p:nvGraphicFramePr>
          <p:xfrm>
            <a:off x="6095880" y="1981080"/>
            <a:ext cx="2057400" cy="65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95880" y="1981080"/>
                      <a:ext cx="2057400" cy="6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26" name=""/>
          <p:cNvGraphicFramePr/>
          <p:nvPr/>
        </p:nvGraphicFramePr>
        <p:xfrm>
          <a:off x="5867280" y="2684520"/>
          <a:ext cx="2533680" cy="74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2684520"/>
                    <a:ext cx="253368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019920" y="3429000"/>
                <a:ext cx="23619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L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ωt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L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9" name=""/>
          <p:cNvGrpSpPr/>
          <p:nvPr/>
        </p:nvGrpSpPr>
        <p:grpSpPr>
          <a:xfrm>
            <a:off x="282600" y="3897360"/>
            <a:ext cx="7985160" cy="1832040"/>
            <a:chOff x="282600" y="3897360"/>
            <a:chExt cx="7985160" cy="1832040"/>
          </a:xfrm>
        </p:grpSpPr>
        <p:sp>
          <p:nvSpPr>
            <p:cNvPr id="230" name=""/>
            <p:cNvSpPr/>
            <p:nvPr/>
          </p:nvSpPr>
          <p:spPr>
            <a:xfrm>
              <a:off x="282600" y="3897360"/>
              <a:ext cx="6423120" cy="1832040"/>
            </a:xfrm>
            <a:custGeom>
              <a:avLst/>
              <a:gdLst/>
              <a:ahLst/>
              <a:rect l="l" t="t" r="r" b="b"/>
              <a:pathLst>
                <a:path w="4046" h="1154">
                  <a:moveTo>
                    <a:pt x="305" y="725"/>
                  </a:moveTo>
                  <a:cubicBezTo>
                    <a:pt x="242" y="722"/>
                    <a:pt x="93" y="685"/>
                    <a:pt x="48" y="779"/>
                  </a:cubicBezTo>
                  <a:cubicBezTo>
                    <a:pt x="0" y="881"/>
                    <a:pt x="113" y="954"/>
                    <a:pt x="188" y="974"/>
                  </a:cubicBezTo>
                  <a:cubicBezTo>
                    <a:pt x="625" y="1093"/>
                    <a:pt x="1060" y="1091"/>
                    <a:pt x="1513" y="1099"/>
                  </a:cubicBezTo>
                  <a:cubicBezTo>
                    <a:pt x="1669" y="1111"/>
                    <a:pt x="1825" y="1122"/>
                    <a:pt x="1981" y="1138"/>
                  </a:cubicBezTo>
                  <a:cubicBezTo>
                    <a:pt x="2228" y="1134"/>
                    <a:pt x="2391" y="1154"/>
                    <a:pt x="2604" y="1091"/>
                  </a:cubicBezTo>
                  <a:cubicBezTo>
                    <a:pt x="2622" y="1037"/>
                    <a:pt x="2650" y="992"/>
                    <a:pt x="2658" y="935"/>
                  </a:cubicBezTo>
                  <a:cubicBezTo>
                    <a:pt x="2656" y="893"/>
                    <a:pt x="2666" y="849"/>
                    <a:pt x="2651" y="810"/>
                  </a:cubicBezTo>
                  <a:cubicBezTo>
                    <a:pt x="2641" y="782"/>
                    <a:pt x="2612" y="766"/>
                    <a:pt x="2588" y="748"/>
                  </a:cubicBezTo>
                  <a:cubicBezTo>
                    <a:pt x="2486" y="672"/>
                    <a:pt x="2315" y="676"/>
                    <a:pt x="2199" y="670"/>
                  </a:cubicBezTo>
                  <a:cubicBezTo>
                    <a:pt x="2284" y="661"/>
                    <a:pt x="2364" y="645"/>
                    <a:pt x="2448" y="631"/>
                  </a:cubicBezTo>
                  <a:cubicBezTo>
                    <a:pt x="2489" y="624"/>
                    <a:pt x="2573" y="615"/>
                    <a:pt x="2573" y="615"/>
                  </a:cubicBezTo>
                  <a:cubicBezTo>
                    <a:pt x="2661" y="582"/>
                    <a:pt x="2751" y="558"/>
                    <a:pt x="2838" y="522"/>
                  </a:cubicBezTo>
                  <a:cubicBezTo>
                    <a:pt x="2881" y="504"/>
                    <a:pt x="2917" y="472"/>
                    <a:pt x="2962" y="460"/>
                  </a:cubicBezTo>
                  <a:cubicBezTo>
                    <a:pt x="3070" y="430"/>
                    <a:pt x="3233" y="412"/>
                    <a:pt x="3352" y="397"/>
                  </a:cubicBezTo>
                  <a:cubicBezTo>
                    <a:pt x="3388" y="384"/>
                    <a:pt x="3424" y="367"/>
                    <a:pt x="3461" y="358"/>
                  </a:cubicBezTo>
                  <a:cubicBezTo>
                    <a:pt x="3503" y="348"/>
                    <a:pt x="3586" y="327"/>
                    <a:pt x="3586" y="327"/>
                  </a:cubicBezTo>
                  <a:cubicBezTo>
                    <a:pt x="3647" y="282"/>
                    <a:pt x="3680" y="250"/>
                    <a:pt x="3757" y="226"/>
                  </a:cubicBezTo>
                  <a:cubicBezTo>
                    <a:pt x="3817" y="166"/>
                    <a:pt x="3755" y="219"/>
                    <a:pt x="3835" y="179"/>
                  </a:cubicBezTo>
                  <a:cubicBezTo>
                    <a:pt x="3847" y="173"/>
                    <a:pt x="3854" y="162"/>
                    <a:pt x="3866" y="156"/>
                  </a:cubicBezTo>
                  <a:cubicBezTo>
                    <a:pt x="3901" y="138"/>
                    <a:pt x="3946" y="122"/>
                    <a:pt x="3983" y="109"/>
                  </a:cubicBezTo>
                  <a:cubicBezTo>
                    <a:pt x="3996" y="70"/>
                    <a:pt x="4006" y="20"/>
                    <a:pt x="404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5424480" y="4114800"/>
                  <a:ext cx="6714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j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5776920" y="4044960"/>
              <a:ext cx="1595520" cy="479520"/>
            </a:xfrm>
            <a:custGeom>
              <a:avLst/>
              <a:gdLst/>
              <a:ahLst/>
              <a:rect l="l" t="t" r="r" b="b"/>
              <a:pathLst>
                <a:path w="1005" h="302">
                  <a:moveTo>
                    <a:pt x="0" y="273"/>
                  </a:moveTo>
                  <a:cubicBezTo>
                    <a:pt x="67" y="282"/>
                    <a:pt x="96" y="289"/>
                    <a:pt x="164" y="281"/>
                  </a:cubicBezTo>
                  <a:cubicBezTo>
                    <a:pt x="351" y="149"/>
                    <a:pt x="126" y="302"/>
                    <a:pt x="335" y="180"/>
                  </a:cubicBezTo>
                  <a:cubicBezTo>
                    <a:pt x="453" y="111"/>
                    <a:pt x="563" y="20"/>
                    <a:pt x="701" y="0"/>
                  </a:cubicBezTo>
                  <a:cubicBezTo>
                    <a:pt x="809" y="18"/>
                    <a:pt x="893" y="63"/>
                    <a:pt x="1005" y="6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7467480" y="4038480"/>
                  <a:ext cx="8002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j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562720" y="4572000"/>
                <a:ext cx="2489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6095880" y="5181480"/>
                <a:ext cx="2121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095880" y="5791320"/>
                <a:ext cx="927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37" name="geaux" descr=""/>
          <p:cNvPicPr/>
          <p:nvPr/>
        </p:nvPicPr>
        <p:blipFill>
          <a:blip r:embed="rId1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80640" y="210960"/>
            <a:ext cx="4281840" cy="957600"/>
            <a:chOff x="80640" y="210960"/>
            <a:chExt cx="4281840" cy="957600"/>
          </a:xfrm>
        </p:grpSpPr>
        <p:sp>
          <p:nvSpPr>
            <p:cNvPr id="241" name=""/>
            <p:cNvSpPr/>
            <p:nvPr/>
          </p:nvSpPr>
          <p:spPr>
            <a:xfrm>
              <a:off x="80640" y="210960"/>
              <a:ext cx="4281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a similar use of linearity one sho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1006200" y="609480"/>
                  <a:ext cx="179100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ωt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ω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3" name=""/>
          <p:cNvGrpSpPr/>
          <p:nvPr/>
        </p:nvGrpSpPr>
        <p:grpSpPr>
          <a:xfrm>
            <a:off x="228600" y="1523880"/>
            <a:ext cx="4149720" cy="1765440"/>
            <a:chOff x="228600" y="1523880"/>
            <a:chExt cx="4149720" cy="1765440"/>
          </a:xfrm>
        </p:grpSpPr>
        <p:graphicFrame>
          <p:nvGraphicFramePr>
            <p:cNvPr id="244" name=""/>
            <p:cNvGraphicFramePr/>
            <p:nvPr/>
          </p:nvGraphicFramePr>
          <p:xfrm>
            <a:off x="228600" y="1846080"/>
            <a:ext cx="4149720" cy="1443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846080"/>
                      <a:ext cx="4149720" cy="1443240"/>
                    </a:xfrm>
                    <a:prstGeom prst="rect">
                      <a:avLst/>
                    </a:prstGeom>
                    <a:ln w="255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46" name=""/>
            <p:cNvSpPr/>
            <p:nvPr/>
          </p:nvSpPr>
          <p:spPr>
            <a:xfrm>
              <a:off x="605880" y="1523880"/>
              <a:ext cx="3318480" cy="3373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ditional entries for the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20400" y="3564000"/>
            <a:ext cx="3616560" cy="1019160"/>
            <a:chOff x="320400" y="3564000"/>
            <a:chExt cx="3616560" cy="1019160"/>
          </a:xfrm>
        </p:grpSpPr>
        <p:sp>
          <p:nvSpPr>
            <p:cNvPr id="248" name=""/>
            <p:cNvSpPr/>
            <p:nvPr/>
          </p:nvSpPr>
          <p:spPr>
            <a:xfrm>
              <a:off x="320400" y="35640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914400" y="3962520"/>
                  <a:ext cx="302256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Find the Laplace transform for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762120" y="4648320"/>
                <a:ext cx="3263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3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3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2000160" y="1844640"/>
            <a:ext cx="2648160" cy="3336840"/>
          </a:xfrm>
          <a:custGeom>
            <a:avLst/>
            <a:gdLst/>
            <a:ahLst/>
            <a:rect l="l" t="t" r="r" b="b"/>
            <a:pathLst>
              <a:path w="1668" h="2102">
                <a:moveTo>
                  <a:pt x="0" y="2071"/>
                </a:moveTo>
                <a:cubicBezTo>
                  <a:pt x="150" y="2085"/>
                  <a:pt x="285" y="2097"/>
                  <a:pt x="436" y="2102"/>
                </a:cubicBezTo>
                <a:cubicBezTo>
                  <a:pt x="528" y="2092"/>
                  <a:pt x="612" y="2057"/>
                  <a:pt x="701" y="2040"/>
                </a:cubicBezTo>
                <a:cubicBezTo>
                  <a:pt x="722" y="2036"/>
                  <a:pt x="743" y="2036"/>
                  <a:pt x="764" y="2032"/>
                </a:cubicBezTo>
                <a:cubicBezTo>
                  <a:pt x="967" y="1992"/>
                  <a:pt x="1169" y="1949"/>
                  <a:pt x="1372" y="1908"/>
                </a:cubicBezTo>
                <a:cubicBezTo>
                  <a:pt x="1597" y="1647"/>
                  <a:pt x="1528" y="1766"/>
                  <a:pt x="1621" y="1580"/>
                </a:cubicBezTo>
                <a:cubicBezTo>
                  <a:pt x="1638" y="1508"/>
                  <a:pt x="1651" y="1436"/>
                  <a:pt x="1660" y="1362"/>
                </a:cubicBezTo>
                <a:cubicBezTo>
                  <a:pt x="1657" y="1118"/>
                  <a:pt x="1657" y="874"/>
                  <a:pt x="1652" y="630"/>
                </a:cubicBezTo>
                <a:cubicBezTo>
                  <a:pt x="1650" y="536"/>
                  <a:pt x="1668" y="437"/>
                  <a:pt x="1636" y="349"/>
                </a:cubicBezTo>
                <a:cubicBezTo>
                  <a:pt x="1614" y="287"/>
                  <a:pt x="1493" y="142"/>
                  <a:pt x="1449" y="84"/>
                </a:cubicBezTo>
                <a:cubicBezTo>
                  <a:pt x="1444" y="68"/>
                  <a:pt x="1449" y="44"/>
                  <a:pt x="1434" y="37"/>
                </a:cubicBezTo>
                <a:cubicBezTo>
                  <a:pt x="1350" y="0"/>
                  <a:pt x="1226" y="28"/>
                  <a:pt x="1138" y="37"/>
                </a:cubicBezTo>
                <a:cubicBezTo>
                  <a:pt x="1095" y="75"/>
                  <a:pt x="1047" y="107"/>
                  <a:pt x="1005" y="146"/>
                </a:cubicBezTo>
                <a:cubicBezTo>
                  <a:pt x="952" y="194"/>
                  <a:pt x="943" y="301"/>
                  <a:pt x="920" y="365"/>
                </a:cubicBezTo>
                <a:cubicBezTo>
                  <a:pt x="901" y="474"/>
                  <a:pt x="914" y="428"/>
                  <a:pt x="888" y="505"/>
                </a:cubicBezTo>
                <a:cubicBezTo>
                  <a:pt x="879" y="568"/>
                  <a:pt x="870" y="628"/>
                  <a:pt x="865" y="692"/>
                </a:cubicBezTo>
                <a:cubicBezTo>
                  <a:pt x="870" y="930"/>
                  <a:pt x="845" y="972"/>
                  <a:pt x="896" y="1128"/>
                </a:cubicBezTo>
                <a:cubicBezTo>
                  <a:pt x="922" y="1206"/>
                  <a:pt x="894" y="1173"/>
                  <a:pt x="927" y="120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57200" y="5334120"/>
                <a:ext cx="3441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3" name=""/>
          <p:cNvGrpSpPr/>
          <p:nvPr/>
        </p:nvGrpSpPr>
        <p:grpSpPr>
          <a:xfrm>
            <a:off x="4679640" y="76320"/>
            <a:ext cx="3619440" cy="830160"/>
            <a:chOff x="4679640" y="76320"/>
            <a:chExt cx="3619440" cy="830160"/>
          </a:xfrm>
        </p:grpSpPr>
        <p:sp>
          <p:nvSpPr>
            <p:cNvPr id="254" name=""/>
            <p:cNvSpPr/>
            <p:nvPr/>
          </p:nvSpPr>
          <p:spPr>
            <a:xfrm>
              <a:off x="467964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5" name=""/>
            <p:cNvGraphicFramePr/>
            <p:nvPr/>
          </p:nvGraphicFramePr>
          <p:xfrm rot="10800000">
            <a:off x="4954320" y="533160"/>
            <a:ext cx="3344760" cy="37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 rot="10800000">
                      <a:off x="4954320" y="533160"/>
                      <a:ext cx="3344760" cy="37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867280" y="1523880"/>
                <a:ext cx="20574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5450760" y="1066680"/>
            <a:ext cx="25552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ication of Line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geaux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778280" y="519120"/>
            <a:ext cx="4093200" cy="3301920"/>
            <a:chOff x="4778280" y="519120"/>
            <a:chExt cx="4093200" cy="3301920"/>
          </a:xfrm>
        </p:grpSpPr>
        <p:grpSp>
          <p:nvGrpSpPr>
            <p:cNvPr id="263" name=""/>
            <p:cNvGrpSpPr/>
            <p:nvPr/>
          </p:nvGrpSpPr>
          <p:grpSpPr>
            <a:xfrm>
              <a:off x="5517720" y="2573280"/>
              <a:ext cx="3353760" cy="1247760"/>
              <a:chOff x="5517720" y="2573280"/>
              <a:chExt cx="3353760" cy="1247760"/>
            </a:xfrm>
          </p:grpSpPr>
          <p:sp>
            <p:nvSpPr>
              <p:cNvPr id="264" name=""/>
              <p:cNvSpPr/>
              <p:nvPr/>
            </p:nvSpPr>
            <p:spPr>
              <a:xfrm>
                <a:off x="5517720" y="2573280"/>
                <a:ext cx="335376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Notice that the unit step is not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hown explicitly. H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5" name=""/>
                  <p:cNvSpPr txBox="1"/>
                  <p:nvPr/>
                </p:nvSpPr>
                <p:spPr>
                  <a:xfrm>
                    <a:off x="6324480" y="3200400"/>
                    <a:ext cx="147348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nd </m:t>
                            </m:r>
                            <m:r>
                              <m:t xml:space="preserve">3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e equivalent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66" name=""/>
            <p:cNvSpPr/>
            <p:nvPr/>
          </p:nvSpPr>
          <p:spPr>
            <a:xfrm>
              <a:off x="4778280" y="519120"/>
              <a:ext cx="1317600" cy="2216160"/>
            </a:xfrm>
            <a:custGeom>
              <a:avLst/>
              <a:gdLst/>
              <a:ahLst/>
              <a:rect l="l" t="t" r="r" b="b"/>
              <a:pathLst>
                <a:path w="830" h="1396">
                  <a:moveTo>
                    <a:pt x="637" y="47"/>
                  </a:moveTo>
                  <a:cubicBezTo>
                    <a:pt x="674" y="21"/>
                    <a:pt x="651" y="14"/>
                    <a:pt x="691" y="0"/>
                  </a:cubicBezTo>
                  <a:cubicBezTo>
                    <a:pt x="709" y="3"/>
                    <a:pt x="728" y="2"/>
                    <a:pt x="746" y="8"/>
                  </a:cubicBezTo>
                  <a:cubicBezTo>
                    <a:pt x="768" y="15"/>
                    <a:pt x="808" y="39"/>
                    <a:pt x="808" y="39"/>
                  </a:cubicBezTo>
                  <a:cubicBezTo>
                    <a:pt x="830" y="122"/>
                    <a:pt x="797" y="206"/>
                    <a:pt x="738" y="265"/>
                  </a:cubicBezTo>
                  <a:cubicBezTo>
                    <a:pt x="698" y="254"/>
                    <a:pt x="663" y="222"/>
                    <a:pt x="621" y="219"/>
                  </a:cubicBezTo>
                  <a:cubicBezTo>
                    <a:pt x="541" y="213"/>
                    <a:pt x="460" y="224"/>
                    <a:pt x="380" y="226"/>
                  </a:cubicBezTo>
                  <a:cubicBezTo>
                    <a:pt x="257" y="242"/>
                    <a:pt x="330" y="232"/>
                    <a:pt x="130" y="265"/>
                  </a:cubicBezTo>
                  <a:cubicBezTo>
                    <a:pt x="115" y="268"/>
                    <a:pt x="84" y="273"/>
                    <a:pt x="84" y="273"/>
                  </a:cubicBezTo>
                  <a:cubicBezTo>
                    <a:pt x="59" y="467"/>
                    <a:pt x="95" y="224"/>
                    <a:pt x="60" y="382"/>
                  </a:cubicBezTo>
                  <a:cubicBezTo>
                    <a:pt x="37" y="489"/>
                    <a:pt x="40" y="601"/>
                    <a:pt x="21" y="709"/>
                  </a:cubicBezTo>
                  <a:cubicBezTo>
                    <a:pt x="17" y="799"/>
                    <a:pt x="0" y="1152"/>
                    <a:pt x="6" y="1177"/>
                  </a:cubicBezTo>
                  <a:cubicBezTo>
                    <a:pt x="23" y="1248"/>
                    <a:pt x="63" y="1329"/>
                    <a:pt x="130" y="1356"/>
                  </a:cubicBezTo>
                  <a:cubicBezTo>
                    <a:pt x="232" y="1396"/>
                    <a:pt x="349" y="1356"/>
                    <a:pt x="458" y="135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4T18:22:19Z</dcterms:created>
  <dc:creator>Jorge Aravena</dc:creator>
  <dc:description/>
  <dc:language>en-US</dc:language>
  <cp:lastModifiedBy>student</cp:lastModifiedBy>
  <dcterms:modified xsi:type="dcterms:W3CDTF">2001-10-19T21:01:25Z</dcterms:modified>
  <cp:revision>27</cp:revision>
  <dc:subject/>
  <dc:title>No Slide Title</dc:title>
</cp:coreProperties>
</file>