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35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2.wmf" ContentType="image/x-wmf"/>
  <Override PartName="/ppt/media/image49.png" ContentType="image/png"/>
  <Override PartName="/ppt/media/image51.png" ContentType="image/png"/>
  <Override PartName="/ppt/media/image38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30.png" ContentType="image/png"/>
  <Override PartName="/ppt/media/image42.wmf" ContentType="image/x-wmf"/>
  <Override PartName="/ppt/media/image9.png" ContentType="image/png"/>
  <Override PartName="/ppt/media/image12.jpeg" ContentType="image/jpeg"/>
  <Override PartName="/ppt/media/image34.png" ContentType="image/png"/>
  <Override PartName="/ppt/media/image53.wmf" ContentType="image/x-wmf"/>
  <Override PartName="/ppt/media/image13.png" ContentType="image/png"/>
  <Override PartName="/ppt/media/image54.jpeg" ContentType="image/jpe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06A-57ED-4125-AF61-2CC8DF00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CD4-F03A-4BAD-8DF7-8D34BE8D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0C3-96BE-40B5-8650-479EB86A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25F-97D7-427C-8100-6844A2C1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A89-727A-4234-8FD1-3F01C862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9B3-AA82-4ADA-BD71-3EA9547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00D-F3F6-4F5C-A2E7-0E27EC80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89B-ACAF-4CFC-9649-8DC83DFB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500-E4BE-4607-A736-C3B61B04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9A2-0DF3-4175-B862-7CB486C4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B23-1FD6-46F0-A8F0-7B9DB96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DED-6738-48C4-B7FD-DD9A204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7AC6-0663-4F75-AD51-4DE4B2363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0680" y="117360"/>
            <a:ext cx="731304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 OF 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0680" y="852480"/>
            <a:ext cx="33354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STEP-BY-STE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3640" y="1565280"/>
            <a:ext cx="7587360" cy="1940040"/>
            <a:chOff x="773640" y="1565280"/>
            <a:chExt cx="7587360" cy="1940040"/>
          </a:xfrm>
        </p:grpSpPr>
        <p:sp>
          <p:nvSpPr>
            <p:cNvPr id="44" name=""/>
            <p:cNvSpPr/>
            <p:nvPr/>
          </p:nvSpPr>
          <p:spPr>
            <a:xfrm>
              <a:off x="773640" y="1565280"/>
              <a:ext cx="75873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IS APPROACH RELIES ON THE KNOWN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BUT FINDS THE CONSTANTS        USING BASIC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ALYSIS TOOLS AND FORGOES THE DETERMINATION OF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14800" y="1905120"/>
                  <a:ext cx="838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200400" y="2843280"/>
                  <a:ext cx="2819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5120" y="3543480"/>
                <a:ext cx="563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the steady state value of the variable and c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be determined analyzing the circuit in steady sta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55880" y="4267080"/>
                <a:ext cx="5283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the initial condition and provides the seco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equation to compute the constants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28880" y="5029200"/>
                <a:ext cx="5310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 is the time constant and can be determin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using Thevenin across the energy storing el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76320" y="380880"/>
          <a:ext cx="518184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80880"/>
                    <a:ext cx="51818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43828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320" y="3581280"/>
                <a:ext cx="3149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320" y="411480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CAPACITOR VOLTAG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"/>
          <p:cNvGraphicFramePr/>
          <p:nvPr/>
        </p:nvGraphicFramePr>
        <p:xfrm>
          <a:off x="0" y="4419720"/>
          <a:ext cx="3962520" cy="24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19720"/>
                    <a:ext cx="3962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90720" y="51055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502920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2055960" y="4414680"/>
            <a:ext cx="355320" cy="462240"/>
            <a:chOff x="2055960" y="4414680"/>
            <a:chExt cx="355320" cy="462240"/>
          </a:xfrm>
        </p:grpSpPr>
        <p:sp>
          <p:nvSpPr>
            <p:cNvPr id="252" name=""/>
            <p:cNvSpPr/>
            <p:nvPr/>
          </p:nvSpPr>
          <p:spPr>
            <a:xfrm>
              <a:off x="2055960" y="4414680"/>
              <a:ext cx="155520" cy="1558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209680" y="4586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480" y="4724280"/>
                <a:ext cx="63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301920" y="5638680"/>
                <a:ext cx="149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8160" y="4419720"/>
            <a:ext cx="495360" cy="380880"/>
            <a:chOff x="38160" y="4419720"/>
            <a:chExt cx="495360" cy="380880"/>
          </a:xfrm>
        </p:grpSpPr>
        <p:sp>
          <p:nvSpPr>
            <p:cNvPr id="257" name=""/>
            <p:cNvSpPr/>
            <p:nvPr/>
          </p:nvSpPr>
          <p:spPr>
            <a:xfrm>
              <a:off x="380880" y="441972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8160" y="457200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1442520" y="4572000"/>
            <a:ext cx="1377000" cy="914400"/>
            <a:chOff x="1442520" y="4572000"/>
            <a:chExt cx="1377000" cy="914400"/>
          </a:xfrm>
        </p:grpSpPr>
        <p:sp>
          <p:nvSpPr>
            <p:cNvPr id="260" name=""/>
            <p:cNvSpPr/>
            <p:nvPr/>
          </p:nvSpPr>
          <p:spPr>
            <a:xfrm flipH="1">
              <a:off x="1442520" y="4799160"/>
              <a:ext cx="5302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1080" y="4876920"/>
              <a:ext cx="0" cy="6094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4572000"/>
              <a:ext cx="304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410080" y="152280"/>
                <a:ext cx="320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 @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019920" y="304920"/>
            <a:ext cx="3047760" cy="747720"/>
            <a:chOff x="6019920" y="304920"/>
            <a:chExt cx="3047760" cy="74772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8686800" y="304920"/>
                  <a:ext cx="380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019920" y="762120"/>
                  <a:ext cx="220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73800" y="1081080"/>
                <a:ext cx="344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486400" y="16002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5029200" y="2035080"/>
            <a:ext cx="4038480" cy="2459160"/>
            <a:chOff x="5029200" y="2035080"/>
            <a:chExt cx="4038480" cy="2459160"/>
          </a:xfrm>
        </p:grpSpPr>
        <p:graphicFrame>
          <p:nvGraphicFramePr>
            <p:cNvPr id="270" name=""/>
            <p:cNvGraphicFramePr/>
            <p:nvPr/>
          </p:nvGraphicFramePr>
          <p:xfrm>
            <a:off x="5029200" y="2035080"/>
            <a:ext cx="3962520" cy="245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2035080"/>
                      <a:ext cx="3962520" cy="24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304040" y="2438280"/>
                  <a:ext cx="633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8381880" y="2590920"/>
                  <a:ext cx="68580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74" name=""/>
            <p:cNvGrpSpPr/>
            <p:nvPr/>
          </p:nvGrpSpPr>
          <p:grpSpPr>
            <a:xfrm>
              <a:off x="6081840" y="2652840"/>
              <a:ext cx="890640" cy="1004760"/>
              <a:chOff x="6081840" y="2652840"/>
              <a:chExt cx="890640" cy="1004760"/>
            </a:xfrm>
          </p:grpSpPr>
          <p:graphicFrame>
            <p:nvGraphicFramePr>
              <p:cNvPr id="275" name=""/>
              <p:cNvGraphicFramePr/>
              <p:nvPr/>
            </p:nvGraphicFramePr>
            <p:xfrm>
              <a:off x="6081840" y="2652840"/>
              <a:ext cx="547560" cy="1004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81840" y="2652840"/>
                        <a:ext cx="54756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553080" y="2743200"/>
                    <a:ext cx="41940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V</m:t>
                            </m:r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562720" y="4648320"/>
                <a:ext cx="2387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280" y="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33520" y="22860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5181480" y="4191120"/>
          <a:ext cx="3505320" cy="21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191120"/>
                    <a:ext cx="3505320" cy="2176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2280" y="609480"/>
          <a:ext cx="39625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09480"/>
                    <a:ext cx="39625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1066680"/>
                <a:ext cx="609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90720" y="309888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04920" y="373392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38080" y="40384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0" y="4397400"/>
            <a:ext cx="3962520" cy="2460600"/>
            <a:chOff x="0" y="4397400"/>
            <a:chExt cx="3962520" cy="2460600"/>
          </a:xfrm>
        </p:grpSpPr>
        <p:graphicFrame>
          <p:nvGraphicFramePr>
            <p:cNvPr id="293" name=""/>
            <p:cNvGraphicFramePr/>
            <p:nvPr/>
          </p:nvGraphicFramePr>
          <p:xfrm>
            <a:off x="0" y="4397400"/>
            <a:ext cx="3962520" cy="246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397400"/>
                      <a:ext cx="396252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457200" y="5181480"/>
              <a:ext cx="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85800" y="5638680"/>
            <a:ext cx="600120" cy="755640"/>
            <a:chOff x="685800" y="5638680"/>
            <a:chExt cx="600120" cy="755640"/>
          </a:xfrm>
        </p:grpSpPr>
        <p:sp>
          <p:nvSpPr>
            <p:cNvPr id="297" name=""/>
            <p:cNvSpPr/>
            <p:nvPr/>
          </p:nvSpPr>
          <p:spPr>
            <a:xfrm>
              <a:off x="939960" y="5638680"/>
              <a:ext cx="345960" cy="495000"/>
            </a:xfrm>
            <a:custGeom>
              <a:avLst/>
              <a:gdLst/>
              <a:ahLst/>
              <a:rect l="l" t="t" r="r" b="b"/>
              <a:pathLst>
                <a:path w="218" h="312">
                  <a:moveTo>
                    <a:pt x="0" y="312"/>
                  </a:moveTo>
                  <a:cubicBezTo>
                    <a:pt x="3" y="208"/>
                    <a:pt x="8" y="0"/>
                    <a:pt x="8" y="0"/>
                  </a:cubicBezTo>
                  <a:cubicBezTo>
                    <a:pt x="78" y="0"/>
                    <a:pt x="148" y="0"/>
                    <a:pt x="218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85800" y="6103800"/>
                  <a:ext cx="419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00400" y="579132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200400" y="4724280"/>
                <a:ext cx="165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181480" y="22860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584280"/>
                <a:ext cx="187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876920" y="1193760"/>
                <a:ext cx="3555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52880" y="2209680"/>
                <a:ext cx="336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540040" y="377496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3886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048120" y="60948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52280" y="3581280"/>
                <a:ext cx="3213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52280" y="411480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INITIAL INDUCTOR CURREN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0" y="4387680"/>
            <a:ext cx="2666880" cy="2470320"/>
            <a:chOff x="0" y="4387680"/>
            <a:chExt cx="2666880" cy="2470320"/>
          </a:xfrm>
        </p:grpSpPr>
        <p:graphicFrame>
          <p:nvGraphicFramePr>
            <p:cNvPr id="315" name=""/>
            <p:cNvGraphicFramePr/>
            <p:nvPr/>
          </p:nvGraphicFramePr>
          <p:xfrm>
            <a:off x="0" y="4387680"/>
            <a:ext cx="2666880" cy="247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7680"/>
                      <a:ext cx="2666880" cy="24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1295280" y="4489560"/>
              <a:ext cx="76212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447920" y="4586400"/>
            <a:ext cx="633240" cy="366120"/>
            <a:chOff x="1447920" y="4586400"/>
            <a:chExt cx="633240" cy="366120"/>
          </a:xfrm>
        </p:grpSpPr>
        <p:sp>
          <p:nvSpPr>
            <p:cNvPr id="319" name=""/>
            <p:cNvSpPr/>
            <p:nvPr/>
          </p:nvSpPr>
          <p:spPr>
            <a:xfrm>
              <a:off x="1523880" y="4586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1447920" y="4662360"/>
                  <a:ext cx="6332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958680" y="4419720"/>
            <a:ext cx="412920" cy="442800"/>
            <a:chOff x="958680" y="4419720"/>
            <a:chExt cx="412920" cy="442800"/>
          </a:xfrm>
        </p:grpSpPr>
        <p:sp>
          <p:nvSpPr>
            <p:cNvPr id="322" name=""/>
            <p:cNvSpPr/>
            <p:nvPr/>
          </p:nvSpPr>
          <p:spPr>
            <a:xfrm>
              <a:off x="1143000" y="44197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958680" y="457200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4" name=""/>
          <p:cNvGrpSpPr/>
          <p:nvPr/>
        </p:nvGrpSpPr>
        <p:grpSpPr>
          <a:xfrm>
            <a:off x="609480" y="5029200"/>
            <a:ext cx="1143000" cy="609480"/>
            <a:chOff x="609480" y="5029200"/>
            <a:chExt cx="1143000" cy="609480"/>
          </a:xfrm>
        </p:grpSpPr>
        <p:sp>
          <p:nvSpPr>
            <p:cNvPr id="325" name=""/>
            <p:cNvSpPr/>
            <p:nvPr/>
          </p:nvSpPr>
          <p:spPr>
            <a:xfrm flipH="1">
              <a:off x="609480" y="50292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510552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33720" y="4724280"/>
                <a:ext cx="260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381400" y="5410080"/>
                <a:ext cx="2146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76320"/>
                <a:ext cx="279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1" name=""/>
          <p:cNvGraphicFramePr/>
          <p:nvPr/>
        </p:nvGraphicFramePr>
        <p:xfrm>
          <a:off x="4800600" y="457200"/>
          <a:ext cx="3886200" cy="36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5720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705720" y="376200"/>
          <a:ext cx="100476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376200"/>
                    <a:ext cx="1004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702400" y="4191120"/>
                <a:ext cx="229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8153280" y="20574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7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7200" y="76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"/>
          <p:cNvGrpSpPr/>
          <p:nvPr/>
        </p:nvGrpSpPr>
        <p:grpSpPr>
          <a:xfrm>
            <a:off x="5334120" y="3429000"/>
            <a:ext cx="3047760" cy="3159000"/>
            <a:chOff x="5334120" y="3429000"/>
            <a:chExt cx="3047760" cy="3159000"/>
          </a:xfrm>
        </p:grpSpPr>
        <p:graphicFrame>
          <p:nvGraphicFramePr>
            <p:cNvPr id="342" name=""/>
            <p:cNvGraphicFramePr/>
            <p:nvPr/>
          </p:nvGraphicFramePr>
          <p:xfrm>
            <a:off x="5334120" y="3763800"/>
            <a:ext cx="3047760" cy="28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3763800"/>
                      <a:ext cx="3047760" cy="2824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5692680" y="34290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0" y="380880"/>
            <a:ext cx="3581280" cy="3318120"/>
            <a:chOff x="0" y="380880"/>
            <a:chExt cx="3581280" cy="3318120"/>
          </a:xfrm>
        </p:grpSpPr>
        <p:grpSp>
          <p:nvGrpSpPr>
            <p:cNvPr id="346" name=""/>
            <p:cNvGrpSpPr/>
            <p:nvPr/>
          </p:nvGrpSpPr>
          <p:grpSpPr>
            <a:xfrm>
              <a:off x="0" y="380880"/>
              <a:ext cx="3581280" cy="3318120"/>
              <a:chOff x="0" y="380880"/>
              <a:chExt cx="3581280" cy="331812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0" y="380880"/>
              <a:ext cx="3581280" cy="3318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80880"/>
                        <a:ext cx="3581280" cy="331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1752480" y="533520"/>
                <a:ext cx="990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2971800" y="17524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819520" y="3036960"/>
                <a:ext cx="2311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52280" y="3657600"/>
                <a:ext cx="39499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895480" y="4000680"/>
                <a:ext cx="1676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54" name=""/>
          <p:cNvGraphicFramePr/>
          <p:nvPr/>
        </p:nvGraphicFramePr>
        <p:xfrm>
          <a:off x="0" y="4114800"/>
          <a:ext cx="2895480" cy="26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14800"/>
                    <a:ext cx="289548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469800" y="4038480"/>
            <a:ext cx="1473480" cy="1913040"/>
            <a:chOff x="469800" y="4038480"/>
            <a:chExt cx="1473480" cy="1913040"/>
          </a:xfrm>
        </p:grpSpPr>
        <p:sp>
          <p:nvSpPr>
            <p:cNvPr id="357" name=""/>
            <p:cNvSpPr/>
            <p:nvPr/>
          </p:nvSpPr>
          <p:spPr>
            <a:xfrm>
              <a:off x="469800" y="5097600"/>
              <a:ext cx="392040" cy="853920"/>
            </a:xfrm>
            <a:custGeom>
              <a:avLst/>
              <a:gdLst/>
              <a:ahLst/>
              <a:rect l="l" t="t" r="r" b="b"/>
              <a:pathLst>
                <a:path w="247" h="538">
                  <a:moveTo>
                    <a:pt x="16" y="0"/>
                  </a:moveTo>
                  <a:cubicBezTo>
                    <a:pt x="26" y="1"/>
                    <a:pt x="172" y="9"/>
                    <a:pt x="172" y="39"/>
                  </a:cubicBezTo>
                  <a:cubicBezTo>
                    <a:pt x="247" y="114"/>
                    <a:pt x="226" y="338"/>
                    <a:pt x="226" y="405"/>
                  </a:cubicBezTo>
                  <a:cubicBezTo>
                    <a:pt x="205" y="410"/>
                    <a:pt x="182" y="409"/>
                    <a:pt x="164" y="421"/>
                  </a:cubicBezTo>
                  <a:cubicBezTo>
                    <a:pt x="132" y="442"/>
                    <a:pt x="120" y="487"/>
                    <a:pt x="86" y="506"/>
                  </a:cubicBezTo>
                  <a:cubicBezTo>
                    <a:pt x="60" y="520"/>
                    <a:pt x="27" y="524"/>
                    <a:pt x="0" y="53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4038480"/>
              <a:ext cx="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1523880" y="4572000"/>
                  <a:ext cx="41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124080" y="50292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548640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40240" y="7632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486400" y="457200"/>
                <a:ext cx="276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86400" y="762120"/>
                <a:ext cx="285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19920" y="13716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410080" y="2209680"/>
                <a:ext cx="2959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393840"/>
          <a:ext cx="541008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3840"/>
                    <a:ext cx="541008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62320" y="0"/>
                <a:ext cx="168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800600" y="12600"/>
                <a:ext cx="32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28600" y="365760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0" y="3962520"/>
          <a:ext cx="43434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43434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6640" y="60958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09880" y="5715000"/>
                <a:ext cx="457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4495680"/>
                <a:ext cx="544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52280" y="3962520"/>
                <a:ext cx="208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57800" y="268128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2" name=""/>
          <p:cNvGraphicFramePr/>
          <p:nvPr/>
        </p:nvGraphicFramePr>
        <p:xfrm>
          <a:off x="4800600" y="3005280"/>
          <a:ext cx="4111560" cy="30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05280"/>
                    <a:ext cx="41115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2485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4920" y="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4952880" y="4267080"/>
          <a:ext cx="3962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800680" y="387360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39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 rot="10800000">
                <a:off x="3886200" y="762120"/>
                <a:ext cx="609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2286000" y="304920"/>
            <a:ext cx="533520" cy="457200"/>
            <a:chOff x="2286000" y="304920"/>
            <a:chExt cx="533520" cy="457200"/>
          </a:xfrm>
        </p:grpSpPr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2438280" y="30492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>
              <a:off x="2286000" y="609480"/>
              <a:ext cx="533520" cy="152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52280" y="279396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981080" y="914400"/>
            <a:ext cx="1067040" cy="457200"/>
            <a:chOff x="1981080" y="914400"/>
            <a:chExt cx="1067040" cy="457200"/>
          </a:xfrm>
        </p:grpSpPr>
        <p:sp>
          <p:nvSpPr>
            <p:cNvPr id="404" name=""/>
            <p:cNvSpPr/>
            <p:nvPr/>
          </p:nvSpPr>
          <p:spPr>
            <a:xfrm flipH="1">
              <a:off x="1981080" y="914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9907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9144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5120" y="1905120"/>
                <a:ext cx="73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501480" y="2971800"/>
            <a:ext cx="2940120" cy="798480"/>
            <a:chOff x="501480" y="2971800"/>
            <a:chExt cx="2940120" cy="798480"/>
          </a:xfrm>
        </p:grpSpPr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2971800" y="29718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01480" y="3429000"/>
                  <a:ext cx="17402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×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62320" y="3429000"/>
                <a:ext cx="2146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2782800" y="2057400"/>
            <a:ext cx="1560240" cy="380880"/>
            <a:chOff x="2782800" y="2057400"/>
            <a:chExt cx="1560240" cy="38088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78280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4001760" y="20970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886200" y="2590920"/>
                <a:ext cx="457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00400" y="22860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"/>
          <p:cNvGrpSpPr/>
          <p:nvPr/>
        </p:nvGrpSpPr>
        <p:grpSpPr>
          <a:xfrm>
            <a:off x="3124080" y="762120"/>
            <a:ext cx="725400" cy="1805040"/>
            <a:chOff x="3124080" y="762120"/>
            <a:chExt cx="725400" cy="1805040"/>
          </a:xfrm>
        </p:grpSpPr>
        <p:sp>
          <p:nvSpPr>
            <p:cNvPr id="418" name=""/>
            <p:cNvSpPr/>
            <p:nvPr/>
          </p:nvSpPr>
          <p:spPr>
            <a:xfrm>
              <a:off x="3124080" y="762120"/>
              <a:ext cx="555480" cy="1805040"/>
            </a:xfrm>
            <a:custGeom>
              <a:avLst/>
              <a:gdLst/>
              <a:ahLst/>
              <a:rect l="l" t="t" r="r" b="b"/>
              <a:pathLst>
                <a:path w="350" h="1137">
                  <a:moveTo>
                    <a:pt x="350" y="15"/>
                  </a:moveTo>
                  <a:cubicBezTo>
                    <a:pt x="242" y="1"/>
                    <a:pt x="252" y="0"/>
                    <a:pt x="109" y="7"/>
                  </a:cubicBezTo>
                  <a:cubicBezTo>
                    <a:pt x="93" y="12"/>
                    <a:pt x="62" y="23"/>
                    <a:pt x="62" y="23"/>
                  </a:cubicBezTo>
                  <a:cubicBezTo>
                    <a:pt x="59" y="72"/>
                    <a:pt x="56" y="122"/>
                    <a:pt x="54" y="171"/>
                  </a:cubicBezTo>
                  <a:cubicBezTo>
                    <a:pt x="50" y="267"/>
                    <a:pt x="50" y="363"/>
                    <a:pt x="46" y="459"/>
                  </a:cubicBezTo>
                  <a:cubicBezTo>
                    <a:pt x="36" y="677"/>
                    <a:pt x="0" y="895"/>
                    <a:pt x="0" y="1114"/>
                  </a:cubicBezTo>
                  <a:cubicBezTo>
                    <a:pt x="114" y="1125"/>
                    <a:pt x="164" y="1137"/>
                    <a:pt x="288" y="1137"/>
                  </a:cubicBezTo>
                  <a:cubicBezTo>
                    <a:pt x="294" y="934"/>
                    <a:pt x="319" y="716"/>
                    <a:pt x="319" y="51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7280" y="1204920"/>
              <a:ext cx="592200" cy="368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58760" y="380988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52280" y="4172040"/>
                <a:ext cx="1613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09680" y="4191120"/>
                <a:ext cx="1955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pendent sources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4876920" y="41400"/>
            <a:ext cx="3574800" cy="3195360"/>
            <a:chOff x="4876920" y="41400"/>
            <a:chExt cx="3574800" cy="3195360"/>
          </a:xfrm>
        </p:grpSpPr>
        <p:graphicFrame>
          <p:nvGraphicFramePr>
            <p:cNvPr id="424" name=""/>
            <p:cNvGraphicFramePr/>
            <p:nvPr/>
          </p:nvGraphicFramePr>
          <p:xfrm>
            <a:off x="4876920" y="457200"/>
            <a:ext cx="3574800" cy="277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6920" y="457200"/>
                      <a:ext cx="3574800" cy="27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5294520" y="414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PEN CIRCUI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1600200"/>
            <a:ext cx="762120" cy="1103400"/>
            <a:chOff x="5867280" y="1600200"/>
            <a:chExt cx="762120" cy="110340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5867280" y="2362320"/>
                  <a:ext cx="749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6A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6629400" y="16002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162920" y="2209680"/>
                <a:ext cx="419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6553080" y="905040"/>
            <a:ext cx="2006640" cy="2585880"/>
            <a:chOff x="6553080" y="905040"/>
            <a:chExt cx="2006640" cy="2585880"/>
          </a:xfrm>
        </p:grpSpPr>
        <p:grpSp>
          <p:nvGrpSpPr>
            <p:cNvPr id="432" name=""/>
            <p:cNvGrpSpPr/>
            <p:nvPr/>
          </p:nvGrpSpPr>
          <p:grpSpPr>
            <a:xfrm>
              <a:off x="7093080" y="905040"/>
              <a:ext cx="668160" cy="931680"/>
              <a:chOff x="7093080" y="905040"/>
              <a:chExt cx="668160" cy="93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093080" y="905040"/>
                <a:ext cx="603000" cy="931680"/>
              </a:xfrm>
              <a:custGeom>
                <a:avLst/>
                <a:gdLst/>
                <a:ahLst/>
                <a:rect l="l" t="t" r="r" b="b"/>
                <a:pathLst>
                  <a:path w="378" h="589">
                    <a:moveTo>
                      <a:pt x="371" y="0"/>
                    </a:moveTo>
                    <a:cubicBezTo>
                      <a:pt x="272" y="0"/>
                      <a:pt x="173" y="0"/>
                      <a:pt x="74" y="0"/>
                    </a:cubicBezTo>
                    <a:cubicBezTo>
                      <a:pt x="25" y="162"/>
                      <a:pt x="0" y="584"/>
                      <a:pt x="74" y="584"/>
                    </a:cubicBezTo>
                    <a:cubicBezTo>
                      <a:pt x="140" y="565"/>
                      <a:pt x="133" y="570"/>
                      <a:pt x="230" y="577"/>
                    </a:cubicBezTo>
                    <a:cubicBezTo>
                      <a:pt x="310" y="589"/>
                      <a:pt x="261" y="584"/>
                      <a:pt x="378" y="584"/>
                    </a:cubicBezTo>
                    <a:cubicBezTo>
                      <a:pt x="371" y="234"/>
                      <a:pt x="371" y="361"/>
                      <a:pt x="371" y="203"/>
                    </a:cubicBezTo>
                  </a:path>
                </a:pathLst>
              </a:custGeom>
              <a:noFill/>
              <a:ln w="2844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1386000"/>
                <a:ext cx="598320" cy="368280"/>
              </a:xfrm>
              <a:prstGeom prst="rect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KV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553080" y="320040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934320" y="38088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4829760" y="228600"/>
            <a:ext cx="4021200" cy="1465560"/>
            <a:chOff x="4829760" y="228600"/>
            <a:chExt cx="4021200" cy="1465560"/>
          </a:xfrm>
        </p:grpSpPr>
        <p:sp>
          <p:nvSpPr>
            <p:cNvPr id="441" name=""/>
            <p:cNvSpPr/>
            <p:nvPr/>
          </p:nvSpPr>
          <p:spPr>
            <a:xfrm>
              <a:off x="4829760" y="228600"/>
              <a:ext cx="4021200" cy="14655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THE INDUCTIVE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IRCUIT USE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MPUTE THE SHORT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IS THE SAME U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6248520" y="13716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44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2880" y="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952880" y="4282920"/>
          <a:ext cx="39625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8292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800680" y="388944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897280" y="762120"/>
            <a:ext cx="758880" cy="290520"/>
            <a:chOff x="2897280" y="762120"/>
            <a:chExt cx="758880" cy="290520"/>
          </a:xfrm>
        </p:grpSpPr>
        <p:sp>
          <p:nvSpPr>
            <p:cNvPr id="453" name=""/>
            <p:cNvSpPr/>
            <p:nvPr/>
          </p:nvSpPr>
          <p:spPr>
            <a:xfrm>
              <a:off x="2897280" y="763920"/>
              <a:ext cx="758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3124080" y="76212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"/>
          <p:cNvGrpSpPr/>
          <p:nvPr/>
        </p:nvGrpSpPr>
        <p:grpSpPr>
          <a:xfrm>
            <a:off x="754200" y="808200"/>
            <a:ext cx="2846160" cy="1752480"/>
            <a:chOff x="754200" y="808200"/>
            <a:chExt cx="2846160" cy="1752480"/>
          </a:xfrm>
        </p:grpSpPr>
        <p:sp>
          <p:nvSpPr>
            <p:cNvPr id="456" name=""/>
            <p:cNvSpPr/>
            <p:nvPr/>
          </p:nvSpPr>
          <p:spPr>
            <a:xfrm>
              <a:off x="754200" y="808200"/>
              <a:ext cx="2846160" cy="1752480"/>
            </a:xfrm>
            <a:custGeom>
              <a:avLst/>
              <a:gdLst/>
              <a:ahLst/>
              <a:rect l="l" t="t" r="r" b="b"/>
              <a:pathLst>
                <a:path w="1793" h="1104">
                  <a:moveTo>
                    <a:pt x="0" y="1018"/>
                  </a:moveTo>
                  <a:cubicBezTo>
                    <a:pt x="34" y="969"/>
                    <a:pt x="13" y="1007"/>
                    <a:pt x="24" y="902"/>
                  </a:cubicBezTo>
                  <a:cubicBezTo>
                    <a:pt x="33" y="813"/>
                    <a:pt x="40" y="725"/>
                    <a:pt x="55" y="637"/>
                  </a:cubicBezTo>
                  <a:cubicBezTo>
                    <a:pt x="65" y="507"/>
                    <a:pt x="73" y="377"/>
                    <a:pt x="86" y="247"/>
                  </a:cubicBezTo>
                  <a:cubicBezTo>
                    <a:pt x="94" y="24"/>
                    <a:pt x="94" y="102"/>
                    <a:pt x="94" y="13"/>
                  </a:cubicBezTo>
                  <a:cubicBezTo>
                    <a:pt x="728" y="4"/>
                    <a:pt x="667" y="0"/>
                    <a:pt x="1364" y="13"/>
                  </a:cubicBezTo>
                  <a:cubicBezTo>
                    <a:pt x="1507" y="16"/>
                    <a:pt x="1650" y="37"/>
                    <a:pt x="1793" y="37"/>
                  </a:cubicBezTo>
                  <a:cubicBezTo>
                    <a:pt x="1787" y="393"/>
                    <a:pt x="1769" y="749"/>
                    <a:pt x="1769" y="1104"/>
                  </a:cubicBezTo>
                  <a:cubicBezTo>
                    <a:pt x="1231" y="1104"/>
                    <a:pt x="694" y="1104"/>
                    <a:pt x="156" y="110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276720" y="220968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1089000" y="1187280"/>
            <a:ext cx="1422360" cy="1213200"/>
            <a:chOff x="1089000" y="1187280"/>
            <a:chExt cx="1422360" cy="1213200"/>
          </a:xfrm>
        </p:grpSpPr>
        <p:sp>
          <p:nvSpPr>
            <p:cNvPr id="459" name=""/>
            <p:cNvSpPr/>
            <p:nvPr/>
          </p:nvSpPr>
          <p:spPr>
            <a:xfrm>
              <a:off x="1089000" y="1187280"/>
              <a:ext cx="1422360" cy="1213200"/>
            </a:xfrm>
            <a:custGeom>
              <a:avLst/>
              <a:gdLst/>
              <a:ahLst/>
              <a:rect l="l" t="t" r="r" b="b"/>
              <a:pathLst>
                <a:path w="896" h="764">
                  <a:moveTo>
                    <a:pt x="0" y="764"/>
                  </a:moveTo>
                  <a:cubicBezTo>
                    <a:pt x="18" y="577"/>
                    <a:pt x="33" y="389"/>
                    <a:pt x="54" y="203"/>
                  </a:cubicBezTo>
                  <a:cubicBezTo>
                    <a:pt x="57" y="135"/>
                    <a:pt x="62" y="0"/>
                    <a:pt x="62" y="0"/>
                  </a:cubicBezTo>
                  <a:cubicBezTo>
                    <a:pt x="245" y="12"/>
                    <a:pt x="425" y="26"/>
                    <a:pt x="608" y="31"/>
                  </a:cubicBezTo>
                  <a:cubicBezTo>
                    <a:pt x="717" y="39"/>
                    <a:pt x="693" y="35"/>
                    <a:pt x="779" y="47"/>
                  </a:cubicBezTo>
                  <a:cubicBezTo>
                    <a:pt x="797" y="50"/>
                    <a:pt x="816" y="53"/>
                    <a:pt x="834" y="55"/>
                  </a:cubicBezTo>
                  <a:cubicBezTo>
                    <a:pt x="855" y="58"/>
                    <a:pt x="896" y="62"/>
                    <a:pt x="896" y="62"/>
                  </a:cubicBezTo>
                  <a:cubicBezTo>
                    <a:pt x="892" y="284"/>
                    <a:pt x="880" y="510"/>
                    <a:pt x="880" y="733"/>
                  </a:cubicBezTo>
                  <a:cubicBezTo>
                    <a:pt x="815" y="748"/>
                    <a:pt x="750" y="736"/>
                    <a:pt x="685" y="725"/>
                  </a:cubicBezTo>
                  <a:cubicBezTo>
                    <a:pt x="496" y="731"/>
                    <a:pt x="306" y="740"/>
                    <a:pt x="117" y="74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2209680" y="1981080"/>
                  <a:ext cx="163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2819520" y="2057400"/>
            <a:ext cx="1484280" cy="341280"/>
            <a:chOff x="2819520" y="2057400"/>
            <a:chExt cx="1484280" cy="341280"/>
          </a:xfrm>
        </p:grpSpPr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81952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962520" y="20574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8920" y="2895480"/>
                <a:ext cx="2273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438280" y="3124080"/>
                <a:ext cx="58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200400" y="2895480"/>
                <a:ext cx="113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8920" y="3809880"/>
                <a:ext cx="2654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[</m:t>
                              </m:r>
                              <m:r>
                                <m:t xml:space="preserve">V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[</m:t>
                              </m:r>
                              <m:r>
                                <m:t xml:space="preserve">A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857680" y="3886200"/>
                <a:ext cx="1638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2280" y="457200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3520" y="48769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525780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85800" y="57913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76320" y="182520"/>
          <a:ext cx="617220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52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96252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867280" y="76320"/>
                <a:ext cx="3238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76320" y="2057400"/>
                <a:ext cx="5435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CAPACITOR VOLTAGE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1" name=""/>
          <p:cNvGraphicFramePr/>
          <p:nvPr/>
        </p:nvGraphicFramePr>
        <p:xfrm>
          <a:off x="0" y="2620800"/>
          <a:ext cx="6172200" cy="17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2080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200400" y="382428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191120" y="2616120"/>
                <a:ext cx="838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3594240" y="3203640"/>
            <a:ext cx="1996920" cy="622080"/>
            <a:chOff x="3594240" y="3203640"/>
            <a:chExt cx="1996920" cy="622080"/>
          </a:xfrm>
        </p:grpSpPr>
        <p:sp>
          <p:nvSpPr>
            <p:cNvPr id="486" name=""/>
            <p:cNvSpPr/>
            <p:nvPr/>
          </p:nvSpPr>
          <p:spPr>
            <a:xfrm>
              <a:off x="3594240" y="3203640"/>
              <a:ext cx="1996920" cy="622080"/>
            </a:xfrm>
            <a:custGeom>
              <a:avLst/>
              <a:gdLst/>
              <a:ahLst/>
              <a:rect l="l" t="t" r="r" b="b"/>
              <a:pathLst>
                <a:path w="1258" h="392">
                  <a:moveTo>
                    <a:pt x="1235" y="0"/>
                  </a:moveTo>
                  <a:cubicBezTo>
                    <a:pt x="843" y="0"/>
                    <a:pt x="450" y="0"/>
                    <a:pt x="58" y="0"/>
                  </a:cubicBezTo>
                  <a:cubicBezTo>
                    <a:pt x="0" y="92"/>
                    <a:pt x="27" y="231"/>
                    <a:pt x="27" y="336"/>
                  </a:cubicBezTo>
                  <a:cubicBezTo>
                    <a:pt x="274" y="341"/>
                    <a:pt x="520" y="349"/>
                    <a:pt x="767" y="359"/>
                  </a:cubicBezTo>
                  <a:cubicBezTo>
                    <a:pt x="928" y="392"/>
                    <a:pt x="1094" y="390"/>
                    <a:pt x="1258" y="39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5360" y="3317760"/>
              <a:ext cx="592200" cy="3682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172200" y="312408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52880" y="3276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6320" y="43434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629400" y="350532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200400" y="434340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1520" y="4648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0" y="4952880"/>
            <a:ext cx="6172200" cy="1722600"/>
            <a:chOff x="0" y="4952880"/>
            <a:chExt cx="6172200" cy="1722600"/>
          </a:xfrm>
        </p:grpSpPr>
        <p:graphicFrame>
          <p:nvGraphicFramePr>
            <p:cNvPr id="495" name=""/>
            <p:cNvGraphicFramePr/>
            <p:nvPr/>
          </p:nvGraphicFramePr>
          <p:xfrm>
            <a:off x="0" y="49528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952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562720" y="57610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8" name=""/>
            <p:cNvSpPr/>
            <p:nvPr/>
          </p:nvSpPr>
          <p:spPr>
            <a:xfrm>
              <a:off x="1752480" y="5684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80920" y="5715000"/>
            <a:ext cx="762120" cy="304920"/>
            <a:chOff x="3580920" y="5715000"/>
            <a:chExt cx="762120" cy="304920"/>
          </a:xfrm>
        </p:grpSpPr>
        <p:sp>
          <p:nvSpPr>
            <p:cNvPr id="500" name=""/>
            <p:cNvSpPr/>
            <p:nvPr/>
          </p:nvSpPr>
          <p:spPr>
            <a:xfrm flipH="1">
              <a:off x="3580920" y="571500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733920" y="579132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352680" y="61722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934320" y="571500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4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60" y="6516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88920" y="7632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191120" y="7632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315200" y="7632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76320" y="380880"/>
            <a:ext cx="6172200" cy="1722600"/>
            <a:chOff x="76320" y="380880"/>
            <a:chExt cx="6172200" cy="1722600"/>
          </a:xfrm>
        </p:grpSpPr>
        <p:graphicFrame>
          <p:nvGraphicFramePr>
            <p:cNvPr id="512" name=""/>
            <p:cNvGraphicFramePr/>
            <p:nvPr/>
          </p:nvGraphicFramePr>
          <p:xfrm>
            <a:off x="76320" y="380880"/>
            <a:ext cx="6172200" cy="172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638680" y="118908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1828800" y="1112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00800" y="99072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105520" y="914400"/>
                <a:ext cx="3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4114800" y="4800600"/>
            <a:ext cx="5029200" cy="1770120"/>
            <a:chOff x="4114800" y="4800600"/>
            <a:chExt cx="5029200" cy="1770120"/>
          </a:xfrm>
        </p:grpSpPr>
        <p:graphicFrame>
          <p:nvGraphicFramePr>
            <p:cNvPr id="519" name=""/>
            <p:cNvGraphicFramePr/>
            <p:nvPr/>
          </p:nvGraphicFramePr>
          <p:xfrm>
            <a:off x="4114800" y="5167440"/>
            <a:ext cx="5029200" cy="140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5167440"/>
                      <a:ext cx="5029200" cy="14032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1" name=""/>
            <p:cNvSpPr/>
            <p:nvPr/>
          </p:nvSpPr>
          <p:spPr>
            <a:xfrm>
              <a:off x="5189040" y="4800600"/>
              <a:ext cx="2375280" cy="368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1640" y="380880"/>
            <a:ext cx="29239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PEN CIRCUI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280" y="209880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320" y="2438280"/>
            <a:ext cx="6172200" cy="1722600"/>
            <a:chOff x="76320" y="2438280"/>
            <a:chExt cx="6172200" cy="1722600"/>
          </a:xfrm>
        </p:grpSpPr>
        <p:graphicFrame>
          <p:nvGraphicFramePr>
            <p:cNvPr id="525" name=""/>
            <p:cNvGraphicFramePr/>
            <p:nvPr/>
          </p:nvGraphicFramePr>
          <p:xfrm>
            <a:off x="76320" y="24382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24382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7" name=""/>
            <p:cNvSpPr/>
            <p:nvPr/>
          </p:nvSpPr>
          <p:spPr>
            <a:xfrm>
              <a:off x="1828800" y="31701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289548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5398920" y="32004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1371600" y="2514600"/>
            <a:ext cx="2057400" cy="1828800"/>
            <a:chOff x="1371600" y="2514600"/>
            <a:chExt cx="2057400" cy="1828800"/>
          </a:xfrm>
        </p:grpSpPr>
        <p:sp>
          <p:nvSpPr>
            <p:cNvPr id="531" name=""/>
            <p:cNvSpPr/>
            <p:nvPr/>
          </p:nvSpPr>
          <p:spPr>
            <a:xfrm>
              <a:off x="1371600" y="2514600"/>
              <a:ext cx="2057400" cy="18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1447920" y="259092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"/>
          <p:cNvGrpSpPr/>
          <p:nvPr/>
        </p:nvGrpSpPr>
        <p:grpSpPr>
          <a:xfrm>
            <a:off x="3600360" y="3030480"/>
            <a:ext cx="1484280" cy="866880"/>
            <a:chOff x="3600360" y="3030480"/>
            <a:chExt cx="1484280" cy="866880"/>
          </a:xfrm>
        </p:grpSpPr>
        <p:sp>
          <p:nvSpPr>
            <p:cNvPr id="534" name=""/>
            <p:cNvSpPr/>
            <p:nvPr/>
          </p:nvSpPr>
          <p:spPr>
            <a:xfrm>
              <a:off x="3600360" y="3030480"/>
              <a:ext cx="1484280" cy="866880"/>
            </a:xfrm>
            <a:custGeom>
              <a:avLst/>
              <a:gdLst/>
              <a:ahLst/>
              <a:rect l="l" t="t" r="r" b="b"/>
              <a:pathLst>
                <a:path w="935" h="546">
                  <a:moveTo>
                    <a:pt x="935" y="0"/>
                  </a:moveTo>
                  <a:cubicBezTo>
                    <a:pt x="935" y="177"/>
                    <a:pt x="935" y="353"/>
                    <a:pt x="935" y="530"/>
                  </a:cubicBezTo>
                  <a:cubicBezTo>
                    <a:pt x="800" y="534"/>
                    <a:pt x="665" y="546"/>
                    <a:pt x="530" y="546"/>
                  </a:cubicBezTo>
                  <a:cubicBezTo>
                    <a:pt x="353" y="546"/>
                    <a:pt x="0" y="538"/>
                    <a:pt x="0" y="538"/>
                  </a:cubicBezTo>
                  <a:cubicBezTo>
                    <a:pt x="0" y="400"/>
                    <a:pt x="0" y="263"/>
                    <a:pt x="0" y="125"/>
                  </a:cubicBezTo>
                  <a:cubicBezTo>
                    <a:pt x="311" y="114"/>
                    <a:pt x="155" y="117"/>
                    <a:pt x="467" y="117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5360" y="3505320"/>
              <a:ext cx="59220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172200" y="283356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72200" y="31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013600" y="313848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172200" y="3505320"/>
                <a:ext cx="1434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010280" y="4114800"/>
                <a:ext cx="1689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76320" y="4357800"/>
                <a:ext cx="281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6320" y="472428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6320" y="510552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24080" y="510552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28600" y="5562720"/>
                <a:ext cx="2997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9840" y="41400"/>
            <a:ext cx="23752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1560" y="347040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: Form of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990720" y="4170240"/>
                <a:ext cx="198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512600" y="41400"/>
            <a:ext cx="456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Initial inductor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495680" y="685800"/>
          <a:ext cx="26971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2697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238880" y="1523880"/>
                <a:ext cx="137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4572000" y="3394080"/>
            <a:ext cx="42955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: Determine output at 0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inductor current is cons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132440" y="4056120"/>
          <a:ext cx="385092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056120"/>
                    <a:ext cx="3850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381800" y="4341960"/>
                <a:ext cx="1773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2280" y="457200"/>
            <a:ext cx="2846520" cy="2538360"/>
            <a:chOff x="152280" y="457200"/>
            <a:chExt cx="2846520" cy="2538360"/>
          </a:xfrm>
        </p:grpSpPr>
        <p:graphicFrame>
          <p:nvGraphicFramePr>
            <p:cNvPr id="564" name=""/>
            <p:cNvGraphicFramePr/>
            <p:nvPr/>
          </p:nvGraphicFramePr>
          <p:xfrm>
            <a:off x="152280" y="609480"/>
            <a:ext cx="2846520" cy="2386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609480"/>
                      <a:ext cx="2846520" cy="2386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47680" y="457200"/>
                  <a:ext cx="1689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14840" y="395280"/>
            <a:ext cx="7084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ing the time constant: A Genera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5104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3129480" y="1566720"/>
            <a:ext cx="1278000" cy="749160"/>
            <a:chOff x="3129480" y="1566720"/>
            <a:chExt cx="1278000" cy="749160"/>
          </a:xfrm>
        </p:grpSpPr>
        <p:sp>
          <p:nvSpPr>
            <p:cNvPr id="56" name=""/>
            <p:cNvSpPr/>
            <p:nvPr/>
          </p:nvSpPr>
          <p:spPr>
            <a:xfrm>
              <a:off x="3346200" y="156672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9480" y="1947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ven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962520" y="838080"/>
          <a:ext cx="289548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838080"/>
                    <a:ext cx="28954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66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66880" y="4089240"/>
                <a:ext cx="1219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66880" y="4800600"/>
                <a:ext cx="14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19400" y="54864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62760" y="50292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16120" y="14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2286000"/>
                <a:ext cx="29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pacitive  Circuit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ive Circuit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1920" y="11736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Find outpu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6320" y="781200"/>
          <a:ext cx="364176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81200"/>
                    <a:ext cx="3641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48120" y="2971800"/>
                <a:ext cx="12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5181480" y="152280"/>
          <a:ext cx="358164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52280"/>
                    <a:ext cx="35816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77400" y="3470400"/>
            <a:ext cx="45698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Find time constant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4191120"/>
          <a:ext cx="2697120" cy="25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91120"/>
                    <a:ext cx="2697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743200" y="4038480"/>
                <a:ext cx="838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971800" y="4903920"/>
                <a:ext cx="1143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895480" y="5486400"/>
                <a:ext cx="12193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4798440" y="3394080"/>
            <a:ext cx="36097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Find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324400" y="3962520"/>
                <a:ext cx="306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334120" y="441972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919760" y="4952880"/>
                <a:ext cx="240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876920" y="5562720"/>
                <a:ext cx="2768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871240" y="5791320"/>
            <a:ext cx="3269880" cy="1077840"/>
            <a:chOff x="5871240" y="5791320"/>
            <a:chExt cx="3269880" cy="1077840"/>
          </a:xfrm>
        </p:grpSpPr>
        <p:grpSp>
          <p:nvGrpSpPr>
            <p:cNvPr id="587" name=""/>
            <p:cNvGrpSpPr/>
            <p:nvPr/>
          </p:nvGrpSpPr>
          <p:grpSpPr>
            <a:xfrm>
              <a:off x="8106840" y="5791320"/>
              <a:ext cx="1034280" cy="1077840"/>
              <a:chOff x="8106840" y="5791320"/>
              <a:chExt cx="1034280" cy="1077840"/>
            </a:xfrm>
          </p:grpSpPr>
          <p:pic>
            <p:nvPicPr>
              <p:cNvPr id="588" name="stop" descr=""/>
              <p:cNvPicPr/>
              <p:nvPr/>
            </p:nvPicPr>
            <p:blipFill>
              <a:blip r:embed="rId7"/>
              <a:stretch/>
            </p:blipFill>
            <p:spPr>
              <a:xfrm>
                <a:off x="8424720" y="635472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8106840" y="5791320"/>
                <a:ext cx="1034280" cy="580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 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0" name="geaux" descr=""/>
            <p:cNvPicPr/>
            <p:nvPr/>
          </p:nvPicPr>
          <p:blipFill>
            <a:blip r:embed="rId8"/>
            <a:stretch/>
          </p:blipFill>
          <p:spPr>
            <a:xfrm>
              <a:off x="640080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871240" y="6161040"/>
              <a:ext cx="1887480" cy="33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1668600"/>
          <a:ext cx="906768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8600"/>
                    <a:ext cx="90676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3526200" y="76320"/>
            <a:ext cx="21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ULS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2880" y="668160"/>
            <a:ext cx="775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TUDY THE RESPONSE OF CIRCUITS TO A SPECIAL CLAS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066680" y="1219320"/>
                <a:ext cx="1486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413680" y="126360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LTAGE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3760" y="326556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1160" y="3352680"/>
            <a:ext cx="225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IME SHIFTED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228600" y="762120"/>
          <a:ext cx="290520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2905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0040" y="21744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1320" y="5627520"/>
            <a:ext cx="274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AS SUM OF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800600" y="914400"/>
          <a:ext cx="364644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3646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9" name=""/>
          <p:cNvGrpSpPr/>
          <p:nvPr/>
        </p:nvGrpSpPr>
        <p:grpSpPr>
          <a:xfrm>
            <a:off x="4725000" y="0"/>
            <a:ext cx="3415680" cy="798480"/>
            <a:chOff x="4725000" y="0"/>
            <a:chExt cx="3415680" cy="79848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81480" y="533520"/>
                  <a:ext cx="295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4725000" y="0"/>
              <a:ext cx="1887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EARN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029200" y="3352680"/>
                <a:ext cx="2984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4648320" y="3657600"/>
          <a:ext cx="4092480" cy="28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657600"/>
                    <a:ext cx="409248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560240" y="117360"/>
            <a:ext cx="60786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NZERO INITIAL TIME AND REPEATED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1371600"/>
                <a:ext cx="41911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124080" y="609480"/>
                <a:ext cx="3384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2514600" y="2286000"/>
            <a:ext cx="4175280" cy="1054080"/>
            <a:chOff x="2514600" y="2286000"/>
            <a:chExt cx="4175280" cy="105408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514600" y="2286000"/>
                  <a:ext cx="31240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2531520" y="2971800"/>
              <a:ext cx="4158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RESPONSE FOR CONSTANT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80" y="3341520"/>
            <a:ext cx="8227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expression will hold on ANY interval where the sources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stant. The values of the constants may be different and 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aluated for each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7920" y="4332240"/>
            <a:ext cx="7373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values at the end of one interval will serve as 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itions for the next 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3240" y="7632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209680" y="9036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 OUTPUT  VOLTAG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0" y="609480"/>
          <a:ext cx="4572000" cy="18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5720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6320" y="2362320"/>
          <a:ext cx="449568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362320"/>
                    <a:ext cx="449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590920" y="1752480"/>
                <a:ext cx="190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6320" y="441972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895480" y="441972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4480" y="5257800"/>
                <a:ext cx="354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0" y="4724280"/>
                <a:ext cx="1625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562720"/>
                <a:ext cx="2082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52480" y="4724280"/>
                <a:ext cx="1752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362320" y="563868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600200" y="6019920"/>
                <a:ext cx="17654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572000" y="533520"/>
                <a:ext cx="1625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724280" y="914400"/>
                <a:ext cx="218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248520" y="533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7086600" y="380880"/>
                <a:ext cx="2044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7315200" y="1143000"/>
                <a:ext cx="711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648320" y="1600200"/>
                <a:ext cx="182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29400" y="160020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v rSub { size 8{o} }  \( 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+ \) =2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\( V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981080"/>
                <a:ext cx="2387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2" name="geaux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376440" y="2486160"/>
            <a:ext cx="5538960" cy="4082760"/>
            <a:chOff x="3376440" y="2486160"/>
            <a:chExt cx="5538960" cy="4082760"/>
          </a:xfrm>
        </p:grpSpPr>
        <p:graphicFrame>
          <p:nvGraphicFramePr>
            <p:cNvPr id="656" name=""/>
            <p:cNvGraphicFramePr/>
            <p:nvPr/>
          </p:nvGraphicFramePr>
          <p:xfrm>
            <a:off x="4114800" y="2743200"/>
            <a:ext cx="4800600" cy="281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14800" y="2743200"/>
                      <a:ext cx="48006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8" name=""/>
            <p:cNvSpPr/>
            <p:nvPr/>
          </p:nvSpPr>
          <p:spPr>
            <a:xfrm>
              <a:off x="3376440" y="4611600"/>
              <a:ext cx="2028960" cy="1957320"/>
            </a:xfrm>
            <a:custGeom>
              <a:avLst/>
              <a:gdLst/>
              <a:ahLst/>
              <a:rect l="l" t="t" r="r" b="b"/>
              <a:pathLst>
                <a:path w="1278" h="1233">
                  <a:moveTo>
                    <a:pt x="0" y="1233"/>
                  </a:moveTo>
                  <a:cubicBezTo>
                    <a:pt x="219" y="1228"/>
                    <a:pt x="437" y="1226"/>
                    <a:pt x="655" y="1210"/>
                  </a:cubicBezTo>
                  <a:cubicBezTo>
                    <a:pt x="689" y="1186"/>
                    <a:pt x="692" y="1150"/>
                    <a:pt x="717" y="1116"/>
                  </a:cubicBezTo>
                  <a:cubicBezTo>
                    <a:pt x="737" y="1018"/>
                    <a:pt x="752" y="918"/>
                    <a:pt x="772" y="820"/>
                  </a:cubicBezTo>
                  <a:cubicBezTo>
                    <a:pt x="778" y="789"/>
                    <a:pt x="787" y="758"/>
                    <a:pt x="795" y="727"/>
                  </a:cubicBezTo>
                  <a:cubicBezTo>
                    <a:pt x="800" y="706"/>
                    <a:pt x="811" y="664"/>
                    <a:pt x="811" y="664"/>
                  </a:cubicBezTo>
                  <a:cubicBezTo>
                    <a:pt x="819" y="486"/>
                    <a:pt x="832" y="311"/>
                    <a:pt x="850" y="134"/>
                  </a:cubicBezTo>
                  <a:cubicBezTo>
                    <a:pt x="853" y="100"/>
                    <a:pt x="849" y="66"/>
                    <a:pt x="858" y="33"/>
                  </a:cubicBezTo>
                  <a:cubicBezTo>
                    <a:pt x="864" y="12"/>
                    <a:pt x="999" y="3"/>
                    <a:pt x="1021" y="2"/>
                  </a:cubicBezTo>
                  <a:cubicBezTo>
                    <a:pt x="1107" y="0"/>
                    <a:pt x="1192" y="2"/>
                    <a:pt x="1278" y="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02320" y="2486160"/>
              <a:ext cx="1155960" cy="2239920"/>
            </a:xfrm>
            <a:custGeom>
              <a:avLst/>
              <a:gdLst/>
              <a:ahLst/>
              <a:rect l="l" t="t" r="r" b="b"/>
              <a:pathLst>
                <a:path w="728" h="1411">
                  <a:moveTo>
                    <a:pt x="728" y="0"/>
                  </a:moveTo>
                  <a:cubicBezTo>
                    <a:pt x="603" y="3"/>
                    <a:pt x="479" y="2"/>
                    <a:pt x="354" y="8"/>
                  </a:cubicBezTo>
                  <a:cubicBezTo>
                    <a:pt x="0" y="25"/>
                    <a:pt x="313" y="24"/>
                    <a:pt x="205" y="24"/>
                  </a:cubicBezTo>
                  <a:cubicBezTo>
                    <a:pt x="222" y="387"/>
                    <a:pt x="338" y="739"/>
                    <a:pt x="385" y="1099"/>
                  </a:cubicBezTo>
                  <a:cubicBezTo>
                    <a:pt x="389" y="1169"/>
                    <a:pt x="379" y="1352"/>
                    <a:pt x="408" y="14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93240" y="85680"/>
            <a:ext cx="4569840" cy="2886120"/>
            <a:chOff x="93240" y="85680"/>
            <a:chExt cx="4569840" cy="2886120"/>
          </a:xfrm>
        </p:grpSpPr>
        <p:graphicFrame>
          <p:nvGraphicFramePr>
            <p:cNvPr id="661" name=""/>
            <p:cNvGraphicFramePr/>
            <p:nvPr/>
          </p:nvGraphicFramePr>
          <p:xfrm>
            <a:off x="225360" y="1239840"/>
            <a:ext cx="3143160" cy="17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225360" y="1239840"/>
                      <a:ext cx="3143160" cy="17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3" name=""/>
            <p:cNvSpPr/>
            <p:nvPr/>
          </p:nvSpPr>
          <p:spPr>
            <a:xfrm>
              <a:off x="93240" y="85680"/>
              <a:ext cx="4569840" cy="1191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WITCH IS INITI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T a. AT TIME t=0 IT MOVES TO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D AT t=0.5 IT MOVES BACK TO 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777960" y="95868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800600" y="457200"/>
                <a:ext cx="179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781680" y="53352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876920" y="1143000"/>
                <a:ext cx="139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486400" y="1600200"/>
                <a:ext cx="241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6477120" y="1219320"/>
                <a:ext cx="2400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11680" y="2971800"/>
                <a:ext cx="3505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722840" y="3584520"/>
                <a:ext cx="2184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4672080" y="4194000"/>
                <a:ext cx="26416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389720" y="415764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6551640" y="457524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985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= -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015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32320" y="4956120"/>
                <a:ext cx="3073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6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480" y="19080"/>
            <a:ext cx="1034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" y="1981080"/>
            <a:ext cx="3373560" cy="3209400"/>
            <a:chOff x="457200" y="1981080"/>
            <a:chExt cx="3373560" cy="3209400"/>
          </a:xfrm>
        </p:grpSpPr>
        <p:graphicFrame>
          <p:nvGraphicFramePr>
            <p:cNvPr id="681" name=""/>
            <p:cNvGraphicFramePr/>
            <p:nvPr/>
          </p:nvGraphicFramePr>
          <p:xfrm>
            <a:off x="457200" y="2882880"/>
            <a:ext cx="3373560" cy="2071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882880"/>
                      <a:ext cx="3373560" cy="20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523880" y="1981080"/>
                  <a:ext cx="4892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599040" y="4853160"/>
              <a:ext cx="322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iecewise consta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5257800"/>
                <a:ext cx="4940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EACH  INTERVAL  WHERE  THE   SOUR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 CONSTANT  THE OUTPUT  IS  OF THE  FOR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5200200" y="5641920"/>
            <a:ext cx="35946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s are deter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the usual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257800" y="152280"/>
            <a:ext cx="3287880" cy="290520"/>
            <a:chOff x="5257800" y="152280"/>
            <a:chExt cx="3287880" cy="290520"/>
          </a:xfrm>
        </p:grpSpPr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257800" y="15228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8001000" y="152280"/>
                  <a:ext cx="544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0" name=""/>
          <p:cNvGrpSpPr/>
          <p:nvPr/>
        </p:nvGrpSpPr>
        <p:grpSpPr>
          <a:xfrm>
            <a:off x="5459400" y="2438280"/>
            <a:ext cx="3227400" cy="290520"/>
            <a:chOff x="5459400" y="2438280"/>
            <a:chExt cx="3227400" cy="290520"/>
          </a:xfrm>
        </p:grpSpPr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5459400" y="2438280"/>
                  <a:ext cx="2400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7975440" y="24382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73680" y="371520"/>
            <a:ext cx="6261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pulse1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isplays the response to a 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=linspace(-0.5,0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egative tim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linspace(0,0.5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2=linspace(0.5, 1.5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min=12*ones(size(tm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1=12*exp(-t1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first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2=12-11.015*exp(-(t2-0.5)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second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,vomin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1,vo1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2,vo2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m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OUTPUT VOLTAG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DoubleSwitching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915400" cy="382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38200" y="-11160"/>
            <a:ext cx="481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MATLAB TO DISPLAY OUT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273160" y="5638320"/>
            <a:ext cx="866520" cy="1215000"/>
            <a:chOff x="8273160" y="5638320"/>
            <a:chExt cx="866520" cy="1215000"/>
          </a:xfrm>
        </p:grpSpPr>
        <p:pic>
          <p:nvPicPr>
            <p:cNvPr id="699" name="stop" descr=""/>
            <p:cNvPicPr/>
            <p:nvPr/>
          </p:nvPicPr>
          <p:blipFill>
            <a:blip r:embed="rId2"/>
            <a:stretch/>
          </p:blipFill>
          <p:spPr>
            <a:xfrm>
              <a:off x="85708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8273160" y="5638320"/>
              <a:ext cx="86652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040" y="76320"/>
            <a:ext cx="14151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498600"/>
            <a:ext cx="4586760" cy="1190520"/>
            <a:chOff x="76320" y="498600"/>
            <a:chExt cx="4586760" cy="11905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320" y="838080"/>
                  <a:ext cx="261612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τ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93240" y="498600"/>
              <a:ext cx="45698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. THE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560" y="2098800"/>
            <a:ext cx="4845240" cy="2760840"/>
            <a:chOff x="16560" y="2098800"/>
            <a:chExt cx="4845240" cy="2760840"/>
          </a:xfrm>
        </p:grpSpPr>
        <p:sp>
          <p:nvSpPr>
            <p:cNvPr id="95" name=""/>
            <p:cNvSpPr/>
            <p:nvPr/>
          </p:nvSpPr>
          <p:spPr>
            <a:xfrm>
              <a:off x="17640" y="2098800"/>
              <a:ext cx="48441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: DRAW THE CIRCUIT IN ST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ATE PRIOR TO THE SWITCH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CAPACITOR VOLTAGE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DUCTOR 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60" y="3394080"/>
              <a:ext cx="4432680" cy="1465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: DRAW THE CIRCUIT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APACITOR ACTS AS A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OURCE. THE INDUCTOR ACTS A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SOURC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THE VARIABLE AT t=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640" y="5362560"/>
            <a:ext cx="4844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DRAW THE CIRCUI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ETERMINE THE VARIABLE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1752480"/>
                <a:ext cx="1943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47920" y="4978440"/>
                <a:ext cx="1854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027400" y="193680"/>
            <a:ext cx="3746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DETERMINE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105520" y="914400"/>
                <a:ext cx="3644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circuit with one capacitor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circuit with on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324040" y="2174760"/>
            <a:ext cx="31982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DETERMIN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S K1, 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43600" y="312408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4114800"/>
          <a:ext cx="457200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45720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8280" y="152280"/>
                <a:ext cx="13050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8600" y="2362320"/>
                <a:ext cx="3352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5120" y="34434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4800600"/>
            <a:ext cx="1549440" cy="1549440"/>
            <a:chOff x="152280" y="4800600"/>
            <a:chExt cx="1549440" cy="1549440"/>
          </a:xfrm>
        </p:grpSpPr>
        <p:sp>
          <p:nvSpPr>
            <p:cNvPr id="113" name=""/>
            <p:cNvSpPr/>
            <p:nvPr/>
          </p:nvSpPr>
          <p:spPr>
            <a:xfrm>
              <a:off x="641160" y="48006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52280" y="5791320"/>
                  <a:ext cx="1549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16040" y="6378480"/>
                <a:ext cx="322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71800" y="6019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62720" y="689040"/>
                <a:ext cx="2590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892400" y="103500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A CIRCUIT VALID FOR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CAPACITOR ACTS AS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365760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320" y="3033720"/>
                <a:ext cx="44956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voltage across capaci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588560" y="4572000"/>
            <a:ext cx="443268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NOTES FOR INDUCTIV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1)DETERMINE INITIAL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IN 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2)FOR THE t=0+ CIRCUIT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BY A 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60" y="651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457200"/>
          <a:ext cx="4800600" cy="17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57200"/>
                    <a:ext cx="480060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0" y="1752480"/>
          <a:ext cx="4572000" cy="168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52480"/>
                    <a:ext cx="45720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5943600"/>
                <a:ext cx="698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57200" y="4572000"/>
            <a:ext cx="990720" cy="1143000"/>
            <a:chOff x="457200" y="4572000"/>
            <a:chExt cx="990720" cy="1143000"/>
          </a:xfrm>
        </p:grpSpPr>
        <p:sp>
          <p:nvSpPr>
            <p:cNvPr id="132" name=""/>
            <p:cNvSpPr/>
            <p:nvPr/>
          </p:nvSpPr>
          <p:spPr>
            <a:xfrm>
              <a:off x="473040" y="5334120"/>
              <a:ext cx="592200" cy="36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572000"/>
              <a:ext cx="99072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624" y="576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576" y="72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1066680"/>
          <a:ext cx="457200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4572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40" y="3519360"/>
                <a:ext cx="403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0320" y="390060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0" y="4179960"/>
            <a:ext cx="4572000" cy="1915920"/>
            <a:chOff x="0" y="4179960"/>
            <a:chExt cx="4572000" cy="1915920"/>
          </a:xfrm>
        </p:grpSpPr>
        <p:graphicFrame>
          <p:nvGraphicFramePr>
            <p:cNvPr id="139" name=""/>
            <p:cNvGraphicFramePr/>
            <p:nvPr/>
          </p:nvGraphicFramePr>
          <p:xfrm>
            <a:off x="0" y="4179960"/>
            <a:ext cx="4572000" cy="191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179960"/>
                      <a:ext cx="4572000" cy="19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1" name=""/>
            <p:cNvGrpSpPr/>
            <p:nvPr/>
          </p:nvGrpSpPr>
          <p:grpSpPr>
            <a:xfrm>
              <a:off x="838080" y="4865400"/>
              <a:ext cx="914400" cy="380880"/>
              <a:chOff x="838080" y="4865400"/>
              <a:chExt cx="914400" cy="38088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1143000" y="486540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838080" y="524628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227160" y="6070680"/>
            <a:ext cx="3555720" cy="290520"/>
            <a:chOff x="227160" y="6070680"/>
            <a:chExt cx="3555720" cy="2905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27160" y="60706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665440" y="6070680"/>
                  <a:ext cx="11174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1720" y="6527880"/>
                <a:ext cx="3429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72280" y="76320"/>
                <a:ext cx="29718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5960" y="457200"/>
                <a:ext cx="3463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57800" y="1066680"/>
                <a:ext cx="2324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58280" y="1170000"/>
                <a:ext cx="1143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5960" y="175248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658280" y="1905120"/>
                <a:ext cx="45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76320"/>
                <a:ext cx="2743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86000" y="47304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66680" y="287028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546960" y="2362320"/>
                <a:ext cx="2452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AL  ANSWE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4815000" y="3546360"/>
            <a:ext cx="3884040" cy="949320"/>
            <a:chOff x="4815000" y="3546360"/>
            <a:chExt cx="3884040" cy="949320"/>
          </a:xfrm>
        </p:grpSpPr>
        <p:sp>
          <p:nvSpPr>
            <p:cNvPr id="159" name=""/>
            <p:cNvSpPr/>
            <p:nvPr/>
          </p:nvSpPr>
          <p:spPr>
            <a:xfrm>
              <a:off x="4815000" y="3546360"/>
              <a:ext cx="38840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INDUCTIV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095880" y="3886200"/>
                  <a:ext cx="800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4724280" y="4648320"/>
            <a:ext cx="4267440" cy="1792080"/>
            <a:chOff x="4724280" y="4648320"/>
            <a:chExt cx="4267440" cy="1792080"/>
          </a:xfrm>
        </p:grpSpPr>
        <p:graphicFrame>
          <p:nvGraphicFramePr>
            <p:cNvPr id="162" name=""/>
            <p:cNvGraphicFramePr/>
            <p:nvPr/>
          </p:nvGraphicFramePr>
          <p:xfrm>
            <a:off x="4724280" y="5029200"/>
            <a:ext cx="4267440" cy="14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5029200"/>
                      <a:ext cx="4267440" cy="1411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479920" y="464832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72000" y="23623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640" y="76320"/>
            <a:ext cx="5118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MATLAB TO DISPLAY FIN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2960" y="533520"/>
                <a:ext cx="2835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f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200400" y="849240"/>
            <a:ext cx="594360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help lin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 Linearly spaced v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) generates a row vector of 100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lly spaced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, N) generates N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e also LOGSPACE, :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20" y="2590920"/>
            <a:ext cx="8714520" cy="39301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3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mmands used to display funtion i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s is an example of MATLAB script or M-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ust be stored in a text file with extension ".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e commands are executed when the name of the M-file is typed 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ATLAB prompt (without the exten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1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ime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ni=-4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lect left 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nd=10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right en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us=linspace(tini,0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use 100 points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plus=linspace(0,tend, 2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and 250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inus=2*ones(size(tminus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lus=36/8+5/6*exp(-tplus/tau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us,imin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plus,ipl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asic plot command specify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lor and m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ARIATION OF CURRENT i(t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t)(m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rior to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after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([-0.5,1.5,1.5,6]);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scales for axis [xmin,xmax,ymin,ymax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4760" y="457200"/>
            <a:ext cx="5667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mand used to define linearly space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320" y="2209680"/>
            <a:ext cx="73281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cript (m-file) with commands used. Prepared with the MATLAB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Example6p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114800" y="2133720"/>
          <a:ext cx="49435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49435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6320" y="76320"/>
          <a:ext cx="48765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4876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0400" y="76320"/>
                <a:ext cx="144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920" y="2438280"/>
                <a:ext cx="3352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0120" y="3137040"/>
                <a:ext cx="3098880" cy="23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inductor curr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1560" y="3441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4108320"/>
          <a:ext cx="4724280" cy="25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08320"/>
                    <a:ext cx="4724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066680" y="5910120"/>
            <a:ext cx="714600" cy="755640"/>
            <a:chOff x="1066680" y="5910120"/>
            <a:chExt cx="714600" cy="755640"/>
          </a:xfrm>
        </p:grpSpPr>
        <p:sp>
          <p:nvSpPr>
            <p:cNvPr id="193" name=""/>
            <p:cNvSpPr/>
            <p:nvPr/>
          </p:nvSpPr>
          <p:spPr>
            <a:xfrm>
              <a:off x="1347840" y="5910120"/>
              <a:ext cx="433440" cy="473040"/>
            </a:xfrm>
            <a:custGeom>
              <a:avLst/>
              <a:gdLst/>
              <a:ahLst/>
              <a:rect l="l" t="t" r="r" b="b"/>
              <a:pathLst>
                <a:path w="273" h="298">
                  <a:moveTo>
                    <a:pt x="0" y="298"/>
                  </a:moveTo>
                  <a:cubicBezTo>
                    <a:pt x="5" y="236"/>
                    <a:pt x="11" y="173"/>
                    <a:pt x="16" y="111"/>
                  </a:cubicBezTo>
                  <a:cubicBezTo>
                    <a:pt x="19" y="77"/>
                    <a:pt x="24" y="10"/>
                    <a:pt x="24" y="10"/>
                  </a:cubicBezTo>
                  <a:cubicBezTo>
                    <a:pt x="211" y="0"/>
                    <a:pt x="128" y="2"/>
                    <a:pt x="273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66680" y="6400800"/>
                  <a:ext cx="698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"/>
          <p:cNvGrpSpPr/>
          <p:nvPr/>
        </p:nvGrpSpPr>
        <p:grpSpPr>
          <a:xfrm>
            <a:off x="152280" y="4165560"/>
            <a:ext cx="1524240" cy="1015920"/>
            <a:chOff x="152280" y="4165560"/>
            <a:chExt cx="1524240" cy="1015920"/>
          </a:xfrm>
        </p:grpSpPr>
        <p:sp>
          <p:nvSpPr>
            <p:cNvPr id="196" name=""/>
            <p:cNvSpPr/>
            <p:nvPr/>
          </p:nvSpPr>
          <p:spPr>
            <a:xfrm>
              <a:off x="838080" y="518148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4165560"/>
                  <a:ext cx="1384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24080" y="4191120"/>
                <a:ext cx="149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97360" y="6299280"/>
                <a:ext cx="1346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15000" y="731880"/>
                <a:ext cx="2666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21240" y="1082520"/>
            <a:ext cx="3335400" cy="916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at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is repla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638320" y="2336400"/>
            <a:ext cx="991080" cy="1829160"/>
            <a:chOff x="5638320" y="2336400"/>
            <a:chExt cx="991080" cy="1829160"/>
          </a:xfrm>
        </p:grpSpPr>
        <p:grpSp>
          <p:nvGrpSpPr>
            <p:cNvPr id="203" name=""/>
            <p:cNvGrpSpPr/>
            <p:nvPr/>
          </p:nvGrpSpPr>
          <p:grpSpPr>
            <a:xfrm>
              <a:off x="5943600" y="2717640"/>
              <a:ext cx="442800" cy="457200"/>
              <a:chOff x="5943600" y="2717640"/>
              <a:chExt cx="4428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5943600" y="3022560"/>
                <a:ext cx="304920" cy="15228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6172200" y="271764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6" name=""/>
            <p:cNvSpPr/>
            <p:nvPr/>
          </p:nvSpPr>
          <p:spPr>
            <a:xfrm>
              <a:off x="6172200" y="340344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520" y="325116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638320" y="325116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9920" y="233640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81480" y="4927680"/>
                <a:ext cx="223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620120" y="4902120"/>
                <a:ext cx="1041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15000" y="5689440"/>
                <a:ext cx="2502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3520" y="152280"/>
                <a:ext cx="2743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241560" y="498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280" y="1143000"/>
          <a:ext cx="477360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7736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17720" y="1941480"/>
            <a:ext cx="1563840" cy="1584360"/>
          </a:xfrm>
          <a:custGeom>
            <a:avLst/>
            <a:gdLst/>
            <a:ahLst/>
            <a:rect l="l" t="t" r="r" b="b"/>
            <a:pathLst>
              <a:path w="985" h="998">
                <a:moveTo>
                  <a:pt x="15" y="71"/>
                </a:moveTo>
                <a:cubicBezTo>
                  <a:pt x="0" y="121"/>
                  <a:pt x="0" y="132"/>
                  <a:pt x="0" y="195"/>
                </a:cubicBezTo>
                <a:cubicBezTo>
                  <a:pt x="266" y="227"/>
                  <a:pt x="454" y="227"/>
                  <a:pt x="740" y="227"/>
                </a:cubicBezTo>
                <a:cubicBezTo>
                  <a:pt x="728" y="485"/>
                  <a:pt x="725" y="727"/>
                  <a:pt x="725" y="990"/>
                </a:cubicBezTo>
                <a:cubicBezTo>
                  <a:pt x="789" y="974"/>
                  <a:pt x="854" y="990"/>
                  <a:pt x="919" y="990"/>
                </a:cubicBezTo>
                <a:cubicBezTo>
                  <a:pt x="985" y="980"/>
                  <a:pt x="939" y="998"/>
                  <a:pt x="935" y="905"/>
                </a:cubicBezTo>
                <a:cubicBezTo>
                  <a:pt x="924" y="621"/>
                  <a:pt x="912" y="307"/>
                  <a:pt x="912" y="16"/>
                </a:cubicBezTo>
                <a:cubicBezTo>
                  <a:pt x="683" y="19"/>
                  <a:pt x="340" y="0"/>
                  <a:pt x="78" y="39"/>
                </a:cubicBezTo>
                <a:cubicBezTo>
                  <a:pt x="40" y="52"/>
                  <a:pt x="61" y="43"/>
                  <a:pt x="15" y="71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920" y="3429000"/>
                <a:ext cx="1231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798720"/>
                <a:ext cx="38862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103320" y="4495680"/>
          <a:ext cx="440352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95680"/>
                    <a:ext cx="44035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4836960"/>
            <a:ext cx="2911320" cy="1992600"/>
          </a:xfrm>
          <a:custGeom>
            <a:avLst/>
            <a:gdLst/>
            <a:ahLst/>
            <a:rect l="l" t="t" r="r" b="b"/>
            <a:pathLst>
              <a:path w="1834" h="1255">
                <a:moveTo>
                  <a:pt x="304" y="390"/>
                </a:moveTo>
                <a:cubicBezTo>
                  <a:pt x="307" y="372"/>
                  <a:pt x="316" y="353"/>
                  <a:pt x="312" y="335"/>
                </a:cubicBezTo>
                <a:cubicBezTo>
                  <a:pt x="310" y="326"/>
                  <a:pt x="297" y="320"/>
                  <a:pt x="288" y="320"/>
                </a:cubicBezTo>
                <a:cubicBezTo>
                  <a:pt x="205" y="318"/>
                  <a:pt x="122" y="325"/>
                  <a:pt x="39" y="327"/>
                </a:cubicBezTo>
                <a:cubicBezTo>
                  <a:pt x="17" y="362"/>
                  <a:pt x="8" y="403"/>
                  <a:pt x="0" y="444"/>
                </a:cubicBezTo>
                <a:cubicBezTo>
                  <a:pt x="3" y="681"/>
                  <a:pt x="0" y="917"/>
                  <a:pt x="8" y="1154"/>
                </a:cubicBezTo>
                <a:cubicBezTo>
                  <a:pt x="9" y="1185"/>
                  <a:pt x="66" y="1190"/>
                  <a:pt x="78" y="1192"/>
                </a:cubicBezTo>
                <a:cubicBezTo>
                  <a:pt x="193" y="1212"/>
                  <a:pt x="313" y="1221"/>
                  <a:pt x="429" y="1224"/>
                </a:cubicBezTo>
                <a:cubicBezTo>
                  <a:pt x="551" y="1227"/>
                  <a:pt x="673" y="1229"/>
                  <a:pt x="795" y="1231"/>
                </a:cubicBezTo>
                <a:cubicBezTo>
                  <a:pt x="1013" y="1234"/>
                  <a:pt x="1232" y="1236"/>
                  <a:pt x="1450" y="1239"/>
                </a:cubicBezTo>
                <a:cubicBezTo>
                  <a:pt x="1579" y="1245"/>
                  <a:pt x="1673" y="1255"/>
                  <a:pt x="1800" y="1247"/>
                </a:cubicBezTo>
                <a:cubicBezTo>
                  <a:pt x="1834" y="1149"/>
                  <a:pt x="1820" y="1086"/>
                  <a:pt x="1824" y="959"/>
                </a:cubicBezTo>
                <a:cubicBezTo>
                  <a:pt x="1821" y="769"/>
                  <a:pt x="1821" y="580"/>
                  <a:pt x="1816" y="390"/>
                </a:cubicBezTo>
                <a:cubicBezTo>
                  <a:pt x="1816" y="382"/>
                  <a:pt x="1809" y="374"/>
                  <a:pt x="1808" y="366"/>
                </a:cubicBezTo>
                <a:cubicBezTo>
                  <a:pt x="1799" y="280"/>
                  <a:pt x="1821" y="106"/>
                  <a:pt x="1730" y="47"/>
                </a:cubicBezTo>
                <a:cubicBezTo>
                  <a:pt x="1721" y="32"/>
                  <a:pt x="1705" y="0"/>
                  <a:pt x="1683" y="0"/>
                </a:cubicBezTo>
                <a:cubicBezTo>
                  <a:pt x="1674" y="0"/>
                  <a:pt x="1673" y="15"/>
                  <a:pt x="1668" y="23"/>
                </a:cubicBezTo>
                <a:cubicBezTo>
                  <a:pt x="1685" y="396"/>
                  <a:pt x="1679" y="193"/>
                  <a:pt x="1668" y="826"/>
                </a:cubicBezTo>
                <a:cubicBezTo>
                  <a:pt x="1663" y="1141"/>
                  <a:pt x="1736" y="1163"/>
                  <a:pt x="1481" y="1192"/>
                </a:cubicBezTo>
                <a:cubicBezTo>
                  <a:pt x="1360" y="1183"/>
                  <a:pt x="1314" y="1183"/>
                  <a:pt x="1216" y="1169"/>
                </a:cubicBezTo>
                <a:cubicBezTo>
                  <a:pt x="1132" y="1157"/>
                  <a:pt x="1051" y="1133"/>
                  <a:pt x="966" y="1122"/>
                </a:cubicBezTo>
                <a:cubicBezTo>
                  <a:pt x="770" y="1062"/>
                  <a:pt x="438" y="1086"/>
                  <a:pt x="273" y="1083"/>
                </a:cubicBezTo>
                <a:cubicBezTo>
                  <a:pt x="223" y="1077"/>
                  <a:pt x="174" y="1073"/>
                  <a:pt x="125" y="1060"/>
                </a:cubicBezTo>
                <a:cubicBezTo>
                  <a:pt x="133" y="864"/>
                  <a:pt x="113" y="921"/>
                  <a:pt x="164" y="818"/>
                </a:cubicBezTo>
                <a:cubicBezTo>
                  <a:pt x="172" y="787"/>
                  <a:pt x="179" y="756"/>
                  <a:pt x="187" y="725"/>
                </a:cubicBezTo>
                <a:cubicBezTo>
                  <a:pt x="193" y="703"/>
                  <a:pt x="218" y="663"/>
                  <a:pt x="218" y="663"/>
                </a:cubicBezTo>
                <a:cubicBezTo>
                  <a:pt x="227" y="612"/>
                  <a:pt x="242" y="564"/>
                  <a:pt x="273" y="522"/>
                </a:cubicBezTo>
                <a:cubicBezTo>
                  <a:pt x="293" y="464"/>
                  <a:pt x="304" y="455"/>
                  <a:pt x="304" y="39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6520" y="480060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922480" y="57150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4038480"/>
                <a:ext cx="257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uc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191120"/>
                <a:ext cx="1181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4952880" y="4191120"/>
          <a:ext cx="3962520" cy="19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91120"/>
                    <a:ext cx="3962520" cy="19191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3480" y="152280"/>
                <a:ext cx="288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471600"/>
                <a:ext cx="261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10080" y="838080"/>
                <a:ext cx="2895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1447920"/>
                <a:ext cx="2146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86400" y="2286000"/>
                <a:ext cx="293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540040" y="380988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21:50:02Z</dcterms:created>
  <dc:creator>Jorge L. Aravena</dc:creator>
  <dc:description/>
  <dc:language>en-US</dc:language>
  <cp:lastModifiedBy>student</cp:lastModifiedBy>
  <cp:lastPrinted>2000-11-17T12:11:06Z</cp:lastPrinted>
  <dcterms:modified xsi:type="dcterms:W3CDTF">2001-05-31T16:25:10Z</dcterms:modified>
  <cp:revision>27</cp:revision>
  <dc:subject/>
  <dc:title>No Slide Title</dc:title>
</cp:coreProperties>
</file>