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A48-C8C9-419F-8FBA-A1F23F0B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644-45FA-4BE8-B534-16C1CE1D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D5D-4A8E-47E7-B561-D33F0F81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5E2-C495-4BC4-8969-E4C1DDDF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DA6-3218-4803-AC46-953DF7C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B93-BFAA-4DB4-8B25-2828EC4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BD4-4914-45F8-AACC-DE847AB7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359-8293-4529-9DB3-09B61B2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3F4-19CF-4897-AF2C-9A1B2F4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0EC-771E-42CB-B75C-DCBEA59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33B-0324-4D1C-BECB-BD9358D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E1C-49D7-4356-932C-381D4AC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35A9-300A-4BB7-9775-443DFE87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Example6p7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ample6p8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Example6p9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stop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1-05-23T02:14:24Z</dcterms:modified>
  <cp:revision>15</cp:revision>
  <dc:subject/>
  <dc:title>No Slide Title</dc:title>
</cp:coreProperties>
</file>