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B25-2E20-4C8C-882E-8D2B6923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A95-8257-404C-B28C-056F50E4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3D0-A7A9-4F77-B610-949907F7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A5C-70C3-4C5D-9D6B-CAD0E2C4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666-B0B0-4303-8758-94ADF955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522-EA80-456E-BF79-D7EBF459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26C-FA40-4412-9162-2C0DA070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78D-4F15-4FC4-8F84-B060E707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43A-CF71-4D24-9117-ABE0A00F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038-F0D0-481B-A555-56EE2D50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869-A153-4072-885E-0985CEE6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CEE-B5F0-45A4-B2AC-1E88DA6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2CE2-DB35-4AAD-92C0-E1AFB791E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76320"/>
            <a:ext cx="59436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RST AND SECOND-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RANSIENT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3880" y="1219320"/>
            <a:ext cx="78069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CIRCUITS WITH INDUCTORS AND CAPACITORS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NOT CHANGE INSTANTANEOUS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THE APPLICATION, OR REMOVAL, OF CONSTANT SOURCES CREAT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960" y="239724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7560" y="3030480"/>
            <a:ext cx="56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that contain a single energy storing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ither a capacitor or an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1960" y="3868560"/>
            <a:ext cx="6451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with two energy storing elements in any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304920"/>
          <a:ext cx="338616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861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438280" y="0"/>
                <a:ext cx="38354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ASSUM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2600" y="2616120"/>
                <a:ext cx="3416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USE KCL @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1828440" y="990720"/>
            <a:ext cx="1143360" cy="457200"/>
            <a:chOff x="1828440" y="990720"/>
            <a:chExt cx="1143360" cy="457200"/>
          </a:xfrm>
        </p:grpSpPr>
        <p:sp>
          <p:nvSpPr>
            <p:cNvPr id="223" name=""/>
            <p:cNvSpPr/>
            <p:nvPr/>
          </p:nvSpPr>
          <p:spPr>
            <a:xfrm flipH="1">
              <a:off x="1828440" y="99072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71800" y="106704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90720" y="2971800"/>
                <a:ext cx="2133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800280" y="3500280"/>
                <a:ext cx="276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43280" y="3825720"/>
            <a:ext cx="34725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IFF. EQ. KNOW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 KN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160" y="4572000"/>
            <a:ext cx="2923920" cy="898560"/>
            <a:chOff x="11160" y="4572000"/>
            <a:chExt cx="2923920" cy="898560"/>
          </a:xfrm>
        </p:grpSpPr>
        <p:sp>
          <p:nvSpPr>
            <p:cNvPr id="229" name=""/>
            <p:cNvSpPr/>
            <p:nvPr/>
          </p:nvSpPr>
          <p:spPr>
            <a:xfrm>
              <a:off x="11160" y="45720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TEP 1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TIME CONST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311120" y="4911480"/>
                  <a:ext cx="11685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/>
          <p:cNvSpPr/>
          <p:nvPr/>
        </p:nvSpPr>
        <p:spPr>
          <a:xfrm>
            <a:off x="121320" y="6140520"/>
            <a:ext cx="3609720" cy="642600"/>
          </a:xfrm>
          <a:prstGeom prst="rect">
            <a:avLst/>
          </a:prstGeom>
          <a:solidFill>
            <a:srgbClr val="ccffcc"/>
          </a:solidFill>
          <a:ln w="22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 time constant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efficient of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15720" y="130968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2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35440" y="1663560"/>
                <a:ext cx="52322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  IS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τ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and 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eady state valu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512600" y="2513160"/>
            <a:ext cx="456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STEADY STATE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CONSTANT. HENCE ITS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ZERO. FROM DIFF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86160" y="3397320"/>
            <a:ext cx="6650640" cy="1896840"/>
            <a:chOff x="2486160" y="3397320"/>
            <a:chExt cx="6650640" cy="1896840"/>
          </a:xfrm>
        </p:grpSpPr>
        <p:sp>
          <p:nvSpPr>
            <p:cNvPr id="236" name=""/>
            <p:cNvSpPr/>
            <p:nvPr/>
          </p:nvSpPr>
          <p:spPr>
            <a:xfrm>
              <a:off x="2486160" y="3686040"/>
              <a:ext cx="2425680" cy="1608120"/>
            </a:xfrm>
            <a:custGeom>
              <a:avLst/>
              <a:gdLst/>
              <a:ahLst/>
              <a:rect l="l" t="t" r="r" b="b"/>
              <a:pathLst>
                <a:path w="1528" h="1013">
                  <a:moveTo>
                    <a:pt x="0" y="990"/>
                  </a:moveTo>
                  <a:cubicBezTo>
                    <a:pt x="358" y="997"/>
                    <a:pt x="717" y="1013"/>
                    <a:pt x="1076" y="1013"/>
                  </a:cubicBezTo>
                  <a:cubicBezTo>
                    <a:pt x="1094" y="899"/>
                    <a:pt x="1104" y="785"/>
                    <a:pt x="1122" y="671"/>
                  </a:cubicBezTo>
                  <a:cubicBezTo>
                    <a:pt x="1131" y="477"/>
                    <a:pt x="1169" y="280"/>
                    <a:pt x="1169" y="86"/>
                  </a:cubicBezTo>
                  <a:cubicBezTo>
                    <a:pt x="1197" y="77"/>
                    <a:pt x="1220" y="57"/>
                    <a:pt x="1247" y="47"/>
                  </a:cubicBezTo>
                  <a:cubicBezTo>
                    <a:pt x="1313" y="21"/>
                    <a:pt x="1380" y="21"/>
                    <a:pt x="1450" y="16"/>
                  </a:cubicBezTo>
                  <a:cubicBezTo>
                    <a:pt x="1478" y="9"/>
                    <a:pt x="1500" y="0"/>
                    <a:pt x="1528" y="0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952880" y="3397320"/>
              <a:ext cx="4183920" cy="642600"/>
              <a:chOff x="4952880" y="3397320"/>
              <a:chExt cx="4183920" cy="642600"/>
            </a:xfrm>
          </p:grpSpPr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4952880" y="3429000"/>
                    <a:ext cx="151128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"/>
              <p:cNvSpPr/>
              <p:nvPr/>
            </p:nvSpPr>
            <p:spPr>
              <a:xfrm>
                <a:off x="6487200" y="3397320"/>
                <a:ext cx="2649600" cy="64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Steady state val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from diff. eq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410080" y="4038480"/>
                <a:ext cx="3327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quating  steady state value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648320" y="4699080"/>
                <a:ext cx="430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MODEL IS </m:t>
                    </m:r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THEN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664520" y="5257800"/>
            <a:ext cx="4432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USE OF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041800" y="5627520"/>
                <a:ext cx="3035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562720" y="626256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149400" y="5029200"/>
            <a:ext cx="1374480" cy="1065240"/>
            <a:chOff x="149400" y="5029200"/>
            <a:chExt cx="1374480" cy="1065240"/>
          </a:xfrm>
        </p:grpSpPr>
        <p:sp>
          <p:nvSpPr>
            <p:cNvPr id="246" name=""/>
            <p:cNvSpPr/>
            <p:nvPr/>
          </p:nvSpPr>
          <p:spPr>
            <a:xfrm>
              <a:off x="1139760" y="5029200"/>
              <a:ext cx="384120" cy="301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9400" y="5484600"/>
              <a:ext cx="45720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124600" y="655308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276720" y="774720"/>
                <a:ext cx="3835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WER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040" y="1188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74680" y="3098880"/>
            <a:ext cx="3535200" cy="2921040"/>
            <a:chOff x="274680" y="3098880"/>
            <a:chExt cx="3535200" cy="2921040"/>
          </a:xfrm>
        </p:grpSpPr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274680" y="5460840"/>
                  <a:ext cx="19047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56" name=""/>
            <p:cNvGrpSpPr/>
            <p:nvPr/>
          </p:nvGrpSpPr>
          <p:grpSpPr>
            <a:xfrm>
              <a:off x="2103480" y="3098880"/>
              <a:ext cx="1706400" cy="2889000"/>
              <a:chOff x="2103480" y="3098880"/>
              <a:chExt cx="1706400" cy="2889000"/>
            </a:xfrm>
          </p:grpSpPr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173040" y="3098880"/>
                    <a:ext cx="4428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8" name=""/>
              <p:cNvSpPr/>
              <p:nvPr/>
            </p:nvSpPr>
            <p:spPr>
              <a:xfrm>
                <a:off x="2103480" y="3217680"/>
                <a:ext cx="1706400" cy="2770200"/>
              </a:xfrm>
              <a:custGeom>
                <a:avLst/>
                <a:gdLst/>
                <a:ahLst/>
                <a:rect l="l" t="t" r="r" b="b"/>
                <a:pathLst>
                  <a:path w="1075" h="1745">
                    <a:moveTo>
                      <a:pt x="950" y="8"/>
                    </a:moveTo>
                    <a:cubicBezTo>
                      <a:pt x="976" y="5"/>
                      <a:pt x="1002" y="0"/>
                      <a:pt x="1028" y="0"/>
                    </a:cubicBezTo>
                    <a:cubicBezTo>
                      <a:pt x="1044" y="0"/>
                      <a:pt x="1075" y="8"/>
                      <a:pt x="1075" y="8"/>
                    </a:cubicBezTo>
                    <a:cubicBezTo>
                      <a:pt x="1069" y="127"/>
                      <a:pt x="1055" y="241"/>
                      <a:pt x="1044" y="359"/>
                    </a:cubicBezTo>
                    <a:cubicBezTo>
                      <a:pt x="1038" y="419"/>
                      <a:pt x="1028" y="538"/>
                      <a:pt x="1028" y="538"/>
                    </a:cubicBezTo>
                    <a:cubicBezTo>
                      <a:pt x="1020" y="747"/>
                      <a:pt x="1004" y="953"/>
                      <a:pt x="989" y="1161"/>
                    </a:cubicBezTo>
                    <a:cubicBezTo>
                      <a:pt x="984" y="1229"/>
                      <a:pt x="983" y="1298"/>
                      <a:pt x="966" y="1364"/>
                    </a:cubicBezTo>
                    <a:cubicBezTo>
                      <a:pt x="961" y="1467"/>
                      <a:pt x="942" y="1573"/>
                      <a:pt x="942" y="1676"/>
                    </a:cubicBezTo>
                    <a:cubicBezTo>
                      <a:pt x="780" y="1682"/>
                      <a:pt x="621" y="1698"/>
                      <a:pt x="459" y="1707"/>
                    </a:cubicBezTo>
                    <a:cubicBezTo>
                      <a:pt x="313" y="1745"/>
                      <a:pt x="150" y="1730"/>
                      <a:pt x="0" y="173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527880" y="12600"/>
                <a:ext cx="2616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752480" y="304920"/>
            <a:ext cx="4422960" cy="2452680"/>
            <a:chOff x="1752480" y="304920"/>
            <a:chExt cx="4422960" cy="2452680"/>
          </a:xfrm>
        </p:grpSpPr>
        <p:graphicFrame>
          <p:nvGraphicFramePr>
            <p:cNvPr id="261" name=""/>
            <p:cNvGraphicFramePr/>
            <p:nvPr/>
          </p:nvGraphicFramePr>
          <p:xfrm>
            <a:off x="1752480" y="304920"/>
            <a:ext cx="442296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04920"/>
                      <a:ext cx="442296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791320" y="2209680"/>
                  <a:ext cx="368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046320" y="0"/>
                <a:ext cx="152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095880" y="1752480"/>
                <a:ext cx="2819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KV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3048120" y="609480"/>
            <a:ext cx="2286000" cy="1752840"/>
            <a:chOff x="3048120" y="609480"/>
            <a:chExt cx="2286000" cy="17528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419720" y="6094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5069160" y="1447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3048120" y="1295280"/>
              <a:ext cx="1676520" cy="106704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lnTo>
                    <a:pt x="0" y="0"/>
                  </a:lnTo>
                  <a:lnTo>
                    <a:pt x="1056" y="0"/>
                  </a:lnTo>
                  <a:lnTo>
                    <a:pt x="1056" y="672"/>
                  </a:lnTo>
                  <a:lnTo>
                    <a:pt x="240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267440" y="19051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3124440" y="133668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666880" y="281952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62320" y="3440160"/>
                <a:ext cx="33271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CONDITION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ductor 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4" name=""/>
          <p:cNvGrpSpPr/>
          <p:nvPr/>
        </p:nvGrpSpPr>
        <p:grpSpPr>
          <a:xfrm>
            <a:off x="2045880" y="4481640"/>
            <a:ext cx="3059280" cy="558720"/>
            <a:chOff x="2045880" y="4481640"/>
            <a:chExt cx="3059280" cy="558720"/>
          </a:xfrm>
        </p:grpSpPr>
        <p:sp>
          <p:nvSpPr>
            <p:cNvPr id="275" name=""/>
            <p:cNvSpPr/>
            <p:nvPr/>
          </p:nvSpPr>
          <p:spPr>
            <a:xfrm>
              <a:off x="2045880" y="44816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3327120" y="4481640"/>
                  <a:ext cx="1778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7" name=""/>
          <p:cNvGrpSpPr/>
          <p:nvPr/>
        </p:nvGrpSpPr>
        <p:grpSpPr>
          <a:xfrm>
            <a:off x="3200400" y="4430880"/>
            <a:ext cx="2666880" cy="685800"/>
            <a:chOff x="3200400" y="4430880"/>
            <a:chExt cx="2666880" cy="6858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295960" y="4430880"/>
                  <a:ext cx="5713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3200400" y="4430880"/>
              <a:ext cx="3808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68200" y="5081760"/>
            <a:ext cx="2786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724280" y="4419720"/>
            <a:ext cx="1600200" cy="1295280"/>
            <a:chOff x="4724280" y="4419720"/>
            <a:chExt cx="1600200" cy="129528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4902120" y="509436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83" name=""/>
            <p:cNvGrpSpPr/>
            <p:nvPr/>
          </p:nvGrpSpPr>
          <p:grpSpPr>
            <a:xfrm>
              <a:off x="4724280" y="4419720"/>
              <a:ext cx="1143000" cy="1295280"/>
              <a:chOff x="4724280" y="4419720"/>
              <a:chExt cx="1143000" cy="1295280"/>
            </a:xfrm>
          </p:grpSpPr>
          <p:sp>
            <p:nvSpPr>
              <p:cNvPr id="284" name=""/>
              <p:cNvSpPr/>
              <p:nvPr/>
            </p:nvSpPr>
            <p:spPr>
              <a:xfrm>
                <a:off x="5486400" y="5029200"/>
                <a:ext cx="38088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24280" y="4419720"/>
                <a:ext cx="45720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2124360" y="56952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048120" y="60958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715000" y="5715000"/>
                <a:ext cx="2502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 rot="10800000">
                <a:off x="6705720" y="1142280"/>
                <a:ext cx="2133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640" y="7524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971800" y="152280"/>
          <a:ext cx="352116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280"/>
                    <a:ext cx="3521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 rot="10800000">
                <a:off x="380880" y="1066320"/>
                <a:ext cx="2133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" y="2133720"/>
                <a:ext cx="2222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C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3657600" y="1752480"/>
            <a:ext cx="2286000" cy="906480"/>
            <a:chOff x="3657600" y="1752480"/>
            <a:chExt cx="2286000" cy="906480"/>
          </a:xfrm>
        </p:grpSpPr>
        <p:sp>
          <p:nvSpPr>
            <p:cNvPr id="300" name=""/>
            <p:cNvSpPr/>
            <p:nvPr/>
          </p:nvSpPr>
          <p:spPr>
            <a:xfrm>
              <a:off x="4574880" y="1900080"/>
              <a:ext cx="0" cy="758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52880" y="182880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57600" y="175248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495680" y="1371600"/>
            <a:ext cx="1955520" cy="2297160"/>
            <a:chOff x="4495680" y="1371600"/>
            <a:chExt cx="1955520" cy="229716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028840" y="312444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4495680" y="1600200"/>
              <a:ext cx="380880" cy="22860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4724280" y="1371600"/>
                  <a:ext cx="39204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914400" y="35812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514600" y="358128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757160" y="46476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7160" y="51807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841480" y="518148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757160" y="55620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917800" y="559260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334120" y="5900760"/>
                <a:ext cx="2450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419720" y="37339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6" name=""/>
          <p:cNvGrpSpPr/>
          <p:nvPr/>
        </p:nvGrpSpPr>
        <p:grpSpPr>
          <a:xfrm>
            <a:off x="2819520" y="3581280"/>
            <a:ext cx="571320" cy="1523880"/>
            <a:chOff x="2819520" y="3581280"/>
            <a:chExt cx="571320" cy="1523880"/>
          </a:xfrm>
        </p:grpSpPr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819520" y="4560480"/>
                  <a:ext cx="571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2895480" y="3581280"/>
              <a:ext cx="3049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560" y="197640"/>
            <a:ext cx="25124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1219320"/>
          <a:ext cx="4494240" cy="17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494240" cy="1725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76320" y="357120"/>
          <a:ext cx="79246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7120"/>
                    <a:ext cx="7924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"/>
          <p:cNvGrpSpPr/>
          <p:nvPr/>
        </p:nvGrpSpPr>
        <p:grpSpPr>
          <a:xfrm>
            <a:off x="0" y="2819520"/>
            <a:ext cx="4495680" cy="1969920"/>
            <a:chOff x="0" y="2819520"/>
            <a:chExt cx="4495680" cy="1969920"/>
          </a:xfrm>
        </p:grpSpPr>
        <p:graphicFrame>
          <p:nvGraphicFramePr>
            <p:cNvPr id="328" name=""/>
            <p:cNvGraphicFramePr/>
            <p:nvPr/>
          </p:nvGraphicFramePr>
          <p:xfrm>
            <a:off x="0" y="2971800"/>
            <a:ext cx="4495680" cy="181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971800"/>
                      <a:ext cx="4495680" cy="181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136440" y="2819520"/>
                  <a:ext cx="1739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DEL FOR 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676520" y="3657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9520" y="479988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T IS SIMPLER TO DETERMIN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CAPACITOR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437920" y="3429000"/>
            <a:ext cx="1448280" cy="457200"/>
            <a:chOff x="2437920" y="3429000"/>
            <a:chExt cx="1448280" cy="457200"/>
          </a:xfrm>
        </p:grpSpPr>
        <p:sp>
          <p:nvSpPr>
            <p:cNvPr id="334" name=""/>
            <p:cNvSpPr/>
            <p:nvPr/>
          </p:nvSpPr>
          <p:spPr>
            <a:xfrm flipH="1">
              <a:off x="2437920" y="342900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4080" y="35053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3429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537080" y="1295280"/>
            <a:ext cx="4606920" cy="1905120"/>
            <a:chOff x="4537080" y="1295280"/>
            <a:chExt cx="4606920" cy="1905120"/>
          </a:xfrm>
        </p:grpSpPr>
        <p:graphicFrame>
          <p:nvGraphicFramePr>
            <p:cNvPr id="338" name=""/>
            <p:cNvGraphicFramePr/>
            <p:nvPr/>
          </p:nvGraphicFramePr>
          <p:xfrm>
            <a:off x="4537080" y="1549440"/>
            <a:ext cx="460692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37080" y="1549440"/>
                      <a:ext cx="4606920" cy="1650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5070600" y="1295280"/>
                  <a:ext cx="3746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IN STEADY STATE FOR 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"/>
          <p:cNvSpPr/>
          <p:nvPr/>
        </p:nvSpPr>
        <p:spPr>
          <a:xfrm>
            <a:off x="4578840" y="883440"/>
            <a:ext cx="2649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876920" y="3200400"/>
                <a:ext cx="386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228600" y="5499000"/>
            <a:ext cx="3898800" cy="1282680"/>
            <a:chOff x="228600" y="5499000"/>
            <a:chExt cx="3898800" cy="128268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228600" y="5499000"/>
                  <a:ext cx="351792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286000" y="6019920"/>
                  <a:ext cx="1841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"/>
          <p:cNvGrpSpPr/>
          <p:nvPr/>
        </p:nvGrpSpPr>
        <p:grpSpPr>
          <a:xfrm>
            <a:off x="4706640" y="3855240"/>
            <a:ext cx="4310280" cy="677160"/>
            <a:chOff x="4706640" y="3855240"/>
            <a:chExt cx="4310280" cy="677160"/>
          </a:xfrm>
        </p:grpSpPr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181480" y="4191120"/>
                  <a:ext cx="38354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706640" y="38552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728960" y="4617360"/>
            <a:ext cx="2357640" cy="368280"/>
            <a:chOff x="4728960" y="4617360"/>
            <a:chExt cx="2357640" cy="368280"/>
          </a:xfrm>
        </p:grpSpPr>
        <p:sp>
          <p:nvSpPr>
            <p:cNvPr id="350" name=""/>
            <p:cNvSpPr/>
            <p:nvPr/>
          </p:nvSpPr>
          <p:spPr>
            <a:xfrm>
              <a:off x="4728960" y="46173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5791320" y="46483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4728960" y="5104800"/>
            <a:ext cx="4275360" cy="368280"/>
            <a:chOff x="4728960" y="5104800"/>
            <a:chExt cx="4275360" cy="368280"/>
          </a:xfrm>
        </p:grpSpPr>
        <p:sp>
          <p:nvSpPr>
            <p:cNvPr id="353" name=""/>
            <p:cNvSpPr/>
            <p:nvPr/>
          </p:nvSpPr>
          <p:spPr>
            <a:xfrm>
              <a:off x="4728960" y="510480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5867280" y="5105520"/>
                  <a:ext cx="313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3440" y="5511960"/>
                <a:ext cx="1994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257800" y="6095880"/>
                <a:ext cx="2743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219320" y="0"/>
                <a:ext cx="2133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0" y="609480"/>
            <a:ext cx="7924680" cy="228600"/>
            <a:chOff x="0" y="609480"/>
            <a:chExt cx="7924680" cy="228600"/>
          </a:xfrm>
        </p:grpSpPr>
        <p:sp>
          <p:nvSpPr>
            <p:cNvPr id="359" name=""/>
            <p:cNvSpPr/>
            <p:nvPr/>
          </p:nvSpPr>
          <p:spPr>
            <a:xfrm>
              <a:off x="0" y="838080"/>
              <a:ext cx="2133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0080" y="609480"/>
              <a:ext cx="251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228600" y="609480"/>
          <a:ext cx="403848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40384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"/>
          <p:cNvGrpSpPr/>
          <p:nvPr/>
        </p:nvGrpSpPr>
        <p:grpSpPr>
          <a:xfrm>
            <a:off x="152280" y="5105520"/>
            <a:ext cx="3505320" cy="1636560"/>
            <a:chOff x="152280" y="5105520"/>
            <a:chExt cx="3505320" cy="1636560"/>
          </a:xfrm>
        </p:grpSpPr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152280" y="6183360"/>
                  <a:ext cx="21844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>
              <a:off x="1905120" y="5105520"/>
              <a:ext cx="175248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52280" y="5002200"/>
            <a:ext cx="3353040" cy="1181160"/>
            <a:chOff x="152280" y="5002200"/>
            <a:chExt cx="3353040" cy="1181160"/>
          </a:xfrm>
        </p:grpSpPr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152280" y="5002200"/>
                  <a:ext cx="198144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[</m:t>
                          </m:r>
                          <m:r>
                            <m:t xml:space="preserve">A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2006640" y="51163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87520" y="45720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792000" y="1236600"/>
            <a:ext cx="1908360" cy="2573280"/>
            <a:chOff x="792000" y="1236600"/>
            <a:chExt cx="1908360" cy="2573280"/>
          </a:xfrm>
        </p:grpSpPr>
        <p:sp>
          <p:nvSpPr>
            <p:cNvPr id="374" name=""/>
            <p:cNvSpPr/>
            <p:nvPr/>
          </p:nvSpPr>
          <p:spPr>
            <a:xfrm>
              <a:off x="792000" y="1236600"/>
              <a:ext cx="1908360" cy="2573280"/>
            </a:xfrm>
            <a:custGeom>
              <a:avLst/>
              <a:gdLst/>
              <a:ahLst/>
              <a:rect l="l" t="t" r="r" b="b"/>
              <a:pathLst>
                <a:path w="1202" h="1621">
                  <a:moveTo>
                    <a:pt x="0" y="1613"/>
                  </a:moveTo>
                  <a:cubicBezTo>
                    <a:pt x="9" y="1492"/>
                    <a:pt x="33" y="1375"/>
                    <a:pt x="46" y="1254"/>
                  </a:cubicBezTo>
                  <a:cubicBezTo>
                    <a:pt x="54" y="73"/>
                    <a:pt x="54" y="491"/>
                    <a:pt x="54" y="0"/>
                  </a:cubicBezTo>
                  <a:cubicBezTo>
                    <a:pt x="336" y="27"/>
                    <a:pt x="285" y="24"/>
                    <a:pt x="693" y="31"/>
                  </a:cubicBezTo>
                  <a:cubicBezTo>
                    <a:pt x="763" y="34"/>
                    <a:pt x="834" y="34"/>
                    <a:pt x="904" y="39"/>
                  </a:cubicBezTo>
                  <a:cubicBezTo>
                    <a:pt x="943" y="42"/>
                    <a:pt x="982" y="50"/>
                    <a:pt x="1021" y="54"/>
                  </a:cubicBezTo>
                  <a:cubicBezTo>
                    <a:pt x="1047" y="57"/>
                    <a:pt x="1098" y="62"/>
                    <a:pt x="1098" y="62"/>
                  </a:cubicBezTo>
                  <a:cubicBezTo>
                    <a:pt x="1114" y="195"/>
                    <a:pt x="1128" y="327"/>
                    <a:pt x="1145" y="460"/>
                  </a:cubicBezTo>
                  <a:cubicBezTo>
                    <a:pt x="1151" y="560"/>
                    <a:pt x="1161" y="657"/>
                    <a:pt x="1169" y="756"/>
                  </a:cubicBezTo>
                  <a:cubicBezTo>
                    <a:pt x="1166" y="1002"/>
                    <a:pt x="1202" y="1284"/>
                    <a:pt x="1137" y="1535"/>
                  </a:cubicBezTo>
                  <a:cubicBezTo>
                    <a:pt x="1129" y="1605"/>
                    <a:pt x="1130" y="1576"/>
                    <a:pt x="1130" y="1621"/>
                  </a:cubicBezTo>
                  <a:cubicBezTo>
                    <a:pt x="784" y="1621"/>
                    <a:pt x="439" y="1621"/>
                    <a:pt x="93" y="16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1953000"/>
              <a:ext cx="1278000" cy="368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(t&gt;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990720" y="134424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39680" y="411480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52280" y="4405320"/>
                <a:ext cx="322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"/>
          <p:cNvGrpSpPr/>
          <p:nvPr/>
        </p:nvGrpSpPr>
        <p:grpSpPr>
          <a:xfrm>
            <a:off x="76320" y="6183360"/>
            <a:ext cx="4186440" cy="489600"/>
            <a:chOff x="76320" y="6183360"/>
            <a:chExt cx="4186440" cy="489600"/>
          </a:xfrm>
        </p:grpSpPr>
        <p:grpSp>
          <p:nvGrpSpPr>
            <p:cNvPr id="380" name=""/>
            <p:cNvGrpSpPr/>
            <p:nvPr/>
          </p:nvGrpSpPr>
          <p:grpSpPr>
            <a:xfrm>
              <a:off x="76320" y="6183360"/>
              <a:ext cx="3048120" cy="457200"/>
              <a:chOff x="76320" y="6183360"/>
              <a:chExt cx="3048120" cy="457200"/>
            </a:xfrm>
          </p:grpSpPr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2286000" y="6335640"/>
                    <a:ext cx="838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2" name=""/>
              <p:cNvSpPr/>
              <p:nvPr/>
            </p:nvSpPr>
            <p:spPr>
              <a:xfrm>
                <a:off x="76320" y="6183360"/>
                <a:ext cx="457200" cy="45720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3259080" y="6304680"/>
              <a:ext cx="1003680" cy="36828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565520" y="746280"/>
                <a:ext cx="2298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60" y="11880"/>
            <a:ext cx="237528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21720" y="1386720"/>
            <a:ext cx="484416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FIND K1 USING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876920" y="2117880"/>
                <a:ext cx="340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4032360" y="988920"/>
            <a:ext cx="2444760" cy="2028960"/>
            <a:chOff x="4032360" y="988920"/>
            <a:chExt cx="2444760" cy="2028960"/>
          </a:xfrm>
        </p:grpSpPr>
        <p:sp>
          <p:nvSpPr>
            <p:cNvPr id="392" name=""/>
            <p:cNvSpPr/>
            <p:nvPr/>
          </p:nvSpPr>
          <p:spPr>
            <a:xfrm>
              <a:off x="4032360" y="988920"/>
              <a:ext cx="1373040" cy="1854360"/>
            </a:xfrm>
            <a:custGeom>
              <a:avLst/>
              <a:gdLst/>
              <a:ahLst/>
              <a:rect l="l" t="t" r="r" b="b"/>
              <a:pathLst>
                <a:path w="865" h="1168">
                  <a:moveTo>
                    <a:pt x="312" y="16"/>
                  </a:moveTo>
                  <a:cubicBezTo>
                    <a:pt x="266" y="0"/>
                    <a:pt x="230" y="21"/>
                    <a:pt x="187" y="39"/>
                  </a:cubicBezTo>
                  <a:cubicBezTo>
                    <a:pt x="166" y="65"/>
                    <a:pt x="143" y="89"/>
                    <a:pt x="125" y="117"/>
                  </a:cubicBezTo>
                  <a:cubicBezTo>
                    <a:pt x="105" y="148"/>
                    <a:pt x="99" y="187"/>
                    <a:pt x="78" y="219"/>
                  </a:cubicBezTo>
                  <a:cubicBezTo>
                    <a:pt x="57" y="287"/>
                    <a:pt x="30" y="351"/>
                    <a:pt x="16" y="421"/>
                  </a:cubicBezTo>
                  <a:cubicBezTo>
                    <a:pt x="11" y="511"/>
                    <a:pt x="0" y="718"/>
                    <a:pt x="0" y="795"/>
                  </a:cubicBezTo>
                  <a:cubicBezTo>
                    <a:pt x="0" y="852"/>
                    <a:pt x="4" y="910"/>
                    <a:pt x="8" y="967"/>
                  </a:cubicBezTo>
                  <a:cubicBezTo>
                    <a:pt x="16" y="1086"/>
                    <a:pt x="92" y="1086"/>
                    <a:pt x="195" y="1099"/>
                  </a:cubicBezTo>
                  <a:cubicBezTo>
                    <a:pt x="252" y="1118"/>
                    <a:pt x="238" y="1117"/>
                    <a:pt x="304" y="1123"/>
                  </a:cubicBezTo>
                  <a:cubicBezTo>
                    <a:pt x="369" y="1129"/>
                    <a:pt x="499" y="1138"/>
                    <a:pt x="499" y="1138"/>
                  </a:cubicBezTo>
                  <a:cubicBezTo>
                    <a:pt x="615" y="1168"/>
                    <a:pt x="746" y="1162"/>
                    <a:pt x="865" y="1162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5410080" y="272736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705720" y="309420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3904560" y="4465440"/>
            <a:ext cx="498132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THE INITIAL CONDITION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DUCTOR CURRENT FOR t&lt;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S THE CONTINUITY OF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DURING THE SWITCHING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09880" y="3550680"/>
            <a:ext cx="5257800" cy="642600"/>
            <a:chOff x="3809880" y="3550680"/>
            <a:chExt cx="5257800" cy="642600"/>
          </a:xfrm>
        </p:grpSpPr>
        <p:sp>
          <p:nvSpPr>
            <p:cNvPr id="397" name=""/>
            <p:cNvSpPr/>
            <p:nvPr/>
          </p:nvSpPr>
          <p:spPr>
            <a:xfrm>
              <a:off x="3809880" y="3550680"/>
              <a:ext cx="52578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NEXT STEP REQUIRES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VALUE OF THE VARIAB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7162920" y="3855960"/>
                  <a:ext cx="685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9" name=""/>
          <p:cNvSpPr/>
          <p:nvPr/>
        </p:nvSpPr>
        <p:spPr>
          <a:xfrm>
            <a:off x="4069440" y="5669640"/>
            <a:ext cx="49813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ADY STATE ASSUMPTION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MPLIFIES TH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-9360" y="442800"/>
            <a:ext cx="4038480" cy="3524040"/>
            <a:chOff x="-9360" y="442800"/>
            <a:chExt cx="4038480" cy="3524040"/>
          </a:xfrm>
        </p:grpSpPr>
        <p:graphicFrame>
          <p:nvGraphicFramePr>
            <p:cNvPr id="402" name=""/>
            <p:cNvGraphicFramePr/>
            <p:nvPr/>
          </p:nvGraphicFramePr>
          <p:xfrm>
            <a:off x="-9360" y="442800"/>
            <a:ext cx="4038480" cy="352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9360" y="442800"/>
                      <a:ext cx="4038480" cy="35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"/>
            <p:cNvSpPr/>
            <p:nvPr/>
          </p:nvSpPr>
          <p:spPr>
            <a:xfrm>
              <a:off x="1590840" y="74736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 rot="10800000">
                  <a:off x="1667160" y="1204200"/>
                  <a:ext cx="4572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6" name=""/>
          <p:cNvGraphicFramePr/>
          <p:nvPr/>
        </p:nvGraphicFramePr>
        <p:xfrm>
          <a:off x="3886200" y="2971800"/>
          <a:ext cx="287172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28717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886200" y="39600"/>
          <a:ext cx="3124080" cy="28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9600"/>
                    <a:ext cx="31240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14400" y="4419360"/>
            <a:ext cx="38840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EXAMPLE USE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SSUMING INDUCTOR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010280" y="68580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934320" y="10666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3" name=""/>
          <p:cNvGrpSpPr/>
          <p:nvPr/>
        </p:nvGrpSpPr>
        <p:grpSpPr>
          <a:xfrm>
            <a:off x="4648320" y="762120"/>
            <a:ext cx="685800" cy="1676160"/>
            <a:chOff x="4648320" y="762120"/>
            <a:chExt cx="685800" cy="1676160"/>
          </a:xfrm>
        </p:grpSpPr>
        <p:sp>
          <p:nvSpPr>
            <p:cNvPr id="414" name=""/>
            <p:cNvSpPr/>
            <p:nvPr/>
          </p:nvSpPr>
          <p:spPr>
            <a:xfrm>
              <a:off x="4648320" y="762120"/>
              <a:ext cx="685800" cy="1676160"/>
            </a:xfrm>
            <a:custGeom>
              <a:avLst/>
              <a:gdLst/>
              <a:ahLst/>
              <a:rect l="l" t="t" r="r" b="b"/>
              <a:pathLst>
                <a:path w="432" h="1056">
                  <a:moveTo>
                    <a:pt x="0" y="1056"/>
                  </a:moveTo>
                  <a:lnTo>
                    <a:pt x="48" y="0"/>
                  </a:lnTo>
                  <a:lnTo>
                    <a:pt x="432" y="0"/>
                  </a:lnTo>
                  <a:lnTo>
                    <a:pt x="432" y="1056"/>
                  </a:lnTo>
                  <a:lnTo>
                    <a:pt x="144" y="105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4800960" y="914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"/>
            <p:cNvSpPr/>
            <p:nvPr/>
          </p:nvSpPr>
          <p:spPr>
            <a:xfrm>
              <a:off x="4738680" y="1493280"/>
              <a:ext cx="59220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948280" y="609480"/>
            <a:ext cx="838440" cy="1904760"/>
            <a:chOff x="5948280" y="609480"/>
            <a:chExt cx="838440" cy="1904760"/>
          </a:xfrm>
        </p:grpSpPr>
        <p:sp>
          <p:nvSpPr>
            <p:cNvPr id="418" name=""/>
            <p:cNvSpPr/>
            <p:nvPr/>
          </p:nvSpPr>
          <p:spPr>
            <a:xfrm>
              <a:off x="5948280" y="60948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432" y="0"/>
                  </a:moveTo>
                  <a:lnTo>
                    <a:pt x="0" y="0"/>
                  </a:lnTo>
                  <a:lnTo>
                    <a:pt x="48" y="1200"/>
                  </a:lnTo>
                  <a:lnTo>
                    <a:pt x="528" y="120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0440" y="187380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48480" y="182880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7238880" y="1371600"/>
                <a:ext cx="86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858000" y="350532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62120" y="5410080"/>
                <a:ext cx="22986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6400800" y="4114800"/>
                <a:ext cx="252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3733920" y="5715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6" name="geaux" descr=""/>
          <p:cNvPicPr/>
          <p:nvPr/>
        </p:nvPicPr>
        <p:blipFill>
          <a:blip r:embed="rId7"/>
          <a:stretch/>
        </p:blipFill>
        <p:spPr>
          <a:xfrm>
            <a:off x="7805880" y="6486480"/>
            <a:ext cx="731520" cy="36684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0575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3524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457200"/>
            <a:ext cx="302760" cy="3505320"/>
            <a:chOff x="2057400" y="457200"/>
            <a:chExt cx="302760" cy="3505320"/>
          </a:xfrm>
        </p:grpSpPr>
        <p:sp>
          <p:nvSpPr>
            <p:cNvPr id="430" name=""/>
            <p:cNvSpPr/>
            <p:nvPr/>
          </p:nvSpPr>
          <p:spPr>
            <a:xfrm>
              <a:off x="2057400" y="685800"/>
              <a:ext cx="152280" cy="1526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3810240"/>
              <a:ext cx="152280" cy="152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2057400" y="457200"/>
                  <a:ext cx="163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209680" y="3581640"/>
                  <a:ext cx="15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0800" y="5486400"/>
                <a:ext cx="2565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58400" y="3960"/>
            <a:ext cx="4158360" cy="368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 IN STEADY STATE (t&lt;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986120" y="750600"/>
            <a:ext cx="582480" cy="930600"/>
            <a:chOff x="1986120" y="750600"/>
            <a:chExt cx="582480" cy="93060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 rot="10800000">
                  <a:off x="1986120" y="750600"/>
                  <a:ext cx="582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2505240" y="84276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" y="40384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095880" y="4724280"/>
                <a:ext cx="2997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457200"/>
          <a:ext cx="662940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629400" cy="2131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43200" y="16668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809880" y="1828800"/>
                <a:ext cx="21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962520" y="11430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419720" y="15238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265572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8" name=""/>
          <p:cNvGrpSpPr/>
          <p:nvPr/>
        </p:nvGrpSpPr>
        <p:grpSpPr>
          <a:xfrm>
            <a:off x="3429000" y="1143000"/>
            <a:ext cx="457200" cy="457200"/>
            <a:chOff x="3429000" y="1143000"/>
            <a:chExt cx="457200" cy="457200"/>
          </a:xfrm>
        </p:grpSpPr>
        <p:sp>
          <p:nvSpPr>
            <p:cNvPr id="449" name=""/>
            <p:cNvSpPr/>
            <p:nvPr/>
          </p:nvSpPr>
          <p:spPr>
            <a:xfrm>
              <a:off x="3429000" y="12193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11430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52280" y="2971800"/>
                <a:ext cx="487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64800" y="3580560"/>
            <a:ext cx="5497920" cy="372240"/>
            <a:chOff x="64800" y="3580560"/>
            <a:chExt cx="5497920" cy="37224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1155600" y="3611520"/>
                  <a:ext cx="4407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64800" y="35805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181480" y="2971800"/>
                <a:ext cx="257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64800" y="4051440"/>
            <a:ext cx="3376800" cy="520560"/>
            <a:chOff x="64800" y="4051440"/>
            <a:chExt cx="3376800" cy="520560"/>
          </a:xfrm>
        </p:grpSpPr>
        <p:sp>
          <p:nvSpPr>
            <p:cNvPr id="457" name=""/>
            <p:cNvSpPr/>
            <p:nvPr/>
          </p:nvSpPr>
          <p:spPr>
            <a:xfrm>
              <a:off x="64800" y="40838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1143000" y="4051440"/>
                  <a:ext cx="22986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"/>
          <p:cNvGrpSpPr/>
          <p:nvPr/>
        </p:nvGrpSpPr>
        <p:grpSpPr>
          <a:xfrm>
            <a:off x="1828800" y="2971800"/>
            <a:ext cx="3276720" cy="1676520"/>
            <a:chOff x="1828800" y="2971800"/>
            <a:chExt cx="3276720" cy="1676520"/>
          </a:xfrm>
        </p:grpSpPr>
        <p:sp>
          <p:nvSpPr>
            <p:cNvPr id="460" name=""/>
            <p:cNvSpPr/>
            <p:nvPr/>
          </p:nvSpPr>
          <p:spPr>
            <a:xfrm>
              <a:off x="1828800" y="4114800"/>
              <a:ext cx="30492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76920" y="2971800"/>
              <a:ext cx="22860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581280" y="420516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3" name=""/>
          <p:cNvGraphicFramePr/>
          <p:nvPr/>
        </p:nvGraphicFramePr>
        <p:xfrm>
          <a:off x="0" y="5105520"/>
          <a:ext cx="56689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05520"/>
                    <a:ext cx="5668920" cy="1616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4120" y="4723560"/>
            <a:ext cx="6627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. CIRCUIT IN STEADY STATE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2438280" y="5562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124080" y="5715000"/>
                <a:ext cx="914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8" name=""/>
          <p:cNvGrpSpPr/>
          <p:nvPr/>
        </p:nvGrpSpPr>
        <p:grpSpPr>
          <a:xfrm>
            <a:off x="5727600" y="4799880"/>
            <a:ext cx="3200400" cy="672120"/>
            <a:chOff x="5727600" y="4799880"/>
            <a:chExt cx="3200400" cy="672120"/>
          </a:xfrm>
        </p:grpSpPr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5727600" y="5181480"/>
                  <a:ext cx="3200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0" name=""/>
            <p:cNvSpPr/>
            <p:nvPr/>
          </p:nvSpPr>
          <p:spPr>
            <a:xfrm>
              <a:off x="7303680" y="479988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330960" y="5575320"/>
                <a:ext cx="2108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172200" y="3581280"/>
                <a:ext cx="2146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9640" y="88200"/>
            <a:ext cx="26085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629400" y="2590920"/>
                <a:ext cx="182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076400" y="2995560"/>
            <a:ext cx="2589120" cy="993960"/>
          </a:xfrm>
          <a:custGeom>
            <a:avLst/>
            <a:gdLst/>
            <a:ahLst/>
            <a:rect l="l" t="t" r="r" b="b"/>
            <a:pathLst>
              <a:path w="1631" h="626">
                <a:moveTo>
                  <a:pt x="943" y="233"/>
                </a:moveTo>
                <a:cubicBezTo>
                  <a:pt x="1041" y="246"/>
                  <a:pt x="1132" y="271"/>
                  <a:pt x="1231" y="279"/>
                </a:cubicBezTo>
                <a:cubicBezTo>
                  <a:pt x="1345" y="277"/>
                  <a:pt x="1460" y="276"/>
                  <a:pt x="1574" y="272"/>
                </a:cubicBezTo>
                <a:cubicBezTo>
                  <a:pt x="1590" y="271"/>
                  <a:pt x="1614" y="278"/>
                  <a:pt x="1621" y="264"/>
                </a:cubicBezTo>
                <a:cubicBezTo>
                  <a:pt x="1631" y="244"/>
                  <a:pt x="1602" y="204"/>
                  <a:pt x="1590" y="186"/>
                </a:cubicBezTo>
                <a:cubicBezTo>
                  <a:pt x="1586" y="147"/>
                  <a:pt x="1596" y="102"/>
                  <a:pt x="1574" y="69"/>
                </a:cubicBezTo>
                <a:cubicBezTo>
                  <a:pt x="1570" y="62"/>
                  <a:pt x="1558" y="65"/>
                  <a:pt x="1551" y="61"/>
                </a:cubicBezTo>
                <a:cubicBezTo>
                  <a:pt x="1514" y="43"/>
                  <a:pt x="1501" y="37"/>
                  <a:pt x="1457" y="30"/>
                </a:cubicBezTo>
                <a:cubicBezTo>
                  <a:pt x="1412" y="14"/>
                  <a:pt x="1384" y="12"/>
                  <a:pt x="1332" y="7"/>
                </a:cubicBezTo>
                <a:cubicBezTo>
                  <a:pt x="1317" y="8"/>
                  <a:pt x="1119" y="0"/>
                  <a:pt x="1052" y="30"/>
                </a:cubicBezTo>
                <a:cubicBezTo>
                  <a:pt x="976" y="64"/>
                  <a:pt x="962" y="89"/>
                  <a:pt x="904" y="147"/>
                </a:cubicBezTo>
                <a:cubicBezTo>
                  <a:pt x="850" y="201"/>
                  <a:pt x="879" y="225"/>
                  <a:pt x="787" y="241"/>
                </a:cubicBezTo>
                <a:cubicBezTo>
                  <a:pt x="725" y="271"/>
                  <a:pt x="781" y="248"/>
                  <a:pt x="670" y="264"/>
                </a:cubicBezTo>
                <a:cubicBezTo>
                  <a:pt x="588" y="275"/>
                  <a:pt x="519" y="289"/>
                  <a:pt x="436" y="295"/>
                </a:cubicBezTo>
                <a:cubicBezTo>
                  <a:pt x="358" y="311"/>
                  <a:pt x="282" y="318"/>
                  <a:pt x="203" y="326"/>
                </a:cubicBezTo>
                <a:cubicBezTo>
                  <a:pt x="134" y="349"/>
                  <a:pt x="153" y="383"/>
                  <a:pt x="109" y="428"/>
                </a:cubicBezTo>
                <a:cubicBezTo>
                  <a:pt x="92" y="476"/>
                  <a:pt x="73" y="488"/>
                  <a:pt x="23" y="498"/>
                </a:cubicBezTo>
                <a:cubicBezTo>
                  <a:pt x="18" y="506"/>
                  <a:pt x="9" y="512"/>
                  <a:pt x="8" y="521"/>
                </a:cubicBezTo>
                <a:cubicBezTo>
                  <a:pt x="0" y="626"/>
                  <a:pt x="21" y="591"/>
                  <a:pt x="117" y="583"/>
                </a:cubicBezTo>
                <a:cubicBezTo>
                  <a:pt x="120" y="573"/>
                  <a:pt x="125" y="552"/>
                  <a:pt x="125" y="552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902120" y="-126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76320" y="380880"/>
          <a:ext cx="413064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41306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666880" y="9036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52280" y="3733920"/>
                <a:ext cx="2756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01520" y="40384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809880" y="304812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981080" y="4038480"/>
                <a:ext cx="1663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952880" y="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141120" y="46936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19320" y="3962520"/>
            <a:ext cx="914400" cy="1168200"/>
            <a:chOff x="1219320" y="3962520"/>
            <a:chExt cx="914400" cy="1168200"/>
          </a:xfrm>
        </p:grpSpPr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1219320" y="4572000"/>
                  <a:ext cx="633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"/>
            <p:cNvSpPr/>
            <p:nvPr/>
          </p:nvSpPr>
          <p:spPr>
            <a:xfrm>
              <a:off x="1905120" y="3962520"/>
              <a:ext cx="228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156960" y="53031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3880" y="4038480"/>
            <a:ext cx="2133720" cy="1586160"/>
            <a:chOff x="1523880" y="4038480"/>
            <a:chExt cx="2133720" cy="158616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1523880" y="533412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3429000" y="4038480"/>
              <a:ext cx="2286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97920" y="575856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INITIAL CONDITIONS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724280" y="887040"/>
            <a:ext cx="3657600" cy="3281760"/>
            <a:chOff x="4724280" y="887040"/>
            <a:chExt cx="3657600" cy="3281760"/>
          </a:xfrm>
        </p:grpSpPr>
        <p:grpSp>
          <p:nvGrpSpPr>
            <p:cNvPr id="498" name=""/>
            <p:cNvGrpSpPr/>
            <p:nvPr/>
          </p:nvGrpSpPr>
          <p:grpSpPr>
            <a:xfrm>
              <a:off x="4724280" y="1192320"/>
              <a:ext cx="3657600" cy="2976480"/>
              <a:chOff x="4724280" y="1192320"/>
              <a:chExt cx="3657600" cy="2976480"/>
            </a:xfrm>
          </p:grpSpPr>
          <p:graphicFrame>
            <p:nvGraphicFramePr>
              <p:cNvPr id="499" name=""/>
              <p:cNvGraphicFramePr/>
              <p:nvPr/>
            </p:nvGraphicFramePr>
            <p:xfrm>
              <a:off x="4724280" y="1192320"/>
              <a:ext cx="3657600" cy="297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1192320"/>
                        <a:ext cx="3657600" cy="29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1" name=""/>
              <p:cNvSpPr/>
              <p:nvPr/>
            </p:nvSpPr>
            <p:spPr>
              <a:xfrm>
                <a:off x="7848720" y="2944800"/>
                <a:ext cx="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7010280" y="180180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3" name=""/>
            <p:cNvSpPr/>
            <p:nvPr/>
          </p:nvSpPr>
          <p:spPr>
            <a:xfrm>
              <a:off x="4813200" y="887040"/>
              <a:ext cx="3335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IRCUIT IN STEADY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RIOR TO 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400800" y="4087800"/>
                <a:ext cx="168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706640" y="48952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702320" y="53071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702320" y="5688000"/>
                <a:ext cx="3504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2743200" y="1063800"/>
            <a:ext cx="645840" cy="2403360"/>
            <a:chOff x="2743200" y="1063800"/>
            <a:chExt cx="645840" cy="2403360"/>
          </a:xfrm>
        </p:grpSpPr>
        <p:grpSp>
          <p:nvGrpSpPr>
            <p:cNvPr id="509" name=""/>
            <p:cNvGrpSpPr/>
            <p:nvPr/>
          </p:nvGrpSpPr>
          <p:grpSpPr>
            <a:xfrm>
              <a:off x="2743200" y="1063800"/>
              <a:ext cx="446040" cy="2403360"/>
              <a:chOff x="2743200" y="1063800"/>
              <a:chExt cx="446040" cy="2403360"/>
            </a:xfrm>
          </p:grpSpPr>
          <p:sp>
            <p:nvSpPr>
              <p:cNvPr id="510" name=""/>
              <p:cNvSpPr/>
              <p:nvPr/>
            </p:nvSpPr>
            <p:spPr>
              <a:xfrm>
                <a:off x="2743200" y="1063800"/>
                <a:ext cx="444600" cy="2403360"/>
              </a:xfrm>
              <a:custGeom>
                <a:avLst/>
                <a:gdLst/>
                <a:ahLst/>
                <a:rect l="l" t="t" r="r" b="b"/>
                <a:pathLst>
                  <a:path w="280" h="1514">
                    <a:moveTo>
                      <a:pt x="0" y="1348"/>
                    </a:moveTo>
                    <a:cubicBezTo>
                      <a:pt x="0" y="899"/>
                      <a:pt x="0" y="449"/>
                      <a:pt x="0" y="0"/>
                    </a:cubicBezTo>
                    <a:cubicBezTo>
                      <a:pt x="93" y="3"/>
                      <a:pt x="280" y="8"/>
                      <a:pt x="280" y="8"/>
                    </a:cubicBezTo>
                    <a:cubicBezTo>
                      <a:pt x="268" y="466"/>
                      <a:pt x="238" y="922"/>
                      <a:pt x="218" y="1380"/>
                    </a:cubicBezTo>
                    <a:cubicBezTo>
                      <a:pt x="221" y="1421"/>
                      <a:pt x="250" y="1470"/>
                      <a:pt x="226" y="1504"/>
                    </a:cubicBezTo>
                    <a:cubicBezTo>
                      <a:pt x="219" y="1514"/>
                      <a:pt x="88" y="1512"/>
                      <a:pt x="62" y="151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1" name=""/>
                  <p:cNvSpPr txBox="1"/>
                  <p:nvPr/>
                </p:nvSpPr>
                <p:spPr>
                  <a:xfrm>
                    <a:off x="2770200" y="12193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3124080" y="2590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080" y="-72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9160" y="0"/>
            <a:ext cx="48898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THEVENIN TO OBTAI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7320" y="425520"/>
            <a:ext cx="56671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 the voltage across the capaci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 the current through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52280" y="118908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8908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342900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12280" y="2286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5105520" y="1447920"/>
          <a:ext cx="2895480" cy="17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28954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531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666880" y="4191120"/>
                <a:ext cx="1219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666880" y="4884840"/>
                <a:ext cx="1447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219400" y="56196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962760" y="52578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76320" y="466560"/>
          <a:ext cx="3581280" cy="31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66560"/>
                    <a:ext cx="3581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165600" y="3470400"/>
            <a:ext cx="443268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variable of interest 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. The model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114800"/>
                <a:ext cx="23623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"/>
          <p:cNvSpPr/>
          <p:nvPr/>
        </p:nvSpPr>
        <p:spPr>
          <a:xfrm>
            <a:off x="105480" y="5070600"/>
            <a:ext cx="443268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d the solution is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120" y="5486400"/>
                <a:ext cx="2895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0" name=""/>
          <p:cNvGraphicFramePr/>
          <p:nvPr/>
        </p:nvGraphicFramePr>
        <p:xfrm>
          <a:off x="4595760" y="44280"/>
          <a:ext cx="3532320" cy="28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44280"/>
                    <a:ext cx="353232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800600" y="2935440"/>
                <a:ext cx="806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38680" y="2971800"/>
                <a:ext cx="263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095880" y="2971800"/>
                <a:ext cx="76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858000" y="2971800"/>
                <a:ext cx="17524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4800600" y="3581280"/>
                <a:ext cx="2438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4419720"/>
                <a:ext cx="24386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029200" y="5183280"/>
                <a:ext cx="3581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6095880" y="5934240"/>
                <a:ext cx="23623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4648320" y="4419720"/>
            <a:ext cx="2286000" cy="2209680"/>
            <a:chOff x="4648320" y="4419720"/>
            <a:chExt cx="2286000" cy="2209680"/>
          </a:xfrm>
        </p:grpSpPr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4670280" y="6095880"/>
                  <a:ext cx="13273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>
              <a:off x="6705720" y="4419720"/>
              <a:ext cx="228600" cy="761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48320" y="6019920"/>
              <a:ext cx="137160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4" name="geaux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8200" y="6490440"/>
            <a:ext cx="33354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xt: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0440" y="304920"/>
            <a:ext cx="86083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VENTIONAL ANALYSIS USING MATHEMATICAL MODELS REQUIRES THE DETERMIN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(A SET OF) EQUATIONS THAT REPRESENT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CE THE MODEL IS OBTAINED ANALYSIS REQUIRES THE SOLUTION OF THE EQUATION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ASES REQU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240" y="1219320"/>
            <a:ext cx="8395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XAMPLE IN NODE OR LOOP ANALYSIS OF RESISTIVE CIRCUITS ONE REPRESENT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BY A SET OF ALGEBRAIC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240" y="3156120"/>
            <a:ext cx="8288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RE ARE INDUCTORS OR CAPACITORS THE MODELS BECOME LINEAR ORD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ERENTIAL EQUATIONS (ODEs). HENCE, IN GENERAL, ONE NEEDS ALL THOSE T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BE ABLE TO ANALYZE CIRCUITS WITH ENERGY STORING E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5880" y="-11160"/>
            <a:ext cx="7495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ALYSIS OF LINEAR CIRCUITS WITH INDUCTORS AND/OR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840" y="4556160"/>
            <a:ext cx="8715240" cy="15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GENERAL APPROACH CAN BE SIMPLIFIED IN SOME SPECIAL CASES WHEN THE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SOLUTION CAN BE KNOWN BEFOREH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IN THESE CASES BECOMES A SIMPLE MATTER OF DETERMINING S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SUCH CASES WILL BE DISCUSSED IN DETAIL FOR THE CASE OF CONSTANT SOURC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THAT ASSUMES THE AVAILABILITY OF THE DIFFERENTIAL EQUATION AND A SECO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ENTIRELY BASED ON ELEMENTARY CIRCUIT ANALYSIS… BUT IT IS NORMALLY LO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040" y="3946680"/>
            <a:ext cx="8075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THOD BASED ON THEVENIN WILL BE DEVELOPED TO DERIV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ANY ARBITRARY LINEAR CIRCUIT WITH ONE ENERGY STORING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720" y="6324480"/>
            <a:ext cx="8501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ALSO DISCUSS THE PERFORMANCE OF LINEAR CIRCUITS TO OTHER SIMPLE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1752480"/>
            <a:ext cx="7332480" cy="1470240"/>
            <a:chOff x="304920" y="1752480"/>
            <a:chExt cx="7332480" cy="1470240"/>
          </a:xfrm>
        </p:grpSpPr>
        <p:graphicFrame>
          <p:nvGraphicFramePr>
            <p:cNvPr id="58" name=""/>
            <p:cNvGraphicFramePr/>
            <p:nvPr/>
          </p:nvGraphicFramePr>
          <p:xfrm>
            <a:off x="304920" y="1752480"/>
            <a:ext cx="3276360" cy="1470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1752480"/>
                      <a:ext cx="3276360" cy="1470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60" name=""/>
            <p:cNvGrpSpPr/>
            <p:nvPr/>
          </p:nvGrpSpPr>
          <p:grpSpPr>
            <a:xfrm>
              <a:off x="3754080" y="1981080"/>
              <a:ext cx="3883320" cy="771480"/>
              <a:chOff x="3754080" y="1981080"/>
              <a:chExt cx="3883320" cy="77148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4740120" y="1981080"/>
              <a:ext cx="2897280" cy="771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740120" y="1981080"/>
                        <a:ext cx="2897280" cy="771480"/>
                      </a:xfrm>
                      <a:prstGeom prst="rect">
                        <a:avLst/>
                      </a:prstGeom>
                      <a:ln w="255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3754080" y="1981080"/>
                <a:ext cx="114084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THE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0" y="3657600"/>
          <a:ext cx="44388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44388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890960" y="3962520"/>
            <a:ext cx="3746880" cy="996840"/>
            <a:chOff x="4890960" y="3962520"/>
            <a:chExt cx="3746880" cy="996840"/>
          </a:xfrm>
        </p:grpSpPr>
        <p:sp>
          <p:nvSpPr>
            <p:cNvPr id="581" name=""/>
            <p:cNvSpPr/>
            <p:nvPr/>
          </p:nvSpPr>
          <p:spPr>
            <a:xfrm>
              <a:off x="4890960" y="3962520"/>
              <a:ext cx="37468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ince K1=0 the solution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562720" y="4343400"/>
                  <a:ext cx="2457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3" name=""/>
          <p:cNvGrpSpPr/>
          <p:nvPr/>
        </p:nvGrpSpPr>
        <p:grpSpPr>
          <a:xfrm>
            <a:off x="5124240" y="4876920"/>
            <a:ext cx="3333960" cy="658800"/>
            <a:chOff x="5124240" y="4876920"/>
            <a:chExt cx="3333960" cy="658800"/>
          </a:xfrm>
        </p:grpSpPr>
        <p:sp>
          <p:nvSpPr>
            <p:cNvPr id="584" name=""/>
            <p:cNvSpPr/>
            <p:nvPr/>
          </p:nvSpPr>
          <p:spPr>
            <a:xfrm>
              <a:off x="5124240" y="50292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Evaluating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7580160" y="4876920"/>
                  <a:ext cx="8780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5505480" y="5502240"/>
                <a:ext cx="2835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7" name=""/>
          <p:cNvGraphicFramePr/>
          <p:nvPr/>
        </p:nvGraphicFramePr>
        <p:xfrm>
          <a:off x="0" y="838080"/>
          <a:ext cx="3581280" cy="26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358128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9" name=""/>
          <p:cNvGrpSpPr/>
          <p:nvPr/>
        </p:nvGrpSpPr>
        <p:grpSpPr>
          <a:xfrm>
            <a:off x="838080" y="4267080"/>
            <a:ext cx="990720" cy="799920"/>
            <a:chOff x="838080" y="4267080"/>
            <a:chExt cx="990720" cy="799920"/>
          </a:xfrm>
        </p:grpSpPr>
        <p:sp>
          <p:nvSpPr>
            <p:cNvPr id="590" name=""/>
            <p:cNvSpPr/>
            <p:nvPr/>
          </p:nvSpPr>
          <p:spPr>
            <a:xfrm>
              <a:off x="838080" y="4267080"/>
              <a:ext cx="990720" cy="79992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80" y="408"/>
                  </a:moveTo>
                  <a:cubicBezTo>
                    <a:pt x="40" y="268"/>
                    <a:pt x="0" y="128"/>
                    <a:pt x="80" y="72"/>
                  </a:cubicBezTo>
                  <a:cubicBezTo>
                    <a:pt x="160" y="16"/>
                    <a:pt x="496" y="0"/>
                    <a:pt x="560" y="72"/>
                  </a:cubicBezTo>
                  <a:cubicBezTo>
                    <a:pt x="624" y="144"/>
                    <a:pt x="480" y="432"/>
                    <a:pt x="464" y="50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1249200" y="4381200"/>
                  <a:ext cx="1443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914400" y="5334120"/>
            <a:ext cx="901800" cy="888840"/>
            <a:chOff x="914400" y="5334120"/>
            <a:chExt cx="901800" cy="888840"/>
          </a:xfrm>
        </p:grpSpPr>
        <p:sp>
          <p:nvSpPr>
            <p:cNvPr id="593" name=""/>
            <p:cNvSpPr/>
            <p:nvPr/>
          </p:nvSpPr>
          <p:spPr>
            <a:xfrm>
              <a:off x="914400" y="5334120"/>
              <a:ext cx="901800" cy="888840"/>
            </a:xfrm>
            <a:custGeom>
              <a:avLst/>
              <a:gdLst/>
              <a:ahLst/>
              <a:rect l="l" t="t" r="r" b="b"/>
              <a:pathLst>
                <a:path w="568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40" y="8"/>
                    <a:pt x="504" y="80"/>
                  </a:cubicBezTo>
                  <a:cubicBezTo>
                    <a:pt x="568" y="152"/>
                    <a:pt x="512" y="332"/>
                    <a:pt x="456" y="51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1333800" y="5461200"/>
                  <a:ext cx="20304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5" name=""/>
          <p:cNvGrpSpPr/>
          <p:nvPr/>
        </p:nvGrpSpPr>
        <p:grpSpPr>
          <a:xfrm>
            <a:off x="1981080" y="4038480"/>
            <a:ext cx="901440" cy="2108160"/>
            <a:chOff x="1981080" y="4038480"/>
            <a:chExt cx="901440" cy="2108160"/>
          </a:xfrm>
        </p:grpSpPr>
        <p:sp>
          <p:nvSpPr>
            <p:cNvPr id="596" name=""/>
            <p:cNvSpPr/>
            <p:nvPr/>
          </p:nvSpPr>
          <p:spPr>
            <a:xfrm>
              <a:off x="1981080" y="4038480"/>
              <a:ext cx="901440" cy="2108160"/>
            </a:xfrm>
            <a:custGeom>
              <a:avLst/>
              <a:gdLst/>
              <a:ahLst/>
              <a:rect l="l" t="t" r="r" b="b"/>
              <a:pathLst>
                <a:path w="568" h="1328">
                  <a:moveTo>
                    <a:pt x="112" y="1328"/>
                  </a:moveTo>
                  <a:cubicBezTo>
                    <a:pt x="56" y="840"/>
                    <a:pt x="0" y="352"/>
                    <a:pt x="64" y="176"/>
                  </a:cubicBezTo>
                  <a:cubicBezTo>
                    <a:pt x="128" y="0"/>
                    <a:pt x="424" y="88"/>
                    <a:pt x="496" y="272"/>
                  </a:cubicBezTo>
                  <a:cubicBezTo>
                    <a:pt x="568" y="456"/>
                    <a:pt x="532" y="868"/>
                    <a:pt x="496" y="128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2463480" y="5079960"/>
                  <a:ext cx="222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191120" y="152280"/>
                <a:ext cx="27432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191120" y="53352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191120" y="838080"/>
                <a:ext cx="26668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7620120" y="609480"/>
                <a:ext cx="1054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5334120" y="1905120"/>
                <a:ext cx="2971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ution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79200" y="0"/>
                <a:ext cx="3426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Use steady sta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ption and continui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 curr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4" name=""/>
          <p:cNvGrpSpPr/>
          <p:nvPr/>
        </p:nvGrpSpPr>
        <p:grpSpPr>
          <a:xfrm>
            <a:off x="762120" y="4952880"/>
            <a:ext cx="2286000" cy="1371600"/>
            <a:chOff x="762120" y="4952880"/>
            <a:chExt cx="2286000" cy="1371600"/>
          </a:xfrm>
        </p:grpSpPr>
        <p:sp>
          <p:nvSpPr>
            <p:cNvPr id="605" name=""/>
            <p:cNvSpPr/>
            <p:nvPr/>
          </p:nvSpPr>
          <p:spPr>
            <a:xfrm>
              <a:off x="762120" y="5105520"/>
              <a:ext cx="152280" cy="228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95480" y="6095880"/>
              <a:ext cx="152640" cy="228600"/>
            </a:xfrm>
            <a:prstGeom prst="ellipse">
              <a:avLst/>
            </a:prstGeom>
            <a:solidFill>
              <a:srgbClr val="993366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1828800" y="4952880"/>
              <a:ext cx="353880" cy="381240"/>
              <a:chOff x="1828800" y="4952880"/>
              <a:chExt cx="353880" cy="381240"/>
            </a:xfrm>
          </p:grpSpPr>
          <p:sp>
            <p:nvSpPr>
              <p:cNvPr id="608" name=""/>
              <p:cNvSpPr/>
              <p:nvPr/>
            </p:nvSpPr>
            <p:spPr>
              <a:xfrm>
                <a:off x="1828800" y="5105520"/>
                <a:ext cx="152280" cy="228600"/>
              </a:xfrm>
              <a:prstGeom prst="ellipse">
                <a:avLst/>
              </a:prstGeom>
              <a:solidFill>
                <a:srgbClr val="ccffcc"/>
              </a:solidFill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"/>
                  <p:cNvSpPr txBox="1"/>
                  <p:nvPr/>
                </p:nvSpPr>
                <p:spPr>
                  <a:xfrm>
                    <a:off x="1981080" y="49528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191120" y="1295280"/>
                <a:ext cx="264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1" name=""/>
          <p:cNvGrpSpPr/>
          <p:nvPr/>
        </p:nvGrpSpPr>
        <p:grpSpPr>
          <a:xfrm>
            <a:off x="914400" y="4038480"/>
            <a:ext cx="3670200" cy="1930680"/>
            <a:chOff x="914400" y="4038480"/>
            <a:chExt cx="3670200" cy="193068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3048120" y="5410080"/>
                  <a:ext cx="1536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3" name=""/>
            <p:cNvSpPr/>
            <p:nvPr/>
          </p:nvSpPr>
          <p:spPr>
            <a:xfrm>
              <a:off x="914400" y="4038480"/>
              <a:ext cx="8380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828800" y="4191120"/>
              <a:ext cx="0" cy="9144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7110360" y="197640"/>
            <a:ext cx="19638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1385280"/>
            <a:ext cx="1979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d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-76320" y="76320"/>
          <a:ext cx="495324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320"/>
                    <a:ext cx="49532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03560" y="1143000"/>
                <a:ext cx="768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4" name=""/>
          <p:cNvGrpSpPr/>
          <p:nvPr/>
        </p:nvGrpSpPr>
        <p:grpSpPr>
          <a:xfrm>
            <a:off x="228600" y="2286000"/>
            <a:ext cx="4433040" cy="1404720"/>
            <a:chOff x="228600" y="2286000"/>
            <a:chExt cx="4433040" cy="1404720"/>
          </a:xfrm>
        </p:grpSpPr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228600" y="2286000"/>
                  <a:ext cx="24638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6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"/>
            <p:cNvSpPr/>
            <p:nvPr/>
          </p:nvSpPr>
          <p:spPr>
            <a:xfrm>
              <a:off x="228960" y="3048120"/>
              <a:ext cx="44326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Hence, if the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s known the problem is sol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34720" y="3699000"/>
            <a:ext cx="2584800" cy="1212840"/>
            <a:chOff x="234720" y="3699000"/>
            <a:chExt cx="2584800" cy="1212840"/>
          </a:xfrm>
        </p:grpSpPr>
        <p:sp>
          <p:nvSpPr>
            <p:cNvPr id="628" name=""/>
            <p:cNvSpPr/>
            <p:nvPr/>
          </p:nvSpPr>
          <p:spPr>
            <a:xfrm>
              <a:off x="234720" y="3699000"/>
              <a:ext cx="196380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del for v_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380880" y="4114800"/>
                  <a:ext cx="243864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30" name=""/>
          <p:cNvGraphicFramePr/>
          <p:nvPr/>
        </p:nvGraphicFramePr>
        <p:xfrm>
          <a:off x="0" y="4724280"/>
          <a:ext cx="495288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495288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133720" y="5170320"/>
                <a:ext cx="9144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638680" y="762120"/>
                <a:ext cx="236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 rot="10800000">
                <a:off x="6095880" y="256320"/>
                <a:ext cx="121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245200" y="1219320"/>
                <a:ext cx="3154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410080" y="1820880"/>
                <a:ext cx="2417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010280" y="3048120"/>
                <a:ext cx="1765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5181480" y="3733920"/>
                <a:ext cx="3557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4800600" y="4572000"/>
                <a:ext cx="838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"/>
          <p:cNvSpPr/>
          <p:nvPr/>
        </p:nvSpPr>
        <p:spPr>
          <a:xfrm>
            <a:off x="5255640" y="5146560"/>
            <a:ext cx="3609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w we need to 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itial value v_c(0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continuity a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ady state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2362320"/>
            <a:ext cx="30492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0" y="0"/>
          <a:ext cx="495288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528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523880" y="2438280"/>
                <a:ext cx="1594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8" name=""/>
          <p:cNvGrpSpPr/>
          <p:nvPr/>
        </p:nvGrpSpPr>
        <p:grpSpPr>
          <a:xfrm>
            <a:off x="122760" y="3062160"/>
            <a:ext cx="4432680" cy="849600"/>
            <a:chOff x="122760" y="3062160"/>
            <a:chExt cx="4432680" cy="849600"/>
          </a:xfrm>
        </p:grpSpPr>
        <p:sp>
          <p:nvSpPr>
            <p:cNvPr id="649" name=""/>
            <p:cNvSpPr/>
            <p:nvPr/>
          </p:nvSpPr>
          <p:spPr>
            <a:xfrm>
              <a:off x="122760" y="3062160"/>
              <a:ext cx="4432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ntinuity of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1523880" y="3505320"/>
                  <a:ext cx="15242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80880" y="4038480"/>
                <a:ext cx="1981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80880" y="4419720"/>
                <a:ext cx="22100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52280" y="4952880"/>
                <a:ext cx="2819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371600" y="5600880"/>
                <a:ext cx="251460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854120" y="5638320"/>
            <a:ext cx="1288440" cy="1215000"/>
            <a:chOff x="7854120" y="5638320"/>
            <a:chExt cx="1288440" cy="1215000"/>
          </a:xfrm>
        </p:grpSpPr>
        <p:pic>
          <p:nvPicPr>
            <p:cNvPr id="657" name="stop" descr=""/>
            <p:cNvPicPr/>
            <p:nvPr/>
          </p:nvPicPr>
          <p:blipFill>
            <a:blip r:embed="rId3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854120" y="5638320"/>
              <a:ext cx="127800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 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3809880"/>
          <a:ext cx="753732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53732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02600" y="54000"/>
            <a:ext cx="2466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N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20" y="488880"/>
            <a:ext cx="8715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UCTORS AND CAPACITORS CAN STORE ENERGY. UNDER SUITABLE CONDITIONS THIS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RELEASED. THE RATE AT WHICH IT IS RELEASED WILL DEPEND ON THE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CIRCUIT CONNECTED TO THE TERMINALS OF THE ENERGY STORING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320" y="1219320"/>
          <a:ext cx="4867200" cy="29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219320"/>
                    <a:ext cx="486720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04480" y="1430280"/>
            <a:ext cx="521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switch on the  left the capacitor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rom the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606200" y="1828800"/>
            <a:ext cx="4461480" cy="2681280"/>
            <a:chOff x="4606200" y="1828800"/>
            <a:chExt cx="4461480" cy="2681280"/>
          </a:xfrm>
        </p:grpSpPr>
        <p:graphicFrame>
          <p:nvGraphicFramePr>
            <p:cNvPr id="76" name=""/>
            <p:cNvGraphicFramePr/>
            <p:nvPr/>
          </p:nvGraphicFramePr>
          <p:xfrm>
            <a:off x="6792840" y="1828800"/>
            <a:ext cx="2274840" cy="2681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92840" y="1828800"/>
                      <a:ext cx="227484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6613560" y="36734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6200" y="2514600"/>
              <a:ext cx="215424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to the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charges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l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62120"/>
                <a:ext cx="3733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2400" y="0"/>
            <a:ext cx="539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NERAL RESPONSE: FIRST ORDER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7240" y="2430360"/>
                <a:ext cx="3503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6920" y="380880"/>
            <a:ext cx="45698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cluding the 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model for the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oltage or the inductor 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ll be shown to be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60" y="3165480"/>
            <a:ext cx="4707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olving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integrating factors,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ies to convert the LHS into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ct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8080" y="4343400"/>
                <a:ext cx="2251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/*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5029200"/>
                <a:ext cx="274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9800" y="5942160"/>
                <a:ext cx="2273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280" y="5848200"/>
                <a:ext cx="412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19720" y="1676520"/>
                <a:ext cx="469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62120" y="1676520"/>
                <a:ext cx="3352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37880" y="2895480"/>
            <a:ext cx="45547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EXPRESSION ALLOWS THE COMP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RESPONSE FOR ANY FORCING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CONCENTRATE IN THE SPECIA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 RIGHT HAND SIDE I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381880" y="914400"/>
                <a:ext cx="582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800600" y="4038480"/>
                <a:ext cx="4038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is called the </m:t>
                        </m:r>
                        <m:r>
                          <m:t xml:space="preserve">time</m:t>
                        </m:r>
                        <m:r>
                          <m:t xml:space="preserve">constant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 will be shown to provide signific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ormation on the reaction speed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609480" y="2057400"/>
            <a:ext cx="5257800" cy="1066680"/>
            <a:chOff x="609480" y="2057400"/>
            <a:chExt cx="5257800" cy="1066680"/>
          </a:xfrm>
        </p:grpSpPr>
        <p:sp>
          <p:nvSpPr>
            <p:cNvPr id="98" name=""/>
            <p:cNvSpPr/>
            <p:nvPr/>
          </p:nvSpPr>
          <p:spPr>
            <a:xfrm>
              <a:off x="609480" y="2590920"/>
              <a:ext cx="3049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20574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29200" y="5410080"/>
                <a:ext cx="35812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itial time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s arbitr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eral expression can be used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udy sequential switching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5360" y="76320"/>
            <a:ext cx="360972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RST ORDER CIRCUIT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1631880"/>
                <a:ext cx="45165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3520" y="762120"/>
                <a:ext cx="3502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25000" y="3165480"/>
            <a:ext cx="3198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f the RHS is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" y="3657600"/>
                <a:ext cx="38098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8600" y="4681440"/>
                <a:ext cx="2666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" y="5562720"/>
                <a:ext cx="38862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76920" y="0"/>
                <a:ext cx="3733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τ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τ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0" y="1066680"/>
                <a:ext cx="4572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05480" y="2087640"/>
                <a:ext cx="45385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077320" y="2895480"/>
                <a:ext cx="685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891320" y="342900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 of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09880"/>
                <a:ext cx="3124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425840" y="4800600"/>
            <a:ext cx="4707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y variable in the circuit i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257800" y="5410080"/>
                <a:ext cx="30481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11160" y="6095880"/>
            <a:ext cx="45698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nly the values of th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_1, K_2 wil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0800" y="4495680"/>
            <a:ext cx="2748600" cy="307080"/>
            <a:chOff x="6400800" y="4495680"/>
            <a:chExt cx="2748600" cy="307080"/>
          </a:xfrm>
        </p:grpSpPr>
        <p:sp>
          <p:nvSpPr>
            <p:cNvPr id="121" name=""/>
            <p:cNvSpPr/>
            <p:nvPr/>
          </p:nvSpPr>
          <p:spPr>
            <a:xfrm>
              <a:off x="8008560" y="4495680"/>
              <a:ext cx="114084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10280" y="3825720"/>
            <a:ext cx="2180880" cy="520200"/>
            <a:chOff x="7010280" y="3825720"/>
            <a:chExt cx="2180880" cy="520200"/>
          </a:xfrm>
        </p:grpSpPr>
        <p:sp>
          <p:nvSpPr>
            <p:cNvPr id="124" name=""/>
            <p:cNvSpPr/>
            <p:nvPr/>
          </p:nvSpPr>
          <p:spPr>
            <a:xfrm>
              <a:off x="7010280" y="41148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6880" y="3825720"/>
              <a:ext cx="103428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76520" y="3886200"/>
          <a:ext cx="628956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628956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46080"/>
          <a:ext cx="7924680" cy="31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080"/>
                    <a:ext cx="7924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889000" y="141120"/>
            <a:ext cx="6154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OLUTION OF THE TRANSIENT AND INTERPRET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geaux" descr=""/>
          <p:cNvPicPr/>
          <p:nvPr/>
        </p:nvPicPr>
        <p:blipFill>
          <a:blip r:embed="rId5"/>
          <a:stretch/>
        </p:blipFill>
        <p:spPr>
          <a:xfrm>
            <a:off x="82580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5100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9765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38480"/>
            <a:ext cx="29682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QUALITATIVE 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MALLER THE TH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HE FASTE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DISAPP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13400" y="2438280"/>
            <a:ext cx="2689560" cy="1309680"/>
            <a:chOff x="6413400" y="2438280"/>
            <a:chExt cx="2689560" cy="1309680"/>
          </a:xfrm>
        </p:grpSpPr>
        <p:sp>
          <p:nvSpPr>
            <p:cNvPr id="136" name=""/>
            <p:cNvSpPr/>
            <p:nvPr/>
          </p:nvSpPr>
          <p:spPr>
            <a:xfrm>
              <a:off x="6413400" y="2438280"/>
              <a:ext cx="567000" cy="68112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40" y="23"/>
                  </a:moveTo>
                  <a:cubicBezTo>
                    <a:pt x="22" y="92"/>
                    <a:pt x="23" y="167"/>
                    <a:pt x="1" y="234"/>
                  </a:cubicBezTo>
                  <a:cubicBezTo>
                    <a:pt x="4" y="281"/>
                    <a:pt x="0" y="328"/>
                    <a:pt x="9" y="374"/>
                  </a:cubicBezTo>
                  <a:cubicBezTo>
                    <a:pt x="15" y="403"/>
                    <a:pt x="85" y="416"/>
                    <a:pt x="110" y="429"/>
                  </a:cubicBezTo>
                  <a:cubicBezTo>
                    <a:pt x="166" y="421"/>
                    <a:pt x="245" y="422"/>
                    <a:pt x="297" y="390"/>
                  </a:cubicBezTo>
                  <a:cubicBezTo>
                    <a:pt x="339" y="332"/>
                    <a:pt x="332" y="249"/>
                    <a:pt x="344" y="179"/>
                  </a:cubicBezTo>
                  <a:cubicBezTo>
                    <a:pt x="341" y="137"/>
                    <a:pt x="357" y="90"/>
                    <a:pt x="336" y="54"/>
                  </a:cubicBezTo>
                  <a:cubicBezTo>
                    <a:pt x="322" y="31"/>
                    <a:pt x="284" y="39"/>
                    <a:pt x="258" y="31"/>
                  </a:cubicBezTo>
                  <a:cubicBezTo>
                    <a:pt x="214" y="18"/>
                    <a:pt x="216" y="18"/>
                    <a:pt x="180" y="0"/>
                  </a:cubicBezTo>
                  <a:cubicBezTo>
                    <a:pt x="144" y="5"/>
                    <a:pt x="118" y="7"/>
                    <a:pt x="86" y="2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0920" y="2923920"/>
              <a:ext cx="255204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less than 2%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yond thi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0280" y="1719360"/>
            <a:ext cx="4187880" cy="1990800"/>
            <a:chOff x="260280" y="1719360"/>
            <a:chExt cx="4187880" cy="1990800"/>
          </a:xfrm>
        </p:grpSpPr>
        <p:sp>
          <p:nvSpPr>
            <p:cNvPr id="139" name=""/>
            <p:cNvSpPr/>
            <p:nvPr/>
          </p:nvSpPr>
          <p:spPr>
            <a:xfrm>
              <a:off x="2403360" y="1719360"/>
              <a:ext cx="2044800" cy="1990800"/>
            </a:xfrm>
            <a:custGeom>
              <a:avLst/>
              <a:gdLst/>
              <a:ahLst/>
              <a:rect l="l" t="t" r="r" b="b"/>
              <a:pathLst>
                <a:path w="1288" h="1254">
                  <a:moveTo>
                    <a:pt x="52" y="0"/>
                  </a:moveTo>
                  <a:cubicBezTo>
                    <a:pt x="96" y="302"/>
                    <a:pt x="0" y="616"/>
                    <a:pt x="76" y="912"/>
                  </a:cubicBezTo>
                  <a:cubicBezTo>
                    <a:pt x="89" y="1024"/>
                    <a:pt x="80" y="960"/>
                    <a:pt x="115" y="1130"/>
                  </a:cubicBezTo>
                  <a:cubicBezTo>
                    <a:pt x="117" y="1140"/>
                    <a:pt x="111" y="1160"/>
                    <a:pt x="122" y="1161"/>
                  </a:cubicBezTo>
                  <a:cubicBezTo>
                    <a:pt x="468" y="1205"/>
                    <a:pt x="802" y="1227"/>
                    <a:pt x="1151" y="1239"/>
                  </a:cubicBezTo>
                  <a:cubicBezTo>
                    <a:pt x="1187" y="1242"/>
                    <a:pt x="1224" y="1254"/>
                    <a:pt x="1260" y="1247"/>
                  </a:cubicBezTo>
                  <a:cubicBezTo>
                    <a:pt x="1271" y="1245"/>
                    <a:pt x="1273" y="1227"/>
                    <a:pt x="1276" y="1216"/>
                  </a:cubicBezTo>
                  <a:cubicBezTo>
                    <a:pt x="1288" y="1167"/>
                    <a:pt x="1284" y="1099"/>
                    <a:pt x="1284" y="10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280" y="3106800"/>
              <a:ext cx="28843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ops 0.632 of 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96680" y="838080"/>
            <a:ext cx="4655160" cy="1662120"/>
            <a:chOff x="2596680" y="838080"/>
            <a:chExt cx="4655160" cy="1662120"/>
          </a:xfrm>
        </p:grpSpPr>
        <p:sp>
          <p:nvSpPr>
            <p:cNvPr id="142" name=""/>
            <p:cNvSpPr/>
            <p:nvPr/>
          </p:nvSpPr>
          <p:spPr>
            <a:xfrm>
              <a:off x="2596680" y="838080"/>
              <a:ext cx="4655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angent reaches x-axis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17560" y="1201680"/>
              <a:ext cx="2152800" cy="1298520"/>
            </a:xfrm>
            <a:custGeom>
              <a:avLst/>
              <a:gdLst/>
              <a:ahLst/>
              <a:rect l="l" t="t" r="r" b="b"/>
              <a:pathLst>
                <a:path w="1356" h="818">
                  <a:moveTo>
                    <a:pt x="0" y="148"/>
                  </a:moveTo>
                  <a:cubicBezTo>
                    <a:pt x="57" y="127"/>
                    <a:pt x="115" y="108"/>
                    <a:pt x="171" y="85"/>
                  </a:cubicBezTo>
                  <a:cubicBezTo>
                    <a:pt x="203" y="72"/>
                    <a:pt x="232" y="51"/>
                    <a:pt x="265" y="39"/>
                  </a:cubicBezTo>
                  <a:cubicBezTo>
                    <a:pt x="320" y="19"/>
                    <a:pt x="374" y="16"/>
                    <a:pt x="429" y="0"/>
                  </a:cubicBezTo>
                  <a:cubicBezTo>
                    <a:pt x="657" y="26"/>
                    <a:pt x="755" y="26"/>
                    <a:pt x="1052" y="31"/>
                  </a:cubicBezTo>
                  <a:cubicBezTo>
                    <a:pt x="1077" y="114"/>
                    <a:pt x="1096" y="158"/>
                    <a:pt x="1145" y="226"/>
                  </a:cubicBezTo>
                  <a:cubicBezTo>
                    <a:pt x="1162" y="275"/>
                    <a:pt x="1179" y="307"/>
                    <a:pt x="1208" y="350"/>
                  </a:cubicBezTo>
                  <a:cubicBezTo>
                    <a:pt x="1221" y="369"/>
                    <a:pt x="1239" y="413"/>
                    <a:pt x="1239" y="413"/>
                  </a:cubicBezTo>
                  <a:cubicBezTo>
                    <a:pt x="1246" y="458"/>
                    <a:pt x="1255" y="502"/>
                    <a:pt x="1270" y="545"/>
                  </a:cubicBezTo>
                  <a:cubicBezTo>
                    <a:pt x="1285" y="632"/>
                    <a:pt x="1275" y="582"/>
                    <a:pt x="1309" y="717"/>
                  </a:cubicBezTo>
                  <a:cubicBezTo>
                    <a:pt x="1316" y="745"/>
                    <a:pt x="1314" y="779"/>
                    <a:pt x="1332" y="802"/>
                  </a:cubicBezTo>
                  <a:cubicBezTo>
                    <a:pt x="1338" y="810"/>
                    <a:pt x="1356" y="818"/>
                    <a:pt x="1356" y="8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86200" y="2610000"/>
            <a:ext cx="5562720" cy="4171680"/>
            <a:chOff x="3886200" y="2610000"/>
            <a:chExt cx="5562720" cy="4171680"/>
          </a:xfrm>
        </p:grpSpPr>
        <p:pic>
          <p:nvPicPr>
            <p:cNvPr id="145" name="EffectOfTimeConstant" descr=""/>
            <p:cNvPicPr/>
            <p:nvPr/>
          </p:nvPicPr>
          <p:blipFill>
            <a:blip r:embed="rId1"/>
            <a:stretch/>
          </p:blipFill>
          <p:spPr>
            <a:xfrm>
              <a:off x="3886200" y="2610000"/>
              <a:ext cx="5562720" cy="4171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086600" y="5429160"/>
                  <a:ext cx="1219320" cy="42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"/>
          <p:cNvSpPr/>
          <p:nvPr/>
        </p:nvSpPr>
        <p:spPr>
          <a:xfrm>
            <a:off x="22320" y="0"/>
            <a:ext cx="25124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80" y="457200"/>
            <a:ext cx="47070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llowing example illust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physical meaning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5120" y="2133720"/>
          <a:ext cx="1862280" cy="17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95120" y="2133720"/>
                    <a:ext cx="18622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4240" y="1752480"/>
            <a:ext cx="2923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harging a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33720" y="3048120"/>
            <a:ext cx="2306520" cy="1051920"/>
            <a:chOff x="2133720" y="3048120"/>
            <a:chExt cx="2306520" cy="105192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133720" y="3389040"/>
                  <a:ext cx="23065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2139480" y="3048120"/>
              <a:ext cx="1415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2760" y="4191120"/>
            <a:ext cx="4432680" cy="1054080"/>
            <a:chOff x="122760" y="4191120"/>
            <a:chExt cx="4432680" cy="105408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28600" y="4191120"/>
                  <a:ext cx="18939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122760" y="4876920"/>
              <a:ext cx="44326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olution can be shown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257800"/>
                <a:ext cx="212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43200" y="4267080"/>
                <a:ext cx="1219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1600200" y="5700600"/>
            <a:ext cx="2273400" cy="368280"/>
            <a:chOff x="1600200" y="5700600"/>
            <a:chExt cx="2273400" cy="368280"/>
          </a:xfrm>
        </p:grpSpPr>
        <p:sp>
          <p:nvSpPr>
            <p:cNvPr id="161" name=""/>
            <p:cNvSpPr/>
            <p:nvPr/>
          </p:nvSpPr>
          <p:spPr>
            <a:xfrm>
              <a:off x="1600200" y="586728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8440" y="5700600"/>
              <a:ext cx="141516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800" y="6018120"/>
            <a:ext cx="41583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practical purpose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apacitor is charged whe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ansient is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799160" y="76320"/>
                <a:ext cx="160164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t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τ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8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τ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  <m:r>
                                        <m:t xml:space="preserve">τ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4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5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498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83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067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352560" y="1006560"/>
            <a:ext cx="2786760" cy="1191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th less than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rror the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negligible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ve tim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743200"/>
            <a:ext cx="609480" cy="1397160"/>
            <a:chOff x="762120" y="2743200"/>
            <a:chExt cx="609480" cy="1397160"/>
          </a:xfrm>
        </p:grpSpPr>
        <p:sp>
          <p:nvSpPr>
            <p:cNvPr id="170" name=""/>
            <p:cNvSpPr/>
            <p:nvPr/>
          </p:nvSpPr>
          <p:spPr>
            <a:xfrm>
              <a:off x="1371600" y="2743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762120" y="3581280"/>
                  <a:ext cx="609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0" y="2133720"/>
            <a:ext cx="1290600" cy="609480"/>
            <a:chOff x="0" y="2133720"/>
            <a:chExt cx="1290600" cy="609480"/>
          </a:xfrm>
        </p:grpSpPr>
        <p:sp>
          <p:nvSpPr>
            <p:cNvPr id="173" name=""/>
            <p:cNvSpPr/>
            <p:nvPr/>
          </p:nvSpPr>
          <p:spPr>
            <a:xfrm flipH="1">
              <a:off x="757080" y="274176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0" y="2133720"/>
                  <a:ext cx="749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33720" y="2133720"/>
                <a:ext cx="1815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a : </m:t>
                        </m:r>
                      </m:e>
                      <m:e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3480" y="1219320"/>
            <a:ext cx="7313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 THE CIRCUIT HAS ONLY 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4320" y="533520"/>
            <a:ext cx="48441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DIFFERENTIAL EQUATIO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440" y="9036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7360" y="838080"/>
            <a:ext cx="1552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440" y="1600200"/>
            <a:ext cx="841032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2. THE DIFFERENTIAL EQUATION FOR THE VARIABLE OF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SIMPLE TO OBTAIN. NORMALLY USING BASIC ANALYSIS TO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.g., KCL, KVL. . . OR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080" y="2514600"/>
            <a:ext cx="8273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3. THE INITIAL CONDITION FOR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KNOWN, OR CAN BE OBTAINED USING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 rot="10800000">
                <a:off x="744480" y="3276360"/>
                <a:ext cx="710424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CT: WHEN ALL INDEPENDENT SOURCES ARE CONST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Y VARIABLE,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IN THE CIRCUI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UTION IS  OF  THE  FORM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86000" y="5410080"/>
            <a:ext cx="7998840" cy="642600"/>
            <a:chOff x="486000" y="5410080"/>
            <a:chExt cx="7998840" cy="642600"/>
          </a:xfrm>
        </p:grpSpPr>
        <p:sp>
          <p:nvSpPr>
            <p:cNvPr id="184" name=""/>
            <p:cNvSpPr/>
            <p:nvPr/>
          </p:nvSpPr>
          <p:spPr>
            <a:xfrm>
              <a:off x="486000" y="5410080"/>
              <a:ext cx="79988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OLUTION STRATEGY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: USE THE DIFFERENTIAL EQUATION AND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ITIAL CONDITIONS TO FIND THE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264000" y="5749920"/>
                  <a:ext cx="83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5480" y="0"/>
            <a:ext cx="4158360" cy="3096360"/>
            <a:chOff x="15480" y="0"/>
            <a:chExt cx="4158360" cy="3096360"/>
          </a:xfrm>
        </p:grpSpPr>
        <p:sp>
          <p:nvSpPr>
            <p:cNvPr id="190" name=""/>
            <p:cNvSpPr/>
            <p:nvPr/>
          </p:nvSpPr>
          <p:spPr>
            <a:xfrm>
              <a:off x="15480" y="0"/>
              <a:ext cx="415836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f the diff eq for y is kn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 the 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480" y="1905120"/>
              <a:ext cx="4158360" cy="11912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diff eq to find tw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re equations by repla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form of solution into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6320" y="685800"/>
                  <a:ext cx="175248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1913760" y="838080"/>
              <a:ext cx="2238120" cy="9169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We can use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fo to 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unknow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0" y="4070520"/>
                <a:ext cx="3886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52280" y="5029200"/>
                <a:ext cx="2254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5762520"/>
                <a:ext cx="3581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0" y="3200400"/>
            <a:ext cx="3886200" cy="682560"/>
            <a:chOff x="0" y="3200400"/>
            <a:chExt cx="3886200" cy="68256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509920" y="3200400"/>
                  <a:ext cx="137628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τ</m:t>
                          </m:r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0" y="3200400"/>
                  <a:ext cx="24638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" name=""/>
          <p:cNvGrpSpPr/>
          <p:nvPr/>
        </p:nvGrpSpPr>
        <p:grpSpPr>
          <a:xfrm>
            <a:off x="4444200" y="116280"/>
            <a:ext cx="4569840" cy="1042200"/>
            <a:chOff x="4444200" y="116280"/>
            <a:chExt cx="4569840" cy="104220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405400" y="756720"/>
                  <a:ext cx="213516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4444200" y="116280"/>
              <a:ext cx="456984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initial condition to 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ne mor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525680" y="1371600"/>
            <a:ext cx="5573520" cy="5334120"/>
            <a:chOff x="1525680" y="1371600"/>
            <a:chExt cx="5573520" cy="5334120"/>
          </a:xfrm>
        </p:grpSpPr>
        <p:sp>
          <p:nvSpPr>
            <p:cNvPr id="204" name=""/>
            <p:cNvSpPr/>
            <p:nvPr/>
          </p:nvSpPr>
          <p:spPr>
            <a:xfrm>
              <a:off x="1525680" y="4952880"/>
              <a:ext cx="987480" cy="841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5562720"/>
              <a:ext cx="914400" cy="1143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62720" y="1371600"/>
                  <a:ext cx="1536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069440" y="2880720"/>
            <a:ext cx="498132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CUT: WRITE DIFFERENTIAL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NORMALIZED FORM WITH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F VARIABLE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724280" y="3886200"/>
                <a:ext cx="307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9" name=""/>
          <p:cNvGrpSpPr/>
          <p:nvPr/>
        </p:nvGrpSpPr>
        <p:grpSpPr>
          <a:xfrm>
            <a:off x="6400800" y="3809880"/>
            <a:ext cx="304920" cy="1295640"/>
            <a:chOff x="6400800" y="3809880"/>
            <a:chExt cx="304920" cy="1295640"/>
          </a:xfrm>
        </p:grpSpPr>
        <p:sp>
          <p:nvSpPr>
            <p:cNvPr id="210" name=""/>
            <p:cNvSpPr/>
            <p:nvPr/>
          </p:nvSpPr>
          <p:spPr>
            <a:xfrm>
              <a:off x="6400800" y="3809880"/>
              <a:ext cx="304920" cy="129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6411960" y="4572000"/>
                  <a:ext cx="2602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2" name=""/>
          <p:cNvGrpSpPr/>
          <p:nvPr/>
        </p:nvGrpSpPr>
        <p:grpSpPr>
          <a:xfrm>
            <a:off x="7467480" y="3809880"/>
            <a:ext cx="381240" cy="1371600"/>
            <a:chOff x="7467480" y="3809880"/>
            <a:chExt cx="381240" cy="1371600"/>
          </a:xfrm>
        </p:grpSpPr>
        <p:sp>
          <p:nvSpPr>
            <p:cNvPr id="213" name=""/>
            <p:cNvSpPr/>
            <p:nvPr/>
          </p:nvSpPr>
          <p:spPr>
            <a:xfrm>
              <a:off x="7467480" y="3809880"/>
              <a:ext cx="38124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7467480" y="4648320"/>
                  <a:ext cx="35244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2:04:06Z</dcterms:created>
  <dc:creator>Jorge Aravena</dc:creator>
  <dc:description/>
  <dc:language>en-US</dc:language>
  <cp:lastModifiedBy>student</cp:lastModifiedBy>
  <dcterms:modified xsi:type="dcterms:W3CDTF">2001-05-23T13:47:38Z</dcterms:modified>
  <cp:revision>22</cp:revision>
  <dc:subject/>
  <dc:title>No Slide Title</dc:title>
</cp:coreProperties>
</file>