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F4D-C045-47B2-A542-606F5C70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D00-1AA9-4757-9AF8-D370850D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0DA-5ABD-4A69-8B3C-B6E6E47C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538-F1E7-4929-989F-524DC7B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382-B03D-436F-9175-B9E3C06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8BA-25FD-4BA0-9497-6DF95EE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E20-67C4-410B-B633-13EAF1A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194-B818-4384-8CB6-B5E43A0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AC0-0DFA-4839-8077-96B1604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A00-6CA0-4E38-A196-A695472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3B2-82C0-4EA9-85EC-DB66BE5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519-0F68-49FA-8D69-2DEDC237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8A50-3ADD-4C80-B941-C6442194D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44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46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8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49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55" name="F06.042_W0654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58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geaux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06.040_W0652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06.043_W0655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76" name="Example6p12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89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6.045B_W0657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geaux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06.045A_W0657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11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12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06.049_W0661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148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155" name="Example6p14_2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162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Example6p14_1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168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14_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180" name="stop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student</cp:lastModifiedBy>
  <dcterms:modified xsi:type="dcterms:W3CDTF">2001-05-23T14:43:54Z</dcterms:modified>
  <cp:revision>6</cp:revision>
  <dc:subject/>
  <dc:title>No Slide Title</dc:title>
</cp:coreProperties>
</file>