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AC8-66F1-457F-B375-2E86EAF7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3D6-7E8C-4D79-BB64-57E32CF4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AFA-9DC0-44CC-9512-A345BA21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28D-3DE2-42CA-AEB4-822660F5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241-8B9F-45AA-AC0A-6A996ACE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DD6-AF37-49BC-B39C-61DF1197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421-B7C3-4595-8BAD-616F5FEB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F1A-35A0-42AC-B8FC-B0CC2B11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D93-5097-4613-AF1F-CD0E0EC9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96F0-642D-418F-8147-FE688120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7BA-5860-425B-9753-786EF786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D91-3B56-4047-B63D-36FE1725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0847-EB43-436D-950A-29608DBBE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20" y="380880"/>
          <a:ext cx="5146560" cy="24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514656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4724280" y="623880"/>
            <a:ext cx="3213360" cy="2423880"/>
            <a:chOff x="4724280" y="623880"/>
            <a:chExt cx="3213360" cy="2423880"/>
          </a:xfrm>
        </p:grpSpPr>
        <p:graphicFrame>
          <p:nvGraphicFramePr>
            <p:cNvPr id="44" name=""/>
            <p:cNvGraphicFramePr/>
            <p:nvPr/>
          </p:nvGraphicFramePr>
          <p:xfrm>
            <a:off x="4724280" y="623880"/>
            <a:ext cx="2770200" cy="242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623880"/>
                      <a:ext cx="2770200" cy="24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5913000" y="1496880"/>
              <a:ext cx="2024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LEMENT+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0"/>
            <a:ext cx="594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 FOR THE UNKNOWN ELEMENT USING A RESISTOR AND A VOLT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2280" y="2590920"/>
            <a:ext cx="5529240" cy="2490840"/>
            <a:chOff x="152280" y="2590920"/>
            <a:chExt cx="5529240" cy="2490840"/>
          </a:xfrm>
        </p:grpSpPr>
        <p:graphicFrame>
          <p:nvGraphicFramePr>
            <p:cNvPr id="50" name=""/>
            <p:cNvGraphicFramePr/>
            <p:nvPr/>
          </p:nvGraphicFramePr>
          <p:xfrm>
            <a:off x="152280" y="2590920"/>
            <a:ext cx="4816440" cy="2490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2590920"/>
                      <a:ext cx="481644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3554640" y="4143240"/>
              <a:ext cx="21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D A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EST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969320" y="1133640"/>
                <a:ext cx="111744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easur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ope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553080" y="21337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" name=""/>
          <p:cNvGrpSpPr/>
          <p:nvPr/>
        </p:nvGrpSpPr>
        <p:grpSpPr>
          <a:xfrm>
            <a:off x="3276720" y="3200400"/>
            <a:ext cx="888840" cy="1219320"/>
            <a:chOff x="3276720" y="3200400"/>
            <a:chExt cx="888840" cy="1219320"/>
          </a:xfrm>
        </p:grpSpPr>
        <p:sp>
          <p:nvSpPr>
            <p:cNvPr id="56" name=""/>
            <p:cNvSpPr/>
            <p:nvPr/>
          </p:nvSpPr>
          <p:spPr>
            <a:xfrm>
              <a:off x="3276720" y="3200400"/>
              <a:ext cx="0" cy="1219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3505320" y="3200400"/>
                  <a:ext cx="660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71600" y="320040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28600" y="426708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19320" y="4191120"/>
                <a:ext cx="107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638680" y="3429000"/>
          <a:ext cx="2478240" cy="2325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38680" y="3429000"/>
                    <a:ext cx="2478240" cy="2325600"/>
                  </a:xfrm>
                  <a:prstGeom prst="rect">
                    <a:avLst/>
                  </a:prstGeom>
                  <a:ln w="255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746280" y="228600"/>
          <a:ext cx="7651440" cy="54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228600"/>
                    <a:ext cx="76514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560" y="5868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VERLOAD 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029200" y="380880"/>
            <a:ext cx="2055960" cy="341280"/>
            <a:chOff x="5029200" y="380880"/>
            <a:chExt cx="2055960" cy="34128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6781680" y="380880"/>
                  <a:ext cx="3034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−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5029200" y="380880"/>
                  <a:ext cx="30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" name=""/>
          <p:cNvGrpSpPr/>
          <p:nvPr/>
        </p:nvGrpSpPr>
        <p:grpSpPr>
          <a:xfrm>
            <a:off x="228600" y="3429000"/>
            <a:ext cx="3211560" cy="711360"/>
            <a:chOff x="228600" y="3429000"/>
            <a:chExt cx="3211560" cy="711360"/>
          </a:xfrm>
        </p:grpSpPr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3200400" y="3429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28600" y="3581280"/>
                  <a:ext cx="1015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200400" y="2590920"/>
                <a:ext cx="67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5080" y="4191120"/>
                <a:ext cx="2006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55680" y="571500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72000" y="3429000"/>
                <a:ext cx="45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80880" y="6095880"/>
                <a:ext cx="2476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9</m:t>
                        </m:r>
                        <m:r>
                          <m:t xml:space="preserve">A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48120" y="5791320"/>
                <a:ext cx="396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3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3809880"/>
            <a:ext cx="259092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POINT MUST GO HIGH WHEN CURRENT EXCEEDS 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28600" y="252900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t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52280" y="609480"/>
          <a:ext cx="29718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9718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52280" y="3060720"/>
                <a:ext cx="34290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PUT                    OUTOUT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04920" y="4114800"/>
                <a:ext cx="2361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19320" y="12193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4495680"/>
                <a:ext cx="21589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04920" y="5486400"/>
                <a:ext cx="2387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76720" y="0"/>
                <a:ext cx="24382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EQUATIONS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715000" y="380880"/>
                <a:ext cx="121932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f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V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3456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15000" y="152388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OO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8" name=""/>
          <p:cNvGraphicFramePr/>
          <p:nvPr/>
        </p:nvGraphicFramePr>
        <p:xfrm>
          <a:off x="3657600" y="1905120"/>
          <a:ext cx="5105520" cy="24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905120"/>
                    <a:ext cx="51055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4687920" y="1905120"/>
            <a:ext cx="3911040" cy="2655720"/>
            <a:chOff x="4687920" y="1905120"/>
            <a:chExt cx="3911040" cy="2655720"/>
          </a:xfrm>
        </p:grpSpPr>
        <p:sp>
          <p:nvSpPr>
            <p:cNvPr id="101" name=""/>
            <p:cNvSpPr/>
            <p:nvPr/>
          </p:nvSpPr>
          <p:spPr>
            <a:xfrm>
              <a:off x="4687920" y="1905120"/>
              <a:ext cx="2082600" cy="2281320"/>
            </a:xfrm>
            <a:custGeom>
              <a:avLst/>
              <a:gdLst/>
              <a:ahLst/>
              <a:rect l="l" t="t" r="r" b="b"/>
              <a:pathLst>
                <a:path w="1312" h="1437">
                  <a:moveTo>
                    <a:pt x="1294" y="350"/>
                  </a:moveTo>
                  <a:cubicBezTo>
                    <a:pt x="1287" y="222"/>
                    <a:pt x="1312" y="203"/>
                    <a:pt x="1208" y="155"/>
                  </a:cubicBezTo>
                  <a:cubicBezTo>
                    <a:pt x="1193" y="148"/>
                    <a:pt x="1177" y="145"/>
                    <a:pt x="1161" y="140"/>
                  </a:cubicBezTo>
                  <a:cubicBezTo>
                    <a:pt x="1116" y="108"/>
                    <a:pt x="1065" y="100"/>
                    <a:pt x="1013" y="85"/>
                  </a:cubicBezTo>
                  <a:cubicBezTo>
                    <a:pt x="852" y="39"/>
                    <a:pt x="697" y="17"/>
                    <a:pt x="530" y="0"/>
                  </a:cubicBezTo>
                  <a:cubicBezTo>
                    <a:pt x="392" y="15"/>
                    <a:pt x="253" y="18"/>
                    <a:pt x="117" y="46"/>
                  </a:cubicBezTo>
                  <a:cubicBezTo>
                    <a:pt x="88" y="52"/>
                    <a:pt x="75" y="92"/>
                    <a:pt x="47" y="101"/>
                  </a:cubicBezTo>
                  <a:cubicBezTo>
                    <a:pt x="29" y="159"/>
                    <a:pt x="28" y="218"/>
                    <a:pt x="0" y="272"/>
                  </a:cubicBezTo>
                  <a:cubicBezTo>
                    <a:pt x="3" y="459"/>
                    <a:pt x="3" y="646"/>
                    <a:pt x="8" y="833"/>
                  </a:cubicBezTo>
                  <a:cubicBezTo>
                    <a:pt x="9" y="865"/>
                    <a:pt x="21" y="969"/>
                    <a:pt x="24" y="1005"/>
                  </a:cubicBezTo>
                  <a:cubicBezTo>
                    <a:pt x="37" y="1147"/>
                    <a:pt x="27" y="1340"/>
                    <a:pt x="203" y="1379"/>
                  </a:cubicBezTo>
                  <a:cubicBezTo>
                    <a:pt x="222" y="1383"/>
                    <a:pt x="330" y="1394"/>
                    <a:pt x="343" y="1395"/>
                  </a:cubicBezTo>
                  <a:cubicBezTo>
                    <a:pt x="385" y="1399"/>
                    <a:pt x="426" y="1408"/>
                    <a:pt x="468" y="1410"/>
                  </a:cubicBezTo>
                  <a:cubicBezTo>
                    <a:pt x="543" y="1414"/>
                    <a:pt x="619" y="1415"/>
                    <a:pt x="694" y="1418"/>
                  </a:cubicBezTo>
                  <a:cubicBezTo>
                    <a:pt x="937" y="1406"/>
                    <a:pt x="977" y="1437"/>
                    <a:pt x="1138" y="1356"/>
                  </a:cubicBezTo>
                  <a:cubicBezTo>
                    <a:pt x="1192" y="1275"/>
                    <a:pt x="1192" y="1176"/>
                    <a:pt x="1208" y="1083"/>
                  </a:cubicBezTo>
                  <a:cubicBezTo>
                    <a:pt x="1205" y="1036"/>
                    <a:pt x="1204" y="990"/>
                    <a:pt x="1200" y="943"/>
                  </a:cubicBezTo>
                  <a:cubicBezTo>
                    <a:pt x="1193" y="864"/>
                    <a:pt x="1146" y="783"/>
                    <a:pt x="1123" y="709"/>
                  </a:cubicBezTo>
                  <a:cubicBezTo>
                    <a:pt x="1114" y="637"/>
                    <a:pt x="1082" y="556"/>
                    <a:pt x="1169" y="530"/>
                  </a:cubicBezTo>
                  <a:cubicBezTo>
                    <a:pt x="1218" y="497"/>
                    <a:pt x="1220" y="455"/>
                    <a:pt x="1247" y="40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83360" y="3980160"/>
              <a:ext cx="331560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TES Vref AND ISOL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stop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3124080" y="4572000"/>
            <a:ext cx="5394600" cy="2166120"/>
            <a:chOff x="3124080" y="4572000"/>
            <a:chExt cx="5394600" cy="2166120"/>
          </a:xfrm>
        </p:grpSpPr>
        <p:graphicFrame>
          <p:nvGraphicFramePr>
            <p:cNvPr id="106" name=""/>
            <p:cNvGraphicFramePr/>
            <p:nvPr/>
          </p:nvGraphicFramePr>
          <p:xfrm>
            <a:off x="3124080" y="4572000"/>
            <a:ext cx="5105520" cy="1955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24080" y="4572000"/>
                      <a:ext cx="5105520" cy="19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4584240" y="6400800"/>
              <a:ext cx="393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ing circuit using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20:58:31Z</dcterms:created>
  <dc:creator>Jorge Aravena</dc:creator>
  <dc:description/>
  <dc:language>en-US</dc:language>
  <cp:lastModifiedBy>Jorge Aravena</cp:lastModifiedBy>
  <dcterms:modified xsi:type="dcterms:W3CDTF">2001-04-23T21:00:04Z</dcterms:modified>
  <cp:revision>1</cp:revision>
  <dc:subject/>
  <dc:title>No Slide Title</dc:title>
</cp:coreProperties>
</file>