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wmf" ContentType="image/x-wmf"/>
  <Override PartName="/ppt/media/image29.png" ContentType="image/png"/>
  <Override PartName="/ppt/media/image26.wmf" ContentType="image/x-wmf"/>
  <Override PartName="/ppt/media/image3.wmf" ContentType="image/x-wmf"/>
  <Override PartName="/ppt/media/image27.png" ContentType="image/png"/>
  <Override PartName="/ppt/media/image4.png" ContentType="image/png"/>
  <Override PartName="/ppt/media/image34.png" ContentType="image/png"/>
  <Override PartName="/ppt/media/image10.png" ContentType="image/png"/>
  <Override PartName="/ppt/media/image47.png" ContentType="image/png"/>
  <Override PartName="/ppt/media/image6.png" ContentType="image/png"/>
  <Override PartName="/ppt/media/image36.png" ContentType="image/png"/>
  <Override PartName="/ppt/media/image37.wmf" ContentType="image/x-wmf"/>
  <Override PartName="/ppt/media/image54.png" ContentType="image/png"/>
  <Override PartName="/ppt/media/image40.png" ContentType="image/png"/>
  <Override PartName="/ppt/media/image32.png" ContentType="image/png"/>
  <Override PartName="/ppt/media/image7.png" ContentType="image/png"/>
  <Override PartName="/ppt/media/image43.wmf" ContentType="image/x-wmf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1.png" ContentType="image/png"/>
  <Override PartName="/ppt/media/image53.png" ContentType="image/png"/>
  <Override PartName="/ppt/media/image30.png" ContentType="image/png"/>
  <Override PartName="/ppt/media/image28.png" ContentType="image/png"/>
  <Override PartName="/ppt/media/image13.wmf" ContentType="image/x-wmf"/>
  <Override PartName="/ppt/media/image52.png" ContentType="image/png"/>
  <Override PartName="/ppt/media/image5.png" ContentType="image/png"/>
  <Override PartName="/ppt/media/image35.png" ContentType="image/png"/>
  <Override PartName="/ppt/media/image39.png" ContentType="image/png"/>
  <Override PartName="/ppt/media/image42.wmf" ContentType="image/x-wmf"/>
  <Override PartName="/ppt/media/image9.png" ContentType="image/png"/>
  <Override PartName="/ppt/media/image49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A565-E313-4B66-91DE-326E176F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A759-77CC-4EBA-8064-9137A015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99E8-2817-4577-8679-092B85758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07F7-38CA-4EAE-A74F-E5CAF3F96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3B0C-B70F-4B06-9B4D-85C90B06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FF8F-956D-40AD-87B7-B2DDC1EB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306A-5A30-4D03-9C48-7BB9CA7B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7525-D4F3-425A-9B07-61F55960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1B8C-5829-4FBF-B499-30158208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5016-660B-41B7-9FEB-7DA07656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C8FE-FBD8-4CD8-8C2C-AF8E837B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FD23-EFB6-4916-8A1F-389E4EDC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66D9-FD28-4AC0-83BC-486DDAE6E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png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png"/><Relationship Id="rId11" Type="http://schemas.openxmlformats.org/officeDocument/2006/relationships/image" Target="../media/image1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9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676520"/>
            <a:ext cx="8305920" cy="160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The second  systematic technique to determine all currents and voltages in a circ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9880" y="3587760"/>
            <a:ext cx="7456320" cy="520200"/>
          </a:xfrm>
          <a:prstGeom prst="rect">
            <a:avLst/>
          </a:prstGeom>
          <a:solidFill>
            <a:srgbClr val="cce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T IS DUAL TO NODE ANALYSIS - IT FIRST DETERMINES ALL CURRENTS IN A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THEN IT USES OHM’S LAW TO COMPUTE NECESSARY VOLT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87680" y="4502160"/>
            <a:ext cx="7315920" cy="733320"/>
          </a:xfrm>
          <a:prstGeom prst="rect">
            <a:avLst/>
          </a:prstGeom>
          <a:solidFill>
            <a:srgbClr val="cce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RE ARE SITUATION WHERE NODE ANALYSIS IS NOT AN EFFICIENT TECHN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WHERE THE NUMBER OF EQUATIONS REQUIRED BY THIS NEW METHOD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GNIFICANTLY SMALL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79280" y="436680"/>
            <a:ext cx="335052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LOOP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"/>
          <p:cNvGraphicFramePr/>
          <p:nvPr/>
        </p:nvGraphicFramePr>
        <p:xfrm>
          <a:off x="2743200" y="76320"/>
          <a:ext cx="3809880" cy="23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76320"/>
                    <a:ext cx="3809880" cy="23526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668680" y="2454120"/>
            <a:ext cx="284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OOKKEEPING: B = 7, N =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429000" y="1141560"/>
            <a:ext cx="533520" cy="838080"/>
            <a:chOff x="3429000" y="1141560"/>
            <a:chExt cx="533520" cy="838080"/>
          </a:xfrm>
        </p:grpSpPr>
        <p:sp>
          <p:nvSpPr>
            <p:cNvPr id="332" name=""/>
            <p:cNvSpPr/>
            <p:nvPr/>
          </p:nvSpPr>
          <p:spPr>
            <a:xfrm>
              <a:off x="3429000" y="1141560"/>
              <a:ext cx="533520" cy="838080"/>
            </a:xfrm>
            <a:custGeom>
              <a:avLst/>
              <a:gdLst/>
              <a:ahLst/>
              <a:rect l="l" t="t" r="r" b="b"/>
              <a:pathLst>
                <a:path w="336" h="528">
                  <a:moveTo>
                    <a:pt x="48" y="528"/>
                  </a:moveTo>
                  <a:lnTo>
                    <a:pt x="0" y="0"/>
                  </a:lnTo>
                  <a:lnTo>
                    <a:pt x="336" y="0"/>
                  </a:lnTo>
                  <a:lnTo>
                    <a:pt x="336" y="336"/>
                  </a:lnTo>
                  <a:lnTo>
                    <a:pt x="144" y="336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3" name=""/>
                <p:cNvSpPr txBox="1"/>
                <p:nvPr/>
              </p:nvSpPr>
              <p:spPr>
                <a:xfrm>
                  <a:off x="3657600" y="12193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4" name=""/>
          <p:cNvGrpSpPr/>
          <p:nvPr/>
        </p:nvGrpSpPr>
        <p:grpSpPr>
          <a:xfrm>
            <a:off x="4495680" y="533520"/>
            <a:ext cx="457200" cy="609480"/>
            <a:chOff x="4495680" y="533520"/>
            <a:chExt cx="457200" cy="609480"/>
          </a:xfrm>
        </p:grpSpPr>
        <p:sp>
          <p:nvSpPr>
            <p:cNvPr id="335" name=""/>
            <p:cNvSpPr/>
            <p:nvPr/>
          </p:nvSpPr>
          <p:spPr>
            <a:xfrm>
              <a:off x="4495680" y="533520"/>
              <a:ext cx="457200" cy="609480"/>
            </a:xfrm>
            <a:custGeom>
              <a:avLst/>
              <a:gdLst/>
              <a:ahLst/>
              <a:rect l="l" t="t" r="r" b="b"/>
              <a:pathLst>
                <a:path w="288" h="384">
                  <a:moveTo>
                    <a:pt x="0" y="384"/>
                  </a:moveTo>
                  <a:lnTo>
                    <a:pt x="0" y="0"/>
                  </a:lnTo>
                  <a:lnTo>
                    <a:pt x="288" y="0"/>
                  </a:lnTo>
                  <a:lnTo>
                    <a:pt x="288" y="240"/>
                  </a:lnTo>
                  <a:lnTo>
                    <a:pt x="96" y="24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6" name=""/>
                <p:cNvSpPr txBox="1"/>
                <p:nvPr/>
              </p:nvSpPr>
              <p:spPr>
                <a:xfrm>
                  <a:off x="4636800" y="53352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7" name=""/>
          <p:cNvGrpSpPr/>
          <p:nvPr/>
        </p:nvGrpSpPr>
        <p:grpSpPr>
          <a:xfrm>
            <a:off x="4419720" y="1676520"/>
            <a:ext cx="533160" cy="533160"/>
            <a:chOff x="4419720" y="1676520"/>
            <a:chExt cx="533160" cy="533160"/>
          </a:xfrm>
        </p:grpSpPr>
        <p:sp>
          <p:nvSpPr>
            <p:cNvPr id="338" name=""/>
            <p:cNvSpPr/>
            <p:nvPr/>
          </p:nvSpPr>
          <p:spPr>
            <a:xfrm>
              <a:off x="4419720" y="1676520"/>
              <a:ext cx="53316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0" y="336"/>
                  </a:moveTo>
                  <a:lnTo>
                    <a:pt x="0" y="0"/>
                  </a:lnTo>
                  <a:lnTo>
                    <a:pt x="288" y="0"/>
                  </a:lnTo>
                  <a:lnTo>
                    <a:pt x="336" y="336"/>
                  </a:lnTo>
                  <a:lnTo>
                    <a:pt x="144" y="336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9" name=""/>
                <p:cNvSpPr txBox="1"/>
                <p:nvPr/>
              </p:nvSpPr>
              <p:spPr>
                <a:xfrm>
                  <a:off x="4571640" y="1828800"/>
                  <a:ext cx="228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0" name=""/>
          <p:cNvGrpSpPr/>
          <p:nvPr/>
        </p:nvGrpSpPr>
        <p:grpSpPr>
          <a:xfrm>
            <a:off x="5257800" y="431640"/>
            <a:ext cx="782640" cy="1778040"/>
            <a:chOff x="5257800" y="431640"/>
            <a:chExt cx="782640" cy="1778040"/>
          </a:xfrm>
        </p:grpSpPr>
        <p:sp>
          <p:nvSpPr>
            <p:cNvPr id="341" name=""/>
            <p:cNvSpPr/>
            <p:nvPr/>
          </p:nvSpPr>
          <p:spPr>
            <a:xfrm>
              <a:off x="5257800" y="431640"/>
              <a:ext cx="782640" cy="1778040"/>
            </a:xfrm>
            <a:custGeom>
              <a:avLst/>
              <a:gdLst/>
              <a:ahLst/>
              <a:rect l="l" t="t" r="r" b="b"/>
              <a:pathLst>
                <a:path w="493" h="1120">
                  <a:moveTo>
                    <a:pt x="0" y="736"/>
                  </a:moveTo>
                  <a:lnTo>
                    <a:pt x="0" y="64"/>
                  </a:lnTo>
                  <a:cubicBezTo>
                    <a:pt x="493" y="155"/>
                    <a:pt x="416" y="0"/>
                    <a:pt x="416" y="375"/>
                  </a:cubicBezTo>
                  <a:lnTo>
                    <a:pt x="432" y="1120"/>
                  </a:lnTo>
                  <a:lnTo>
                    <a:pt x="96" y="112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5639040" y="6858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3" name=""/>
          <p:cNvSpPr/>
          <p:nvPr/>
        </p:nvSpPr>
        <p:spPr>
          <a:xfrm>
            <a:off x="6428520" y="609480"/>
            <a:ext cx="24210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1. DRAW MESH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0880" y="2819520"/>
            <a:ext cx="35946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2. WRITE MESH EQUATIONS. USE KV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380880" y="3200400"/>
                <a:ext cx="3594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SH 1:  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380880" y="3505320"/>
                <a:ext cx="4356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SH 2: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380880" y="3809880"/>
                <a:ext cx="4216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SH 3:  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80880" y="4114800"/>
                <a:ext cx="3517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SH 4:  </m:t>
                    </m:r>
                    <m:r>
                      <m:t xml:space="preserve">9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5080320" y="4495680"/>
            <a:ext cx="263448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QUATIONS BY INSP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5524560" y="4861080"/>
                <a:ext cx="1905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524560" y="516564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5524560" y="5470560"/>
                <a:ext cx="2476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5524560" y="577548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54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8120" y="4876920"/>
            <a:ext cx="4569840" cy="6426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HOOSE YOUR FAVORITE TECH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TO SOLVE THE SYSTEM OF EQ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838080" y="722160"/>
          <a:ext cx="7118640" cy="32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22160"/>
                    <a:ext cx="7118640" cy="32403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2336760" y="417600"/>
          <a:ext cx="476568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6760" y="417600"/>
                    <a:ext cx="4765680" cy="4190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110160" y="0"/>
            <a:ext cx="5804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IRCUITS WITH INDEPENDENT CURR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32760" y="3886200"/>
            <a:ext cx="4347720" cy="898920"/>
            <a:chOff x="32760" y="3886200"/>
            <a:chExt cx="4347720" cy="898920"/>
          </a:xfrm>
        </p:grpSpPr>
        <p:sp>
          <p:nvSpPr>
            <p:cNvPr id="364" name=""/>
            <p:cNvSpPr/>
            <p:nvPr/>
          </p:nvSpPr>
          <p:spPr>
            <a:xfrm>
              <a:off x="39240" y="3886200"/>
              <a:ext cx="434124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RE IS NO RELATIONSHIP BETWEEN V1 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 SOURCE CURRENT! HOWEVER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2760" y="4478040"/>
              <a:ext cx="327456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1 CURRENT IS CONSTRAIN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3760" y="4857840"/>
            <a:ext cx="2722320" cy="307080"/>
            <a:chOff x="23760" y="4857840"/>
            <a:chExt cx="2722320" cy="307080"/>
          </a:xfrm>
        </p:grpSpPr>
        <p:sp>
          <p:nvSpPr>
            <p:cNvPr id="367" name=""/>
            <p:cNvSpPr/>
            <p:nvPr/>
          </p:nvSpPr>
          <p:spPr>
            <a:xfrm>
              <a:off x="23760" y="4857840"/>
              <a:ext cx="178092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1 EQ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8" name=""/>
                <p:cNvSpPr txBox="1"/>
                <p:nvPr/>
              </p:nvSpPr>
              <p:spPr>
                <a:xfrm>
                  <a:off x="1844640" y="4857840"/>
                  <a:ext cx="90144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9" name=""/>
          <p:cNvGrpSpPr/>
          <p:nvPr/>
        </p:nvGrpSpPr>
        <p:grpSpPr>
          <a:xfrm>
            <a:off x="18000" y="5237280"/>
            <a:ext cx="4049280" cy="430200"/>
            <a:chOff x="18000" y="5237280"/>
            <a:chExt cx="4049280" cy="430200"/>
          </a:xfrm>
        </p:grpSpPr>
        <p:sp>
          <p:nvSpPr>
            <p:cNvPr id="370" name=""/>
            <p:cNvSpPr/>
            <p:nvPr/>
          </p:nvSpPr>
          <p:spPr>
            <a:xfrm>
              <a:off x="18000" y="5237280"/>
              <a:ext cx="8208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71" name=""/>
            <p:cNvGraphicFramePr/>
            <p:nvPr/>
          </p:nvGraphicFramePr>
          <p:xfrm>
            <a:off x="838080" y="5237280"/>
            <a:ext cx="3229200" cy="430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7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8080" y="5237280"/>
                      <a:ext cx="3229200" cy="4302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373" name=""/>
          <p:cNvGrpSpPr/>
          <p:nvPr/>
        </p:nvGrpSpPr>
        <p:grpSpPr>
          <a:xfrm>
            <a:off x="23760" y="5716440"/>
            <a:ext cx="3573360" cy="307080"/>
            <a:chOff x="23760" y="5716440"/>
            <a:chExt cx="3573360" cy="307080"/>
          </a:xfrm>
        </p:grpSpPr>
        <mc:AlternateContent>
          <mc:Choice xmlns:a14="http://schemas.microsoft.com/office/drawing/2010/main" Requires="a14">
            <p:sp>
              <p:nvSpPr>
                <p:cNvPr id="374" name=""/>
                <p:cNvSpPr txBox="1"/>
                <p:nvPr/>
              </p:nvSpPr>
              <p:spPr>
                <a:xfrm>
                  <a:off x="1844640" y="5716440"/>
                  <a:ext cx="175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8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5" name=""/>
            <p:cNvSpPr/>
            <p:nvPr/>
          </p:nvSpPr>
          <p:spPr>
            <a:xfrm>
              <a:off x="23760" y="5716440"/>
              <a:ext cx="178092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BY INSPECTION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0" y="6019920"/>
                <a:ext cx="4673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4611240" y="4038480"/>
            <a:ext cx="4341240" cy="9464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URRENT SOURCES THAT ARE NOT SHA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Y OTHER MESHES (OR LOOPS) SERVE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EFINE A MESH (LOOP) CURRENT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DUCE THE NUMBER OF REQUIRED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974120" y="5197320"/>
            <a:ext cx="402120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 OBTAIN V1 APPLY KVL TO ANY 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ATH THAT INCLUDES V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2440080" y="1671480"/>
            <a:ext cx="3276360" cy="1470960"/>
            <a:chOff x="2440080" y="1671480"/>
            <a:chExt cx="3276360" cy="1470960"/>
          </a:xfrm>
        </p:grpSpPr>
        <p:sp>
          <p:nvSpPr>
            <p:cNvPr id="380" name=""/>
            <p:cNvSpPr/>
            <p:nvPr/>
          </p:nvSpPr>
          <p:spPr>
            <a:xfrm>
              <a:off x="2440080" y="1671480"/>
              <a:ext cx="3276360" cy="1447920"/>
            </a:xfrm>
            <a:custGeom>
              <a:avLst/>
              <a:gdLst/>
              <a:ahLst/>
              <a:rect l="l" t="t" r="r" b="b"/>
              <a:pathLst>
                <a:path w="2064" h="912">
                  <a:moveTo>
                    <a:pt x="0" y="912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064" y="912"/>
                  </a:lnTo>
                  <a:lnTo>
                    <a:pt x="192" y="912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368880" y="2835360"/>
              <a:ext cx="500760" cy="3070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82" name=""/>
          <p:cNvGraphicFramePr/>
          <p:nvPr/>
        </p:nvGraphicFramePr>
        <p:xfrm>
          <a:off x="4952880" y="5892840"/>
          <a:ext cx="3876840" cy="636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5892840"/>
                    <a:ext cx="3876840" cy="6364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84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2057400" y="558720"/>
          <a:ext cx="6324480" cy="317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558720"/>
                    <a:ext cx="6324480" cy="317520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2617920" y="111240"/>
                <a:ext cx="5688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USING MESH ANALYSI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"/>
          <p:cNvSpPr/>
          <p:nvPr/>
        </p:nvSpPr>
        <p:spPr>
          <a:xfrm>
            <a:off x="393840" y="3657600"/>
            <a:ext cx="4447800" cy="5202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WO MESH CURRENTS ARE DEFINED BY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1079640" y="4191120"/>
                <a:ext cx="2463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2" name=""/>
          <p:cNvGrpSpPr/>
          <p:nvPr/>
        </p:nvGrpSpPr>
        <p:grpSpPr>
          <a:xfrm>
            <a:off x="4742640" y="4191120"/>
            <a:ext cx="4401360" cy="1066680"/>
            <a:chOff x="4742640" y="4191120"/>
            <a:chExt cx="4401360" cy="1066680"/>
          </a:xfrm>
        </p:grpSpPr>
        <p:sp>
          <p:nvSpPr>
            <p:cNvPr id="393" name=""/>
            <p:cNvSpPr/>
            <p:nvPr/>
          </p:nvSpPr>
          <p:spPr>
            <a:xfrm>
              <a:off x="4742640" y="4191120"/>
              <a:ext cx="8208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94" name=""/>
            <p:cNvGraphicFramePr/>
            <p:nvPr/>
          </p:nvGraphicFramePr>
          <p:xfrm>
            <a:off x="4743360" y="4570560"/>
            <a:ext cx="4400640" cy="687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43360" y="4570560"/>
                      <a:ext cx="4400640" cy="6872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396" name=""/>
          <p:cNvGrpSpPr/>
          <p:nvPr/>
        </p:nvGrpSpPr>
        <p:grpSpPr>
          <a:xfrm>
            <a:off x="4750200" y="5257800"/>
            <a:ext cx="4241160" cy="380520"/>
            <a:chOff x="4750200" y="5257800"/>
            <a:chExt cx="4241160" cy="380520"/>
          </a:xfrm>
        </p:grpSpPr>
        <p:sp>
          <p:nvSpPr>
            <p:cNvPr id="397" name=""/>
            <p:cNvSpPr/>
            <p:nvPr/>
          </p:nvSpPr>
          <p:spPr>
            <a:xfrm>
              <a:off x="4750200" y="5257800"/>
              <a:ext cx="178092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BY INSPECTION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8" name=""/>
                <p:cNvSpPr txBox="1"/>
                <p:nvPr/>
              </p:nvSpPr>
              <p:spPr>
                <a:xfrm>
                  <a:off x="6552360" y="5257800"/>
                  <a:ext cx="2439000" cy="3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4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4856040" y="5715000"/>
                <a:ext cx="3627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0" name=""/>
          <p:cNvGrpSpPr/>
          <p:nvPr/>
        </p:nvGrpSpPr>
        <p:grpSpPr>
          <a:xfrm>
            <a:off x="7020000" y="1219320"/>
            <a:ext cx="1341000" cy="2133360"/>
            <a:chOff x="7020000" y="1219320"/>
            <a:chExt cx="1341000" cy="2133360"/>
          </a:xfrm>
        </p:grpSpPr>
        <p:sp>
          <p:nvSpPr>
            <p:cNvPr id="401" name=""/>
            <p:cNvSpPr/>
            <p:nvPr/>
          </p:nvSpPr>
          <p:spPr>
            <a:xfrm>
              <a:off x="7020000" y="1219320"/>
              <a:ext cx="735480" cy="2133360"/>
            </a:xfrm>
            <a:custGeom>
              <a:avLst/>
              <a:gdLst/>
              <a:ahLst/>
              <a:rect l="l" t="t" r="r" b="b"/>
              <a:pathLst>
                <a:path w="480" h="1344">
                  <a:moveTo>
                    <a:pt x="480" y="480"/>
                  </a:moveTo>
                  <a:lnTo>
                    <a:pt x="480" y="0"/>
                  </a:lnTo>
                  <a:lnTo>
                    <a:pt x="0" y="0"/>
                  </a:lnTo>
                  <a:lnTo>
                    <a:pt x="0" y="1344"/>
                  </a:lnTo>
                  <a:lnTo>
                    <a:pt x="480" y="1344"/>
                  </a:lnTo>
                  <a:lnTo>
                    <a:pt x="480" y="1008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113600" y="1828440"/>
              <a:ext cx="1247400" cy="3070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 FOR V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390600" y="6134040"/>
            <a:ext cx="3717720" cy="647640"/>
            <a:chOff x="390600" y="6134040"/>
            <a:chExt cx="3717720" cy="647640"/>
          </a:xfrm>
        </p:grpSpPr>
        <p:graphicFrame>
          <p:nvGraphicFramePr>
            <p:cNvPr id="404" name=""/>
            <p:cNvGraphicFramePr/>
            <p:nvPr/>
          </p:nvGraphicFramePr>
          <p:xfrm>
            <a:off x="1614600" y="6134040"/>
            <a:ext cx="2493720" cy="647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0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614600" y="6134040"/>
                      <a:ext cx="2493720" cy="6476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06" name=""/>
            <p:cNvSpPr/>
            <p:nvPr/>
          </p:nvSpPr>
          <p:spPr>
            <a:xfrm>
              <a:off x="390600" y="6134040"/>
              <a:ext cx="124740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USE KVL 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COMPUTE V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7" name="geaux" descr=""/>
          <p:cNvPicPr/>
          <p:nvPr/>
        </p:nvPicPr>
        <p:blipFill>
          <a:blip r:embed="rId7"/>
          <a:stretch/>
        </p:blipFill>
        <p:spPr>
          <a:xfrm>
            <a:off x="8458200" y="6481800"/>
            <a:ext cx="706320" cy="366840"/>
          </a:xfrm>
          <a:prstGeom prst="rect">
            <a:avLst/>
          </a:prstGeom>
          <a:ln w="0">
            <a:noFill/>
          </a:ln>
        </p:spPr>
      </p:pic>
      <p:sp>
        <p:nvSpPr>
          <p:cNvPr id="408" name="">
            <a:hlinkClick r:id="" action="ppaction://hlinkshowjump?jump=nextslide"/>
          </p:cNvPr>
          <p:cNvSpPr/>
          <p:nvPr/>
        </p:nvSpPr>
        <p:spPr>
          <a:xfrm>
            <a:off x="4827600" y="6620040"/>
            <a:ext cx="352440" cy="228600"/>
          </a:xfrm>
          <a:custGeom>
            <a:avLst/>
            <a:gdLst>
              <a:gd name="textAreaLeft" fmla="*/ 14760 w 352440"/>
              <a:gd name="textAreaRight" fmla="*/ 337680 w 352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3283" h="21600">
                <a:moveTo>
                  <a:pt x="0" y="0"/>
                </a:moveTo>
                <a:lnTo>
                  <a:pt x="33283" y="0"/>
                </a:lnTo>
                <a:lnTo>
                  <a:pt x="33283" y="21600"/>
                </a:lnTo>
                <a:lnTo>
                  <a:pt x="0" y="21600"/>
                </a:lnTo>
                <a:close/>
              </a:path>
              <a:path fill="lightenLess" w="33283" h="21600">
                <a:moveTo>
                  <a:pt x="0" y="0"/>
                </a:moveTo>
                <a:lnTo>
                  <a:pt x="33283" y="0"/>
                </a:lnTo>
                <a:lnTo>
                  <a:pt x="31883" y="1400"/>
                </a:lnTo>
                <a:lnTo>
                  <a:pt x="1400" y="1400"/>
                </a:lnTo>
                <a:close/>
              </a:path>
              <a:path fill="darken" w="33283" h="21600">
                <a:moveTo>
                  <a:pt x="33283" y="0"/>
                </a:moveTo>
                <a:lnTo>
                  <a:pt x="33283" y="21600"/>
                </a:lnTo>
                <a:lnTo>
                  <a:pt x="31883" y="20200"/>
                </a:lnTo>
                <a:lnTo>
                  <a:pt x="31883" y="1400"/>
                </a:lnTo>
                <a:close/>
              </a:path>
              <a:path fill="darkenLess" w="33283" h="21600">
                <a:moveTo>
                  <a:pt x="33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83" y="20200"/>
                </a:lnTo>
                <a:close/>
              </a:path>
              <a:path fill="lighten" w="33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283" h="21600">
                <a:moveTo>
                  <a:pt x="9635" y="3794"/>
                </a:moveTo>
                <a:lnTo>
                  <a:pt x="23648" y="10800"/>
                </a:lnTo>
                <a:lnTo>
                  <a:pt x="9635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>
            <a:hlinkClick r:id="" action="ppaction://hlinkshowjump?jump=previousslide"/>
          </p:cNvPr>
          <p:cNvSpPr/>
          <p:nvPr/>
        </p:nvSpPr>
        <p:spPr>
          <a:xfrm>
            <a:off x="4294080" y="6624720"/>
            <a:ext cx="352440" cy="228600"/>
          </a:xfrm>
          <a:custGeom>
            <a:avLst/>
            <a:gdLst>
              <a:gd name="textAreaLeft" fmla="*/ 14760 w 352440"/>
              <a:gd name="textAreaRight" fmla="*/ 337680 w 352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3283" h="21600">
                <a:moveTo>
                  <a:pt x="0" y="0"/>
                </a:moveTo>
                <a:lnTo>
                  <a:pt x="33283" y="0"/>
                </a:lnTo>
                <a:lnTo>
                  <a:pt x="33283" y="21600"/>
                </a:lnTo>
                <a:lnTo>
                  <a:pt x="0" y="21600"/>
                </a:lnTo>
                <a:close/>
              </a:path>
              <a:path fill="lightenLess" w="33283" h="21600">
                <a:moveTo>
                  <a:pt x="0" y="0"/>
                </a:moveTo>
                <a:lnTo>
                  <a:pt x="33283" y="0"/>
                </a:lnTo>
                <a:lnTo>
                  <a:pt x="31883" y="1400"/>
                </a:lnTo>
                <a:lnTo>
                  <a:pt x="1400" y="1400"/>
                </a:lnTo>
                <a:close/>
              </a:path>
              <a:path fill="darken" w="33283" h="21600">
                <a:moveTo>
                  <a:pt x="33283" y="0"/>
                </a:moveTo>
                <a:lnTo>
                  <a:pt x="33283" y="21600"/>
                </a:lnTo>
                <a:lnTo>
                  <a:pt x="31883" y="20200"/>
                </a:lnTo>
                <a:lnTo>
                  <a:pt x="31883" y="1400"/>
                </a:lnTo>
                <a:close/>
              </a:path>
              <a:path fill="darkenLess" w="33283" h="21600">
                <a:moveTo>
                  <a:pt x="33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83" y="20200"/>
                </a:lnTo>
                <a:close/>
              </a:path>
              <a:path fill="lighten" w="33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283" h="21600">
                <a:moveTo>
                  <a:pt x="9635" y="10800"/>
                </a:moveTo>
                <a:lnTo>
                  <a:pt x="23648" y="3794"/>
                </a:lnTo>
                <a:lnTo>
                  <a:pt x="23648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8400" y="117360"/>
            <a:ext cx="237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0" y="326880"/>
          <a:ext cx="4602240" cy="25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6880"/>
                    <a:ext cx="4602240" cy="256860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2780280" y="2971800"/>
            <a:ext cx="402120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E ACTUALLY NEED THE CURRENT ON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IGHT MESH. HENCE, USE MESH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985680" y="1900080"/>
            <a:ext cx="685800" cy="685800"/>
            <a:chOff x="985680" y="1900080"/>
            <a:chExt cx="685800" cy="685800"/>
          </a:xfrm>
        </p:grpSpPr>
        <p:sp>
          <p:nvSpPr>
            <p:cNvPr id="415" name=""/>
            <p:cNvSpPr/>
            <p:nvPr/>
          </p:nvSpPr>
          <p:spPr>
            <a:xfrm>
              <a:off x="985680" y="1900080"/>
              <a:ext cx="685800" cy="685800"/>
            </a:xfrm>
            <a:custGeom>
              <a:avLst/>
              <a:gdLst/>
              <a:ahLst/>
              <a:rect l="l" t="t" r="r" b="b"/>
              <a:pathLst>
                <a:path w="432" h="432">
                  <a:moveTo>
                    <a:pt x="0" y="384"/>
                  </a:moveTo>
                  <a:lnTo>
                    <a:pt x="96" y="0"/>
                  </a:lnTo>
                  <a:lnTo>
                    <a:pt x="384" y="0"/>
                  </a:lnTo>
                  <a:lnTo>
                    <a:pt x="432" y="384"/>
                  </a:lnTo>
                  <a:lnTo>
                    <a:pt x="48" y="432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6" name=""/>
                <p:cNvSpPr txBox="1"/>
                <p:nvPr/>
              </p:nvSpPr>
              <p:spPr>
                <a:xfrm>
                  <a:off x="1143000" y="21337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7" name=""/>
          <p:cNvGrpSpPr/>
          <p:nvPr/>
        </p:nvGrpSpPr>
        <p:grpSpPr>
          <a:xfrm>
            <a:off x="2438280" y="1752480"/>
            <a:ext cx="990720" cy="914400"/>
            <a:chOff x="2438280" y="1752480"/>
            <a:chExt cx="990720" cy="914400"/>
          </a:xfrm>
        </p:grpSpPr>
        <p:sp>
          <p:nvSpPr>
            <p:cNvPr id="418" name=""/>
            <p:cNvSpPr/>
            <p:nvPr/>
          </p:nvSpPr>
          <p:spPr>
            <a:xfrm>
              <a:off x="2438280" y="1752480"/>
              <a:ext cx="990720" cy="914400"/>
            </a:xfrm>
            <a:custGeom>
              <a:avLst/>
              <a:gdLst/>
              <a:ahLst/>
              <a:rect l="l" t="t" r="r" b="b"/>
              <a:pathLst>
                <a:path w="624" h="576">
                  <a:moveTo>
                    <a:pt x="48" y="480"/>
                  </a:moveTo>
                  <a:lnTo>
                    <a:pt x="48" y="0"/>
                  </a:lnTo>
                  <a:lnTo>
                    <a:pt x="624" y="0"/>
                  </a:lnTo>
                  <a:lnTo>
                    <a:pt x="624" y="576"/>
                  </a:lnTo>
                  <a:lnTo>
                    <a:pt x="0" y="576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9" name=""/>
                <p:cNvSpPr txBox="1"/>
                <p:nvPr/>
              </p:nvSpPr>
              <p:spPr>
                <a:xfrm>
                  <a:off x="2590920" y="18288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0" name=""/>
          <p:cNvGrpSpPr/>
          <p:nvPr/>
        </p:nvGrpSpPr>
        <p:grpSpPr>
          <a:xfrm>
            <a:off x="308520" y="3784680"/>
            <a:ext cx="1964880" cy="307080"/>
            <a:chOff x="308520" y="3784680"/>
            <a:chExt cx="1964880" cy="307080"/>
          </a:xfrm>
        </p:grpSpPr>
        <p:sp>
          <p:nvSpPr>
            <p:cNvPr id="421" name=""/>
            <p:cNvSpPr/>
            <p:nvPr/>
          </p:nvSpPr>
          <p:spPr>
            <a:xfrm>
              <a:off x="308520" y="3784680"/>
              <a:ext cx="10342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1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2" name=""/>
                <p:cNvSpPr txBox="1"/>
                <p:nvPr/>
              </p:nvSpPr>
              <p:spPr>
                <a:xfrm>
                  <a:off x="1371600" y="3784680"/>
                  <a:ext cx="90180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3" name=""/>
          <p:cNvGrpSpPr/>
          <p:nvPr/>
        </p:nvGrpSpPr>
        <p:grpSpPr>
          <a:xfrm>
            <a:off x="311400" y="4165560"/>
            <a:ext cx="3701880" cy="307080"/>
            <a:chOff x="311400" y="4165560"/>
            <a:chExt cx="3701880" cy="307080"/>
          </a:xfrm>
        </p:grpSpPr>
        <p:sp>
          <p:nvSpPr>
            <p:cNvPr id="424" name=""/>
            <p:cNvSpPr/>
            <p:nvPr/>
          </p:nvSpPr>
          <p:spPr>
            <a:xfrm>
              <a:off x="311400" y="4165560"/>
              <a:ext cx="10342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2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5" name=""/>
                <p:cNvSpPr txBox="1"/>
                <p:nvPr/>
              </p:nvSpPr>
              <p:spPr>
                <a:xfrm>
                  <a:off x="1371600" y="4165560"/>
                  <a:ext cx="2641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k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609480" y="4622760"/>
                <a:ext cx="297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1143000" y="5003640"/>
                <a:ext cx="17398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28" name=""/>
          <p:cNvGraphicFramePr/>
          <p:nvPr/>
        </p:nvGraphicFramePr>
        <p:xfrm>
          <a:off x="4648320" y="468360"/>
          <a:ext cx="4452840" cy="24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68360"/>
                    <a:ext cx="4452840" cy="24145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30" name=""/>
          <p:cNvGrpSpPr/>
          <p:nvPr/>
        </p:nvGrpSpPr>
        <p:grpSpPr>
          <a:xfrm>
            <a:off x="5791320" y="1905120"/>
            <a:ext cx="685800" cy="685800"/>
            <a:chOff x="5791320" y="1905120"/>
            <a:chExt cx="685800" cy="685800"/>
          </a:xfrm>
        </p:grpSpPr>
        <p:sp>
          <p:nvSpPr>
            <p:cNvPr id="431" name=""/>
            <p:cNvSpPr/>
            <p:nvPr/>
          </p:nvSpPr>
          <p:spPr>
            <a:xfrm>
              <a:off x="5791320" y="1905120"/>
              <a:ext cx="685800" cy="685800"/>
            </a:xfrm>
            <a:custGeom>
              <a:avLst/>
              <a:gdLst/>
              <a:ahLst/>
              <a:rect l="l" t="t" r="r" b="b"/>
              <a:pathLst>
                <a:path w="432" h="432">
                  <a:moveTo>
                    <a:pt x="0" y="384"/>
                  </a:moveTo>
                  <a:lnTo>
                    <a:pt x="96" y="0"/>
                  </a:lnTo>
                  <a:lnTo>
                    <a:pt x="384" y="0"/>
                  </a:lnTo>
                  <a:lnTo>
                    <a:pt x="432" y="384"/>
                  </a:lnTo>
                  <a:lnTo>
                    <a:pt x="48" y="432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2" name=""/>
                <p:cNvSpPr txBox="1"/>
                <p:nvPr/>
              </p:nvSpPr>
              <p:spPr>
                <a:xfrm>
                  <a:off x="5948640" y="213876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3" name=""/>
          <p:cNvGrpSpPr/>
          <p:nvPr/>
        </p:nvGrpSpPr>
        <p:grpSpPr>
          <a:xfrm>
            <a:off x="6934320" y="1600200"/>
            <a:ext cx="990360" cy="914400"/>
            <a:chOff x="6934320" y="1600200"/>
            <a:chExt cx="990360" cy="914400"/>
          </a:xfrm>
        </p:grpSpPr>
        <p:sp>
          <p:nvSpPr>
            <p:cNvPr id="434" name=""/>
            <p:cNvSpPr/>
            <p:nvPr/>
          </p:nvSpPr>
          <p:spPr>
            <a:xfrm>
              <a:off x="6934320" y="1600200"/>
              <a:ext cx="990360" cy="914400"/>
            </a:xfrm>
            <a:custGeom>
              <a:avLst/>
              <a:gdLst/>
              <a:ahLst/>
              <a:rect l="l" t="t" r="r" b="b"/>
              <a:pathLst>
                <a:path w="624" h="576">
                  <a:moveTo>
                    <a:pt x="48" y="480"/>
                  </a:moveTo>
                  <a:lnTo>
                    <a:pt x="48" y="0"/>
                  </a:lnTo>
                  <a:lnTo>
                    <a:pt x="624" y="0"/>
                  </a:lnTo>
                  <a:lnTo>
                    <a:pt x="624" y="576"/>
                  </a:lnTo>
                  <a:lnTo>
                    <a:pt x="0" y="576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7086600" y="1676520"/>
                  <a:ext cx="239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6" name=""/>
          <p:cNvGrpSpPr/>
          <p:nvPr/>
        </p:nvGrpSpPr>
        <p:grpSpPr>
          <a:xfrm>
            <a:off x="5353560" y="3733920"/>
            <a:ext cx="1964880" cy="307080"/>
            <a:chOff x="5353560" y="3733920"/>
            <a:chExt cx="1964880" cy="307080"/>
          </a:xfrm>
        </p:grpSpPr>
        <p:sp>
          <p:nvSpPr>
            <p:cNvPr id="437" name=""/>
            <p:cNvSpPr/>
            <p:nvPr/>
          </p:nvSpPr>
          <p:spPr>
            <a:xfrm>
              <a:off x="5353560" y="3733920"/>
              <a:ext cx="10342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1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8" name=""/>
                <p:cNvSpPr txBox="1"/>
                <p:nvPr/>
              </p:nvSpPr>
              <p:spPr>
                <a:xfrm>
                  <a:off x="6416640" y="3733920"/>
                  <a:ext cx="90180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9" name=""/>
          <p:cNvGrpSpPr/>
          <p:nvPr/>
        </p:nvGrpSpPr>
        <p:grpSpPr>
          <a:xfrm>
            <a:off x="5337720" y="4114800"/>
            <a:ext cx="2663280" cy="307080"/>
            <a:chOff x="5337720" y="4114800"/>
            <a:chExt cx="2663280" cy="307080"/>
          </a:xfrm>
        </p:grpSpPr>
        <p:sp>
          <p:nvSpPr>
            <p:cNvPr id="440" name=""/>
            <p:cNvSpPr/>
            <p:nvPr/>
          </p:nvSpPr>
          <p:spPr>
            <a:xfrm>
              <a:off x="5337720" y="4114800"/>
              <a:ext cx="10342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2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1" name=""/>
                <p:cNvSpPr txBox="1"/>
                <p:nvPr/>
              </p:nvSpPr>
              <p:spPr>
                <a:xfrm>
                  <a:off x="6324840" y="4114800"/>
                  <a:ext cx="1676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6473880" y="4495680"/>
                <a:ext cx="1434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6407280" y="5181480"/>
                <a:ext cx="1574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4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4114800" y="228600"/>
          <a:ext cx="1270080" cy="520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14800" y="228600"/>
                    <a:ext cx="1270080" cy="5205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9" name=""/>
          <p:cNvSpPr/>
          <p:nvPr/>
        </p:nvSpPr>
        <p:spPr>
          <a:xfrm>
            <a:off x="769680" y="41400"/>
            <a:ext cx="27867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ARNING EXT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0" name=""/>
          <p:cNvGraphicFramePr/>
          <p:nvPr/>
        </p:nvGraphicFramePr>
        <p:xfrm>
          <a:off x="95400" y="52560"/>
          <a:ext cx="3735360" cy="38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52560"/>
                    <a:ext cx="3735360" cy="38541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52" name=""/>
          <p:cNvGrpSpPr/>
          <p:nvPr/>
        </p:nvGrpSpPr>
        <p:grpSpPr>
          <a:xfrm>
            <a:off x="83160" y="5562720"/>
            <a:ext cx="4096080" cy="1284120"/>
            <a:chOff x="83160" y="5562720"/>
            <a:chExt cx="4096080" cy="1284120"/>
          </a:xfrm>
        </p:grpSpPr>
        <p:sp>
          <p:nvSpPr>
            <p:cNvPr id="453" name=""/>
            <p:cNvSpPr/>
            <p:nvPr/>
          </p:nvSpPr>
          <p:spPr>
            <a:xfrm>
              <a:off x="83160" y="5562720"/>
              <a:ext cx="3106800" cy="337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1. Select loop curr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7200" y="6022800"/>
              <a:ext cx="4082040" cy="8240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In this case we use meshes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We note that the current sour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could define one mesh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896760" y="2540160"/>
            <a:ext cx="863640" cy="888840"/>
            <a:chOff x="896760" y="2540160"/>
            <a:chExt cx="863640" cy="888840"/>
          </a:xfrm>
        </p:grpSpPr>
        <p:sp>
          <p:nvSpPr>
            <p:cNvPr id="456" name=""/>
            <p:cNvSpPr/>
            <p:nvPr/>
          </p:nvSpPr>
          <p:spPr>
            <a:xfrm>
              <a:off x="896760" y="2540160"/>
              <a:ext cx="863640" cy="888840"/>
            </a:xfrm>
            <a:custGeom>
              <a:avLst/>
              <a:gdLst/>
              <a:ahLst/>
              <a:rect l="l" t="t" r="r" b="b"/>
              <a:pathLst>
                <a:path w="544" h="560">
                  <a:moveTo>
                    <a:pt x="72" y="560"/>
                  </a:moveTo>
                  <a:cubicBezTo>
                    <a:pt x="36" y="360"/>
                    <a:pt x="0" y="160"/>
                    <a:pt x="72" y="80"/>
                  </a:cubicBezTo>
                  <a:cubicBezTo>
                    <a:pt x="144" y="0"/>
                    <a:pt x="464" y="0"/>
                    <a:pt x="504" y="80"/>
                  </a:cubicBezTo>
                  <a:cubicBezTo>
                    <a:pt x="544" y="160"/>
                    <a:pt x="428" y="360"/>
                    <a:pt x="312" y="56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7" name=""/>
                <p:cNvSpPr txBox="1"/>
                <p:nvPr/>
              </p:nvSpPr>
              <p:spPr>
                <a:xfrm>
                  <a:off x="1163520" y="2819520"/>
                  <a:ext cx="2476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8" name=""/>
          <p:cNvGrpSpPr/>
          <p:nvPr/>
        </p:nvGrpSpPr>
        <p:grpSpPr>
          <a:xfrm>
            <a:off x="985680" y="1181160"/>
            <a:ext cx="749520" cy="799920"/>
            <a:chOff x="985680" y="1181160"/>
            <a:chExt cx="749520" cy="799920"/>
          </a:xfrm>
        </p:grpSpPr>
        <p:sp>
          <p:nvSpPr>
            <p:cNvPr id="459" name=""/>
            <p:cNvSpPr/>
            <p:nvPr/>
          </p:nvSpPr>
          <p:spPr>
            <a:xfrm>
              <a:off x="985680" y="1181160"/>
              <a:ext cx="749520" cy="799920"/>
            </a:xfrm>
            <a:custGeom>
              <a:avLst/>
              <a:gdLst/>
              <a:ahLst/>
              <a:rect l="l" t="t" r="r" b="b"/>
              <a:pathLst>
                <a:path w="472" h="504">
                  <a:moveTo>
                    <a:pt x="64" y="504"/>
                  </a:moveTo>
                  <a:cubicBezTo>
                    <a:pt x="32" y="324"/>
                    <a:pt x="0" y="144"/>
                    <a:pt x="64" y="72"/>
                  </a:cubicBezTo>
                  <a:cubicBezTo>
                    <a:pt x="128" y="0"/>
                    <a:pt x="424" y="0"/>
                    <a:pt x="448" y="72"/>
                  </a:cubicBezTo>
                  <a:cubicBezTo>
                    <a:pt x="472" y="144"/>
                    <a:pt x="248" y="432"/>
                    <a:pt x="208" y="504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0" name=""/>
                <p:cNvSpPr txBox="1"/>
                <p:nvPr/>
              </p:nvSpPr>
              <p:spPr>
                <a:xfrm>
                  <a:off x="1163520" y="1219320"/>
                  <a:ext cx="37332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1" name=""/>
          <p:cNvGrpSpPr/>
          <p:nvPr/>
        </p:nvGrpSpPr>
        <p:grpSpPr>
          <a:xfrm>
            <a:off x="1986120" y="885960"/>
            <a:ext cx="676080" cy="2385720"/>
            <a:chOff x="1986120" y="885960"/>
            <a:chExt cx="676080" cy="2385720"/>
          </a:xfrm>
        </p:grpSpPr>
        <p:sp>
          <p:nvSpPr>
            <p:cNvPr id="462" name=""/>
            <p:cNvSpPr/>
            <p:nvPr/>
          </p:nvSpPr>
          <p:spPr>
            <a:xfrm>
              <a:off x="1986120" y="885960"/>
              <a:ext cx="676080" cy="2385720"/>
            </a:xfrm>
            <a:custGeom>
              <a:avLst/>
              <a:gdLst/>
              <a:ahLst/>
              <a:rect l="l" t="t" r="r" b="b"/>
              <a:pathLst>
                <a:path w="424" h="1504">
                  <a:moveTo>
                    <a:pt x="56" y="1504"/>
                  </a:moveTo>
                  <a:cubicBezTo>
                    <a:pt x="28" y="960"/>
                    <a:pt x="0" y="416"/>
                    <a:pt x="56" y="208"/>
                  </a:cubicBezTo>
                  <a:cubicBezTo>
                    <a:pt x="112" y="0"/>
                    <a:pt x="360" y="40"/>
                    <a:pt x="392" y="256"/>
                  </a:cubicBezTo>
                  <a:cubicBezTo>
                    <a:pt x="424" y="472"/>
                    <a:pt x="336" y="988"/>
                    <a:pt x="248" y="150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3" name=""/>
                <p:cNvSpPr txBox="1"/>
                <p:nvPr/>
              </p:nvSpPr>
              <p:spPr>
                <a:xfrm>
                  <a:off x="2154240" y="1905120"/>
                  <a:ext cx="32688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4" name=""/>
          <p:cNvSpPr/>
          <p:nvPr/>
        </p:nvSpPr>
        <p:spPr>
          <a:xfrm>
            <a:off x="4907520" y="76320"/>
            <a:ext cx="3106800" cy="337320"/>
          </a:xfrm>
          <a:prstGeom prst="rect">
            <a:avLst/>
          </a:prstGeom>
          <a:solidFill>
            <a:srgbClr val="ccecff"/>
          </a:solidFill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2. Write loop equ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4056480" y="533520"/>
            <a:ext cx="1715400" cy="438120"/>
            <a:chOff x="4056480" y="533520"/>
            <a:chExt cx="1715400" cy="438120"/>
          </a:xfrm>
        </p:grpSpPr>
        <p:sp>
          <p:nvSpPr>
            <p:cNvPr id="466" name=""/>
            <p:cNvSpPr/>
            <p:nvPr/>
          </p:nvSpPr>
          <p:spPr>
            <a:xfrm>
              <a:off x="4056480" y="533520"/>
              <a:ext cx="8208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Loop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7" name=""/>
                <p:cNvSpPr txBox="1"/>
                <p:nvPr/>
              </p:nvSpPr>
              <p:spPr>
                <a:xfrm>
                  <a:off x="4946400" y="533520"/>
                  <a:ext cx="825480" cy="4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8" name=""/>
          <p:cNvGrpSpPr/>
          <p:nvPr/>
        </p:nvGrpSpPr>
        <p:grpSpPr>
          <a:xfrm>
            <a:off x="4056840" y="990720"/>
            <a:ext cx="4553640" cy="406440"/>
            <a:chOff x="4056840" y="990720"/>
            <a:chExt cx="4553640" cy="406440"/>
          </a:xfrm>
        </p:grpSpPr>
        <p:sp>
          <p:nvSpPr>
            <p:cNvPr id="469" name=""/>
            <p:cNvSpPr/>
            <p:nvPr/>
          </p:nvSpPr>
          <p:spPr>
            <a:xfrm>
              <a:off x="4056840" y="990720"/>
              <a:ext cx="8208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Loop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0" name=""/>
                <p:cNvSpPr txBox="1"/>
                <p:nvPr/>
              </p:nvSpPr>
              <p:spPr>
                <a:xfrm>
                  <a:off x="4879800" y="990720"/>
                  <a:ext cx="373068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k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71" name=""/>
          <p:cNvGrpSpPr/>
          <p:nvPr/>
        </p:nvGrpSpPr>
        <p:grpSpPr>
          <a:xfrm>
            <a:off x="4056480" y="1447920"/>
            <a:ext cx="4341240" cy="374400"/>
            <a:chOff x="4056480" y="1447920"/>
            <a:chExt cx="4341240" cy="374400"/>
          </a:xfrm>
        </p:grpSpPr>
        <p:sp>
          <p:nvSpPr>
            <p:cNvPr id="472" name=""/>
            <p:cNvSpPr/>
            <p:nvPr/>
          </p:nvSpPr>
          <p:spPr>
            <a:xfrm>
              <a:off x="4056480" y="1447920"/>
              <a:ext cx="8208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Loop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3" name=""/>
                <p:cNvSpPr txBox="1"/>
                <p:nvPr/>
              </p:nvSpPr>
              <p:spPr>
                <a:xfrm>
                  <a:off x="4968720" y="1447920"/>
                  <a:ext cx="342900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k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4" name=""/>
          <p:cNvSpPr/>
          <p:nvPr/>
        </p:nvSpPr>
        <p:spPr>
          <a:xfrm>
            <a:off x="4058280" y="1811160"/>
            <a:ext cx="4326120" cy="5806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ince we need to compute Vo it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fficient to solve for I3 on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098600" y="2438280"/>
            <a:ext cx="4690080" cy="520200"/>
          </a:xfrm>
          <a:prstGeom prst="rect">
            <a:avLst/>
          </a:prstGeom>
          <a:solidFill>
            <a:srgbClr val="ccffcc"/>
          </a:solidFill>
          <a:ln w="50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INT: Divide the loop equations by 1k. Coeffic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ecome numbers and voltage source becomes 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5105520" y="4419720"/>
                <a:ext cx="35607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6019920" y="5257800"/>
                <a:ext cx="213984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8" name=""/>
          <p:cNvGrpSpPr/>
          <p:nvPr/>
        </p:nvGrpSpPr>
        <p:grpSpPr>
          <a:xfrm>
            <a:off x="87480" y="3962520"/>
            <a:ext cx="4361040" cy="1602720"/>
            <a:chOff x="87480" y="3962520"/>
            <a:chExt cx="4361040" cy="1602720"/>
          </a:xfrm>
        </p:grpSpPr>
        <p:sp>
          <p:nvSpPr>
            <p:cNvPr id="479" name=""/>
            <p:cNvSpPr/>
            <p:nvPr/>
          </p:nvSpPr>
          <p:spPr>
            <a:xfrm>
              <a:off x="87480" y="4302000"/>
              <a:ext cx="3960360" cy="337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3 non-reference nodes. 3 mesh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7840" y="4673520"/>
              <a:ext cx="4326120" cy="337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One current source, one super 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01160" y="3962520"/>
              <a:ext cx="327456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SELECTING THE SOLUTION METHO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07280" y="5045040"/>
              <a:ext cx="434124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BOTH APPROACHES SEEM COMPARABLE. CHOO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LOOP ANALY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3828240" y="2971800"/>
            <a:ext cx="4520880" cy="1262160"/>
            <a:chOff x="3828240" y="2971800"/>
            <a:chExt cx="4520880" cy="1262160"/>
          </a:xfrm>
        </p:grpSpPr>
        <p:sp>
          <p:nvSpPr>
            <p:cNvPr id="484" name=""/>
            <p:cNvSpPr/>
            <p:nvPr/>
          </p:nvSpPr>
          <p:spPr>
            <a:xfrm>
              <a:off x="5074560" y="2971800"/>
              <a:ext cx="3274560" cy="307080"/>
            </a:xfrm>
            <a:prstGeom prst="rect">
              <a:avLst/>
            </a:prstGeom>
            <a:solidFill>
              <a:srgbClr val="ccecff"/>
            </a:solidFill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We use the fact that  I1 = 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3828240" y="3352680"/>
              <a:ext cx="4439520" cy="549360"/>
              <a:chOff x="3828240" y="3352680"/>
              <a:chExt cx="4439520" cy="549360"/>
            </a:xfrm>
          </p:grpSpPr>
          <mc:AlternateContent>
            <mc:Choice xmlns:a14="http://schemas.microsoft.com/office/drawing/2010/main" Requires="a14">
              <p:sp>
                <p:nvSpPr>
                  <p:cNvPr id="486" name=""/>
                  <p:cNvSpPr txBox="1"/>
                  <p:nvPr/>
                </p:nvSpPr>
                <p:spPr>
                  <a:xfrm>
                    <a:off x="4664160" y="3352680"/>
                    <a:ext cx="3603600" cy="54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]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87" name=""/>
              <p:cNvSpPr/>
              <p:nvPr/>
            </p:nvSpPr>
            <p:spPr>
              <a:xfrm>
                <a:off x="3828240" y="3352680"/>
                <a:ext cx="820800" cy="307080"/>
              </a:xfrm>
              <a:prstGeom prst="rect">
                <a:avLst/>
              </a:prstGeom>
              <a:solidFill>
                <a:srgbClr val="ccecff"/>
              </a:solidFill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Console"/>
                  </a:rPr>
                  <a:t>Loop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3828240" y="3886200"/>
              <a:ext cx="3715560" cy="347760"/>
              <a:chOff x="3828240" y="3886200"/>
              <a:chExt cx="3715560" cy="347760"/>
            </a:xfrm>
          </p:grpSpPr>
          <mc:AlternateContent>
            <mc:Choice xmlns:a14="http://schemas.microsoft.com/office/drawing/2010/main" Requires="a14">
              <p:sp>
                <p:nvSpPr>
                  <p:cNvPr id="489" name=""/>
                  <p:cNvSpPr txBox="1"/>
                  <p:nvPr/>
                </p:nvSpPr>
                <p:spPr>
                  <a:xfrm>
                    <a:off x="4664160" y="3886200"/>
                    <a:ext cx="2879640" cy="347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90" name=""/>
              <p:cNvSpPr/>
              <p:nvPr/>
            </p:nvSpPr>
            <p:spPr>
              <a:xfrm>
                <a:off x="3828240" y="3886200"/>
                <a:ext cx="820800" cy="307080"/>
              </a:xfrm>
              <a:prstGeom prst="rect">
                <a:avLst/>
              </a:prstGeom>
              <a:solidFill>
                <a:srgbClr val="ccecff"/>
              </a:solidFill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Console"/>
                  </a:rPr>
                  <a:t>Loop 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4724280" y="3505320"/>
            <a:ext cx="4521240" cy="838080"/>
            <a:chOff x="4724280" y="3505320"/>
            <a:chExt cx="4521240" cy="838080"/>
          </a:xfrm>
        </p:grpSpPr>
        <p:grpSp>
          <p:nvGrpSpPr>
            <p:cNvPr id="492" name=""/>
            <p:cNvGrpSpPr/>
            <p:nvPr/>
          </p:nvGrpSpPr>
          <p:grpSpPr>
            <a:xfrm>
              <a:off x="7543800" y="3505320"/>
              <a:ext cx="1701720" cy="685800"/>
              <a:chOff x="7543800" y="3505320"/>
              <a:chExt cx="1701720" cy="685800"/>
            </a:xfrm>
          </p:grpSpPr>
          <mc:AlternateContent>
            <mc:Choice xmlns:a14="http://schemas.microsoft.com/office/drawing/2010/main" Requires="a14">
              <p:sp>
                <p:nvSpPr>
                  <p:cNvPr id="493" name=""/>
                  <p:cNvSpPr txBox="1"/>
                  <p:nvPr/>
                </p:nvSpPr>
                <p:spPr>
                  <a:xfrm>
                    <a:off x="8305920" y="3505320"/>
                    <a:ext cx="38088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*/</m:t>
                        </m:r>
                        <m:r>
                          <m:t xml:space="preserve">2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94" name=""/>
                  <p:cNvSpPr txBox="1"/>
                  <p:nvPr/>
                </p:nvSpPr>
                <p:spPr>
                  <a:xfrm>
                    <a:off x="7543800" y="3911760"/>
                    <a:ext cx="1701720" cy="27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*/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 and add eqs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95" name=""/>
            <p:cNvSpPr/>
            <p:nvPr/>
          </p:nvSpPr>
          <p:spPr>
            <a:xfrm>
              <a:off x="4724280" y="4343400"/>
              <a:ext cx="441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6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650520" y="117360"/>
            <a:ext cx="78616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URRENT SOURCES SHARED BY LOOPS - THE SUPERMESH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380880" y="457200"/>
          <a:ext cx="376236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57200"/>
                    <a:ext cx="3762360" cy="27399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02" name=""/>
          <p:cNvSpPr/>
          <p:nvPr/>
        </p:nvSpPr>
        <p:spPr>
          <a:xfrm>
            <a:off x="385920" y="3292560"/>
            <a:ext cx="26344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1. SELECT MESH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380880" y="3603600"/>
          <a:ext cx="4110120" cy="302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603600"/>
                    <a:ext cx="4110120" cy="30243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05" name=""/>
          <p:cNvSpPr/>
          <p:nvPr/>
        </p:nvSpPr>
        <p:spPr>
          <a:xfrm>
            <a:off x="4814640" y="533520"/>
            <a:ext cx="412776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2. WRITE CONSTRAINT EQUATION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SH CURRENTS SHARING CURRENT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6019920" y="1066680"/>
                <a:ext cx="133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"/>
          <p:cNvSpPr/>
          <p:nvPr/>
        </p:nvSpPr>
        <p:spPr>
          <a:xfrm>
            <a:off x="4831920" y="1463760"/>
            <a:ext cx="43412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3. WRITE EQUATIONS FOR THE OTHER MES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6248520" y="1828800"/>
                <a:ext cx="901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4889520" y="2225520"/>
            <a:ext cx="391464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4. DEFINE A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SUPERMESH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BY (MENTAL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MOVING THE SHARED CURRENT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762120" y="3902040"/>
            <a:ext cx="3812040" cy="2422440"/>
            <a:chOff x="762120" y="3902040"/>
            <a:chExt cx="3812040" cy="2422440"/>
          </a:xfrm>
        </p:grpSpPr>
        <p:sp>
          <p:nvSpPr>
            <p:cNvPr id="511" name=""/>
            <p:cNvSpPr/>
            <p:nvPr/>
          </p:nvSpPr>
          <p:spPr>
            <a:xfrm>
              <a:off x="762120" y="4267080"/>
              <a:ext cx="2895480" cy="2057400"/>
            </a:xfrm>
            <a:custGeom>
              <a:avLst/>
              <a:gdLst/>
              <a:ahLst/>
              <a:rect l="l" t="t" r="r" b="b"/>
              <a:pathLst>
                <a:path w="1824" h="1296">
                  <a:moveTo>
                    <a:pt x="0" y="0"/>
                  </a:moveTo>
                  <a:lnTo>
                    <a:pt x="0" y="384"/>
                  </a:lnTo>
                  <a:lnTo>
                    <a:pt x="1008" y="384"/>
                  </a:lnTo>
                  <a:lnTo>
                    <a:pt x="1008" y="1296"/>
                  </a:lnTo>
                  <a:lnTo>
                    <a:pt x="1824" y="1296"/>
                  </a:lnTo>
                  <a:lnTo>
                    <a:pt x="18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433320" y="3902040"/>
              <a:ext cx="1140840" cy="3070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SUPERME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4962600" y="2911320"/>
            <a:ext cx="33811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5. WRITE KVL FOR THE SUPERME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4495680" y="3271680"/>
                <a:ext cx="45720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1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5" name=""/>
          <p:cNvSpPr/>
          <p:nvPr/>
        </p:nvSpPr>
        <p:spPr>
          <a:xfrm>
            <a:off x="4829760" y="3733920"/>
            <a:ext cx="4021200" cy="63144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W WE HAVE THREE EQUATIONS IN THR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NKNOWNS. THE MODEL IS COMP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347760" y="41400"/>
            <a:ext cx="84103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URRENT SOURCES SHARED BY MESHES - THE GENERAL LOOP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0" y="380880"/>
          <a:ext cx="4191120" cy="28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4191120" cy="28972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22" name=""/>
          <p:cNvGrpSpPr/>
          <p:nvPr/>
        </p:nvGrpSpPr>
        <p:grpSpPr>
          <a:xfrm>
            <a:off x="115920" y="3444840"/>
            <a:ext cx="4447800" cy="824760"/>
            <a:chOff x="115920" y="3444840"/>
            <a:chExt cx="4447800" cy="824760"/>
          </a:xfrm>
        </p:grpSpPr>
        <p:sp>
          <p:nvSpPr>
            <p:cNvPr id="523" name=""/>
            <p:cNvSpPr/>
            <p:nvPr/>
          </p:nvSpPr>
          <p:spPr>
            <a:xfrm>
              <a:off x="115920" y="3444840"/>
              <a:ext cx="4447800" cy="52020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 STRATEGY IS TO DEFINE LOOP CURRENT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AT DO NOT SHARE CURRENT SOURCES 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16880" y="3962520"/>
              <a:ext cx="3807720" cy="3070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EVEN IF IT MEANS ABANDONING MES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108720" y="4435560"/>
            <a:ext cx="4554720" cy="733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OR CONVENIENCE START USING MESH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NTIL REACHING A SHARED SOURCE. AT T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OINT DEFINE A NEW LOOP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08000" y="5334120"/>
            <a:ext cx="4447800" cy="94644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ORDER TO GUARANTEE THAT IF GIVES 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DEPENDENT EQUATION ONE MUST MAKE 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AT THE LOOP INCLUDES COMPONENTS T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RE NOT PART OF PREVIOUSLY DEFINED LO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4800600" y="457200"/>
          <a:ext cx="3652920" cy="256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457200"/>
                    <a:ext cx="3652920" cy="25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91440" y="6264360"/>
            <a:ext cx="434124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POSSIBLE STRATEGY IS TO CREATE A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Y OPENING THE CURRENT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5334120" y="990720"/>
            <a:ext cx="2743200" cy="2271600"/>
            <a:chOff x="5334120" y="990720"/>
            <a:chExt cx="2743200" cy="2271600"/>
          </a:xfrm>
        </p:grpSpPr>
        <p:sp>
          <p:nvSpPr>
            <p:cNvPr id="531" name=""/>
            <p:cNvSpPr/>
            <p:nvPr/>
          </p:nvSpPr>
          <p:spPr>
            <a:xfrm>
              <a:off x="6626160" y="1068480"/>
              <a:ext cx="1143000" cy="76176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334120" y="990720"/>
              <a:ext cx="2438280" cy="2133360"/>
            </a:xfrm>
            <a:custGeom>
              <a:avLst/>
              <a:gdLst/>
              <a:ahLst/>
              <a:rect l="l" t="t" r="r" b="b"/>
              <a:pathLst>
                <a:path w="1536" h="1344">
                  <a:moveTo>
                    <a:pt x="768" y="1344"/>
                  </a:moveTo>
                  <a:lnTo>
                    <a:pt x="768" y="288"/>
                  </a:lnTo>
                  <a:lnTo>
                    <a:pt x="0" y="288"/>
                  </a:lnTo>
                  <a:lnTo>
                    <a:pt x="0" y="0"/>
                  </a:lnTo>
                  <a:lnTo>
                    <a:pt x="1536" y="0"/>
                  </a:lnTo>
                  <a:lnTo>
                    <a:pt x="1536" y="1344"/>
                  </a:lnTo>
                  <a:lnTo>
                    <a:pt x="912" y="1344"/>
                  </a:lnTo>
                </a:path>
              </a:pathLst>
            </a:custGeom>
            <a:noFill/>
            <a:ln w="255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3" name=""/>
                <p:cNvSpPr txBox="1"/>
                <p:nvPr/>
              </p:nvSpPr>
              <p:spPr>
                <a:xfrm>
                  <a:off x="7848720" y="297180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4" name=""/>
          <p:cNvGrpSpPr/>
          <p:nvPr/>
        </p:nvGrpSpPr>
        <p:grpSpPr>
          <a:xfrm>
            <a:off x="4898880" y="3444840"/>
            <a:ext cx="4127760" cy="1203480"/>
            <a:chOff x="4898880" y="3444840"/>
            <a:chExt cx="4127760" cy="1203480"/>
          </a:xfrm>
        </p:grpSpPr>
        <mc:AlternateContent>
          <mc:Choice xmlns:a14="http://schemas.microsoft.com/office/drawing/2010/main" Requires="a14">
            <p:sp>
              <p:nvSpPr>
                <p:cNvPr id="535" name=""/>
                <p:cNvSpPr txBox="1"/>
                <p:nvPr/>
              </p:nvSpPr>
              <p:spPr>
                <a:xfrm>
                  <a:off x="6311880" y="4000680"/>
                  <a:ext cx="9270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mA</m:t>
                          </m:r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mA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36" name=""/>
            <p:cNvSpPr/>
            <p:nvPr/>
          </p:nvSpPr>
          <p:spPr>
            <a:xfrm>
              <a:off x="4898880" y="3444840"/>
              <a:ext cx="4127760" cy="52020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 LOOP EQUATIONS FOR THE LOOPS WI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CURRENT SOURCES 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763520" y="4775040"/>
            <a:ext cx="434124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LOOP EQUATION FOR THE THIRD LOOP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554280" y="5105520"/>
                <a:ext cx="5589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1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9" name=""/>
          <p:cNvSpPr/>
          <p:nvPr/>
        </p:nvSpPr>
        <p:spPr>
          <a:xfrm>
            <a:off x="4989960" y="5502240"/>
            <a:ext cx="4021200" cy="9464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MESH CURRENTS OBTAINED WITH TH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 ARE DIFFERENT FROM THE 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BTAINED WITH A SUPERMESH. EVEN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OSE DEFINED USING MESH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4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3" name=""/>
          <p:cNvGraphicFramePr/>
          <p:nvPr/>
        </p:nvGraphicFramePr>
        <p:xfrm>
          <a:off x="0" y="304920"/>
          <a:ext cx="4495680" cy="31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4495680" cy="31320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457200" y="76320"/>
                <a:ext cx="388620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VOLTAGES ACROSS RESISTORS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6" name=""/>
          <p:cNvGrpSpPr/>
          <p:nvPr/>
        </p:nvGrpSpPr>
        <p:grpSpPr>
          <a:xfrm>
            <a:off x="102240" y="3886200"/>
            <a:ext cx="4367160" cy="2834640"/>
            <a:chOff x="102240" y="3886200"/>
            <a:chExt cx="4367160" cy="2834640"/>
          </a:xfrm>
        </p:grpSpPr>
        <p:sp>
          <p:nvSpPr>
            <p:cNvPr id="547" name=""/>
            <p:cNvSpPr/>
            <p:nvPr/>
          </p:nvSpPr>
          <p:spPr>
            <a:xfrm>
              <a:off x="102240" y="4267080"/>
              <a:ext cx="4326120" cy="10674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ree independent current sourc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Four mesh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One current source shared by tw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mesh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77840" y="3886200"/>
              <a:ext cx="3838320" cy="33732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For loop analysis we notice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43280" y="5410080"/>
              <a:ext cx="4326120" cy="131076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Careful choice of loop curr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hould make only one loop eq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necessary. Three loop currents c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be chosen using meshes and n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haring any sour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914400" y="457200"/>
            <a:ext cx="1181160" cy="1447560"/>
            <a:chOff x="914400" y="457200"/>
            <a:chExt cx="1181160" cy="1447560"/>
          </a:xfrm>
        </p:grpSpPr>
        <p:sp>
          <p:nvSpPr>
            <p:cNvPr id="551" name=""/>
            <p:cNvSpPr/>
            <p:nvPr/>
          </p:nvSpPr>
          <p:spPr>
            <a:xfrm>
              <a:off x="914400" y="457200"/>
              <a:ext cx="1181160" cy="1447560"/>
            </a:xfrm>
            <a:custGeom>
              <a:avLst/>
              <a:gdLst/>
              <a:ahLst/>
              <a:rect l="l" t="t" r="r" b="b"/>
              <a:pathLst>
                <a:path w="744" h="912">
                  <a:moveTo>
                    <a:pt x="648" y="696"/>
                  </a:moveTo>
                  <a:cubicBezTo>
                    <a:pt x="648" y="460"/>
                    <a:pt x="648" y="224"/>
                    <a:pt x="648" y="120"/>
                  </a:cubicBezTo>
                  <a:cubicBezTo>
                    <a:pt x="648" y="16"/>
                    <a:pt x="744" y="72"/>
                    <a:pt x="648" y="72"/>
                  </a:cubicBezTo>
                  <a:cubicBezTo>
                    <a:pt x="552" y="72"/>
                    <a:pt x="144" y="0"/>
                    <a:pt x="72" y="120"/>
                  </a:cubicBezTo>
                  <a:cubicBezTo>
                    <a:pt x="0" y="240"/>
                    <a:pt x="136" y="672"/>
                    <a:pt x="216" y="792"/>
                  </a:cubicBezTo>
                  <a:cubicBezTo>
                    <a:pt x="296" y="912"/>
                    <a:pt x="496" y="832"/>
                    <a:pt x="552" y="840"/>
                  </a:cubicBezTo>
                </a:path>
              </a:pathLst>
            </a:custGeom>
            <a:noFill/>
            <a:ln w="38160">
              <a:solidFill>
                <a:srgbClr val="99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2" name=""/>
                <p:cNvSpPr txBox="1"/>
                <p:nvPr/>
              </p:nvSpPr>
              <p:spPr>
                <a:xfrm>
                  <a:off x="1295280" y="838080"/>
                  <a:ext cx="31932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3" name=""/>
          <p:cNvGrpSpPr/>
          <p:nvPr/>
        </p:nvGrpSpPr>
        <p:grpSpPr>
          <a:xfrm>
            <a:off x="2108160" y="380880"/>
            <a:ext cx="1473120" cy="1727280"/>
            <a:chOff x="2108160" y="380880"/>
            <a:chExt cx="1473120" cy="1727280"/>
          </a:xfrm>
        </p:grpSpPr>
        <p:sp>
          <p:nvSpPr>
            <p:cNvPr id="554" name=""/>
            <p:cNvSpPr/>
            <p:nvPr/>
          </p:nvSpPr>
          <p:spPr>
            <a:xfrm>
              <a:off x="2108160" y="380880"/>
              <a:ext cx="1473120" cy="1727280"/>
            </a:xfrm>
            <a:custGeom>
              <a:avLst/>
              <a:gdLst/>
              <a:ahLst/>
              <a:rect l="l" t="t" r="r" b="b"/>
              <a:pathLst>
                <a:path w="928" h="1088">
                  <a:moveTo>
                    <a:pt x="928" y="856"/>
                  </a:moveTo>
                  <a:cubicBezTo>
                    <a:pt x="916" y="556"/>
                    <a:pt x="904" y="256"/>
                    <a:pt x="880" y="136"/>
                  </a:cubicBezTo>
                  <a:cubicBezTo>
                    <a:pt x="856" y="16"/>
                    <a:pt x="904" y="136"/>
                    <a:pt x="784" y="136"/>
                  </a:cubicBezTo>
                  <a:cubicBezTo>
                    <a:pt x="664" y="136"/>
                    <a:pt x="272" y="0"/>
                    <a:pt x="160" y="136"/>
                  </a:cubicBezTo>
                  <a:cubicBezTo>
                    <a:pt x="48" y="272"/>
                    <a:pt x="0" y="816"/>
                    <a:pt x="112" y="952"/>
                  </a:cubicBezTo>
                  <a:cubicBezTo>
                    <a:pt x="224" y="1088"/>
                    <a:pt x="528" y="1020"/>
                    <a:pt x="832" y="952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5" name=""/>
                <p:cNvSpPr txBox="1"/>
                <p:nvPr/>
              </p:nvSpPr>
              <p:spPr>
                <a:xfrm>
                  <a:off x="2725560" y="685800"/>
                  <a:ext cx="37296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6" name=""/>
          <p:cNvGrpSpPr/>
          <p:nvPr/>
        </p:nvGrpSpPr>
        <p:grpSpPr>
          <a:xfrm>
            <a:off x="533520" y="1828800"/>
            <a:ext cx="1765080" cy="1536840"/>
            <a:chOff x="533520" y="1828800"/>
            <a:chExt cx="1765080" cy="1536840"/>
          </a:xfrm>
        </p:grpSpPr>
        <p:sp>
          <p:nvSpPr>
            <p:cNvPr id="557" name=""/>
            <p:cNvSpPr/>
            <p:nvPr/>
          </p:nvSpPr>
          <p:spPr>
            <a:xfrm>
              <a:off x="533520" y="1828800"/>
              <a:ext cx="1765080" cy="1536840"/>
            </a:xfrm>
            <a:custGeom>
              <a:avLst/>
              <a:gdLst/>
              <a:ahLst/>
              <a:rect l="l" t="t" r="r" b="b"/>
              <a:pathLst>
                <a:path w="1112" h="968">
                  <a:moveTo>
                    <a:pt x="968" y="944"/>
                  </a:moveTo>
                  <a:cubicBezTo>
                    <a:pt x="968" y="704"/>
                    <a:pt x="968" y="464"/>
                    <a:pt x="968" y="320"/>
                  </a:cubicBezTo>
                  <a:cubicBezTo>
                    <a:pt x="968" y="176"/>
                    <a:pt x="1112" y="112"/>
                    <a:pt x="968" y="80"/>
                  </a:cubicBezTo>
                  <a:cubicBezTo>
                    <a:pt x="824" y="48"/>
                    <a:pt x="208" y="0"/>
                    <a:pt x="104" y="128"/>
                  </a:cubicBezTo>
                  <a:cubicBezTo>
                    <a:pt x="0" y="256"/>
                    <a:pt x="208" y="728"/>
                    <a:pt x="344" y="848"/>
                  </a:cubicBezTo>
                  <a:cubicBezTo>
                    <a:pt x="480" y="968"/>
                    <a:pt x="700" y="908"/>
                    <a:pt x="920" y="84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8" name=""/>
                <p:cNvSpPr txBox="1"/>
                <p:nvPr/>
              </p:nvSpPr>
              <p:spPr>
                <a:xfrm>
                  <a:off x="1600200" y="2590920"/>
                  <a:ext cx="32688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5081760" y="5043600"/>
                <a:ext cx="215712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5081760" y="5456160"/>
                <a:ext cx="19047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1" name=""/>
          <p:cNvSpPr/>
          <p:nvPr/>
        </p:nvSpPr>
        <p:spPr>
          <a:xfrm>
            <a:off x="4842360" y="4038480"/>
            <a:ext cx="3701160" cy="733320"/>
          </a:xfrm>
          <a:prstGeom prst="rect">
            <a:avLst/>
          </a:prstGeom>
          <a:solidFill>
            <a:srgbClr val="cce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OLVE FOR THE CURRENT I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SE OHM’S LAW TO C0MPUTE REQUI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OLT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4577760" y="76320"/>
            <a:ext cx="4691880" cy="1358280"/>
            <a:chOff x="4577760" y="76320"/>
            <a:chExt cx="4691880" cy="1358280"/>
          </a:xfrm>
        </p:grpSpPr>
        <p:sp>
          <p:nvSpPr>
            <p:cNvPr id="563" name=""/>
            <p:cNvSpPr/>
            <p:nvPr/>
          </p:nvSpPr>
          <p:spPr>
            <a:xfrm>
              <a:off x="4577760" y="76320"/>
              <a:ext cx="4691880" cy="82404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Now we need a loop current that do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not go over any current source an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asses through all unused compon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91080" y="914400"/>
              <a:ext cx="4447800" cy="52020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HINT: IF ALL CURRENT SOURCES ARE REMOV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RE IS ONLY ONE LOOP LE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09480" y="1981080"/>
            <a:ext cx="3200400" cy="1371600"/>
            <a:chOff x="609480" y="1981080"/>
            <a:chExt cx="3200400" cy="1371600"/>
          </a:xfrm>
        </p:grpSpPr>
        <mc:AlternateContent>
          <mc:Choice xmlns:a14="http://schemas.microsoft.com/office/drawing/2010/main" Requires="a14">
            <p:sp>
              <p:nvSpPr>
                <p:cNvPr id="566" name=""/>
                <p:cNvSpPr txBox="1"/>
                <p:nvPr/>
              </p:nvSpPr>
              <p:spPr>
                <a:xfrm>
                  <a:off x="3047760" y="2819520"/>
                  <a:ext cx="31428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67" name=""/>
            <p:cNvSpPr/>
            <p:nvPr/>
          </p:nvSpPr>
          <p:spPr>
            <a:xfrm>
              <a:off x="609480" y="1981080"/>
              <a:ext cx="3200400" cy="1371600"/>
            </a:xfrm>
            <a:custGeom>
              <a:avLst/>
              <a:gdLst/>
              <a:ahLst/>
              <a:rect l="l" t="t" r="r" b="b"/>
              <a:pathLst>
                <a:path w="2016" h="864">
                  <a:moveTo>
                    <a:pt x="2016" y="864"/>
                  </a:moveTo>
                  <a:lnTo>
                    <a:pt x="2016" y="0"/>
                  </a:lnTo>
                  <a:lnTo>
                    <a:pt x="0" y="0"/>
                  </a:lnTo>
                  <a:lnTo>
                    <a:pt x="0" y="816"/>
                  </a:lnTo>
                  <a:lnTo>
                    <a:pt x="1920" y="816"/>
                  </a:ln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5442840" y="1523880"/>
            <a:ext cx="3274560" cy="1676520"/>
            <a:chOff x="5442840" y="1523880"/>
            <a:chExt cx="3274560" cy="1676520"/>
          </a:xfrm>
        </p:grpSpPr>
        <p:grpSp>
          <p:nvGrpSpPr>
            <p:cNvPr id="569" name=""/>
            <p:cNvGrpSpPr/>
            <p:nvPr/>
          </p:nvGrpSpPr>
          <p:grpSpPr>
            <a:xfrm>
              <a:off x="6188040" y="2041560"/>
              <a:ext cx="863640" cy="1158840"/>
              <a:chOff x="6188040" y="2041560"/>
              <a:chExt cx="863640" cy="1158840"/>
            </a:xfrm>
          </p:grpSpPr>
          <mc:AlternateContent>
            <mc:Choice xmlns:a14="http://schemas.microsoft.com/office/drawing/2010/main" Requires="a14">
              <p:sp>
                <p:nvSpPr>
                  <p:cNvPr id="570" name=""/>
                  <p:cNvSpPr txBox="1"/>
                  <p:nvPr/>
                </p:nvSpPr>
                <p:spPr>
                  <a:xfrm>
                    <a:off x="6188040" y="2041560"/>
                    <a:ext cx="838080" cy="419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71" name=""/>
                  <p:cNvSpPr txBox="1"/>
                  <p:nvPr/>
                </p:nvSpPr>
                <p:spPr>
                  <a:xfrm>
                    <a:off x="6188040" y="2422800"/>
                    <a:ext cx="863640" cy="388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72" name=""/>
                  <p:cNvSpPr txBox="1"/>
                  <p:nvPr/>
                </p:nvSpPr>
                <p:spPr>
                  <a:xfrm>
                    <a:off x="6188040" y="2803680"/>
                    <a:ext cx="857160" cy="396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3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573" name=""/>
            <p:cNvSpPr/>
            <p:nvPr/>
          </p:nvSpPr>
          <p:spPr>
            <a:xfrm>
              <a:off x="5442840" y="1523880"/>
              <a:ext cx="3274560" cy="52020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EQUATIONS FOR LOOPS WI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CURRENT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3657600" y="3276720"/>
            <a:ext cx="5486400" cy="621360"/>
            <a:chOff x="3657600" y="3276720"/>
            <a:chExt cx="5486400" cy="621360"/>
          </a:xfrm>
        </p:grpSpPr>
        <mc:AlternateContent>
          <mc:Choice xmlns:a14="http://schemas.microsoft.com/office/drawing/2010/main" Requires="a14">
            <p:sp>
              <p:nvSpPr>
                <p:cNvPr id="575" name=""/>
                <p:cNvSpPr txBox="1"/>
                <p:nvPr/>
              </p:nvSpPr>
              <p:spPr>
                <a:xfrm rot="10800000">
                  <a:off x="3657600" y="3581640"/>
                  <a:ext cx="5486400" cy="31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76" name=""/>
            <p:cNvSpPr/>
            <p:nvPr/>
          </p:nvSpPr>
          <p:spPr>
            <a:xfrm>
              <a:off x="5001120" y="3276720"/>
              <a:ext cx="242100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 OF REMAINING LO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5081760" y="5897520"/>
                <a:ext cx="1511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5081760" y="6262560"/>
                <a:ext cx="1523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9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8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228600" y="2286000"/>
                <a:ext cx="2649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1295280" y="2057400"/>
                <a:ext cx="62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2362320" y="685800"/>
                <a:ext cx="2649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2743200" y="1447920"/>
                <a:ext cx="633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6" name=""/>
          <p:cNvGraphicFramePr/>
          <p:nvPr/>
        </p:nvGraphicFramePr>
        <p:xfrm>
          <a:off x="609480" y="1523880"/>
          <a:ext cx="4496040" cy="31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4496040" cy="31323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88" name=""/>
          <p:cNvSpPr/>
          <p:nvPr/>
        </p:nvSpPr>
        <p:spPr>
          <a:xfrm>
            <a:off x="1295280" y="1523880"/>
            <a:ext cx="3124440" cy="152640"/>
          </a:xfrm>
          <a:prstGeom prst="ellipse">
            <a:avLst/>
          </a:prstGeom>
          <a:solidFill>
            <a:srgbClr val="800000">
              <a:alpha val="50000"/>
            </a:srgbClr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191120" y="3048120"/>
            <a:ext cx="152280" cy="22860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66880" y="3048120"/>
            <a:ext cx="228600" cy="1522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219320" y="2971800"/>
            <a:ext cx="228600" cy="22860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219320" y="4495680"/>
            <a:ext cx="3124080" cy="228600"/>
          </a:xfrm>
          <a:prstGeom prst="ellipse">
            <a:avLst/>
          </a:prstGeom>
          <a:solidFill>
            <a:srgbClr val="969696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83360" y="152280"/>
            <a:ext cx="6764400" cy="916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A COMMENT ON METHOD SE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The same problem can be solved by node analys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but it requires 3 eq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2743200" y="1219320"/>
                <a:ext cx="21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4419720" y="3048120"/>
                <a:ext cx="23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2895480" y="2743200"/>
                <a:ext cx="23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914400" y="2895480"/>
                <a:ext cx="23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5181480" y="1600200"/>
                <a:ext cx="3810240" cy="25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2" name=""/>
          <p:cNvGraphicFramePr/>
          <p:nvPr/>
        </p:nvGraphicFramePr>
        <p:xfrm>
          <a:off x="0" y="644400"/>
          <a:ext cx="5029200" cy="32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4400"/>
                    <a:ext cx="5029200" cy="32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4" name=""/>
          <p:cNvSpPr/>
          <p:nvPr/>
        </p:nvSpPr>
        <p:spPr>
          <a:xfrm>
            <a:off x="29160" y="0"/>
            <a:ext cx="44326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IRCUITS WITH DEPEND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500000" y="-11160"/>
            <a:ext cx="4569840" cy="10674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reat the dependent source as th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t were independ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dd one equation for the contro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76320" y="3886200"/>
                <a:ext cx="276840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ESH  CURRENT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ERMINED BY SOURCE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76320" y="5500800"/>
                <a:ext cx="4381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SH 3:   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76320" y="5881680"/>
                <a:ext cx="4190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SH 4:   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76320" y="6210360"/>
                <a:ext cx="3301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TROLLING VARIABLE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0" name=""/>
          <p:cNvSpPr/>
          <p:nvPr/>
        </p:nvSpPr>
        <p:spPr>
          <a:xfrm>
            <a:off x="5035680" y="1263600"/>
            <a:ext cx="396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MBINE EQUATIONS. DIVIDE BY 1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5791320" y="1905120"/>
                <a:ext cx="19429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1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82520" y="536400"/>
          <a:ext cx="3398760" cy="19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536400"/>
                    <a:ext cx="3398760" cy="19782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1880" y="76320"/>
            <a:ext cx="4447800" cy="337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pply node analysis to thi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11680" y="369720"/>
            <a:ext cx="3960360" cy="337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re are 4 non reference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10240" y="755640"/>
            <a:ext cx="2863080" cy="337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re is one super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533520"/>
            <a:ext cx="1067040" cy="1828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12400" y="1141560"/>
            <a:ext cx="4326120" cy="5806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re is one node connected to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ference through a voltag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685800"/>
            <a:ext cx="914400" cy="13716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12400" y="1771560"/>
            <a:ext cx="4447800" cy="5806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e need three equations to compu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ll nod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9920" y="2465280"/>
            <a:ext cx="8715240" cy="5806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…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UT THERE IS ONLY ONE CURRENT FLOWING THROUGH ALL COMPONENTS AND I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AT CURRENT IS DETERMINED ALL VOLTAGES CAN BE COMPUTED WITH OHM’S L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90720" y="1066680"/>
            <a:ext cx="1726920" cy="838440"/>
            <a:chOff x="990720" y="1066680"/>
            <a:chExt cx="1726920" cy="838440"/>
          </a:xfrm>
        </p:grpSpPr>
        <p:sp>
          <p:nvSpPr>
            <p:cNvPr id="58" name=""/>
            <p:cNvSpPr/>
            <p:nvPr/>
          </p:nvSpPr>
          <p:spPr>
            <a:xfrm>
              <a:off x="990720" y="1066680"/>
              <a:ext cx="1726920" cy="838440"/>
            </a:xfrm>
            <a:custGeom>
              <a:avLst/>
              <a:gdLst/>
              <a:ahLst/>
              <a:rect l="l" t="t" r="r" b="b"/>
              <a:pathLst>
                <a:path w="1088" h="528">
                  <a:moveTo>
                    <a:pt x="136" y="528"/>
                  </a:moveTo>
                  <a:cubicBezTo>
                    <a:pt x="68" y="352"/>
                    <a:pt x="0" y="176"/>
                    <a:pt x="136" y="96"/>
                  </a:cubicBezTo>
                  <a:cubicBezTo>
                    <a:pt x="272" y="16"/>
                    <a:pt x="816" y="0"/>
                    <a:pt x="952" y="48"/>
                  </a:cubicBezTo>
                  <a:cubicBezTo>
                    <a:pt x="1088" y="96"/>
                    <a:pt x="1072" y="312"/>
                    <a:pt x="952" y="384"/>
                  </a:cubicBezTo>
                  <a:cubicBezTo>
                    <a:pt x="832" y="456"/>
                    <a:pt x="352" y="464"/>
                    <a:pt x="232" y="480"/>
                  </a:cubicBezTo>
                </a:path>
              </a:pathLst>
            </a:custGeom>
            <a:noFill/>
            <a:ln w="41400">
              <a:solidFill>
                <a:srgbClr val="ff0000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02000" y="12952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98640" y="3139920"/>
            <a:ext cx="2847600" cy="733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TRATEG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1. Apply KV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(sum of voltage drops =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048120" y="3235320"/>
                <a:ext cx="59436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108000" y="4130640"/>
            <a:ext cx="444780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2. Use Ohm’s Law to exp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oltages in terms of the “loop current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96960" y="4648320"/>
                <a:ext cx="61610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628560" y="5400720"/>
            <a:ext cx="49813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SULT IS ONE EQUATION IN THE LOOP CURRENT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1000" y="5730840"/>
            <a:ext cx="1034280" cy="30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HORTC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048120" y="3886200"/>
            <a:ext cx="5790960" cy="379440"/>
            <a:chOff x="3048120" y="3886200"/>
            <a:chExt cx="5790960" cy="379440"/>
          </a:xfrm>
        </p:grpSpPr>
        <p:sp>
          <p:nvSpPr>
            <p:cNvPr id="67" name=""/>
            <p:cNvSpPr/>
            <p:nvPr/>
          </p:nvSpPr>
          <p:spPr>
            <a:xfrm>
              <a:off x="3048120" y="3886200"/>
              <a:ext cx="5790960" cy="0"/>
            </a:xfrm>
            <a:prstGeom prst="line">
              <a:avLst/>
            </a:prstGeom>
            <a:ln w="34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05640" y="3897360"/>
              <a:ext cx="2248920" cy="368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"/>
                </a:rPr>
                <a:t>Skip this eq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09480" y="4987800"/>
            <a:ext cx="8193600" cy="642600"/>
            <a:chOff x="609480" y="4987800"/>
            <a:chExt cx="8193600" cy="642600"/>
          </a:xfrm>
        </p:grpSpPr>
        <p:sp>
          <p:nvSpPr>
            <p:cNvPr id="70" name=""/>
            <p:cNvSpPr/>
            <p:nvPr/>
          </p:nvSpPr>
          <p:spPr>
            <a:xfrm>
              <a:off x="609480" y="5334120"/>
              <a:ext cx="6248520" cy="0"/>
            </a:xfrm>
            <a:prstGeom prst="line">
              <a:avLst/>
            </a:prstGeom>
            <a:ln w="349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011360" y="4987800"/>
              <a:ext cx="1791720" cy="642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"/>
                </a:rPr>
                <a:t>Write this 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"/>
                </a:rPr>
                <a:t>direct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09480" y="685800"/>
            <a:ext cx="2525400" cy="1447920"/>
            <a:chOff x="609480" y="685800"/>
            <a:chExt cx="2525400" cy="1447920"/>
          </a:xfrm>
        </p:grpSpPr>
        <p:sp>
          <p:nvSpPr>
            <p:cNvPr id="73" name=""/>
            <p:cNvSpPr/>
            <p:nvPr/>
          </p:nvSpPr>
          <p:spPr>
            <a:xfrm>
              <a:off x="761760" y="1981440"/>
              <a:ext cx="152280" cy="152280"/>
            </a:xfrm>
            <a:prstGeom prst="ellipse">
              <a:avLst/>
            </a:prstGeom>
            <a:solidFill>
              <a:srgbClr val="993300">
                <a:alpha val="50000"/>
              </a:srgbClr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2742840" y="685800"/>
              <a:ext cx="239760" cy="457200"/>
              <a:chOff x="2742840" y="685800"/>
              <a:chExt cx="239760" cy="457200"/>
            </a:xfrm>
          </p:grpSpPr>
          <p:sp>
            <p:nvSpPr>
              <p:cNvPr id="75" name=""/>
              <p:cNvSpPr/>
              <p:nvPr/>
            </p:nvSpPr>
            <p:spPr>
              <a:xfrm>
                <a:off x="2742840" y="990720"/>
                <a:ext cx="152280" cy="15228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6" name=""/>
                  <p:cNvSpPr txBox="1"/>
                  <p:nvPr/>
                </p:nvSpPr>
                <p:spPr>
                  <a:xfrm>
                    <a:off x="2742840" y="6858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77" name=""/>
            <p:cNvGrpSpPr/>
            <p:nvPr/>
          </p:nvGrpSpPr>
          <p:grpSpPr>
            <a:xfrm>
              <a:off x="1599840" y="685800"/>
              <a:ext cx="239760" cy="457200"/>
              <a:chOff x="1599840" y="685800"/>
              <a:chExt cx="239760" cy="457200"/>
            </a:xfrm>
          </p:grpSpPr>
          <p:sp>
            <p:nvSpPr>
              <p:cNvPr id="78" name=""/>
              <p:cNvSpPr/>
              <p:nvPr/>
            </p:nvSpPr>
            <p:spPr>
              <a:xfrm>
                <a:off x="1599840" y="990720"/>
                <a:ext cx="152280" cy="15228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9" name=""/>
                  <p:cNvSpPr txBox="1"/>
                  <p:nvPr/>
                </p:nvSpPr>
                <p:spPr>
                  <a:xfrm>
                    <a:off x="1599840" y="6858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80" name=""/>
            <p:cNvGrpSpPr/>
            <p:nvPr/>
          </p:nvGrpSpPr>
          <p:grpSpPr>
            <a:xfrm>
              <a:off x="609480" y="762120"/>
              <a:ext cx="304200" cy="380880"/>
              <a:chOff x="609480" y="762120"/>
              <a:chExt cx="304200" cy="380880"/>
            </a:xfrm>
          </p:grpSpPr>
          <p:sp>
            <p:nvSpPr>
              <p:cNvPr id="81" name=""/>
              <p:cNvSpPr/>
              <p:nvPr/>
            </p:nvSpPr>
            <p:spPr>
              <a:xfrm>
                <a:off x="761760" y="990720"/>
                <a:ext cx="151920" cy="15228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2" name=""/>
                  <p:cNvSpPr txBox="1"/>
                  <p:nvPr/>
                </p:nvSpPr>
                <p:spPr>
                  <a:xfrm>
                    <a:off x="609480" y="762120"/>
                    <a:ext cx="2142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83" name=""/>
            <p:cNvGrpSpPr/>
            <p:nvPr/>
          </p:nvGrpSpPr>
          <p:grpSpPr>
            <a:xfrm>
              <a:off x="2742840" y="1828800"/>
              <a:ext cx="392040" cy="304920"/>
              <a:chOff x="2742840" y="1828800"/>
              <a:chExt cx="392040" cy="304920"/>
            </a:xfrm>
          </p:grpSpPr>
          <p:sp>
            <p:nvSpPr>
              <p:cNvPr id="84" name=""/>
              <p:cNvSpPr/>
              <p:nvPr/>
            </p:nvSpPr>
            <p:spPr>
              <a:xfrm>
                <a:off x="2742840" y="1981440"/>
                <a:ext cx="152280" cy="15228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5" name=""/>
                  <p:cNvSpPr txBox="1"/>
                  <p:nvPr/>
                </p:nvSpPr>
                <p:spPr>
                  <a:xfrm>
                    <a:off x="2895120" y="18288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pic>
        <p:nvPicPr>
          <p:cNvPr id="86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380880" y="685800"/>
                <a:ext cx="19432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6" name=""/>
          <p:cNvSpPr/>
          <p:nvPr/>
        </p:nvSpPr>
        <p:spPr>
          <a:xfrm>
            <a:off x="540360" y="193680"/>
            <a:ext cx="26496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OLVE USING MAT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69720" y="2122560"/>
            <a:ext cx="237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UT IN MATRIX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380880" y="2666880"/>
                <a:ext cx="335304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19" name=""/>
          <p:cNvGrpSpPr/>
          <p:nvPr/>
        </p:nvGrpSpPr>
        <p:grpSpPr>
          <a:xfrm>
            <a:off x="4636800" y="65160"/>
            <a:ext cx="3191400" cy="2540880"/>
            <a:chOff x="4636800" y="65160"/>
            <a:chExt cx="3191400" cy="2540880"/>
          </a:xfrm>
        </p:grpSpPr>
        <p:sp>
          <p:nvSpPr>
            <p:cNvPr id="620" name=""/>
            <p:cNvSpPr/>
            <p:nvPr/>
          </p:nvSpPr>
          <p:spPr>
            <a:xfrm>
              <a:off x="5382720" y="380880"/>
              <a:ext cx="2445480" cy="22251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» R=[1,0,0,0;  %FIRST R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,1, -1, 0;  %SECOND  R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0,1,3,-2;  %THIRD R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0,-1,-1,2] %FOURTH R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     0     0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     1    -1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0     1     3    -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0    -1    -1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36800" y="65160"/>
              <a:ext cx="2253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DEFINE THE MATRI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4563000" y="2579760"/>
            <a:ext cx="4204080" cy="2114640"/>
            <a:chOff x="4563000" y="2579760"/>
            <a:chExt cx="4204080" cy="2114640"/>
          </a:xfrm>
        </p:grpSpPr>
        <p:sp>
          <p:nvSpPr>
            <p:cNvPr id="623" name=""/>
            <p:cNvSpPr/>
            <p:nvPr/>
          </p:nvSpPr>
          <p:spPr>
            <a:xfrm>
              <a:off x="4563000" y="2579760"/>
              <a:ext cx="4204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DEFINE THE RIGHT HAND SIDE VE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135120" y="2895480"/>
              <a:ext cx="1334520" cy="1798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» V=[4;0;8;1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V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-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2449440" y="625320"/>
            <a:ext cx="2314440" cy="9464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ince we divid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1k the RHS is mA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ll the coeffic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re nu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4355280" y="4724280"/>
            <a:ext cx="4025160" cy="1798920"/>
            <a:chOff x="4355280" y="4724280"/>
            <a:chExt cx="4025160" cy="1798920"/>
          </a:xfrm>
        </p:grpSpPr>
        <p:grpSp>
          <p:nvGrpSpPr>
            <p:cNvPr id="627" name=""/>
            <p:cNvGrpSpPr/>
            <p:nvPr/>
          </p:nvGrpSpPr>
          <p:grpSpPr>
            <a:xfrm>
              <a:off x="4355280" y="4724280"/>
              <a:ext cx="4025160" cy="1798920"/>
              <a:chOff x="4355280" y="4724280"/>
              <a:chExt cx="4025160" cy="1798920"/>
            </a:xfrm>
          </p:grpSpPr>
          <p:sp>
            <p:nvSpPr>
              <p:cNvPr id="628" name=""/>
              <p:cNvSpPr/>
              <p:nvPr/>
            </p:nvSpPr>
            <p:spPr>
              <a:xfrm>
                <a:off x="4355280" y="4724280"/>
                <a:ext cx="31068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Console"/>
                  </a:rPr>
                  <a:t>SOLVE AND GET THE ANSW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565760" y="4724280"/>
                <a:ext cx="814680" cy="17989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» I=R\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I =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-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-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-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>
              <a:off x="4888800" y="5197320"/>
              <a:ext cx="2421000" cy="3070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 answers are in 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3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74840" y="4359240"/>
            <a:ext cx="338112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&gt;&gt; is the MATLAB prompt. W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ollows is the command ente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47880" y="41400"/>
            <a:ext cx="525564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ARNING EXTENSION: Depend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343880" y="2590920"/>
            <a:ext cx="7008120" cy="337320"/>
          </a:xfrm>
          <a:prstGeom prst="rect">
            <a:avLst/>
          </a:prstGeom>
          <a:solidFill>
            <a:srgbClr val="cce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e treat the dependent source as one more voltag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797280" y="4121280"/>
            <a:ext cx="1689120" cy="337320"/>
          </a:xfrm>
          <a:prstGeom prst="rect">
            <a:avLst/>
          </a:prstGeom>
          <a:solidFill>
            <a:srgbClr val="cce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nd solv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280120" y="5943600"/>
            <a:ext cx="3838320" cy="8240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selection of loop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implifies expression for V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nd computation of V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4572000" y="380880"/>
          <a:ext cx="4572000" cy="19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80880"/>
                    <a:ext cx="4572000" cy="19749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41" name=""/>
          <p:cNvSpPr/>
          <p:nvPr/>
        </p:nvSpPr>
        <p:spPr>
          <a:xfrm>
            <a:off x="6884280" y="2133720"/>
            <a:ext cx="220752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SING LOOP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0" y="380880"/>
          <a:ext cx="4572000" cy="197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0880"/>
                    <a:ext cx="4572000" cy="19749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44" name=""/>
          <p:cNvSpPr/>
          <p:nvPr/>
        </p:nvSpPr>
        <p:spPr>
          <a:xfrm flipV="1">
            <a:off x="2362320" y="167616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220480" y="2149560"/>
            <a:ext cx="220752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SING MESH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307080" y="3048120"/>
            <a:ext cx="7846200" cy="322920"/>
            <a:chOff x="307080" y="3048120"/>
            <a:chExt cx="7846200" cy="322920"/>
          </a:xfrm>
        </p:grpSpPr>
        <p:grpSp>
          <p:nvGrpSpPr>
            <p:cNvPr id="647" name=""/>
            <p:cNvGrpSpPr/>
            <p:nvPr/>
          </p:nvGrpSpPr>
          <p:grpSpPr>
            <a:xfrm>
              <a:off x="307080" y="3062160"/>
              <a:ext cx="3579120" cy="308880"/>
              <a:chOff x="307080" y="3062160"/>
              <a:chExt cx="3579120" cy="308880"/>
            </a:xfrm>
          </p:grpSpPr>
          <p:sp>
            <p:nvSpPr>
              <p:cNvPr id="648" name=""/>
              <p:cNvSpPr/>
              <p:nvPr/>
            </p:nvSpPr>
            <p:spPr>
              <a:xfrm>
                <a:off x="307080" y="3063960"/>
                <a:ext cx="820800" cy="307080"/>
              </a:xfrm>
              <a:prstGeom prst="rect">
                <a:avLst/>
              </a:prstGeom>
              <a:solidFill>
                <a:srgbClr val="ccecff"/>
              </a:solidFill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Console"/>
                  </a:rPr>
                  <a:t>MESH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49" name=""/>
                  <p:cNvSpPr txBox="1"/>
                  <p:nvPr/>
                </p:nvSpPr>
                <p:spPr>
                  <a:xfrm>
                    <a:off x="1143000" y="3062160"/>
                    <a:ext cx="27432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50" name=""/>
            <p:cNvGrpSpPr/>
            <p:nvPr/>
          </p:nvGrpSpPr>
          <p:grpSpPr>
            <a:xfrm>
              <a:off x="4590000" y="3048120"/>
              <a:ext cx="3563280" cy="307080"/>
              <a:chOff x="4590000" y="3048120"/>
              <a:chExt cx="3563280" cy="307080"/>
            </a:xfrm>
          </p:grpSpPr>
          <p:sp>
            <p:nvSpPr>
              <p:cNvPr id="651" name=""/>
              <p:cNvSpPr/>
              <p:nvPr/>
            </p:nvSpPr>
            <p:spPr>
              <a:xfrm>
                <a:off x="4590000" y="3048120"/>
                <a:ext cx="820800" cy="307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Console"/>
                  </a:rPr>
                  <a:t>LOOP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52" name=""/>
                  <p:cNvSpPr txBox="1"/>
                  <p:nvPr/>
                </p:nvSpPr>
                <p:spPr>
                  <a:xfrm>
                    <a:off x="5410080" y="3048120"/>
                    <a:ext cx="27432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653" name=""/>
          <p:cNvGrpSpPr/>
          <p:nvPr/>
        </p:nvGrpSpPr>
        <p:grpSpPr>
          <a:xfrm>
            <a:off x="322920" y="3282840"/>
            <a:ext cx="8160840" cy="453240"/>
            <a:chOff x="322920" y="3282840"/>
            <a:chExt cx="8160840" cy="453240"/>
          </a:xfrm>
        </p:grpSpPr>
        <mc:AlternateContent>
          <mc:Choice xmlns:a14="http://schemas.microsoft.com/office/drawing/2010/main" Requires="a14">
            <p:sp>
              <p:nvSpPr>
                <p:cNvPr id="654" name=""/>
                <p:cNvSpPr txBox="1"/>
                <p:nvPr/>
              </p:nvSpPr>
              <p:spPr>
                <a:xfrm>
                  <a:off x="4502160" y="3282840"/>
                  <a:ext cx="139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grpSp>
          <p:nvGrpSpPr>
            <p:cNvPr id="655" name=""/>
            <p:cNvGrpSpPr/>
            <p:nvPr/>
          </p:nvGrpSpPr>
          <p:grpSpPr>
            <a:xfrm>
              <a:off x="322920" y="3429000"/>
              <a:ext cx="3334680" cy="307080"/>
              <a:chOff x="322920" y="3429000"/>
              <a:chExt cx="3334680" cy="307080"/>
            </a:xfrm>
          </p:grpSpPr>
          <p:sp>
            <p:nvSpPr>
              <p:cNvPr id="656" name=""/>
              <p:cNvSpPr/>
              <p:nvPr/>
            </p:nvSpPr>
            <p:spPr>
              <a:xfrm>
                <a:off x="322920" y="3429000"/>
                <a:ext cx="820800" cy="307080"/>
              </a:xfrm>
              <a:prstGeom prst="rect">
                <a:avLst/>
              </a:prstGeom>
              <a:solidFill>
                <a:srgbClr val="ccecff"/>
              </a:solidFill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Console"/>
                  </a:rPr>
                  <a:t>MESH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57" name=""/>
                  <p:cNvSpPr txBox="1"/>
                  <p:nvPr/>
                </p:nvSpPr>
                <p:spPr>
                  <a:xfrm>
                    <a:off x="1155600" y="3429000"/>
                    <a:ext cx="25020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58" name=""/>
            <p:cNvGrpSpPr/>
            <p:nvPr/>
          </p:nvGrpSpPr>
          <p:grpSpPr>
            <a:xfrm>
              <a:off x="4590000" y="3429000"/>
              <a:ext cx="3893760" cy="307080"/>
              <a:chOff x="4590000" y="3429000"/>
              <a:chExt cx="3893760" cy="307080"/>
            </a:xfrm>
          </p:grpSpPr>
          <p:sp>
            <p:nvSpPr>
              <p:cNvPr id="659" name=""/>
              <p:cNvSpPr/>
              <p:nvPr/>
            </p:nvSpPr>
            <p:spPr>
              <a:xfrm>
                <a:off x="4590000" y="3429000"/>
                <a:ext cx="820800" cy="307080"/>
              </a:xfrm>
              <a:prstGeom prst="rect">
                <a:avLst/>
              </a:prstGeom>
              <a:solidFill>
                <a:srgbClr val="ccecff"/>
              </a:solidFill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Console"/>
                  </a:rPr>
                  <a:t>LOOP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60" name=""/>
                  <p:cNvSpPr txBox="1"/>
                  <p:nvPr/>
                </p:nvSpPr>
                <p:spPr>
                  <a:xfrm>
                    <a:off x="5410080" y="3429000"/>
                    <a:ext cx="30736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661" name=""/>
          <p:cNvGrpSpPr/>
          <p:nvPr/>
        </p:nvGrpSpPr>
        <p:grpSpPr>
          <a:xfrm>
            <a:off x="1055160" y="3772080"/>
            <a:ext cx="7541640" cy="633240"/>
            <a:chOff x="1055160" y="3772080"/>
            <a:chExt cx="7541640" cy="633240"/>
          </a:xfrm>
        </p:grpSpPr>
        <p:sp>
          <p:nvSpPr>
            <p:cNvPr id="662" name=""/>
            <p:cNvSpPr/>
            <p:nvPr/>
          </p:nvSpPr>
          <p:spPr>
            <a:xfrm>
              <a:off x="1055160" y="3772080"/>
              <a:ext cx="7541640" cy="30708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NOW WE EXPRESS THE CONTROLLING VARIABLE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Console"/>
                </a:rPr>
                <a:t>IN TERMS OF THE LOOP CURR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3" name=""/>
                <p:cNvSpPr txBox="1"/>
                <p:nvPr/>
              </p:nvSpPr>
              <p:spPr>
                <a:xfrm>
                  <a:off x="5791320" y="4114800"/>
                  <a:ext cx="888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4" name=""/>
                <p:cNvSpPr txBox="1"/>
                <p:nvPr/>
              </p:nvSpPr>
              <p:spPr>
                <a:xfrm>
                  <a:off x="1752480" y="4114800"/>
                  <a:ext cx="1524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k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5" name=""/>
          <p:cNvGrpSpPr/>
          <p:nvPr/>
        </p:nvGrpSpPr>
        <p:grpSpPr>
          <a:xfrm>
            <a:off x="1765440" y="4495680"/>
            <a:ext cx="5765760" cy="648000"/>
            <a:chOff x="1765440" y="4495680"/>
            <a:chExt cx="5765760" cy="648000"/>
          </a:xfrm>
        </p:grpSpPr>
        <mc:AlternateContent>
          <mc:Choice xmlns:a14="http://schemas.microsoft.com/office/drawing/2010/main" Requires="a14">
            <p:sp>
              <p:nvSpPr>
                <p:cNvPr id="666" name=""/>
                <p:cNvSpPr txBox="1"/>
                <p:nvPr/>
              </p:nvSpPr>
              <p:spPr>
                <a:xfrm>
                  <a:off x="1765440" y="4495680"/>
                  <a:ext cx="166356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67" name=""/>
            <p:cNvSpPr/>
            <p:nvPr/>
          </p:nvSpPr>
          <p:spPr>
            <a:xfrm>
              <a:off x="3456720" y="4495680"/>
              <a:ext cx="24210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REPLACE AND REARR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8" name=""/>
                <p:cNvSpPr txBox="1"/>
                <p:nvPr/>
              </p:nvSpPr>
              <p:spPr>
                <a:xfrm>
                  <a:off x="5943600" y="4495680"/>
                  <a:ext cx="158760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8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9" name=""/>
          <p:cNvGrpSpPr/>
          <p:nvPr/>
        </p:nvGrpSpPr>
        <p:grpSpPr>
          <a:xfrm>
            <a:off x="685800" y="5181480"/>
            <a:ext cx="8077320" cy="671760"/>
            <a:chOff x="685800" y="5181480"/>
            <a:chExt cx="8077320" cy="671760"/>
          </a:xfrm>
        </p:grpSpPr>
        <mc:AlternateContent>
          <mc:Choice xmlns:a14="http://schemas.microsoft.com/office/drawing/2010/main" Requires="a14">
            <p:sp>
              <p:nvSpPr>
                <p:cNvPr id="670" name=""/>
                <p:cNvSpPr txBox="1"/>
                <p:nvPr/>
              </p:nvSpPr>
              <p:spPr>
                <a:xfrm>
                  <a:off x="685800" y="5181480"/>
                  <a:ext cx="2108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1" name=""/>
                <p:cNvSpPr txBox="1"/>
                <p:nvPr/>
              </p:nvSpPr>
              <p:spPr>
                <a:xfrm>
                  <a:off x="6489720" y="5181480"/>
                  <a:ext cx="2273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2" name=""/>
            <p:cNvSpPr/>
            <p:nvPr/>
          </p:nvSpPr>
          <p:spPr>
            <a:xfrm>
              <a:off x="4020480" y="5232240"/>
              <a:ext cx="114084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SOLU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3" name=""/>
                <p:cNvSpPr txBox="1"/>
                <p:nvPr/>
              </p:nvSpPr>
              <p:spPr>
                <a:xfrm>
                  <a:off x="3809880" y="5562720"/>
                  <a:ext cx="1587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9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4" name=""/>
          <p:cNvSpPr/>
          <p:nvPr/>
        </p:nvSpPr>
        <p:spPr>
          <a:xfrm>
            <a:off x="112680" y="5915160"/>
            <a:ext cx="3914640" cy="9464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TICE THE DIFFERENCE BETWEEN MES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URRENT I1 AND LOOP CURRENT I1 EV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OUGH THEY ARE ASSOCIATED TO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AME 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643720" y="0"/>
            <a:ext cx="11408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ind 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0" y="457200"/>
          <a:ext cx="472428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4724280" cy="2666880"/>
                  </a:xfrm>
                  <a:prstGeom prst="rect">
                    <a:avLst/>
                  </a:prstGeom>
                  <a:ln w="381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81" name=""/>
          <p:cNvSpPr/>
          <p:nvPr/>
        </p:nvSpPr>
        <p:spPr>
          <a:xfrm>
            <a:off x="243360" y="141120"/>
            <a:ext cx="7739640" cy="337320"/>
          </a:xfrm>
          <a:prstGeom prst="rect">
            <a:avLst/>
          </a:prstGeom>
          <a:solidFill>
            <a:srgbClr val="cce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EPENDENT CURRENT SOURCE. CURRENT SOURCES NOT SHARED BY MES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97560" y="3048120"/>
            <a:ext cx="4447800" cy="580680"/>
          </a:xfrm>
          <a:prstGeom prst="rect">
            <a:avLst/>
          </a:prstGeom>
          <a:solidFill>
            <a:srgbClr val="cce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e treat the dependent source as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nventional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0" y="4800600"/>
            <a:ext cx="4230000" cy="995400"/>
            <a:chOff x="0" y="4800600"/>
            <a:chExt cx="4230000" cy="995400"/>
          </a:xfrm>
        </p:grpSpPr>
        <p:sp>
          <p:nvSpPr>
            <p:cNvPr id="684" name=""/>
            <p:cNvSpPr/>
            <p:nvPr/>
          </p:nvSpPr>
          <p:spPr>
            <a:xfrm>
              <a:off x="25920" y="4800600"/>
              <a:ext cx="4204080" cy="33732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en KVL on the remaining loop(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5" name=""/>
            <p:cNvGraphicFramePr/>
            <p:nvPr/>
          </p:nvGraphicFramePr>
          <p:xfrm>
            <a:off x="0" y="5181480"/>
            <a:ext cx="3811680" cy="614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8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5181480"/>
                      <a:ext cx="3811680" cy="614520"/>
                    </a:xfrm>
                    <a:prstGeom prst="rect">
                      <a:avLst/>
                    </a:prstGeom>
                    <a:ln w="381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687" name=""/>
          <p:cNvGrpSpPr/>
          <p:nvPr/>
        </p:nvGrpSpPr>
        <p:grpSpPr>
          <a:xfrm>
            <a:off x="26640" y="5753160"/>
            <a:ext cx="4691880" cy="1104840"/>
            <a:chOff x="26640" y="5753160"/>
            <a:chExt cx="4691880" cy="1104840"/>
          </a:xfrm>
        </p:grpSpPr>
        <p:sp>
          <p:nvSpPr>
            <p:cNvPr id="688" name=""/>
            <p:cNvSpPr/>
            <p:nvPr/>
          </p:nvSpPr>
          <p:spPr>
            <a:xfrm>
              <a:off x="26640" y="5753160"/>
              <a:ext cx="4691880" cy="58068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And express the controlling variable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Vx, in terms of loop curr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9" name=""/>
            <p:cNvGraphicFramePr/>
            <p:nvPr/>
          </p:nvGraphicFramePr>
          <p:xfrm>
            <a:off x="1523880" y="6362640"/>
            <a:ext cx="1828800" cy="495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9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3880" y="6362640"/>
                      <a:ext cx="1828800" cy="495360"/>
                    </a:xfrm>
                    <a:prstGeom prst="rect">
                      <a:avLst/>
                    </a:prstGeom>
                    <a:ln w="381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691" name=""/>
          <p:cNvGrpSpPr/>
          <p:nvPr/>
        </p:nvGrpSpPr>
        <p:grpSpPr>
          <a:xfrm>
            <a:off x="40320" y="3733920"/>
            <a:ext cx="4554720" cy="1054080"/>
            <a:chOff x="40320" y="3733920"/>
            <a:chExt cx="4554720" cy="1054080"/>
          </a:xfrm>
        </p:grpSpPr>
        <p:graphicFrame>
          <p:nvGraphicFramePr>
            <p:cNvPr id="692" name=""/>
            <p:cNvGraphicFramePr/>
            <p:nvPr/>
          </p:nvGraphicFramePr>
          <p:xfrm>
            <a:off x="304920" y="4081680"/>
            <a:ext cx="1523880" cy="706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9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4920" y="4081680"/>
                      <a:ext cx="1523880" cy="706320"/>
                    </a:xfrm>
                    <a:prstGeom prst="rect">
                      <a:avLst/>
                    </a:prstGeom>
                    <a:ln w="381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694" name=""/>
            <p:cNvGraphicFramePr/>
            <p:nvPr/>
          </p:nvGraphicFramePr>
          <p:xfrm>
            <a:off x="1905120" y="4178520"/>
            <a:ext cx="1523880" cy="473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9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905120" y="4178520"/>
                      <a:ext cx="1523880" cy="473040"/>
                    </a:xfrm>
                    <a:prstGeom prst="rect">
                      <a:avLst/>
                    </a:prstGeom>
                    <a:ln w="381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96" name=""/>
            <p:cNvSpPr/>
            <p:nvPr/>
          </p:nvSpPr>
          <p:spPr>
            <a:xfrm>
              <a:off x="40320" y="3733920"/>
              <a:ext cx="455472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Equations for meshes with current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4972320" y="549360"/>
            <a:ext cx="3701160" cy="5202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E ARE ASKED FOR Vo. WE ONLY N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 SOLVE FOR I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105520" y="1158840"/>
            <a:ext cx="3365280" cy="1112760"/>
            <a:chOff x="5105520" y="1158840"/>
            <a:chExt cx="3365280" cy="1112760"/>
          </a:xfrm>
        </p:grpSpPr>
        <p:sp>
          <p:nvSpPr>
            <p:cNvPr id="699" name=""/>
            <p:cNvSpPr/>
            <p:nvPr/>
          </p:nvSpPr>
          <p:spPr>
            <a:xfrm>
              <a:off x="5346000" y="1158840"/>
              <a:ext cx="24210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REPLACE AND REARR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0" name=""/>
                <p:cNvSpPr txBox="1"/>
                <p:nvPr/>
              </p:nvSpPr>
              <p:spPr>
                <a:xfrm>
                  <a:off x="5105520" y="1600200"/>
                  <a:ext cx="336528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1" name=""/>
          <p:cNvGrpSpPr/>
          <p:nvPr/>
        </p:nvGrpSpPr>
        <p:grpSpPr>
          <a:xfrm>
            <a:off x="3811680" y="2362320"/>
            <a:ext cx="4481280" cy="3125520"/>
            <a:chOff x="3811680" y="2362320"/>
            <a:chExt cx="4481280" cy="3125520"/>
          </a:xfrm>
        </p:grpSpPr>
        <mc:AlternateContent>
          <mc:Choice xmlns:a14="http://schemas.microsoft.com/office/drawing/2010/main" Requires="a14">
            <p:sp>
              <p:nvSpPr>
                <p:cNvPr id="702" name=""/>
                <p:cNvSpPr txBox="1"/>
                <p:nvPr/>
              </p:nvSpPr>
              <p:spPr>
                <a:xfrm>
                  <a:off x="5562720" y="2362320"/>
                  <a:ext cx="27302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03" name=""/>
            <p:cNvSpPr/>
            <p:nvPr/>
          </p:nvSpPr>
          <p:spPr>
            <a:xfrm>
              <a:off x="3811680" y="2668680"/>
              <a:ext cx="1676160" cy="2819160"/>
            </a:xfrm>
            <a:custGeom>
              <a:avLst/>
              <a:gdLst/>
              <a:ahLst/>
              <a:rect l="l" t="t" r="r" b="b"/>
              <a:pathLst>
                <a:path w="1056" h="1776">
                  <a:moveTo>
                    <a:pt x="0" y="1776"/>
                  </a:moveTo>
                  <a:lnTo>
                    <a:pt x="768" y="1776"/>
                  </a:lnTo>
                  <a:lnTo>
                    <a:pt x="864" y="0"/>
                  </a:lnTo>
                  <a:lnTo>
                    <a:pt x="1056" y="0"/>
                  </a:lnTo>
                </a:path>
              </a:pathLst>
            </a:custGeom>
            <a:solidFill>
              <a:srgbClr val="ccecff"/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5943600" y="3200400"/>
                <a:ext cx="1727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05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0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8" name=""/>
          <p:cNvGraphicFramePr/>
          <p:nvPr/>
        </p:nvGraphicFramePr>
        <p:xfrm>
          <a:off x="1073160" y="722160"/>
          <a:ext cx="7385040" cy="29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722160"/>
                    <a:ext cx="7385040" cy="29354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10" name=""/>
          <p:cNvGraphicFramePr/>
          <p:nvPr/>
        </p:nvGraphicFramePr>
        <p:xfrm>
          <a:off x="2533680" y="95400"/>
          <a:ext cx="411804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33680" y="95400"/>
                    <a:ext cx="4118040" cy="6476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712" name=""/>
          <p:cNvGrpSpPr/>
          <p:nvPr/>
        </p:nvGrpSpPr>
        <p:grpSpPr>
          <a:xfrm>
            <a:off x="3048120" y="1752480"/>
            <a:ext cx="914400" cy="1143000"/>
            <a:chOff x="3048120" y="1752480"/>
            <a:chExt cx="914400" cy="1143000"/>
          </a:xfrm>
        </p:grpSpPr>
        <p:sp>
          <p:nvSpPr>
            <p:cNvPr id="713" name=""/>
            <p:cNvSpPr/>
            <p:nvPr/>
          </p:nvSpPr>
          <p:spPr>
            <a:xfrm>
              <a:off x="3048120" y="1752480"/>
              <a:ext cx="914400" cy="114300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0" y="720"/>
                  </a:moveTo>
                  <a:lnTo>
                    <a:pt x="0" y="0"/>
                  </a:lnTo>
                  <a:lnTo>
                    <a:pt x="576" y="0"/>
                  </a:lnTo>
                  <a:lnTo>
                    <a:pt x="576" y="720"/>
                  </a:lnTo>
                  <a:lnTo>
                    <a:pt x="144" y="720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4" name=""/>
                <p:cNvSpPr txBox="1"/>
                <p:nvPr/>
              </p:nvSpPr>
              <p:spPr>
                <a:xfrm>
                  <a:off x="3657600" y="243828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5" name=""/>
          <p:cNvSpPr/>
          <p:nvPr/>
        </p:nvSpPr>
        <p:spPr>
          <a:xfrm>
            <a:off x="101880" y="3825720"/>
            <a:ext cx="210096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RAW MESH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4495680" y="1752480"/>
            <a:ext cx="1295640" cy="1295640"/>
            <a:chOff x="4495680" y="1752480"/>
            <a:chExt cx="1295640" cy="1295640"/>
          </a:xfrm>
        </p:grpSpPr>
        <p:sp>
          <p:nvSpPr>
            <p:cNvPr id="717" name=""/>
            <p:cNvSpPr/>
            <p:nvPr/>
          </p:nvSpPr>
          <p:spPr>
            <a:xfrm>
              <a:off x="4495680" y="1752480"/>
              <a:ext cx="1295640" cy="1295640"/>
            </a:xfrm>
            <a:custGeom>
              <a:avLst/>
              <a:gdLst/>
              <a:ahLst/>
              <a:rect l="l" t="t" r="r" b="b"/>
              <a:pathLst>
                <a:path w="816" h="816">
                  <a:moveTo>
                    <a:pt x="0" y="768"/>
                  </a:moveTo>
                  <a:lnTo>
                    <a:pt x="0" y="0"/>
                  </a:lnTo>
                  <a:lnTo>
                    <a:pt x="816" y="0"/>
                  </a:lnTo>
                  <a:lnTo>
                    <a:pt x="816" y="816"/>
                  </a:lnTo>
                  <a:lnTo>
                    <a:pt x="192" y="816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8" name=""/>
                <p:cNvSpPr txBox="1"/>
                <p:nvPr/>
              </p:nvSpPr>
              <p:spPr>
                <a:xfrm>
                  <a:off x="5486400" y="259092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9" name=""/>
          <p:cNvSpPr/>
          <p:nvPr/>
        </p:nvSpPr>
        <p:spPr>
          <a:xfrm>
            <a:off x="104040" y="4233960"/>
            <a:ext cx="24210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RITE MESH EQU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76320" y="5011560"/>
                <a:ext cx="3568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SH  2: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1" name=""/>
          <p:cNvSpPr/>
          <p:nvPr/>
        </p:nvSpPr>
        <p:spPr>
          <a:xfrm>
            <a:off x="111600" y="5381640"/>
            <a:ext cx="3701160" cy="5202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NTROLLING VARIABLE IN TERMS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OOP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76320" y="5958000"/>
                <a:ext cx="685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76320" y="4643280"/>
                <a:ext cx="3759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SH  1: 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4" name=""/>
          <p:cNvSpPr/>
          <p:nvPr/>
        </p:nvSpPr>
        <p:spPr>
          <a:xfrm>
            <a:off x="5117400" y="3825720"/>
            <a:ext cx="24210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PLACE AND REARR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"/>
              <p:cNvSpPr txBox="1"/>
              <p:nvPr/>
            </p:nvSpPr>
            <p:spPr>
              <a:xfrm>
                <a:off x="5562720" y="4191120"/>
                <a:ext cx="1676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6" name=""/>
          <p:cNvSpPr/>
          <p:nvPr/>
        </p:nvSpPr>
        <p:spPr>
          <a:xfrm>
            <a:off x="5111640" y="4968720"/>
            <a:ext cx="146088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OLVE FOR 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7" name=""/>
              <p:cNvSpPr txBox="1"/>
              <p:nvPr/>
            </p:nvSpPr>
            <p:spPr>
              <a:xfrm>
                <a:off x="5562720" y="5272200"/>
                <a:ext cx="2108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5638680" y="5791320"/>
                <a:ext cx="1689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stop" descr=""/>
          <p:cNvPicPr/>
          <p:nvPr/>
        </p:nvPicPr>
        <p:blipFill>
          <a:blip r:embed="rId5"/>
          <a:stretch/>
        </p:blipFill>
        <p:spPr>
          <a:xfrm>
            <a:off x="8610480" y="6324480"/>
            <a:ext cx="5144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5480" y="25560"/>
            <a:ext cx="44326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OOPS, MESHES AND LOOP CURR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45560" y="749160"/>
            <a:ext cx="1887480" cy="1159560"/>
          </a:xfrm>
          <a:prstGeom prst="rect">
            <a:avLst/>
          </a:prstGeom>
          <a:solidFill>
            <a:srgbClr val="cce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ACH COMPON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S CHARACTERIZ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Y ITS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CROSS AND 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URRENT THROU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0720" y="2454120"/>
            <a:ext cx="4127760" cy="733320"/>
          </a:xfrm>
          <a:prstGeom prst="rect">
            <a:avLst/>
          </a:prstGeom>
          <a:solidFill>
            <a:srgbClr val="cce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LOOP IS A CLOSED PATH THAT DOES 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GO TWICE OVER ANY NO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IS CIRCUIT HAS THREE LO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36440" y="533520"/>
          <a:ext cx="2378160" cy="17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533520"/>
                    <a:ext cx="2378160" cy="175572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94" name=""/>
          <p:cNvGrpSpPr/>
          <p:nvPr/>
        </p:nvGrpSpPr>
        <p:grpSpPr>
          <a:xfrm>
            <a:off x="196920" y="533520"/>
            <a:ext cx="2781360" cy="3142080"/>
            <a:chOff x="196920" y="533520"/>
            <a:chExt cx="2781360" cy="3142080"/>
          </a:xfrm>
        </p:grpSpPr>
        <p:sp>
          <p:nvSpPr>
            <p:cNvPr id="95" name=""/>
            <p:cNvSpPr/>
            <p:nvPr/>
          </p:nvSpPr>
          <p:spPr>
            <a:xfrm>
              <a:off x="196920" y="533520"/>
              <a:ext cx="2368440" cy="1495440"/>
            </a:xfrm>
            <a:custGeom>
              <a:avLst/>
              <a:gdLst/>
              <a:ahLst/>
              <a:rect l="l" t="t" r="r" b="b"/>
              <a:pathLst>
                <a:path w="1492" h="942">
                  <a:moveTo>
                    <a:pt x="0" y="942"/>
                  </a:moveTo>
                  <a:cubicBezTo>
                    <a:pt x="0" y="877"/>
                    <a:pt x="0" y="812"/>
                    <a:pt x="0" y="747"/>
                  </a:cubicBezTo>
                  <a:lnTo>
                    <a:pt x="4" y="0"/>
                  </a:lnTo>
                  <a:lnTo>
                    <a:pt x="1492" y="0"/>
                  </a:lnTo>
                  <a:lnTo>
                    <a:pt x="1492" y="912"/>
                  </a:lnTo>
                  <a:lnTo>
                    <a:pt x="196" y="912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50920" y="3368520"/>
              <a:ext cx="927360" cy="307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fabcde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74960" y="3749760"/>
            <a:ext cx="4234680" cy="733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MESH IS A LOOP THAT DOES NOT ENCL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NY OTHER LOO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abef, ebcde ARE MES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5920" y="4587840"/>
            <a:ext cx="4447800" cy="5202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LOOP CURRENT IS A (FICTICIOUS)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AT IS ASSUMED TO FLOW AROUND A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45880" y="990720"/>
            <a:ext cx="758880" cy="2689920"/>
            <a:chOff x="245880" y="990720"/>
            <a:chExt cx="758880" cy="2689920"/>
          </a:xfrm>
        </p:grpSpPr>
        <p:sp>
          <p:nvSpPr>
            <p:cNvPr id="100" name=""/>
            <p:cNvSpPr/>
            <p:nvPr/>
          </p:nvSpPr>
          <p:spPr>
            <a:xfrm>
              <a:off x="623880" y="990720"/>
              <a:ext cx="380880" cy="53316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0" y="336"/>
                  </a:moveTo>
                  <a:lnTo>
                    <a:pt x="0" y="0"/>
                  </a:lnTo>
                  <a:lnTo>
                    <a:pt x="240" y="0"/>
                  </a:lnTo>
                  <a:lnTo>
                    <a:pt x="240" y="336"/>
                  </a:lnTo>
                  <a:lnTo>
                    <a:pt x="48" y="336"/>
                  </a:lnTo>
                </a:path>
              </a:pathLst>
            </a:custGeom>
            <a:solidFill>
              <a:srgbClr val="ccecff"/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5880" y="3373560"/>
              <a:ext cx="71424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fabe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312920" y="990720"/>
            <a:ext cx="714240" cy="2684880"/>
            <a:chOff x="1312920" y="990720"/>
            <a:chExt cx="714240" cy="2684880"/>
          </a:xfrm>
        </p:grpSpPr>
        <p:sp>
          <p:nvSpPr>
            <p:cNvPr id="103" name=""/>
            <p:cNvSpPr/>
            <p:nvPr/>
          </p:nvSpPr>
          <p:spPr>
            <a:xfrm>
              <a:off x="1463760" y="990720"/>
              <a:ext cx="53316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0" y="336"/>
                  </a:moveTo>
                  <a:lnTo>
                    <a:pt x="0" y="0"/>
                  </a:lnTo>
                  <a:lnTo>
                    <a:pt x="336" y="0"/>
                  </a:lnTo>
                  <a:lnTo>
                    <a:pt x="336" y="336"/>
                  </a:lnTo>
                  <a:lnTo>
                    <a:pt x="96" y="336"/>
                  </a:lnTo>
                </a:path>
              </a:pathLst>
            </a:custGeom>
            <a:solidFill>
              <a:srgbClr val="00cc99">
                <a:alpha val="50000"/>
              </a:srgbClr>
            </a:solidFill>
            <a:ln w="2556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12920" y="3368520"/>
              <a:ext cx="714240" cy="3070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ebc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700200" y="1157400"/>
            <a:ext cx="1204920" cy="1128600"/>
            <a:chOff x="700200" y="1157400"/>
            <a:chExt cx="1204920" cy="1128600"/>
          </a:xfrm>
        </p:grpSpPr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700200" y="1157400"/>
                  <a:ext cx="190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1690920" y="115740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1182960" y="1995480"/>
                  <a:ext cx="279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20600" y="5181480"/>
                <a:ext cx="3137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ARE  LOOP CURREN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14120" y="5562720"/>
            <a:ext cx="4127760" cy="733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MESH CURRENT IS A LOOP CURR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SSOCIATED TO A MESH. I1, I2 ARE ME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11960" y="0"/>
            <a:ext cx="4447800" cy="733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CLAIM: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A CIRCUIT, THE CURRENT THROU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NY COMPONENT CAN BE EXPRESSED IN 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HE LOOP CURREN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0" y="3048120"/>
          <a:ext cx="2378160" cy="17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3048120"/>
                    <a:ext cx="2378160" cy="175572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611600" y="2225520"/>
            <a:ext cx="4448160" cy="733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FACT: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NOT EVERY LOOP CURRENT IS REQUI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 COMPUTE ALL THE CURRENTS THROU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105520" y="3581280"/>
            <a:ext cx="380880" cy="533520"/>
            <a:chOff x="5105520" y="3581280"/>
            <a:chExt cx="380880" cy="533520"/>
          </a:xfrm>
        </p:grpSpPr>
        <p:sp>
          <p:nvSpPr>
            <p:cNvPr id="116" name=""/>
            <p:cNvSpPr/>
            <p:nvPr/>
          </p:nvSpPr>
          <p:spPr>
            <a:xfrm>
              <a:off x="5105520" y="3581280"/>
              <a:ext cx="380880" cy="5335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0" y="288"/>
                  </a:moveTo>
                  <a:lnTo>
                    <a:pt x="0" y="0"/>
                  </a:lnTo>
                  <a:lnTo>
                    <a:pt x="240" y="0"/>
                  </a:lnTo>
                  <a:lnTo>
                    <a:pt x="240" y="336"/>
                  </a:lnTo>
                  <a:lnTo>
                    <a:pt x="48" y="336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5181480" y="3581280"/>
                  <a:ext cx="228600" cy="4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lim>
                          <m:r>
                            <m:t xml:space="preserve">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8" name=""/>
          <p:cNvGrpSpPr/>
          <p:nvPr/>
        </p:nvGrpSpPr>
        <p:grpSpPr>
          <a:xfrm>
            <a:off x="4648320" y="3062160"/>
            <a:ext cx="2368440" cy="1890720"/>
            <a:chOff x="4648320" y="3062160"/>
            <a:chExt cx="2368440" cy="1890720"/>
          </a:xfrm>
        </p:grpSpPr>
        <p:sp>
          <p:nvSpPr>
            <p:cNvPr id="119" name=""/>
            <p:cNvSpPr/>
            <p:nvPr/>
          </p:nvSpPr>
          <p:spPr>
            <a:xfrm>
              <a:off x="4648320" y="3062160"/>
              <a:ext cx="2368440" cy="1495440"/>
            </a:xfrm>
            <a:custGeom>
              <a:avLst/>
              <a:gdLst/>
              <a:ahLst/>
              <a:rect l="l" t="t" r="r" b="b"/>
              <a:pathLst>
                <a:path w="1492" h="942">
                  <a:moveTo>
                    <a:pt x="0" y="942"/>
                  </a:moveTo>
                  <a:cubicBezTo>
                    <a:pt x="0" y="877"/>
                    <a:pt x="0" y="812"/>
                    <a:pt x="0" y="747"/>
                  </a:cubicBezTo>
                  <a:lnTo>
                    <a:pt x="4" y="0"/>
                  </a:lnTo>
                  <a:lnTo>
                    <a:pt x="1492" y="0"/>
                  </a:lnTo>
                  <a:lnTo>
                    <a:pt x="1492" y="912"/>
                  </a:lnTo>
                  <a:lnTo>
                    <a:pt x="196" y="912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6705720" y="4509720"/>
                  <a:ext cx="239760" cy="4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lim>
                          <m:r>
                            <m:t xml:space="preserve">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226280" y="2870280"/>
                <a:ext cx="1765440" cy="22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TWO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OP CURRE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limUpp>
                              <m:e>
                                <m:r>
                                  <m:t xml:space="preserve">I</m:t>
                                </m:r>
                              </m:e>
                              <m:lim>
                                <m:r>
                                  <m:t xml:space="preserve">−</m:t>
                                </m:r>
                              </m:lim>
                            </m:limUpp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limUp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−</m:t>
                            </m:r>
                          </m:lim>
                        </m:limUpp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 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limUpp>
                              <m:e>
                                <m:r>
                                  <m:t xml:space="preserve">I</m:t>
                                </m:r>
                              </m:e>
                              <m:lim>
                                <m:r>
                                  <m:t xml:space="preserve">−</m:t>
                                </m:r>
                              </m:lim>
                            </m:limUpp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 </m:t>
                            </m:r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limUpp>
                              <m:e>
                                <m:r>
                                  <m:t xml:space="preserve">I</m:t>
                                </m:r>
                              </m:e>
                              <m:lim>
                                <m:r>
                                  <m:t xml:space="preserve">−</m:t>
                                </m:r>
                              </m:lim>
                            </m:limUpp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2" name=""/>
          <p:cNvGrpSpPr/>
          <p:nvPr/>
        </p:nvGrpSpPr>
        <p:grpSpPr>
          <a:xfrm>
            <a:off x="4578480" y="762120"/>
            <a:ext cx="4242960" cy="1434960"/>
            <a:chOff x="4578480" y="762120"/>
            <a:chExt cx="4242960" cy="1434960"/>
          </a:xfrm>
        </p:grpSpPr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4578480" y="762120"/>
                  <a:ext cx="1346040" cy="14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EXAMPLES</m:t>
                          </m:r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  <m:r>
                                <m:t xml:space="preserve"> </m:t>
                              </m:r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 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 </m:t>
                              </m:r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24" name=""/>
            <p:cNvSpPr/>
            <p:nvPr/>
          </p:nvSpPr>
          <p:spPr>
            <a:xfrm>
              <a:off x="5973840" y="777960"/>
              <a:ext cx="284760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 DIRECTION OF THE LO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CURRENTS IS SIGNIFIC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686120" y="5273640"/>
            <a:ext cx="4127760" cy="13726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OR EVERY CIRCUIT THERE IS A MINIM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UMBER OF LOOP CURRENTS THAT 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ECESSARY TO COMPUTE EVERY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THE CIRCU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UCH A COLLECTION IS CALLED A MINI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T (OF LOOP CURRENT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364320" y="320760"/>
            <a:ext cx="3487680" cy="1563480"/>
            <a:chOff x="364320" y="320760"/>
            <a:chExt cx="3487680" cy="1563480"/>
          </a:xfrm>
        </p:grpSpPr>
        <p:sp>
          <p:nvSpPr>
            <p:cNvPr id="130" name=""/>
            <p:cNvSpPr/>
            <p:nvPr/>
          </p:nvSpPr>
          <p:spPr>
            <a:xfrm>
              <a:off x="635400" y="320760"/>
              <a:ext cx="3015360" cy="733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FOR A GIVEN CIRCUIT L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B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NUMBER OF 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N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NUMBER OF NO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4320" y="1066680"/>
              <a:ext cx="3487680" cy="52020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 MINIMUM REQUIRED NUMBER OF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LOOP CURRENTS 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1295280" y="1600200"/>
                  <a:ext cx="1435320" cy="28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t xml:space="preserve">B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3" name=""/>
          <p:cNvSpPr/>
          <p:nvPr/>
        </p:nvSpPr>
        <p:spPr>
          <a:xfrm>
            <a:off x="189360" y="2133720"/>
            <a:ext cx="4021200" cy="30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SH CURRENTS ARE ALWAYS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2280" y="2655720"/>
            <a:ext cx="4015080" cy="2424240"/>
            <a:chOff x="152280" y="2655720"/>
            <a:chExt cx="4015080" cy="2424240"/>
          </a:xfrm>
        </p:grpSpPr>
        <p:graphicFrame>
          <p:nvGraphicFramePr>
            <p:cNvPr id="135" name=""/>
            <p:cNvGraphicFramePr/>
            <p:nvPr/>
          </p:nvGraphicFramePr>
          <p:xfrm>
            <a:off x="228600" y="2819520"/>
            <a:ext cx="3938760" cy="2260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2819520"/>
                      <a:ext cx="3938760" cy="226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"/>
            <p:cNvSpPr/>
            <p:nvPr/>
          </p:nvSpPr>
          <p:spPr>
            <a:xfrm>
              <a:off x="152280" y="2655720"/>
              <a:ext cx="14000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AN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76320" y="5159520"/>
            <a:ext cx="4389480" cy="1372680"/>
            <a:chOff x="76320" y="5159520"/>
            <a:chExt cx="4389480" cy="1372680"/>
          </a:xfrm>
        </p:grpSpPr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76320" y="5388120"/>
                  <a:ext cx="161280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7</m:t>
                          </m:r>
                        </m:e>
                        <m:e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</m:e>
                        <m:e>
                          <m:r>
                            <m:t xml:space="preserve">L</m:t>
                          </m:r>
                          <m:r>
                            <m:t xml:space="preserve">=</m:t>
                          </m:r>
                          <m:r>
                            <m:t xml:space="preserve">7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40" name=""/>
            <p:cNvSpPr/>
            <p:nvPr/>
          </p:nvSpPr>
          <p:spPr>
            <a:xfrm>
              <a:off x="1724760" y="5159520"/>
              <a:ext cx="2741040" cy="1372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WO LOOP CURRENTS 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REQUIRE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 CURRENTS SHOWN 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CURRENTS. HENC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Y ARE INDEPENDENT 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FORM A MINIMAL 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719600" y="523800"/>
            <a:ext cx="3164040" cy="722520"/>
            <a:chOff x="4719600" y="523800"/>
            <a:chExt cx="3164040" cy="722520"/>
          </a:xfrm>
        </p:grpSpPr>
        <p:sp>
          <p:nvSpPr>
            <p:cNvPr id="142" name=""/>
            <p:cNvSpPr/>
            <p:nvPr/>
          </p:nvSpPr>
          <p:spPr>
            <a:xfrm>
              <a:off x="4728240" y="523800"/>
              <a:ext cx="18874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 ON LEFT ME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3" name=""/>
            <p:cNvGraphicFramePr/>
            <p:nvPr/>
          </p:nvGraphicFramePr>
          <p:xfrm>
            <a:off x="4719600" y="828720"/>
            <a:ext cx="3164040" cy="41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19600" y="828720"/>
                      <a:ext cx="3164040" cy="4176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45" name=""/>
          <p:cNvGrpSpPr/>
          <p:nvPr/>
        </p:nvGrpSpPr>
        <p:grpSpPr>
          <a:xfrm>
            <a:off x="4719600" y="1371600"/>
            <a:ext cx="3610080" cy="822240"/>
            <a:chOff x="4719600" y="1371600"/>
            <a:chExt cx="3610080" cy="822240"/>
          </a:xfrm>
        </p:grpSpPr>
        <p:sp>
          <p:nvSpPr>
            <p:cNvPr id="146" name=""/>
            <p:cNvSpPr/>
            <p:nvPr/>
          </p:nvSpPr>
          <p:spPr>
            <a:xfrm>
              <a:off x="4728960" y="1371600"/>
              <a:ext cx="19944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 ON RIGHT ME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 rot="10800000">
            <a:off x="4719600" y="1720440"/>
            <a:ext cx="3610080" cy="473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 rot="10800000">
                      <a:off x="4719600" y="1720440"/>
                      <a:ext cx="3610080" cy="4730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49" name=""/>
          <p:cNvGrpSpPr/>
          <p:nvPr/>
        </p:nvGrpSpPr>
        <p:grpSpPr>
          <a:xfrm>
            <a:off x="4719600" y="2320920"/>
            <a:ext cx="4195800" cy="974880"/>
            <a:chOff x="4719600" y="2320920"/>
            <a:chExt cx="4195800" cy="974880"/>
          </a:xfrm>
        </p:grpSpPr>
        <p:sp>
          <p:nvSpPr>
            <p:cNvPr id="150" name=""/>
            <p:cNvSpPr/>
            <p:nvPr/>
          </p:nvSpPr>
          <p:spPr>
            <a:xfrm>
              <a:off x="4727520" y="2320920"/>
              <a:ext cx="178092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USING OHM’S 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1" name=""/>
            <p:cNvGraphicFramePr/>
            <p:nvPr/>
          </p:nvGraphicFramePr>
          <p:xfrm rot="10800000">
            <a:off x="4719600" y="2609280"/>
            <a:ext cx="4195800" cy="339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 rot="10800000">
                      <a:off x="4719600" y="2609280"/>
                      <a:ext cx="4195800" cy="33948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53" name=""/>
            <p:cNvGraphicFramePr/>
            <p:nvPr/>
          </p:nvGraphicFramePr>
          <p:xfrm>
            <a:off x="5405400" y="3002040"/>
            <a:ext cx="2652840" cy="293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05400" y="3002040"/>
                      <a:ext cx="2652840" cy="29376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55" name=""/>
          <p:cNvGrpSpPr/>
          <p:nvPr/>
        </p:nvGrpSpPr>
        <p:grpSpPr>
          <a:xfrm>
            <a:off x="4716360" y="3421080"/>
            <a:ext cx="3900600" cy="1258920"/>
            <a:chOff x="4716360" y="3421080"/>
            <a:chExt cx="3900600" cy="1258920"/>
          </a:xfrm>
        </p:grpSpPr>
        <p:graphicFrame>
          <p:nvGraphicFramePr>
            <p:cNvPr id="156" name=""/>
            <p:cNvGraphicFramePr/>
            <p:nvPr/>
          </p:nvGraphicFramePr>
          <p:xfrm>
            <a:off x="4716360" y="3710160"/>
            <a:ext cx="3900600" cy="969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716360" y="3710160"/>
                      <a:ext cx="3900600" cy="9698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58" name=""/>
            <p:cNvSpPr/>
            <p:nvPr/>
          </p:nvSpPr>
          <p:spPr>
            <a:xfrm>
              <a:off x="4734000" y="3421080"/>
              <a:ext cx="28476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REPLACING AND REARRAN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703760" y="4807080"/>
            <a:ext cx="4419720" cy="1120320"/>
            <a:chOff x="4703760" y="4807080"/>
            <a:chExt cx="4419720" cy="1120320"/>
          </a:xfrm>
        </p:grpSpPr>
        <p:graphicFrame>
          <p:nvGraphicFramePr>
            <p:cNvPr id="160" name=""/>
            <p:cNvGraphicFramePr/>
            <p:nvPr/>
          </p:nvGraphicFramePr>
          <p:xfrm rot="10800000">
            <a:off x="4703760" y="5095440"/>
            <a:ext cx="4419720" cy="831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 rot="10800000">
                      <a:off x="4703760" y="5095440"/>
                      <a:ext cx="4419720" cy="83196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4726800" y="4807080"/>
              <a:ext cx="167436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IN MATRIX FO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159160" y="5934240"/>
            <a:ext cx="3594600" cy="5202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SE ARE LOOP EQUATIONS FOR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38680" y="92160"/>
            <a:ext cx="338112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ETERMINATION OF LOOP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geaux" descr=""/>
          <p:cNvPicPr/>
          <p:nvPr/>
        </p:nvPicPr>
        <p:blipFill>
          <a:blip r:embed="rId1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98520" y="4011480"/>
            <a:ext cx="286308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RITE KVL ON EACH ME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862360" y="611280"/>
          <a:ext cx="3309840" cy="31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2360" y="611280"/>
                    <a:ext cx="330984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720720" y="0"/>
            <a:ext cx="60786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ARNING BY DOING: WRIT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Lucida Console"/>
              </a:rPr>
              <a:t>THE MESH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EQ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6960" y="3630600"/>
            <a:ext cx="335052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DENTIFY ALL VOLTAGE DR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846520" y="380880"/>
            <a:ext cx="3402000" cy="3414600"/>
            <a:chOff x="2846520" y="380880"/>
            <a:chExt cx="3402000" cy="3414600"/>
          </a:xfrm>
        </p:grpSpPr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4599360" y="3504960"/>
                  <a:ext cx="749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  <m:r>
                            <m:t xml:space="preserve">4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75" name=""/>
            <p:cNvGrpSpPr/>
            <p:nvPr/>
          </p:nvGrpSpPr>
          <p:grpSpPr>
            <a:xfrm>
              <a:off x="2846520" y="380880"/>
              <a:ext cx="3402000" cy="2959200"/>
              <a:chOff x="2846520" y="380880"/>
              <a:chExt cx="3402000" cy="2959200"/>
            </a:xfrm>
          </p:grpSpPr>
          <mc:AlternateContent>
            <mc:Choice xmlns:a14="http://schemas.microsoft.com/office/drawing/2010/main" Requires="a14">
              <p:sp>
                <p:nvSpPr>
                  <p:cNvPr id="176" name=""/>
                  <p:cNvSpPr txBox="1"/>
                  <p:nvPr/>
                </p:nvSpPr>
                <p:spPr>
                  <a:xfrm>
                    <a:off x="4065840" y="380880"/>
                    <a:ext cx="7221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7" name=""/>
                  <p:cNvSpPr txBox="1"/>
                  <p:nvPr/>
                </p:nvSpPr>
                <p:spPr>
                  <a:xfrm>
                    <a:off x="4065840" y="2209680"/>
                    <a:ext cx="7491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8" name=""/>
                  <p:cNvSpPr txBox="1"/>
                  <p:nvPr/>
                </p:nvSpPr>
                <p:spPr>
                  <a:xfrm>
                    <a:off x="5894640" y="2286000"/>
                    <a:ext cx="353880" cy="82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+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5</m:t>
                                </m:r>
                              </m:sub>
                            </m:sSub>
                          </m:e>
                          <m:e>
                            <m:r>
                              <m:t xml:space="preserve">−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9" name=""/>
                  <p:cNvSpPr txBox="1"/>
                  <p:nvPr/>
                </p:nvSpPr>
                <p:spPr>
                  <a:xfrm>
                    <a:off x="2846520" y="2514600"/>
                    <a:ext cx="354240" cy="82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+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>
                            <m:r>
                              <m:t xml:space="preserve">−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80" name=""/>
          <p:cNvGrpSpPr/>
          <p:nvPr/>
        </p:nvGrpSpPr>
        <p:grpSpPr>
          <a:xfrm>
            <a:off x="277200" y="828720"/>
            <a:ext cx="2741040" cy="1053360"/>
            <a:chOff x="277200" y="828720"/>
            <a:chExt cx="2741040" cy="1053360"/>
          </a:xfrm>
        </p:grpSpPr>
        <p:sp>
          <p:nvSpPr>
            <p:cNvPr id="181" name=""/>
            <p:cNvSpPr/>
            <p:nvPr/>
          </p:nvSpPr>
          <p:spPr>
            <a:xfrm>
              <a:off x="285480" y="828720"/>
              <a:ext cx="1460880" cy="7333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Console"/>
                </a:rPr>
                <a:t>BOOKKEEP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BRANCHES = 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NODES    = 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7200" y="1575000"/>
              <a:ext cx="274104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LOOP CURRENTS NEEDED =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209680" y="4419720"/>
                <a:ext cx="3594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OP MESH: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209680" y="4800600"/>
                <a:ext cx="4051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OTTOM: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5" name=""/>
          <p:cNvGraphicFramePr/>
          <p:nvPr/>
        </p:nvGraphicFramePr>
        <p:xfrm>
          <a:off x="2244600" y="5580000"/>
          <a:ext cx="4294440" cy="6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44600" y="5580000"/>
                    <a:ext cx="4294440" cy="6541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2267280" y="5257800"/>
            <a:ext cx="156744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SE OHM’S LA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206880" y="380880"/>
            <a:ext cx="3651120" cy="3414960"/>
            <a:chOff x="3206880" y="380880"/>
            <a:chExt cx="3651120" cy="3414960"/>
          </a:xfrm>
        </p:grpSpPr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4807080" y="380880"/>
                  <a:ext cx="5443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6261120" y="2590920"/>
                  <a:ext cx="596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5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5416560" y="3505320"/>
                  <a:ext cx="736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4819680" y="2209680"/>
                  <a:ext cx="1117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3206880" y="2743200"/>
                  <a:ext cx="722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94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0000" y="2073240"/>
            <a:ext cx="2421000" cy="9464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ND WE ARE TOLD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SE MESH CURRENT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IS DEFINES THE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URRENTS TO BE U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2666880" y="442800"/>
          <a:ext cx="3853080" cy="25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442800"/>
                    <a:ext cx="3853080" cy="2530440"/>
                  </a:xfrm>
                  <a:prstGeom prst="rect">
                    <a:avLst/>
                  </a:prstGeom>
                  <a:ln w="3492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3505320" y="1523880"/>
            <a:ext cx="609480" cy="685800"/>
            <a:chOff x="3505320" y="1523880"/>
            <a:chExt cx="609480" cy="685800"/>
          </a:xfrm>
        </p:grpSpPr>
        <p:sp>
          <p:nvSpPr>
            <p:cNvPr id="201" name=""/>
            <p:cNvSpPr/>
            <p:nvPr/>
          </p:nvSpPr>
          <p:spPr>
            <a:xfrm>
              <a:off x="3505320" y="1523880"/>
              <a:ext cx="609480" cy="685800"/>
            </a:xfrm>
            <a:custGeom>
              <a:avLst/>
              <a:gdLst/>
              <a:ahLst/>
              <a:rect l="l" t="t" r="r" b="b"/>
              <a:pathLst>
                <a:path w="384" h="432">
                  <a:moveTo>
                    <a:pt x="0" y="432"/>
                  </a:moveTo>
                  <a:lnTo>
                    <a:pt x="0" y="0"/>
                  </a:lnTo>
                  <a:lnTo>
                    <a:pt x="384" y="0"/>
                  </a:lnTo>
                  <a:lnTo>
                    <a:pt x="384" y="432"/>
                  </a:lnTo>
                  <a:lnTo>
                    <a:pt x="144" y="432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3581640" y="16002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3" name=""/>
          <p:cNvGrpSpPr/>
          <p:nvPr/>
        </p:nvGrpSpPr>
        <p:grpSpPr>
          <a:xfrm>
            <a:off x="4572000" y="1600200"/>
            <a:ext cx="761760" cy="685800"/>
            <a:chOff x="4572000" y="1600200"/>
            <a:chExt cx="761760" cy="685800"/>
          </a:xfrm>
        </p:grpSpPr>
        <p:sp>
          <p:nvSpPr>
            <p:cNvPr id="204" name=""/>
            <p:cNvSpPr/>
            <p:nvPr/>
          </p:nvSpPr>
          <p:spPr>
            <a:xfrm>
              <a:off x="4572000" y="1600200"/>
              <a:ext cx="761760" cy="685800"/>
            </a:xfrm>
            <a:custGeom>
              <a:avLst/>
              <a:gdLst/>
              <a:ahLst/>
              <a:rect l="l" t="t" r="r" b="b"/>
              <a:pathLst>
                <a:path w="480" h="432">
                  <a:moveTo>
                    <a:pt x="96" y="0"/>
                  </a:moveTo>
                  <a:lnTo>
                    <a:pt x="480" y="0"/>
                  </a:lnTo>
                  <a:lnTo>
                    <a:pt x="480" y="432"/>
                  </a:lnTo>
                  <a:lnTo>
                    <a:pt x="0" y="432"/>
                  </a:lnTo>
                  <a:lnTo>
                    <a:pt x="0" y="336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5029200" y="190512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6" name=""/>
          <p:cNvSpPr/>
          <p:nvPr/>
        </p:nvSpPr>
        <p:spPr>
          <a:xfrm>
            <a:off x="2779560" y="3139920"/>
            <a:ext cx="3914640" cy="733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RAW THE MESH CURRENTS.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AN BE ARBITRARY. BUT BY CONVEN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Y ARE DEFINED CLOCKW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65160" y="4054320"/>
            <a:ext cx="4127760" cy="5202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W WRITE KVL FOR EACH MESH AND AP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HM’S LAW TO EVERY RESIST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743200" y="5638680"/>
                <a:ext cx="3187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2446200" y="4648320"/>
            <a:ext cx="4448160" cy="733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T EACH LOOP FOLLOW THE PASSIVE SIG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NVENTION USING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LOOP CURRENT REFERE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743200" y="6019920"/>
                <a:ext cx="3137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30960" y="0"/>
            <a:ext cx="33811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DEVELOPING A SHORTC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97360" y="685800"/>
            <a:ext cx="5185800" cy="5883120"/>
            <a:chOff x="3897360" y="685800"/>
            <a:chExt cx="5185800" cy="5883120"/>
          </a:xfrm>
        </p:grpSpPr>
        <p:sp>
          <p:nvSpPr>
            <p:cNvPr id="216" name=""/>
            <p:cNvSpPr/>
            <p:nvPr/>
          </p:nvSpPr>
          <p:spPr>
            <a:xfrm>
              <a:off x="6342120" y="685800"/>
              <a:ext cx="2741040" cy="17974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WHENEVER AN EL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HAS MORE THAN 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LOOP CURRENT FLOW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ROUGH IT WE COMPU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NET CURRENT IN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DIRECTION OF TRAV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897360" y="2276640"/>
              <a:ext cx="3760920" cy="4292280"/>
            </a:xfrm>
            <a:custGeom>
              <a:avLst/>
              <a:gdLst/>
              <a:ahLst/>
              <a:rect l="l" t="t" r="r" b="b"/>
              <a:pathLst>
                <a:path w="2369" h="2704">
                  <a:moveTo>
                    <a:pt x="662" y="2089"/>
                  </a:moveTo>
                  <a:cubicBezTo>
                    <a:pt x="417" y="2026"/>
                    <a:pt x="566" y="2065"/>
                    <a:pt x="46" y="2073"/>
                  </a:cubicBezTo>
                  <a:cubicBezTo>
                    <a:pt x="6" y="2087"/>
                    <a:pt x="10" y="2116"/>
                    <a:pt x="0" y="2151"/>
                  </a:cubicBezTo>
                  <a:cubicBezTo>
                    <a:pt x="2" y="2198"/>
                    <a:pt x="1" y="2245"/>
                    <a:pt x="7" y="2291"/>
                  </a:cubicBezTo>
                  <a:cubicBezTo>
                    <a:pt x="10" y="2316"/>
                    <a:pt x="28" y="2317"/>
                    <a:pt x="46" y="2322"/>
                  </a:cubicBezTo>
                  <a:cubicBezTo>
                    <a:pt x="103" y="2338"/>
                    <a:pt x="149" y="2348"/>
                    <a:pt x="210" y="2353"/>
                  </a:cubicBezTo>
                  <a:cubicBezTo>
                    <a:pt x="246" y="2351"/>
                    <a:pt x="283" y="2349"/>
                    <a:pt x="319" y="2346"/>
                  </a:cubicBezTo>
                  <a:cubicBezTo>
                    <a:pt x="340" y="2344"/>
                    <a:pt x="361" y="2331"/>
                    <a:pt x="381" y="2338"/>
                  </a:cubicBezTo>
                  <a:cubicBezTo>
                    <a:pt x="391" y="2341"/>
                    <a:pt x="386" y="2359"/>
                    <a:pt x="389" y="2369"/>
                  </a:cubicBezTo>
                  <a:cubicBezTo>
                    <a:pt x="392" y="2413"/>
                    <a:pt x="391" y="2458"/>
                    <a:pt x="397" y="2502"/>
                  </a:cubicBezTo>
                  <a:cubicBezTo>
                    <a:pt x="408" y="2574"/>
                    <a:pt x="459" y="2597"/>
                    <a:pt x="514" y="2634"/>
                  </a:cubicBezTo>
                  <a:cubicBezTo>
                    <a:pt x="536" y="2648"/>
                    <a:pt x="553" y="2669"/>
                    <a:pt x="576" y="2681"/>
                  </a:cubicBezTo>
                  <a:cubicBezTo>
                    <a:pt x="603" y="2694"/>
                    <a:pt x="634" y="2694"/>
                    <a:pt x="662" y="2704"/>
                  </a:cubicBezTo>
                  <a:cubicBezTo>
                    <a:pt x="722" y="2701"/>
                    <a:pt x="782" y="2702"/>
                    <a:pt x="841" y="2696"/>
                  </a:cubicBezTo>
                  <a:cubicBezTo>
                    <a:pt x="886" y="2692"/>
                    <a:pt x="974" y="2673"/>
                    <a:pt x="974" y="2673"/>
                  </a:cubicBezTo>
                  <a:cubicBezTo>
                    <a:pt x="982" y="2650"/>
                    <a:pt x="989" y="2626"/>
                    <a:pt x="997" y="2603"/>
                  </a:cubicBezTo>
                  <a:cubicBezTo>
                    <a:pt x="1000" y="2595"/>
                    <a:pt x="1005" y="2579"/>
                    <a:pt x="1005" y="2579"/>
                  </a:cubicBezTo>
                  <a:cubicBezTo>
                    <a:pt x="1008" y="2517"/>
                    <a:pt x="980" y="2445"/>
                    <a:pt x="1013" y="2392"/>
                  </a:cubicBezTo>
                  <a:cubicBezTo>
                    <a:pt x="1039" y="2351"/>
                    <a:pt x="1104" y="2351"/>
                    <a:pt x="1153" y="2346"/>
                  </a:cubicBezTo>
                  <a:cubicBezTo>
                    <a:pt x="1300" y="2332"/>
                    <a:pt x="1449" y="2341"/>
                    <a:pt x="1597" y="2338"/>
                  </a:cubicBezTo>
                  <a:cubicBezTo>
                    <a:pt x="1759" y="2317"/>
                    <a:pt x="1902" y="2319"/>
                    <a:pt x="2072" y="2315"/>
                  </a:cubicBezTo>
                  <a:cubicBezTo>
                    <a:pt x="2124" y="2312"/>
                    <a:pt x="2176" y="2310"/>
                    <a:pt x="2228" y="2307"/>
                  </a:cubicBezTo>
                  <a:cubicBezTo>
                    <a:pt x="2259" y="2305"/>
                    <a:pt x="2298" y="2319"/>
                    <a:pt x="2322" y="2299"/>
                  </a:cubicBezTo>
                  <a:cubicBezTo>
                    <a:pt x="2342" y="2282"/>
                    <a:pt x="2328" y="2247"/>
                    <a:pt x="2330" y="2221"/>
                  </a:cubicBezTo>
                  <a:cubicBezTo>
                    <a:pt x="2365" y="1841"/>
                    <a:pt x="2356" y="1983"/>
                    <a:pt x="2369" y="1707"/>
                  </a:cubicBezTo>
                  <a:cubicBezTo>
                    <a:pt x="2361" y="109"/>
                    <a:pt x="2361" y="678"/>
                    <a:pt x="2361" y="0"/>
                  </a:cubicBezTo>
                </a:path>
              </a:pathLst>
            </a:custGeom>
            <a:noFill/>
            <a:ln w="25560">
              <a:solidFill>
                <a:srgbClr val="00cc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76320" y="304920"/>
          <a:ext cx="4605120" cy="24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04920"/>
                    <a:ext cx="4605120" cy="24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101880" y="2597040"/>
            <a:ext cx="4234680" cy="733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SHORTCUT: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OLARITIES ARE NOT NEED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PPLY OHM’S LAW TO EACH ELEMENT AS KV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S BEING WRIT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6320" y="3417840"/>
            <a:ext cx="3938400" cy="541440"/>
            <a:chOff x="76320" y="3417840"/>
            <a:chExt cx="3938400" cy="541440"/>
          </a:xfrm>
        </p:grpSpPr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76320" y="3417840"/>
                  <a:ext cx="876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VL @ 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23" name=""/>
            <p:cNvGraphicFramePr/>
            <p:nvPr/>
          </p:nvGraphicFramePr>
          <p:xfrm>
            <a:off x="990720" y="3417840"/>
            <a:ext cx="3024000" cy="541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90720" y="3417840"/>
                      <a:ext cx="3024000" cy="5414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225" name=""/>
          <p:cNvGrpSpPr/>
          <p:nvPr/>
        </p:nvGrpSpPr>
        <p:grpSpPr>
          <a:xfrm>
            <a:off x="76320" y="3951360"/>
            <a:ext cx="4071960" cy="536400"/>
            <a:chOff x="76320" y="3951360"/>
            <a:chExt cx="4071960" cy="536400"/>
          </a:xfrm>
        </p:grpSpPr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76320" y="3951360"/>
                  <a:ext cx="901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VL @ 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27" name=""/>
            <p:cNvGraphicFramePr/>
            <p:nvPr/>
          </p:nvGraphicFramePr>
          <p:xfrm>
            <a:off x="990720" y="3951360"/>
            <a:ext cx="3157560" cy="536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90720" y="3951360"/>
                      <a:ext cx="3157560" cy="5364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229" name=""/>
          <p:cNvGrpSpPr/>
          <p:nvPr/>
        </p:nvGrpSpPr>
        <p:grpSpPr>
          <a:xfrm>
            <a:off x="80640" y="4484520"/>
            <a:ext cx="2891160" cy="647640"/>
            <a:chOff x="80640" y="4484520"/>
            <a:chExt cx="2891160" cy="647640"/>
          </a:xfrm>
        </p:grpSpPr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1270080" y="4484520"/>
                  <a:ext cx="17017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9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31" name=""/>
            <p:cNvSpPr/>
            <p:nvPr/>
          </p:nvSpPr>
          <p:spPr>
            <a:xfrm>
              <a:off x="80640" y="4500360"/>
              <a:ext cx="114084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REARR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2971800" y="4842000"/>
                <a:ext cx="1308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*/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and </m:t>
                    </m:r>
                    <m:r>
                      <m:rPr>
                        <m:lit/>
                        <m:nor/>
                      </m:rPr>
                      <m:t xml:space="preserve">ad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231920" y="5170320"/>
                <a:ext cx="227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219320" y="5475240"/>
                <a:ext cx="2832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5" name=""/>
          <p:cNvGrpSpPr/>
          <p:nvPr/>
        </p:nvGrpSpPr>
        <p:grpSpPr>
          <a:xfrm>
            <a:off x="39600" y="6019920"/>
            <a:ext cx="4447800" cy="609480"/>
            <a:chOff x="39600" y="6019920"/>
            <a:chExt cx="4447800" cy="609480"/>
          </a:xfrm>
        </p:grpSpPr>
        <p:sp>
          <p:nvSpPr>
            <p:cNvPr id="236" name=""/>
            <p:cNvSpPr/>
            <p:nvPr/>
          </p:nvSpPr>
          <p:spPr>
            <a:xfrm>
              <a:off x="39600" y="6019920"/>
              <a:ext cx="444780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EXPRESS VARIABLE OF INTEREST AS 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OF LOOP CURR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2108160" y="6338880"/>
                  <a:ext cx="1092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8" name=""/>
          <p:cNvGrpSpPr/>
          <p:nvPr/>
        </p:nvGrpSpPr>
        <p:grpSpPr>
          <a:xfrm>
            <a:off x="4451400" y="3170160"/>
            <a:ext cx="4400640" cy="563760"/>
            <a:chOff x="4451400" y="3170160"/>
            <a:chExt cx="4400640" cy="563760"/>
          </a:xfrm>
        </p:grpSpPr>
        <p:graphicFrame>
          <p:nvGraphicFramePr>
            <p:cNvPr id="239" name=""/>
            <p:cNvGraphicFramePr/>
            <p:nvPr/>
          </p:nvGraphicFramePr>
          <p:xfrm>
            <a:off x="5346720" y="3170160"/>
            <a:ext cx="3505320" cy="563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46720" y="3170160"/>
                      <a:ext cx="3505320" cy="56376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4451400" y="3282840"/>
                  <a:ext cx="876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VL @ 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2" name=""/>
          <p:cNvGrpSpPr/>
          <p:nvPr/>
        </p:nvGrpSpPr>
        <p:grpSpPr>
          <a:xfrm>
            <a:off x="4444920" y="3733920"/>
            <a:ext cx="4648320" cy="506160"/>
            <a:chOff x="4444920" y="3733920"/>
            <a:chExt cx="4648320" cy="506160"/>
          </a:xfrm>
        </p:grpSpPr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4444920" y="3809880"/>
                  <a:ext cx="901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VL @ 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44" name=""/>
            <p:cNvGraphicFramePr/>
            <p:nvPr/>
          </p:nvGraphicFramePr>
          <p:xfrm rot="10800000">
            <a:off x="5346720" y="3733920"/>
            <a:ext cx="3746520" cy="506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 rot="10800000">
                      <a:off x="5346720" y="3733920"/>
                      <a:ext cx="3746520" cy="50616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246" name=""/>
          <p:cNvGrpSpPr/>
          <p:nvPr/>
        </p:nvGrpSpPr>
        <p:grpSpPr>
          <a:xfrm>
            <a:off x="4660920" y="4419720"/>
            <a:ext cx="4308480" cy="611640"/>
            <a:chOff x="4660920" y="4419720"/>
            <a:chExt cx="4308480" cy="611640"/>
          </a:xfrm>
        </p:grpSpPr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4660920" y="4419720"/>
                  <a:ext cx="1320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OW 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48" name=""/>
            <p:cNvSpPr/>
            <p:nvPr/>
          </p:nvSpPr>
          <p:spPr>
            <a:xfrm>
              <a:off x="5374800" y="4724280"/>
              <a:ext cx="3594600" cy="3070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IS SELECTION IS MORE EFFIC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452480" y="5105520"/>
            <a:ext cx="2799360" cy="647640"/>
            <a:chOff x="4452480" y="5105520"/>
            <a:chExt cx="2799360" cy="647640"/>
          </a:xfrm>
        </p:grpSpPr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5651640" y="5105520"/>
                  <a:ext cx="16002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  <m:e>
                          <m:r>
                            <m:t xml:space="preserve">6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9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9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51" name=""/>
            <p:cNvSpPr/>
            <p:nvPr/>
          </p:nvSpPr>
          <p:spPr>
            <a:xfrm>
              <a:off x="4452480" y="5105520"/>
              <a:ext cx="114084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REARR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7251840" y="5105520"/>
                <a:ext cx="18666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*/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*/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and substrac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651640" y="5791320"/>
                <a:ext cx="22096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4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2080" y="41400"/>
            <a:ext cx="63529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ARNING EXAMPLE: FIND Io USING LOOP ANALYS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536000" y="457200"/>
            <a:ext cx="4554720" cy="2614680"/>
            <a:chOff x="4536000" y="457200"/>
            <a:chExt cx="4554720" cy="2614680"/>
          </a:xfrm>
        </p:grpSpPr>
        <p:sp>
          <p:nvSpPr>
            <p:cNvPr id="259" name=""/>
            <p:cNvSpPr/>
            <p:nvPr/>
          </p:nvSpPr>
          <p:spPr>
            <a:xfrm>
              <a:off x="4536000" y="457200"/>
              <a:ext cx="4554720" cy="3070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AN ALTERNATIVE SELECTION OF LOOP CURR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60" name=""/>
            <p:cNvGraphicFramePr/>
            <p:nvPr/>
          </p:nvGraphicFramePr>
          <p:xfrm>
            <a:off x="4648320" y="838080"/>
            <a:ext cx="4422600" cy="22338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648320" y="838080"/>
                      <a:ext cx="4422600" cy="223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0" y="1219320"/>
          <a:ext cx="4605480" cy="24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4605480" cy="24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84240" y="76320"/>
            <a:ext cx="4447800" cy="733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THE CIRCUIT CONTAINS ONLY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OURCE THE MESH EQUATIONS CAN BE WRIT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Y INSPECTIO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5920" y="4216320"/>
            <a:ext cx="4447800" cy="733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RIGHT HAND SIDE IS THE ALGEBRAIC S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 VOLTAGE SOURCES AROUND THE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(VOLTAGE RISES - VOLTAGE DROP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6160" y="777960"/>
            <a:ext cx="4021200" cy="520200"/>
          </a:xfrm>
          <a:prstGeom prst="rect">
            <a:avLst/>
          </a:prstGeom>
          <a:solidFill>
            <a:srgbClr val="ffcc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MUST HAVE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ALL MESH CURRENTS WITH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AME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96840" y="3311640"/>
            <a:ext cx="3930480" cy="866160"/>
            <a:chOff x="96840" y="3311640"/>
            <a:chExt cx="3930480" cy="866160"/>
          </a:xfrm>
        </p:grpSpPr>
        <p:sp>
          <p:nvSpPr>
            <p:cNvPr id="268" name=""/>
            <p:cNvSpPr/>
            <p:nvPr/>
          </p:nvSpPr>
          <p:spPr>
            <a:xfrm>
              <a:off x="96840" y="3311640"/>
              <a:ext cx="12474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Console"/>
                </a:rPr>
                <a:t>IN LOOP K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12680" y="3657600"/>
              <a:ext cx="391464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 COEFFICENT OF Ik IS THE SUM OF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RESISTANCES AROUND THE LOOP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114480" y="4987800"/>
            <a:ext cx="4234680" cy="733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COEFFICIENT OF Ij IS THE SUM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SISTANCES COMMON TO BOTH k AND j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ITH A NEGATIVE SIG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4440" y="5765760"/>
            <a:ext cx="8208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OO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990720" y="580536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170640" y="6172200"/>
            <a:ext cx="8208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OO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990720" y="6186600"/>
                <a:ext cx="170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9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5" name=""/>
          <p:cNvGrpSpPr/>
          <p:nvPr/>
        </p:nvGrpSpPr>
        <p:grpSpPr>
          <a:xfrm>
            <a:off x="4648320" y="0"/>
            <a:ext cx="4460760" cy="2846520"/>
            <a:chOff x="4648320" y="0"/>
            <a:chExt cx="4460760" cy="2846520"/>
          </a:xfrm>
        </p:grpSpPr>
        <p:graphicFrame>
          <p:nvGraphicFramePr>
            <p:cNvPr id="276" name=""/>
            <p:cNvGraphicFramePr/>
            <p:nvPr/>
          </p:nvGraphicFramePr>
          <p:xfrm>
            <a:off x="4648320" y="154080"/>
            <a:ext cx="4460760" cy="2692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48320" y="154080"/>
                      <a:ext cx="4460760" cy="269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8" name=""/>
            <p:cNvSpPr/>
            <p:nvPr/>
          </p:nvSpPr>
          <p:spPr>
            <a:xfrm>
              <a:off x="6959880" y="0"/>
              <a:ext cx="210096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A PRACTICE EXAMP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4666320" y="2895480"/>
            <a:ext cx="8208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OO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486400" y="2895480"/>
                <a:ext cx="2527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efficient of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486400" y="320040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efficient of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5486400" y="3505320"/>
                <a:ext cx="220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efficient of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83" name=""/>
          <p:cNvGraphicFramePr/>
          <p:nvPr/>
        </p:nvGraphicFramePr>
        <p:xfrm>
          <a:off x="4800600" y="3959280"/>
          <a:ext cx="3936960" cy="46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959280"/>
                    <a:ext cx="3936960" cy="4604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4666320" y="4572000"/>
            <a:ext cx="8208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OO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5486400" y="4572000"/>
                <a:ext cx="1930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efficient of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486400" y="4876920"/>
                <a:ext cx="2540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efficient of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486400" y="5181480"/>
                <a:ext cx="220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efficient of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89" name=""/>
          <p:cNvGraphicFramePr/>
          <p:nvPr/>
        </p:nvGraphicFramePr>
        <p:xfrm>
          <a:off x="4800600" y="5562720"/>
          <a:ext cx="4203720" cy="417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5562720"/>
                    <a:ext cx="4203720" cy="4172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7835760" y="3505320"/>
                <a:ext cx="1231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HS 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8001000" y="5181480"/>
                <a:ext cx="10922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HS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3" name=""/>
          <p:cNvGrpSpPr/>
          <p:nvPr/>
        </p:nvGrpSpPr>
        <p:grpSpPr>
          <a:xfrm>
            <a:off x="3656520" y="6019560"/>
            <a:ext cx="5444640" cy="423720"/>
            <a:chOff x="3656520" y="6019560"/>
            <a:chExt cx="5444640" cy="423720"/>
          </a:xfrm>
        </p:grpSpPr>
        <p:sp>
          <p:nvSpPr>
            <p:cNvPr id="294" name=""/>
            <p:cNvSpPr/>
            <p:nvPr/>
          </p:nvSpPr>
          <p:spPr>
            <a:xfrm>
              <a:off x="3656520" y="6095880"/>
              <a:ext cx="8208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Loop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5" name=""/>
            <p:cNvGraphicFramePr/>
            <p:nvPr/>
          </p:nvGraphicFramePr>
          <p:xfrm rot="10800000">
            <a:off x="4495680" y="6019560"/>
            <a:ext cx="4605480" cy="423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9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 rot="10800000">
                      <a:off x="4495680" y="6019560"/>
                      <a:ext cx="4605480" cy="42372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pic>
        <p:nvPicPr>
          <p:cNvPr id="297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2362320" y="457200"/>
          <a:ext cx="4572000" cy="32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57200"/>
                    <a:ext cx="4572000" cy="32385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2370240" y="-11160"/>
          <a:ext cx="4564080" cy="4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70240" y="-11160"/>
                    <a:ext cx="4564080" cy="4381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30240" y="1219320"/>
            <a:ext cx="28476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1. DRAW THE MESH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3200400" y="1447920"/>
            <a:ext cx="685800" cy="1752480"/>
            <a:chOff x="3200400" y="1447920"/>
            <a:chExt cx="685800" cy="1752480"/>
          </a:xfrm>
        </p:grpSpPr>
        <p:sp>
          <p:nvSpPr>
            <p:cNvPr id="306" name=""/>
            <p:cNvSpPr/>
            <p:nvPr/>
          </p:nvSpPr>
          <p:spPr>
            <a:xfrm>
              <a:off x="3200400" y="1447920"/>
              <a:ext cx="685800" cy="1752480"/>
            </a:xfrm>
            <a:custGeom>
              <a:avLst/>
              <a:gdLst/>
              <a:ahLst/>
              <a:rect l="l" t="t" r="r" b="b"/>
              <a:pathLst>
                <a:path w="432" h="1104">
                  <a:moveTo>
                    <a:pt x="0" y="1056"/>
                  </a:moveTo>
                  <a:lnTo>
                    <a:pt x="0" y="0"/>
                  </a:lnTo>
                  <a:lnTo>
                    <a:pt x="432" y="0"/>
                  </a:lnTo>
                  <a:lnTo>
                    <a:pt x="432" y="1104"/>
                  </a:lnTo>
                  <a:lnTo>
                    <a:pt x="96" y="1104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3276720" y="152388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8" name=""/>
          <p:cNvGrpSpPr/>
          <p:nvPr/>
        </p:nvGrpSpPr>
        <p:grpSpPr>
          <a:xfrm>
            <a:off x="4419720" y="1219320"/>
            <a:ext cx="914400" cy="2057400"/>
            <a:chOff x="4419720" y="1219320"/>
            <a:chExt cx="914400" cy="2057400"/>
          </a:xfrm>
        </p:grpSpPr>
        <p:sp>
          <p:nvSpPr>
            <p:cNvPr id="309" name=""/>
            <p:cNvSpPr/>
            <p:nvPr/>
          </p:nvSpPr>
          <p:spPr>
            <a:xfrm>
              <a:off x="4419720" y="1219320"/>
              <a:ext cx="914400" cy="2057400"/>
            </a:xfrm>
            <a:custGeom>
              <a:avLst/>
              <a:gdLst/>
              <a:ahLst/>
              <a:rect l="l" t="t" r="r" b="b"/>
              <a:pathLst>
                <a:path w="576" h="1296">
                  <a:moveTo>
                    <a:pt x="0" y="1200"/>
                  </a:moveTo>
                  <a:lnTo>
                    <a:pt x="0" y="0"/>
                  </a:lnTo>
                  <a:lnTo>
                    <a:pt x="576" y="96"/>
                  </a:lnTo>
                  <a:lnTo>
                    <a:pt x="576" y="1200"/>
                  </a:lnTo>
                  <a:lnTo>
                    <a:pt x="96" y="1296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0" name=""/>
                <p:cNvSpPr txBox="1"/>
                <p:nvPr/>
              </p:nvSpPr>
              <p:spPr>
                <a:xfrm>
                  <a:off x="5029200" y="144792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1" name=""/>
          <p:cNvSpPr/>
          <p:nvPr/>
        </p:nvSpPr>
        <p:spPr>
          <a:xfrm>
            <a:off x="94320" y="3402000"/>
            <a:ext cx="2984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2. WRITE MESH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07080" y="3773520"/>
            <a:ext cx="3776040" cy="307080"/>
            <a:chOff x="307080" y="3773520"/>
            <a:chExt cx="3776040" cy="307080"/>
          </a:xfrm>
        </p:grpSpPr>
        <p:sp>
          <p:nvSpPr>
            <p:cNvPr id="313" name=""/>
            <p:cNvSpPr/>
            <p:nvPr/>
          </p:nvSpPr>
          <p:spPr>
            <a:xfrm>
              <a:off x="307080" y="3773520"/>
              <a:ext cx="8208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1136520" y="3773520"/>
                  <a:ext cx="294660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k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5" name=""/>
          <p:cNvGrpSpPr/>
          <p:nvPr/>
        </p:nvGrpSpPr>
        <p:grpSpPr>
          <a:xfrm>
            <a:off x="307080" y="4140360"/>
            <a:ext cx="3870720" cy="307080"/>
            <a:chOff x="307080" y="4140360"/>
            <a:chExt cx="3870720" cy="307080"/>
          </a:xfrm>
        </p:grpSpPr>
        <p:sp>
          <p:nvSpPr>
            <p:cNvPr id="316" name=""/>
            <p:cNvSpPr/>
            <p:nvPr/>
          </p:nvSpPr>
          <p:spPr>
            <a:xfrm>
              <a:off x="307080" y="4140360"/>
              <a:ext cx="8208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7" name=""/>
                <p:cNvSpPr txBox="1"/>
                <p:nvPr/>
              </p:nvSpPr>
              <p:spPr>
                <a:xfrm>
                  <a:off x="1143000" y="4140360"/>
                  <a:ext cx="3034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6</m:t>
                      </m:r>
                      <m:r>
                        <m:t xml:space="preserve">V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8" name=""/>
          <p:cNvSpPr/>
          <p:nvPr/>
        </p:nvSpPr>
        <p:spPr>
          <a:xfrm>
            <a:off x="4308120" y="3886200"/>
            <a:ext cx="466128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IVIDE BY 1k. GET NUMBERS FOR COEFFIC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N THE LEFT AND mA ON THE R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1581120" y="4952880"/>
                <a:ext cx="18414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429000" y="5334120"/>
                <a:ext cx="13082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*/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 and ad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1752480" y="5638680"/>
                <a:ext cx="1397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594240" y="5613480"/>
                <a:ext cx="1739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23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5160" y="117360"/>
            <a:ext cx="1415160" cy="6426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800" y="4560840"/>
            <a:ext cx="237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3. SOLVE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0T16:38:24Z</dcterms:created>
  <dc:creator>Jorge Aravena</dc:creator>
  <dc:description/>
  <dc:language>en-US</dc:language>
  <cp:lastModifiedBy>Jorge Aravena</cp:lastModifiedBy>
  <dcterms:modified xsi:type="dcterms:W3CDTF">2001-03-26T02:00:33Z</dcterms:modified>
  <cp:revision>20</cp:revision>
  <dc:subject/>
  <dc:title>No Slide Title</dc:title>
</cp:coreProperties>
</file>