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3.wmf" ContentType="image/x-wmf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F681-7301-45D8-9CD5-1B06323E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6B0C-6059-4802-95A0-A50C2634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A553-CEAC-401D-9E12-C537661CC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C3FF-FEFD-4B61-980C-982403BA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01E-0F99-47BC-BF3B-E8BA2AF2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819E-2684-4808-BA91-E247F7B3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26F-4544-4B95-86BC-7D3307C9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CBC-C937-4AE8-8FF9-002DB65B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0A4C-0F35-48D3-B0FE-7CFF0B2E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DC10-582D-4353-9796-DD1BBA65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D220-40FA-4859-8789-9E141BFE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1CA1-C077-42AB-8983-9E62B89E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9472-6B9E-467C-B3A6-E5F57E749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720" y="95400"/>
            <a:ext cx="58194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ERIES PARALLEL RESISTOR COMBIN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70280" y="685800"/>
            <a:ext cx="51793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P TO NOW WE HAVE STUDIED CIRCUITS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N BE ANALYZED WITH ONE APPLIC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VL(SINGLE LOOP) OR KCL(SINGLE NODE-PAI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0280" y="1600200"/>
            <a:ext cx="5179320" cy="8240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E HAVE ALSO SEEN THAT IN SOME SITU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T IS ADVANTAGEOUS TO COMBINE RESIS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SIMPLIFY THE ANALYSIS OF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70280" y="2563920"/>
            <a:ext cx="5179320" cy="131076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W WE EXAMINE SOME MORE COMPLEX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HERE WE CAN SIMPLIFY THE ANALYSIS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ECHNIQUE OF COMBINING RESISTORS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…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LUS THE USE OF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57240" y="3886200"/>
            <a:ext cx="3614760" cy="2239920"/>
            <a:chOff x="957240" y="3886200"/>
            <a:chExt cx="3614760" cy="2239920"/>
          </a:xfrm>
        </p:grpSpPr>
        <p:graphicFrame>
          <p:nvGraphicFramePr>
            <p:cNvPr id="46" name=""/>
            <p:cNvGraphicFramePr/>
            <p:nvPr/>
          </p:nvGraphicFramePr>
          <p:xfrm>
            <a:off x="1033560" y="4120920"/>
            <a:ext cx="3252600" cy="700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33560" y="4120920"/>
                      <a:ext cx="3252600" cy="700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48" name=""/>
            <p:cNvSpPr/>
            <p:nvPr/>
          </p:nvSpPr>
          <p:spPr>
            <a:xfrm>
              <a:off x="1356840" y="3886200"/>
              <a:ext cx="220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ERIES COMBIN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" name=""/>
            <p:cNvGraphicFramePr/>
            <p:nvPr/>
          </p:nvGraphicFramePr>
          <p:xfrm>
            <a:off x="957240" y="5105160"/>
            <a:ext cx="3614760" cy="1020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7240" y="5105160"/>
                      <a:ext cx="3614760" cy="1020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1" name=""/>
            <p:cNvSpPr/>
            <p:nvPr/>
          </p:nvSpPr>
          <p:spPr>
            <a:xfrm>
              <a:off x="1189080" y="4892400"/>
              <a:ext cx="2314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PARALLEL COMB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724280" y="5410080"/>
                <a:ext cx="3432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68120" y="228600"/>
            <a:ext cx="4023000" cy="1820880"/>
            <a:chOff x="168120" y="228600"/>
            <a:chExt cx="4023000" cy="1820880"/>
          </a:xfrm>
        </p:grpSpPr>
        <p:graphicFrame>
          <p:nvGraphicFramePr>
            <p:cNvPr id="239" name=""/>
            <p:cNvGraphicFramePr/>
            <p:nvPr/>
          </p:nvGraphicFramePr>
          <p:xfrm>
            <a:off x="168120" y="380880"/>
            <a:ext cx="4023000" cy="1668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68120" y="380880"/>
                      <a:ext cx="4023000" cy="1668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930240" y="228600"/>
                  <a:ext cx="73656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28600" y="2209680"/>
                <a:ext cx="26668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RATEGY:  FIND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SE  VOLTAGE  DIVIDE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981080" y="304920"/>
                <a:ext cx="2192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44" name=""/>
          <p:cNvGrpSpPr/>
          <p:nvPr/>
        </p:nvGrpSpPr>
        <p:grpSpPr>
          <a:xfrm>
            <a:off x="2357280" y="228600"/>
            <a:ext cx="1216080" cy="1525680"/>
            <a:chOff x="2357280" y="228600"/>
            <a:chExt cx="1216080" cy="1525680"/>
          </a:xfrm>
        </p:grpSpPr>
        <p:sp>
          <p:nvSpPr>
            <p:cNvPr id="245" name=""/>
            <p:cNvSpPr/>
            <p:nvPr/>
          </p:nvSpPr>
          <p:spPr>
            <a:xfrm>
              <a:off x="2357280" y="455760"/>
              <a:ext cx="1216080" cy="1298520"/>
            </a:xfrm>
            <a:custGeom>
              <a:avLst/>
              <a:gdLst/>
              <a:ahLst/>
              <a:rect l="l" t="t" r="r" b="b"/>
              <a:pathLst>
                <a:path w="768" h="816">
                  <a:moveTo>
                    <a:pt x="16" y="32"/>
                  </a:moveTo>
                  <a:cubicBezTo>
                    <a:pt x="12" y="145"/>
                    <a:pt x="0" y="261"/>
                    <a:pt x="0" y="374"/>
                  </a:cubicBezTo>
                  <a:cubicBezTo>
                    <a:pt x="61" y="389"/>
                    <a:pt x="116" y="398"/>
                    <a:pt x="180" y="398"/>
                  </a:cubicBezTo>
                  <a:lnTo>
                    <a:pt x="144" y="816"/>
                  </a:lnTo>
                  <a:lnTo>
                    <a:pt x="768" y="816"/>
                  </a:lnTo>
                  <a:lnTo>
                    <a:pt x="768" y="0"/>
                  </a:lnTo>
                  <a:lnTo>
                    <a:pt x="96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3124080" y="228600"/>
                  <a:ext cx="40500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7" name=""/>
          <p:cNvSpPr/>
          <p:nvPr/>
        </p:nvSpPr>
        <p:spPr>
          <a:xfrm>
            <a:off x="1752480" y="152280"/>
            <a:ext cx="1981440" cy="2210040"/>
          </a:xfrm>
          <a:custGeom>
            <a:avLst/>
            <a:gdLst/>
            <a:ahLst/>
            <a:rect l="l" t="t" r="r" b="b"/>
            <a:pathLst>
              <a:path w="1248" h="1392">
                <a:moveTo>
                  <a:pt x="1200" y="0"/>
                </a:moveTo>
                <a:lnTo>
                  <a:pt x="48" y="48"/>
                </a:lnTo>
                <a:lnTo>
                  <a:pt x="0" y="1008"/>
                </a:lnTo>
                <a:lnTo>
                  <a:pt x="1248" y="1392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048120" y="2133720"/>
                <a:ext cx="1511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9" name=""/>
          <p:cNvGraphicFramePr/>
          <p:nvPr/>
        </p:nvGraphicFramePr>
        <p:xfrm>
          <a:off x="76320" y="3164040"/>
          <a:ext cx="3047760" cy="188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3164040"/>
                    <a:ext cx="3047760" cy="1882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200400" y="3733920"/>
                <a:ext cx="2070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209680" y="30492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04920" y="5181480"/>
                <a:ext cx="205740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OLTAGE  DIVIDE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0</m:t>
                            </m:r>
                            <m:r>
                              <m:t xml:space="preserve">k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657600" y="1447920"/>
                <a:ext cx="33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55" name=""/>
          <p:cNvGraphicFramePr/>
          <p:nvPr/>
        </p:nvGraphicFramePr>
        <p:xfrm>
          <a:off x="4876920" y="533520"/>
          <a:ext cx="4038480" cy="196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533520"/>
                    <a:ext cx="4038480" cy="196344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724280" y="457200"/>
                <a:ext cx="876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832280" y="2590920"/>
            <a:ext cx="3397320" cy="5806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IS AN INVERSE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HAT CAN BE COMPU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389640" y="1219320"/>
                <a:ext cx="316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0" name=""/>
          <p:cNvGrpSpPr/>
          <p:nvPr/>
        </p:nvGrpSpPr>
        <p:grpSpPr>
          <a:xfrm>
            <a:off x="7031160" y="1066680"/>
            <a:ext cx="893520" cy="304920"/>
            <a:chOff x="7031160" y="1066680"/>
            <a:chExt cx="893520" cy="304920"/>
          </a:xfrm>
        </p:grpSpPr>
        <p:sp>
          <p:nvSpPr>
            <p:cNvPr id="261" name=""/>
            <p:cNvSpPr/>
            <p:nvPr/>
          </p:nvSpPr>
          <p:spPr>
            <a:xfrm>
              <a:off x="7162920" y="1066680"/>
              <a:ext cx="761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"/>
                <p:cNvSpPr txBox="1"/>
                <p:nvPr/>
              </p:nvSpPr>
              <p:spPr>
                <a:xfrm>
                  <a:off x="7031160" y="1143000"/>
                  <a:ext cx="7729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3" name=""/>
          <p:cNvSpPr/>
          <p:nvPr/>
        </p:nvSpPr>
        <p:spPr>
          <a:xfrm>
            <a:off x="5662440" y="114300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551560" y="1143000"/>
                <a:ext cx="772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781680" y="609480"/>
                <a:ext cx="1575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8229600" y="990720"/>
            <a:ext cx="914400" cy="609480"/>
            <a:chOff x="8229600" y="990720"/>
            <a:chExt cx="914400" cy="609480"/>
          </a:xfrm>
        </p:grpSpPr>
        <p:sp>
          <p:nvSpPr>
            <p:cNvPr id="267" name=""/>
            <p:cNvSpPr/>
            <p:nvPr/>
          </p:nvSpPr>
          <p:spPr>
            <a:xfrm>
              <a:off x="8229600" y="106668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8229600" y="990720"/>
                  <a:ext cx="9144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6019920" y="3276720"/>
                <a:ext cx="223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029200" y="1905120"/>
                <a:ext cx="31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972200" y="5715000"/>
            <a:ext cx="1155960" cy="1143000"/>
            <a:chOff x="7972200" y="5715000"/>
            <a:chExt cx="1155960" cy="1143000"/>
          </a:xfrm>
        </p:grpSpPr>
        <p:pic>
          <p:nvPicPr>
            <p:cNvPr id="273" name="stop" descr=""/>
            <p:cNvPicPr/>
            <p:nvPr/>
          </p:nvPicPr>
          <p:blipFill>
            <a:blip r:embed="rId7"/>
            <a:stretch/>
          </p:blipFill>
          <p:spPr>
            <a:xfrm>
              <a:off x="8381880" y="634356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972200" y="5715000"/>
              <a:ext cx="1155960" cy="5806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523880" y="233280"/>
                <a:ext cx="6096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NSFORMATION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6" name=""/>
          <p:cNvGraphicFramePr/>
          <p:nvPr/>
        </p:nvGraphicFramePr>
        <p:xfrm>
          <a:off x="0" y="990720"/>
          <a:ext cx="4522680" cy="31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4522680" cy="31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483120" y="4114800"/>
            <a:ext cx="4082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CIRCUIT HAS NO RESISTOR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RIES OR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4640" y="4800600"/>
            <a:ext cx="6124320" cy="2050920"/>
            <a:chOff x="44640" y="4800600"/>
            <a:chExt cx="6124320" cy="2050920"/>
          </a:xfrm>
        </p:grpSpPr>
        <p:graphicFrame>
          <p:nvGraphicFramePr>
            <p:cNvPr id="280" name=""/>
            <p:cNvGraphicFramePr/>
            <p:nvPr/>
          </p:nvGraphicFramePr>
          <p:xfrm>
            <a:off x="380880" y="4800600"/>
            <a:ext cx="5788080" cy="2050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4800600"/>
                      <a:ext cx="5788080" cy="205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44640" y="4876920"/>
              <a:ext cx="1400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IF INSTE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F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84520" y="4941720"/>
              <a:ext cx="1278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E COU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HAVE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545000" y="1066680"/>
            <a:ext cx="4522680" cy="4191840"/>
            <a:chOff x="4545000" y="1066680"/>
            <a:chExt cx="4522680" cy="4191840"/>
          </a:xfrm>
        </p:grpSpPr>
        <p:grpSp>
          <p:nvGrpSpPr>
            <p:cNvPr id="285" name=""/>
            <p:cNvGrpSpPr/>
            <p:nvPr/>
          </p:nvGrpSpPr>
          <p:grpSpPr>
            <a:xfrm>
              <a:off x="4545000" y="1066680"/>
              <a:ext cx="4522680" cy="3106800"/>
              <a:chOff x="4545000" y="1066680"/>
              <a:chExt cx="4522680" cy="3106800"/>
            </a:xfrm>
          </p:grpSpPr>
          <p:graphicFrame>
            <p:nvGraphicFramePr>
              <p:cNvPr id="286" name=""/>
              <p:cNvGraphicFramePr/>
              <p:nvPr/>
            </p:nvGraphicFramePr>
            <p:xfrm>
              <a:off x="4545000" y="1066680"/>
              <a:ext cx="4522680" cy="31068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8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545000" y="1066680"/>
                        <a:ext cx="4522680" cy="3106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88" name=""/>
              <p:cNvGraphicFramePr/>
              <p:nvPr/>
            </p:nvGraphicFramePr>
            <p:xfrm>
              <a:off x="6831000" y="1447920"/>
              <a:ext cx="2133720" cy="11174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8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831000" y="1447920"/>
                        <a:ext cx="2133720" cy="111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90" name=""/>
            <p:cNvSpPr/>
            <p:nvPr/>
          </p:nvSpPr>
          <p:spPr>
            <a:xfrm>
              <a:off x="5568120" y="4191120"/>
              <a:ext cx="3106800" cy="106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N THE CIRCUIT WOU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ECOME LIKE THIS 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E AMENABLE TO SER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PARALLEL TRANSFORM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geaux" descr=""/>
          <p:cNvPicPr/>
          <p:nvPr/>
        </p:nvPicPr>
        <p:blipFill>
          <a:blip r:embed="rId9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00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2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03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06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2590920" y="3187800"/>
                <a:ext cx="168912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4343400" y="3124080"/>
                <a:ext cx="20955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705720" y="3124080"/>
                <a:ext cx="21081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4363560" y="3753000"/>
            <a:ext cx="4691880" cy="337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PLACE IN THE THIRD AND SOLVE FOR 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334120" y="4114800"/>
                <a:ext cx="245088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17" name="geaux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"/>
          <p:cNvGraphicFramePr/>
          <p:nvPr/>
        </p:nvGraphicFramePr>
        <p:xfrm>
          <a:off x="76320" y="990720"/>
          <a:ext cx="3276360" cy="29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90720"/>
                    <a:ext cx="327636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99720" y="95400"/>
            <a:ext cx="7130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EARNING EXAMPLE: APPLICATION OF WYE-DELTA TRANS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609480" y="609480"/>
                <a:ext cx="1282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MPUTE 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24" name=""/>
          <p:cNvGrpSpPr/>
          <p:nvPr/>
        </p:nvGrpSpPr>
        <p:grpSpPr>
          <a:xfrm>
            <a:off x="1496880" y="598320"/>
            <a:ext cx="3670920" cy="2148120"/>
            <a:chOff x="1496880" y="598320"/>
            <a:chExt cx="3670920" cy="2148120"/>
          </a:xfrm>
        </p:grpSpPr>
        <p:sp>
          <p:nvSpPr>
            <p:cNvPr id="325" name=""/>
            <p:cNvSpPr/>
            <p:nvPr/>
          </p:nvSpPr>
          <p:spPr>
            <a:xfrm>
              <a:off x="1496880" y="797040"/>
              <a:ext cx="2152800" cy="1949400"/>
            </a:xfrm>
            <a:custGeom>
              <a:avLst/>
              <a:gdLst/>
              <a:ahLst/>
              <a:rect l="l" t="t" r="r" b="b"/>
              <a:pathLst>
                <a:path w="1356" h="1228">
                  <a:moveTo>
                    <a:pt x="1247" y="36"/>
                  </a:moveTo>
                  <a:cubicBezTo>
                    <a:pt x="1138" y="0"/>
                    <a:pt x="908" y="14"/>
                    <a:pt x="841" y="12"/>
                  </a:cubicBezTo>
                  <a:cubicBezTo>
                    <a:pt x="781" y="15"/>
                    <a:pt x="722" y="18"/>
                    <a:pt x="662" y="20"/>
                  </a:cubicBezTo>
                  <a:cubicBezTo>
                    <a:pt x="498" y="26"/>
                    <a:pt x="171" y="36"/>
                    <a:pt x="171" y="36"/>
                  </a:cubicBezTo>
                  <a:cubicBezTo>
                    <a:pt x="140" y="40"/>
                    <a:pt x="103" y="31"/>
                    <a:pt x="78" y="51"/>
                  </a:cubicBezTo>
                  <a:cubicBezTo>
                    <a:pt x="70" y="57"/>
                    <a:pt x="69" y="68"/>
                    <a:pt x="62" y="75"/>
                  </a:cubicBezTo>
                  <a:cubicBezTo>
                    <a:pt x="56" y="81"/>
                    <a:pt x="46" y="84"/>
                    <a:pt x="39" y="90"/>
                  </a:cubicBezTo>
                  <a:cubicBezTo>
                    <a:pt x="30" y="99"/>
                    <a:pt x="15" y="121"/>
                    <a:pt x="15" y="121"/>
                  </a:cubicBezTo>
                  <a:cubicBezTo>
                    <a:pt x="4" y="467"/>
                    <a:pt x="0" y="786"/>
                    <a:pt x="0" y="1142"/>
                  </a:cubicBezTo>
                  <a:cubicBezTo>
                    <a:pt x="272" y="1207"/>
                    <a:pt x="557" y="1192"/>
                    <a:pt x="834" y="1205"/>
                  </a:cubicBezTo>
                  <a:cubicBezTo>
                    <a:pt x="973" y="1221"/>
                    <a:pt x="1116" y="1228"/>
                    <a:pt x="1255" y="1228"/>
                  </a:cubicBezTo>
                  <a:cubicBezTo>
                    <a:pt x="1288" y="1079"/>
                    <a:pt x="1316" y="928"/>
                    <a:pt x="1332" y="776"/>
                  </a:cubicBezTo>
                  <a:cubicBezTo>
                    <a:pt x="1337" y="724"/>
                    <a:pt x="1343" y="672"/>
                    <a:pt x="1348" y="620"/>
                  </a:cubicBezTo>
                  <a:cubicBezTo>
                    <a:pt x="1351" y="594"/>
                    <a:pt x="1356" y="542"/>
                    <a:pt x="1356" y="542"/>
                  </a:cubicBezTo>
                  <a:cubicBezTo>
                    <a:pt x="1353" y="423"/>
                    <a:pt x="1353" y="303"/>
                    <a:pt x="1348" y="184"/>
                  </a:cubicBezTo>
                  <a:cubicBezTo>
                    <a:pt x="1347" y="159"/>
                    <a:pt x="1332" y="133"/>
                    <a:pt x="1332" y="10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36240" y="598320"/>
              <a:ext cx="213156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LTA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62320" y="9907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48120" y="23623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76520" y="2362320"/>
              <a:ext cx="15228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0" name=""/>
          <p:cNvGraphicFramePr/>
          <p:nvPr/>
        </p:nvGraphicFramePr>
        <p:xfrm>
          <a:off x="5029200" y="762120"/>
          <a:ext cx="2960640" cy="292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762120"/>
                    <a:ext cx="296064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2" name=""/>
          <p:cNvGrpSpPr/>
          <p:nvPr/>
        </p:nvGrpSpPr>
        <p:grpSpPr>
          <a:xfrm>
            <a:off x="1523880" y="762120"/>
            <a:ext cx="1827000" cy="1752120"/>
            <a:chOff x="1523880" y="762120"/>
            <a:chExt cx="1827000" cy="1752120"/>
          </a:xfrm>
        </p:grpSpPr>
        <mc:AlternateContent>
          <mc:Choice xmlns:a14="http://schemas.microsoft.com/office/drawing/2010/main" Requires="a14">
            <p:sp>
              <p:nvSpPr>
                <p:cNvPr id="333" name=""/>
                <p:cNvSpPr txBox="1"/>
                <p:nvPr/>
              </p:nvSpPr>
              <p:spPr>
                <a:xfrm>
                  <a:off x="1523880" y="2209680"/>
                  <a:ext cx="16380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 rot="10800000">
                  <a:off x="3200040" y="228564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2362320" y="76212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6" name=""/>
          <p:cNvGrpSpPr/>
          <p:nvPr/>
        </p:nvGrpSpPr>
        <p:grpSpPr>
          <a:xfrm>
            <a:off x="5943600" y="533520"/>
            <a:ext cx="2131560" cy="2285640"/>
            <a:chOff x="5943600" y="533520"/>
            <a:chExt cx="2131560" cy="2285640"/>
          </a:xfrm>
        </p:grpSpPr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5943600" y="2590920"/>
                  <a:ext cx="1634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8" name=""/>
                <p:cNvSpPr txBox="1"/>
                <p:nvPr/>
              </p:nvSpPr>
              <p:spPr>
                <a:xfrm rot="10800000">
                  <a:off x="7924320" y="2590560"/>
                  <a:ext cx="1508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6858000" y="533520"/>
                  <a:ext cx="150840" cy="17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0" name=""/>
          <p:cNvGrpSpPr/>
          <p:nvPr/>
        </p:nvGrpSpPr>
        <p:grpSpPr>
          <a:xfrm>
            <a:off x="4984920" y="1757520"/>
            <a:ext cx="3587760" cy="2292120"/>
            <a:chOff x="4984920" y="1757520"/>
            <a:chExt cx="3587760" cy="2292120"/>
          </a:xfrm>
        </p:grpSpPr>
        <p:sp>
          <p:nvSpPr>
            <p:cNvPr id="341" name=""/>
            <p:cNvSpPr/>
            <p:nvPr/>
          </p:nvSpPr>
          <p:spPr>
            <a:xfrm>
              <a:off x="4984920" y="1757520"/>
              <a:ext cx="1336680" cy="2101680"/>
            </a:xfrm>
            <a:custGeom>
              <a:avLst/>
              <a:gdLst/>
              <a:ahLst/>
              <a:rect l="l" t="t" r="r" b="b"/>
              <a:pathLst>
                <a:path w="842" h="1324">
                  <a:moveTo>
                    <a:pt x="32" y="1324"/>
                  </a:moveTo>
                  <a:cubicBezTo>
                    <a:pt x="25" y="1096"/>
                    <a:pt x="16" y="867"/>
                    <a:pt x="8" y="639"/>
                  </a:cubicBezTo>
                  <a:cubicBezTo>
                    <a:pt x="5" y="473"/>
                    <a:pt x="0" y="306"/>
                    <a:pt x="0" y="140"/>
                  </a:cubicBezTo>
                  <a:cubicBezTo>
                    <a:pt x="0" y="101"/>
                    <a:pt x="8" y="23"/>
                    <a:pt x="8" y="23"/>
                  </a:cubicBezTo>
                  <a:cubicBezTo>
                    <a:pt x="291" y="4"/>
                    <a:pt x="550" y="0"/>
                    <a:pt x="842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5029200" y="3733920"/>
                  <a:ext cx="3543480" cy="31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r>
                            <m:t xml:space="preserve">k</m:t>
                          </m:r>
                        </m:e>
                      </m:d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k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276720" y="2590920"/>
                <a:ext cx="1689120" cy="22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→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828800" y="1371600"/>
                <a:ext cx="252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2666880" y="214776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3200400" y="1523880"/>
                <a:ext cx="2649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47" name=""/>
          <p:cNvGrpSpPr/>
          <p:nvPr/>
        </p:nvGrpSpPr>
        <p:grpSpPr>
          <a:xfrm>
            <a:off x="6154560" y="1371600"/>
            <a:ext cx="2824200" cy="1425600"/>
            <a:chOff x="6154560" y="1371600"/>
            <a:chExt cx="2824200" cy="1425600"/>
          </a:xfrm>
        </p:grpSpPr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7391520" y="1371600"/>
                  <a:ext cx="15872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×</m:t>
                          </m:r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k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"/>
            <p:cNvSpPr/>
            <p:nvPr/>
          </p:nvSpPr>
          <p:spPr>
            <a:xfrm>
              <a:off x="6154560" y="1706400"/>
              <a:ext cx="1206720" cy="1090800"/>
            </a:xfrm>
            <a:custGeom>
              <a:avLst/>
              <a:gdLst/>
              <a:ahLst/>
              <a:rect l="l" t="t" r="r" b="b"/>
              <a:pathLst>
                <a:path w="760" h="687">
                  <a:moveTo>
                    <a:pt x="588" y="507"/>
                  </a:moveTo>
                  <a:cubicBezTo>
                    <a:pt x="540" y="433"/>
                    <a:pt x="420" y="399"/>
                    <a:pt x="339" y="375"/>
                  </a:cubicBezTo>
                  <a:cubicBezTo>
                    <a:pt x="301" y="350"/>
                    <a:pt x="258" y="351"/>
                    <a:pt x="214" y="343"/>
                  </a:cubicBezTo>
                  <a:cubicBezTo>
                    <a:pt x="149" y="348"/>
                    <a:pt x="75" y="326"/>
                    <a:pt x="19" y="359"/>
                  </a:cubicBezTo>
                  <a:cubicBezTo>
                    <a:pt x="0" y="370"/>
                    <a:pt x="33" y="478"/>
                    <a:pt x="43" y="507"/>
                  </a:cubicBezTo>
                  <a:cubicBezTo>
                    <a:pt x="45" y="525"/>
                    <a:pt x="43" y="545"/>
                    <a:pt x="50" y="562"/>
                  </a:cubicBezTo>
                  <a:cubicBezTo>
                    <a:pt x="54" y="572"/>
                    <a:pt x="67" y="577"/>
                    <a:pt x="74" y="585"/>
                  </a:cubicBezTo>
                  <a:cubicBezTo>
                    <a:pt x="82" y="595"/>
                    <a:pt x="86" y="609"/>
                    <a:pt x="97" y="616"/>
                  </a:cubicBezTo>
                  <a:cubicBezTo>
                    <a:pt x="116" y="628"/>
                    <a:pt x="140" y="630"/>
                    <a:pt x="160" y="639"/>
                  </a:cubicBezTo>
                  <a:cubicBezTo>
                    <a:pt x="216" y="664"/>
                    <a:pt x="259" y="672"/>
                    <a:pt x="323" y="678"/>
                  </a:cubicBezTo>
                  <a:cubicBezTo>
                    <a:pt x="391" y="673"/>
                    <a:pt x="462" y="687"/>
                    <a:pt x="526" y="663"/>
                  </a:cubicBezTo>
                  <a:cubicBezTo>
                    <a:pt x="549" y="654"/>
                    <a:pt x="549" y="593"/>
                    <a:pt x="549" y="593"/>
                  </a:cubicBezTo>
                  <a:cubicBezTo>
                    <a:pt x="567" y="451"/>
                    <a:pt x="588" y="300"/>
                    <a:pt x="635" y="164"/>
                  </a:cubicBezTo>
                  <a:cubicBezTo>
                    <a:pt x="644" y="111"/>
                    <a:pt x="649" y="108"/>
                    <a:pt x="682" y="71"/>
                  </a:cubicBezTo>
                  <a:cubicBezTo>
                    <a:pt x="695" y="57"/>
                    <a:pt x="727" y="0"/>
                    <a:pt x="760" y="0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019920" y="762120"/>
            <a:ext cx="1904760" cy="2133360"/>
            <a:chOff x="6019920" y="762120"/>
            <a:chExt cx="1904760" cy="2133360"/>
          </a:xfrm>
        </p:grpSpPr>
        <p:sp>
          <p:nvSpPr>
            <p:cNvPr id="351" name=""/>
            <p:cNvSpPr/>
            <p:nvPr/>
          </p:nvSpPr>
          <p:spPr>
            <a:xfrm>
              <a:off x="6858000" y="76212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96080" y="2666880"/>
              <a:ext cx="228600" cy="15264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19920" y="2743200"/>
              <a:ext cx="228600" cy="152280"/>
            </a:xfrm>
            <a:prstGeom prst="ellipse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943600" y="4114800"/>
                <a:ext cx="1727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5" name=""/>
          <p:cNvGrpSpPr/>
          <p:nvPr/>
        </p:nvGrpSpPr>
        <p:grpSpPr>
          <a:xfrm>
            <a:off x="0" y="3917880"/>
            <a:ext cx="3365640" cy="2990880"/>
            <a:chOff x="0" y="3917880"/>
            <a:chExt cx="3365640" cy="2990880"/>
          </a:xfrm>
        </p:grpSpPr>
        <p:graphicFrame>
          <p:nvGraphicFramePr>
            <p:cNvPr id="356" name=""/>
            <p:cNvGraphicFramePr/>
            <p:nvPr/>
          </p:nvGraphicFramePr>
          <p:xfrm>
            <a:off x="0" y="3917880"/>
            <a:ext cx="3276720" cy="29401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0" y="3917880"/>
                      <a:ext cx="3276720" cy="294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8" name=""/>
            <p:cNvSpPr/>
            <p:nvPr/>
          </p:nvSpPr>
          <p:spPr>
            <a:xfrm flipH="1">
              <a:off x="1676520" y="3962520"/>
              <a:ext cx="1371600" cy="1371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76520" y="5334120"/>
              <a:ext cx="1371600" cy="137160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8120" y="3962520"/>
              <a:ext cx="317520" cy="2946240"/>
            </a:xfrm>
            <a:custGeom>
              <a:avLst/>
              <a:gdLst/>
              <a:ahLst/>
              <a:rect l="l" t="t" r="r" b="b"/>
              <a:pathLst>
                <a:path w="200" h="1856">
                  <a:moveTo>
                    <a:pt x="0" y="0"/>
                  </a:moveTo>
                  <a:cubicBezTo>
                    <a:pt x="92" y="288"/>
                    <a:pt x="184" y="576"/>
                    <a:pt x="192" y="864"/>
                  </a:cubicBezTo>
                  <a:cubicBezTo>
                    <a:pt x="200" y="1152"/>
                    <a:pt x="80" y="1600"/>
                    <a:pt x="48" y="1728"/>
                  </a:cubicBezTo>
                  <a:cubicBezTo>
                    <a:pt x="16" y="1856"/>
                    <a:pt x="8" y="1744"/>
                    <a:pt x="0" y="1632"/>
                  </a:cubicBezTo>
                </a:path>
              </a:pathLst>
            </a:custGeom>
            <a:noFill/>
            <a:ln w="255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267360" y="5932440"/>
            <a:ext cx="38383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COULD ALSO USE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YE - DELTA TRANSFORMATION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828440" y="1143000"/>
            <a:ext cx="1219680" cy="1219320"/>
            <a:chOff x="1828440" y="1143000"/>
            <a:chExt cx="1219680" cy="1219320"/>
          </a:xfrm>
        </p:grpSpPr>
        <p:sp>
          <p:nvSpPr>
            <p:cNvPr id="363" name=""/>
            <p:cNvSpPr/>
            <p:nvPr/>
          </p:nvSpPr>
          <p:spPr>
            <a:xfrm>
              <a:off x="2438280" y="1143000"/>
              <a:ext cx="0" cy="457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828440" y="1600200"/>
              <a:ext cx="60948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438280" y="1600200"/>
              <a:ext cx="60984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940520" y="5710320"/>
            <a:ext cx="1278000" cy="1143000"/>
            <a:chOff x="7940520" y="5710320"/>
            <a:chExt cx="1278000" cy="1143000"/>
          </a:xfrm>
        </p:grpSpPr>
        <p:pic>
          <p:nvPicPr>
            <p:cNvPr id="367" name="stop" descr=""/>
            <p:cNvPicPr/>
            <p:nvPr/>
          </p:nvPicPr>
          <p:blipFill>
            <a:blip r:embed="rId7"/>
            <a:stretch/>
          </p:blipFill>
          <p:spPr>
            <a:xfrm>
              <a:off x="83498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7940520" y="5710320"/>
              <a:ext cx="1278000" cy="33732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WYE DE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920960" y="0"/>
            <a:ext cx="4495680" cy="2209680"/>
            <a:chOff x="1920960" y="0"/>
            <a:chExt cx="4495680" cy="2209680"/>
          </a:xfrm>
        </p:grpSpPr>
        <p:graphicFrame>
          <p:nvGraphicFramePr>
            <p:cNvPr id="57" name=""/>
            <p:cNvGraphicFramePr/>
            <p:nvPr/>
          </p:nvGraphicFramePr>
          <p:xfrm>
            <a:off x="1920960" y="371520"/>
            <a:ext cx="4495680" cy="1838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20960" y="371520"/>
                      <a:ext cx="4495680" cy="183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9" name=""/>
            <p:cNvSpPr/>
            <p:nvPr/>
          </p:nvSpPr>
          <p:spPr>
            <a:xfrm>
              <a:off x="2087280" y="0"/>
              <a:ext cx="41277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FIRST WE PRACTICE COMBINING RESISTO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896000" y="528480"/>
            <a:ext cx="1444320" cy="1901880"/>
          </a:xfrm>
          <a:custGeom>
            <a:avLst/>
            <a:gdLst/>
            <a:ahLst/>
            <a:rect l="l" t="t" r="r" b="b"/>
            <a:pathLst>
              <a:path w="912" h="1200">
                <a:moveTo>
                  <a:pt x="0" y="1200"/>
                </a:moveTo>
                <a:lnTo>
                  <a:pt x="48" y="624"/>
                </a:lnTo>
                <a:lnTo>
                  <a:pt x="576" y="0"/>
                </a:lnTo>
                <a:lnTo>
                  <a:pt x="912" y="48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18600" y="2301840"/>
            <a:ext cx="820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6k||3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40120" y="380880"/>
            <a:ext cx="1600200" cy="2514600"/>
          </a:xfrm>
          <a:custGeom>
            <a:avLst/>
            <a:gdLst/>
            <a:ahLst/>
            <a:rect l="l" t="t" r="r" b="b"/>
            <a:pathLst>
              <a:path w="1008" h="1584">
                <a:moveTo>
                  <a:pt x="1008" y="0"/>
                </a:moveTo>
                <a:lnTo>
                  <a:pt x="48" y="0"/>
                </a:lnTo>
                <a:lnTo>
                  <a:pt x="0" y="158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71360" y="2682720"/>
            <a:ext cx="167436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(10K,2K)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989600" y="952560"/>
            <a:ext cx="1563480" cy="1427760"/>
            <a:chOff x="4989600" y="952560"/>
            <a:chExt cx="1563480" cy="1427760"/>
          </a:xfrm>
        </p:grpSpPr>
        <p:sp>
          <p:nvSpPr>
            <p:cNvPr id="65" name=""/>
            <p:cNvSpPr/>
            <p:nvPr/>
          </p:nvSpPr>
          <p:spPr>
            <a:xfrm>
              <a:off x="4989600" y="952560"/>
              <a:ext cx="1563480" cy="1360440"/>
            </a:xfrm>
            <a:custGeom>
              <a:avLst/>
              <a:gdLst/>
              <a:ahLst/>
              <a:rect l="l" t="t" r="r" b="b"/>
              <a:pathLst>
                <a:path w="985" h="857">
                  <a:moveTo>
                    <a:pt x="874" y="0"/>
                  </a:moveTo>
                  <a:cubicBezTo>
                    <a:pt x="749" y="0"/>
                    <a:pt x="625" y="0"/>
                    <a:pt x="500" y="0"/>
                  </a:cubicBezTo>
                  <a:cubicBezTo>
                    <a:pt x="483" y="82"/>
                    <a:pt x="481" y="166"/>
                    <a:pt x="469" y="249"/>
                  </a:cubicBezTo>
                  <a:cubicBezTo>
                    <a:pt x="472" y="296"/>
                    <a:pt x="472" y="343"/>
                    <a:pt x="477" y="390"/>
                  </a:cubicBezTo>
                  <a:cubicBezTo>
                    <a:pt x="481" y="429"/>
                    <a:pt x="492" y="446"/>
                    <a:pt x="492" y="491"/>
                  </a:cubicBezTo>
                  <a:cubicBezTo>
                    <a:pt x="383" y="463"/>
                    <a:pt x="420" y="476"/>
                    <a:pt x="228" y="483"/>
                  </a:cubicBezTo>
                  <a:cubicBezTo>
                    <a:pt x="119" y="495"/>
                    <a:pt x="181" y="491"/>
                    <a:pt x="41" y="491"/>
                  </a:cubicBezTo>
                  <a:cubicBezTo>
                    <a:pt x="0" y="608"/>
                    <a:pt x="33" y="736"/>
                    <a:pt x="33" y="857"/>
                  </a:cubicBezTo>
                  <a:cubicBezTo>
                    <a:pt x="185" y="837"/>
                    <a:pt x="339" y="835"/>
                    <a:pt x="492" y="826"/>
                  </a:cubicBezTo>
                  <a:cubicBezTo>
                    <a:pt x="577" y="809"/>
                    <a:pt x="518" y="819"/>
                    <a:pt x="672" y="803"/>
                  </a:cubicBezTo>
                  <a:cubicBezTo>
                    <a:pt x="713" y="799"/>
                    <a:pt x="755" y="794"/>
                    <a:pt x="796" y="787"/>
                  </a:cubicBezTo>
                  <a:cubicBezTo>
                    <a:pt x="812" y="784"/>
                    <a:pt x="843" y="779"/>
                    <a:pt x="843" y="779"/>
                  </a:cubicBezTo>
                  <a:cubicBezTo>
                    <a:pt x="883" y="681"/>
                    <a:pt x="911" y="535"/>
                    <a:pt x="929" y="429"/>
                  </a:cubicBezTo>
                  <a:cubicBezTo>
                    <a:pt x="921" y="130"/>
                    <a:pt x="985" y="173"/>
                    <a:pt x="867" y="55"/>
                  </a:cubicBezTo>
                  <a:cubicBezTo>
                    <a:pt x="869" y="63"/>
                    <a:pt x="874" y="78"/>
                    <a:pt x="874" y="78"/>
                  </a:cubicBez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5644080" y="1905120"/>
              <a:ext cx="820800" cy="475200"/>
              <a:chOff x="5644080" y="1905120"/>
              <a:chExt cx="820800" cy="475200"/>
            </a:xfrm>
          </p:grpSpPr>
          <p:sp>
            <p:nvSpPr>
              <p:cNvPr id="67" name=""/>
              <p:cNvSpPr/>
              <p:nvPr/>
            </p:nvSpPr>
            <p:spPr>
              <a:xfrm>
                <a:off x="5644080" y="2073240"/>
                <a:ext cx="820800" cy="307080"/>
              </a:xfrm>
              <a:prstGeom prst="rect">
                <a:avLst/>
              </a:prstGeom>
              <a:solidFill>
                <a:srgbClr val="cce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Lucida Console"/>
                  </a:rPr>
                  <a:t>SER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8" name=""/>
                  <p:cNvSpPr txBox="1"/>
                  <p:nvPr/>
                </p:nvSpPr>
                <p:spPr>
                  <a:xfrm>
                    <a:off x="6035760" y="1905120"/>
                    <a:ext cx="252360" cy="201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3</m:t>
                        </m:r>
                        <m:r>
                          <m:t xml:space="preserve">k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9" name=""/>
          <p:cNvGrpSpPr/>
          <p:nvPr/>
        </p:nvGrpSpPr>
        <p:grpSpPr>
          <a:xfrm>
            <a:off x="1844640" y="2338560"/>
            <a:ext cx="4165560" cy="2309760"/>
            <a:chOff x="1844640" y="2338560"/>
            <a:chExt cx="4165560" cy="2309760"/>
          </a:xfrm>
        </p:grpSpPr>
        <p:graphicFrame>
          <p:nvGraphicFramePr>
            <p:cNvPr id="70" name=""/>
            <p:cNvGraphicFramePr/>
            <p:nvPr/>
          </p:nvGraphicFramePr>
          <p:xfrm>
            <a:off x="1844640" y="3024360"/>
            <a:ext cx="4165560" cy="1623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4640" y="3024360"/>
                      <a:ext cx="4165560" cy="162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2" name=""/>
            <p:cNvSpPr/>
            <p:nvPr/>
          </p:nvSpPr>
          <p:spPr>
            <a:xfrm>
              <a:off x="3116160" y="2338560"/>
              <a:ext cx="381240" cy="609480"/>
            </a:xfrm>
            <a:prstGeom prst="downArrow">
              <a:avLst>
                <a:gd name="adj1" fmla="val 50000"/>
                <a:gd name="adj2" fmla="val 39967"/>
              </a:avLst>
            </a:prstGeom>
            <a:solidFill>
              <a:srgbClr val="99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224240" y="3068640"/>
            <a:ext cx="1497240" cy="1573200"/>
          </a:xfrm>
          <a:custGeom>
            <a:avLst/>
            <a:gdLst/>
            <a:ahLst/>
            <a:rect l="l" t="t" r="r" b="b"/>
            <a:pathLst>
              <a:path w="943" h="991">
                <a:moveTo>
                  <a:pt x="904" y="78"/>
                </a:moveTo>
                <a:cubicBezTo>
                  <a:pt x="812" y="31"/>
                  <a:pt x="640" y="13"/>
                  <a:pt x="538" y="0"/>
                </a:cubicBezTo>
                <a:cubicBezTo>
                  <a:pt x="76" y="7"/>
                  <a:pt x="237" y="7"/>
                  <a:pt x="55" y="7"/>
                </a:cubicBezTo>
                <a:cubicBezTo>
                  <a:pt x="48" y="39"/>
                  <a:pt x="41" y="70"/>
                  <a:pt x="32" y="101"/>
                </a:cubicBezTo>
                <a:cubicBezTo>
                  <a:pt x="0" y="384"/>
                  <a:pt x="49" y="576"/>
                  <a:pt x="86" y="834"/>
                </a:cubicBezTo>
                <a:cubicBezTo>
                  <a:pt x="89" y="883"/>
                  <a:pt x="83" y="934"/>
                  <a:pt x="94" y="982"/>
                </a:cubicBezTo>
                <a:cubicBezTo>
                  <a:pt x="96" y="991"/>
                  <a:pt x="108" y="969"/>
                  <a:pt x="117" y="966"/>
                </a:cubicBezTo>
                <a:cubicBezTo>
                  <a:pt x="129" y="961"/>
                  <a:pt x="143" y="959"/>
                  <a:pt x="156" y="958"/>
                </a:cubicBezTo>
                <a:cubicBezTo>
                  <a:pt x="311" y="941"/>
                  <a:pt x="298" y="952"/>
                  <a:pt x="421" y="927"/>
                </a:cubicBezTo>
                <a:cubicBezTo>
                  <a:pt x="589" y="893"/>
                  <a:pt x="775" y="896"/>
                  <a:pt x="943" y="896"/>
                </a:cubicBez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273640" y="4243320"/>
                <a:ext cx="114300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444840" y="2971800"/>
            <a:ext cx="2743200" cy="1676520"/>
          </a:xfrm>
          <a:custGeom>
            <a:avLst/>
            <a:gdLst/>
            <a:ahLst/>
            <a:rect l="l" t="t" r="r" b="b"/>
            <a:pathLst>
              <a:path w="1728" h="1056">
                <a:moveTo>
                  <a:pt x="1728" y="48"/>
                </a:moveTo>
                <a:lnTo>
                  <a:pt x="0" y="0"/>
                </a:lnTo>
                <a:lnTo>
                  <a:pt x="48" y="288"/>
                </a:lnTo>
                <a:lnTo>
                  <a:pt x="528" y="768"/>
                </a:lnTo>
                <a:lnTo>
                  <a:pt x="576" y="1056"/>
                </a:lnTo>
                <a:lnTo>
                  <a:pt x="1632" y="1056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68320" y="4800600"/>
          <a:ext cx="4267440" cy="17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8320" y="4800600"/>
                    <a:ext cx="426744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" name=""/>
          <p:cNvGrpSpPr/>
          <p:nvPr/>
        </p:nvGrpSpPr>
        <p:grpSpPr>
          <a:xfrm>
            <a:off x="3600360" y="4952880"/>
            <a:ext cx="2816280" cy="1600200"/>
            <a:chOff x="3600360" y="4952880"/>
            <a:chExt cx="2816280" cy="1600200"/>
          </a:xfrm>
        </p:grpSpPr>
        <p:sp>
          <p:nvSpPr>
            <p:cNvPr id="79" name=""/>
            <p:cNvSpPr/>
            <p:nvPr/>
          </p:nvSpPr>
          <p:spPr>
            <a:xfrm>
              <a:off x="3600360" y="4952880"/>
              <a:ext cx="2816280" cy="1600200"/>
            </a:xfrm>
            <a:custGeom>
              <a:avLst/>
              <a:gdLst/>
              <a:ahLst/>
              <a:rect l="l" t="t" r="r" b="b"/>
              <a:pathLst>
                <a:path w="1776" h="1008">
                  <a:moveTo>
                    <a:pt x="1728" y="96"/>
                  </a:moveTo>
                  <a:lnTo>
                    <a:pt x="240" y="0"/>
                  </a:lnTo>
                  <a:lnTo>
                    <a:pt x="0" y="768"/>
                  </a:lnTo>
                  <a:lnTo>
                    <a:pt x="0" y="1008"/>
                  </a:lnTo>
                  <a:lnTo>
                    <a:pt x="1536" y="1008"/>
                  </a:lnTo>
                  <a:lnTo>
                    <a:pt x="1776" y="96"/>
                  </a:lnTo>
                </a:path>
              </a:pathLst>
            </a:cu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"/>
                <p:cNvSpPr txBox="1"/>
                <p:nvPr/>
              </p:nvSpPr>
              <p:spPr>
                <a:xfrm>
                  <a:off x="5578560" y="6280200"/>
                  <a:ext cx="417600" cy="24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" name=""/>
          <p:cNvSpPr/>
          <p:nvPr/>
        </p:nvSpPr>
        <p:spPr>
          <a:xfrm>
            <a:off x="2835360" y="4800600"/>
            <a:ext cx="358128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2256" y="0"/>
                </a:moveTo>
                <a:lnTo>
                  <a:pt x="192" y="48"/>
                </a:lnTo>
                <a:lnTo>
                  <a:pt x="240" y="336"/>
                </a:lnTo>
                <a:lnTo>
                  <a:pt x="0" y="432"/>
                </a:lnTo>
                <a:lnTo>
                  <a:pt x="0" y="1200"/>
                </a:lnTo>
                <a:lnTo>
                  <a:pt x="2160" y="1200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835360" y="6435720"/>
                <a:ext cx="30456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68320" y="5715000"/>
                <a:ext cx="5781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4" name="geaux" descr=""/>
          <p:cNvPicPr/>
          <p:nvPr/>
        </p:nvPicPr>
        <p:blipFill>
          <a:blip r:embed="rId7"/>
          <a:stretch/>
        </p:blipFill>
        <p:spPr>
          <a:xfrm>
            <a:off x="82724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5244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39909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04920" y="351000"/>
          <a:ext cx="3676680" cy="30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51000"/>
                    <a:ext cx="3676680" cy="30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232920" y="65160"/>
            <a:ext cx="4569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AMPLES COMBINATION SERIES-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57200"/>
            <a:ext cx="1371600" cy="1600200"/>
          </a:xfrm>
          <a:custGeom>
            <a:avLst/>
            <a:gdLst/>
            <a:ahLst/>
            <a:rect l="l" t="t" r="r" b="b"/>
            <a:pathLst>
              <a:path w="864" h="1008">
                <a:moveTo>
                  <a:pt x="0" y="0"/>
                </a:moveTo>
                <a:lnTo>
                  <a:pt x="0" y="384"/>
                </a:lnTo>
                <a:lnTo>
                  <a:pt x="432" y="384"/>
                </a:lnTo>
                <a:lnTo>
                  <a:pt x="432" y="1008"/>
                </a:lnTo>
                <a:lnTo>
                  <a:pt x="864" y="960"/>
                </a:lnTo>
                <a:lnTo>
                  <a:pt x="768" y="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429000" y="457200"/>
                <a:ext cx="35388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2" name=""/>
          <p:cNvGraphicFramePr/>
          <p:nvPr/>
        </p:nvGraphicFramePr>
        <p:xfrm>
          <a:off x="457200" y="3733920"/>
          <a:ext cx="3371760" cy="282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733920"/>
                    <a:ext cx="3371760" cy="28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992240" y="3581280"/>
            <a:ext cx="1946520" cy="1971720"/>
          </a:xfrm>
          <a:custGeom>
            <a:avLst/>
            <a:gdLst/>
            <a:ahLst/>
            <a:rect l="l" t="t" r="r" b="b"/>
            <a:pathLst>
              <a:path w="1226" h="1242">
                <a:moveTo>
                  <a:pt x="0" y="35"/>
                </a:moveTo>
                <a:cubicBezTo>
                  <a:pt x="3" y="408"/>
                  <a:pt x="23" y="803"/>
                  <a:pt x="23" y="1181"/>
                </a:cubicBezTo>
                <a:cubicBezTo>
                  <a:pt x="81" y="1242"/>
                  <a:pt x="16" y="1184"/>
                  <a:pt x="202" y="1181"/>
                </a:cubicBezTo>
                <a:cubicBezTo>
                  <a:pt x="394" y="1178"/>
                  <a:pt x="587" y="1186"/>
                  <a:pt x="779" y="1189"/>
                </a:cubicBezTo>
                <a:cubicBezTo>
                  <a:pt x="921" y="1196"/>
                  <a:pt x="1065" y="1220"/>
                  <a:pt x="1207" y="1220"/>
                </a:cubicBezTo>
                <a:cubicBezTo>
                  <a:pt x="1226" y="956"/>
                  <a:pt x="1221" y="1073"/>
                  <a:pt x="1207" y="596"/>
                </a:cubicBezTo>
                <a:cubicBezTo>
                  <a:pt x="1192" y="79"/>
                  <a:pt x="1203" y="473"/>
                  <a:pt x="1184" y="269"/>
                </a:cubicBezTo>
                <a:cubicBezTo>
                  <a:pt x="1181" y="233"/>
                  <a:pt x="1180" y="196"/>
                  <a:pt x="1176" y="160"/>
                </a:cubicBezTo>
                <a:cubicBezTo>
                  <a:pt x="1175" y="149"/>
                  <a:pt x="1168" y="129"/>
                  <a:pt x="1168" y="129"/>
                </a:cubicBezTo>
                <a:lnTo>
                  <a:pt x="41" y="0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22640" y="3727440"/>
                <a:ext cx="12571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9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87360" y="5397480"/>
                <a:ext cx="1295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97" name=""/>
          <p:cNvGraphicFramePr/>
          <p:nvPr/>
        </p:nvGraphicFramePr>
        <p:xfrm>
          <a:off x="4352760" y="1447920"/>
          <a:ext cx="4791240" cy="156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1447920"/>
                    <a:ext cx="47912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597920" y="930240"/>
            <a:ext cx="316764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 EXAMPLE WITHOUT REDRA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3160" y="1371600"/>
            <a:ext cx="1371600" cy="1600200"/>
          </a:xfrm>
          <a:custGeom>
            <a:avLst/>
            <a:gdLst/>
            <a:ahLst/>
            <a:rect l="l" t="t" r="r" b="b"/>
            <a:pathLst>
              <a:path w="864" h="1008">
                <a:moveTo>
                  <a:pt x="768" y="0"/>
                </a:moveTo>
                <a:lnTo>
                  <a:pt x="0" y="48"/>
                </a:lnTo>
                <a:lnTo>
                  <a:pt x="48" y="336"/>
                </a:lnTo>
                <a:lnTo>
                  <a:pt x="480" y="336"/>
                </a:lnTo>
                <a:lnTo>
                  <a:pt x="480" y="1008"/>
                </a:lnTo>
                <a:lnTo>
                  <a:pt x="864" y="1008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 rot="10800000">
                <a:off x="8391600" y="1371600"/>
                <a:ext cx="45720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7172280" y="1295280"/>
            <a:ext cx="1905120" cy="2057400"/>
          </a:xfrm>
          <a:custGeom>
            <a:avLst/>
            <a:gdLst/>
            <a:ahLst/>
            <a:rect l="l" t="t" r="r" b="b"/>
            <a:pathLst>
              <a:path w="1200" h="1296">
                <a:moveTo>
                  <a:pt x="144" y="0"/>
                </a:moveTo>
                <a:lnTo>
                  <a:pt x="48" y="96"/>
                </a:lnTo>
                <a:lnTo>
                  <a:pt x="0" y="1104"/>
                </a:lnTo>
                <a:lnTo>
                  <a:pt x="1200" y="1296"/>
                </a:lnTo>
              </a:path>
            </a:pathLst>
          </a:custGeom>
          <a:noFill/>
          <a:ln w="255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559640" y="3017880"/>
                <a:ext cx="1359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6181560" y="990720"/>
            <a:ext cx="1905120" cy="2743200"/>
          </a:xfrm>
          <a:custGeom>
            <a:avLst/>
            <a:gdLst/>
            <a:ahLst/>
            <a:rect l="l" t="t" r="r" b="b"/>
            <a:pathLst>
              <a:path w="1200" h="1728">
                <a:moveTo>
                  <a:pt x="960" y="0"/>
                </a:moveTo>
                <a:lnTo>
                  <a:pt x="0" y="1104"/>
                </a:lnTo>
                <a:lnTo>
                  <a:pt x="0" y="1344"/>
                </a:lnTo>
                <a:lnTo>
                  <a:pt x="1200" y="1728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657840" y="3346560"/>
                <a:ext cx="11685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29080" y="2438280"/>
                <a:ext cx="12952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746240" y="4654440"/>
            <a:ext cx="41277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ISTORS ARE IN SERIES IF THEY CAR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CTLY THE SAM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0640" y="5340240"/>
            <a:ext cx="423468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SISTORS ARE IN PARALLEL IF THEY 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ED EXACTLY BETWEEN THE SAME TW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76320" y="135000"/>
          <a:ext cx="3198600" cy="27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35000"/>
                    <a:ext cx="3198600" cy="27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7000" y="41400"/>
            <a:ext cx="56671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 “INVERSE SERIES PARALLEL COMBIN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962520" y="1143000"/>
                <a:ext cx="48765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MUST BE 600mV WHEN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LY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RESISTORS ARE AVAILAB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3956040" y="1955880"/>
            <a:ext cx="4664160" cy="582480"/>
            <a:chOff x="3956040" y="1955880"/>
            <a:chExt cx="4664160" cy="582480"/>
          </a:xfrm>
        </p:grpSpPr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3956040" y="1955880"/>
                  <a:ext cx="300996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QUIRED 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t xml:space="preserve">V</m:t>
                          </m:r>
                        </m:num>
                        <m:den>
                          <m:r>
                            <m:t xml:space="preserve">3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7010280" y="2133720"/>
                  <a:ext cx="1609920" cy="24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  <m:r>
                        <m:t xml:space="preserve">+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320" y="3727440"/>
                <a:ext cx="46479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MUST BE 600mV WHEN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LY 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RESISTORS ARE AVAILABL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762120" y="4495680"/>
                <a:ext cx="33652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QUIRED 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9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67</m:t>
                    </m:r>
                    <m:r>
                      <m:t xml:space="preserve">Ω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4876920" y="3276720"/>
          <a:ext cx="1649160" cy="19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276720"/>
                    <a:ext cx="1649160" cy="19000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858000" y="3352680"/>
          <a:ext cx="1816200" cy="196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0" y="3352680"/>
                    <a:ext cx="1816200" cy="19656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25" name="geaux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23440" y="762120"/>
            <a:ext cx="1354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IMPLE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9240" y="3368520"/>
            <a:ext cx="210096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T SO SIMPLE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796480" y="330120"/>
            <a:ext cx="4021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FFECT OF RESISTOR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992160"/>
          <a:ext cx="3124080" cy="213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2160"/>
                    <a:ext cx="31240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886200" y="965160"/>
                <a:ext cx="43434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NOMINAL  RESISTOR VALUE: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k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ISTOR TOLERANCE:  10%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257720" y="1893960"/>
            <a:ext cx="3716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ANGES FOR CURRENT AND POW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0" y="4267080"/>
                <a:ext cx="47880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UM CURRENT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CURRENT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1198440" y="5715000"/>
            <a:ext cx="7115040" cy="7333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RANGES FOR CURRENT AND POWER ARE DETERMINED BY THE TOLER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UT THE PERCENTAGE OF CHANGE MAY BE DIFFERENT FROM THE PERCEN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OLERANCE. THE RANGES MAY NOT EVEN BE SYMME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58720" y="3124080"/>
            <a:ext cx="8407440" cy="800280"/>
            <a:chOff x="558720" y="3124080"/>
            <a:chExt cx="8407440" cy="800280"/>
          </a:xfrm>
        </p:grpSpPr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558720" y="3352680"/>
                  <a:ext cx="4013280" cy="57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OMINAL CURRENT: </m:t>
                      </m:r>
                      <m:r>
                        <m:t xml:space="preserve"> </m:t>
                      </m:r>
                      <m:limUpp>
                        <m:e>
                          <m:r>
                            <m:t xml:space="preserve">I</m:t>
                          </m:r>
                        </m:e>
                        <m:lim>
                          <m:r>
                            <m:t xml:space="preserve">−</m:t>
                          </m:r>
                        </m:lim>
                      </m:limUpp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04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4863960" y="3124080"/>
                  <a:ext cx="410220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NOMINAL POWER:  </m:t>
                      </m:r>
                      <m:limUpp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0</m:t>
                                      </m:r>
                                    </m:e>
                                  </m:d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7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4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mW</m:t>
                          </m:r>
                        </m:e>
                        <m:lim/>
                      </m:limUp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876920" y="4572000"/>
                <a:ext cx="36068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UM POWE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XIMUM POWER:  </m:t>
                        </m:r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41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28880" y="152280"/>
            <a:ext cx="70387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 WITH SERIES-PARALLEL RESISTOR 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06880" y="2038320"/>
            <a:ext cx="5301360" cy="10674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RESISTORS IN SERIES ELI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NODE FROM THE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RESISTORS IN PARALLEL ELIMIN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LOOP FROM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6880" y="914400"/>
            <a:ext cx="5179320" cy="106740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MBINATION OF COMPONENTS CAN RED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MPLEXITY OF A CIRCUIT AND RENDER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ITABLE FOR ANALYSIS USING THE BAS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OLS DEVELOPED SO F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06160" y="3630600"/>
            <a:ext cx="4813920" cy="17974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GENERAL STRATEGY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DUCE COMPLEXITY UNTIL THE CIRCU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ECOMES SIMPLE ENOUGH TO ANALYZ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E DATA FROM SIMPLIFIED CIRCUIT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PUTE DESIRED VARIABLES IN ORI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IRCUIT - HENCE ONE MUST KEEP TR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F ANY RELATIONSHIP BETWEE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343400" y="1397160"/>
          <a:ext cx="4648320" cy="15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397160"/>
                    <a:ext cx="464832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2209680"/>
          <a:ext cx="408456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09680"/>
                    <a:ext cx="40845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0" y="533520"/>
          <a:ext cx="4648320" cy="157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533520"/>
                    <a:ext cx="464832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4527720" y="533520"/>
            <a:ext cx="44478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RST REDUCE IT TO A SINGLE LOOP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380880"/>
            <a:ext cx="2210040" cy="0"/>
          </a:xfrm>
          <a:prstGeom prst="line">
            <a:avLst/>
          </a:prstGeom>
          <a:ln w="604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0" y="0"/>
          <a:ext cx="6629400" cy="393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66294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2971800" y="533520"/>
            <a:ext cx="1371600" cy="1600200"/>
            <a:chOff x="2971800" y="533520"/>
            <a:chExt cx="1371600" cy="1600200"/>
          </a:xfrm>
        </p:grpSpPr>
        <p:sp>
          <p:nvSpPr>
            <p:cNvPr id="162" name=""/>
            <p:cNvSpPr/>
            <p:nvPr/>
          </p:nvSpPr>
          <p:spPr>
            <a:xfrm>
              <a:off x="2971800" y="533520"/>
              <a:ext cx="1371600" cy="1600200"/>
            </a:xfrm>
            <a:custGeom>
              <a:avLst/>
              <a:gdLst/>
              <a:ahLst/>
              <a:rect l="l" t="t" r="r" b="b"/>
              <a:pathLst>
                <a:path w="864" h="1008">
                  <a:moveTo>
                    <a:pt x="0" y="96"/>
                  </a:moveTo>
                  <a:lnTo>
                    <a:pt x="0" y="432"/>
                  </a:lnTo>
                  <a:lnTo>
                    <a:pt x="384" y="576"/>
                  </a:lnTo>
                  <a:lnTo>
                    <a:pt x="336" y="1008"/>
                  </a:lnTo>
                  <a:lnTo>
                    <a:pt x="864" y="960"/>
                  </a:lnTo>
                  <a:lnTo>
                    <a:pt x="864" y="0"/>
                  </a:lnTo>
                  <a:lnTo>
                    <a:pt x="96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" name=""/>
                <p:cNvSpPr txBox="1"/>
                <p:nvPr/>
              </p:nvSpPr>
              <p:spPr>
                <a:xfrm>
                  <a:off x="3505320" y="533520"/>
                  <a:ext cx="380880" cy="22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4" name=""/>
          <p:cNvGrpSpPr/>
          <p:nvPr/>
        </p:nvGrpSpPr>
        <p:grpSpPr>
          <a:xfrm>
            <a:off x="2666880" y="457200"/>
            <a:ext cx="1828800" cy="1828800"/>
            <a:chOff x="2666880" y="457200"/>
            <a:chExt cx="1828800" cy="1828800"/>
          </a:xfrm>
        </p:grpSpPr>
        <p:sp>
          <p:nvSpPr>
            <p:cNvPr id="165" name=""/>
            <p:cNvSpPr/>
            <p:nvPr/>
          </p:nvSpPr>
          <p:spPr>
            <a:xfrm>
              <a:off x="2666880" y="457200"/>
              <a:ext cx="1828800" cy="1828800"/>
            </a:xfrm>
            <a:custGeom>
              <a:avLst/>
              <a:gdLst/>
              <a:ahLst/>
              <a:rect l="l" t="t" r="r" b="b"/>
              <a:pathLst>
                <a:path w="1152" h="1152">
                  <a:moveTo>
                    <a:pt x="816" y="0"/>
                  </a:moveTo>
                  <a:lnTo>
                    <a:pt x="0" y="0"/>
                  </a:lnTo>
                  <a:lnTo>
                    <a:pt x="0" y="1152"/>
                  </a:lnTo>
                  <a:lnTo>
                    <a:pt x="1152" y="1152"/>
                  </a:lnTo>
                </a:path>
              </a:pathLst>
            </a:custGeom>
            <a:noFill/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2666880" y="457200"/>
                  <a:ext cx="7221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7" name=""/>
          <p:cNvGrpSpPr/>
          <p:nvPr/>
        </p:nvGrpSpPr>
        <p:grpSpPr>
          <a:xfrm>
            <a:off x="1981080" y="2286000"/>
            <a:ext cx="1752840" cy="1752480"/>
            <a:chOff x="1981080" y="2286000"/>
            <a:chExt cx="1752840" cy="1752480"/>
          </a:xfrm>
        </p:grpSpPr>
        <p:sp>
          <p:nvSpPr>
            <p:cNvPr id="168" name=""/>
            <p:cNvSpPr/>
            <p:nvPr/>
          </p:nvSpPr>
          <p:spPr>
            <a:xfrm>
              <a:off x="1981080" y="2286000"/>
              <a:ext cx="1752840" cy="1752480"/>
            </a:xfrm>
            <a:custGeom>
              <a:avLst/>
              <a:gdLst/>
              <a:ahLst/>
              <a:rect l="l" t="t" r="r" b="b"/>
              <a:pathLst>
                <a:path w="1104" h="1104">
                  <a:moveTo>
                    <a:pt x="0" y="0"/>
                  </a:moveTo>
                  <a:lnTo>
                    <a:pt x="48" y="528"/>
                  </a:lnTo>
                  <a:lnTo>
                    <a:pt x="528" y="528"/>
                  </a:lnTo>
                  <a:lnTo>
                    <a:pt x="528" y="1104"/>
                  </a:lnTo>
                  <a:lnTo>
                    <a:pt x="1104" y="1104"/>
                  </a:lnTo>
                  <a:lnTo>
                    <a:pt x="1104" y="48"/>
                  </a:lnTo>
                  <a:lnTo>
                    <a:pt x="48" y="0"/>
                  </a:ln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438280" y="2286000"/>
                  <a:ext cx="3812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0" name=""/>
          <p:cNvGrpSpPr/>
          <p:nvPr/>
        </p:nvGrpSpPr>
        <p:grpSpPr>
          <a:xfrm>
            <a:off x="1447920" y="2133720"/>
            <a:ext cx="1295280" cy="2133360"/>
            <a:chOff x="1447920" y="2133720"/>
            <a:chExt cx="1295280" cy="2133360"/>
          </a:xfrm>
        </p:grpSpPr>
        <p:sp>
          <p:nvSpPr>
            <p:cNvPr id="171" name=""/>
            <p:cNvSpPr/>
            <p:nvPr/>
          </p:nvSpPr>
          <p:spPr>
            <a:xfrm>
              <a:off x="1447920" y="2133720"/>
              <a:ext cx="1295280" cy="2133360"/>
            </a:xfrm>
            <a:custGeom>
              <a:avLst/>
              <a:gdLst/>
              <a:ahLst/>
              <a:rect l="l" t="t" r="r" b="b"/>
              <a:pathLst>
                <a:path w="816" h="1344">
                  <a:moveTo>
                    <a:pt x="576" y="48"/>
                  </a:moveTo>
                  <a:lnTo>
                    <a:pt x="144" y="0"/>
                  </a:lnTo>
                  <a:lnTo>
                    <a:pt x="0" y="1296"/>
                  </a:lnTo>
                  <a:lnTo>
                    <a:pt x="816" y="1344"/>
                  </a:lnTo>
                </a:path>
              </a:pathLst>
            </a:custGeom>
            <a:noFill/>
            <a:ln w="255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1447920" y="3932280"/>
                  <a:ext cx="70956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k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73" name=""/>
          <p:cNvGraphicFramePr/>
          <p:nvPr/>
        </p:nvGraphicFramePr>
        <p:xfrm>
          <a:off x="609480" y="4495680"/>
          <a:ext cx="3021120" cy="2011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4495680"/>
                    <a:ext cx="30211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752480" y="5773680"/>
                <a:ext cx="8384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971800" y="5987880"/>
                <a:ext cx="12700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4519800" y="914400"/>
            <a:ext cx="4447800" cy="307080"/>
          </a:xfrm>
          <a:prstGeom prst="rect">
            <a:avLst/>
          </a:prstGeom>
          <a:solidFill>
            <a:srgbClr val="ccec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OND: “BACKTRACK” USING KVL, KCL OH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1371600"/>
            <a:ext cx="38088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7280" y="1981080"/>
            <a:ext cx="457200" cy="53352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343400" y="3048120"/>
                <a:ext cx="1562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M'S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6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248520" y="2971800"/>
                <a:ext cx="1904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CL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6324480" y="1371600"/>
            <a:ext cx="30492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343400" y="3652920"/>
                <a:ext cx="19810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M'S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84" name=""/>
          <p:cNvGrpSpPr/>
          <p:nvPr/>
        </p:nvGrpSpPr>
        <p:grpSpPr>
          <a:xfrm>
            <a:off x="3124080" y="2666880"/>
            <a:ext cx="1219320" cy="990720"/>
            <a:chOff x="3124080" y="2666880"/>
            <a:chExt cx="1219320" cy="990720"/>
          </a:xfrm>
        </p:grpSpPr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124080" y="2666880"/>
                  <a:ext cx="28260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86" name=""/>
            <p:cNvSpPr/>
            <p:nvPr/>
          </p:nvSpPr>
          <p:spPr>
            <a:xfrm>
              <a:off x="3429000" y="2895480"/>
              <a:ext cx="914400" cy="7621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486480" y="3444840"/>
            <a:ext cx="1994040" cy="1163520"/>
            <a:chOff x="6486480" y="3444840"/>
            <a:chExt cx="1994040" cy="1163520"/>
          </a:xfrm>
        </p:grpSpPr>
        <p:sp>
          <p:nvSpPr>
            <p:cNvPr id="188" name=""/>
            <p:cNvSpPr/>
            <p:nvPr/>
          </p:nvSpPr>
          <p:spPr>
            <a:xfrm>
              <a:off x="6486480" y="3444840"/>
              <a:ext cx="199404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…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THER OPTIONS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9" name=""/>
                <p:cNvSpPr txBox="1"/>
                <p:nvPr/>
              </p:nvSpPr>
              <p:spPr>
                <a:xfrm>
                  <a:off x="6858000" y="3733920"/>
                  <a:ext cx="1219320" cy="874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</m:den>
                          </m:f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  <m:r>
                            <m:t xml:space="preserve">k</m:t>
                          </m:r>
                          <m:r>
                            <m:t xml:space="preserve">∗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343400" y="4572000"/>
                <a:ext cx="236232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KCL: 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HM'S: 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k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1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465120" y="198360"/>
          <a:ext cx="3159000" cy="23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198360"/>
                    <a:ext cx="3159000" cy="236376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905120" y="838080"/>
            <a:ext cx="1066680" cy="175284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0" y="48"/>
                </a:moveTo>
                <a:lnTo>
                  <a:pt x="0" y="1104"/>
                </a:lnTo>
                <a:lnTo>
                  <a:pt x="672" y="1104"/>
                </a:lnTo>
                <a:lnTo>
                  <a:pt x="672" y="0"/>
                </a:lnTo>
                <a:lnTo>
                  <a:pt x="48" y="0"/>
                </a:ln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590920" y="685800"/>
                <a:ext cx="10285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54080" y="2714760"/>
                <a:ext cx="40766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OLTAGE  DIVIDER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9" name=""/>
          <p:cNvGraphicFramePr/>
          <p:nvPr/>
        </p:nvGraphicFramePr>
        <p:xfrm>
          <a:off x="4724280" y="3276720"/>
          <a:ext cx="3138480" cy="21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276720"/>
                    <a:ext cx="3138480" cy="21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6172200" y="3809880"/>
            <a:ext cx="1676520" cy="1524240"/>
          </a:xfrm>
          <a:custGeom>
            <a:avLst/>
            <a:gdLst/>
            <a:ahLst/>
            <a:rect l="l" t="t" r="r" b="b"/>
            <a:pathLst>
              <a:path w="1056" h="960">
                <a:moveTo>
                  <a:pt x="0" y="48"/>
                </a:moveTo>
                <a:lnTo>
                  <a:pt x="48" y="432"/>
                </a:lnTo>
                <a:lnTo>
                  <a:pt x="576" y="480"/>
                </a:lnTo>
                <a:lnTo>
                  <a:pt x="624" y="960"/>
                </a:lnTo>
                <a:lnTo>
                  <a:pt x="1056" y="960"/>
                </a:lnTo>
                <a:lnTo>
                  <a:pt x="1056" y="0"/>
                </a:lnTo>
                <a:lnTo>
                  <a:pt x="96" y="48"/>
                </a:lnTo>
              </a:path>
            </a:pathLst>
          </a:custGeom>
          <a:noFill/>
          <a:ln w="255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934320" y="3733920"/>
                <a:ext cx="114300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724280" y="5521320"/>
                <a:ext cx="41148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RRENT DIVIDER: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4978800" y="717480"/>
            <a:ext cx="347256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LEARNING  BY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2514600" y="380880"/>
          <a:ext cx="472428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80880"/>
                    <a:ext cx="47242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18720" y="152280"/>
            <a:ext cx="35946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N EXAMPLE OF “BACKTRACKING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23960" y="3571920"/>
          <a:ext cx="479124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960" y="3571920"/>
                    <a:ext cx="4791240" cy="542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2690640" y="4114800"/>
            <a:ext cx="44481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Console"/>
              </a:rPr>
              <a:t>A STRATEGY.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ALWAYS ASK: “WHAT ELSE CAN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MPUTE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819520" y="4702320"/>
                <a:ext cx="104112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819520" y="5029200"/>
                <a:ext cx="647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16" name=""/>
          <p:cNvGrpSpPr/>
          <p:nvPr/>
        </p:nvGrpSpPr>
        <p:grpSpPr>
          <a:xfrm>
            <a:off x="3886200" y="1638360"/>
            <a:ext cx="685800" cy="1562040"/>
            <a:chOff x="3886200" y="1638360"/>
            <a:chExt cx="685800" cy="1562040"/>
          </a:xfrm>
        </p:grpSpPr>
        <p:sp>
          <p:nvSpPr>
            <p:cNvPr id="217" name=""/>
            <p:cNvSpPr/>
            <p:nvPr/>
          </p:nvSpPr>
          <p:spPr>
            <a:xfrm>
              <a:off x="4038480" y="1676520"/>
              <a:ext cx="533520" cy="15238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3886200" y="1638360"/>
                  <a:ext cx="507960" cy="25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819520" y="5562720"/>
                <a:ext cx="11430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181480" y="1600200"/>
                <a:ext cx="73656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819520" y="5943600"/>
                <a:ext cx="106668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255920" y="1054080"/>
                <a:ext cx="303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724280" y="2743200"/>
                <a:ext cx="35568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4876920" y="4635360"/>
                <a:ext cx="114300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029200" y="838080"/>
                <a:ext cx="736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876920" y="4971960"/>
                <a:ext cx="7617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z</m:t>
                            </m:r>
                          </m:sub>
                        </m:sSub>
                      </m:num>
                      <m:den>
                        <m:r>
                          <m:t xml:space="preserve">4</m:t>
                        </m:r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095880" y="457200"/>
                <a:ext cx="76212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876920" y="5562720"/>
                <a:ext cx="107316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124080" y="762120"/>
                <a:ext cx="83844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876920" y="5886360"/>
                <a:ext cx="2209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z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228760" y="220500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2" name=""/>
          <p:cNvGrpSpPr/>
          <p:nvPr/>
        </p:nvGrpSpPr>
        <p:grpSpPr>
          <a:xfrm>
            <a:off x="5257800" y="2133720"/>
            <a:ext cx="1523880" cy="1143000"/>
            <a:chOff x="5257800" y="2133720"/>
            <a:chExt cx="1523880" cy="1143000"/>
          </a:xfrm>
        </p:grpSpPr>
        <p:sp>
          <p:nvSpPr>
            <p:cNvPr id="233" name=""/>
            <p:cNvSpPr/>
            <p:nvPr/>
          </p:nvSpPr>
          <p:spPr>
            <a:xfrm>
              <a:off x="5257800" y="2133720"/>
              <a:ext cx="990720" cy="114300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5791320" y="2819520"/>
                  <a:ext cx="9903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35" name="geaux" descr=""/>
          <p:cNvPicPr/>
          <p:nvPr/>
        </p:nvPicPr>
        <p:blipFill>
          <a:blip r:embed="rId5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1T13:24:44Z</dcterms:created>
  <dc:creator>Jorge Aravena</dc:creator>
  <dc:description/>
  <dc:language>en-US</dc:language>
  <cp:lastModifiedBy>Jorge Aravena</cp:lastModifiedBy>
  <dcterms:modified xsi:type="dcterms:W3CDTF">2001-03-22T13:28:30Z</dcterms:modified>
  <cp:revision>22</cp:revision>
  <dc:subject/>
  <dc:title>Series/Parallel Resistor Reduction</dc:title>
</cp:coreProperties>
</file>