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png" ContentType="image/png"/>
  <Override PartName="/ppt/media/image3.png" ContentType="image/png"/>
  <Override PartName="/ppt/media/image26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94D6-1B3F-4EB9-ADC0-1DAA80B0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016-A918-4196-A3D9-154DEB58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D40-1B6B-4579-B2D3-230C03B2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3293-9C71-4BF7-ADA9-378D699C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83F-DEED-4A07-8B4C-A11CFFBC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256-B0D6-4CFA-8785-16A44AC9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48A-71BD-4C1D-9B63-4DFB0269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03E-F6B2-4A81-AA25-95847BE7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0AC2-F20C-46B9-829D-61DCF299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D2A1-FBDE-4FAD-B47D-4AA34F9F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9CD-744A-41AE-AE43-463F14DD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016-A8F7-459F-93D0-17D0ED24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03B8-A9E5-49F8-A4CF-93AF81289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image" Target="../media/image26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0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8360" y="73080"/>
            <a:ext cx="315108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ISTIVE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3200" y="609480"/>
            <a:ext cx="87408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Here we introduce the basic concepts and laws that are fundamental to circuit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9800" y="1447920"/>
            <a:ext cx="23144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LEARNING 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1981080"/>
            <a:ext cx="815328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HM’S LAW - DEFINES THE SIMPLEST PASSIVE ELEMENT: THE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2693880"/>
            <a:ext cx="8153280" cy="609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’S LAWS - THE FUNDAMENTAL CIRCUIT CONSERVATION LAWS- KIRCHHOFF CURRENT (KCL) AND KIRCHHOFF VOLTAGE (KV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375000"/>
            <a:ext cx="769608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LEARN TO ANALYZE THE SIMPLEST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- THE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NODE-PAIR - THE CURRENT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4272120"/>
            <a:ext cx="7772400" cy="581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RIES/PARALLEL RESISTOR COMBINATIONS - A TECHNIQUE TO REDUCE THE COMPLEXITY OF SOME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5943600"/>
            <a:ext cx="800100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IRCUITS WITH DEPENDENT SOURCES - (NOTHING VERY SPE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geaux" descr=""/>
          <p:cNvPicPr/>
          <p:nvPr/>
        </p:nvPicPr>
        <p:blipFill>
          <a:blip r:embed="rId1"/>
          <a:stretch/>
        </p:blipFill>
        <p:spPr>
          <a:xfrm>
            <a:off x="8412120" y="649116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466416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924440"/>
            <a:ext cx="7788240" cy="947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WYE - DELTA TRANSFORMATION - A TECHNIQUE TO REDUCE COMMON RESISTOR CONNECTIONS THAT ARE NEITHER SERIES NOR PARALL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76320" y="228600"/>
          <a:ext cx="7238880" cy="481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28600"/>
                    <a:ext cx="7238880" cy="481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"/>
          <p:cNvSpPr/>
          <p:nvPr/>
        </p:nvSpPr>
        <p:spPr>
          <a:xfrm>
            <a:off x="3484080" y="533520"/>
            <a:ext cx="38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harge. Required: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162920" y="838080"/>
          <a:ext cx="1981080" cy="8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838080"/>
                    <a:ext cx="1981080" cy="819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3330000" y="1461960"/>
            <a:ext cx="38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. Required: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566040" y="1828800"/>
          <a:ext cx="2577960" cy="32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66040" y="1828800"/>
                    <a:ext cx="2577960" cy="326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250080" y="2438280"/>
            <a:ext cx="56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iven: current, resistor, voltage. Required: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334120" y="2779560"/>
          <a:ext cx="3809880" cy="801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8">
                    <a:alphaModFix amt="50000"/>
                  </a:blip>
                  <a:stretch/>
                </p:blipFill>
                <p:spPr>
                  <a:xfrm>
                    <a:off x="5334120" y="2779560"/>
                    <a:ext cx="3809880" cy="8017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82" name=""/>
          <p:cNvGrpSpPr/>
          <p:nvPr/>
        </p:nvGrpSpPr>
        <p:grpSpPr>
          <a:xfrm>
            <a:off x="6840360" y="3581280"/>
            <a:ext cx="2312640" cy="1721160"/>
            <a:chOff x="6840360" y="3581280"/>
            <a:chExt cx="2312640" cy="1721160"/>
          </a:xfrm>
        </p:grpSpPr>
        <p:sp>
          <p:nvSpPr>
            <p:cNvPr id="283" name=""/>
            <p:cNvSpPr/>
            <p:nvPr/>
          </p:nvSpPr>
          <p:spPr>
            <a:xfrm>
              <a:off x="7373880" y="3581280"/>
              <a:ext cx="990360" cy="1155600"/>
            </a:xfrm>
            <a:custGeom>
              <a:avLst/>
              <a:gdLst/>
              <a:ahLst/>
              <a:rect l="l" t="t" r="r" b="b"/>
              <a:pathLst>
                <a:path w="624" h="728">
                  <a:moveTo>
                    <a:pt x="0" y="344"/>
                  </a:moveTo>
                  <a:cubicBezTo>
                    <a:pt x="24" y="536"/>
                    <a:pt x="48" y="728"/>
                    <a:pt x="96" y="728"/>
                  </a:cubicBezTo>
                  <a:cubicBezTo>
                    <a:pt x="144" y="728"/>
                    <a:pt x="232" y="464"/>
                    <a:pt x="288" y="344"/>
                  </a:cubicBezTo>
                  <a:cubicBezTo>
                    <a:pt x="344" y="224"/>
                    <a:pt x="376" y="0"/>
                    <a:pt x="432" y="8"/>
                  </a:cubicBezTo>
                  <a:cubicBezTo>
                    <a:pt x="488" y="16"/>
                    <a:pt x="556" y="204"/>
                    <a:pt x="624" y="392"/>
                  </a:cubicBez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4" name=""/>
            <p:cNvGraphicFramePr/>
            <p:nvPr/>
          </p:nvGraphicFramePr>
          <p:xfrm>
            <a:off x="7831080" y="4140000"/>
            <a:ext cx="139680" cy="139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831080" y="4140000"/>
                      <a:ext cx="139680" cy="139680"/>
                    </a:xfrm>
                    <a:prstGeom prst="rect">
                      <a:avLst/>
                    </a:prstGeom>
                    <a:ln w="9360">
                      <a:solidFill>
                        <a:srgbClr val="3333cc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6840360" y="4127400"/>
              <a:ext cx="213372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29800" y="4903560"/>
              <a:ext cx="2023200" cy="3988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ketch for -sin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7526160" y="3593520"/>
              <a:ext cx="0" cy="1219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831080" y="3669840"/>
              <a:ext cx="0" cy="10666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95440" y="5181480"/>
            <a:ext cx="59385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 the time interval, current from a to b is negativ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85400" y="5653080"/>
            <a:ext cx="394488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flows from b 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oint b has the higher volt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720" y="5958000"/>
            <a:ext cx="26496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PLE QUE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stop" descr=""/>
          <p:cNvPicPr/>
          <p:nvPr/>
        </p:nvPicPr>
        <p:blipFill>
          <a:blip r:embed="rId11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87000" y="182520"/>
            <a:ext cx="155232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757080"/>
          <a:ext cx="1752840" cy="11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57080"/>
                    <a:ext cx="1752840" cy="11480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59480" y="189396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resistor is a passive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acterized by an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lation between the voltage acr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ts terminals and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rough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66760" y="3352680"/>
                <a:ext cx="42163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General  Model for a Resisto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95920" y="3733920"/>
            <a:ext cx="4204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linear resistor obeys 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676520" y="4114800"/>
                <a:ext cx="10540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371880" y="4495680"/>
            <a:ext cx="40820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stant, R, is called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ance of the component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s measured in units of Oh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886200" y="5029200"/>
                <a:ext cx="3808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159480" y="54100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rom a dimensional point of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s is a derived unit of Volt/A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257800" y="685800"/>
                <a:ext cx="2679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andard Multiples of Ohm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Mega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       Kilo Ohm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959360" y="1828800"/>
                <a:ext cx="31878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 common occurrence   is 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ol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sulting in resistance in 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727880" y="3092400"/>
            <a:ext cx="152172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5640" y="3417840"/>
            <a:ext cx="444780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instead of expressing voltage 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function of current one exp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urrent in terms of voltage, OHM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aw can be wri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407280" y="4495680"/>
                <a:ext cx="6332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159480" y="609588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Since the equation is algebra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Lucida Console"/>
              </a:rPr>
              <a:t>the time dependence can be o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952880" y="5029200"/>
            <a:ext cx="3543480" cy="1828440"/>
            <a:chOff x="4952880" y="5029200"/>
            <a:chExt cx="3543480" cy="1828440"/>
          </a:xfrm>
        </p:grpSpPr>
        <mc:AlternateContent>
          <mc:Choice xmlns:a14="http://schemas.microsoft.com/office/drawing/2010/main" Requires="a14">
            <p:sp>
              <p:nvSpPr>
                <p:cNvPr id="72" name=""/>
                <p:cNvSpPr txBox="1"/>
                <p:nvPr/>
              </p:nvSpPr>
              <p:spPr>
                <a:xfrm>
                  <a:off x="4952880" y="5029200"/>
                  <a:ext cx="3543480" cy="12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We define   </m:t>
                          </m:r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  <m:r>
                            <m:rPr>
                              <m:lit/>
                              <m:nor/>
                            </m:rPr>
                            <m:t xml:space="preserve">  as Conductanc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f the component and write</m:t>
                          </m:r>
                        </m:e>
                        <m:e>
                          <m:r>
                            <m:t xml:space="preserve"> </m:t>
                          </m:r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Gv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3" name=""/>
            <p:cNvSpPr/>
            <p:nvPr/>
          </p:nvSpPr>
          <p:spPr>
            <a:xfrm>
              <a:off x="5034960" y="6276960"/>
              <a:ext cx="33505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unit of conductance 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ieme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95360" y="257040"/>
          <a:ext cx="8153280" cy="634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257040"/>
                    <a:ext cx="8153280" cy="634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152280" y="0"/>
          <a:ext cx="2224080" cy="25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0"/>
                    <a:ext cx="22240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687760" y="76320"/>
            <a:ext cx="38383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ome practical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9240" y="2228760"/>
            <a:ext cx="10951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0"/>
          <a:ext cx="2971800" cy="20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971800" cy="20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128320" y="117360"/>
            <a:ext cx="27867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tice passive 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6360" y="117360"/>
            <a:ext cx="388404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wo special resisto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424480" y="685800"/>
          <a:ext cx="2782800" cy="18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24480" y="685800"/>
                    <a:ext cx="27828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638680" y="2514600"/>
                <a:ext cx="5968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7391520" y="2514600"/>
                <a:ext cx="58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91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-149400" y="2209320"/>
            <a:ext cx="7434000" cy="3809880"/>
            <a:chOff x="-149400" y="2209320"/>
            <a:chExt cx="7434000" cy="3809880"/>
          </a:xfrm>
        </p:grpSpPr>
        <p:sp>
          <p:nvSpPr>
            <p:cNvPr id="95" name=""/>
            <p:cNvSpPr/>
            <p:nvPr/>
          </p:nvSpPr>
          <p:spPr>
            <a:xfrm>
              <a:off x="-149400" y="4647960"/>
              <a:ext cx="4876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908000" y="220932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-73080" y="3352680"/>
              <a:ext cx="4800600" cy="2209680"/>
            </a:xfrm>
            <a:prstGeom prst="line">
              <a:avLst/>
            </a:prstGeom>
            <a:ln w="34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8360" y="3200040"/>
              <a:ext cx="1003320" cy="990720"/>
            </a:xfrm>
            <a:custGeom>
              <a:avLst/>
              <a:gdLst/>
              <a:ahLst/>
              <a:rect l="l" t="t" r="r" b="b"/>
              <a:pathLst>
                <a:path w="632" h="624">
                  <a:moveTo>
                    <a:pt x="0" y="624"/>
                  </a:moveTo>
                  <a:cubicBezTo>
                    <a:pt x="212" y="460"/>
                    <a:pt x="424" y="296"/>
                    <a:pt x="528" y="192"/>
                  </a:cubicBezTo>
                  <a:cubicBezTo>
                    <a:pt x="632" y="88"/>
                    <a:pt x="628" y="44"/>
                    <a:pt x="624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-73080" y="5181480"/>
              <a:ext cx="838440" cy="761760"/>
            </a:xfrm>
            <a:custGeom>
              <a:avLst/>
              <a:gdLst/>
              <a:ahLst/>
              <a:rect l="l" t="t" r="r" b="b"/>
              <a:pathLst>
                <a:path w="528" h="480">
                  <a:moveTo>
                    <a:pt x="528" y="0"/>
                  </a:moveTo>
                  <a:cubicBezTo>
                    <a:pt x="452" y="32"/>
                    <a:pt x="376" y="64"/>
                    <a:pt x="288" y="144"/>
                  </a:cubicBezTo>
                  <a:cubicBezTo>
                    <a:pt x="200" y="224"/>
                    <a:pt x="48" y="424"/>
                    <a:pt x="0" y="48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55760" y="3600360"/>
              <a:ext cx="3228840" cy="3988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approxim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1720" y="5597280"/>
              <a:ext cx="3686040" cy="398880"/>
            </a:xfrm>
            <a:prstGeom prst="rect">
              <a:avLst/>
            </a:prstGeom>
            <a:solidFill>
              <a:srgbClr val="ffcccc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ctual v-I relation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28440" y="5047920"/>
              <a:ext cx="200952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Linear r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74680" y="373356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840960" y="3733200"/>
              <a:ext cx="0" cy="1600200"/>
            </a:xfrm>
            <a:prstGeom prst="line">
              <a:avLst/>
            </a:prstGeom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4422600" y="4776480"/>
                  <a:ext cx="150840" cy="17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1603080" y="2361960"/>
                  <a:ext cx="1252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" name=""/>
          <p:cNvGrpSpPr/>
          <p:nvPr/>
        </p:nvGrpSpPr>
        <p:grpSpPr>
          <a:xfrm>
            <a:off x="2064600" y="2610000"/>
            <a:ext cx="7061040" cy="3336120"/>
            <a:chOff x="2064600" y="2610000"/>
            <a:chExt cx="7061040" cy="3336120"/>
          </a:xfrm>
        </p:grpSpPr>
        <p:sp>
          <p:nvSpPr>
            <p:cNvPr id="108" name=""/>
            <p:cNvSpPr/>
            <p:nvPr/>
          </p:nvSpPr>
          <p:spPr>
            <a:xfrm>
              <a:off x="4144320" y="5029200"/>
              <a:ext cx="4981320" cy="91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Ohm’s Law is an approximation val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while voltages and currents re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 the Linear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64600" y="2610000"/>
              <a:ext cx="1856880" cy="70380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A touch 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Lucida Console"/>
                </a:rPr>
                <a:t>reality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2520" y="152280"/>
            <a:ext cx="37162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 PROBLEM SOLVING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8600" y="609480"/>
                <a:ext cx="3733920" cy="3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HM's  La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2240" y="990720"/>
            <a:ext cx="4569840" cy="580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equation and three varia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the third can be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320" y="1600200"/>
          <a:ext cx="3276360" cy="21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600200"/>
                    <a:ext cx="3276360" cy="21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828800" y="2692440"/>
                <a:ext cx="9907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2823120" y="2122560"/>
            <a:ext cx="17658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tice u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 rot="10800000">
                <a:off x="1828800" y="2285640"/>
                <a:ext cx="67320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8" name=""/>
          <p:cNvGraphicFramePr/>
          <p:nvPr/>
        </p:nvGraphicFramePr>
        <p:xfrm>
          <a:off x="304920" y="4035600"/>
          <a:ext cx="2971800" cy="19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5600"/>
                    <a:ext cx="29718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09480" y="6095880"/>
                <a:ext cx="5716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905120" y="5257800"/>
                <a:ext cx="99036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4800600" y="152280"/>
          <a:ext cx="320040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152280"/>
                    <a:ext cx="320040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781680" y="609480"/>
                <a:ext cx="532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095880" y="985680"/>
            <a:ext cx="0" cy="758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5638680" y="1741320"/>
                <a:ext cx="72252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4579200" y="20574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etermine direction of the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sing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334120" y="3668760"/>
          <a:ext cx="3276360" cy="28209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3668760"/>
                    <a:ext cx="3276360" cy="282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geaux" descr=""/>
          <p:cNvPicPr/>
          <p:nvPr/>
        </p:nvPicPr>
        <p:blipFill>
          <a:blip r:embed="rId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67560" y="460044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9480" y="4944960"/>
            <a:ext cx="432612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NDUCTANCE IN SIEMENS, VOL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N VOLTS. HENCE CURRENT IN AMP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523880" y="5602320"/>
                <a:ext cx="9907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4648320" y="228600"/>
            <a:ext cx="4114440" cy="2971440"/>
            <a:chOff x="4648320" y="228600"/>
            <a:chExt cx="4114440" cy="2971440"/>
          </a:xfrm>
        </p:grpSpPr>
        <p:grpSp>
          <p:nvGrpSpPr>
            <p:cNvPr id="137" name=""/>
            <p:cNvGrpSpPr/>
            <p:nvPr/>
          </p:nvGrpSpPr>
          <p:grpSpPr>
            <a:xfrm>
              <a:off x="4648320" y="685800"/>
              <a:ext cx="4114440" cy="2514240"/>
              <a:chOff x="4648320" y="685800"/>
              <a:chExt cx="4114440" cy="2514240"/>
            </a:xfrm>
          </p:grpSpPr>
          <p:graphicFrame>
            <p:nvGraphicFramePr>
              <p:cNvPr id="138" name=""/>
              <p:cNvGraphicFramePr/>
              <p:nvPr/>
            </p:nvGraphicFramePr>
            <p:xfrm>
              <a:off x="4648320" y="685800"/>
              <a:ext cx="4114440" cy="2514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9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4648320" y="685800"/>
                        <a:ext cx="411444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7952400" y="1866240"/>
                    <a:ext cx="309600" cy="255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aphicFrame>
          <p:nvGraphicFramePr>
            <p:cNvPr id="141" name=""/>
            <p:cNvGraphicFramePr/>
            <p:nvPr/>
          </p:nvGraphicFramePr>
          <p:xfrm>
            <a:off x="5791320" y="228600"/>
            <a:ext cx="2224080" cy="457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791320" y="22860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43" name=""/>
          <p:cNvSpPr/>
          <p:nvPr/>
        </p:nvSpPr>
        <p:spPr>
          <a:xfrm>
            <a:off x="477360" y="3297240"/>
            <a:ext cx="41583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IVEN VOLTAGE AND CONDUC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3440" y="3646440"/>
            <a:ext cx="3594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FERENCE DIRECTIONS SATIS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523880" y="4267080"/>
            <a:ext cx="2438280" cy="337320"/>
            <a:chOff x="1523880" y="4267080"/>
            <a:chExt cx="2438280" cy="337320"/>
          </a:xfrm>
        </p:grpSpPr>
        <mc:AlternateContent>
          <mc:Choice xmlns:a14="http://schemas.microsoft.com/office/drawing/2010/main" Requires="a14">
            <p:sp>
              <p:nvSpPr>
                <p:cNvPr id="146" name=""/>
                <p:cNvSpPr txBox="1"/>
                <p:nvPr/>
              </p:nvSpPr>
              <p:spPr>
                <a:xfrm>
                  <a:off x="1523880" y="4307040"/>
                  <a:ext cx="11052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G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"/>
            <p:cNvSpPr/>
            <p:nvPr/>
          </p:nvSpPr>
          <p:spPr>
            <a:xfrm>
              <a:off x="2684160" y="4267080"/>
              <a:ext cx="1278000" cy="33732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5600" y="685800"/>
            <a:ext cx="3578400" cy="2518920"/>
            <a:chOff x="5565600" y="685800"/>
            <a:chExt cx="3578400" cy="2518920"/>
          </a:xfrm>
        </p:grpSpPr>
        <p:sp>
          <p:nvSpPr>
            <p:cNvPr id="149" name=""/>
            <p:cNvSpPr/>
            <p:nvPr/>
          </p:nvSpPr>
          <p:spPr>
            <a:xfrm>
              <a:off x="5565600" y="685800"/>
              <a:ext cx="98748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690480"/>
              <a:ext cx="1371600" cy="251424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934320" y="1676520"/>
            <a:ext cx="380880" cy="838080"/>
            <a:chOff x="6934320" y="1676520"/>
            <a:chExt cx="380880" cy="838080"/>
          </a:xfrm>
        </p:grpSpPr>
        <mc:AlternateContent>
          <mc:Choice xmlns:a14="http://schemas.microsoft.com/office/drawing/2010/main" Requires="a14">
            <p:sp>
              <p:nvSpPr>
                <p:cNvPr id="152" name=""/>
                <p:cNvSpPr txBox="1"/>
                <p:nvPr/>
              </p:nvSpPr>
              <p:spPr>
                <a:xfrm>
                  <a:off x="6934320" y="16765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3" name=""/>
            <p:cNvSpPr/>
            <p:nvPr/>
          </p:nvSpPr>
          <p:spPr>
            <a:xfrm>
              <a:off x="7315200" y="16765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940280" y="3341520"/>
            <a:ext cx="12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HM’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6324480" y="3352680"/>
                <a:ext cx="110520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194440" y="3733920"/>
                <a:ext cx="30351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835400" y="3341520"/>
            <a:ext cx="9122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UNIT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geaux" descr=""/>
          <p:cNvPicPr/>
          <p:nvPr/>
        </p:nvPicPr>
        <p:blipFill>
          <a:blip r:embed="rId5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952880" y="4038480"/>
          <a:ext cx="3581640" cy="221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038480"/>
                    <a:ext cx="3581640" cy="22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"/>
          <p:cNvGrpSpPr/>
          <p:nvPr/>
        </p:nvGrpSpPr>
        <p:grpSpPr>
          <a:xfrm>
            <a:off x="5491440" y="4572000"/>
            <a:ext cx="2619000" cy="2133360"/>
            <a:chOff x="5491440" y="4572000"/>
            <a:chExt cx="2619000" cy="2133360"/>
          </a:xfrm>
        </p:grpSpPr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5791320" y="4572000"/>
                  <a:ext cx="295200" cy="13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4</m:t>
                          </m:r>
                          <m:r>
                            <m:t xml:space="preserve">V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5" name=""/>
            <p:cNvSpPr/>
            <p:nvPr/>
          </p:nvSpPr>
          <p:spPr>
            <a:xfrm>
              <a:off x="5491440" y="6124680"/>
              <a:ext cx="2619000" cy="5806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THE EXAMPLE COULD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GIVEN LIKE TH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781680" y="4876920"/>
            <a:ext cx="381240" cy="838080"/>
            <a:chOff x="6781680" y="4876920"/>
            <a:chExt cx="381240" cy="838080"/>
          </a:xfrm>
        </p:grpSpPr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6781680" y="4876920"/>
                  <a:ext cx="17640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−</m:t>
                          </m:r>
                        </m:e>
                        <m:e/>
                        <m:e>
                          <m:r>
                            <m:t xml:space="preserve">+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68" name=""/>
            <p:cNvSpPr/>
            <p:nvPr/>
          </p:nvSpPr>
          <p:spPr>
            <a:xfrm>
              <a:off x="7162920" y="487692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607160" y="5562720"/>
            <a:ext cx="1278000" cy="610200"/>
            <a:chOff x="7607160" y="5562720"/>
            <a:chExt cx="1278000" cy="610200"/>
          </a:xfrm>
        </p:grpSpPr>
        <mc:AlternateContent>
          <mc:Choice xmlns:a14="http://schemas.microsoft.com/office/drawing/2010/main" Requires="a14">
            <p:sp>
              <p:nvSpPr>
                <p:cNvPr id="170" name=""/>
                <p:cNvSpPr txBox="1"/>
                <p:nvPr/>
              </p:nvSpPr>
              <p:spPr>
                <a:xfrm>
                  <a:off x="7620120" y="5562720"/>
                  <a:ext cx="12445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Ri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71" name=""/>
            <p:cNvSpPr/>
            <p:nvPr/>
          </p:nvSpPr>
          <p:spPr>
            <a:xfrm>
              <a:off x="7607160" y="5835600"/>
              <a:ext cx="12780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OHM’S LA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80880" y="152280"/>
            <a:ext cx="3657600" cy="3133800"/>
            <a:chOff x="380880" y="152280"/>
            <a:chExt cx="3657600" cy="3133800"/>
          </a:xfrm>
        </p:grpSpPr>
        <p:graphicFrame>
          <p:nvGraphicFramePr>
            <p:cNvPr id="173" name=""/>
            <p:cNvGraphicFramePr/>
            <p:nvPr/>
          </p:nvGraphicFramePr>
          <p:xfrm>
            <a:off x="990720" y="152280"/>
            <a:ext cx="2224080" cy="457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90720" y="152280"/>
                      <a:ext cx="2224080" cy="457200"/>
                    </a:xfrm>
                    <a:prstGeom prst="rect">
                      <a:avLst/>
                    </a:prstGeom>
                    <a:ln w="1260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75" name=""/>
            <p:cNvGraphicFramePr/>
            <p:nvPr/>
          </p:nvGraphicFramePr>
          <p:xfrm>
            <a:off x="380880" y="609480"/>
            <a:ext cx="3657600" cy="267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0880" y="609480"/>
                      <a:ext cx="3657600" cy="267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77360" y="152280"/>
            <a:ext cx="359460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ND ELECTRIC 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520" y="533520"/>
            <a:ext cx="4447800" cy="1310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Resistors are passive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at can only absorb ener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ombining Ohm’s law and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xpressions for power we can der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everal useful expr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1905120"/>
                <a:ext cx="31240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r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Gv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hm's La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21960" y="2590920"/>
            <a:ext cx="481356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Lucida Console"/>
              </a:rPr>
              <a:t>Problem solving tip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: There are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variables (P,v,i,R) and two equ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any two variables one can fi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other t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6000" y="3745080"/>
                <a:ext cx="10792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 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355840" y="3745080"/>
                <a:ext cx="10047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133720" y="3973680"/>
                <a:ext cx="1600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04920" y="4811760"/>
                <a:ext cx="99036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5040360"/>
                <a:ext cx="175248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438280" y="4735440"/>
                <a:ext cx="965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iven 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057400" y="4964040"/>
                <a:ext cx="1981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  <m:r>
                      <m:t xml:space="preserve">,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600" y="5646600"/>
            <a:ext cx="4569840" cy="10674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If not given, the referen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direction for voltage or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an be chosen and the other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given by the passive sign conv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05200" y="65160"/>
            <a:ext cx="22532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MATTER OF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55520" y="457200"/>
            <a:ext cx="4569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orking with SI units Volt, Amp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att, Ohm, there is never a probl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One must be careful when u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multiples or sub multi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253120" y="1600200"/>
                <a:ext cx="283824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AMPLE: </m:t>
                    </m:r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4867920" y="1893960"/>
            <a:ext cx="4082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basic strategy is to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ll given variables in SI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870440" y="2514600"/>
                <a:ext cx="2679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613640" y="2590920"/>
                <a:ext cx="546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781520" y="2819520"/>
                <a:ext cx="3524400" cy="35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R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A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848720" y="3112920"/>
                <a:ext cx="129528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7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7200" y="65160"/>
            <a:ext cx="4569840" cy="2565360"/>
            <a:chOff x="7200" y="65160"/>
            <a:chExt cx="4569840" cy="2565360"/>
          </a:xfrm>
        </p:grpSpPr>
        <p:graphicFrame>
          <p:nvGraphicFramePr>
            <p:cNvPr id="201" name=""/>
            <p:cNvGraphicFramePr/>
            <p:nvPr/>
          </p:nvGraphicFramePr>
          <p:xfrm>
            <a:off x="304920" y="380880"/>
            <a:ext cx="3733560" cy="2249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80880"/>
                      <a:ext cx="3733560" cy="224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7200" y="65160"/>
              <a:ext cx="4569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DETERMINE CURRENT AND POWER ABSORB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BY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362320" y="1219320"/>
            <a:ext cx="306360" cy="811080"/>
            <a:chOff x="2362320" y="1219320"/>
            <a:chExt cx="306360" cy="811080"/>
          </a:xfrm>
        </p:grpSpPr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2362320" y="1219320"/>
                  <a:ext cx="176040" cy="81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+</m:t>
                          </m:r>
                        </m:e>
                        <m:e/>
                        <m:e>
                          <m:r>
                            <m:t xml:space="preserve">−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"/>
            <p:cNvSpPr/>
            <p:nvPr/>
          </p:nvSpPr>
          <p:spPr>
            <a:xfrm>
              <a:off x="2668680" y="129708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228600" y="2641680"/>
          <a:ext cx="200808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641680"/>
                    <a:ext cx="2008080" cy="48240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286000" y="2738520"/>
                <a:ext cx="685800" cy="2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28600" y="3200400"/>
                <a:ext cx="18032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089080" y="3200400"/>
                <a:ext cx="185436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286000" y="3468600"/>
                <a:ext cx="10159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13" name=""/>
          <p:cNvGraphicFramePr/>
          <p:nvPr/>
        </p:nvGraphicFramePr>
        <p:xfrm>
          <a:off x="228600" y="4038480"/>
          <a:ext cx="3990960" cy="221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4038480"/>
                    <a:ext cx="399096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"/>
          <p:cNvGrpSpPr/>
          <p:nvPr/>
        </p:nvGrpSpPr>
        <p:grpSpPr>
          <a:xfrm>
            <a:off x="1066680" y="4343400"/>
            <a:ext cx="762120" cy="1066680"/>
            <a:chOff x="1066680" y="4343400"/>
            <a:chExt cx="762120" cy="1066680"/>
          </a:xfrm>
        </p:grpSpPr>
        <p:sp>
          <p:nvSpPr>
            <p:cNvPr id="216" name=""/>
            <p:cNvSpPr/>
            <p:nvPr/>
          </p:nvSpPr>
          <p:spPr>
            <a:xfrm>
              <a:off x="1066680" y="4800600"/>
              <a:ext cx="533520" cy="6094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47920" y="4343400"/>
              <a:ext cx="380880" cy="304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666880" y="4724280"/>
            <a:ext cx="1524240" cy="9144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5410080"/>
            <a:ext cx="8380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00200" y="5410080"/>
                <a:ext cx="7221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52280" y="6135840"/>
                <a:ext cx="27939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971800" y="6172200"/>
                <a:ext cx="927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4114800"/>
                <a:ext cx="1333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295280" y="3962520"/>
                <a:ext cx="8002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5" name=""/>
          <p:cNvGrpSpPr/>
          <p:nvPr/>
        </p:nvGrpSpPr>
        <p:grpSpPr>
          <a:xfrm>
            <a:off x="4876920" y="228600"/>
            <a:ext cx="4079880" cy="1903320"/>
            <a:chOff x="4876920" y="228600"/>
            <a:chExt cx="4079880" cy="1903320"/>
          </a:xfrm>
        </p:grpSpPr>
        <p:graphicFrame>
          <p:nvGraphicFramePr>
            <p:cNvPr id="226" name=""/>
            <p:cNvGraphicFramePr/>
            <p:nvPr/>
          </p:nvGraphicFramePr>
          <p:xfrm>
            <a:off x="4876920" y="228600"/>
            <a:ext cx="4079880" cy="1903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228600"/>
                      <a:ext cx="4079880" cy="190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7848720" y="1523880"/>
                  <a:ext cx="53172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r>
                        <m:t xml:space="preserve">?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5943600" y="685800"/>
            <a:ext cx="2971800" cy="762120"/>
            <a:chOff x="5943600" y="685800"/>
            <a:chExt cx="2971800" cy="762120"/>
          </a:xfrm>
        </p:grpSpPr>
        <p:sp>
          <p:nvSpPr>
            <p:cNvPr id="230" name=""/>
            <p:cNvSpPr/>
            <p:nvPr/>
          </p:nvSpPr>
          <p:spPr>
            <a:xfrm>
              <a:off x="5943600" y="685800"/>
              <a:ext cx="129528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96080" y="1371600"/>
              <a:ext cx="1219320" cy="763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2133720"/>
                <a:ext cx="17654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4800600" y="838080"/>
            <a:ext cx="533520" cy="6858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29400" y="2133720"/>
                <a:ext cx="1701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A</m:t>
                        </m:r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8381880" y="2362320"/>
                <a:ext cx="722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572000" y="2819520"/>
                <a:ext cx="1295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7696080" y="1447920"/>
            <a:ext cx="762120" cy="30456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5867280" y="2793960"/>
                <a:ext cx="20066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[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7873920" y="2971800"/>
                <a:ext cx="1270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924680" y="3352680"/>
                <a:ext cx="7113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41" name=""/>
          <p:cNvGraphicFramePr/>
          <p:nvPr/>
        </p:nvGraphicFramePr>
        <p:xfrm>
          <a:off x="4724280" y="3733920"/>
          <a:ext cx="356256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24280" y="3733920"/>
                    <a:ext cx="356256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5867280" y="3886200"/>
            <a:ext cx="2438640" cy="685800"/>
            <a:chOff x="5867280" y="3886200"/>
            <a:chExt cx="2438640" cy="685800"/>
          </a:xfrm>
        </p:grpSpPr>
        <p:sp>
          <p:nvSpPr>
            <p:cNvPr id="244" name=""/>
            <p:cNvSpPr/>
            <p:nvPr/>
          </p:nvSpPr>
          <p:spPr>
            <a:xfrm>
              <a:off x="5867280" y="3886200"/>
              <a:ext cx="609840" cy="304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10280" y="4191120"/>
              <a:ext cx="1295640" cy="3808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086600" y="4952880"/>
                <a:ext cx="8110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7086600" y="5257800"/>
                <a:ext cx="161280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W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467480" y="6019920"/>
                <a:ext cx="83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4724280" y="5486400"/>
                <a:ext cx="800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724280" y="5791320"/>
                <a:ext cx="13338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6095880" y="5943600"/>
                <a:ext cx="62100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10280" y="4572000"/>
            <a:ext cx="457200" cy="30492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0"/>
            <a:ext cx="914400" cy="3808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66880" y="0"/>
            <a:ext cx="1905120" cy="45720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380880" y="685800"/>
          <a:ext cx="723924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239240" cy="21034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378160" y="3286080"/>
            <a:ext cx="253980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1640" y="4114800"/>
            <a:ext cx="487296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cognizing the type of probl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is an application of Ohm’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given Power and Volt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are asked for Resistance,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nd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104800" y="4038480"/>
            <a:ext cx="38034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sibly useful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00080" y="1295280"/>
            <a:ext cx="154764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P/V = 5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45280" y="609480"/>
            <a:ext cx="229896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= V/I = 2.4 O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53080" y="1828800"/>
                <a:ext cx="165420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urren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6398640" y="2362320"/>
            <a:ext cx="13906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=5*60[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geaux" descr=""/>
          <p:cNvPicPr/>
          <p:nvPr/>
        </p:nvPicPr>
        <p:blipFill>
          <a:blip r:embed="rId3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477120" y="4648320"/>
                <a:ext cx="18032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8:29:01Z</dcterms:created>
  <dc:creator>Jorge Aravena</dc:creator>
  <dc:description/>
  <dc:language>en-US</dc:language>
  <cp:lastModifiedBy>Jorge Aravena</cp:lastModifiedBy>
  <dcterms:modified xsi:type="dcterms:W3CDTF">2001-03-22T13:25:54Z</dcterms:modified>
  <cp:revision>19</cp:revision>
  <dc:subject/>
  <dc:title>No Slide Title</dc:title>
</cp:coreProperties>
</file>