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png" ContentType="image/png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C3F4-01C2-4A91-8280-3F6EDF04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809-F332-4148-A1E2-5F3B4BF4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CEFA-F477-4753-8A00-89B701DC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3CA-9B20-44EE-88EB-09B41DE63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B65-2BD4-4B08-BDCA-DECAC1DE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1BA-F208-45C0-BE2D-0466AAE7D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8F5A-8D21-4FDD-8B04-B704C71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D5CD-66D3-46BF-AEF2-BEA7B54F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83E-3375-469C-A5EF-3C403080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80C-33B5-48F6-8DE5-2B5DC3D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4D9-9279-4B25-A733-103BDC02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22E-5A84-4B8E-9611-39C1D493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3789-3932-4505-8EF4-30142E5D7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7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3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4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46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53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65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68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7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4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18:43:10Z</dcterms:created>
  <dc:creator>student</dc:creator>
  <dc:description/>
  <dc:language>en-US</dc:language>
  <cp:lastModifiedBy>Jorge Aravena</cp:lastModifiedBy>
  <cp:lastPrinted>2001-01-02T18:27:37Z</cp:lastPrinted>
  <dcterms:modified xsi:type="dcterms:W3CDTF">2001-03-10T22:24:36Z</dcterms:modified>
  <cp:revision>16</cp:revision>
  <dc:subject/>
  <dc:title>No Slide Title</dc:title>
</cp:coreProperties>
</file>