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.png" ContentType="image/png"/>
  <Override PartName="/ppt/media/image3.png" ContentType="image/png"/>
  <Override PartName="/ppt/media/image33.png" ContentType="image/png"/>
  <Override PartName="/ppt/media/image27.wmf" ContentType="image/x-wmf"/>
  <Override PartName="/ppt/media/image4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7.wmf" ContentType="image/x-wmf"/>
  <Override PartName="/ppt/media/image10.png" ContentType="image/png"/>
  <Override PartName="/ppt/media/image47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50.png" ContentType="image/png"/>
  <Override PartName="/ppt/media/image40.png" ContentType="image/png"/>
  <Override PartName="/ppt/media/image8.wmf" ContentType="image/x-wmf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13.png" ContentType="image/png"/>
  <Override PartName="/ppt/media/image53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374-13F7-433E-8D75-AA812383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7A3-C3E6-4E38-A8CA-7710A271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BF6-9137-4206-A727-5DF79C57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DBB-3CA2-4E39-897C-F33BB3C8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966-253C-4C49-90A0-9168EF246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6F11-68FE-4D76-9AB5-A18BA787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0CF-887D-4FBE-908E-77240550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E5D-C319-4B1A-B5DA-566C4C22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807-A9DB-480F-B41F-CC61390A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5BD5-8F98-49AB-99EE-EDA981B2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6536-A7E2-4431-ACC0-EEDDBEA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99A-F278-4A4E-B7DF-28AEB8D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1B9D-8E41-41E4-A378-5458477D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png"/><Relationship Id="rId15" Type="http://schemas.openxmlformats.org/officeDocument/2006/relationships/image" Target="../media/image1.png"/><Relationship Id="rId1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8580960" y="6084720"/>
            <a:ext cx="563040" cy="773280"/>
            <a:chOff x="8580960" y="6084720"/>
            <a:chExt cx="563040" cy="773280"/>
          </a:xfrm>
        </p:grpSpPr>
        <p:pic>
          <p:nvPicPr>
            <p:cNvPr id="283" name="stop" descr=""/>
            <p:cNvPicPr/>
            <p:nvPr/>
          </p:nvPicPr>
          <p:blipFill>
            <a:blip r:embed="rId3"/>
            <a:stretch/>
          </p:blipFill>
          <p:spPr>
            <a:xfrm>
              <a:off x="8629560" y="634356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8580960" y="6084720"/>
              <a:ext cx="546480" cy="33732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K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174760" y="519120"/>
            <a:ext cx="482580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VOLTAGE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8960" y="1616040"/>
            <a:ext cx="749592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42000" y="3402000"/>
            <a:ext cx="53013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IS IS A CONSERVATION OF ENERGY PRINCI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ENERGY CANNOT BE CREATE NOR DESTROY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9520" y="141120"/>
            <a:ext cx="34725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IRCHHOFF VOLTAGE LAW (KV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040" y="457200"/>
            <a:ext cx="45547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IS A CONSERVATION OF ENERGY PRINC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00" y="777960"/>
            <a:ext cx="47678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POSITIVE CHARGE GAINS ENERGY AS IT MO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A POINT WITH HIGHER VOLTAGE AND REL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NERGY IF IT MOVES TO A POINT WITH 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219320" y="1752480"/>
          <a:ext cx="199368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1993680" cy="1652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33520" y="4114800"/>
          <a:ext cx="358128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114800"/>
                    <a:ext cx="3581280" cy="15843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410080" y="304920"/>
          <a:ext cx="2667240" cy="199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304920"/>
                    <a:ext cx="2667240" cy="19936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302080" y="59688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7162920" y="838080"/>
            <a:ext cx="380880" cy="762120"/>
          </a:xfrm>
          <a:prstGeom prst="line">
            <a:avLst/>
          </a:prstGeom>
          <a:ln w="2232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7816680" y="1436760"/>
                <a:ext cx="1143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H="1">
            <a:off x="6248520" y="1752480"/>
            <a:ext cx="1218960" cy="0"/>
          </a:xfrm>
          <a:prstGeom prst="line">
            <a:avLst/>
          </a:prstGeom>
          <a:ln w="255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388200" y="2205000"/>
                <a:ext cx="1117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W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5442120" y="15840"/>
            <a:ext cx="271116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THOUGHT EXPERIMEN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890240" y="2606760"/>
            <a:ext cx="4021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F THE CHARGE COMES BACK TO THE S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ITIAL POINT THE NET ENERGY GA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ZERO (Conservative networ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86640" y="3368520"/>
            <a:ext cx="42346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WISE THE CHARGE COULD END UP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FINITE ENERGY, OR SUPPLY AN 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MOUNT OF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5587920" y="4110120"/>
                <a:ext cx="2171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965120" y="4664160"/>
            <a:ext cx="38077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: THE ALGEBRAIC SUM OF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ROPS AROUND ANY LOOP MUST BE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334120" y="5337000"/>
          <a:ext cx="3276360" cy="1197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337000"/>
                    <a:ext cx="3276360" cy="119700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11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480960" y="-57240"/>
          <a:ext cx="33051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-57240"/>
                    <a:ext cx="33051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923760" y="2957400"/>
                <a:ext cx="257184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17" name=""/>
          <p:cNvGraphicFramePr/>
          <p:nvPr/>
        </p:nvGraphicFramePr>
        <p:xfrm>
          <a:off x="-76320" y="3429000"/>
          <a:ext cx="4321440" cy="258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6320" y="3429000"/>
                    <a:ext cx="432144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225440" y="4400640"/>
                <a:ext cx="927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701880" y="3867120"/>
                <a:ext cx="93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379080" y="5883120"/>
            <a:ext cx="14608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OOP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bcdef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6248520"/>
          <a:ext cx="4149720" cy="417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6248520"/>
                    <a:ext cx="4149720" cy="417240"/>
                  </a:xfrm>
                  <a:prstGeom prst="rect">
                    <a:avLst/>
                  </a:prstGeom>
                  <a:ln w="9360">
                    <a:solidFill>
                      <a:srgbClr val="00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4572000" y="1219320"/>
          <a:ext cx="4321080" cy="258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1219320"/>
                    <a:ext cx="432108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638680" y="1828800"/>
            <a:ext cx="1397160" cy="1238400"/>
          </a:xfrm>
          <a:custGeom>
            <a:avLst/>
            <a:gdLst/>
            <a:ahLst/>
            <a:rect l="l" t="t" r="r" b="b"/>
            <a:pathLst>
              <a:path w="880" h="780">
                <a:moveTo>
                  <a:pt x="26" y="756"/>
                </a:moveTo>
                <a:cubicBezTo>
                  <a:pt x="79" y="602"/>
                  <a:pt x="5" y="502"/>
                  <a:pt x="2" y="367"/>
                </a:cubicBezTo>
                <a:cubicBezTo>
                  <a:pt x="0" y="253"/>
                  <a:pt x="2" y="138"/>
                  <a:pt x="2" y="24"/>
                </a:cubicBezTo>
                <a:cubicBezTo>
                  <a:pt x="795" y="16"/>
                  <a:pt x="672" y="251"/>
                  <a:pt x="797" y="0"/>
                </a:cubicBezTo>
                <a:cubicBezTo>
                  <a:pt x="880" y="250"/>
                  <a:pt x="867" y="487"/>
                  <a:pt x="867" y="756"/>
                </a:cubicBezTo>
                <a:cubicBezTo>
                  <a:pt x="772" y="739"/>
                  <a:pt x="675" y="749"/>
                  <a:pt x="579" y="733"/>
                </a:cubicBezTo>
                <a:cubicBezTo>
                  <a:pt x="436" y="738"/>
                  <a:pt x="293" y="738"/>
                  <a:pt x="151" y="756"/>
                </a:cubicBezTo>
                <a:cubicBezTo>
                  <a:pt x="133" y="768"/>
                  <a:pt x="118" y="780"/>
                  <a:pt x="96" y="78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30480" y="914400"/>
            <a:ext cx="41277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OOP DOES NOT HAVE TO BE 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7067520" y="1981080"/>
                <a:ext cx="32400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5486400" y="4648320"/>
                <a:ext cx="27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2819520" y="6172200"/>
            <a:ext cx="53316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30480" y="152280"/>
            <a:ext cx="4127760" cy="733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ROBLEM SOLVING TIP: KVL IS US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 DETERMINE A VOLTAGE - FIND A LOO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CLUDING THE UNKNOWN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5334120" y="3809880"/>
                <a:ext cx="32004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AMPLE: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RE  KNOWN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THE VOLTAGE 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3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8560" y="168120"/>
            <a:ext cx="4341240" cy="946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WHEN DISCUSSING KCL WE SA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AT NOT ALL POSSIBLE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INDEPENDENT. WE SHALL SEE THAT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SITUATION ARISES WHEN USING KV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0" y="1219320"/>
          <a:ext cx="4657680" cy="34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4657680" cy="34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"/>
          <p:cNvSpPr/>
          <p:nvPr/>
        </p:nvSpPr>
        <p:spPr>
          <a:xfrm>
            <a:off x="428760" y="2228760"/>
            <a:ext cx="1143000" cy="2075040"/>
          </a:xfrm>
          <a:custGeom>
            <a:avLst/>
            <a:gdLst/>
            <a:ahLst/>
            <a:rect l="l" t="t" r="r" b="b"/>
            <a:pathLst>
              <a:path w="720" h="1309">
                <a:moveTo>
                  <a:pt x="65" y="0"/>
                </a:moveTo>
                <a:cubicBezTo>
                  <a:pt x="278" y="23"/>
                  <a:pt x="469" y="39"/>
                  <a:pt x="688" y="39"/>
                </a:cubicBezTo>
                <a:cubicBezTo>
                  <a:pt x="691" y="335"/>
                  <a:pt x="692" y="631"/>
                  <a:pt x="696" y="927"/>
                </a:cubicBezTo>
                <a:cubicBezTo>
                  <a:pt x="697" y="992"/>
                  <a:pt x="701" y="1057"/>
                  <a:pt x="704" y="1122"/>
                </a:cubicBezTo>
                <a:cubicBezTo>
                  <a:pt x="711" y="1289"/>
                  <a:pt x="657" y="1286"/>
                  <a:pt x="720" y="1286"/>
                </a:cubicBezTo>
                <a:cubicBezTo>
                  <a:pt x="590" y="1288"/>
                  <a:pt x="460" y="1290"/>
                  <a:pt x="330" y="1293"/>
                </a:cubicBezTo>
                <a:cubicBezTo>
                  <a:pt x="252" y="1295"/>
                  <a:pt x="174" y="1297"/>
                  <a:pt x="96" y="1301"/>
                </a:cubicBezTo>
                <a:cubicBezTo>
                  <a:pt x="70" y="1302"/>
                  <a:pt x="18" y="1309"/>
                  <a:pt x="18" y="1309"/>
                </a:cubicBezTo>
                <a:cubicBezTo>
                  <a:pt x="0" y="942"/>
                  <a:pt x="11" y="569"/>
                  <a:pt x="11" y="2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304920" y="4648320"/>
          <a:ext cx="3394080" cy="61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648320"/>
                    <a:ext cx="3394080" cy="61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1676520" y="1930320"/>
            <a:ext cx="2430360" cy="2524320"/>
          </a:xfrm>
          <a:custGeom>
            <a:avLst/>
            <a:gdLst/>
            <a:ahLst/>
            <a:rect l="l" t="t" r="r" b="b"/>
            <a:pathLst>
              <a:path w="1531" h="1590">
                <a:moveTo>
                  <a:pt x="125" y="8"/>
                </a:moveTo>
                <a:cubicBezTo>
                  <a:pt x="512" y="18"/>
                  <a:pt x="899" y="8"/>
                  <a:pt x="1286" y="0"/>
                </a:cubicBezTo>
                <a:cubicBezTo>
                  <a:pt x="1507" y="8"/>
                  <a:pt x="1431" y="8"/>
                  <a:pt x="1512" y="8"/>
                </a:cubicBezTo>
                <a:cubicBezTo>
                  <a:pt x="1531" y="748"/>
                  <a:pt x="1520" y="221"/>
                  <a:pt x="1520" y="1590"/>
                </a:cubicBezTo>
                <a:cubicBezTo>
                  <a:pt x="1247" y="1580"/>
                  <a:pt x="975" y="1560"/>
                  <a:pt x="701" y="1551"/>
                </a:cubicBezTo>
                <a:cubicBezTo>
                  <a:pt x="468" y="1531"/>
                  <a:pt x="234" y="1513"/>
                  <a:pt x="0" y="1496"/>
                </a:cubicBezTo>
                <a:cubicBezTo>
                  <a:pt x="8" y="1493"/>
                  <a:pt x="23" y="1488"/>
                  <a:pt x="23" y="1488"/>
                </a:cubicBezTo>
                <a:cubicBezTo>
                  <a:pt x="11" y="1040"/>
                  <a:pt x="0" y="589"/>
                  <a:pt x="0" y="14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57200" y="5181480"/>
          <a:ext cx="3602160" cy="6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5181480"/>
                    <a:ext cx="360216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152280" y="1676520"/>
            <a:ext cx="4343400" cy="2895480"/>
          </a:xfrm>
          <a:custGeom>
            <a:avLst/>
            <a:gdLst/>
            <a:ahLst/>
            <a:rect l="l" t="t" r="r" b="b"/>
            <a:pathLst>
              <a:path w="2736" h="1824">
                <a:moveTo>
                  <a:pt x="96" y="0"/>
                </a:moveTo>
                <a:lnTo>
                  <a:pt x="2736" y="48"/>
                </a:lnTo>
                <a:lnTo>
                  <a:pt x="2736" y="1824"/>
                </a:lnTo>
                <a:lnTo>
                  <a:pt x="0" y="1824"/>
                </a:lnTo>
                <a:lnTo>
                  <a:pt x="0" y="24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57200" y="5691240"/>
          <a:ext cx="3581280" cy="55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691240"/>
                    <a:ext cx="3581280" cy="555480"/>
                  </a:xfrm>
                  <a:prstGeom prst="rect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8" name=""/>
          <p:cNvSpPr/>
          <p:nvPr/>
        </p:nvSpPr>
        <p:spPr>
          <a:xfrm>
            <a:off x="160920" y="6340320"/>
            <a:ext cx="40212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THIRD EQUATION IS THE SUM OF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THER TW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35320" y="168120"/>
            <a:ext cx="3594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SNEAK PREVIEW ON THE NUMBER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LY INDEPENDENT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5334120" y="679320"/>
                <a:ext cx="29080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 THE CIRCUIT DEFINE</m:t>
                        </m:r>
                      </m:e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      NUMBER OF NODES</m:t>
                        </m:r>
                      </m:e>
                      <m:e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      NUMBER OF BRANCH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029200" y="1752480"/>
                <a:ext cx="38098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CL EQUATIONS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LINEARLY INDEPENDENT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KVL EQU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4673880" y="3521160"/>
            <a:ext cx="4447800" cy="94644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: FOR THE CIRCUIT SHOWN WE HAV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 = 6, B = 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NCE THERE ARE ONLY TWO INDEPEN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V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"/>
          <p:cNvGraphicFramePr/>
          <p:nvPr/>
        </p:nvGraphicFramePr>
        <p:xfrm>
          <a:off x="0" y="762120"/>
          <a:ext cx="4689360" cy="28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4689360" cy="28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304920" y="304920"/>
                <a:ext cx="4044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THE VOLTAGE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1295280" y="1558800"/>
            <a:ext cx="720720" cy="841680"/>
          </a:xfrm>
          <a:custGeom>
            <a:avLst/>
            <a:gdLst/>
            <a:ahLst/>
            <a:rect l="l" t="t" r="r" b="b"/>
            <a:pathLst>
              <a:path w="454" h="530">
                <a:moveTo>
                  <a:pt x="33" y="0"/>
                </a:moveTo>
                <a:cubicBezTo>
                  <a:pt x="41" y="30"/>
                  <a:pt x="57" y="49"/>
                  <a:pt x="65" y="78"/>
                </a:cubicBezTo>
                <a:cubicBezTo>
                  <a:pt x="70" y="95"/>
                  <a:pt x="70" y="121"/>
                  <a:pt x="88" y="132"/>
                </a:cubicBezTo>
                <a:cubicBezTo>
                  <a:pt x="102" y="141"/>
                  <a:pt x="119" y="143"/>
                  <a:pt x="135" y="148"/>
                </a:cubicBezTo>
                <a:cubicBezTo>
                  <a:pt x="153" y="162"/>
                  <a:pt x="185" y="183"/>
                  <a:pt x="197" y="203"/>
                </a:cubicBezTo>
                <a:cubicBezTo>
                  <a:pt x="208" y="222"/>
                  <a:pt x="205" y="249"/>
                  <a:pt x="220" y="265"/>
                </a:cubicBezTo>
                <a:cubicBezTo>
                  <a:pt x="231" y="277"/>
                  <a:pt x="251" y="275"/>
                  <a:pt x="267" y="280"/>
                </a:cubicBezTo>
                <a:cubicBezTo>
                  <a:pt x="272" y="301"/>
                  <a:pt x="274" y="323"/>
                  <a:pt x="283" y="343"/>
                </a:cubicBezTo>
                <a:cubicBezTo>
                  <a:pt x="287" y="353"/>
                  <a:pt x="299" y="358"/>
                  <a:pt x="306" y="366"/>
                </a:cubicBezTo>
                <a:cubicBezTo>
                  <a:pt x="312" y="373"/>
                  <a:pt x="316" y="382"/>
                  <a:pt x="322" y="390"/>
                </a:cubicBezTo>
                <a:cubicBezTo>
                  <a:pt x="342" y="416"/>
                  <a:pt x="362" y="444"/>
                  <a:pt x="384" y="468"/>
                </a:cubicBezTo>
                <a:cubicBezTo>
                  <a:pt x="404" y="490"/>
                  <a:pt x="433" y="509"/>
                  <a:pt x="454" y="530"/>
                </a:cubicBezTo>
                <a:lnTo>
                  <a:pt x="0" y="506"/>
                </a:lnTo>
                <a:lnTo>
                  <a:pt x="0" y="7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914400" y="3666960"/>
          <a:ext cx="2973240" cy="7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666960"/>
                    <a:ext cx="2973240" cy="708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>
            <a:off x="1371600" y="1523880"/>
            <a:ext cx="2590920" cy="914400"/>
          </a:xfrm>
          <a:custGeom>
            <a:avLst/>
            <a:gdLst/>
            <a:ahLst/>
            <a:rect l="l" t="t" r="r" b="b"/>
            <a:pathLst>
              <a:path w="1632" h="576">
                <a:moveTo>
                  <a:pt x="0" y="0"/>
                </a:moveTo>
                <a:lnTo>
                  <a:pt x="672" y="576"/>
                </a:lnTo>
                <a:lnTo>
                  <a:pt x="1632" y="576"/>
                </a:lnTo>
                <a:lnTo>
                  <a:pt x="1584" y="48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457200" y="4429080"/>
          <a:ext cx="4067280" cy="619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429080"/>
                    <a:ext cx="4067280" cy="61920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329040" y="5054760"/>
            <a:ext cx="42346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IVEN THE CHOICE USE THE SIMPLEST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14600" y="1447920"/>
            <a:ext cx="1371600" cy="1295280"/>
          </a:xfrm>
          <a:custGeom>
            <a:avLst/>
            <a:gdLst/>
            <a:ahLst/>
            <a:rect l="l" t="t" r="r" b="b"/>
            <a:pathLst>
              <a:path w="864" h="816">
                <a:moveTo>
                  <a:pt x="0" y="768"/>
                </a:moveTo>
                <a:lnTo>
                  <a:pt x="864" y="0"/>
                </a:lnTo>
                <a:lnTo>
                  <a:pt x="816" y="816"/>
                </a:lnTo>
                <a:lnTo>
                  <a:pt x="144" y="81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5419800"/>
          <a:ext cx="2135160" cy="52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90720" y="5419800"/>
                    <a:ext cx="2135160" cy="523800"/>
                  </a:xfrm>
                  <a:prstGeom prst="rect">
                    <a:avLst/>
                  </a:prstGeom>
                  <a:ln w="2844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4886640" y="92160"/>
            <a:ext cx="4234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HANDLED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AME 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4665600" y="685800"/>
          <a:ext cx="4478400" cy="254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65600" y="685800"/>
                    <a:ext cx="447840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5562720" y="13716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0" y="0"/>
                </a:moveTo>
                <a:lnTo>
                  <a:pt x="720" y="0"/>
                </a:lnTo>
                <a:lnTo>
                  <a:pt x="720" y="816"/>
                </a:lnTo>
                <a:lnTo>
                  <a:pt x="48" y="816"/>
                </a:lnTo>
                <a:lnTo>
                  <a:pt x="48" y="144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638680" y="3352680"/>
          <a:ext cx="2617920" cy="482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638680" y="3352680"/>
                    <a:ext cx="2617920" cy="482760"/>
                  </a:xfrm>
                  <a:prstGeom prst="rect">
                    <a:avLst/>
                  </a:prstGeom>
                  <a:ln w="2844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7086600" y="1447920"/>
            <a:ext cx="1447920" cy="1218960"/>
          </a:xfrm>
          <a:custGeom>
            <a:avLst/>
            <a:gdLst/>
            <a:ahLst/>
            <a:rect l="l" t="t" r="r" b="b"/>
            <a:pathLst>
              <a:path w="912" h="768">
                <a:moveTo>
                  <a:pt x="96" y="0"/>
                </a:moveTo>
                <a:lnTo>
                  <a:pt x="912" y="0"/>
                </a:lnTo>
                <a:lnTo>
                  <a:pt x="912" y="768"/>
                </a:lnTo>
                <a:lnTo>
                  <a:pt x="0" y="768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5410080" y="4000680"/>
          <a:ext cx="3132360" cy="482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10080" y="4000680"/>
                    <a:ext cx="3132360" cy="482400"/>
                  </a:xfrm>
                  <a:prstGeom prst="rect">
                    <a:avLst/>
                  </a:prstGeom>
                  <a:ln w="2844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78" name="geaux" descr=""/>
          <p:cNvPicPr/>
          <p:nvPr/>
        </p:nvPicPr>
        <p:blipFill>
          <a:blip r:embed="rId1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76320" y="76320"/>
          <a:ext cx="264636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264636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819520" y="533520"/>
                <a:ext cx="15048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990720" y="609480"/>
            <a:ext cx="106668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0" y="0"/>
                </a:moveTo>
                <a:lnTo>
                  <a:pt x="672" y="576"/>
                </a:lnTo>
                <a:lnTo>
                  <a:pt x="672" y="48"/>
                </a:lnTo>
                <a:lnTo>
                  <a:pt x="96" y="48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95400" y="909720"/>
                <a:ext cx="1307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57600" y="914400"/>
                <a:ext cx="48888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990720" y="533520"/>
            <a:ext cx="1143000" cy="236196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720" y="0"/>
                </a:moveTo>
                <a:lnTo>
                  <a:pt x="0" y="1488"/>
                </a:lnTo>
                <a:lnTo>
                  <a:pt x="720" y="1488"/>
                </a:lnTo>
                <a:lnTo>
                  <a:pt x="720" y="144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857160" y="2509920"/>
                <a:ext cx="1333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3657600" y="1295280"/>
                <a:ext cx="4492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0" name=""/>
          <p:cNvGraphicFramePr/>
          <p:nvPr/>
        </p:nvGraphicFramePr>
        <p:xfrm>
          <a:off x="304920" y="3429000"/>
          <a:ext cx="3943080" cy="21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429000"/>
                    <a:ext cx="3943080" cy="21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376200" y="5938920"/>
                <a:ext cx="33051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_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990720" y="4038480"/>
            <a:ext cx="2286000" cy="914400"/>
          </a:xfrm>
          <a:custGeom>
            <a:avLst/>
            <a:gdLst/>
            <a:ahLst/>
            <a:rect l="l" t="t" r="r" b="b"/>
            <a:pathLst>
              <a:path w="1440" h="576">
                <a:moveTo>
                  <a:pt x="48" y="0"/>
                </a:moveTo>
                <a:lnTo>
                  <a:pt x="1440" y="576"/>
                </a:lnTo>
                <a:lnTo>
                  <a:pt x="0" y="576"/>
                </a:lnTo>
                <a:lnTo>
                  <a:pt x="0" y="96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914400" y="464328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2209680" y="3886200"/>
            <a:ext cx="129564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336"/>
                </a:moveTo>
                <a:lnTo>
                  <a:pt x="0" y="0"/>
                </a:lnTo>
                <a:lnTo>
                  <a:pt x="768" y="0"/>
                </a:lnTo>
                <a:lnTo>
                  <a:pt x="816" y="720"/>
                </a:lnTo>
                <a:lnTo>
                  <a:pt x="48" y="72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1752480" y="4110120"/>
                <a:ext cx="1714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397" name=""/>
          <p:cNvGraphicFramePr/>
          <p:nvPr/>
        </p:nvGraphicFramePr>
        <p:xfrm>
          <a:off x="4724280" y="152280"/>
          <a:ext cx="3938760" cy="196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152280"/>
                    <a:ext cx="393876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648320" y="1981080"/>
                <a:ext cx="15872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_______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660920" y="2362320"/>
                <a:ext cx="21207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UST  FIND 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FIR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5562720" y="685800"/>
            <a:ext cx="2057400" cy="1066680"/>
          </a:xfrm>
          <a:custGeom>
            <a:avLst/>
            <a:gdLst/>
            <a:ahLst/>
            <a:rect l="l" t="t" r="r" b="b"/>
            <a:pathLst>
              <a:path w="1296" h="672">
                <a:moveTo>
                  <a:pt x="0" y="624"/>
                </a:moveTo>
                <a:lnTo>
                  <a:pt x="0" y="0"/>
                </a:lnTo>
                <a:lnTo>
                  <a:pt x="1296" y="0"/>
                </a:lnTo>
                <a:lnTo>
                  <a:pt x="1296" y="672"/>
                </a:lnTo>
                <a:lnTo>
                  <a:pt x="96" y="672"/>
                </a:ln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4648320" y="2666880"/>
                <a:ext cx="3022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5410080" y="1981080"/>
                <a:ext cx="405000" cy="2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4883760" y="306396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SOURCES ARE NOT RE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FFICULT TO ANALY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749120" y="3597120"/>
            <a:ext cx="434124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MINDER: IN A RESISTOR THE VOLTAGE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URRENT DIRECTIONS MUST SATISFY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PASSIVE SIGN CONV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952880" y="4495680"/>
          <a:ext cx="1366920" cy="195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52880" y="4495680"/>
                    <a:ext cx="1366920" cy="19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4876920" y="5029200"/>
                <a:ext cx="255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09" name=""/>
          <p:cNvGraphicFramePr/>
          <p:nvPr/>
        </p:nvGraphicFramePr>
        <p:xfrm>
          <a:off x="6781680" y="4876920"/>
          <a:ext cx="1779840" cy="1236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4876920"/>
                    <a:ext cx="17798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7162920" y="5791320"/>
                <a:ext cx="10015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12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228600" y="1046160"/>
          <a:ext cx="7010280" cy="31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46160"/>
                    <a:ext cx="7010280" cy="31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227600" y="162000"/>
            <a:ext cx="247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AMPL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05920" y="4267080"/>
            <a:ext cx="850788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need to find a closed path where only one voltage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03320" y="1600200"/>
            <a:ext cx="2349360" cy="1206360"/>
          </a:xfrm>
          <a:custGeom>
            <a:avLst/>
            <a:gdLst/>
            <a:ahLst/>
            <a:rect l="l" t="t" r="r" b="b"/>
            <a:pathLst>
              <a:path w="1480" h="760">
                <a:moveTo>
                  <a:pt x="808" y="96"/>
                </a:moveTo>
                <a:cubicBezTo>
                  <a:pt x="1032" y="48"/>
                  <a:pt x="1256" y="0"/>
                  <a:pt x="1336" y="96"/>
                </a:cubicBezTo>
                <a:cubicBezTo>
                  <a:pt x="1416" y="192"/>
                  <a:pt x="1480" y="584"/>
                  <a:pt x="1288" y="672"/>
                </a:cubicBezTo>
                <a:cubicBezTo>
                  <a:pt x="1096" y="760"/>
                  <a:pt x="368" y="720"/>
                  <a:pt x="184" y="624"/>
                </a:cubicBezTo>
                <a:cubicBezTo>
                  <a:pt x="0" y="528"/>
                  <a:pt x="88" y="184"/>
                  <a:pt x="184" y="96"/>
                </a:cubicBezTo>
                <a:cubicBezTo>
                  <a:pt x="280" y="8"/>
                  <a:pt x="664" y="96"/>
                  <a:pt x="760" y="9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880920" y="4950000"/>
                <a:ext cx="281160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4839840" y="1736640"/>
            <a:ext cx="49320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019240" y="1257480"/>
            <a:ext cx="1994040" cy="1485720"/>
          </a:xfrm>
          <a:custGeom>
            <a:avLst/>
            <a:gdLst/>
            <a:ahLst/>
            <a:rect l="l" t="t" r="r" b="b"/>
            <a:pathLst>
              <a:path w="1256" h="936">
                <a:moveTo>
                  <a:pt x="696" y="936"/>
                </a:moveTo>
                <a:cubicBezTo>
                  <a:pt x="348" y="644"/>
                  <a:pt x="0" y="352"/>
                  <a:pt x="72" y="216"/>
                </a:cubicBezTo>
                <a:cubicBezTo>
                  <a:pt x="144" y="80"/>
                  <a:pt x="1000" y="0"/>
                  <a:pt x="1128" y="120"/>
                </a:cubicBezTo>
                <a:cubicBezTo>
                  <a:pt x="1256" y="240"/>
                  <a:pt x="1048" y="588"/>
                  <a:pt x="840" y="936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4533840" y="4929120"/>
                <a:ext cx="327816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4877280" y="2209680"/>
            <a:ext cx="57852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32360" y="3195720"/>
            <a:ext cx="15782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ast top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0" y="457200"/>
          <a:ext cx="6400800" cy="290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57200"/>
                    <a:ext cx="6400800" cy="29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084640" y="166680"/>
            <a:ext cx="3289680" cy="703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re are no loops with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e unknown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3520" y="3429000"/>
            <a:ext cx="491292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e current through the 5k and 10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resistors is the same. Hence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 across the 5k is one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of the drop across the 10k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60840" y="1355760"/>
            <a:ext cx="1241280" cy="3988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  Vx/2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990720" y="4952880"/>
                <a:ext cx="39733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1219320" y="1143000"/>
            <a:ext cx="3657600" cy="1879560"/>
          </a:xfrm>
          <a:custGeom>
            <a:avLst/>
            <a:gdLst/>
            <a:ahLst/>
            <a:rect l="l" t="t" r="r" b="b"/>
            <a:pathLst>
              <a:path w="2304" h="1184">
                <a:moveTo>
                  <a:pt x="248" y="1120"/>
                </a:moveTo>
                <a:cubicBezTo>
                  <a:pt x="124" y="720"/>
                  <a:pt x="0" y="320"/>
                  <a:pt x="296" y="160"/>
                </a:cubicBezTo>
                <a:cubicBezTo>
                  <a:pt x="592" y="0"/>
                  <a:pt x="1744" y="16"/>
                  <a:pt x="2024" y="160"/>
                </a:cubicBezTo>
                <a:cubicBezTo>
                  <a:pt x="2304" y="304"/>
                  <a:pt x="2256" y="864"/>
                  <a:pt x="1976" y="1024"/>
                </a:cubicBezTo>
                <a:cubicBezTo>
                  <a:pt x="1696" y="1184"/>
                  <a:pt x="1020" y="1152"/>
                  <a:pt x="344" y="1120"/>
                </a:cubicBezTo>
              </a:path>
            </a:pathLst>
          </a:custGeom>
          <a:noFill/>
          <a:ln w="38160">
            <a:solidFill>
              <a:srgbClr val="cc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762120"/>
            <a:ext cx="1917720" cy="2514600"/>
          </a:xfrm>
          <a:custGeom>
            <a:avLst/>
            <a:gdLst/>
            <a:ahLst/>
            <a:rect l="l" t="t" r="r" b="b"/>
            <a:pathLst>
              <a:path w="1208" h="1584">
                <a:moveTo>
                  <a:pt x="152" y="472"/>
                </a:moveTo>
                <a:cubicBezTo>
                  <a:pt x="76" y="852"/>
                  <a:pt x="0" y="1232"/>
                  <a:pt x="152" y="1384"/>
                </a:cubicBezTo>
                <a:cubicBezTo>
                  <a:pt x="304" y="1536"/>
                  <a:pt x="920" y="1584"/>
                  <a:pt x="1064" y="1384"/>
                </a:cubicBezTo>
                <a:cubicBezTo>
                  <a:pt x="1208" y="1184"/>
                  <a:pt x="1160" y="368"/>
                  <a:pt x="1016" y="184"/>
                </a:cubicBezTo>
                <a:cubicBezTo>
                  <a:pt x="872" y="0"/>
                  <a:pt x="336" y="264"/>
                  <a:pt x="200" y="2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5334120" y="4114800"/>
                <a:ext cx="2892240" cy="20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[</m:t>
                        </m:r>
                        <m:r>
                          <m:t xml:space="preserve">V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38" name="stop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4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09480" y="5105520"/>
                <a:ext cx="3670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03240" y="5486400"/>
                <a:ext cx="1041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20T02:52:45Z</dcterms:modified>
  <cp:revision>20</cp:revision>
  <dc:subject/>
  <dc:title>No Slide Title</dc:title>
</cp:coreProperties>
</file>