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1B2-0AA8-4A22-B7FF-71370D4A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B73-5CEF-41CA-9A65-3F76D1C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9E1D-1DF0-4E09-B955-8BA070EB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20B9-A219-4031-BAA0-135B3838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0E3-B8CE-4ECE-9692-FDEB5D64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EC6-A958-4BE9-829F-37ADFE65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44B-6C4E-4FC0-9E35-E461162E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CAE3-D087-4FC2-BFF5-0621475D4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C13-4DAB-445E-81E1-CB22D66F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FF5-B2BD-4201-A5F4-F4716E1D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7CB-E9D5-4DC1-9EE8-F7C79480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CA49-F2FD-4DCE-997D-26F4919D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6086-8520-49D7-BDB1-7CA060124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72000" y="1295280"/>
            <a:ext cx="4281480" cy="1973160"/>
            <a:chOff x="4572000" y="1295280"/>
            <a:chExt cx="4281480" cy="1973160"/>
          </a:xfrm>
        </p:grpSpPr>
        <p:graphicFrame>
          <p:nvGraphicFramePr>
            <p:cNvPr id="42" name=""/>
            <p:cNvGraphicFramePr/>
            <p:nvPr/>
          </p:nvGraphicFramePr>
          <p:xfrm>
            <a:off x="4648320" y="1295280"/>
            <a:ext cx="4205160" cy="1973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48320" y="1295280"/>
                      <a:ext cx="4205160" cy="19731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4" name=""/>
                <p:cNvSpPr txBox="1"/>
                <p:nvPr/>
              </p:nvSpPr>
              <p:spPr>
                <a:xfrm>
                  <a:off x="6934320" y="1295280"/>
                  <a:ext cx="6094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" name=""/>
                <p:cNvSpPr txBox="1"/>
                <p:nvPr/>
              </p:nvSpPr>
              <p:spPr>
                <a:xfrm>
                  <a:off x="4572000" y="1295280"/>
                  <a:ext cx="9144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" name=""/>
          <p:cNvSpPr/>
          <p:nvPr/>
        </p:nvSpPr>
        <p:spPr>
          <a:xfrm>
            <a:off x="460800" y="41400"/>
            <a:ext cx="44326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30480" y="304920"/>
            <a:ext cx="41277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REAT DEPENDENT SOURCES AS REGUL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URCES AND ADD ONE MORE EQUATION 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ONTROLLING 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724280" y="5029200"/>
                <a:ext cx="1054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15200" y="457200"/>
            <a:ext cx="4341240" cy="94644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CONVENTION ABOUT DEPENDENT SOURC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LESS OTHERWISE SPECIFIE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VOLTAGE VARIABLES ARE ASSUMED I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mps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ND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Vo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6640" y="3048120"/>
            <a:ext cx="4554720" cy="5202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OR THIS EXAMPLE THE MULTIPLIER MUST H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NITS OF O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320" y="1463760"/>
          <a:ext cx="32716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463760"/>
                    <a:ext cx="32716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6320" y="3581280"/>
                <a:ext cx="3431880" cy="14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OTHER  DEPENDENT SOURC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γ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rPr>
                            <m:lit/>
                            <m:nor/>
                          </m:rPr>
                          <m:t xml:space="preserve"> Siemen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scalar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76320" y="5029200"/>
            <a:ext cx="4244400" cy="1231920"/>
            <a:chOff x="76320" y="5029200"/>
            <a:chExt cx="4244400" cy="12319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6320" y="5029200"/>
                  <a:ext cx="3429000" cy="123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AN  ALTERNATIVE  DESCRIPTION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D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αI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α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A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SSUMES CURRENT IN  mA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2219760" y="5460840"/>
              <a:ext cx="21009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NITS ARE EXPLIC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638680" y="1981080"/>
            <a:ext cx="2130480" cy="988920"/>
            <a:chOff x="5638680" y="1981080"/>
            <a:chExt cx="2130480" cy="988920"/>
          </a:xfrm>
        </p:grpSpPr>
        <p:sp>
          <p:nvSpPr>
            <p:cNvPr id="58" name=""/>
            <p:cNvSpPr/>
            <p:nvPr/>
          </p:nvSpPr>
          <p:spPr>
            <a:xfrm>
              <a:off x="5638680" y="1981080"/>
              <a:ext cx="2130480" cy="9889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0" y="624"/>
                  </a:moveTo>
                  <a:lnTo>
                    <a:pt x="0" y="0"/>
                  </a:lnTo>
                  <a:lnTo>
                    <a:pt x="1344" y="0"/>
                  </a:lnTo>
                  <a:lnTo>
                    <a:pt x="1344" y="624"/>
                  </a:lnTo>
                  <a:lnTo>
                    <a:pt x="384" y="624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96360" y="2590200"/>
              <a:ext cx="500760" cy="307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756680" y="3359160"/>
            <a:ext cx="3167640" cy="73332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NGLE LOOP CIRCU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E KVL TO DETERMI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24280" y="4181400"/>
            <a:ext cx="4380480" cy="825120"/>
            <a:chOff x="4724280" y="4181400"/>
            <a:chExt cx="4380480" cy="8251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4724280" y="4181400"/>
                  <a:ext cx="3340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KVL:  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k</m:t>
                      </m:r>
                      <m:r>
                        <m:t xml:space="preserve">∗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4763520" y="4486320"/>
              <a:ext cx="434124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NE EQUATION, TWO UNKNOWNS.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EXTRA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724280" y="5334120"/>
            <a:ext cx="3736440" cy="628560"/>
            <a:chOff x="4724280" y="5334120"/>
            <a:chExt cx="3736440" cy="6285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4724280" y="5638680"/>
                  <a:ext cx="838440" cy="32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59560" y="5334120"/>
              <a:ext cx="37011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REPLACE AND SOLVE FOR THE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40120" y="5943600"/>
            <a:ext cx="1676160" cy="595440"/>
            <a:chOff x="4740120" y="5943600"/>
            <a:chExt cx="1676160" cy="595440"/>
          </a:xfrm>
        </p:grpSpPr>
        <p:grpSp>
          <p:nvGrpSpPr>
            <p:cNvPr id="68" name=""/>
            <p:cNvGrpSpPr/>
            <p:nvPr/>
          </p:nvGrpSpPr>
          <p:grpSpPr>
            <a:xfrm>
              <a:off x="4740120" y="6248520"/>
              <a:ext cx="1676160" cy="290520"/>
              <a:chOff x="4740120" y="6248520"/>
              <a:chExt cx="1676160" cy="290520"/>
            </a:xfrm>
          </p:grpSpPr>
          <mc:AlternateContent>
            <mc:Choice xmlns:a14="http://schemas.microsoft.com/office/drawing/2010/main" Requires="a14">
              <p:sp>
                <p:nvSpPr>
                  <p:cNvPr id="69" name=""/>
                  <p:cNvSpPr txBox="1"/>
                  <p:nvPr/>
                </p:nvSpPr>
                <p:spPr>
                  <a:xfrm>
                    <a:off x="4740120" y="6248520"/>
                    <a:ext cx="104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0" name=""/>
                  <p:cNvSpPr txBox="1"/>
                  <p:nvPr/>
                </p:nvSpPr>
                <p:spPr>
                  <a:xfrm>
                    <a:off x="5815080" y="6248520"/>
                    <a:ext cx="6012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1" name=""/>
            <p:cNvSpPr/>
            <p:nvPr/>
          </p:nvSpPr>
          <p:spPr>
            <a:xfrm>
              <a:off x="4746960" y="5943600"/>
              <a:ext cx="15674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USE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04920" y="228600"/>
          <a:ext cx="7162560" cy="162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716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17600" y="1844640"/>
            <a:ext cx="658152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V_s IS KNOWN V_0 CAN BE DETERMINED USING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FIND V_s WE HAVE A SINGLE NODE-PAIR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320" y="2590920"/>
            <a:ext cx="4152600" cy="1281960"/>
            <a:chOff x="76320" y="2590920"/>
            <a:chExt cx="4152600" cy="1281960"/>
          </a:xfrm>
        </p:grpSpPr>
        <p:graphicFrame>
          <p:nvGraphicFramePr>
            <p:cNvPr id="78" name=""/>
            <p:cNvGraphicFramePr/>
            <p:nvPr/>
          </p:nvGraphicFramePr>
          <p:xfrm>
            <a:off x="76320" y="2590920"/>
            <a:ext cx="4038480" cy="725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590920"/>
                      <a:ext cx="4038480" cy="7254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0" name=""/>
            <p:cNvSpPr/>
            <p:nvPr/>
          </p:nvSpPr>
          <p:spPr>
            <a:xfrm>
              <a:off x="101160" y="3352680"/>
              <a:ext cx="412776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LGEBRAICALLY, THERE ARE TWO UNKNOW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D JUST ONE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95680" y="2590920"/>
            <a:ext cx="4595040" cy="1217520"/>
            <a:chOff x="4495680" y="2590920"/>
            <a:chExt cx="4595040" cy="1217520"/>
          </a:xfrm>
        </p:grpSpPr>
        <p:sp>
          <p:nvSpPr>
            <p:cNvPr id="82" name=""/>
            <p:cNvSpPr/>
            <p:nvPr/>
          </p:nvSpPr>
          <p:spPr>
            <a:xfrm>
              <a:off x="4536000" y="2590920"/>
              <a:ext cx="4554720" cy="52020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E EQUATION FOR THE CONTRO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ARIABLE PROVIDES THE ADDITIONAL EQ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502160" y="3279600"/>
                  <a:ext cx="13968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graphicFrame>
          <p:nvGraphicFramePr>
            <p:cNvPr id="84" name=""/>
            <p:cNvGraphicFramePr/>
            <p:nvPr/>
          </p:nvGraphicFramePr>
          <p:xfrm>
            <a:off x="4495680" y="3108240"/>
            <a:ext cx="959040" cy="700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3108240"/>
                      <a:ext cx="959040" cy="700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86" name=""/>
          <p:cNvGrpSpPr/>
          <p:nvPr/>
        </p:nvGrpSpPr>
        <p:grpSpPr>
          <a:xfrm>
            <a:off x="92160" y="3962520"/>
            <a:ext cx="3504960" cy="1092240"/>
            <a:chOff x="92160" y="3962520"/>
            <a:chExt cx="3504960" cy="1092240"/>
          </a:xfrm>
        </p:grpSpPr>
        <p:graphicFrame>
          <p:nvGraphicFramePr>
            <p:cNvPr id="87" name=""/>
            <p:cNvGraphicFramePr/>
            <p:nvPr/>
          </p:nvGraphicFramePr>
          <p:xfrm>
            <a:off x="92160" y="4208400"/>
            <a:ext cx="3504960" cy="846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160" y="4208400"/>
                      <a:ext cx="3504960" cy="84636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9" name=""/>
            <p:cNvSpPr/>
            <p:nvPr/>
          </p:nvSpPr>
          <p:spPr>
            <a:xfrm>
              <a:off x="106920" y="3962520"/>
              <a:ext cx="29545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BSTITUTION OF I_0 YIEL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2743200"/>
            <a:ext cx="4577760" cy="3247920"/>
            <a:chOff x="0" y="2743200"/>
            <a:chExt cx="4577760" cy="3247920"/>
          </a:xfrm>
        </p:grpSpPr>
        <p:sp>
          <p:nvSpPr>
            <p:cNvPr id="91" name=""/>
            <p:cNvSpPr/>
            <p:nvPr/>
          </p:nvSpPr>
          <p:spPr>
            <a:xfrm>
              <a:off x="0" y="2743200"/>
              <a:ext cx="1218960" cy="2514600"/>
            </a:xfrm>
            <a:custGeom>
              <a:avLst/>
              <a:gdLst/>
              <a:ahLst/>
              <a:rect l="l" t="t" r="r" b="b"/>
              <a:pathLst>
                <a:path w="768" h="1584">
                  <a:moveTo>
                    <a:pt x="768" y="384"/>
                  </a:moveTo>
                  <a:lnTo>
                    <a:pt x="720" y="48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720" y="336"/>
                  </a:lnTo>
                  <a:lnTo>
                    <a:pt x="0" y="1008"/>
                  </a:lnTo>
                  <a:lnTo>
                    <a:pt x="96" y="1584"/>
                  </a:lnTo>
                  <a:lnTo>
                    <a:pt x="528" y="1584"/>
                  </a:lnTo>
                  <a:lnTo>
                    <a:pt x="528" y="960"/>
                  </a:lnTo>
                  <a:lnTo>
                    <a:pt x="336" y="816"/>
                  </a:lnTo>
                </a:path>
              </a:pathLst>
            </a:custGeom>
            <a:solidFill>
              <a:srgbClr val="ccffcc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3080" y="5257800"/>
              <a:ext cx="423468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NOTICE THE CLEVER WAY OF WRITING mA 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HAVE VOLTS IN ALL NUMERATORS AND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AME UNITS IN DENOMINA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619440" y="4465800"/>
                <a:ext cx="18669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*/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5638680" y="4130640"/>
            <a:ext cx="2451240" cy="822240"/>
            <a:chOff x="5638680" y="4130640"/>
            <a:chExt cx="2451240" cy="822240"/>
          </a:xfrm>
        </p:grpSpPr>
        <p:sp>
          <p:nvSpPr>
            <p:cNvPr id="95" name=""/>
            <p:cNvSpPr/>
            <p:nvPr/>
          </p:nvSpPr>
          <p:spPr>
            <a:xfrm>
              <a:off x="5951520" y="4130640"/>
              <a:ext cx="1780920" cy="3070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5638680" y="4394160"/>
                  <a:ext cx="2451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)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280" y="152280"/>
                <a:ext cx="10670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98" name=""/>
          <p:cNvGrpSpPr/>
          <p:nvPr/>
        </p:nvGrpSpPr>
        <p:grpSpPr>
          <a:xfrm>
            <a:off x="1101600" y="6480"/>
            <a:ext cx="8012520" cy="733320"/>
            <a:chOff x="1101600" y="6480"/>
            <a:chExt cx="8012520" cy="733320"/>
          </a:xfrm>
        </p:grpSpPr>
        <p:sp>
          <p:nvSpPr>
            <p:cNvPr id="99" name=""/>
            <p:cNvSpPr/>
            <p:nvPr/>
          </p:nvSpPr>
          <p:spPr>
            <a:xfrm>
              <a:off x="1101600" y="142920"/>
              <a:ext cx="548640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73080" y="6480"/>
              <a:ext cx="2741040" cy="733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 TO THIS NODE.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DEPENDENT SOURCE IS JU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NOTHER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152280"/>
          <a:ext cx="541980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5419800" cy="22590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320" y="76320"/>
                <a:ext cx="12189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817600" y="304920"/>
            <a:ext cx="2207520" cy="946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E LOOP PROBLEM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N USE OHM’S LAW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447920" y="838080"/>
            <a:ext cx="1418760" cy="1066680"/>
            <a:chOff x="1447920" y="838080"/>
            <a:chExt cx="1418760" cy="1066680"/>
          </a:xfrm>
        </p:grpSpPr>
        <p:sp>
          <p:nvSpPr>
            <p:cNvPr id="109" name=""/>
            <p:cNvSpPr/>
            <p:nvPr/>
          </p:nvSpPr>
          <p:spPr>
            <a:xfrm>
              <a:off x="1447920" y="838080"/>
              <a:ext cx="1418760" cy="1066680"/>
            </a:xfrm>
            <a:custGeom>
              <a:avLst/>
              <a:gdLst/>
              <a:ahLst/>
              <a:rect l="l" t="t" r="r" b="b"/>
              <a:pathLst>
                <a:path w="768" h="528">
                  <a:moveTo>
                    <a:pt x="0" y="480"/>
                  </a:moveTo>
                  <a:lnTo>
                    <a:pt x="0" y="0"/>
                  </a:lnTo>
                  <a:lnTo>
                    <a:pt x="768" y="0"/>
                  </a:lnTo>
                  <a:lnTo>
                    <a:pt x="768" y="528"/>
                  </a:lnTo>
                  <a:lnTo>
                    <a:pt x="144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63760" y="900720"/>
              <a:ext cx="12780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VL 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IS LOO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001600" y="2489040"/>
            <a:ext cx="5057640" cy="1396800"/>
            <a:chOff x="2001600" y="2489040"/>
            <a:chExt cx="5057640" cy="1396800"/>
          </a:xfrm>
        </p:grpSpPr>
        <p:sp>
          <p:nvSpPr>
            <p:cNvPr id="112" name=""/>
            <p:cNvSpPr/>
            <p:nvPr/>
          </p:nvSpPr>
          <p:spPr>
            <a:xfrm>
              <a:off x="2001600" y="2489040"/>
              <a:ext cx="505764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DEPENDENT SOURCE IS ONE MORE VOLT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2215800" y="3123000"/>
            <a:ext cx="4084920" cy="762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15800" y="3123000"/>
                      <a:ext cx="4084920" cy="762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5" name=""/>
          <p:cNvGrpSpPr/>
          <p:nvPr/>
        </p:nvGrpSpPr>
        <p:grpSpPr>
          <a:xfrm>
            <a:off x="2154600" y="4011480"/>
            <a:ext cx="5179320" cy="1154160"/>
            <a:chOff x="2154600" y="4011480"/>
            <a:chExt cx="5179320" cy="1154160"/>
          </a:xfrm>
        </p:grpSpPr>
        <p:sp>
          <p:nvSpPr>
            <p:cNvPr id="116" name=""/>
            <p:cNvSpPr/>
            <p:nvPr/>
          </p:nvSpPr>
          <p:spPr>
            <a:xfrm>
              <a:off x="2154600" y="4011480"/>
              <a:ext cx="517932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QUATION FOR THE CONTROLLING VARI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ROVIDES THE ADDITIONAL EQ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7" name=""/>
            <p:cNvGraphicFramePr/>
            <p:nvPr/>
          </p:nvGraphicFramePr>
          <p:xfrm>
            <a:off x="2454120" y="4586040"/>
            <a:ext cx="1435320" cy="579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454120" y="4586040"/>
                      <a:ext cx="1435320" cy="5796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19" name=""/>
          <p:cNvGrpSpPr/>
          <p:nvPr/>
        </p:nvGrpSpPr>
        <p:grpSpPr>
          <a:xfrm>
            <a:off x="95400" y="5230800"/>
            <a:ext cx="3960360" cy="871560"/>
            <a:chOff x="95400" y="5230800"/>
            <a:chExt cx="3960360" cy="871560"/>
          </a:xfrm>
        </p:grpSpPr>
        <p:sp>
          <p:nvSpPr>
            <p:cNvPr id="120" name=""/>
            <p:cNvSpPr/>
            <p:nvPr/>
          </p:nvSpPr>
          <p:spPr>
            <a:xfrm>
              <a:off x="95400" y="5230800"/>
              <a:ext cx="396036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AND SOLVE FOR CURRENT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Lucida Console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1" name=""/>
            <p:cNvGraphicFramePr/>
            <p:nvPr/>
          </p:nvGraphicFramePr>
          <p:xfrm>
            <a:off x="380880" y="5562720"/>
            <a:ext cx="1359000" cy="5396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5562720"/>
                      <a:ext cx="1359000" cy="5396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123" name=""/>
          <p:cNvGrpSpPr/>
          <p:nvPr/>
        </p:nvGrpSpPr>
        <p:grpSpPr>
          <a:xfrm>
            <a:off x="4589280" y="5257800"/>
            <a:ext cx="3024360" cy="787320"/>
            <a:chOff x="4589280" y="5257800"/>
            <a:chExt cx="3024360" cy="787320"/>
          </a:xfrm>
        </p:grpSpPr>
        <p:sp>
          <p:nvSpPr>
            <p:cNvPr id="124" name=""/>
            <p:cNvSpPr/>
            <p:nvPr/>
          </p:nvSpPr>
          <p:spPr>
            <a:xfrm>
              <a:off x="4589280" y="5306760"/>
              <a:ext cx="1872000" cy="33732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…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AND FINALLY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6324480" y="5257800"/>
            <a:ext cx="1289160" cy="787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24480" y="5257800"/>
                      <a:ext cx="1289160" cy="7873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2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5410080" cy="2768760"/>
            <a:chOff x="0" y="0"/>
            <a:chExt cx="5410080" cy="2768760"/>
          </a:xfrm>
        </p:grpSpPr>
        <p:graphicFrame>
          <p:nvGraphicFramePr>
            <p:cNvPr id="131" name=""/>
            <p:cNvGraphicFramePr/>
            <p:nvPr/>
          </p:nvGraphicFramePr>
          <p:xfrm>
            <a:off x="0" y="880920"/>
            <a:ext cx="5410080" cy="1887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880920"/>
                      <a:ext cx="5410080" cy="18878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0" y="0"/>
                  <a:ext cx="1828800" cy="70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 </m:t>
                      </m:r>
                      <m:r>
                        <m:t xml:space="preserve">G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" name=""/>
          <p:cNvSpPr/>
          <p:nvPr/>
        </p:nvSpPr>
        <p:spPr>
          <a:xfrm>
            <a:off x="5505120" y="457200"/>
            <a:ext cx="3594600" cy="8240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A PLA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ON THE LEFT - KV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-PAIR ON RIGHT - K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90720" y="1371600"/>
            <a:ext cx="761400" cy="990360"/>
            <a:chOff x="990720" y="1371600"/>
            <a:chExt cx="761400" cy="990360"/>
          </a:xfrm>
        </p:grpSpPr>
        <p:sp>
          <p:nvSpPr>
            <p:cNvPr id="136" name=""/>
            <p:cNvSpPr/>
            <p:nvPr/>
          </p:nvSpPr>
          <p:spPr>
            <a:xfrm>
              <a:off x="990720" y="1371600"/>
              <a:ext cx="761400" cy="990360"/>
            </a:xfrm>
            <a:custGeom>
              <a:avLst/>
              <a:gdLst/>
              <a:ahLst/>
              <a:rect l="l" t="t" r="r" b="b"/>
              <a:pathLst>
                <a:path w="384" h="528">
                  <a:moveTo>
                    <a:pt x="48" y="384"/>
                  </a:moveTo>
                  <a:lnTo>
                    <a:pt x="48" y="0"/>
                  </a:lnTo>
                  <a:lnTo>
                    <a:pt x="384" y="0"/>
                  </a:lnTo>
                  <a:lnTo>
                    <a:pt x="384" y="528"/>
                  </a:lnTo>
                  <a:lnTo>
                    <a:pt x="0" y="528"/>
                  </a:lnTo>
                </a:path>
              </a:pathLst>
            </a:custGeom>
            <a:solidFill>
              <a:srgbClr val="ccecff"/>
            </a:solidFill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101960" y="14616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157400" y="2743200"/>
            <a:ext cx="3262320" cy="762120"/>
            <a:chOff x="1157400" y="2743200"/>
            <a:chExt cx="3262320" cy="762120"/>
          </a:xfrm>
        </p:grpSpPr>
        <p:graphicFrame>
          <p:nvGraphicFramePr>
            <p:cNvPr id="139" name=""/>
            <p:cNvGraphicFramePr/>
            <p:nvPr/>
          </p:nvGraphicFramePr>
          <p:xfrm>
            <a:off x="1157400" y="3044880"/>
            <a:ext cx="326232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57400" y="3044880"/>
                      <a:ext cx="3262320" cy="46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41" name=""/>
            <p:cNvSpPr/>
            <p:nvPr/>
          </p:nvSpPr>
          <p:spPr>
            <a:xfrm>
              <a:off x="1159200" y="274320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200400" y="3429000"/>
            <a:ext cx="4292640" cy="822240"/>
            <a:chOff x="3200400" y="3429000"/>
            <a:chExt cx="4292640" cy="822240"/>
          </a:xfrm>
        </p:grpSpPr>
        <p:graphicFrame>
          <p:nvGraphicFramePr>
            <p:cNvPr id="143" name=""/>
            <p:cNvGraphicFramePr/>
            <p:nvPr/>
          </p:nvGraphicFramePr>
          <p:xfrm>
            <a:off x="3200400" y="3581280"/>
            <a:ext cx="1932120" cy="55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00400" y="3581280"/>
                      <a:ext cx="1932120" cy="5504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"/>
            <p:cNvGraphicFramePr/>
            <p:nvPr/>
          </p:nvGraphicFramePr>
          <p:xfrm>
            <a:off x="5105520" y="3429000"/>
            <a:ext cx="2387520" cy="822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105520" y="3429000"/>
                      <a:ext cx="2387520" cy="8222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7" name=""/>
          <p:cNvSpPr/>
          <p:nvPr/>
        </p:nvSpPr>
        <p:spPr>
          <a:xfrm>
            <a:off x="5057640" y="4267080"/>
            <a:ext cx="25275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SO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838080"/>
            <a:ext cx="1735920" cy="533160"/>
            <a:chOff x="2971800" y="838080"/>
            <a:chExt cx="1735920" cy="533160"/>
          </a:xfrm>
        </p:grpSpPr>
        <p:sp>
          <p:nvSpPr>
            <p:cNvPr id="149" name=""/>
            <p:cNvSpPr/>
            <p:nvPr/>
          </p:nvSpPr>
          <p:spPr>
            <a:xfrm>
              <a:off x="4206960" y="838080"/>
              <a:ext cx="50076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71800" y="1142640"/>
              <a:ext cx="1447560" cy="22860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006560" y="4267080"/>
            <a:ext cx="2041200" cy="1066680"/>
            <a:chOff x="1006560" y="4267080"/>
            <a:chExt cx="2041200" cy="10666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1008360" y="4581000"/>
                  <a:ext cx="203940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L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1006560" y="4267080"/>
              <a:ext cx="500760" cy="3070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4" name=""/>
          <p:cNvGraphicFramePr/>
          <p:nvPr/>
        </p:nvGraphicFramePr>
        <p:xfrm>
          <a:off x="3048120" y="4724280"/>
          <a:ext cx="2514600" cy="628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8120" y="4724280"/>
                    <a:ext cx="2514600" cy="6289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990720" y="5410080"/>
            <a:ext cx="4876200" cy="914040"/>
            <a:chOff x="990720" y="5410080"/>
            <a:chExt cx="4876200" cy="914040"/>
          </a:xfrm>
        </p:grpSpPr>
        <p:graphicFrame>
          <p:nvGraphicFramePr>
            <p:cNvPr id="157" name=""/>
            <p:cNvGraphicFramePr/>
            <p:nvPr/>
          </p:nvGraphicFramePr>
          <p:xfrm>
            <a:off x="990720" y="5410080"/>
            <a:ext cx="2505240" cy="914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990720" y="5410080"/>
                      <a:ext cx="2505240" cy="914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59" name=""/>
            <p:cNvGraphicFramePr/>
            <p:nvPr/>
          </p:nvGraphicFramePr>
          <p:xfrm>
            <a:off x="3497400" y="5410080"/>
            <a:ext cx="2369520" cy="9072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497400" y="5410080"/>
                      <a:ext cx="2369520" cy="9072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pic>
        <p:nvPicPr>
          <p:cNvPr id="161" name="stop" descr=""/>
          <p:cNvPicPr/>
          <p:nvPr/>
        </p:nvPicPr>
        <p:blipFill>
          <a:blip r:embed="rId15"/>
          <a:stretch/>
        </p:blipFill>
        <p:spPr>
          <a:xfrm>
            <a:off x="860904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49:34Z</dcterms:created>
  <dc:creator>student</dc:creator>
  <dc:description/>
  <dc:language>en-US</dc:language>
  <cp:lastModifiedBy>Jorge Aravena</cp:lastModifiedBy>
  <dcterms:modified xsi:type="dcterms:W3CDTF">2001-03-22T13:26:09Z</dcterms:modified>
  <cp:revision>8</cp:revision>
  <dc:subject/>
  <dc:title>No Slide Title</dc:title>
</cp:coreProperties>
</file>