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7.png" ContentType="image/png"/>
  <Override PartName="/ppt/media/image56.png" ContentType="image/png"/>
  <Override PartName="/ppt/media/image55.png" ContentType="image/png"/>
  <Override PartName="/ppt/media/image20.jpeg" ContentType="image/jpeg"/>
  <Override PartName="/ppt/media/image54.png" ContentType="image/png"/>
  <Override PartName="/ppt/media/image53.png" ContentType="image/png"/>
  <Override PartName="/ppt/media/image51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23.jpeg" ContentType="image/jpeg"/>
  <Override PartName="/ppt/media/image85.png" ContentType="image/png"/>
  <Override PartName="/ppt/media/image37.png" ContentType="image/png"/>
  <Override PartName="/ppt/media/image7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12.png" ContentType="image/png"/>
  <Override PartName="/ppt/media/image49.png" ContentType="image/png"/>
  <Override PartName="/ppt/media/image22.png" ContentType="image/png"/>
  <Override PartName="/ppt/media/image59.png" ContentType="image/png"/>
  <Override PartName="/ppt/media/image52.wmf" ContentType="image/x-wmf"/>
  <Override PartName="/ppt/media/image24.jpeg" ContentType="image/jpeg"/>
  <Override PartName="/ppt/media/image95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21.png" ContentType="image/png"/>
  <Override PartName="/ppt/media/image58.png" ContentType="image/png"/>
  <Override PartName="/ppt/media/image89.png" ContentType="image/png"/>
  <Override PartName="/ppt/media/image77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75.png" ContentType="image/png"/>
  <Override PartName="/ppt/media/image79.png" ContentType="image/png"/>
  <Override PartName="/ppt/media/image78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67.jpeg" ContentType="image/jpeg"/>
  <Override PartName="/ppt/media/image69.png" ContentType="image/png"/>
  <Override PartName="/ppt/media/image32.png" ContentType="image/png"/>
  <Override PartName="/ppt/media/image71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90.png" ContentType="image/png"/>
  <Override PartName="/ppt/media/image25.png" ContentType="image/png"/>
  <Override PartName="/ppt/media/image19.jpeg" ContentType="image/jpeg"/>
  <Override PartName="/ppt/media/image2.png" ContentType="image/png"/>
  <Override PartName="/ppt/media/image14.png" ContentType="image/png"/>
  <Override PartName="/ppt/media/image50.wmf" ContentType="image/x-wmf"/>
  <Override PartName="/ppt/media/image28.png" ContentType="image/png"/>
  <Override PartName="/ppt/media/image93.png" ContentType="image/png"/>
  <Override PartName="/ppt/media/image91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media/image34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3462-4C5E-4CA3-BB9C-9D2C93083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32BE-E6F9-41EF-9D42-3E1A117AB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9413-D64A-4B5B-9439-9DF960521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FECE-7AF8-4DB8-A4CF-E826C1AC5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F4AF-1EE8-4AEC-A996-5B2F4427C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7B45-A48C-4446-932C-3FF7595FE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8039-7870-44AF-96C6-168E16BD0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195C-A45A-4F5B-9512-889AC9665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C3F0-1020-4509-8D26-6DDB59D8D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3F45-8C62-4049-B20A-EF893EBDD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E298-E316-456A-AA85-BD555A2C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EC0A-CEDF-4C15-B1EF-0DF0FE47B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37141-0CD6-4673-A400-0A7529E580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image" Target="../media/image2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8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image" Target="../media/image3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image" Target="../media/image35.png"/><Relationship Id="rId4" Type="http://schemas.openxmlformats.org/officeDocument/2006/relationships/image" Target="../media/image33.png"/><Relationship Id="rId5" Type="http://schemas.openxmlformats.org/officeDocument/2006/relationships/image" Target="../media/image36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8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0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png"/><Relationship Id="rId5" Type="http://schemas.openxmlformats.org/officeDocument/2006/relationships/image" Target="../media/image51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52.wmf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8.png"/><Relationship Id="rId8" Type="http://schemas.openxmlformats.org/officeDocument/2006/relationships/image" Target="../media/image58.png"/><Relationship Id="rId9" Type="http://schemas.openxmlformats.org/officeDocument/2006/relationships/image" Target="../media/image59.png"/><Relationship Id="rId10" Type="http://schemas.openxmlformats.org/officeDocument/2006/relationships/image" Target="../media/image60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0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74.png"/><Relationship Id="rId3" Type="http://schemas.openxmlformats.org/officeDocument/2006/relationships/image" Target="../media/image75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png"/><Relationship Id="rId3" Type="http://schemas.openxmlformats.org/officeDocument/2006/relationships/image" Target="../media/image78.png"/><Relationship Id="rId4" Type="http://schemas.openxmlformats.org/officeDocument/2006/relationships/image" Target="../media/image79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8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84.png"/><Relationship Id="rId3" Type="http://schemas.openxmlformats.org/officeDocument/2006/relationships/image" Target="../media/image85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image" Target="../media/image87.png"/><Relationship Id="rId3" Type="http://schemas.openxmlformats.org/officeDocument/2006/relationships/image" Target="../media/image88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image" Target="../media/image90.png"/><Relationship Id="rId3" Type="http://schemas.openxmlformats.org/officeDocument/2006/relationships/image" Target="../media/image91.png"/><Relationship Id="rId4" Type="http://schemas.openxmlformats.org/officeDocument/2006/relationships/image" Target="../media/image9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image" Target="../media/image94.png"/><Relationship Id="rId3" Type="http://schemas.openxmlformats.org/officeDocument/2006/relationships/image" Target="../media/image9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20" y="7920"/>
            <a:ext cx="9001800" cy="106884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APPLICATION OF THE LAPLACE TRANS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TO CIRCUIT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7080" y="1143000"/>
            <a:ext cx="24195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LEARNING GO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42520" y="1658880"/>
            <a:ext cx="60480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aplace circuit sol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howing the usefulness of the Laplace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37480" y="2462040"/>
            <a:ext cx="57798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ircuit Element Mod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orming circuits into the Laplace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56200" y="3267000"/>
            <a:ext cx="60282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sis Techn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ll standard analysis techniques, KVL, KCL, nod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op analysis, Thevenin’s theorem are applic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59800" y="4316400"/>
            <a:ext cx="63864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er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oncept is revisited and given a formal mea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09040" y="5121360"/>
            <a:ext cx="54338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le-Zero Plots/Bode Pl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stablishing the connection between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11200" y="5925960"/>
            <a:ext cx="31798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eady State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C analysis revisi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geaux" descr=""/>
          <p:cNvPicPr/>
          <p:nvPr/>
        </p:nvPicPr>
        <p:blipFill>
          <a:blip r:embed="rId1"/>
          <a:stretch/>
        </p:blipFill>
        <p:spPr>
          <a:xfrm>
            <a:off x="8407440" y="649116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465948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F13.004A_W1211" descr=""/>
          <p:cNvPicPr/>
          <p:nvPr/>
        </p:nvPicPr>
        <p:blipFill>
          <a:blip r:embed="rId1"/>
          <a:stretch/>
        </p:blipFill>
        <p:spPr>
          <a:xfrm>
            <a:off x="76320" y="533520"/>
            <a:ext cx="4933800" cy="27050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2556360" y="58680"/>
            <a:ext cx="4326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rite the loop equations in the s-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F13.004C_W1211" descr=""/>
          <p:cNvPicPr/>
          <p:nvPr/>
        </p:nvPicPr>
        <p:blipFill>
          <a:blip r:embed="rId2"/>
          <a:stretch/>
        </p:blipFill>
        <p:spPr>
          <a:xfrm>
            <a:off x="0" y="3030480"/>
            <a:ext cx="6095880" cy="3530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715000" y="2743200"/>
                <a:ext cx="293364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Loop 1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3759120" y="3962520"/>
                <a:ext cx="54104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s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5638680" y="5118120"/>
                <a:ext cx="312444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oop 2</m:t>
                        </m:r>
                      </m:e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3987720" y="6095880"/>
                <a:ext cx="51562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s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s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40" name=""/>
          <p:cNvGrpSpPr/>
          <p:nvPr/>
        </p:nvGrpSpPr>
        <p:grpSpPr>
          <a:xfrm>
            <a:off x="1600200" y="457200"/>
            <a:ext cx="1295280" cy="3352680"/>
            <a:chOff x="1600200" y="457200"/>
            <a:chExt cx="1295280" cy="3352680"/>
          </a:xfrm>
        </p:grpSpPr>
        <p:sp>
          <p:nvSpPr>
            <p:cNvPr id="241" name=""/>
            <p:cNvSpPr/>
            <p:nvPr/>
          </p:nvSpPr>
          <p:spPr>
            <a:xfrm>
              <a:off x="1752480" y="457200"/>
              <a:ext cx="685800" cy="8380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600200" y="2971800"/>
              <a:ext cx="1295280" cy="8380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2133720" y="1143000"/>
            <a:ext cx="1523880" cy="3657600"/>
            <a:chOff x="2133720" y="1143000"/>
            <a:chExt cx="1523880" cy="3657600"/>
          </a:xfrm>
        </p:grpSpPr>
        <p:sp>
          <p:nvSpPr>
            <p:cNvPr id="244" name=""/>
            <p:cNvSpPr/>
            <p:nvPr/>
          </p:nvSpPr>
          <p:spPr>
            <a:xfrm>
              <a:off x="2133720" y="1143000"/>
              <a:ext cx="609480" cy="6858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514600" y="3733920"/>
              <a:ext cx="1143000" cy="10666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1982880" y="1982880"/>
            <a:ext cx="1751040" cy="4113000"/>
            <a:chOff x="1982880" y="1982880"/>
            <a:chExt cx="1751040" cy="4113000"/>
          </a:xfrm>
        </p:grpSpPr>
        <p:sp>
          <p:nvSpPr>
            <p:cNvPr id="247" name=""/>
            <p:cNvSpPr/>
            <p:nvPr/>
          </p:nvSpPr>
          <p:spPr>
            <a:xfrm>
              <a:off x="1982880" y="1982880"/>
              <a:ext cx="1143000" cy="761760"/>
            </a:xfrm>
            <a:prstGeom prst="rect">
              <a:avLst/>
            </a:prstGeom>
            <a:noFill/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743200" y="4876920"/>
              <a:ext cx="990720" cy="1218960"/>
            </a:xfrm>
            <a:prstGeom prst="rect">
              <a:avLst/>
            </a:prstGeom>
            <a:noFill/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2741760" y="611280"/>
            <a:ext cx="1830240" cy="3122640"/>
            <a:chOff x="2741760" y="611280"/>
            <a:chExt cx="1830240" cy="3122640"/>
          </a:xfrm>
        </p:grpSpPr>
        <p:sp>
          <p:nvSpPr>
            <p:cNvPr id="250" name=""/>
            <p:cNvSpPr/>
            <p:nvPr/>
          </p:nvSpPr>
          <p:spPr>
            <a:xfrm>
              <a:off x="2741760" y="611280"/>
              <a:ext cx="609480" cy="685800"/>
            </a:xfrm>
            <a:prstGeom prst="rect">
              <a:avLst/>
            </a:prstGeom>
            <a:noFill/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200400" y="3124080"/>
              <a:ext cx="1371600" cy="609840"/>
            </a:xfrm>
            <a:prstGeom prst="rect">
              <a:avLst/>
            </a:prstGeom>
            <a:noFill/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3581280" y="355680"/>
            <a:ext cx="5562720" cy="2297160"/>
            <a:chOff x="3581280" y="355680"/>
            <a:chExt cx="5562720" cy="2297160"/>
          </a:xfrm>
        </p:grpSpPr>
        <p:grpSp>
          <p:nvGrpSpPr>
            <p:cNvPr id="253" name=""/>
            <p:cNvGrpSpPr/>
            <p:nvPr/>
          </p:nvGrpSpPr>
          <p:grpSpPr>
            <a:xfrm>
              <a:off x="4638240" y="355680"/>
              <a:ext cx="4505760" cy="2297160"/>
              <a:chOff x="4638240" y="355680"/>
              <a:chExt cx="4505760" cy="2297160"/>
            </a:xfrm>
          </p:grpSpPr>
          <p:pic>
            <p:nvPicPr>
              <p:cNvPr id="254" name="Cs-series" descr=""/>
              <p:cNvPicPr/>
              <p:nvPr/>
            </p:nvPicPr>
            <p:blipFill>
              <a:blip r:embed="rId3"/>
              <a:stretch/>
            </p:blipFill>
            <p:spPr>
              <a:xfrm>
                <a:off x="6553080" y="355680"/>
                <a:ext cx="2590920" cy="1168200"/>
              </a:xfrm>
              <a:prstGeom prst="rect">
                <a:avLst/>
              </a:prstGeom>
              <a:ln w="54000">
                <a:solidFill>
                  <a:srgbClr val="ccffcc"/>
                </a:solidFill>
                <a:miter/>
              </a:ln>
            </p:spPr>
          </p:pic>
          <p:pic>
            <p:nvPicPr>
              <p:cNvPr id="255" name="Ls-series" descr=""/>
              <p:cNvPicPr/>
              <p:nvPr/>
            </p:nvPicPr>
            <p:blipFill>
              <a:blip r:embed="rId4"/>
              <a:stretch/>
            </p:blipFill>
            <p:spPr>
              <a:xfrm>
                <a:off x="6629400" y="1523880"/>
                <a:ext cx="2324160" cy="1128960"/>
              </a:xfrm>
              <a:prstGeom prst="rect">
                <a:avLst/>
              </a:prstGeom>
              <a:ln w="54000">
                <a:solidFill>
                  <a:srgbClr val="ccffcc"/>
                </a:solidFill>
                <a:miter/>
              </a:ln>
            </p:spPr>
          </p:pic>
          <p:sp>
            <p:nvSpPr>
              <p:cNvPr id="256" name=""/>
              <p:cNvSpPr/>
              <p:nvPr/>
            </p:nvSpPr>
            <p:spPr>
              <a:xfrm>
                <a:off x="4638240" y="685800"/>
                <a:ext cx="1835640" cy="580680"/>
              </a:xfrm>
              <a:prstGeom prst="rect">
                <a:avLst/>
              </a:prstGeom>
              <a:solidFill>
                <a:srgbClr val="ccffcc"/>
              </a:solidFill>
              <a:ln w="5400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Do not increas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number of loop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>
              <a:off x="3581280" y="380880"/>
              <a:ext cx="152424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8" name="geaux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59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551680" y="58680"/>
            <a:ext cx="4391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rite the node equations in the s-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F13.004B_W1211" descr=""/>
          <p:cNvPicPr/>
          <p:nvPr/>
        </p:nvPicPr>
        <p:blipFill>
          <a:blip r:embed="rId1"/>
          <a:stretch/>
        </p:blipFill>
        <p:spPr>
          <a:xfrm>
            <a:off x="0" y="533520"/>
            <a:ext cx="5705640" cy="2504880"/>
          </a:xfrm>
          <a:prstGeom prst="rect">
            <a:avLst/>
          </a:prstGeom>
          <a:ln w="0">
            <a:noFill/>
          </a:ln>
        </p:spPr>
      </p:pic>
      <p:pic>
        <p:nvPicPr>
          <p:cNvPr id="264" name="F13.004D_W1212" descr=""/>
          <p:cNvPicPr/>
          <p:nvPr/>
        </p:nvPicPr>
        <p:blipFill>
          <a:blip r:embed="rId2"/>
          <a:stretch/>
        </p:blipFill>
        <p:spPr>
          <a:xfrm>
            <a:off x="0" y="2832120"/>
            <a:ext cx="5105520" cy="4235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3276720" y="2527200"/>
                <a:ext cx="290808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de 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3276720" y="3429000"/>
                <a:ext cx="43434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4572000" y="5043600"/>
                <a:ext cx="43941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s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s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4572000" y="4114800"/>
                <a:ext cx="318780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de 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69" name=""/>
          <p:cNvGrpSpPr/>
          <p:nvPr/>
        </p:nvGrpSpPr>
        <p:grpSpPr>
          <a:xfrm>
            <a:off x="1371600" y="1447920"/>
            <a:ext cx="914400" cy="5181480"/>
            <a:chOff x="1371600" y="1447920"/>
            <a:chExt cx="914400" cy="5181480"/>
          </a:xfrm>
        </p:grpSpPr>
        <p:sp>
          <p:nvSpPr>
            <p:cNvPr id="270" name=""/>
            <p:cNvSpPr/>
            <p:nvPr/>
          </p:nvSpPr>
          <p:spPr>
            <a:xfrm>
              <a:off x="1828800" y="1447920"/>
              <a:ext cx="457200" cy="1218960"/>
            </a:xfrm>
            <a:prstGeom prst="rect">
              <a:avLst/>
            </a:prstGeom>
            <a:noFill/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371600" y="5334120"/>
              <a:ext cx="838080" cy="1295280"/>
            </a:xfrm>
            <a:prstGeom prst="rect">
              <a:avLst/>
            </a:prstGeom>
            <a:noFill/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1752480" y="1214280"/>
            <a:ext cx="1295640" cy="4653000"/>
            <a:chOff x="1752480" y="1214280"/>
            <a:chExt cx="1295640" cy="4653000"/>
          </a:xfrm>
        </p:grpSpPr>
        <p:sp>
          <p:nvSpPr>
            <p:cNvPr id="273" name=""/>
            <p:cNvSpPr/>
            <p:nvPr/>
          </p:nvSpPr>
          <p:spPr>
            <a:xfrm>
              <a:off x="2055960" y="1214280"/>
              <a:ext cx="990360" cy="6858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752480" y="4267080"/>
              <a:ext cx="1295640" cy="16002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1676520" y="455760"/>
            <a:ext cx="1446120" cy="3735360"/>
            <a:chOff x="1676520" y="455760"/>
            <a:chExt cx="1446120" cy="3735360"/>
          </a:xfrm>
        </p:grpSpPr>
        <p:sp>
          <p:nvSpPr>
            <p:cNvPr id="276" name=""/>
            <p:cNvSpPr/>
            <p:nvPr/>
          </p:nvSpPr>
          <p:spPr>
            <a:xfrm>
              <a:off x="2055960" y="455760"/>
              <a:ext cx="1066680" cy="761760"/>
            </a:xfrm>
            <a:prstGeom prst="rect">
              <a:avLst/>
            </a:prstGeom>
            <a:noFill/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676520" y="2819520"/>
              <a:ext cx="1295280" cy="1371600"/>
            </a:xfrm>
            <a:prstGeom prst="rect">
              <a:avLst/>
            </a:prstGeom>
            <a:noFill/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3200400" y="1214280"/>
            <a:ext cx="1601640" cy="5643720"/>
            <a:chOff x="3200400" y="1214280"/>
            <a:chExt cx="1601640" cy="5643720"/>
          </a:xfrm>
        </p:grpSpPr>
        <p:sp>
          <p:nvSpPr>
            <p:cNvPr id="279" name=""/>
            <p:cNvSpPr/>
            <p:nvPr/>
          </p:nvSpPr>
          <p:spPr>
            <a:xfrm>
              <a:off x="3583080" y="1214280"/>
              <a:ext cx="1218960" cy="129564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200400" y="5638680"/>
              <a:ext cx="1219320" cy="1219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3581280" y="380880"/>
            <a:ext cx="5562720" cy="2714400"/>
            <a:chOff x="3581280" y="380880"/>
            <a:chExt cx="5562720" cy="2714400"/>
          </a:xfrm>
        </p:grpSpPr>
        <p:grpSp>
          <p:nvGrpSpPr>
            <p:cNvPr id="282" name=""/>
            <p:cNvGrpSpPr/>
            <p:nvPr/>
          </p:nvGrpSpPr>
          <p:grpSpPr>
            <a:xfrm>
              <a:off x="5410080" y="380880"/>
              <a:ext cx="3733920" cy="2714400"/>
              <a:chOff x="5410080" y="380880"/>
              <a:chExt cx="3733920" cy="2714400"/>
            </a:xfrm>
          </p:grpSpPr>
          <p:sp>
            <p:nvSpPr>
              <p:cNvPr id="283" name=""/>
              <p:cNvSpPr/>
              <p:nvPr/>
            </p:nvSpPr>
            <p:spPr>
              <a:xfrm>
                <a:off x="6452640" y="2514600"/>
                <a:ext cx="2672640" cy="580680"/>
              </a:xfrm>
              <a:prstGeom prst="rect">
                <a:avLst/>
              </a:prstGeom>
              <a:solidFill>
                <a:srgbClr val="ccffcc"/>
              </a:solidFill>
              <a:ln w="5400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Do not increase numb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of nod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84" name="Cs-parallel" descr=""/>
              <p:cNvPicPr/>
              <p:nvPr/>
            </p:nvPicPr>
            <p:blipFill>
              <a:blip r:embed="rId3"/>
              <a:stretch/>
            </p:blipFill>
            <p:spPr>
              <a:xfrm>
                <a:off x="5410080" y="380880"/>
                <a:ext cx="3733920" cy="1149480"/>
              </a:xfrm>
              <a:prstGeom prst="rect">
                <a:avLst/>
              </a:prstGeom>
              <a:ln w="54000">
                <a:solidFill>
                  <a:srgbClr val="ccffcc"/>
                </a:solidFill>
                <a:miter/>
              </a:ln>
            </p:spPr>
          </p:pic>
          <p:pic>
            <p:nvPicPr>
              <p:cNvPr id="285" name="Ls-parallel" descr=""/>
              <p:cNvPicPr/>
              <p:nvPr/>
            </p:nvPicPr>
            <p:blipFill>
              <a:blip r:embed="rId4"/>
              <a:stretch/>
            </p:blipFill>
            <p:spPr>
              <a:xfrm>
                <a:off x="6140520" y="1523880"/>
                <a:ext cx="3003480" cy="1065240"/>
              </a:xfrm>
              <a:prstGeom prst="rect">
                <a:avLst/>
              </a:prstGeom>
              <a:ln w="54000">
                <a:solidFill>
                  <a:srgbClr val="ccffcc"/>
                </a:solidFill>
                <a:miter/>
              </a:ln>
            </p:spPr>
          </p:pic>
        </p:grpSp>
        <p:sp>
          <p:nvSpPr>
            <p:cNvPr id="286" name=""/>
            <p:cNvSpPr/>
            <p:nvPr/>
          </p:nvSpPr>
          <p:spPr>
            <a:xfrm>
              <a:off x="3581280" y="38088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87" name="geaux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88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06200" y="190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F13.005A_W1213" descr=""/>
          <p:cNvPicPr/>
          <p:nvPr/>
        </p:nvPicPr>
        <p:blipFill>
          <a:blip r:embed="rId1"/>
          <a:stretch/>
        </p:blipFill>
        <p:spPr>
          <a:xfrm>
            <a:off x="0" y="533520"/>
            <a:ext cx="3905280" cy="2162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2438280" y="0"/>
                <a:ext cx="59454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ind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using  node analysis, loop analysis, superposition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ource transformation, Thevenin's and Norton's theore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3" name=""/>
          <p:cNvSpPr/>
          <p:nvPr/>
        </p:nvSpPr>
        <p:spPr>
          <a:xfrm>
            <a:off x="4108320" y="609480"/>
            <a:ext cx="391140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sume all initial conditions are z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152280" y="3182760"/>
            <a:ext cx="4419720" cy="3095640"/>
            <a:chOff x="152280" y="3182760"/>
            <a:chExt cx="4419720" cy="3095640"/>
          </a:xfrm>
        </p:grpSpPr>
        <p:sp>
          <p:nvSpPr>
            <p:cNvPr id="295" name=""/>
            <p:cNvSpPr/>
            <p:nvPr/>
          </p:nvSpPr>
          <p:spPr>
            <a:xfrm>
              <a:off x="244080" y="3182760"/>
              <a:ext cx="16088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ode Analys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96" name=""/>
            <p:cNvGraphicFramePr/>
            <p:nvPr/>
          </p:nvGraphicFramePr>
          <p:xfrm>
            <a:off x="152280" y="3733920"/>
            <a:ext cx="4419720" cy="2544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9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52280" y="3733920"/>
                      <a:ext cx="4419720" cy="254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4800600" y="1143000"/>
                <a:ext cx="3200400" cy="14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CL @ 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num>
                          <m:den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99" name=""/>
          <p:cNvGrpSpPr/>
          <p:nvPr/>
        </p:nvGrpSpPr>
        <p:grpSpPr>
          <a:xfrm>
            <a:off x="914040" y="4495680"/>
            <a:ext cx="1524240" cy="685800"/>
            <a:chOff x="914040" y="4495680"/>
            <a:chExt cx="1524240" cy="685800"/>
          </a:xfrm>
        </p:grpSpPr>
        <p:sp>
          <p:nvSpPr>
            <p:cNvPr id="300" name=""/>
            <p:cNvSpPr/>
            <p:nvPr/>
          </p:nvSpPr>
          <p:spPr>
            <a:xfrm flipH="1">
              <a:off x="914040" y="449568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600200" y="4648320"/>
              <a:ext cx="0" cy="5331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981080" y="449568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1980720" y="4570560"/>
            <a:ext cx="833760" cy="609480"/>
            <a:chOff x="1980720" y="4570560"/>
            <a:chExt cx="833760" cy="609480"/>
          </a:xfrm>
        </p:grpSpPr>
        <p:sp>
          <p:nvSpPr>
            <p:cNvPr id="304" name=""/>
            <p:cNvSpPr/>
            <p:nvPr/>
          </p:nvSpPr>
          <p:spPr>
            <a:xfrm>
              <a:off x="2814480" y="4570560"/>
              <a:ext cx="0" cy="609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1980720" y="4648320"/>
              <a:ext cx="7621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4800600" y="2590920"/>
                <a:ext cx="22734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CL@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num>
                          <m:den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8077320" y="1905120"/>
                <a:ext cx="290520" cy="17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7086600" y="3062160"/>
                <a:ext cx="303120" cy="2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4800600" y="3886200"/>
                <a:ext cx="292104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10" name=""/>
          <p:cNvGrpSpPr/>
          <p:nvPr/>
        </p:nvGrpSpPr>
        <p:grpSpPr>
          <a:xfrm>
            <a:off x="7772400" y="4038480"/>
            <a:ext cx="838080" cy="711360"/>
            <a:chOff x="7772400" y="4038480"/>
            <a:chExt cx="838080" cy="711360"/>
          </a:xfrm>
        </p:grpSpPr>
        <mc:AlternateContent>
          <mc:Choice xmlns:a14="http://schemas.microsoft.com/office/drawing/2010/main" Requires="a14">
            <p:sp>
              <p:nvSpPr>
                <p:cNvPr id="311" name=""/>
                <p:cNvSpPr txBox="1"/>
                <p:nvPr/>
              </p:nvSpPr>
              <p:spPr>
                <a:xfrm>
                  <a:off x="7772400" y="4419720"/>
                  <a:ext cx="83808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12" name=""/>
                <p:cNvSpPr txBox="1"/>
                <p:nvPr/>
              </p:nvSpPr>
              <p:spPr>
                <a:xfrm>
                  <a:off x="7772400" y="4038480"/>
                  <a:ext cx="40464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5803920" y="5029200"/>
                <a:ext cx="14479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4" name=""/>
          <p:cNvSpPr/>
          <p:nvPr/>
        </p:nvSpPr>
        <p:spPr>
          <a:xfrm>
            <a:off x="7502040" y="2573280"/>
            <a:ext cx="147780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uld ha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d vol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ivider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6943680" y="914400"/>
            <a:ext cx="1360440" cy="838080"/>
            <a:chOff x="6943680" y="914400"/>
            <a:chExt cx="1360440" cy="838080"/>
          </a:xfrm>
        </p:grpSpPr>
        <mc:AlternateContent>
          <mc:Choice xmlns:a14="http://schemas.microsoft.com/office/drawing/2010/main" Requires="a14">
            <p:sp>
              <p:nvSpPr>
                <p:cNvPr id="316" name=""/>
                <p:cNvSpPr txBox="1"/>
                <p:nvPr/>
              </p:nvSpPr>
              <p:spPr>
                <a:xfrm>
                  <a:off x="7772400" y="914400"/>
                  <a:ext cx="531720" cy="83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s</m:t>
                              </m:r>
                            </m:den>
                          </m:f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17" name=""/>
            <p:cNvSpPr/>
            <p:nvPr/>
          </p:nvSpPr>
          <p:spPr>
            <a:xfrm>
              <a:off x="6943680" y="1301760"/>
              <a:ext cx="825480" cy="430200"/>
            </a:xfrm>
            <a:custGeom>
              <a:avLst/>
              <a:gdLst/>
              <a:ahLst/>
              <a:rect l="l" t="t" r="r" b="b"/>
              <a:pathLst>
                <a:path w="520" h="271">
                  <a:moveTo>
                    <a:pt x="520" y="14"/>
                  </a:moveTo>
                  <a:cubicBezTo>
                    <a:pt x="356" y="17"/>
                    <a:pt x="191" y="0"/>
                    <a:pt x="29" y="22"/>
                  </a:cubicBezTo>
                  <a:cubicBezTo>
                    <a:pt x="8" y="25"/>
                    <a:pt x="13" y="84"/>
                    <a:pt x="13" y="84"/>
                  </a:cubicBezTo>
                  <a:cubicBezTo>
                    <a:pt x="10" y="139"/>
                    <a:pt x="0" y="193"/>
                    <a:pt x="5" y="248"/>
                  </a:cubicBezTo>
                  <a:cubicBezTo>
                    <a:pt x="7" y="265"/>
                    <a:pt x="52" y="271"/>
                    <a:pt x="52" y="271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8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19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177120" y="135000"/>
            <a:ext cx="1563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op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0" y="2789280"/>
          <a:ext cx="4419720" cy="254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789280"/>
                    <a:ext cx="4419720" cy="25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24" name="F13.005A_W1213" descr=""/>
          <p:cNvPicPr/>
          <p:nvPr/>
        </p:nvPicPr>
        <p:blipFill>
          <a:blip r:embed="rId3"/>
          <a:stretch/>
        </p:blipFill>
        <p:spPr>
          <a:xfrm>
            <a:off x="0" y="533520"/>
            <a:ext cx="3905280" cy="216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5" name=""/>
          <p:cNvGraphicFramePr/>
          <p:nvPr/>
        </p:nvGraphicFramePr>
        <p:xfrm>
          <a:off x="762120" y="3809880"/>
          <a:ext cx="685800" cy="723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2120" y="3809880"/>
                    <a:ext cx="6858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7" name=""/>
          <p:cNvGraphicFramePr/>
          <p:nvPr/>
        </p:nvGraphicFramePr>
        <p:xfrm>
          <a:off x="1943280" y="3772080"/>
          <a:ext cx="647640" cy="799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43280" y="3772080"/>
                    <a:ext cx="64764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4876920" y="152280"/>
                <a:ext cx="85068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oop 1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4876920" y="1143000"/>
                <a:ext cx="353052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oop 2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5562720" y="2133720"/>
                <a:ext cx="14605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5105520" y="3048120"/>
                <a:ext cx="22730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33" name="geaux" descr=""/>
          <p:cNvPicPr/>
          <p:nvPr/>
        </p:nvPicPr>
        <p:blipFill>
          <a:blip r:embed="rId8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34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113760" y="76320"/>
            <a:ext cx="2326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urce Super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F13.005A_W1213" descr=""/>
          <p:cNvPicPr/>
          <p:nvPr/>
        </p:nvPicPr>
        <p:blipFill>
          <a:blip r:embed="rId1"/>
          <a:stretch/>
        </p:blipFill>
        <p:spPr>
          <a:xfrm>
            <a:off x="0" y="533520"/>
            <a:ext cx="3905280" cy="216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8" name=""/>
          <p:cNvGraphicFramePr/>
          <p:nvPr/>
        </p:nvGraphicFramePr>
        <p:xfrm>
          <a:off x="0" y="2789280"/>
          <a:ext cx="4419720" cy="2544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789280"/>
                    <a:ext cx="4419720" cy="25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40" name="F13.005C_W1213" descr=""/>
          <p:cNvPicPr/>
          <p:nvPr/>
        </p:nvPicPr>
        <p:blipFill>
          <a:blip r:embed="rId4"/>
          <a:stretch/>
        </p:blipFill>
        <p:spPr>
          <a:xfrm>
            <a:off x="4648320" y="341280"/>
            <a:ext cx="3686040" cy="191448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4982400" y="0"/>
            <a:ext cx="2619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pplying current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5585400" y="722160"/>
            <a:ext cx="1729080" cy="1615320"/>
            <a:chOff x="5585400" y="722160"/>
            <a:chExt cx="1729080" cy="1615320"/>
          </a:xfrm>
        </p:grpSpPr>
        <p:grpSp>
          <p:nvGrpSpPr>
            <p:cNvPr id="343" name=""/>
            <p:cNvGrpSpPr/>
            <p:nvPr/>
          </p:nvGrpSpPr>
          <p:grpSpPr>
            <a:xfrm>
              <a:off x="5585400" y="722160"/>
              <a:ext cx="1729080" cy="1615320"/>
              <a:chOff x="5585400" y="722160"/>
              <a:chExt cx="1729080" cy="1615320"/>
            </a:xfrm>
          </p:grpSpPr>
          <p:sp>
            <p:nvSpPr>
              <p:cNvPr id="344" name=""/>
              <p:cNvSpPr/>
              <p:nvPr/>
            </p:nvSpPr>
            <p:spPr>
              <a:xfrm>
                <a:off x="6781680" y="722160"/>
                <a:ext cx="0" cy="6098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585400" y="2000160"/>
                <a:ext cx="1729080" cy="337320"/>
              </a:xfrm>
              <a:prstGeom prst="rect">
                <a:avLst/>
              </a:prstGeom>
              <a:solidFill>
                <a:srgbClr val="ccffcc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Current divid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46" name=""/>
                <p:cNvSpPr txBox="1"/>
                <p:nvPr/>
              </p:nvSpPr>
              <p:spPr>
                <a:xfrm>
                  <a:off x="6705720" y="1371600"/>
                  <a:ext cx="23976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5181480" y="2362320"/>
                <a:ext cx="21718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48" name=""/>
          <p:cNvGrpSpPr/>
          <p:nvPr/>
        </p:nvGrpSpPr>
        <p:grpSpPr>
          <a:xfrm>
            <a:off x="4876920" y="3244680"/>
            <a:ext cx="3267000" cy="2308320"/>
            <a:chOff x="4876920" y="3244680"/>
            <a:chExt cx="3267000" cy="2308320"/>
          </a:xfrm>
        </p:grpSpPr>
        <p:sp>
          <p:nvSpPr>
            <p:cNvPr id="349" name=""/>
            <p:cNvSpPr/>
            <p:nvPr/>
          </p:nvSpPr>
          <p:spPr>
            <a:xfrm>
              <a:off x="5063400" y="3244680"/>
              <a:ext cx="26208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pplying voltage sour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0" name="F13.005D_W1213" descr=""/>
            <p:cNvPicPr/>
            <p:nvPr/>
          </p:nvPicPr>
          <p:blipFill>
            <a:blip r:embed="rId5"/>
            <a:stretch/>
          </p:blipFill>
          <p:spPr>
            <a:xfrm>
              <a:off x="4876920" y="3657600"/>
              <a:ext cx="3267000" cy="189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"/>
          <p:cNvSpPr/>
          <p:nvPr/>
        </p:nvSpPr>
        <p:spPr>
          <a:xfrm>
            <a:off x="5727240" y="5316480"/>
            <a:ext cx="172008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 divi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5562720" y="5715000"/>
                <a:ext cx="19684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 \( s \) = {  {2}  over  {2+ {  {1}  over  {s} } +s} }  times  {  {</m:t>
                        </m:r>
                        <m: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}  over  {s} } 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450720" y="5829480"/>
                <a:ext cx="2882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o</m:t>
                            </m:r>
                          </m:sub>
                        </m:sSub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o</m:t>
                            </m:r>
                          </m:sub>
                        </m:sSub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size 12{ \( s \) = {  {8 \( s+3 \) }  over  { \( s+1 \)  rSup {2} } } }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pic>
        <p:nvPicPr>
          <p:cNvPr id="354" name="geaux" descr=""/>
          <p:cNvPicPr/>
          <p:nvPr/>
        </p:nvPicPr>
        <p:blipFill>
          <a:blip r:embed="rId6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5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173880" y="135000"/>
            <a:ext cx="2506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urce Trans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152280" y="533520"/>
          <a:ext cx="4419720" cy="254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533520"/>
                    <a:ext cx="4419720" cy="25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0" name=""/>
          <p:cNvSpPr/>
          <p:nvPr/>
        </p:nvSpPr>
        <p:spPr>
          <a:xfrm>
            <a:off x="1447920" y="685800"/>
            <a:ext cx="914400" cy="27432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F13.005E_W1213" descr=""/>
          <p:cNvPicPr/>
          <p:nvPr/>
        </p:nvPicPr>
        <p:blipFill>
          <a:blip r:embed="rId3"/>
          <a:stretch/>
        </p:blipFill>
        <p:spPr>
          <a:xfrm>
            <a:off x="152280" y="4191120"/>
            <a:ext cx="4619880" cy="190476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990720" y="3962520"/>
            <a:ext cx="1828800" cy="1981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44520" y="5943600"/>
            <a:ext cx="299268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resistance is redund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4040280"/>
            <a:ext cx="2057400" cy="18288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930200" y="58680"/>
            <a:ext cx="39571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bine the sources and use 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ivi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5638680" y="762120"/>
                <a:ext cx="266724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5975280" y="2057400"/>
                <a:ext cx="14479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8" name=""/>
          <p:cNvSpPr/>
          <p:nvPr/>
        </p:nvSpPr>
        <p:spPr>
          <a:xfrm>
            <a:off x="3276720" y="4495680"/>
            <a:ext cx="0" cy="83844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70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136800" y="76320"/>
            <a:ext cx="2850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Thevenin’s Theor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152280" y="609480"/>
          <a:ext cx="4419720" cy="254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09480"/>
                    <a:ext cx="4419720" cy="25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75" name=""/>
          <p:cNvGrpSpPr/>
          <p:nvPr/>
        </p:nvGrpSpPr>
        <p:grpSpPr>
          <a:xfrm>
            <a:off x="0" y="439560"/>
            <a:ext cx="4683240" cy="2837160"/>
            <a:chOff x="0" y="439560"/>
            <a:chExt cx="4683240" cy="2837160"/>
          </a:xfrm>
        </p:grpSpPr>
        <p:sp>
          <p:nvSpPr>
            <p:cNvPr id="376" name=""/>
            <p:cNvSpPr/>
            <p:nvPr/>
          </p:nvSpPr>
          <p:spPr>
            <a:xfrm>
              <a:off x="0" y="457200"/>
              <a:ext cx="2819520" cy="28195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842920" y="439560"/>
              <a:ext cx="184032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duce this p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8" name="F13.005F_W1213" descr=""/>
          <p:cNvPicPr/>
          <p:nvPr/>
        </p:nvPicPr>
        <p:blipFill>
          <a:blip r:embed="rId3"/>
          <a:stretch/>
        </p:blipFill>
        <p:spPr>
          <a:xfrm>
            <a:off x="304920" y="3429000"/>
            <a:ext cx="2495520" cy="1914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546120" y="5105520"/>
                <a:ext cx="248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r>
                      <m:t xml:space="preserve">s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0" name=""/>
          <p:cNvSpPr/>
          <p:nvPr/>
        </p:nvSpPr>
        <p:spPr>
          <a:xfrm>
            <a:off x="425160" y="5925960"/>
            <a:ext cx="2827800" cy="337320"/>
          </a:xfrm>
          <a:prstGeom prst="rect">
            <a:avLst/>
          </a:prstGeom>
          <a:solidFill>
            <a:srgbClr val="ccffcc"/>
          </a:solidFill>
          <a:ln w="255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ly independent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F13.005G_W1213" descr=""/>
          <p:cNvPicPr/>
          <p:nvPr/>
        </p:nvPicPr>
        <p:blipFill>
          <a:blip r:embed="rId4"/>
          <a:stretch/>
        </p:blipFill>
        <p:spPr>
          <a:xfrm>
            <a:off x="5334120" y="228600"/>
            <a:ext cx="2771640" cy="1914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5568840" y="1879560"/>
                <a:ext cx="1803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83" name="F13.005H_W1213" descr=""/>
          <p:cNvPicPr/>
          <p:nvPr/>
        </p:nvPicPr>
        <p:blipFill>
          <a:blip r:embed="rId5"/>
          <a:stretch/>
        </p:blipFill>
        <p:spPr>
          <a:xfrm>
            <a:off x="5181480" y="2971800"/>
            <a:ext cx="2524320" cy="1971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5105520" y="4724280"/>
                <a:ext cx="2298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den>
                    </m:f>
                    <m:f>
                      <m:num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5" name=""/>
          <p:cNvSpPr/>
          <p:nvPr/>
        </p:nvSpPr>
        <p:spPr>
          <a:xfrm>
            <a:off x="7994160" y="3411360"/>
            <a:ext cx="9579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ivi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5638680" y="5715000"/>
                <a:ext cx="14479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87" name="geaux" descr=""/>
          <p:cNvPicPr/>
          <p:nvPr/>
        </p:nvPicPr>
        <p:blipFill>
          <a:blip r:embed="rId6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88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195840" y="76320"/>
            <a:ext cx="2643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Norton’s Theor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152280" y="685800"/>
          <a:ext cx="4419720" cy="254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85800"/>
                    <a:ext cx="4419720" cy="25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93" name="F13.005I_W1214" descr=""/>
          <p:cNvPicPr/>
          <p:nvPr/>
        </p:nvPicPr>
        <p:blipFill>
          <a:blip r:embed="rId3"/>
          <a:stretch/>
        </p:blipFill>
        <p:spPr>
          <a:xfrm>
            <a:off x="609480" y="3429000"/>
            <a:ext cx="2276640" cy="2019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533520" y="5181480"/>
                <a:ext cx="25653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95" name=""/>
          <p:cNvGrpSpPr/>
          <p:nvPr/>
        </p:nvGrpSpPr>
        <p:grpSpPr>
          <a:xfrm>
            <a:off x="76320" y="439560"/>
            <a:ext cx="4606920" cy="2837160"/>
            <a:chOff x="76320" y="439560"/>
            <a:chExt cx="4606920" cy="2837160"/>
          </a:xfrm>
        </p:grpSpPr>
        <p:sp>
          <p:nvSpPr>
            <p:cNvPr id="396" name=""/>
            <p:cNvSpPr/>
            <p:nvPr/>
          </p:nvSpPr>
          <p:spPr>
            <a:xfrm>
              <a:off x="2842920" y="439560"/>
              <a:ext cx="184032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duce this p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6320" y="533520"/>
              <a:ext cx="2209680" cy="27432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5334120" y="0"/>
            <a:ext cx="2771640" cy="2143080"/>
            <a:chOff x="5334120" y="0"/>
            <a:chExt cx="2771640" cy="2143080"/>
          </a:xfrm>
        </p:grpSpPr>
        <p:pic>
          <p:nvPicPr>
            <p:cNvPr id="399" name="F13.005G_W1213" descr=""/>
            <p:cNvPicPr/>
            <p:nvPr/>
          </p:nvPicPr>
          <p:blipFill>
            <a:blip r:embed="rId4"/>
            <a:stretch/>
          </p:blipFill>
          <p:spPr>
            <a:xfrm>
              <a:off x="5334120" y="228600"/>
              <a:ext cx="2771640" cy="191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6553080" y="0"/>
              <a:ext cx="106704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6095880" y="1905120"/>
                <a:ext cx="722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02" name="F13.005J_W1214" descr=""/>
          <p:cNvPicPr/>
          <p:nvPr/>
        </p:nvPicPr>
        <p:blipFill>
          <a:blip r:embed="rId5"/>
          <a:stretch/>
        </p:blipFill>
        <p:spPr>
          <a:xfrm>
            <a:off x="4952880" y="2514600"/>
            <a:ext cx="3124440" cy="195264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6858000" y="2971800"/>
            <a:ext cx="0" cy="76212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5181480" y="4267080"/>
                <a:ext cx="252756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5943600" y="5181480"/>
                <a:ext cx="14479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6" name=""/>
          <p:cNvSpPr/>
          <p:nvPr/>
        </p:nvSpPr>
        <p:spPr>
          <a:xfrm>
            <a:off x="8008920" y="2649600"/>
            <a:ext cx="97020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i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geaux" descr=""/>
          <p:cNvPicPr/>
          <p:nvPr/>
        </p:nvPicPr>
        <p:blipFill>
          <a:blip r:embed="rId6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08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31320" y="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1" name="F13.006A_W1215" descr=""/>
          <p:cNvPicPr/>
          <p:nvPr/>
        </p:nvPicPr>
        <p:blipFill>
          <a:blip r:embed="rId1"/>
          <a:stretch/>
        </p:blipFill>
        <p:spPr>
          <a:xfrm>
            <a:off x="0" y="533520"/>
            <a:ext cx="4114800" cy="1885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2362320" y="14400"/>
                <a:ext cx="6643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the voltage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Assume all initial conditions to be zer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3" name=""/>
          <p:cNvSpPr/>
          <p:nvPr/>
        </p:nvSpPr>
        <p:spPr>
          <a:xfrm>
            <a:off x="4259160" y="838080"/>
            <a:ext cx="4822920" cy="1797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. Three loops, three non-reference 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. One voltage source between non-re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des - supern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. One current source. One loop current kn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r superme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. If v_2 is known, v_o can be obtained with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 divi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521240" y="363600"/>
            <a:ext cx="3509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lecting the analysis techniqu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5880" y="2286000"/>
            <a:ext cx="3909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orming the circuit to s-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F13.006B_W1215" descr=""/>
          <p:cNvPicPr/>
          <p:nvPr/>
        </p:nvPicPr>
        <p:blipFill>
          <a:blip r:embed="rId2"/>
          <a:stretch/>
        </p:blipFill>
        <p:spPr>
          <a:xfrm>
            <a:off x="216000" y="2666880"/>
            <a:ext cx="4371840" cy="2171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50760" y="4495680"/>
                <a:ext cx="41148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upernode constraint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18" name=""/>
          <p:cNvGrpSpPr/>
          <p:nvPr/>
        </p:nvGrpSpPr>
        <p:grpSpPr>
          <a:xfrm>
            <a:off x="977760" y="3429000"/>
            <a:ext cx="1981080" cy="685800"/>
            <a:chOff x="977760" y="3429000"/>
            <a:chExt cx="1981080" cy="685800"/>
          </a:xfrm>
        </p:grpSpPr>
        <p:sp>
          <p:nvSpPr>
            <p:cNvPr id="419" name=""/>
            <p:cNvSpPr/>
            <p:nvPr/>
          </p:nvSpPr>
          <p:spPr>
            <a:xfrm>
              <a:off x="977760" y="3429000"/>
              <a:ext cx="0" cy="457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434960" y="3429000"/>
              <a:ext cx="0" cy="6858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120760" y="3429000"/>
              <a:ext cx="0" cy="6858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425320" y="342900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50760" y="5075280"/>
                <a:ext cx="48261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CL@ supernode: 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den>
                    </m:f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50760" y="5656320"/>
                <a:ext cx="33782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ntrolling variable: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50760" y="6222960"/>
                <a:ext cx="33148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oltage divider: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4711680" y="2971800"/>
                <a:ext cx="3898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oing the algebra: 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6769080" y="3352680"/>
                <a:ext cx="2070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fPr>
                        <m:type m:val="lin"/>
                      </m:fPr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4800600" y="3733920"/>
                <a:ext cx="42163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</m:den>
                        </m:f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5943600" y="4495680"/>
                <a:ext cx="20955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5994360" y="5257800"/>
                <a:ext cx="19940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31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32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41760" y="76320"/>
            <a:ext cx="1459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tinued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F13.006B_W1215" descr=""/>
          <p:cNvPicPr/>
          <p:nvPr/>
        </p:nvPicPr>
        <p:blipFill>
          <a:blip r:embed="rId1"/>
          <a:stretch/>
        </p:blipFill>
        <p:spPr>
          <a:xfrm>
            <a:off x="47520" y="533520"/>
            <a:ext cx="4372200" cy="2171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1600200" y="76320"/>
                <a:ext cx="4152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ute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using Thevenin's theore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7" name=""/>
          <p:cNvSpPr/>
          <p:nvPr/>
        </p:nvSpPr>
        <p:spPr>
          <a:xfrm>
            <a:off x="260280" y="507960"/>
            <a:ext cx="2444760" cy="2003400"/>
          </a:xfrm>
          <a:custGeom>
            <a:avLst/>
            <a:gdLst/>
            <a:ahLst/>
            <a:rect l="l" t="t" r="r" b="b"/>
            <a:pathLst>
              <a:path w="1540" h="1262">
                <a:moveTo>
                  <a:pt x="1278" y="0"/>
                </a:moveTo>
                <a:cubicBezTo>
                  <a:pt x="1280" y="125"/>
                  <a:pt x="1281" y="249"/>
                  <a:pt x="1285" y="374"/>
                </a:cubicBezTo>
                <a:cubicBezTo>
                  <a:pt x="1288" y="470"/>
                  <a:pt x="1340" y="509"/>
                  <a:pt x="1426" y="537"/>
                </a:cubicBezTo>
                <a:cubicBezTo>
                  <a:pt x="1444" y="558"/>
                  <a:pt x="1468" y="575"/>
                  <a:pt x="1480" y="600"/>
                </a:cubicBezTo>
                <a:cubicBezTo>
                  <a:pt x="1494" y="629"/>
                  <a:pt x="1504" y="693"/>
                  <a:pt x="1504" y="693"/>
                </a:cubicBezTo>
                <a:cubicBezTo>
                  <a:pt x="1498" y="834"/>
                  <a:pt x="1540" y="887"/>
                  <a:pt x="1426" y="927"/>
                </a:cubicBezTo>
                <a:cubicBezTo>
                  <a:pt x="1382" y="971"/>
                  <a:pt x="1393" y="976"/>
                  <a:pt x="1332" y="997"/>
                </a:cubicBezTo>
                <a:cubicBezTo>
                  <a:pt x="1300" y="1097"/>
                  <a:pt x="1195" y="1137"/>
                  <a:pt x="1098" y="1161"/>
                </a:cubicBezTo>
                <a:cubicBezTo>
                  <a:pt x="982" y="1189"/>
                  <a:pt x="869" y="1244"/>
                  <a:pt x="748" y="1254"/>
                </a:cubicBezTo>
                <a:cubicBezTo>
                  <a:pt x="678" y="1260"/>
                  <a:pt x="607" y="1259"/>
                  <a:pt x="537" y="1262"/>
                </a:cubicBezTo>
                <a:cubicBezTo>
                  <a:pt x="462" y="1257"/>
                  <a:pt x="386" y="1251"/>
                  <a:pt x="311" y="1246"/>
                </a:cubicBezTo>
                <a:cubicBezTo>
                  <a:pt x="204" y="1238"/>
                  <a:pt x="130" y="1163"/>
                  <a:pt x="31" y="1137"/>
                </a:cubicBezTo>
                <a:cubicBezTo>
                  <a:pt x="23" y="1059"/>
                  <a:pt x="17" y="981"/>
                  <a:pt x="0" y="904"/>
                </a:cubicBezTo>
                <a:cubicBezTo>
                  <a:pt x="4" y="784"/>
                  <a:pt x="4" y="661"/>
                  <a:pt x="39" y="545"/>
                </a:cubicBezTo>
                <a:cubicBezTo>
                  <a:pt x="43" y="530"/>
                  <a:pt x="63" y="442"/>
                  <a:pt x="93" y="420"/>
                </a:cubicBezTo>
                <a:cubicBezTo>
                  <a:pt x="185" y="351"/>
                  <a:pt x="299" y="339"/>
                  <a:pt x="405" y="303"/>
                </a:cubicBezTo>
                <a:cubicBezTo>
                  <a:pt x="428" y="231"/>
                  <a:pt x="471" y="166"/>
                  <a:pt x="491" y="93"/>
                </a:cubicBezTo>
                <a:cubicBezTo>
                  <a:pt x="497" y="71"/>
                  <a:pt x="504" y="26"/>
                  <a:pt x="537" y="23"/>
                </a:cubicBezTo>
                <a:cubicBezTo>
                  <a:pt x="607" y="16"/>
                  <a:pt x="678" y="16"/>
                  <a:pt x="748" y="15"/>
                </a:cubicBezTo>
                <a:cubicBezTo>
                  <a:pt x="899" y="13"/>
                  <a:pt x="1049" y="15"/>
                  <a:pt x="1200" y="15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8480" y="380880"/>
            <a:ext cx="4464720" cy="1554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-keep dependent source and contro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ariable in the same sub-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-Make sub-circuit to be reduced as si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 poss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-Try to leave a simple voltage divider af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duction to Thevenin equival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9" name="F13.006C_W1215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2685960" cy="2095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152280" y="3048120"/>
                <a:ext cx="1054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41" name=""/>
          <p:cNvGrpSpPr/>
          <p:nvPr/>
        </p:nvGrpSpPr>
        <p:grpSpPr>
          <a:xfrm>
            <a:off x="456840" y="3581280"/>
            <a:ext cx="1676880" cy="685800"/>
            <a:chOff x="456840" y="3581280"/>
            <a:chExt cx="1676880" cy="685800"/>
          </a:xfrm>
        </p:grpSpPr>
        <p:sp>
          <p:nvSpPr>
            <p:cNvPr id="442" name=""/>
            <p:cNvSpPr/>
            <p:nvPr/>
          </p:nvSpPr>
          <p:spPr>
            <a:xfrm flipH="1">
              <a:off x="456840" y="3581280"/>
              <a:ext cx="304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62120" y="3657600"/>
              <a:ext cx="0" cy="3808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133720" y="3733920"/>
              <a:ext cx="0" cy="5331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12600" y="4648320"/>
                <a:ext cx="311148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num>
                          <m:den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den>
                        </m:f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2133720" y="5181480"/>
                <a:ext cx="11300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380880" y="6019920"/>
                <a:ext cx="32767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'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'</m:t>
                    </m:r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</m:den>
                    </m:f>
                    <m:f>
                      <m:fPr>
                        <m:type m:val="lin"/>
                      </m:fPr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I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48" name="F13.006D_W1215" descr=""/>
          <p:cNvPicPr/>
          <p:nvPr/>
        </p:nvPicPr>
        <p:blipFill>
          <a:blip r:embed="rId3"/>
          <a:stretch/>
        </p:blipFill>
        <p:spPr>
          <a:xfrm>
            <a:off x="4952880" y="1981080"/>
            <a:ext cx="2819520" cy="2217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4343400" y="3809880"/>
                <a:ext cx="2616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 - I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I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\( 2/s \) =0} {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50" name=""/>
          <p:cNvGrpSpPr/>
          <p:nvPr/>
        </p:nvGrpSpPr>
        <p:grpSpPr>
          <a:xfrm>
            <a:off x="5257800" y="2703600"/>
            <a:ext cx="1981080" cy="685800"/>
            <a:chOff x="5257800" y="2703600"/>
            <a:chExt cx="1981080" cy="685800"/>
          </a:xfrm>
        </p:grpSpPr>
        <p:sp>
          <p:nvSpPr>
            <p:cNvPr id="451" name=""/>
            <p:cNvSpPr/>
            <p:nvPr/>
          </p:nvSpPr>
          <p:spPr>
            <a:xfrm flipH="1">
              <a:off x="5257800" y="2779920"/>
              <a:ext cx="380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562720" y="2932200"/>
              <a:ext cx="0" cy="2286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934320" y="2932200"/>
              <a:ext cx="0" cy="457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858000" y="2703600"/>
              <a:ext cx="380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4343400" y="2703600"/>
                <a:ext cx="46980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</m:e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  <m:e>
                        <m:r>
                          <m:t xml:space="preserve">+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7315200" y="3809880"/>
                <a:ext cx="7732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=6/s} {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4572000" y="4191120"/>
                <a:ext cx="13208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6095880" y="4114800"/>
                <a:ext cx="19940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59" name="F13.006E_W1215" descr=""/>
          <p:cNvPicPr/>
          <p:nvPr/>
        </p:nvPicPr>
        <p:blipFill>
          <a:blip r:embed="rId4"/>
          <a:stretch/>
        </p:blipFill>
        <p:spPr>
          <a:xfrm>
            <a:off x="3809880" y="4867200"/>
            <a:ext cx="3009960" cy="1990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6781680" y="4876920"/>
                <a:ext cx="22226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den>
                        </m:f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61" name="geaux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62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40640" y="50760"/>
            <a:ext cx="4659840" cy="4597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LAPLACE CIRCUIT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6560" y="609480"/>
            <a:ext cx="78480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compare a conventional approach to solve differential equations with 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echnique using the Laplace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F13.001_W1206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3276720" cy="1392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457200" y="2629080"/>
                <a:ext cx="26924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VL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304920" y="3238560"/>
                <a:ext cx="359388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mplementary equation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L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αt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3429000" y="2514600"/>
                <a:ext cx="92700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304920" y="4152960"/>
                <a:ext cx="35179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α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304920" y="4686480"/>
                <a:ext cx="31114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articular solution for this case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1523880" y="4991040"/>
                <a:ext cx="14986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76320" y="5386320"/>
                <a:ext cx="168912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1828800" y="5372280"/>
                <a:ext cx="27176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Use boundary conditions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for t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 i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838080" y="6019920"/>
                <a:ext cx="224820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R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4696560" y="1219320"/>
            <a:ext cx="4368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ake Laplace transform” of the eq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4648320" y="2209680"/>
                <a:ext cx="22604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4648320" y="2819520"/>
                <a:ext cx="2577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4572000" y="3429000"/>
                <a:ext cx="19177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s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6934320" y="3429000"/>
                <a:ext cx="15746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4495680" y="4038480"/>
                <a:ext cx="32004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4572000" y="4648320"/>
                <a:ext cx="304812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R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4572000" y="5867280"/>
                <a:ext cx="224784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R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4648320" y="1600200"/>
                <a:ext cx="21589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2" name=""/>
          <p:cNvGrpSpPr/>
          <p:nvPr/>
        </p:nvGrpSpPr>
        <p:grpSpPr>
          <a:xfrm>
            <a:off x="6821640" y="1806480"/>
            <a:ext cx="675720" cy="777960"/>
            <a:chOff x="6821640" y="1806480"/>
            <a:chExt cx="675720" cy="777960"/>
          </a:xfrm>
        </p:grpSpPr>
        <mc:AlternateContent>
          <mc:Choice xmlns:a14="http://schemas.microsoft.com/office/drawing/2010/main" Requires="a14">
            <p:sp>
              <p:nvSpPr>
                <p:cNvPr id="73" name=""/>
                <p:cNvSpPr txBox="1"/>
                <p:nvPr/>
              </p:nvSpPr>
              <p:spPr>
                <a:xfrm>
                  <a:off x="7162560" y="2057400"/>
                  <a:ext cx="33480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4" name=""/>
            <p:cNvSpPr/>
            <p:nvPr/>
          </p:nvSpPr>
          <p:spPr>
            <a:xfrm>
              <a:off x="6821640" y="1806480"/>
              <a:ext cx="348840" cy="777960"/>
            </a:xfrm>
            <a:custGeom>
              <a:avLst/>
              <a:gdLst/>
              <a:ahLst/>
              <a:rect l="l" t="t" r="r" b="b"/>
              <a:pathLst>
                <a:path w="220" h="490">
                  <a:moveTo>
                    <a:pt x="0" y="0"/>
                  </a:moveTo>
                  <a:cubicBezTo>
                    <a:pt x="31" y="3"/>
                    <a:pt x="62" y="2"/>
                    <a:pt x="93" y="8"/>
                  </a:cubicBezTo>
                  <a:cubicBezTo>
                    <a:pt x="136" y="16"/>
                    <a:pt x="158" y="66"/>
                    <a:pt x="187" y="93"/>
                  </a:cubicBezTo>
                  <a:cubicBezTo>
                    <a:pt x="201" y="137"/>
                    <a:pt x="203" y="182"/>
                    <a:pt x="218" y="226"/>
                  </a:cubicBezTo>
                  <a:cubicBezTo>
                    <a:pt x="215" y="262"/>
                    <a:pt x="220" y="300"/>
                    <a:pt x="210" y="335"/>
                  </a:cubicBezTo>
                  <a:cubicBezTo>
                    <a:pt x="209" y="337"/>
                    <a:pt x="130" y="401"/>
                    <a:pt x="124" y="405"/>
                  </a:cubicBezTo>
                  <a:cubicBezTo>
                    <a:pt x="114" y="421"/>
                    <a:pt x="103" y="436"/>
                    <a:pt x="93" y="452"/>
                  </a:cubicBezTo>
                  <a:cubicBezTo>
                    <a:pt x="68" y="490"/>
                    <a:pt x="70" y="443"/>
                    <a:pt x="70" y="467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7246080" y="2496960"/>
            <a:ext cx="197460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itial condi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re automatical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clu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786080" y="4859280"/>
            <a:ext cx="1291680" cy="1554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 need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arch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artic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r comple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ent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l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715160" y="4021200"/>
            <a:ext cx="148068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ly alge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s nee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101120" y="2819520"/>
            <a:ext cx="313200" cy="2527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3579120" y="1201680"/>
            <a:ext cx="1050840" cy="1312920"/>
            <a:chOff x="3579120" y="1201680"/>
            <a:chExt cx="1050840" cy="1312920"/>
          </a:xfrm>
        </p:grpSpPr>
        <p:sp>
          <p:nvSpPr>
            <p:cNvPr id="80" name=""/>
            <p:cNvSpPr/>
            <p:nvPr/>
          </p:nvSpPr>
          <p:spPr>
            <a:xfrm>
              <a:off x="3579120" y="1201680"/>
              <a:ext cx="105084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ent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3809880" y="1752480"/>
              <a:ext cx="152640" cy="76212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2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3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124200" y="58680"/>
            <a:ext cx="1459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tinued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797840" y="58680"/>
            <a:ext cx="4406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ing the inverse Laplace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18880" y="515880"/>
            <a:ext cx="78220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sis in the s-domain has established that the  Laplace transform of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utput voltage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7" name=""/>
              <p:cNvSpPr txBox="1"/>
              <p:nvPr/>
            </p:nvSpPr>
            <p:spPr>
              <a:xfrm>
                <a:off x="92160" y="1143000"/>
                <a:ext cx="1993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2286000" y="1143000"/>
                <a:ext cx="31748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76320" y="1752480"/>
                <a:ext cx="58039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/>
                        </m:sSubSup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3670200" y="2438280"/>
                <a:ext cx="54738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jβ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/>
                        </m:sSubSup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jβ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↔</m:t>
                    </m:r>
                    <m:r>
                      <m:t xml:space="preserve">2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βt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76320" y="2514600"/>
                <a:ext cx="20444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0" y="3124080"/>
                <a:ext cx="647712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  <m:r>
                              <m:t xml:space="preserve">°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</m:t>
                            </m:r>
                            <m:r>
                              <m:t xml:space="preserve">°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  <m:r>
                              <m:t xml:space="preserve">°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9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6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5181480" y="4114800"/>
                <a:ext cx="39117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9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5486400" y="1143000"/>
                <a:ext cx="11937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0" y="4191120"/>
                <a:ext cx="48387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3429000" y="4800600"/>
                <a:ext cx="57024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β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↔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t xml:space="preserve">[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βt</m:t>
                    </m:r>
                    <m:r>
                      <m:t xml:space="preserve">]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38160" y="4876920"/>
                <a:ext cx="2095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38160" y="5410080"/>
                <a:ext cx="41529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s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"/>
              <p:cNvSpPr txBox="1"/>
              <p:nvPr/>
            </p:nvSpPr>
            <p:spPr>
              <a:xfrm>
                <a:off x="4343400" y="5486400"/>
                <a:ext cx="4648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"/>
              <p:cNvSpPr txBox="1"/>
              <p:nvPr/>
            </p:nvSpPr>
            <p:spPr>
              <a:xfrm>
                <a:off x="0" y="5791320"/>
                <a:ext cx="54100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Equating coefficients of 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76320" y="6184800"/>
                <a:ext cx="40129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2" name=""/>
          <p:cNvSpPr/>
          <p:nvPr/>
        </p:nvSpPr>
        <p:spPr>
          <a:xfrm>
            <a:off x="6932160" y="3182760"/>
            <a:ext cx="2094840" cy="5806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e can also 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quadratic factors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3" name="geaux" descr=""/>
          <p:cNvPicPr/>
          <p:nvPr/>
        </p:nvPicPr>
        <p:blipFill>
          <a:blip r:embed="rId1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84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3384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2590920" y="76320"/>
                <a:ext cx="3085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using node equations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88" name="E13.001_W1216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3504960" cy="1851120"/>
          </a:xfrm>
          <a:prstGeom prst="rect">
            <a:avLst/>
          </a:prstGeom>
          <a:ln w="0">
            <a:noFill/>
          </a:ln>
        </p:spPr>
      </p:pic>
      <p:grpSp>
        <p:nvGrpSpPr>
          <p:cNvPr id="489" name=""/>
          <p:cNvGrpSpPr/>
          <p:nvPr/>
        </p:nvGrpSpPr>
        <p:grpSpPr>
          <a:xfrm>
            <a:off x="1219320" y="592200"/>
            <a:ext cx="2721960" cy="1236600"/>
            <a:chOff x="1219320" y="592200"/>
            <a:chExt cx="2721960" cy="1236600"/>
          </a:xfrm>
        </p:grpSpPr>
        <p:sp>
          <p:nvSpPr>
            <p:cNvPr id="490" name=""/>
            <p:cNvSpPr/>
            <p:nvPr/>
          </p:nvSpPr>
          <p:spPr>
            <a:xfrm>
              <a:off x="1219320" y="609480"/>
              <a:ext cx="1676160" cy="1219320"/>
            </a:xfrm>
            <a:prstGeom prst="ellipse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681640" y="592200"/>
              <a:ext cx="125964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uper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3048120" y="990720"/>
            <a:ext cx="239760" cy="457200"/>
            <a:chOff x="3048120" y="990720"/>
            <a:chExt cx="239760" cy="457200"/>
          </a:xfrm>
        </p:grpSpPr>
        <p:sp>
          <p:nvSpPr>
            <p:cNvPr id="493" name=""/>
            <p:cNvSpPr/>
            <p:nvPr/>
          </p:nvSpPr>
          <p:spPr>
            <a:xfrm>
              <a:off x="3048120" y="1295280"/>
              <a:ext cx="228600" cy="152640"/>
            </a:xfrm>
            <a:prstGeom prst="ellipse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4" name=""/>
                <p:cNvSpPr txBox="1"/>
                <p:nvPr/>
              </p:nvSpPr>
              <p:spPr>
                <a:xfrm>
                  <a:off x="3048120" y="990720"/>
                  <a:ext cx="23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95" name=""/>
          <p:cNvGrpSpPr/>
          <p:nvPr/>
        </p:nvGrpSpPr>
        <p:grpSpPr>
          <a:xfrm>
            <a:off x="507960" y="852480"/>
            <a:ext cx="711360" cy="595440"/>
            <a:chOff x="507960" y="852480"/>
            <a:chExt cx="711360" cy="595440"/>
          </a:xfrm>
        </p:grpSpPr>
        <p:sp>
          <p:nvSpPr>
            <p:cNvPr id="496" name=""/>
            <p:cNvSpPr/>
            <p:nvPr/>
          </p:nvSpPr>
          <p:spPr>
            <a:xfrm>
              <a:off x="838080" y="1219320"/>
              <a:ext cx="304920" cy="228600"/>
            </a:xfrm>
            <a:prstGeom prst="ellipse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7" name=""/>
                <p:cNvSpPr txBox="1"/>
                <p:nvPr/>
              </p:nvSpPr>
              <p:spPr>
                <a:xfrm>
                  <a:off x="507960" y="852480"/>
                  <a:ext cx="711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98" name=""/>
          <p:cNvSpPr/>
          <p:nvPr/>
        </p:nvSpPr>
        <p:spPr>
          <a:xfrm>
            <a:off x="4531680" y="439560"/>
            <a:ext cx="45331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sume zero initial condi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licit circuit transformation to s-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9" name=""/>
              <p:cNvSpPr txBox="1"/>
              <p:nvPr/>
            </p:nvSpPr>
            <p:spPr>
              <a:xfrm>
                <a:off x="1981080" y="533520"/>
                <a:ext cx="279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00" name=""/>
          <p:cNvSpPr/>
          <p:nvPr/>
        </p:nvSpPr>
        <p:spPr>
          <a:xfrm>
            <a:off x="101160" y="2666880"/>
            <a:ext cx="19548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KCL at supern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609480" y="1447920"/>
            <a:ext cx="2667240" cy="990360"/>
            <a:chOff x="609480" y="1447920"/>
            <a:chExt cx="2667240" cy="990360"/>
          </a:xfrm>
        </p:grpSpPr>
        <p:sp>
          <p:nvSpPr>
            <p:cNvPr id="502" name=""/>
            <p:cNvSpPr/>
            <p:nvPr/>
          </p:nvSpPr>
          <p:spPr>
            <a:xfrm>
              <a:off x="609480" y="1447920"/>
              <a:ext cx="0" cy="3045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295280" y="1523880"/>
              <a:ext cx="0" cy="9144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514600" y="1600200"/>
              <a:ext cx="0" cy="8380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819520" y="160020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06" name=""/>
              <p:cNvSpPr txBox="1"/>
              <p:nvPr/>
            </p:nvSpPr>
            <p:spPr>
              <a:xfrm>
                <a:off x="61920" y="3065400"/>
                <a:ext cx="37846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61920" y="3657600"/>
                <a:ext cx="25146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8" name=""/>
              <p:cNvSpPr txBox="1"/>
              <p:nvPr/>
            </p:nvSpPr>
            <p:spPr>
              <a:xfrm>
                <a:off x="61920" y="4203720"/>
                <a:ext cx="331452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oing the algebra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  <m:r>
                              <m:t xml:space="preserve">s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  <m:r>
                              <m:t xml:space="preserve">s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4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den>
                            </m:f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9" name=""/>
              <p:cNvSpPr txBox="1"/>
              <p:nvPr/>
            </p:nvSpPr>
            <p:spPr>
              <a:xfrm>
                <a:off x="61920" y="5448240"/>
                <a:ext cx="687240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s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5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5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5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/>
                        </m:sSub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5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3670200" y="1028880"/>
                <a:ext cx="5473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jβ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/>
                        </m:sSubSup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jβ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↔</m:t>
                    </m:r>
                    <m:r>
                      <m:t xml:space="preserve">2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βt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1" name=""/>
              <p:cNvSpPr txBox="1"/>
              <p:nvPr/>
            </p:nvSpPr>
            <p:spPr>
              <a:xfrm>
                <a:off x="3987720" y="1752480"/>
                <a:ext cx="515628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j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e>
                            </m:ra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j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e>
                            </m:ra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5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num>
                      <m:den>
                        <m:r>
                          <m:t xml:space="preserve">2</m:t>
                        </m:r>
                        <m:r>
                          <m:t xml:space="preserve">j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e>
                            </m:ra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2" name=""/>
              <p:cNvSpPr txBox="1"/>
              <p:nvPr/>
            </p:nvSpPr>
            <p:spPr>
              <a:xfrm>
                <a:off x="4876920" y="3048120"/>
                <a:ext cx="35938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7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3" name=""/>
              <p:cNvSpPr txBox="1"/>
              <p:nvPr/>
            </p:nvSpPr>
            <p:spPr>
              <a:xfrm>
                <a:off x="5029200" y="3886200"/>
                <a:ext cx="344160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e>
                            </m:ra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  <m:r>
                          <m:t xml:space="preserve">°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514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1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3384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2590920" y="152280"/>
                <a:ext cx="3060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using loop equations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19" name="E13.002_W1217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4238640" cy="1620720"/>
          </a:xfrm>
          <a:prstGeom prst="rect">
            <a:avLst/>
          </a:prstGeom>
          <a:ln w="0">
            <a:noFill/>
          </a:ln>
        </p:spPr>
      </p:pic>
      <p:grpSp>
        <p:nvGrpSpPr>
          <p:cNvPr id="520" name=""/>
          <p:cNvGrpSpPr/>
          <p:nvPr/>
        </p:nvGrpSpPr>
        <p:grpSpPr>
          <a:xfrm>
            <a:off x="717480" y="1163520"/>
            <a:ext cx="2586240" cy="1383480"/>
            <a:chOff x="717480" y="1163520"/>
            <a:chExt cx="2586240" cy="1383480"/>
          </a:xfrm>
        </p:grpSpPr>
        <p:sp>
          <p:nvSpPr>
            <p:cNvPr id="521" name=""/>
            <p:cNvSpPr/>
            <p:nvPr/>
          </p:nvSpPr>
          <p:spPr>
            <a:xfrm>
              <a:off x="717480" y="1163520"/>
              <a:ext cx="2586240" cy="803520"/>
            </a:xfrm>
            <a:custGeom>
              <a:avLst/>
              <a:gdLst/>
              <a:ahLst/>
              <a:rect l="l" t="t" r="r" b="b"/>
              <a:pathLst>
                <a:path w="1629" h="506">
                  <a:moveTo>
                    <a:pt x="0" y="475"/>
                  </a:moveTo>
                  <a:cubicBezTo>
                    <a:pt x="3" y="322"/>
                    <a:pt x="8" y="15"/>
                    <a:pt x="8" y="15"/>
                  </a:cubicBezTo>
                  <a:cubicBezTo>
                    <a:pt x="534" y="0"/>
                    <a:pt x="947" y="4"/>
                    <a:pt x="1527" y="7"/>
                  </a:cubicBezTo>
                  <a:cubicBezTo>
                    <a:pt x="1592" y="18"/>
                    <a:pt x="1558" y="15"/>
                    <a:pt x="1629" y="15"/>
                  </a:cubicBezTo>
                  <a:cubicBezTo>
                    <a:pt x="1629" y="179"/>
                    <a:pt x="1629" y="342"/>
                    <a:pt x="1629" y="506"/>
                  </a:cubicBezTo>
                  <a:cubicBezTo>
                    <a:pt x="1190" y="506"/>
                    <a:pt x="751" y="506"/>
                    <a:pt x="312" y="50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342800" y="2209680"/>
              <a:ext cx="13068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upermes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152280" y="2590920"/>
                <a:ext cx="246384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nstraint due to source</m:t>
                        </m:r>
                      </m:e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152280" y="3505320"/>
                <a:ext cx="270540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KVL on supermesh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25" name=""/>
          <p:cNvSpPr/>
          <p:nvPr/>
        </p:nvSpPr>
        <p:spPr>
          <a:xfrm>
            <a:off x="181440" y="4478400"/>
            <a:ext cx="1311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lve for I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158760" y="4876920"/>
                <a:ext cx="40384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5105520" y="1219320"/>
                <a:ext cx="2921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5029200" y="2133720"/>
                <a:ext cx="1739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3740040" y="2514600"/>
                <a:ext cx="5283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3657600" y="3352680"/>
                <a:ext cx="54100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3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4724280" y="4114800"/>
                <a:ext cx="360684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8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7</m:t>
                                </m:r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7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73</m:t>
                                </m:r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32" name=""/>
          <p:cNvSpPr/>
          <p:nvPr/>
        </p:nvSpPr>
        <p:spPr>
          <a:xfrm>
            <a:off x="399960" y="5621400"/>
            <a:ext cx="3144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inverse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3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34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202680" y="19080"/>
            <a:ext cx="61988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IENT CIRCUIT ANALYSIS USING LAPLACE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72520" y="439560"/>
            <a:ext cx="864792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the study of transients, especially transients due to switching, it is import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determine initial conditions. For this determination, one relies on the proper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Voltage across capacitors cannot change discontinuous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Current through inductors cannot change discontinuous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0" y="1600200"/>
            <a:ext cx="5172120" cy="3191040"/>
            <a:chOff x="0" y="1600200"/>
            <a:chExt cx="5172120" cy="3191040"/>
          </a:xfrm>
        </p:grpSpPr>
        <p:sp>
          <p:nvSpPr>
            <p:cNvPr id="539" name=""/>
            <p:cNvSpPr/>
            <p:nvPr/>
          </p:nvSpPr>
          <p:spPr>
            <a:xfrm>
              <a:off x="106200" y="160020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0" name=""/>
                <p:cNvSpPr txBox="1"/>
                <p:nvPr/>
              </p:nvSpPr>
              <p:spPr>
                <a:xfrm>
                  <a:off x="2438280" y="1676520"/>
                  <a:ext cx="20829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Determine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pic>
          <p:nvPicPr>
            <p:cNvPr id="541" name="F13.007A_W1218" descr=""/>
            <p:cNvPicPr/>
            <p:nvPr/>
          </p:nvPicPr>
          <p:blipFill>
            <a:blip r:embed="rId1"/>
            <a:stretch/>
          </p:blipFill>
          <p:spPr>
            <a:xfrm>
              <a:off x="0" y="2057400"/>
              <a:ext cx="5172120" cy="273384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457200" y="5257800"/>
                <a:ext cx="389880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DC case capacitors are open circui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ductors are shortcircuit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V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43" name=""/>
          <p:cNvGrpSpPr/>
          <p:nvPr/>
        </p:nvGrpSpPr>
        <p:grpSpPr>
          <a:xfrm>
            <a:off x="552240" y="2908440"/>
            <a:ext cx="4550040" cy="2271600"/>
            <a:chOff x="552240" y="2908440"/>
            <a:chExt cx="4550040" cy="2271600"/>
          </a:xfrm>
        </p:grpSpPr>
        <p:sp>
          <p:nvSpPr>
            <p:cNvPr id="544" name=""/>
            <p:cNvSpPr/>
            <p:nvPr/>
          </p:nvSpPr>
          <p:spPr>
            <a:xfrm>
              <a:off x="552240" y="4356000"/>
              <a:ext cx="455004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ssume steady state for t&lt;0 and determ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oltage across capacitors and current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rough inducto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073240" y="2908440"/>
              <a:ext cx="0" cy="9903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6" name=""/>
                <p:cNvSpPr txBox="1"/>
                <p:nvPr/>
              </p:nvSpPr>
              <p:spPr>
                <a:xfrm>
                  <a:off x="1463400" y="3670200"/>
                  <a:ext cx="507960" cy="32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−</m:t>
                          </m:r>
                          <m:r>
                            <m:t xml:space="preserve">)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47" name=""/>
                <p:cNvSpPr txBox="1"/>
                <p:nvPr/>
              </p:nvSpPr>
              <p:spPr>
                <a:xfrm>
                  <a:off x="3978000" y="3136680"/>
                  <a:ext cx="685800" cy="82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−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48" name=""/>
          <p:cNvGrpSpPr/>
          <p:nvPr/>
        </p:nvGrpSpPr>
        <p:grpSpPr>
          <a:xfrm>
            <a:off x="4457880" y="4962600"/>
            <a:ext cx="4686120" cy="1896120"/>
            <a:chOff x="4457880" y="4962600"/>
            <a:chExt cx="4686120" cy="1896120"/>
          </a:xfrm>
        </p:grpSpPr>
        <p:pic>
          <p:nvPicPr>
            <p:cNvPr id="549" name="F13.007B_W1218" descr=""/>
            <p:cNvPicPr/>
            <p:nvPr/>
          </p:nvPicPr>
          <p:blipFill>
            <a:blip r:embed="rId2"/>
            <a:stretch/>
          </p:blipFill>
          <p:spPr>
            <a:xfrm>
              <a:off x="4457880" y="4962600"/>
              <a:ext cx="4686120" cy="189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" name=""/>
            <p:cNvSpPr/>
            <p:nvPr/>
          </p:nvSpPr>
          <p:spPr>
            <a:xfrm>
              <a:off x="6138360" y="6521400"/>
              <a:ext cx="15721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for t&gt;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51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52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"/>
          <p:cNvGrpSpPr/>
          <p:nvPr/>
        </p:nvGrpSpPr>
        <p:grpSpPr>
          <a:xfrm>
            <a:off x="0" y="0"/>
            <a:ext cx="4686120" cy="1896120"/>
            <a:chOff x="0" y="0"/>
            <a:chExt cx="4686120" cy="1896120"/>
          </a:xfrm>
        </p:grpSpPr>
        <p:pic>
          <p:nvPicPr>
            <p:cNvPr id="555" name="F13.007B_W1218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4686120" cy="189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6" name=""/>
            <p:cNvSpPr/>
            <p:nvPr/>
          </p:nvSpPr>
          <p:spPr>
            <a:xfrm>
              <a:off x="1680480" y="1558800"/>
              <a:ext cx="15721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for t&gt;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57" name=""/>
          <p:cNvGraphicFramePr/>
          <p:nvPr/>
        </p:nvGraphicFramePr>
        <p:xfrm>
          <a:off x="0" y="2057400"/>
          <a:ext cx="4724280" cy="1990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057400"/>
                    <a:ext cx="4724280" cy="19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9" name=""/>
          <p:cNvGrpSpPr/>
          <p:nvPr/>
        </p:nvGrpSpPr>
        <p:grpSpPr>
          <a:xfrm>
            <a:off x="363600" y="1325520"/>
            <a:ext cx="962280" cy="938160"/>
            <a:chOff x="363600" y="1325520"/>
            <a:chExt cx="962280" cy="938160"/>
          </a:xfrm>
        </p:grpSpPr>
        <p:sp>
          <p:nvSpPr>
            <p:cNvPr id="560" name=""/>
            <p:cNvSpPr/>
            <p:nvPr/>
          </p:nvSpPr>
          <p:spPr>
            <a:xfrm>
              <a:off x="372600" y="1506600"/>
              <a:ext cx="953280" cy="33732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apl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63600" y="1325520"/>
              <a:ext cx="379440" cy="938160"/>
            </a:xfrm>
            <a:custGeom>
              <a:avLst/>
              <a:gdLst/>
              <a:ahLst/>
              <a:rect l="l" t="t" r="r" b="b"/>
              <a:pathLst>
                <a:path w="239" h="591">
                  <a:moveTo>
                    <a:pt x="239" y="7"/>
                  </a:moveTo>
                  <a:cubicBezTo>
                    <a:pt x="202" y="9"/>
                    <a:pt x="163" y="0"/>
                    <a:pt x="129" y="14"/>
                  </a:cubicBezTo>
                  <a:cubicBezTo>
                    <a:pt x="113" y="21"/>
                    <a:pt x="113" y="45"/>
                    <a:pt x="106" y="61"/>
                  </a:cubicBezTo>
                  <a:cubicBezTo>
                    <a:pt x="78" y="130"/>
                    <a:pt x="109" y="89"/>
                    <a:pt x="59" y="139"/>
                  </a:cubicBezTo>
                  <a:cubicBezTo>
                    <a:pt x="42" y="180"/>
                    <a:pt x="26" y="221"/>
                    <a:pt x="13" y="264"/>
                  </a:cubicBezTo>
                  <a:cubicBezTo>
                    <a:pt x="0" y="364"/>
                    <a:pt x="1" y="331"/>
                    <a:pt x="13" y="474"/>
                  </a:cubicBezTo>
                  <a:cubicBezTo>
                    <a:pt x="15" y="500"/>
                    <a:pt x="30" y="535"/>
                    <a:pt x="36" y="560"/>
                  </a:cubicBezTo>
                  <a:cubicBezTo>
                    <a:pt x="38" y="570"/>
                    <a:pt x="44" y="591"/>
                    <a:pt x="44" y="591"/>
                  </a:cubicBezTo>
                </a:path>
              </a:pathLst>
            </a:custGeom>
            <a:solidFill>
              <a:srgbClr val="ccecff">
                <a:alpha val="50000"/>
              </a:srgbClr>
            </a:solidFill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673200" y="2590920"/>
            <a:ext cx="2298600" cy="1767600"/>
            <a:chOff x="673200" y="2590920"/>
            <a:chExt cx="2298600" cy="1767600"/>
          </a:xfrm>
        </p:grpSpPr>
        <p:sp>
          <p:nvSpPr>
            <p:cNvPr id="563" name=""/>
            <p:cNvSpPr/>
            <p:nvPr/>
          </p:nvSpPr>
          <p:spPr>
            <a:xfrm>
              <a:off x="937800" y="4021200"/>
              <a:ext cx="20340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e mesh analys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64" name=""/>
            <p:cNvGraphicFramePr/>
            <p:nvPr/>
          </p:nvGraphicFramePr>
          <p:xfrm>
            <a:off x="673200" y="2590920"/>
            <a:ext cx="622080" cy="7365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56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73200" y="2590920"/>
                      <a:ext cx="622080" cy="73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66" name=""/>
            <p:cNvGraphicFramePr/>
            <p:nvPr/>
          </p:nvGraphicFramePr>
          <p:xfrm>
            <a:off x="2057400" y="2666880"/>
            <a:ext cx="581040" cy="7430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56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057400" y="2666880"/>
                      <a:ext cx="581040" cy="74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76320" y="4495680"/>
                <a:ext cx="19177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76320" y="5181480"/>
                <a:ext cx="25779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70" name=""/>
          <p:cNvGrpSpPr/>
          <p:nvPr/>
        </p:nvGrpSpPr>
        <p:grpSpPr>
          <a:xfrm>
            <a:off x="2209680" y="4554360"/>
            <a:ext cx="2086920" cy="1044720"/>
            <a:chOff x="2209680" y="4554360"/>
            <a:chExt cx="2086920" cy="1044720"/>
          </a:xfrm>
        </p:grpSpPr>
        <p:sp>
          <p:nvSpPr>
            <p:cNvPr id="571" name=""/>
            <p:cNvSpPr/>
            <p:nvPr/>
          </p:nvSpPr>
          <p:spPr>
            <a:xfrm>
              <a:off x="2985120" y="4554360"/>
              <a:ext cx="131148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olve for I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2" name=""/>
                <p:cNvSpPr txBox="1"/>
                <p:nvPr/>
              </p:nvSpPr>
              <p:spPr>
                <a:xfrm>
                  <a:off x="2209680" y="4648320"/>
                  <a:ext cx="290520" cy="17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73" name=""/>
                <p:cNvSpPr txBox="1"/>
                <p:nvPr/>
              </p:nvSpPr>
              <p:spPr>
                <a:xfrm>
                  <a:off x="2743200" y="5334120"/>
                  <a:ext cx="72216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+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152280" y="5943600"/>
                <a:ext cx="18288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5" name=""/>
              <p:cNvSpPr txBox="1"/>
              <p:nvPr/>
            </p:nvSpPr>
            <p:spPr>
              <a:xfrm>
                <a:off x="2133720" y="5943600"/>
                <a:ext cx="17269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6" name=""/>
              <p:cNvSpPr txBox="1"/>
              <p:nvPr/>
            </p:nvSpPr>
            <p:spPr>
              <a:xfrm>
                <a:off x="5715000" y="76320"/>
                <a:ext cx="1841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7" name=""/>
          <p:cNvSpPr/>
          <p:nvPr/>
        </p:nvSpPr>
        <p:spPr>
          <a:xfrm>
            <a:off x="4915800" y="744480"/>
            <a:ext cx="4034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w determine the inverse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8" name=""/>
              <p:cNvSpPr txBox="1"/>
              <p:nvPr/>
            </p:nvSpPr>
            <p:spPr>
              <a:xfrm>
                <a:off x="4952880" y="1143000"/>
                <a:ext cx="4114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&lt;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complex conjugate root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9" name=""/>
              <p:cNvSpPr txBox="1"/>
              <p:nvPr/>
            </p:nvSpPr>
            <p:spPr>
              <a:xfrm>
                <a:off x="5003640" y="1555920"/>
                <a:ext cx="3225960" cy="95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j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7</m:t>
                                </m:r>
                              </m:e>
                            </m:ra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/>
                        </m:sSubSup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j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7</m:t>
                                </m:r>
                              </m:e>
                            </m:ra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0" name=""/>
              <p:cNvSpPr txBox="1"/>
              <p:nvPr/>
            </p:nvSpPr>
            <p:spPr>
              <a:xfrm>
                <a:off x="4952880" y="2590920"/>
                <a:ext cx="309888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j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7</m:t>
                                </m:r>
                              </m:e>
                            </m:ra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j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7</m:t>
                                </m:r>
                              </m:e>
                            </m:ra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7658280" y="2743200"/>
                <a:ext cx="14857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3657600" y="3733920"/>
                <a:ext cx="5473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jβ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/>
                        </m:sSubSup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jβ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↔</m:t>
                    </m:r>
                    <m:r>
                      <m:t xml:space="preserve">2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βt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5334120" y="4724280"/>
                <a:ext cx="270504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84" name="geaux" descr=""/>
          <p:cNvPicPr/>
          <p:nvPr/>
        </p:nvPicPr>
        <p:blipFill>
          <a:blip r:embed="rId8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8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8" name="E06.002_W0608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2990880" cy="2409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89" name=""/>
              <p:cNvSpPr txBox="1"/>
              <p:nvPr/>
            </p:nvSpPr>
            <p:spPr>
              <a:xfrm>
                <a:off x="2666880" y="144360"/>
                <a:ext cx="221004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0" name=""/>
          <p:cNvSpPr/>
          <p:nvPr/>
        </p:nvSpPr>
        <p:spPr>
          <a:xfrm>
            <a:off x="316440" y="3106800"/>
            <a:ext cx="3405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itial current through indu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1" name=""/>
              <p:cNvSpPr txBox="1"/>
              <p:nvPr/>
            </p:nvSpPr>
            <p:spPr>
              <a:xfrm>
                <a:off x="609480" y="3505320"/>
                <a:ext cx="1930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92" name=""/>
          <p:cNvGraphicFramePr/>
          <p:nvPr/>
        </p:nvGraphicFramePr>
        <p:xfrm>
          <a:off x="609480" y="4114800"/>
          <a:ext cx="3124440" cy="171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4114800"/>
                    <a:ext cx="3124440" cy="17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4" name=""/>
          <p:cNvGrpSpPr/>
          <p:nvPr/>
        </p:nvGrpSpPr>
        <p:grpSpPr>
          <a:xfrm>
            <a:off x="1295280" y="5925960"/>
            <a:ext cx="2786760" cy="580680"/>
            <a:chOff x="1295280" y="5925960"/>
            <a:chExt cx="2786760" cy="580680"/>
          </a:xfrm>
        </p:grpSpPr>
        <mc:AlternateContent>
          <mc:Choice xmlns:a14="http://schemas.microsoft.com/office/drawing/2010/main" Requires="a14">
            <p:sp>
              <p:nvSpPr>
                <p:cNvPr id="595" name=""/>
                <p:cNvSpPr txBox="1"/>
                <p:nvPr/>
              </p:nvSpPr>
              <p:spPr>
                <a:xfrm>
                  <a:off x="1295280" y="5943600"/>
                  <a:ext cx="16891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  <m:r>
                            <m:t xml:space="preserve">s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18</m:t>
                          </m:r>
                        </m:den>
                      </m:f>
                      <m:r>
                        <m:t xml:space="preserve">×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s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96" name=""/>
            <p:cNvSpPr/>
            <p:nvPr/>
          </p:nvSpPr>
          <p:spPr>
            <a:xfrm>
              <a:off x="3115080" y="5925960"/>
              <a:ext cx="96696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urr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ivi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4952880" y="3200400"/>
                <a:ext cx="28195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</m:den>
                    </m:f>
                    <m:r>
                      <m:t xml:space="preserve">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9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98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99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E06.004_W0614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3276720" cy="300024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106920" y="13500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3" name=""/>
              <p:cNvSpPr txBox="1"/>
              <p:nvPr/>
            </p:nvSpPr>
            <p:spPr>
              <a:xfrm>
                <a:off x="2819520" y="166680"/>
                <a:ext cx="2120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4" name=""/>
          <p:cNvSpPr/>
          <p:nvPr/>
        </p:nvSpPr>
        <p:spPr>
          <a:xfrm>
            <a:off x="120960" y="3792600"/>
            <a:ext cx="4527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initial current through indu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2280" y="4114800"/>
            <a:ext cx="2590560" cy="2602080"/>
            <a:chOff x="152280" y="4114800"/>
            <a:chExt cx="2590560" cy="2602080"/>
          </a:xfrm>
        </p:grpSpPr>
        <p:pic>
          <p:nvPicPr>
            <p:cNvPr id="606" name="E06.004_W0614" descr=""/>
            <p:cNvPicPr/>
            <p:nvPr/>
          </p:nvPicPr>
          <p:blipFill>
            <a:blip r:embed="rId2"/>
            <a:stretch/>
          </p:blipFill>
          <p:spPr>
            <a:xfrm>
              <a:off x="152280" y="4343400"/>
              <a:ext cx="2590560" cy="237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7" name=""/>
            <p:cNvSpPr/>
            <p:nvPr/>
          </p:nvSpPr>
          <p:spPr>
            <a:xfrm>
              <a:off x="1371240" y="4419720"/>
              <a:ext cx="7621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8" name=""/>
                <p:cNvSpPr txBox="1"/>
                <p:nvPr/>
              </p:nvSpPr>
              <p:spPr>
                <a:xfrm>
                  <a:off x="1447560" y="4114800"/>
                  <a:ext cx="5079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09" name=""/>
          <p:cNvSpPr/>
          <p:nvPr/>
        </p:nvSpPr>
        <p:spPr>
          <a:xfrm>
            <a:off x="2756520" y="4249800"/>
            <a:ext cx="15782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uper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0" name=""/>
              <p:cNvSpPr txBox="1"/>
              <p:nvPr/>
            </p:nvSpPr>
            <p:spPr>
              <a:xfrm>
                <a:off x="3124080" y="4876920"/>
                <a:ext cx="901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1" name=""/>
              <p:cNvSpPr txBox="1"/>
              <p:nvPr/>
            </p:nvSpPr>
            <p:spPr>
              <a:xfrm>
                <a:off x="3124080" y="5257800"/>
                <a:ext cx="10288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2" name=""/>
              <p:cNvSpPr txBox="1"/>
              <p:nvPr/>
            </p:nvSpPr>
            <p:spPr>
              <a:xfrm>
                <a:off x="3048120" y="5943600"/>
                <a:ext cx="10540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13" name=""/>
          <p:cNvGraphicFramePr/>
          <p:nvPr/>
        </p:nvGraphicFramePr>
        <p:xfrm>
          <a:off x="7772400" y="0"/>
          <a:ext cx="1244520" cy="1866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72400" y="0"/>
                    <a:ext cx="1244520" cy="1866960"/>
                  </a:xfrm>
                  <a:prstGeom prst="rect">
                    <a:avLst/>
                  </a:prstGeom>
                  <a:ln w="50760">
                    <a:solidFill>
                      <a:srgbClr val="ccffcc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615" name=""/>
          <p:cNvGrpSpPr/>
          <p:nvPr/>
        </p:nvGrpSpPr>
        <p:grpSpPr>
          <a:xfrm>
            <a:off x="4267080" y="123840"/>
            <a:ext cx="3353040" cy="3305160"/>
            <a:chOff x="4267080" y="123840"/>
            <a:chExt cx="3353040" cy="3305160"/>
          </a:xfrm>
        </p:grpSpPr>
        <p:grpSp>
          <p:nvGrpSpPr>
            <p:cNvPr id="616" name=""/>
            <p:cNvGrpSpPr/>
            <p:nvPr/>
          </p:nvGrpSpPr>
          <p:grpSpPr>
            <a:xfrm>
              <a:off x="4267080" y="123840"/>
              <a:ext cx="3353040" cy="3305160"/>
              <a:chOff x="4267080" y="123840"/>
              <a:chExt cx="3353040" cy="3305160"/>
            </a:xfrm>
          </p:grpSpPr>
          <p:pic>
            <p:nvPicPr>
              <p:cNvPr id="617" name="E06.004_W0614" descr=""/>
              <p:cNvPicPr/>
              <p:nvPr/>
            </p:nvPicPr>
            <p:blipFill>
              <a:blip r:embed="rId5"/>
              <a:stretch/>
            </p:blipFill>
            <p:spPr>
              <a:xfrm>
                <a:off x="4267080" y="428400"/>
                <a:ext cx="3276720" cy="3000600"/>
              </a:xfrm>
              <a:prstGeom prst="rect">
                <a:avLst/>
              </a:prstGeom>
              <a:ln w="0">
                <a:noFill/>
              </a:ln>
            </p:spPr>
          </p:pic>
          <mc:AlternateContent>
            <mc:Choice xmlns:a14="http://schemas.microsoft.com/office/drawing/2010/main" Requires="a14">
              <p:sp>
                <p:nvSpPr>
                  <p:cNvPr id="618" name=""/>
                  <p:cNvSpPr txBox="1"/>
                  <p:nvPr/>
                </p:nvSpPr>
                <p:spPr>
                  <a:xfrm>
                    <a:off x="6172200" y="123840"/>
                    <a:ext cx="264960" cy="22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2</m:t>
                        </m:r>
                        <m:r>
                          <m:t xml:space="preserve">s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19" name=""/>
              <p:cNvSpPr/>
              <p:nvPr/>
            </p:nvSpPr>
            <p:spPr>
              <a:xfrm>
                <a:off x="5562720" y="657000"/>
                <a:ext cx="533160" cy="9144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620" name=""/>
              <p:cNvGraphicFramePr/>
              <p:nvPr/>
            </p:nvGraphicFramePr>
            <p:xfrm>
              <a:off x="6494400" y="504720"/>
              <a:ext cx="973080" cy="100476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621" name="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6494400" y="504720"/>
                        <a:ext cx="973080" cy="1004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22" name=""/>
              <p:cNvSpPr/>
              <p:nvPr/>
            </p:nvSpPr>
            <p:spPr>
              <a:xfrm>
                <a:off x="6781680" y="1571400"/>
                <a:ext cx="6098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7238880" y="65700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24" name=""/>
                  <p:cNvSpPr txBox="1"/>
                  <p:nvPr/>
                </p:nvSpPr>
                <p:spPr>
                  <a:xfrm>
                    <a:off x="7215120" y="1571400"/>
                    <a:ext cx="176400" cy="176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+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25" name=""/>
              <p:cNvSpPr/>
              <p:nvPr/>
            </p:nvSpPr>
            <p:spPr>
              <a:xfrm>
                <a:off x="6858000" y="352440"/>
                <a:ext cx="762120" cy="3808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26" name=""/>
                <p:cNvSpPr txBox="1"/>
                <p:nvPr/>
              </p:nvSpPr>
              <p:spPr>
                <a:xfrm>
                  <a:off x="7010280" y="1800360"/>
                  <a:ext cx="5320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4857840" y="3562200"/>
                <a:ext cx="40510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voltage divide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4800600" y="4343400"/>
                <a:ext cx="17524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8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6629400" y="4343400"/>
                <a:ext cx="9777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0" name=""/>
              <p:cNvSpPr txBox="1"/>
              <p:nvPr/>
            </p:nvSpPr>
            <p:spPr>
              <a:xfrm>
                <a:off x="4876920" y="5029200"/>
                <a:ext cx="1752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1" name=""/>
              <p:cNvSpPr txBox="1"/>
              <p:nvPr/>
            </p:nvSpPr>
            <p:spPr>
              <a:xfrm>
                <a:off x="4800600" y="5410080"/>
                <a:ext cx="26035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2" name=""/>
              <p:cNvSpPr txBox="1"/>
              <p:nvPr/>
            </p:nvSpPr>
            <p:spPr>
              <a:xfrm>
                <a:off x="5029200" y="6019920"/>
                <a:ext cx="2133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3" name="geaux" descr=""/>
          <p:cNvPicPr/>
          <p:nvPr/>
        </p:nvPicPr>
        <p:blipFill>
          <a:blip r:embed="rId8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34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3168000" y="85680"/>
            <a:ext cx="289332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TRANSFER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558720" y="685800"/>
            <a:ext cx="2793960" cy="1434960"/>
            <a:chOff x="558720" y="685800"/>
            <a:chExt cx="2793960" cy="1434960"/>
          </a:xfrm>
        </p:grpSpPr>
        <p:sp>
          <p:nvSpPr>
            <p:cNvPr id="638" name=""/>
            <p:cNvSpPr/>
            <p:nvPr/>
          </p:nvSpPr>
          <p:spPr>
            <a:xfrm>
              <a:off x="1143000" y="685800"/>
              <a:ext cx="1600200" cy="76176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09480" y="106668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743200" y="1066680"/>
              <a:ext cx="6094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1" name=""/>
                <p:cNvSpPr txBox="1"/>
                <p:nvPr/>
              </p:nvSpPr>
              <p:spPr>
                <a:xfrm>
                  <a:off x="558720" y="725400"/>
                  <a:ext cx="50796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42" name=""/>
                <p:cNvSpPr txBox="1"/>
                <p:nvPr/>
              </p:nvSpPr>
              <p:spPr>
                <a:xfrm>
                  <a:off x="2819520" y="685800"/>
                  <a:ext cx="4698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43" name=""/>
            <p:cNvSpPr/>
            <p:nvPr/>
          </p:nvSpPr>
          <p:spPr>
            <a:xfrm>
              <a:off x="1087920" y="693720"/>
              <a:ext cx="1683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System with 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initial condi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set to zer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4" name=""/>
                <p:cNvSpPr txBox="1"/>
                <p:nvPr/>
              </p:nvSpPr>
              <p:spPr>
                <a:xfrm>
                  <a:off x="1295280" y="1523880"/>
                  <a:ext cx="124488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Y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12600" y="2146320"/>
                <a:ext cx="4254480" cy="19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the model for the system is a differentia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quation</m:t>
                        </m:r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y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y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y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12600" y="4191120"/>
                <a:ext cx="302256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all initial conditions are zero</m:t>
                        </m:r>
                      </m:e>
                      <m:e>
                        <m:r>
                          <m:t xml:space="preserve">L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d</m:t>
                                    </m:r>
                                  </m:e>
                                  <m:sup>
                                    <m:r>
                                      <m:t xml:space="preserve">k</m:t>
                                    </m:r>
                                  </m:sup>
                                </m:sSup>
                                <m:r>
                                  <m:t xml:space="preserve">y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t</m:t>
                                    </m:r>
                                  </m:e>
                                  <m:sup>
                                    <m:r>
                                      <m:t xml:space="preserve">k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7" name=""/>
              <p:cNvSpPr txBox="1"/>
              <p:nvPr/>
            </p:nvSpPr>
            <p:spPr>
              <a:xfrm>
                <a:off x="12600" y="5257800"/>
                <a:ext cx="375948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Y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X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8" name=""/>
              <p:cNvSpPr txBox="1"/>
              <p:nvPr/>
            </p:nvSpPr>
            <p:spPr>
              <a:xfrm>
                <a:off x="609480" y="6095880"/>
                <a:ext cx="297180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9" name=""/>
              <p:cNvSpPr txBox="1"/>
              <p:nvPr/>
            </p:nvSpPr>
            <p:spPr>
              <a:xfrm>
                <a:off x="5486400" y="533520"/>
                <a:ext cx="25401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0" name=""/>
              <p:cNvSpPr txBox="1"/>
              <p:nvPr/>
            </p:nvSpPr>
            <p:spPr>
              <a:xfrm>
                <a:off x="5029200" y="1295280"/>
                <a:ext cx="245124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the impulse function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51" name=""/>
          <p:cNvSpPr/>
          <p:nvPr/>
        </p:nvSpPr>
        <p:spPr>
          <a:xfrm>
            <a:off x="4622040" y="2847960"/>
            <a:ext cx="44355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inverse transform of H(s) is al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lled the impulse response of the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503600" y="3657600"/>
            <a:ext cx="448128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the impulse response is known then 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n determine the response of the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ANY other 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438440" y="1949400"/>
            <a:ext cx="46674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(s) can also be interpreted as the Lapl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orm of the output when the input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 impulse and all initial conditions are z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4" name="geaux" descr=""/>
          <p:cNvPicPr/>
          <p:nvPr/>
        </p:nvPicPr>
        <p:blipFill>
          <a:blip r:embed="rId1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5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8" name=""/>
              <p:cNvSpPr txBox="1"/>
              <p:nvPr/>
            </p:nvSpPr>
            <p:spPr>
              <a:xfrm>
                <a:off x="2438280" y="76320"/>
                <a:ext cx="47246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 network has impulse response 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9" name=""/>
              <p:cNvSpPr txBox="1"/>
              <p:nvPr/>
            </p:nvSpPr>
            <p:spPr>
              <a:xfrm>
                <a:off x="914400" y="533520"/>
                <a:ext cx="59961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the response,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, for the input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0" name=""/>
          <p:cNvSpPr/>
          <p:nvPr/>
        </p:nvSpPr>
        <p:spPr>
          <a:xfrm>
            <a:off x="290160" y="973080"/>
            <a:ext cx="3742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the Laplace domain,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Y(s)=H(s)X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3403440" y="1447920"/>
                <a:ext cx="1905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2" name=""/>
              <p:cNvSpPr txBox="1"/>
              <p:nvPr/>
            </p:nvSpPr>
            <p:spPr>
              <a:xfrm>
                <a:off x="3098880" y="1752480"/>
                <a:ext cx="27050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3" name=""/>
              <p:cNvSpPr txBox="1"/>
              <p:nvPr/>
            </p:nvSpPr>
            <p:spPr>
              <a:xfrm>
                <a:off x="3022560" y="2362320"/>
                <a:ext cx="3073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4" name=""/>
              <p:cNvSpPr txBox="1"/>
              <p:nvPr/>
            </p:nvSpPr>
            <p:spPr>
              <a:xfrm>
                <a:off x="2641680" y="3429000"/>
                <a:ext cx="19047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5" name=""/>
              <p:cNvSpPr txBox="1"/>
              <p:nvPr/>
            </p:nvSpPr>
            <p:spPr>
              <a:xfrm>
                <a:off x="4699080" y="3429000"/>
                <a:ext cx="12826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3251160" y="4114800"/>
                <a:ext cx="2349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"/>
              <p:cNvSpPr txBox="1"/>
              <p:nvPr/>
            </p:nvSpPr>
            <p:spPr>
              <a:xfrm>
                <a:off x="3213000" y="4495680"/>
                <a:ext cx="2578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3505320" y="5334120"/>
                <a:ext cx="22604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69" name="geaux" descr=""/>
          <p:cNvPicPr/>
          <p:nvPr/>
        </p:nvPicPr>
        <p:blipFill>
          <a:blip r:embed="rId1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70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195120" y="58680"/>
            <a:ext cx="53942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ulse response of first and second order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9240" y="668160"/>
            <a:ext cx="2023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rst order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2031840" y="495360"/>
                <a:ext cx="26164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Kτ</m:t>
                        </m:r>
                      </m:num>
                      <m:den>
                        <m:r>
                          <m:t xml:space="preserve">τ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K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675" name=""/>
          <p:cNvGrpSpPr/>
          <p:nvPr/>
        </p:nvGrpSpPr>
        <p:grpSpPr>
          <a:xfrm>
            <a:off x="152280" y="1447920"/>
            <a:ext cx="3555720" cy="1458720"/>
            <a:chOff x="152280" y="1447920"/>
            <a:chExt cx="3555720" cy="1458720"/>
          </a:xfrm>
        </p:grpSpPr>
        <p:sp>
          <p:nvSpPr>
            <p:cNvPr id="676" name=""/>
            <p:cNvSpPr/>
            <p:nvPr/>
          </p:nvSpPr>
          <p:spPr>
            <a:xfrm>
              <a:off x="200520" y="1447920"/>
              <a:ext cx="35074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ormalized second order 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7" name=""/>
                <p:cNvSpPr txBox="1"/>
                <p:nvPr/>
              </p:nvSpPr>
              <p:spPr>
                <a:xfrm>
                  <a:off x="152280" y="1828800"/>
                  <a:ext cx="222264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bSup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ς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sSubSup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78" name=""/>
                <p:cNvSpPr txBox="1"/>
                <p:nvPr/>
              </p:nvSpPr>
              <p:spPr>
                <a:xfrm>
                  <a:off x="685800" y="2514600"/>
                  <a:ext cx="2908440" cy="39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oles:  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ς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±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r>
                                <m:t xml:space="preserve">ς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76320" y="3048120"/>
                <a:ext cx="426708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ase 1: </m:t>
                        </m:r>
                        <m:r>
                          <m:t xml:space="preserve">ς</m:t>
                        </m:r>
                        <m:r>
                          <m:t xml:space="preserve">&gt;</m:t>
                        </m:r>
                        <m:r>
                          <m:rPr>
                            <m:lit/>
                            <m:nor/>
                          </m:rPr>
                          <m:t xml:space="preserve">1: Overdamped network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ς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ς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rad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ς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ς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rad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680" name="F13.008A_W1219" descr=""/>
          <p:cNvPicPr/>
          <p:nvPr/>
        </p:nvPicPr>
        <p:blipFill>
          <a:blip r:embed="rId1"/>
          <a:stretch/>
        </p:blipFill>
        <p:spPr>
          <a:xfrm>
            <a:off x="304920" y="3962520"/>
            <a:ext cx="3914640" cy="1714320"/>
          </a:xfrm>
          <a:prstGeom prst="rect">
            <a:avLst/>
          </a:prstGeom>
          <a:ln w="0">
            <a:noFill/>
          </a:ln>
        </p:spPr>
      </p:pic>
      <p:grpSp>
        <p:nvGrpSpPr>
          <p:cNvPr id="681" name=""/>
          <p:cNvGrpSpPr/>
          <p:nvPr/>
        </p:nvGrpSpPr>
        <p:grpSpPr>
          <a:xfrm>
            <a:off x="4800600" y="533520"/>
            <a:ext cx="3733920" cy="696960"/>
            <a:chOff x="4800600" y="533520"/>
            <a:chExt cx="3733920" cy="696960"/>
          </a:xfrm>
        </p:grpSpPr>
        <mc:AlternateContent>
          <mc:Choice xmlns:a14="http://schemas.microsoft.com/office/drawing/2010/main" Requires="a14">
            <p:sp>
              <p:nvSpPr>
                <p:cNvPr id="682" name=""/>
                <p:cNvSpPr txBox="1"/>
                <p:nvPr/>
              </p:nvSpPr>
              <p:spPr>
                <a:xfrm>
                  <a:off x="4800600" y="533520"/>
                  <a:ext cx="373392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ase 2: </m:t>
                      </m:r>
                      <m:r>
                        <m:t xml:space="preserve">ς</m:t>
                      </m:r>
                      <m:r>
                        <m:t xml:space="preserve">&lt;</m:t>
                      </m:r>
                      <m:r>
                        <m:rPr>
                          <m:lit/>
                          <m:nor/>
                        </m:rPr>
                        <m:t xml:space="preserve">1: Underdamped network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83" name=""/>
                <p:cNvSpPr txBox="1"/>
                <p:nvPr/>
              </p:nvSpPr>
              <p:spPr>
                <a:xfrm>
                  <a:off x="5260680" y="838080"/>
                  <a:ext cx="2974680" cy="39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oles:  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ς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±</m:t>
                      </m:r>
                      <m:sSub>
                        <m:e>
                          <m:r>
                            <m:t xml:space="preserve">j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ς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84" name=""/>
          <p:cNvGrpSpPr/>
          <p:nvPr/>
        </p:nvGrpSpPr>
        <p:grpSpPr>
          <a:xfrm>
            <a:off x="4800600" y="1231920"/>
            <a:ext cx="3943440" cy="2273400"/>
            <a:chOff x="4800600" y="1231920"/>
            <a:chExt cx="3943440" cy="2273400"/>
          </a:xfrm>
        </p:grpSpPr>
        <mc:AlternateContent>
          <mc:Choice xmlns:a14="http://schemas.microsoft.com/office/drawing/2010/main" Requires="a14">
            <p:sp>
              <p:nvSpPr>
                <p:cNvPr id="685" name=""/>
                <p:cNvSpPr txBox="1"/>
                <p:nvPr/>
              </p:nvSpPr>
              <p:spPr>
                <a:xfrm>
                  <a:off x="5257800" y="1231920"/>
                  <a:ext cx="312408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Ke</m:t>
                          </m:r>
                        </m:e>
                        <m:sup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ςω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t</m:t>
                          </m:r>
                        </m:sup>
                      </m:sSup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ς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  <m:r>
                        <m:t xml:space="preserve">t</m:t>
                      </m:r>
                      <m:r>
                        <m:t xml:space="preserve">+</m:t>
                      </m:r>
                      <m:r>
                        <m:t xml:space="preserve">φ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pic>
          <p:nvPicPr>
            <p:cNvPr id="686" name="F13.008B_W1219" descr=""/>
            <p:cNvPicPr/>
            <p:nvPr/>
          </p:nvPicPr>
          <p:blipFill>
            <a:blip r:embed="rId2"/>
            <a:stretch/>
          </p:blipFill>
          <p:spPr>
            <a:xfrm>
              <a:off x="4800600" y="1790640"/>
              <a:ext cx="3943440" cy="171468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687" name=""/>
              <p:cNvSpPr txBox="1"/>
              <p:nvPr/>
            </p:nvSpPr>
            <p:spPr>
              <a:xfrm>
                <a:off x="4800600" y="3352680"/>
                <a:ext cx="42670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ase 3: </m:t>
                    </m:r>
                    <m:r>
                      <m:t xml:space="preserve">ς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: Critically damped network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88" name=""/>
          <p:cNvGrpSpPr/>
          <p:nvPr/>
        </p:nvGrpSpPr>
        <p:grpSpPr>
          <a:xfrm>
            <a:off x="4581360" y="3733920"/>
            <a:ext cx="4181760" cy="2247840"/>
            <a:chOff x="4581360" y="3733920"/>
            <a:chExt cx="4181760" cy="2247840"/>
          </a:xfrm>
        </p:grpSpPr>
        <mc:AlternateContent>
          <mc:Choice xmlns:a14="http://schemas.microsoft.com/office/drawing/2010/main" Requires="a14">
            <p:sp>
              <p:nvSpPr>
                <p:cNvPr id="689" name=""/>
                <p:cNvSpPr txBox="1"/>
                <p:nvPr/>
              </p:nvSpPr>
              <p:spPr>
                <a:xfrm>
                  <a:off x="5638680" y="3733920"/>
                  <a:ext cx="227340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te</m:t>
                          </m:r>
                        </m:e>
                        <m:sup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t</m:t>
                          </m:r>
                        </m:sup>
                      </m:sSup>
                      <m:r>
                        <m:t xml:space="preserve">+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t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pic>
          <p:nvPicPr>
            <p:cNvPr id="690" name="F13.008C_W1219" descr=""/>
            <p:cNvPicPr/>
            <p:nvPr/>
          </p:nvPicPr>
          <p:blipFill>
            <a:blip r:embed="rId3"/>
            <a:stretch/>
          </p:blipFill>
          <p:spPr>
            <a:xfrm>
              <a:off x="4581360" y="4267080"/>
              <a:ext cx="4181760" cy="1714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1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92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6200" y="76320"/>
            <a:ext cx="23068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O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2590920" y="152280"/>
                <a:ext cx="1460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7" name="D13.001_W1207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2133720" cy="1384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228600" y="2514600"/>
                <a:ext cx="16383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del using KCL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9" name=""/>
          <p:cNvGrpSpPr/>
          <p:nvPr/>
        </p:nvGrpSpPr>
        <p:grpSpPr>
          <a:xfrm>
            <a:off x="2133720" y="1193760"/>
            <a:ext cx="1090440" cy="558720"/>
            <a:chOff x="2133720" y="1193760"/>
            <a:chExt cx="1090440" cy="558720"/>
          </a:xfrm>
        </p:grpSpPr>
        <p:sp>
          <p:nvSpPr>
            <p:cNvPr id="90" name=""/>
            <p:cNvSpPr/>
            <p:nvPr/>
          </p:nvSpPr>
          <p:spPr>
            <a:xfrm>
              <a:off x="2133720" y="1269720"/>
              <a:ext cx="0" cy="45684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" name=""/>
                <p:cNvSpPr txBox="1"/>
                <p:nvPr/>
              </p:nvSpPr>
              <p:spPr>
                <a:xfrm>
                  <a:off x="2743200" y="1193760"/>
                  <a:ext cx="4809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v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2" name=""/>
          <p:cNvGrpSpPr/>
          <p:nvPr/>
        </p:nvGrpSpPr>
        <p:grpSpPr>
          <a:xfrm>
            <a:off x="533520" y="609480"/>
            <a:ext cx="1371600" cy="762120"/>
            <a:chOff x="533520" y="609480"/>
            <a:chExt cx="1371600" cy="762120"/>
          </a:xfrm>
        </p:grpSpPr>
        <p:sp>
          <p:nvSpPr>
            <p:cNvPr id="93" name=""/>
            <p:cNvSpPr/>
            <p:nvPr/>
          </p:nvSpPr>
          <p:spPr>
            <a:xfrm flipH="1">
              <a:off x="1371600" y="137160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4" name=""/>
                <p:cNvSpPr txBox="1"/>
                <p:nvPr/>
              </p:nvSpPr>
              <p:spPr>
                <a:xfrm>
                  <a:off x="533520" y="609480"/>
                  <a:ext cx="60948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v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r>
                            <m:t xml:space="preserve">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698400" y="1600200"/>
                <a:ext cx="252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2057400" y="2489040"/>
                <a:ext cx="16002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v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609480" y="3276720"/>
                <a:ext cx="14097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C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98" name=""/>
          <p:cNvGrpSpPr/>
          <p:nvPr/>
        </p:nvGrpSpPr>
        <p:grpSpPr>
          <a:xfrm>
            <a:off x="2438280" y="3657600"/>
            <a:ext cx="676080" cy="777960"/>
            <a:chOff x="2438280" y="3657600"/>
            <a:chExt cx="676080" cy="777960"/>
          </a:xfrm>
        </p:grpSpPr>
        <mc:AlternateContent>
          <mc:Choice xmlns:a14="http://schemas.microsoft.com/office/drawing/2010/main" Requires="a14">
            <p:sp>
              <p:nvSpPr>
                <p:cNvPr id="99" name=""/>
                <p:cNvSpPr txBox="1"/>
                <p:nvPr/>
              </p:nvSpPr>
              <p:spPr>
                <a:xfrm>
                  <a:off x="2779200" y="3908520"/>
                  <a:ext cx="33516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0" name=""/>
            <p:cNvSpPr/>
            <p:nvPr/>
          </p:nvSpPr>
          <p:spPr>
            <a:xfrm>
              <a:off x="2438280" y="3657600"/>
              <a:ext cx="349200" cy="777960"/>
            </a:xfrm>
            <a:custGeom>
              <a:avLst/>
              <a:gdLst/>
              <a:ahLst/>
              <a:rect l="l" t="t" r="r" b="b"/>
              <a:pathLst>
                <a:path w="220" h="490">
                  <a:moveTo>
                    <a:pt x="0" y="0"/>
                  </a:moveTo>
                  <a:cubicBezTo>
                    <a:pt x="31" y="3"/>
                    <a:pt x="62" y="2"/>
                    <a:pt x="93" y="8"/>
                  </a:cubicBezTo>
                  <a:cubicBezTo>
                    <a:pt x="136" y="16"/>
                    <a:pt x="158" y="66"/>
                    <a:pt x="187" y="93"/>
                  </a:cubicBezTo>
                  <a:cubicBezTo>
                    <a:pt x="201" y="137"/>
                    <a:pt x="203" y="182"/>
                    <a:pt x="218" y="226"/>
                  </a:cubicBezTo>
                  <a:cubicBezTo>
                    <a:pt x="215" y="262"/>
                    <a:pt x="220" y="300"/>
                    <a:pt x="210" y="335"/>
                  </a:cubicBezTo>
                  <a:cubicBezTo>
                    <a:pt x="209" y="337"/>
                    <a:pt x="130" y="401"/>
                    <a:pt x="124" y="405"/>
                  </a:cubicBezTo>
                  <a:cubicBezTo>
                    <a:pt x="114" y="421"/>
                    <a:pt x="103" y="436"/>
                    <a:pt x="93" y="452"/>
                  </a:cubicBezTo>
                  <a:cubicBezTo>
                    <a:pt x="68" y="490"/>
                    <a:pt x="70" y="443"/>
                    <a:pt x="70" y="467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84320" y="4038480"/>
                <a:ext cx="2349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C</m:t>
                    </m:r>
                    <m:r>
                      <m:t xml:space="preserve">L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0" y="4724280"/>
                <a:ext cx="2793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V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V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304920" y="5943600"/>
                <a:ext cx="2057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28600" y="5410080"/>
                <a:ext cx="2413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lt;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2775600" y="5270400"/>
            <a:ext cx="181152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itial cond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iven in implic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4844160" y="210960"/>
            <a:ext cx="4059360" cy="1160640"/>
            <a:chOff x="4844160" y="210960"/>
            <a:chExt cx="4059360" cy="1160640"/>
          </a:xfrm>
        </p:grpSpPr>
        <p:sp>
          <p:nvSpPr>
            <p:cNvPr id="107" name=""/>
            <p:cNvSpPr/>
            <p:nvPr/>
          </p:nvSpPr>
          <p:spPr>
            <a:xfrm>
              <a:off x="4844160" y="210960"/>
              <a:ext cx="405936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 the Laplace domain the different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ation is now an algebraic equ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8" name=""/>
                <p:cNvSpPr txBox="1"/>
                <p:nvPr/>
              </p:nvSpPr>
              <p:spPr>
                <a:xfrm>
                  <a:off x="5943600" y="812880"/>
                  <a:ext cx="18921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CsV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s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5105520" y="1447920"/>
                <a:ext cx="30477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C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4556160" y="2192400"/>
            <a:ext cx="4423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partial fractions to determine inver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952880" y="2590920"/>
                <a:ext cx="34164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5181480" y="3429000"/>
                <a:ext cx="31244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V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RC</m:t>
                                </m:r>
                              </m:den>
                            </m:f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5715000" y="4267080"/>
                <a:ext cx="190512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4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5" name="F13.009A_W1220" descr=""/>
          <p:cNvPicPr/>
          <p:nvPr/>
        </p:nvPicPr>
        <p:blipFill>
          <a:blip r:embed="rId1"/>
          <a:stretch/>
        </p:blipFill>
        <p:spPr>
          <a:xfrm>
            <a:off x="0" y="609480"/>
            <a:ext cx="3828960" cy="1685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96" name=""/>
              <p:cNvSpPr txBox="1"/>
              <p:nvPr/>
            </p:nvSpPr>
            <p:spPr>
              <a:xfrm>
                <a:off x="2768760" y="76320"/>
                <a:ext cx="44701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the transfer function 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97" name=""/>
          <p:cNvSpPr/>
          <p:nvPr/>
        </p:nvSpPr>
        <p:spPr>
          <a:xfrm>
            <a:off x="240120" y="2116080"/>
            <a:ext cx="42055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orm the circuit to the Lapl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omain. All initial conditions set to z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8" name=""/>
          <p:cNvGraphicFramePr/>
          <p:nvPr/>
        </p:nvGraphicFramePr>
        <p:xfrm>
          <a:off x="162000" y="2819520"/>
          <a:ext cx="4410000" cy="195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2000" y="2819520"/>
                    <a:ext cx="4410000" cy="195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00" name=""/>
          <p:cNvGrpSpPr/>
          <p:nvPr/>
        </p:nvGrpSpPr>
        <p:grpSpPr>
          <a:xfrm>
            <a:off x="1143000" y="3429000"/>
            <a:ext cx="2057400" cy="1539000"/>
            <a:chOff x="1143000" y="3429000"/>
            <a:chExt cx="2057400" cy="1539000"/>
          </a:xfrm>
        </p:grpSpPr>
        <p:graphicFrame>
          <p:nvGraphicFramePr>
            <p:cNvPr id="701" name=""/>
            <p:cNvGraphicFramePr/>
            <p:nvPr/>
          </p:nvGraphicFramePr>
          <p:xfrm>
            <a:off x="1143000" y="3429000"/>
            <a:ext cx="685800" cy="8128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70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143000" y="3429000"/>
                      <a:ext cx="685800" cy="81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3" name=""/>
            <p:cNvGraphicFramePr/>
            <p:nvPr/>
          </p:nvGraphicFramePr>
          <p:xfrm>
            <a:off x="2514600" y="3505320"/>
            <a:ext cx="685800" cy="8762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70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514600" y="3505320"/>
                      <a:ext cx="685800" cy="876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05" name=""/>
            <p:cNvSpPr/>
            <p:nvPr/>
          </p:nvSpPr>
          <p:spPr>
            <a:xfrm>
              <a:off x="1536120" y="4630680"/>
              <a:ext cx="15966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esh analys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06" name=""/>
              <p:cNvSpPr txBox="1"/>
              <p:nvPr/>
            </p:nvSpPr>
            <p:spPr>
              <a:xfrm>
                <a:off x="380880" y="5105520"/>
                <a:ext cx="1435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304920" y="5486400"/>
                <a:ext cx="21970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8" name=""/>
              <p:cNvSpPr txBox="1"/>
              <p:nvPr/>
            </p:nvSpPr>
            <p:spPr>
              <a:xfrm>
                <a:off x="152280" y="4038480"/>
                <a:ext cx="507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9" name=""/>
              <p:cNvSpPr txBox="1"/>
              <p:nvPr/>
            </p:nvSpPr>
            <p:spPr>
              <a:xfrm>
                <a:off x="2819520" y="5181480"/>
                <a:ext cx="15494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0" name=""/>
              <p:cNvSpPr txBox="1"/>
              <p:nvPr/>
            </p:nvSpPr>
            <p:spPr>
              <a:xfrm>
                <a:off x="1219320" y="6095880"/>
                <a:ext cx="23493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C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11" name=""/>
          <p:cNvGrpSpPr/>
          <p:nvPr/>
        </p:nvGrpSpPr>
        <p:grpSpPr>
          <a:xfrm>
            <a:off x="4572000" y="685800"/>
            <a:ext cx="3670200" cy="2895480"/>
            <a:chOff x="4572000" y="685800"/>
            <a:chExt cx="3670200" cy="2895480"/>
          </a:xfrm>
        </p:grpSpPr>
        <mc:AlternateContent>
          <mc:Choice xmlns:a14="http://schemas.microsoft.com/office/drawing/2010/main" Requires="a14">
            <p:sp>
              <p:nvSpPr>
                <p:cNvPr id="712" name=""/>
                <p:cNvSpPr txBox="1"/>
                <p:nvPr/>
              </p:nvSpPr>
              <p:spPr>
                <a:xfrm>
                  <a:off x="4572000" y="685800"/>
                  <a:ext cx="3670200" cy="31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C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8F</m:t>
                      </m:r>
                      <m:r>
                        <m:t xml:space="preserve">⇒</m:t>
                      </m:r>
                      <m:r>
                        <m:rPr>
                          <m:lit/>
                          <m:nor/>
                        </m:rPr>
                        <m:t xml:space="preserve"> poles: 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  <m:r>
                        <m:t xml:space="preserve">±</m:t>
                      </m:r>
                      <m:r>
                        <m:t xml:space="preserve">j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</m:oMath>
                  </a14:m>
                </a:p>
              </p:txBody>
            </p:sp>
          </mc:Choice>
          <mc:Fallback/>
        </mc:AlternateContent>
        <p:pic>
          <p:nvPicPr>
            <p:cNvPr id="713" name="F13.009C_W1220" descr=""/>
            <p:cNvPicPr/>
            <p:nvPr/>
          </p:nvPicPr>
          <p:blipFill>
            <a:blip r:embed="rId8"/>
            <a:stretch/>
          </p:blipFill>
          <p:spPr>
            <a:xfrm>
              <a:off x="4572000" y="1066680"/>
              <a:ext cx="2114640" cy="2514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4" name=""/>
          <p:cNvGrpSpPr/>
          <p:nvPr/>
        </p:nvGrpSpPr>
        <p:grpSpPr>
          <a:xfrm>
            <a:off x="6095880" y="1066680"/>
            <a:ext cx="3048120" cy="2543400"/>
            <a:chOff x="6095880" y="1066680"/>
            <a:chExt cx="3048120" cy="2543400"/>
          </a:xfrm>
        </p:grpSpPr>
        <p:pic>
          <p:nvPicPr>
            <p:cNvPr id="715" name="F13.009D_W1220" descr=""/>
            <p:cNvPicPr/>
            <p:nvPr/>
          </p:nvPicPr>
          <p:blipFill>
            <a:blip r:embed="rId9"/>
            <a:stretch/>
          </p:blipFill>
          <p:spPr>
            <a:xfrm>
              <a:off x="6781680" y="1066680"/>
              <a:ext cx="2362320" cy="25434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716" name=""/>
                <p:cNvSpPr txBox="1"/>
                <p:nvPr/>
              </p:nvSpPr>
              <p:spPr>
                <a:xfrm>
                  <a:off x="6095880" y="3276720"/>
                  <a:ext cx="3048120" cy="315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C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6F</m:t>
                      </m:r>
                      <m:r>
                        <m:t xml:space="preserve">⇒</m:t>
                      </m:r>
                      <m:r>
                        <m:rPr>
                          <m:lit/>
                          <m:nor/>
                        </m:rPr>
                        <m:t xml:space="preserve"> poles: 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17" name=""/>
          <p:cNvGrpSpPr/>
          <p:nvPr/>
        </p:nvGrpSpPr>
        <p:grpSpPr>
          <a:xfrm>
            <a:off x="4572000" y="3809880"/>
            <a:ext cx="4000680" cy="2867040"/>
            <a:chOff x="4572000" y="3809880"/>
            <a:chExt cx="4000680" cy="2867040"/>
          </a:xfrm>
        </p:grpSpPr>
        <mc:AlternateContent>
          <mc:Choice xmlns:a14="http://schemas.microsoft.com/office/drawing/2010/main" Requires="a14">
            <p:sp>
              <p:nvSpPr>
                <p:cNvPr id="718" name=""/>
                <p:cNvSpPr txBox="1"/>
                <p:nvPr/>
              </p:nvSpPr>
              <p:spPr>
                <a:xfrm>
                  <a:off x="4648320" y="3809880"/>
                  <a:ext cx="3924360" cy="31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C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2F</m:t>
                      </m:r>
                      <m:r>
                        <m:t xml:space="preserve">⇒</m:t>
                      </m:r>
                      <m:r>
                        <m:rPr>
                          <m:lit/>
                          <m:nor/>
                        </m:rPr>
                        <m:t xml:space="preserve"> poles: 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427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−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73</m:t>
                      </m:r>
                    </m:oMath>
                  </a14:m>
                </a:p>
              </p:txBody>
            </p:sp>
          </mc:Choice>
          <mc:Fallback/>
        </mc:AlternateContent>
        <p:pic>
          <p:nvPicPr>
            <p:cNvPr id="719" name="F13.009E_W1220" descr=""/>
            <p:cNvPicPr/>
            <p:nvPr/>
          </p:nvPicPr>
          <p:blipFill>
            <a:blip r:embed="rId10"/>
            <a:stretch/>
          </p:blipFill>
          <p:spPr>
            <a:xfrm>
              <a:off x="4572000" y="4114800"/>
              <a:ext cx="2343240" cy="2562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20" name="geaux" descr=""/>
          <p:cNvPicPr/>
          <p:nvPr/>
        </p:nvPicPr>
        <p:blipFill>
          <a:blip r:embed="rId11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21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4" name="F13.010A_W1221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3686400" cy="2248200"/>
          </a:xfrm>
          <a:prstGeom prst="rect">
            <a:avLst/>
          </a:prstGeom>
          <a:ln w="0">
            <a:noFill/>
          </a:ln>
        </p:spPr>
      </p:pic>
      <p:sp>
        <p:nvSpPr>
          <p:cNvPr id="725" name=""/>
          <p:cNvSpPr/>
          <p:nvPr/>
        </p:nvSpPr>
        <p:spPr>
          <a:xfrm>
            <a:off x="2576160" y="0"/>
            <a:ext cx="64458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transfer function, the type of damping and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nit step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64160" y="2695680"/>
            <a:ext cx="42055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orm the circuit to the Lapl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omain. All initial conditions set to z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7" name="F13.010B_W1221" descr=""/>
          <p:cNvPicPr/>
          <p:nvPr/>
        </p:nvPicPr>
        <p:blipFill>
          <a:blip r:embed="rId2"/>
          <a:stretch/>
        </p:blipFill>
        <p:spPr>
          <a:xfrm>
            <a:off x="228600" y="3733920"/>
            <a:ext cx="3705120" cy="2276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28" name=""/>
              <p:cNvSpPr txBox="1"/>
              <p:nvPr/>
            </p:nvSpPr>
            <p:spPr>
              <a:xfrm>
                <a:off x="2438280" y="5105520"/>
                <a:ext cx="609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9" name=""/>
              <p:cNvSpPr txBox="1"/>
              <p:nvPr/>
            </p:nvSpPr>
            <p:spPr>
              <a:xfrm>
                <a:off x="2514600" y="5791320"/>
                <a:ext cx="15876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30" name=""/>
          <p:cNvGrpSpPr/>
          <p:nvPr/>
        </p:nvGrpSpPr>
        <p:grpSpPr>
          <a:xfrm>
            <a:off x="1676520" y="4038480"/>
            <a:ext cx="533160" cy="457200"/>
            <a:chOff x="1676520" y="4038480"/>
            <a:chExt cx="533160" cy="457200"/>
          </a:xfrm>
        </p:grpSpPr>
        <p:sp>
          <p:nvSpPr>
            <p:cNvPr id="731" name=""/>
            <p:cNvSpPr/>
            <p:nvPr/>
          </p:nvSpPr>
          <p:spPr>
            <a:xfrm>
              <a:off x="1676520" y="4495680"/>
              <a:ext cx="5331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209680" y="4038480"/>
              <a:ext cx="0" cy="38124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3" name=""/>
          <p:cNvGrpSpPr/>
          <p:nvPr/>
        </p:nvGrpSpPr>
        <p:grpSpPr>
          <a:xfrm>
            <a:off x="457200" y="3885840"/>
            <a:ext cx="1600200" cy="1676880"/>
            <a:chOff x="457200" y="3885840"/>
            <a:chExt cx="1600200" cy="1676880"/>
          </a:xfrm>
        </p:grpSpPr>
        <p:sp>
          <p:nvSpPr>
            <p:cNvPr id="734" name=""/>
            <p:cNvSpPr/>
            <p:nvPr/>
          </p:nvSpPr>
          <p:spPr>
            <a:xfrm>
              <a:off x="1214280" y="4952880"/>
              <a:ext cx="0" cy="609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>
              <a:off x="457200" y="4572000"/>
              <a:ext cx="5335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V="1">
              <a:off x="1523880" y="3885840"/>
              <a:ext cx="0" cy="685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600200" y="4952880"/>
              <a:ext cx="4572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38" name=""/>
              <p:cNvSpPr txBox="1"/>
              <p:nvPr/>
            </p:nvSpPr>
            <p:spPr>
              <a:xfrm>
                <a:off x="4648320" y="685800"/>
                <a:ext cx="43560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9" name=""/>
              <p:cNvSpPr txBox="1"/>
              <p:nvPr/>
            </p:nvSpPr>
            <p:spPr>
              <a:xfrm>
                <a:off x="685800" y="6172200"/>
                <a:ext cx="1739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⇐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0" name=""/>
              <p:cNvSpPr txBox="1"/>
              <p:nvPr/>
            </p:nvSpPr>
            <p:spPr>
              <a:xfrm>
                <a:off x="4572000" y="1447920"/>
                <a:ext cx="195588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den>
                        </m:f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41" name=""/>
          <p:cNvSpPr/>
          <p:nvPr/>
        </p:nvSpPr>
        <p:spPr>
          <a:xfrm>
            <a:off x="6248520" y="1981080"/>
            <a:ext cx="1752480" cy="609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2" name=""/>
              <p:cNvSpPr txBox="1"/>
              <p:nvPr/>
            </p:nvSpPr>
            <p:spPr>
              <a:xfrm>
                <a:off x="6629400" y="2097000"/>
                <a:ext cx="14860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43" name=""/>
          <p:cNvGrpSpPr/>
          <p:nvPr/>
        </p:nvGrpSpPr>
        <p:grpSpPr>
          <a:xfrm>
            <a:off x="5715000" y="1981080"/>
            <a:ext cx="722160" cy="990720"/>
            <a:chOff x="5715000" y="1981080"/>
            <a:chExt cx="722160" cy="990720"/>
          </a:xfrm>
        </p:grpSpPr>
        <p:sp>
          <p:nvSpPr>
            <p:cNvPr id="744" name=""/>
            <p:cNvSpPr/>
            <p:nvPr/>
          </p:nvSpPr>
          <p:spPr>
            <a:xfrm>
              <a:off x="5715000" y="1981080"/>
              <a:ext cx="228600" cy="990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5" name=""/>
                <p:cNvSpPr txBox="1"/>
                <p:nvPr/>
              </p:nvSpPr>
              <p:spPr>
                <a:xfrm>
                  <a:off x="5943600" y="2666880"/>
                  <a:ext cx="4935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ςω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46" name=""/>
              <p:cNvSpPr txBox="1"/>
              <p:nvPr/>
            </p:nvSpPr>
            <p:spPr>
              <a:xfrm>
                <a:off x="6477120" y="2666880"/>
                <a:ext cx="72216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ς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7" name=""/>
              <p:cNvSpPr txBox="1"/>
              <p:nvPr/>
            </p:nvSpPr>
            <p:spPr>
              <a:xfrm>
                <a:off x="4572000" y="3048120"/>
                <a:ext cx="3073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Unit step response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8" name=""/>
              <p:cNvSpPr txBox="1"/>
              <p:nvPr/>
            </p:nvSpPr>
            <p:spPr>
              <a:xfrm>
                <a:off x="4572000" y="3657600"/>
                <a:ext cx="166356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den>
                        </m:f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9" name=""/>
              <p:cNvSpPr txBox="1"/>
              <p:nvPr/>
            </p:nvSpPr>
            <p:spPr>
              <a:xfrm>
                <a:off x="6248520" y="3657600"/>
                <a:ext cx="2666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0" name=""/>
              <p:cNvSpPr txBox="1"/>
              <p:nvPr/>
            </p:nvSpPr>
            <p:spPr>
              <a:xfrm>
                <a:off x="4572000" y="4572000"/>
                <a:ext cx="1955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4572000" y="4876920"/>
                <a:ext cx="33656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4572000" y="5257800"/>
                <a:ext cx="273060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3" name=""/>
              <p:cNvSpPr txBox="1"/>
              <p:nvPr/>
            </p:nvSpPr>
            <p:spPr>
              <a:xfrm>
                <a:off x="4572000" y="6019920"/>
                <a:ext cx="34671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5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e>
                        </m: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54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5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8" name=""/>
              <p:cNvSpPr txBox="1"/>
              <p:nvPr/>
            </p:nvSpPr>
            <p:spPr>
              <a:xfrm>
                <a:off x="228600" y="533520"/>
                <a:ext cx="17272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9" name=""/>
          <p:cNvSpPr/>
          <p:nvPr/>
        </p:nvSpPr>
        <p:spPr>
          <a:xfrm>
            <a:off x="2737800" y="58680"/>
            <a:ext cx="6161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pole-zero plot, the type of damping and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nit step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0" name=""/>
              <p:cNvSpPr txBox="1"/>
              <p:nvPr/>
            </p:nvSpPr>
            <p:spPr>
              <a:xfrm>
                <a:off x="228600" y="1219320"/>
                <a:ext cx="124452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ero: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1" name=""/>
              <p:cNvSpPr txBox="1"/>
              <p:nvPr/>
            </p:nvSpPr>
            <p:spPr>
              <a:xfrm>
                <a:off x="152280" y="1511280"/>
                <a:ext cx="284508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oles:</m:t>
                        </m:r>
                      </m:e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±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762" name=""/>
          <p:cNvGrpSpPr/>
          <p:nvPr/>
        </p:nvGrpSpPr>
        <p:grpSpPr>
          <a:xfrm>
            <a:off x="457200" y="2285640"/>
            <a:ext cx="2716200" cy="2057400"/>
            <a:chOff x="457200" y="2285640"/>
            <a:chExt cx="2716200" cy="2057400"/>
          </a:xfrm>
        </p:grpSpPr>
        <p:sp>
          <p:nvSpPr>
            <p:cNvPr id="763" name=""/>
            <p:cNvSpPr/>
            <p:nvPr/>
          </p:nvSpPr>
          <p:spPr>
            <a:xfrm flipV="1">
              <a:off x="2590920" y="2285640"/>
              <a:ext cx="0" cy="2057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" y="3429000"/>
              <a:ext cx="25909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5" name=""/>
                <p:cNvSpPr txBox="1"/>
                <p:nvPr/>
              </p:nvSpPr>
              <p:spPr>
                <a:xfrm>
                  <a:off x="2971800" y="3581280"/>
                  <a:ext cx="201600" cy="17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66" name=""/>
                <p:cNvSpPr txBox="1"/>
                <p:nvPr/>
              </p:nvSpPr>
              <p:spPr>
                <a:xfrm>
                  <a:off x="2666880" y="2362320"/>
                  <a:ext cx="3304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ω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67" name=""/>
          <p:cNvGrpSpPr/>
          <p:nvPr/>
        </p:nvGrpSpPr>
        <p:grpSpPr>
          <a:xfrm>
            <a:off x="38160" y="2558880"/>
            <a:ext cx="2832120" cy="1512360"/>
            <a:chOff x="38160" y="2558880"/>
            <a:chExt cx="2832120" cy="1512360"/>
          </a:xfrm>
        </p:grpSpPr>
        <p:sp>
          <p:nvSpPr>
            <p:cNvPr id="768" name=""/>
            <p:cNvSpPr/>
            <p:nvPr/>
          </p:nvSpPr>
          <p:spPr>
            <a:xfrm flipV="1">
              <a:off x="1905120" y="2742840"/>
              <a:ext cx="0" cy="685800"/>
            </a:xfrm>
            <a:prstGeom prst="line">
              <a:avLst/>
            </a:prstGeom>
            <a:ln w="255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900080" y="274176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flipV="1">
              <a:off x="1905120" y="3276360"/>
              <a:ext cx="0" cy="685800"/>
            </a:xfrm>
            <a:prstGeom prst="line">
              <a:avLst/>
            </a:prstGeom>
            <a:ln w="255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905120" y="396252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755720" y="2558880"/>
              <a:ext cx="29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755720" y="3733920"/>
              <a:ext cx="29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4" name=""/>
                <p:cNvSpPr txBox="1"/>
                <p:nvPr/>
              </p:nvSpPr>
              <p:spPr>
                <a:xfrm>
                  <a:off x="2590920" y="2630520"/>
                  <a:ext cx="27936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75" name=""/>
                <p:cNvSpPr txBox="1"/>
                <p:nvPr/>
              </p:nvSpPr>
              <p:spPr>
                <a:xfrm>
                  <a:off x="1905120" y="3214800"/>
                  <a:ext cx="31572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76" name=""/>
            <p:cNvSpPr/>
            <p:nvPr/>
          </p:nvSpPr>
          <p:spPr>
            <a:xfrm>
              <a:off x="80280" y="3244680"/>
              <a:ext cx="34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7" name=""/>
                <p:cNvSpPr txBox="1"/>
                <p:nvPr/>
              </p:nvSpPr>
              <p:spPr>
                <a:xfrm>
                  <a:off x="38160" y="3581280"/>
                  <a:ext cx="41904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78" name=""/>
          <p:cNvSpPr/>
          <p:nvPr/>
        </p:nvSpPr>
        <p:spPr>
          <a:xfrm>
            <a:off x="4268880" y="382680"/>
            <a:ext cx="14475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248520" y="380880"/>
            <a:ext cx="16761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0" name=""/>
              <p:cNvSpPr txBox="1"/>
              <p:nvPr/>
            </p:nvSpPr>
            <p:spPr>
              <a:xfrm>
                <a:off x="304920" y="4648320"/>
                <a:ext cx="990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81" name=""/>
          <p:cNvGrpSpPr/>
          <p:nvPr/>
        </p:nvGrpSpPr>
        <p:grpSpPr>
          <a:xfrm>
            <a:off x="1143000" y="4572000"/>
            <a:ext cx="519120" cy="798480"/>
            <a:chOff x="1143000" y="4572000"/>
            <a:chExt cx="519120" cy="798480"/>
          </a:xfrm>
        </p:grpSpPr>
        <p:sp>
          <p:nvSpPr>
            <p:cNvPr id="782" name=""/>
            <p:cNvSpPr/>
            <p:nvPr/>
          </p:nvSpPr>
          <p:spPr>
            <a:xfrm>
              <a:off x="1143000" y="4572000"/>
              <a:ext cx="228600" cy="4572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3" name=""/>
                <p:cNvSpPr txBox="1"/>
                <p:nvPr/>
              </p:nvSpPr>
              <p:spPr>
                <a:xfrm>
                  <a:off x="1371600" y="5029200"/>
                  <a:ext cx="2905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84" name=""/>
          <p:cNvGrpSpPr/>
          <p:nvPr/>
        </p:nvGrpSpPr>
        <p:grpSpPr>
          <a:xfrm>
            <a:off x="609480" y="4495680"/>
            <a:ext cx="493920" cy="1052640"/>
            <a:chOff x="609480" y="4495680"/>
            <a:chExt cx="493920" cy="1052640"/>
          </a:xfrm>
        </p:grpSpPr>
        <p:sp>
          <p:nvSpPr>
            <p:cNvPr id="785" name=""/>
            <p:cNvSpPr/>
            <p:nvPr/>
          </p:nvSpPr>
          <p:spPr>
            <a:xfrm>
              <a:off x="685800" y="4495680"/>
              <a:ext cx="152280" cy="7621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6" name=""/>
                <p:cNvSpPr txBox="1"/>
                <p:nvPr/>
              </p:nvSpPr>
              <p:spPr>
                <a:xfrm>
                  <a:off x="609480" y="5257800"/>
                  <a:ext cx="4939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ςω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87" name=""/>
              <p:cNvSpPr txBox="1"/>
              <p:nvPr/>
            </p:nvSpPr>
            <p:spPr>
              <a:xfrm>
                <a:off x="1752480" y="4648320"/>
                <a:ext cx="96516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ς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8" name=""/>
          <p:cNvSpPr/>
          <p:nvPr/>
        </p:nvSpPr>
        <p:spPr>
          <a:xfrm>
            <a:off x="2743200" y="609480"/>
            <a:ext cx="18288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9" name=""/>
              <p:cNvSpPr txBox="1"/>
              <p:nvPr/>
            </p:nvSpPr>
            <p:spPr>
              <a:xfrm>
                <a:off x="4267080" y="762120"/>
                <a:ext cx="27813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0" name=""/>
              <p:cNvSpPr txBox="1"/>
              <p:nvPr/>
            </p:nvSpPr>
            <p:spPr>
              <a:xfrm>
                <a:off x="4343400" y="1828800"/>
                <a:ext cx="3162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/>
                        </m:sSubSup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1" name=""/>
              <p:cNvSpPr txBox="1"/>
              <p:nvPr/>
            </p:nvSpPr>
            <p:spPr>
              <a:xfrm>
                <a:off x="5562720" y="1447920"/>
                <a:ext cx="32637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2" name=""/>
              <p:cNvSpPr txBox="1"/>
              <p:nvPr/>
            </p:nvSpPr>
            <p:spPr>
              <a:xfrm>
                <a:off x="4572000" y="3200400"/>
                <a:ext cx="18032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3" name=""/>
              <p:cNvSpPr txBox="1"/>
              <p:nvPr/>
            </p:nvSpPr>
            <p:spPr>
              <a:xfrm>
                <a:off x="4572000" y="3809880"/>
                <a:ext cx="41781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3657600" y="2590920"/>
                <a:ext cx="5473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jβ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/>
                        </m:sSubSup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jβ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↔</m:t>
                    </m:r>
                    <m:r>
                      <m:t xml:space="preserve">2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βt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5" name=""/>
              <p:cNvSpPr txBox="1"/>
              <p:nvPr/>
            </p:nvSpPr>
            <p:spPr>
              <a:xfrm>
                <a:off x="4648320" y="4495680"/>
                <a:ext cx="37591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3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35</m:t>
                        </m:r>
                        <m:r>
                          <m:t xml:space="preserve">°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3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11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6" name=""/>
              <p:cNvSpPr txBox="1"/>
              <p:nvPr/>
            </p:nvSpPr>
            <p:spPr>
              <a:xfrm>
                <a:off x="4572000" y="5334120"/>
                <a:ext cx="3060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11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797" name="geaux" descr=""/>
          <p:cNvPicPr/>
          <p:nvPr/>
        </p:nvPicPr>
        <p:blipFill>
          <a:blip r:embed="rId1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98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/>
          <p:nvPr/>
        </p:nvSpPr>
        <p:spPr>
          <a:xfrm>
            <a:off x="193320" y="76320"/>
            <a:ext cx="64076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cond order networks: variation of poles with damping rat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1" name=""/>
          <p:cNvGrpSpPr/>
          <p:nvPr/>
        </p:nvGrpSpPr>
        <p:grpSpPr>
          <a:xfrm>
            <a:off x="168120" y="533520"/>
            <a:ext cx="3555720" cy="1458720"/>
            <a:chOff x="168120" y="533520"/>
            <a:chExt cx="3555720" cy="1458720"/>
          </a:xfrm>
        </p:grpSpPr>
        <p:sp>
          <p:nvSpPr>
            <p:cNvPr id="802" name=""/>
            <p:cNvSpPr/>
            <p:nvPr/>
          </p:nvSpPr>
          <p:spPr>
            <a:xfrm>
              <a:off x="216360" y="533520"/>
              <a:ext cx="35074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ormalized second order 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3" name=""/>
                <p:cNvSpPr txBox="1"/>
                <p:nvPr/>
              </p:nvSpPr>
              <p:spPr>
                <a:xfrm>
                  <a:off x="168120" y="914400"/>
                  <a:ext cx="222264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bSup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ς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sSubSup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04" name=""/>
                <p:cNvSpPr txBox="1"/>
                <p:nvPr/>
              </p:nvSpPr>
              <p:spPr>
                <a:xfrm>
                  <a:off x="701640" y="1600200"/>
                  <a:ext cx="2908440" cy="39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oles:  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ς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±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r>
                                <m:t xml:space="preserve">ς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05" name=""/>
          <p:cNvGrpSpPr/>
          <p:nvPr/>
        </p:nvGrpSpPr>
        <p:grpSpPr>
          <a:xfrm>
            <a:off x="228600" y="2133720"/>
            <a:ext cx="3733920" cy="696960"/>
            <a:chOff x="228600" y="2133720"/>
            <a:chExt cx="3733920" cy="696960"/>
          </a:xfrm>
        </p:grpSpPr>
        <mc:AlternateContent>
          <mc:Choice xmlns:a14="http://schemas.microsoft.com/office/drawing/2010/main" Requires="a14">
            <p:sp>
              <p:nvSpPr>
                <p:cNvPr id="806" name=""/>
                <p:cNvSpPr txBox="1"/>
                <p:nvPr/>
              </p:nvSpPr>
              <p:spPr>
                <a:xfrm>
                  <a:off x="228600" y="2133720"/>
                  <a:ext cx="373392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ase 2: </m:t>
                      </m:r>
                      <m:r>
                        <m:t xml:space="preserve">ς</m:t>
                      </m:r>
                      <m:r>
                        <m:t xml:space="preserve">&lt;</m:t>
                      </m:r>
                      <m:r>
                        <m:rPr>
                          <m:lit/>
                          <m:nor/>
                        </m:rPr>
                        <m:t xml:space="preserve">1: Underdamped network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07" name=""/>
                <p:cNvSpPr txBox="1"/>
                <p:nvPr/>
              </p:nvSpPr>
              <p:spPr>
                <a:xfrm>
                  <a:off x="688680" y="2438280"/>
                  <a:ext cx="2974680" cy="39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oles:  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ς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±</m:t>
                      </m:r>
                      <m:sSub>
                        <m:e>
                          <m:r>
                            <m:t xml:space="preserve">j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ς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808" name="F13.011_W1223" descr=""/>
          <p:cNvPicPr/>
          <p:nvPr/>
        </p:nvPicPr>
        <p:blipFill>
          <a:blip r:embed="rId1"/>
          <a:stretch/>
        </p:blipFill>
        <p:spPr>
          <a:xfrm>
            <a:off x="76320" y="2971800"/>
            <a:ext cx="3200400" cy="2406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09" name=""/>
              <p:cNvSpPr txBox="1"/>
              <p:nvPr/>
            </p:nvSpPr>
            <p:spPr>
              <a:xfrm>
                <a:off x="304920" y="3962520"/>
                <a:ext cx="8380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ς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10" name=""/>
          <p:cNvGrpSpPr/>
          <p:nvPr/>
        </p:nvGrpSpPr>
        <p:grpSpPr>
          <a:xfrm>
            <a:off x="4222440" y="457200"/>
            <a:ext cx="4921560" cy="1276200"/>
            <a:chOff x="4222440" y="457200"/>
            <a:chExt cx="4921560" cy="1276200"/>
          </a:xfrm>
        </p:grpSpPr>
        <p:pic>
          <p:nvPicPr>
            <p:cNvPr id="811" name="F13.012_W1224" descr=""/>
            <p:cNvPicPr/>
            <p:nvPr/>
          </p:nvPicPr>
          <p:blipFill>
            <a:blip r:embed="rId2"/>
            <a:stretch/>
          </p:blipFill>
          <p:spPr>
            <a:xfrm>
              <a:off x="6191280" y="457200"/>
              <a:ext cx="2952720" cy="12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2" name=""/>
            <p:cNvSpPr/>
            <p:nvPr/>
          </p:nvSpPr>
          <p:spPr>
            <a:xfrm>
              <a:off x="4222440" y="45720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13" name=""/>
              <p:cNvSpPr txBox="1"/>
              <p:nvPr/>
            </p:nvSpPr>
            <p:spPr>
              <a:xfrm>
                <a:off x="4343400" y="1828800"/>
                <a:ext cx="269244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s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s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s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4" name=""/>
              <p:cNvSpPr txBox="1"/>
              <p:nvPr/>
            </p:nvSpPr>
            <p:spPr>
              <a:xfrm>
                <a:off x="7162920" y="1828800"/>
                <a:ext cx="17398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den>
                        </m:f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R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</m:e>
                        </m:d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5" name=""/>
              <p:cNvSpPr txBox="1"/>
              <p:nvPr/>
            </p:nvSpPr>
            <p:spPr>
              <a:xfrm>
                <a:off x="4038480" y="990720"/>
                <a:ext cx="21337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ςω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16" name=""/>
          <p:cNvGrpSpPr/>
          <p:nvPr/>
        </p:nvGrpSpPr>
        <p:grpSpPr>
          <a:xfrm>
            <a:off x="3263760" y="2971800"/>
            <a:ext cx="4584960" cy="3809880"/>
            <a:chOff x="3263760" y="2971800"/>
            <a:chExt cx="4584960" cy="3809880"/>
          </a:xfrm>
        </p:grpSpPr>
        <p:pic>
          <p:nvPicPr>
            <p:cNvPr id="817" name="F13.013_W1225" descr=""/>
            <p:cNvPicPr/>
            <p:nvPr/>
          </p:nvPicPr>
          <p:blipFill>
            <a:blip r:embed="rId3"/>
            <a:stretch/>
          </p:blipFill>
          <p:spPr>
            <a:xfrm>
              <a:off x="3263760" y="2971800"/>
              <a:ext cx="2822760" cy="380988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818" name=""/>
                <p:cNvSpPr txBox="1"/>
                <p:nvPr/>
              </p:nvSpPr>
              <p:spPr>
                <a:xfrm>
                  <a:off x="6006960" y="3352680"/>
                  <a:ext cx="184176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Variation of poles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Use 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2000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819" name="F13.014_W1226" descr=""/>
          <p:cNvPicPr/>
          <p:nvPr/>
        </p:nvPicPr>
        <p:blipFill>
          <a:blip r:embed="rId4"/>
          <a:stretch/>
        </p:blipFill>
        <p:spPr>
          <a:xfrm>
            <a:off x="5791320" y="4038480"/>
            <a:ext cx="3124080" cy="2819520"/>
          </a:xfrm>
          <a:prstGeom prst="rect">
            <a:avLst/>
          </a:prstGeom>
          <a:ln w="0">
            <a:noFill/>
          </a:ln>
        </p:spPr>
      </p:pic>
      <p:pic>
        <p:nvPicPr>
          <p:cNvPr id="820" name="geaux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21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2434320" y="58680"/>
            <a:ext cx="4021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Tacoma Narrows Bridge Revisi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5" name="F13.015_W1227" descr=""/>
          <p:cNvPicPr/>
          <p:nvPr/>
        </p:nvPicPr>
        <p:blipFill>
          <a:blip r:embed="rId1"/>
          <a:stretch/>
        </p:blipFill>
        <p:spPr>
          <a:xfrm>
            <a:off x="76320" y="533520"/>
            <a:ext cx="6476760" cy="540540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6520680" y="426960"/>
            <a:ext cx="2549160" cy="20408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eviously the ev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as modeled as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onance proble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re detailed stud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how that a mod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ith a wind-depend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amping ratio provi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better explan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7" name=""/>
              <p:cNvSpPr txBox="1"/>
              <p:nvPr/>
            </p:nvSpPr>
            <p:spPr>
              <a:xfrm>
                <a:off x="6492960" y="2654280"/>
                <a:ext cx="2336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θ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ςω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f>
                      <m:num>
                        <m:r>
                          <m:t xml:space="preserve">dθ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θ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8" name=""/>
              <p:cNvSpPr txBox="1"/>
              <p:nvPr/>
            </p:nvSpPr>
            <p:spPr>
              <a:xfrm>
                <a:off x="6568920" y="3492360"/>
                <a:ext cx="22482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ς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46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13</m:t>
                        </m:r>
                        <m:r>
                          <m:t xml:space="preserve">U</m:t>
                        </m:r>
                      </m:e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wind speed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ph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29" name=""/>
          <p:cNvSpPr/>
          <p:nvPr/>
        </p:nvSpPr>
        <p:spPr>
          <a:xfrm>
            <a:off x="6523560" y="4313160"/>
            <a:ext cx="2264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rsional Reso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0" name=""/>
              <p:cNvSpPr txBox="1"/>
              <p:nvPr/>
            </p:nvSpPr>
            <p:spPr>
              <a:xfrm>
                <a:off x="6477120" y="4940280"/>
                <a:ext cx="2514600" cy="13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nditions at failur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ind speed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2mph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wist   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°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ime to collaps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5mi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31" name=""/>
          <p:cNvSpPr/>
          <p:nvPr/>
        </p:nvSpPr>
        <p:spPr>
          <a:xfrm>
            <a:off x="1370880" y="6292800"/>
            <a:ext cx="518400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blem: Develop a circuit that models this ev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2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33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35" name=""/>
              <p:cNvSpPr txBox="1"/>
              <p:nvPr/>
            </p:nvSpPr>
            <p:spPr>
              <a:xfrm>
                <a:off x="4502160" y="3282840"/>
                <a:ext cx="139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836" name=""/>
          <p:cNvGrpSpPr/>
          <p:nvPr/>
        </p:nvGrpSpPr>
        <p:grpSpPr>
          <a:xfrm>
            <a:off x="7920" y="135000"/>
            <a:ext cx="3160800" cy="627120"/>
            <a:chOff x="7920" y="135000"/>
            <a:chExt cx="3160800" cy="627120"/>
          </a:xfrm>
        </p:grpSpPr>
        <p:sp>
          <p:nvSpPr>
            <p:cNvPr id="837" name=""/>
            <p:cNvSpPr/>
            <p:nvPr/>
          </p:nvSpPr>
          <p:spPr>
            <a:xfrm>
              <a:off x="7920" y="135000"/>
              <a:ext cx="8161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8" name=""/>
                <p:cNvSpPr txBox="1"/>
                <p:nvPr/>
              </p:nvSpPr>
              <p:spPr>
                <a:xfrm>
                  <a:off x="831960" y="152280"/>
                  <a:ext cx="233676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d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θ</m:t>
                          </m:r>
                        </m:num>
                        <m:den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+</m:t>
                      </m:r>
                      <m:r>
                        <m:t xml:space="preserve">2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ςω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f>
                        <m:num>
                          <m:r>
                            <m:t xml:space="preserve">dθ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+</m:t>
                      </m:r>
                      <m:sSubSup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θ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39" name=""/>
              <p:cNvSpPr txBox="1"/>
              <p:nvPr/>
            </p:nvSpPr>
            <p:spPr>
              <a:xfrm>
                <a:off x="0" y="762120"/>
                <a:ext cx="400068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θ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lim>
                    </m:limUpp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ςω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limUpp>
                      <m:e>
                        <m:r>
                          <m:t xml:space="preserve">θ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lim>
                    </m:limUpp>
                    <m:r>
                      <m:t xml:space="preserve">+</m:t>
                    </m:r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θ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limUpp>
                      <m:e>
                        <m:r>
                          <m:t xml:space="preserve">θ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lim>
                    </m:limUp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ςω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limUpp>
                      <m:e>
                        <m:r>
                          <m:t xml:space="preserve">θ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lim>
                    </m:limUpp>
                    <m:r>
                      <m:t xml:space="preserve">+</m:t>
                    </m:r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40" name=""/>
          <p:cNvGrpSpPr/>
          <p:nvPr/>
        </p:nvGrpSpPr>
        <p:grpSpPr>
          <a:xfrm>
            <a:off x="2895480" y="-17640"/>
            <a:ext cx="3359160" cy="3129120"/>
            <a:chOff x="2895480" y="-17640"/>
            <a:chExt cx="3359160" cy="3129120"/>
          </a:xfrm>
        </p:grpSpPr>
        <p:graphicFrame>
          <p:nvGraphicFramePr>
            <p:cNvPr id="841" name=""/>
            <p:cNvGraphicFramePr/>
            <p:nvPr/>
          </p:nvGraphicFramePr>
          <p:xfrm>
            <a:off x="4191120" y="0"/>
            <a:ext cx="2063520" cy="2209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4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191120" y="0"/>
                      <a:ext cx="2063520" cy="220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843" name=""/>
                <p:cNvSpPr txBox="1"/>
                <p:nvPr/>
              </p:nvSpPr>
              <p:spPr>
                <a:xfrm>
                  <a:off x="4114800" y="121932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844" name=""/>
            <p:cNvSpPr/>
            <p:nvPr/>
          </p:nvSpPr>
          <p:spPr>
            <a:xfrm>
              <a:off x="4572000" y="1371600"/>
              <a:ext cx="380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5181480" y="83808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46" name=""/>
                <p:cNvSpPr txBox="1"/>
                <p:nvPr/>
              </p:nvSpPr>
              <p:spPr>
                <a:xfrm>
                  <a:off x="2895480" y="1752480"/>
                  <a:ext cx="2095560" cy="1359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f>
                            <m:num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ω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ω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s</m:t>
                                  </m:r>
                                </m:e>
                              </m:d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ω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ω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ω</m:t>
                                  </m:r>
                                </m:sub>
                              </m:sSub>
                              <m:r>
                                <m:t xml:space="preserve">s</m:t>
                              </m:r>
                            </m:den>
                          </m:f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847" name=""/>
            <p:cNvSpPr/>
            <p:nvPr/>
          </p:nvSpPr>
          <p:spPr>
            <a:xfrm>
              <a:off x="4190040" y="-17640"/>
              <a:ext cx="123084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tegr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8" name=""/>
          <p:cNvGrpSpPr/>
          <p:nvPr/>
        </p:nvGrpSpPr>
        <p:grpSpPr>
          <a:xfrm>
            <a:off x="6629400" y="0"/>
            <a:ext cx="2514600" cy="3797280"/>
            <a:chOff x="6629400" y="0"/>
            <a:chExt cx="2514600" cy="3797280"/>
          </a:xfrm>
        </p:grpSpPr>
        <p:graphicFrame>
          <p:nvGraphicFramePr>
            <p:cNvPr id="849" name=""/>
            <p:cNvGraphicFramePr/>
            <p:nvPr/>
          </p:nvGraphicFramePr>
          <p:xfrm>
            <a:off x="6629400" y="228600"/>
            <a:ext cx="2286000" cy="2219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5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629400" y="228600"/>
                      <a:ext cx="2286000" cy="2219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851" name=""/>
                <p:cNvSpPr txBox="1"/>
                <p:nvPr/>
              </p:nvSpPr>
              <p:spPr>
                <a:xfrm>
                  <a:off x="6629400" y="129528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52" name=""/>
                <p:cNvSpPr txBox="1"/>
                <p:nvPr/>
              </p:nvSpPr>
              <p:spPr>
                <a:xfrm>
                  <a:off x="6781680" y="2057400"/>
                  <a:ext cx="228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853" name=""/>
            <p:cNvSpPr/>
            <p:nvPr/>
          </p:nvSpPr>
          <p:spPr>
            <a:xfrm>
              <a:off x="6781680" y="0"/>
              <a:ext cx="80964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d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54" name=""/>
                <p:cNvSpPr txBox="1"/>
                <p:nvPr/>
              </p:nvSpPr>
              <p:spPr>
                <a:xfrm>
                  <a:off x="6972480" y="2438280"/>
                  <a:ext cx="2171520" cy="1359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f>
                            <m:num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α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α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855" name=""/>
          <p:cNvGraphicFramePr/>
          <p:nvPr/>
        </p:nvGraphicFramePr>
        <p:xfrm>
          <a:off x="0" y="3124080"/>
          <a:ext cx="6934320" cy="3810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3124080"/>
                    <a:ext cx="6934320" cy="38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57" name=""/>
              <p:cNvSpPr txBox="1"/>
              <p:nvPr/>
            </p:nvSpPr>
            <p:spPr>
              <a:xfrm>
                <a:off x="6934320" y="4876920"/>
                <a:ext cx="3412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8" name=""/>
              <p:cNvSpPr txBox="1"/>
              <p:nvPr/>
            </p:nvSpPr>
            <p:spPr>
              <a:xfrm>
                <a:off x="4038480" y="4368960"/>
                <a:ext cx="50796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limUpp>
                          <m:e>
                            <m:r>
                              <m:t xml:space="preserve">dθ</m:t>
                            </m:r>
                          </m:e>
                          <m:lim/>
                        </m:limUp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1828800" y="4191120"/>
                <a:ext cx="596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θ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0" name=""/>
          <p:cNvSpPr/>
          <p:nvPr/>
        </p:nvSpPr>
        <p:spPr>
          <a:xfrm>
            <a:off x="397440" y="5545080"/>
            <a:ext cx="21070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ulation u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pendent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1" name=""/>
          <p:cNvGrpSpPr/>
          <p:nvPr/>
        </p:nvGrpSpPr>
        <p:grpSpPr>
          <a:xfrm>
            <a:off x="0" y="1219320"/>
            <a:ext cx="3429000" cy="776880"/>
            <a:chOff x="0" y="1219320"/>
            <a:chExt cx="3429000" cy="776880"/>
          </a:xfrm>
        </p:grpSpPr>
        <mc:AlternateContent>
          <mc:Choice xmlns:a14="http://schemas.microsoft.com/office/drawing/2010/main" Requires="a14">
            <p:sp>
              <p:nvSpPr>
                <p:cNvPr id="862" name=""/>
                <p:cNvSpPr txBox="1"/>
                <p:nvPr/>
              </p:nvSpPr>
              <p:spPr>
                <a:xfrm>
                  <a:off x="0" y="1219320"/>
                  <a:ext cx="3429000" cy="43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Upp>
                        <m:e>
                          <m:r>
                            <m:t xml:space="preserve">θ</m:t>
                          </m:r>
                        </m:e>
                        <m:lim>
                          <m:r>
                            <m:t xml:space="preserve">⋅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01156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00013</m:t>
                          </m:r>
                          <m:r>
                            <m:t xml:space="preserve">U</m:t>
                          </m:r>
                          <m:r>
                            <m:t xml:space="preserve">)</m:t>
                          </m:r>
                          <m:limUpp>
                            <m:e>
                              <m:r>
                                <m:t xml:space="preserve">θ</m:t>
                              </m:r>
                            </m:e>
                            <m:lim/>
                          </m:limUp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579</m:t>
                          </m:r>
                          <m:r>
                            <m:t xml:space="preserve">θ</m:t>
                          </m:r>
                        </m:lim>
                      </m:limUpp>
                    </m:oMath>
                  </a14:m>
                </a:p>
              </p:txBody>
            </p:sp>
          </mc:Choice>
          <mc:Fallback/>
        </mc:AlternateContent>
        <p:sp>
          <p:nvSpPr>
            <p:cNvPr id="863" name=""/>
            <p:cNvSpPr/>
            <p:nvPr/>
          </p:nvSpPr>
          <p:spPr>
            <a:xfrm>
              <a:off x="36720" y="1658880"/>
              <a:ext cx="25459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ing numerical valu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4" name=""/>
          <p:cNvSpPr/>
          <p:nvPr/>
        </p:nvSpPr>
        <p:spPr>
          <a:xfrm>
            <a:off x="5249880" y="2039760"/>
            <a:ext cx="12794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uil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lo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5" name="geaux" descr=""/>
          <p:cNvPicPr/>
          <p:nvPr/>
        </p:nvPicPr>
        <p:blipFill>
          <a:blip r:embed="rId7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66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"/>
          <p:cNvSpPr/>
          <p:nvPr/>
        </p:nvSpPr>
        <p:spPr>
          <a:xfrm>
            <a:off x="163080" y="135000"/>
            <a:ext cx="2029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ulation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9" name=""/>
          <p:cNvGrpSpPr/>
          <p:nvPr/>
        </p:nvGrpSpPr>
        <p:grpSpPr>
          <a:xfrm>
            <a:off x="76320" y="533520"/>
            <a:ext cx="4495680" cy="3044520"/>
            <a:chOff x="76320" y="533520"/>
            <a:chExt cx="4495680" cy="3044520"/>
          </a:xfrm>
        </p:grpSpPr>
        <p:pic>
          <p:nvPicPr>
            <p:cNvPr id="870" name="F13.018_W1230" descr=""/>
            <p:cNvPicPr/>
            <p:nvPr/>
          </p:nvPicPr>
          <p:blipFill>
            <a:blip r:embed="rId1"/>
            <a:stretch/>
          </p:blipFill>
          <p:spPr>
            <a:xfrm>
              <a:off x="76320" y="533520"/>
              <a:ext cx="4495680" cy="3044520"/>
            </a:xfrm>
            <a:prstGeom prst="rect">
              <a:avLst/>
            </a:prstGeom>
            <a:ln w="9360">
              <a:solidFill>
                <a:srgbClr val="ff0000"/>
              </a:solidFill>
              <a:miter/>
            </a:ln>
          </p:spPr>
        </p:pic>
        <p:sp>
          <p:nvSpPr>
            <p:cNvPr id="871" name=""/>
            <p:cNvSpPr/>
            <p:nvPr/>
          </p:nvSpPr>
          <p:spPr>
            <a:xfrm>
              <a:off x="1694880" y="636480"/>
              <a:ext cx="2545920" cy="5806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ind speed=20mp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itial torsion=1 degre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2" name=""/>
          <p:cNvGrpSpPr/>
          <p:nvPr/>
        </p:nvGrpSpPr>
        <p:grpSpPr>
          <a:xfrm>
            <a:off x="47520" y="3638520"/>
            <a:ext cx="4524480" cy="3219480"/>
            <a:chOff x="47520" y="3638520"/>
            <a:chExt cx="4524480" cy="3219480"/>
          </a:xfrm>
        </p:grpSpPr>
        <p:pic>
          <p:nvPicPr>
            <p:cNvPr id="873" name="F13.019_W1231" descr=""/>
            <p:cNvPicPr/>
            <p:nvPr/>
          </p:nvPicPr>
          <p:blipFill>
            <a:blip r:embed="rId2"/>
            <a:stretch/>
          </p:blipFill>
          <p:spPr>
            <a:xfrm>
              <a:off x="47520" y="3638520"/>
              <a:ext cx="4524480" cy="3219480"/>
            </a:xfrm>
            <a:prstGeom prst="rect">
              <a:avLst/>
            </a:prstGeom>
            <a:ln w="9360">
              <a:solidFill>
                <a:srgbClr val="ff0000"/>
              </a:solidFill>
              <a:miter/>
            </a:ln>
          </p:spPr>
        </p:pic>
        <p:sp>
          <p:nvSpPr>
            <p:cNvPr id="874" name=""/>
            <p:cNvSpPr/>
            <p:nvPr/>
          </p:nvSpPr>
          <p:spPr>
            <a:xfrm>
              <a:off x="1737720" y="3657600"/>
              <a:ext cx="2545920" cy="5806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ind speed=35mp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itial torsion =1degre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75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76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8" name=""/>
          <p:cNvGrpSpPr/>
          <p:nvPr/>
        </p:nvGrpSpPr>
        <p:grpSpPr>
          <a:xfrm>
            <a:off x="0" y="838080"/>
            <a:ext cx="3238560" cy="2514600"/>
            <a:chOff x="0" y="838080"/>
            <a:chExt cx="3238560" cy="2514600"/>
          </a:xfrm>
        </p:grpSpPr>
        <p:pic>
          <p:nvPicPr>
            <p:cNvPr id="879" name="F13.022_W1234" descr=""/>
            <p:cNvPicPr/>
            <p:nvPr/>
          </p:nvPicPr>
          <p:blipFill>
            <a:blip r:embed="rId1"/>
            <a:stretch/>
          </p:blipFill>
          <p:spPr>
            <a:xfrm>
              <a:off x="0" y="838080"/>
              <a:ext cx="2923920" cy="136188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880" name=""/>
                <p:cNvSpPr txBox="1"/>
                <p:nvPr/>
              </p:nvSpPr>
              <p:spPr>
                <a:xfrm>
                  <a:off x="228600" y="2209680"/>
                  <a:ext cx="3009960" cy="1143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G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n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LC</m:t>
                              </m:r>
                            </m:den>
                          </m:f>
                        </m:num>
                        <m:den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R</m:t>
                                  </m:r>
                                </m:num>
                                <m:den>
                                  <m:r>
                                    <m:t xml:space="preserve">L</m:t>
                                  </m:r>
                                </m:den>
                              </m:f>
                            </m:e>
                          </m:d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LC</m:t>
                              </m:r>
                            </m:den>
                          </m:f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81" name=""/>
          <p:cNvSpPr/>
          <p:nvPr/>
        </p:nvSpPr>
        <p:spPr>
          <a:xfrm>
            <a:off x="2332800" y="76320"/>
            <a:ext cx="4519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LE-ZERO PLOT/BODE PLOT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2" name=""/>
          <p:cNvGrpSpPr/>
          <p:nvPr/>
        </p:nvGrpSpPr>
        <p:grpSpPr>
          <a:xfrm>
            <a:off x="1235160" y="457200"/>
            <a:ext cx="6765840" cy="347760"/>
            <a:chOff x="1235160" y="457200"/>
            <a:chExt cx="6765840" cy="347760"/>
          </a:xfrm>
        </p:grpSpPr>
        <p:sp>
          <p:nvSpPr>
            <p:cNvPr id="883" name=""/>
            <p:cNvSpPr/>
            <p:nvPr/>
          </p:nvSpPr>
          <p:spPr>
            <a:xfrm>
              <a:off x="1235160" y="457200"/>
              <a:ext cx="58622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ode plots display magnitude and phase information of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84" name=""/>
                <p:cNvSpPr txBox="1"/>
                <p:nvPr/>
              </p:nvSpPr>
              <p:spPr>
                <a:xfrm>
                  <a:off x="7086600" y="474840"/>
                  <a:ext cx="91440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G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r>
                            <m:t xml:space="preserve">s</m:t>
                          </m:r>
                          <m:r>
                            <m:t xml:space="preserve">=</m:t>
                          </m:r>
                          <m:r>
                            <m:t xml:space="preserve">jω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85" name=""/>
          <p:cNvSpPr/>
          <p:nvPr/>
        </p:nvSpPr>
        <p:spPr>
          <a:xfrm>
            <a:off x="2850120" y="806400"/>
            <a:ext cx="34815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y show a cross section of G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6" name=""/>
              <p:cNvSpPr txBox="1"/>
              <p:nvPr/>
            </p:nvSpPr>
            <p:spPr>
              <a:xfrm>
                <a:off x="2895480" y="1143000"/>
                <a:ext cx="16765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887" name="F13.023B_W1235" descr=""/>
          <p:cNvPicPr/>
          <p:nvPr/>
        </p:nvPicPr>
        <p:blipFill>
          <a:blip r:embed="rId2"/>
          <a:stretch/>
        </p:blipFill>
        <p:spPr>
          <a:xfrm>
            <a:off x="3200400" y="1828800"/>
            <a:ext cx="5943600" cy="5029200"/>
          </a:xfrm>
          <a:prstGeom prst="rect">
            <a:avLst/>
          </a:prstGeom>
          <a:ln w="0">
            <a:noFill/>
          </a:ln>
        </p:spPr>
      </p:pic>
      <p:pic>
        <p:nvPicPr>
          <p:cNvPr id="888" name="F13.023A_W1235" descr=""/>
          <p:cNvPicPr/>
          <p:nvPr/>
        </p:nvPicPr>
        <p:blipFill>
          <a:blip r:embed="rId3"/>
          <a:stretch/>
        </p:blipFill>
        <p:spPr>
          <a:xfrm>
            <a:off x="533520" y="3429000"/>
            <a:ext cx="1936800" cy="3429000"/>
          </a:xfrm>
          <a:prstGeom prst="rect">
            <a:avLst/>
          </a:prstGeom>
          <a:ln w="0">
            <a:noFill/>
          </a:ln>
        </p:spPr>
      </p:pic>
      <p:grpSp>
        <p:nvGrpSpPr>
          <p:cNvPr id="889" name=""/>
          <p:cNvGrpSpPr/>
          <p:nvPr/>
        </p:nvGrpSpPr>
        <p:grpSpPr>
          <a:xfrm>
            <a:off x="5486400" y="4325760"/>
            <a:ext cx="3256560" cy="1541160"/>
            <a:chOff x="5486400" y="4325760"/>
            <a:chExt cx="3256560" cy="1541160"/>
          </a:xfrm>
        </p:grpSpPr>
        <p:sp>
          <p:nvSpPr>
            <p:cNvPr id="890" name=""/>
            <p:cNvSpPr/>
            <p:nvPr/>
          </p:nvSpPr>
          <p:spPr>
            <a:xfrm flipV="1">
              <a:off x="5486400" y="4876560"/>
              <a:ext cx="1752480" cy="990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038360" y="4325760"/>
              <a:ext cx="1704600" cy="5806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ross s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hown by B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2" name=""/>
          <p:cNvSpPr/>
          <p:nvPr/>
        </p:nvSpPr>
        <p:spPr>
          <a:xfrm>
            <a:off x="6364800" y="1582560"/>
            <a:ext cx="271656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the poles get closer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aginary axis the pea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valleys are m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nounc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3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94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F13.023C_W1236" descr=""/>
          <p:cNvPicPr/>
          <p:nvPr/>
        </p:nvPicPr>
        <p:blipFill>
          <a:blip r:embed="rId1"/>
          <a:stretch/>
        </p:blipFill>
        <p:spPr>
          <a:xfrm>
            <a:off x="0" y="-30240"/>
            <a:ext cx="5029200" cy="3840120"/>
          </a:xfrm>
          <a:prstGeom prst="rect">
            <a:avLst/>
          </a:prstGeom>
          <a:ln w="0">
            <a:noFill/>
          </a:ln>
        </p:spPr>
      </p:pic>
      <p:sp>
        <p:nvSpPr>
          <p:cNvPr id="897" name=""/>
          <p:cNvSpPr/>
          <p:nvPr/>
        </p:nvSpPr>
        <p:spPr>
          <a:xfrm>
            <a:off x="1017000" y="515880"/>
            <a:ext cx="151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ross s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0" y="3352680"/>
            <a:ext cx="5076720" cy="3505320"/>
            <a:chOff x="0" y="3352680"/>
            <a:chExt cx="5076720" cy="3505320"/>
          </a:xfrm>
        </p:grpSpPr>
        <p:pic>
          <p:nvPicPr>
            <p:cNvPr id="899" name="F13.023D_W1236" descr=""/>
            <p:cNvPicPr/>
            <p:nvPr/>
          </p:nvPicPr>
          <p:blipFill>
            <a:blip r:embed="rId2"/>
            <a:stretch/>
          </p:blipFill>
          <p:spPr>
            <a:xfrm>
              <a:off x="0" y="3352680"/>
              <a:ext cx="5076720" cy="350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0" name=""/>
            <p:cNvSpPr/>
            <p:nvPr/>
          </p:nvSpPr>
          <p:spPr>
            <a:xfrm>
              <a:off x="691200" y="3716280"/>
              <a:ext cx="130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ront  vi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1" name=""/>
          <p:cNvGrpSpPr/>
          <p:nvPr/>
        </p:nvGrpSpPr>
        <p:grpSpPr>
          <a:xfrm>
            <a:off x="5105520" y="152280"/>
            <a:ext cx="3871800" cy="3068640"/>
            <a:chOff x="5105520" y="152280"/>
            <a:chExt cx="3871800" cy="3068640"/>
          </a:xfrm>
        </p:grpSpPr>
        <p:pic>
          <p:nvPicPr>
            <p:cNvPr id="902" name="F13.023E_W1237" descr=""/>
            <p:cNvPicPr/>
            <p:nvPr/>
          </p:nvPicPr>
          <p:blipFill>
            <a:blip r:embed="rId3"/>
            <a:stretch/>
          </p:blipFill>
          <p:spPr>
            <a:xfrm>
              <a:off x="5105520" y="152280"/>
              <a:ext cx="3871800" cy="306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3" name=""/>
            <p:cNvSpPr/>
            <p:nvPr/>
          </p:nvSpPr>
          <p:spPr>
            <a:xfrm>
              <a:off x="6523560" y="1523880"/>
              <a:ext cx="205812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ue to symmet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how only posi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requenc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4" name=""/>
          <p:cNvGrpSpPr/>
          <p:nvPr/>
        </p:nvGrpSpPr>
        <p:grpSpPr>
          <a:xfrm>
            <a:off x="5181480" y="3710160"/>
            <a:ext cx="3962520" cy="3147840"/>
            <a:chOff x="5181480" y="3710160"/>
            <a:chExt cx="3962520" cy="3147840"/>
          </a:xfrm>
        </p:grpSpPr>
        <p:grpSp>
          <p:nvGrpSpPr>
            <p:cNvPr id="905" name=""/>
            <p:cNvGrpSpPr/>
            <p:nvPr/>
          </p:nvGrpSpPr>
          <p:grpSpPr>
            <a:xfrm>
              <a:off x="5181480" y="3710160"/>
              <a:ext cx="3962520" cy="3147840"/>
              <a:chOff x="5181480" y="3710160"/>
              <a:chExt cx="3962520" cy="3147840"/>
            </a:xfrm>
          </p:grpSpPr>
          <p:pic>
            <p:nvPicPr>
              <p:cNvPr id="906" name="F13.023F_W1237" descr=""/>
              <p:cNvPicPr/>
              <p:nvPr/>
            </p:nvPicPr>
            <p:blipFill>
              <a:blip r:embed="rId4"/>
              <a:stretch/>
            </p:blipFill>
            <p:spPr>
              <a:xfrm>
                <a:off x="5181480" y="3710160"/>
                <a:ext cx="3962520" cy="314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7" name=""/>
              <p:cNvSpPr/>
              <p:nvPr/>
            </p:nvSpPr>
            <p:spPr>
              <a:xfrm>
                <a:off x="6187680" y="3944880"/>
                <a:ext cx="226260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Amplitude Bode plo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8" name=""/>
            <p:cNvSpPr/>
            <p:nvPr/>
          </p:nvSpPr>
          <p:spPr>
            <a:xfrm>
              <a:off x="6508440" y="5468760"/>
              <a:ext cx="168804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es log sca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09" name="geaux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10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"/>
          <p:cNvSpPr/>
          <p:nvPr/>
        </p:nvSpPr>
        <p:spPr>
          <a:xfrm>
            <a:off x="2773080" y="76320"/>
            <a:ext cx="332460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TEADY STATE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3" name=""/>
          <p:cNvGrpSpPr/>
          <p:nvPr/>
        </p:nvGrpSpPr>
        <p:grpSpPr>
          <a:xfrm>
            <a:off x="304920" y="592200"/>
            <a:ext cx="6737040" cy="337320"/>
            <a:chOff x="304920" y="592200"/>
            <a:chExt cx="6737040" cy="337320"/>
          </a:xfrm>
        </p:grpSpPr>
        <mc:AlternateContent>
          <mc:Choice xmlns:a14="http://schemas.microsoft.com/office/drawing/2010/main" Requires="a14">
            <p:sp>
              <p:nvSpPr>
                <p:cNvPr id="914" name=""/>
                <p:cNvSpPr txBox="1"/>
                <p:nvPr/>
              </p:nvSpPr>
              <p:spPr>
                <a:xfrm>
                  <a:off x="304920" y="609480"/>
                  <a:ext cx="165096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15" name=""/>
            <p:cNvSpPr/>
            <p:nvPr/>
          </p:nvSpPr>
          <p:spPr>
            <a:xfrm>
              <a:off x="2296800" y="592200"/>
              <a:ext cx="47451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sponse when all initial conditions are zero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6" name=""/>
          <p:cNvSpPr/>
          <p:nvPr/>
        </p:nvSpPr>
        <p:spPr>
          <a:xfrm>
            <a:off x="479520" y="1049400"/>
            <a:ext cx="80766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aplace uses positive time functions. Even for sinusoids the response conta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itory te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7" name=""/>
          <p:cNvGrpSpPr/>
          <p:nvPr/>
        </p:nvGrpSpPr>
        <p:grpSpPr>
          <a:xfrm>
            <a:off x="88560" y="1600200"/>
            <a:ext cx="5997960" cy="558720"/>
            <a:chOff x="88560" y="1600200"/>
            <a:chExt cx="5997960" cy="558720"/>
          </a:xfrm>
        </p:grpSpPr>
        <p:sp>
          <p:nvSpPr>
            <p:cNvPr id="918" name=""/>
            <p:cNvSpPr/>
            <p:nvPr/>
          </p:nvSpPr>
          <p:spPr>
            <a:xfrm>
              <a:off x="88560" y="1644480"/>
              <a:ext cx="1114920" cy="337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9" name=""/>
                <p:cNvSpPr txBox="1"/>
                <p:nvPr/>
              </p:nvSpPr>
              <p:spPr>
                <a:xfrm>
                  <a:off x="1235160" y="1600200"/>
                  <a:ext cx="48513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,</m:t>
                      </m:r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s</m:t>
                          </m:r>
                        </m:num>
                        <m:den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r>
                                <m:t xml:space="preserve">ω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⇒</m:t>
                      </m:r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[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ω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  <m:r>
                        <m:t xml:space="preserve">]</m:t>
                      </m:r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20" name=""/>
              <p:cNvSpPr txBox="1"/>
              <p:nvPr/>
            </p:nvSpPr>
            <p:spPr>
              <a:xfrm>
                <a:off x="152280" y="2197080"/>
                <a:ext cx="43434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/>
                        </m:sSubSup>
                      </m:num>
                      <m:den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j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1" name=""/>
              <p:cNvSpPr txBox="1"/>
              <p:nvPr/>
            </p:nvSpPr>
            <p:spPr>
              <a:xfrm>
                <a:off x="152280" y="3048120"/>
                <a:ext cx="38991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+∠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22" name=""/>
          <p:cNvGrpSpPr/>
          <p:nvPr/>
        </p:nvGrpSpPr>
        <p:grpSpPr>
          <a:xfrm>
            <a:off x="311400" y="3048120"/>
            <a:ext cx="1119600" cy="776880"/>
            <a:chOff x="311400" y="3048120"/>
            <a:chExt cx="1119600" cy="776880"/>
          </a:xfrm>
        </p:grpSpPr>
        <p:sp>
          <p:nvSpPr>
            <p:cNvPr id="923" name=""/>
            <p:cNvSpPr/>
            <p:nvPr/>
          </p:nvSpPr>
          <p:spPr>
            <a:xfrm>
              <a:off x="311400" y="3487680"/>
              <a:ext cx="111960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rans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61760" y="3048120"/>
              <a:ext cx="533520" cy="3808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5" name=""/>
          <p:cNvGrpSpPr/>
          <p:nvPr/>
        </p:nvGrpSpPr>
        <p:grpSpPr>
          <a:xfrm>
            <a:off x="1447920" y="2971800"/>
            <a:ext cx="2743200" cy="889920"/>
            <a:chOff x="1447920" y="2971800"/>
            <a:chExt cx="2743200" cy="889920"/>
          </a:xfrm>
        </p:grpSpPr>
        <p:sp>
          <p:nvSpPr>
            <p:cNvPr id="926" name=""/>
            <p:cNvSpPr/>
            <p:nvPr/>
          </p:nvSpPr>
          <p:spPr>
            <a:xfrm>
              <a:off x="1447920" y="2971800"/>
              <a:ext cx="2743200" cy="4572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646640" y="3524400"/>
              <a:ext cx="241200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teady state respon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8" name=""/>
          <p:cNvSpPr/>
          <p:nvPr/>
        </p:nvSpPr>
        <p:spPr>
          <a:xfrm>
            <a:off x="4719600" y="2362320"/>
            <a:ext cx="436104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interested in the steady state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ly, then don’t determine resid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sociated with transient te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9" name=""/>
              <p:cNvSpPr txBox="1"/>
              <p:nvPr/>
            </p:nvSpPr>
            <p:spPr>
              <a:xfrm>
                <a:off x="228600" y="4967280"/>
                <a:ext cx="694836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s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jω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s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jω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sub>
                          <m:sup/>
                        </m:sSubSup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transient te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0" name=""/>
              <p:cNvSpPr txBox="1"/>
              <p:nvPr/>
            </p:nvSpPr>
            <p:spPr>
              <a:xfrm>
                <a:off x="228600" y="5729400"/>
                <a:ext cx="37972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jω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jω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1" name=""/>
              <p:cNvSpPr txBox="1"/>
              <p:nvPr/>
            </p:nvSpPr>
            <p:spPr>
              <a:xfrm>
                <a:off x="4114800" y="5729400"/>
                <a:ext cx="4521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transient te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2" name=""/>
              <p:cNvSpPr txBox="1"/>
              <p:nvPr/>
            </p:nvSpPr>
            <p:spPr>
              <a:xfrm>
                <a:off x="228600" y="6324480"/>
                <a:ext cx="4089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jω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jω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33" name=""/>
          <p:cNvGrpSpPr/>
          <p:nvPr/>
        </p:nvGrpSpPr>
        <p:grpSpPr>
          <a:xfrm>
            <a:off x="228600" y="3944880"/>
            <a:ext cx="6224760" cy="1008000"/>
            <a:chOff x="228600" y="3944880"/>
            <a:chExt cx="6224760" cy="1008000"/>
          </a:xfrm>
        </p:grpSpPr>
        <mc:AlternateContent>
          <mc:Choice xmlns:a14="http://schemas.microsoft.com/office/drawing/2010/main" Requires="a14">
            <p:sp>
              <p:nvSpPr>
                <p:cNvPr id="934" name=""/>
                <p:cNvSpPr txBox="1"/>
                <p:nvPr/>
              </p:nvSpPr>
              <p:spPr>
                <a:xfrm>
                  <a:off x="228600" y="4281480"/>
                  <a:ext cx="622476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ω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  <m:r>
                        <m:t xml:space="preserve"> </m:t>
                      </m:r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jωt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jωt</m:t>
                              </m:r>
                            </m:sup>
                          </m:sSup>
                        </m:e>
                      </m:d>
                      <m:r>
                        <m:t xml:space="preserve">⇒</m:t>
                      </m:r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s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jω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s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jω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935" name=""/>
            <p:cNvSpPr/>
            <p:nvPr/>
          </p:nvSpPr>
          <p:spPr>
            <a:xfrm>
              <a:off x="249120" y="3944880"/>
              <a:ext cx="2233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the general c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36" name=""/>
              <p:cNvSpPr txBox="1"/>
              <p:nvPr/>
            </p:nvSpPr>
            <p:spPr>
              <a:xfrm>
                <a:off x="4673520" y="3429000"/>
                <a:ext cx="44704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+∠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937" name="geaux" descr=""/>
          <p:cNvPicPr/>
          <p:nvPr/>
        </p:nvPicPr>
        <p:blipFill>
          <a:blip r:embed="rId1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38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824920" y="0"/>
            <a:ext cx="356544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CIRCUIT ELEMENT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9000" y="533520"/>
            <a:ext cx="704016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method used so far follows the step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 Write the differential  equation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 Use Laplace transform to convert the model to an algebraic 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4800" y="1430280"/>
            <a:ext cx="8759160" cy="1554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a more efficient approach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Develop s-domain models for circuit el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Draw the “Laplace equivalent circuit” keeping the interconnections and repl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elements by their s-domain mod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. Analyze the Laplace equivalent circuit. All usual circuit tools are applicable and al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quations are algebrai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648320" y="3182760"/>
            <a:ext cx="4438440" cy="2065680"/>
            <a:chOff x="4648320" y="3182760"/>
            <a:chExt cx="4438440" cy="2065680"/>
          </a:xfrm>
        </p:grpSpPr>
        <p:pic>
          <p:nvPicPr>
            <p:cNvPr id="121" name="F13.002A_W1208" descr=""/>
            <p:cNvPicPr/>
            <p:nvPr/>
          </p:nvPicPr>
          <p:blipFill>
            <a:blip r:embed="rId1"/>
            <a:stretch/>
          </p:blipFill>
          <p:spPr>
            <a:xfrm>
              <a:off x="4648320" y="3505320"/>
              <a:ext cx="4438440" cy="17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5109120" y="3182760"/>
              <a:ext cx="10036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sis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5486400" y="5257800"/>
                <a:ext cx="26290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304920" y="3429000"/>
                <a:ext cx="21589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dependent sources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04920" y="4495680"/>
                <a:ext cx="3136680" cy="133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pendent  sources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26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7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1" name="F13.024A_W1238" descr=""/>
          <p:cNvPicPr/>
          <p:nvPr/>
        </p:nvPicPr>
        <p:blipFill>
          <a:blip r:embed="rId1"/>
          <a:stretch/>
        </p:blipFill>
        <p:spPr>
          <a:xfrm>
            <a:off x="0" y="457200"/>
            <a:ext cx="4809960" cy="1971720"/>
          </a:xfrm>
          <a:prstGeom prst="rect">
            <a:avLst/>
          </a:prstGeom>
          <a:ln w="0">
            <a:noFill/>
          </a:ln>
        </p:spPr>
      </p:pic>
      <p:pic>
        <p:nvPicPr>
          <p:cNvPr id="942" name="F13.024B_W1238" descr=""/>
          <p:cNvPicPr/>
          <p:nvPr/>
        </p:nvPicPr>
        <p:blipFill>
          <a:blip r:embed="rId2"/>
          <a:stretch/>
        </p:blipFill>
        <p:spPr>
          <a:xfrm>
            <a:off x="228600" y="3200400"/>
            <a:ext cx="3753000" cy="1714680"/>
          </a:xfrm>
          <a:prstGeom prst="rect">
            <a:avLst/>
          </a:prstGeom>
          <a:ln w="0">
            <a:noFill/>
          </a:ln>
        </p:spPr>
      </p:pic>
      <p:sp>
        <p:nvSpPr>
          <p:cNvPr id="943" name=""/>
          <p:cNvSpPr/>
          <p:nvPr/>
        </p:nvSpPr>
        <p:spPr>
          <a:xfrm>
            <a:off x="2548440" y="58680"/>
            <a:ext cx="39344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steady state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6240" y="2514600"/>
            <a:ext cx="46994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orm the circuit to the Laplace domai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sume all initial conditions are z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5" name=""/>
          <p:cNvGrpSpPr/>
          <p:nvPr/>
        </p:nvGrpSpPr>
        <p:grpSpPr>
          <a:xfrm>
            <a:off x="914040" y="3276720"/>
            <a:ext cx="1752840" cy="914400"/>
            <a:chOff x="914040" y="3276720"/>
            <a:chExt cx="1752840" cy="914400"/>
          </a:xfrm>
        </p:grpSpPr>
        <p:sp>
          <p:nvSpPr>
            <p:cNvPr id="946" name=""/>
            <p:cNvSpPr/>
            <p:nvPr/>
          </p:nvSpPr>
          <p:spPr>
            <a:xfrm flipH="1">
              <a:off x="914040" y="335268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600200" y="3657600"/>
              <a:ext cx="0" cy="5335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209680" y="3276720"/>
              <a:ext cx="4572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49" name=""/>
              <p:cNvSpPr txBox="1"/>
              <p:nvPr/>
            </p:nvSpPr>
            <p:spPr>
              <a:xfrm>
                <a:off x="762120" y="4724280"/>
                <a:ext cx="29970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CL@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: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0" name=""/>
              <p:cNvSpPr txBox="1"/>
              <p:nvPr/>
            </p:nvSpPr>
            <p:spPr>
              <a:xfrm>
                <a:off x="762120" y="5638680"/>
                <a:ext cx="285732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oltage divider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1" name=""/>
              <p:cNvSpPr txBox="1"/>
              <p:nvPr/>
            </p:nvSpPr>
            <p:spPr>
              <a:xfrm>
                <a:off x="4699080" y="1981080"/>
                <a:ext cx="44449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952" name=""/>
          <p:cNvGrpSpPr/>
          <p:nvPr/>
        </p:nvGrpSpPr>
        <p:grpSpPr>
          <a:xfrm>
            <a:off x="0" y="1066680"/>
            <a:ext cx="1549440" cy="976320"/>
            <a:chOff x="0" y="1066680"/>
            <a:chExt cx="1549440" cy="976320"/>
          </a:xfrm>
        </p:grpSpPr>
        <p:sp>
          <p:nvSpPr>
            <p:cNvPr id="953" name=""/>
            <p:cNvSpPr/>
            <p:nvPr/>
          </p:nvSpPr>
          <p:spPr>
            <a:xfrm>
              <a:off x="0" y="1066680"/>
              <a:ext cx="1523880" cy="60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54" name=""/>
                <p:cNvSpPr txBox="1"/>
                <p:nvPr/>
              </p:nvSpPr>
              <p:spPr>
                <a:xfrm>
                  <a:off x="0" y="1752480"/>
                  <a:ext cx="15494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55" name=""/>
              <p:cNvSpPr txBox="1"/>
              <p:nvPr/>
            </p:nvSpPr>
            <p:spPr>
              <a:xfrm>
                <a:off x="4952880" y="2768760"/>
                <a:ext cx="37720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5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6" name=""/>
              <p:cNvSpPr txBox="1"/>
              <p:nvPr/>
            </p:nvSpPr>
            <p:spPr>
              <a:xfrm>
                <a:off x="4673520" y="457200"/>
                <a:ext cx="44704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+∠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7" name=""/>
              <p:cNvSpPr txBox="1"/>
              <p:nvPr/>
            </p:nvSpPr>
            <p:spPr>
              <a:xfrm>
                <a:off x="5181480" y="3886200"/>
                <a:ext cx="2679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58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59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2" name="E13.007_W1239" descr=""/>
          <p:cNvPicPr/>
          <p:nvPr/>
        </p:nvPicPr>
        <p:blipFill>
          <a:blip r:embed="rId1"/>
          <a:stretch/>
        </p:blipFill>
        <p:spPr>
          <a:xfrm>
            <a:off x="76320" y="609480"/>
            <a:ext cx="4038480" cy="1143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63" name=""/>
              <p:cNvSpPr txBox="1"/>
              <p:nvPr/>
            </p:nvSpPr>
            <p:spPr>
              <a:xfrm>
                <a:off x="2666880" y="76320"/>
                <a:ext cx="2197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s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4" name=""/>
              <p:cNvSpPr txBox="1"/>
              <p:nvPr/>
            </p:nvSpPr>
            <p:spPr>
              <a:xfrm>
                <a:off x="4648320" y="457200"/>
                <a:ext cx="44701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+∠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965" name=""/>
          <p:cNvGrpSpPr/>
          <p:nvPr/>
        </p:nvGrpSpPr>
        <p:grpSpPr>
          <a:xfrm>
            <a:off x="0" y="1066680"/>
            <a:ext cx="1549440" cy="976320"/>
            <a:chOff x="0" y="1066680"/>
            <a:chExt cx="1549440" cy="976320"/>
          </a:xfrm>
        </p:grpSpPr>
        <p:sp>
          <p:nvSpPr>
            <p:cNvPr id="966" name=""/>
            <p:cNvSpPr/>
            <p:nvPr/>
          </p:nvSpPr>
          <p:spPr>
            <a:xfrm>
              <a:off x="0" y="1066680"/>
              <a:ext cx="1143000" cy="60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67" name=""/>
                <p:cNvSpPr txBox="1"/>
                <p:nvPr/>
              </p:nvSpPr>
              <p:spPr>
                <a:xfrm>
                  <a:off x="0" y="1752480"/>
                  <a:ext cx="15494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68" name=""/>
          <p:cNvSpPr/>
          <p:nvPr/>
        </p:nvSpPr>
        <p:spPr>
          <a:xfrm>
            <a:off x="498600" y="2209680"/>
            <a:ext cx="39114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orm circuit to Laplace domai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sume all initial conditions are z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9" name=""/>
          <p:cNvGrpSpPr/>
          <p:nvPr/>
        </p:nvGrpSpPr>
        <p:grpSpPr>
          <a:xfrm>
            <a:off x="152280" y="2948040"/>
            <a:ext cx="4038480" cy="1319040"/>
            <a:chOff x="152280" y="2948040"/>
            <a:chExt cx="4038480" cy="1319040"/>
          </a:xfrm>
        </p:grpSpPr>
        <p:pic>
          <p:nvPicPr>
            <p:cNvPr id="970" name="E13.007_W1239" descr=""/>
            <p:cNvPicPr/>
            <p:nvPr/>
          </p:nvPicPr>
          <p:blipFill>
            <a:blip r:embed="rId2"/>
            <a:stretch/>
          </p:blipFill>
          <p:spPr>
            <a:xfrm>
              <a:off x="152280" y="3124080"/>
              <a:ext cx="4038480" cy="11430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971" name=""/>
                <p:cNvSpPr txBox="1"/>
                <p:nvPr/>
              </p:nvSpPr>
              <p:spPr>
                <a:xfrm>
                  <a:off x="2744640" y="2948040"/>
                  <a:ext cx="150840" cy="17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72" name=""/>
                <p:cNvSpPr txBox="1"/>
                <p:nvPr/>
              </p:nvSpPr>
              <p:spPr>
                <a:xfrm>
                  <a:off x="2057400" y="3429000"/>
                  <a:ext cx="17604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s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73" name=""/>
                <p:cNvSpPr txBox="1"/>
                <p:nvPr/>
              </p:nvSpPr>
              <p:spPr>
                <a:xfrm>
                  <a:off x="533160" y="3886200"/>
                  <a:ext cx="5079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74" name=""/>
          <p:cNvGrpSpPr/>
          <p:nvPr/>
        </p:nvGrpSpPr>
        <p:grpSpPr>
          <a:xfrm>
            <a:off x="0" y="2819520"/>
            <a:ext cx="3276720" cy="1676160"/>
            <a:chOff x="0" y="2819520"/>
            <a:chExt cx="3276720" cy="1676160"/>
          </a:xfrm>
        </p:grpSpPr>
        <p:sp>
          <p:nvSpPr>
            <p:cNvPr id="975" name=""/>
            <p:cNvSpPr/>
            <p:nvPr/>
          </p:nvSpPr>
          <p:spPr>
            <a:xfrm>
              <a:off x="29880" y="2819520"/>
              <a:ext cx="111492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ven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0" y="2819520"/>
              <a:ext cx="3276720" cy="16761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77" name=""/>
              <p:cNvSpPr txBox="1"/>
              <p:nvPr/>
            </p:nvSpPr>
            <p:spPr>
              <a:xfrm>
                <a:off x="76320" y="4533840"/>
                <a:ext cx="294624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8" name=""/>
              <p:cNvSpPr txBox="1"/>
              <p:nvPr/>
            </p:nvSpPr>
            <p:spPr>
              <a:xfrm>
                <a:off x="101520" y="5664240"/>
                <a:ext cx="36324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1</m:t>
                    </m:r>
                    <m:r>
                      <m:t xml:space="preserve">,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9" name=""/>
              <p:cNvSpPr txBox="1"/>
              <p:nvPr/>
            </p:nvSpPr>
            <p:spPr>
              <a:xfrm>
                <a:off x="4952880" y="1219320"/>
                <a:ext cx="23749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0" name=""/>
              <p:cNvSpPr txBox="1"/>
              <p:nvPr/>
            </p:nvSpPr>
            <p:spPr>
              <a:xfrm>
                <a:off x="5029200" y="2984400"/>
                <a:ext cx="21970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81" name=""/>
          <p:cNvGrpSpPr/>
          <p:nvPr/>
        </p:nvGrpSpPr>
        <p:grpSpPr>
          <a:xfrm>
            <a:off x="5715000" y="2832120"/>
            <a:ext cx="1511280" cy="1027080"/>
            <a:chOff x="5715000" y="2832120"/>
            <a:chExt cx="1511280" cy="1027080"/>
          </a:xfrm>
        </p:grpSpPr>
        <p:sp>
          <p:nvSpPr>
            <p:cNvPr id="982" name=""/>
            <p:cNvSpPr/>
            <p:nvPr/>
          </p:nvSpPr>
          <p:spPr>
            <a:xfrm>
              <a:off x="5715000" y="2832120"/>
              <a:ext cx="990720" cy="7621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83" name=""/>
                <p:cNvSpPr txBox="1"/>
                <p:nvPr/>
              </p:nvSpPr>
              <p:spPr>
                <a:xfrm>
                  <a:off x="6705720" y="3594240"/>
                  <a:ext cx="52056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84" name=""/>
              <p:cNvSpPr txBox="1"/>
              <p:nvPr/>
            </p:nvSpPr>
            <p:spPr>
              <a:xfrm>
                <a:off x="4629240" y="3898800"/>
                <a:ext cx="42796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9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5" name=""/>
              <p:cNvSpPr txBox="1"/>
              <p:nvPr/>
            </p:nvSpPr>
            <p:spPr>
              <a:xfrm>
                <a:off x="4952880" y="1905120"/>
                <a:ext cx="300996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6" name=""/>
              <p:cNvSpPr txBox="1"/>
              <p:nvPr/>
            </p:nvSpPr>
            <p:spPr>
              <a:xfrm>
                <a:off x="4648320" y="4572000"/>
                <a:ext cx="31240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s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6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87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88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"/>
          <p:cNvSpPr/>
          <p:nvPr/>
        </p:nvSpPr>
        <p:spPr>
          <a:xfrm>
            <a:off x="118080" y="76320"/>
            <a:ext cx="29880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1" name="F13.025_W1240" descr=""/>
          <p:cNvPicPr/>
          <p:nvPr/>
        </p:nvPicPr>
        <p:blipFill>
          <a:blip r:embed="rId1"/>
          <a:stretch/>
        </p:blipFill>
        <p:spPr>
          <a:xfrm>
            <a:off x="0" y="609480"/>
            <a:ext cx="4495680" cy="2335320"/>
          </a:xfrm>
          <a:prstGeom prst="rect">
            <a:avLst/>
          </a:prstGeom>
          <a:ln w="0">
            <a:noFill/>
          </a:ln>
        </p:spPr>
      </p:pic>
      <p:grpSp>
        <p:nvGrpSpPr>
          <p:cNvPr id="992" name=""/>
          <p:cNvGrpSpPr/>
          <p:nvPr/>
        </p:nvGrpSpPr>
        <p:grpSpPr>
          <a:xfrm>
            <a:off x="1727280" y="135000"/>
            <a:ext cx="4002840" cy="1336680"/>
            <a:chOff x="1727280" y="135000"/>
            <a:chExt cx="4002840" cy="1336680"/>
          </a:xfrm>
        </p:grpSpPr>
        <p:sp>
          <p:nvSpPr>
            <p:cNvPr id="993" name=""/>
            <p:cNvSpPr/>
            <p:nvPr/>
          </p:nvSpPr>
          <p:spPr>
            <a:xfrm>
              <a:off x="1727280" y="420840"/>
              <a:ext cx="2181240" cy="1050840"/>
            </a:xfrm>
            <a:custGeom>
              <a:avLst/>
              <a:gdLst/>
              <a:ahLst/>
              <a:rect l="l" t="t" r="r" b="b"/>
              <a:pathLst>
                <a:path w="1374" h="662">
                  <a:moveTo>
                    <a:pt x="985" y="132"/>
                  </a:moveTo>
                  <a:cubicBezTo>
                    <a:pt x="979" y="240"/>
                    <a:pt x="977" y="355"/>
                    <a:pt x="946" y="460"/>
                  </a:cubicBezTo>
                  <a:cubicBezTo>
                    <a:pt x="930" y="516"/>
                    <a:pt x="950" y="474"/>
                    <a:pt x="899" y="545"/>
                  </a:cubicBezTo>
                  <a:cubicBezTo>
                    <a:pt x="888" y="560"/>
                    <a:pt x="852" y="577"/>
                    <a:pt x="852" y="577"/>
                  </a:cubicBezTo>
                  <a:cubicBezTo>
                    <a:pt x="831" y="606"/>
                    <a:pt x="792" y="652"/>
                    <a:pt x="759" y="662"/>
                  </a:cubicBezTo>
                  <a:cubicBezTo>
                    <a:pt x="549" y="660"/>
                    <a:pt x="338" y="662"/>
                    <a:pt x="128" y="655"/>
                  </a:cubicBezTo>
                  <a:cubicBezTo>
                    <a:pt x="47" y="652"/>
                    <a:pt x="57" y="659"/>
                    <a:pt x="42" y="616"/>
                  </a:cubicBezTo>
                  <a:cubicBezTo>
                    <a:pt x="39" y="595"/>
                    <a:pt x="38" y="574"/>
                    <a:pt x="34" y="553"/>
                  </a:cubicBezTo>
                  <a:cubicBezTo>
                    <a:pt x="30" y="532"/>
                    <a:pt x="22" y="512"/>
                    <a:pt x="19" y="491"/>
                  </a:cubicBezTo>
                  <a:cubicBezTo>
                    <a:pt x="12" y="450"/>
                    <a:pt x="3" y="366"/>
                    <a:pt x="3" y="366"/>
                  </a:cubicBezTo>
                  <a:cubicBezTo>
                    <a:pt x="6" y="348"/>
                    <a:pt x="0" y="326"/>
                    <a:pt x="11" y="312"/>
                  </a:cubicBezTo>
                  <a:cubicBezTo>
                    <a:pt x="21" y="299"/>
                    <a:pt x="44" y="305"/>
                    <a:pt x="58" y="296"/>
                  </a:cubicBezTo>
                  <a:cubicBezTo>
                    <a:pt x="168" y="221"/>
                    <a:pt x="34" y="264"/>
                    <a:pt x="167" y="242"/>
                  </a:cubicBezTo>
                  <a:cubicBezTo>
                    <a:pt x="322" y="217"/>
                    <a:pt x="477" y="209"/>
                    <a:pt x="634" y="203"/>
                  </a:cubicBezTo>
                  <a:cubicBezTo>
                    <a:pt x="655" y="200"/>
                    <a:pt x="676" y="200"/>
                    <a:pt x="696" y="195"/>
                  </a:cubicBezTo>
                  <a:cubicBezTo>
                    <a:pt x="708" y="192"/>
                    <a:pt x="716" y="182"/>
                    <a:pt x="728" y="179"/>
                  </a:cubicBezTo>
                  <a:cubicBezTo>
                    <a:pt x="798" y="162"/>
                    <a:pt x="874" y="152"/>
                    <a:pt x="946" y="140"/>
                  </a:cubicBezTo>
                  <a:cubicBezTo>
                    <a:pt x="1032" y="104"/>
                    <a:pt x="1129" y="71"/>
                    <a:pt x="1219" y="47"/>
                  </a:cubicBezTo>
                  <a:cubicBezTo>
                    <a:pt x="1260" y="36"/>
                    <a:pt x="1343" y="16"/>
                    <a:pt x="1343" y="16"/>
                  </a:cubicBezTo>
                  <a:cubicBezTo>
                    <a:pt x="1353" y="11"/>
                    <a:pt x="1374" y="0"/>
                    <a:pt x="1374" y="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624480" y="135000"/>
              <a:ext cx="210564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-emphasize ba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"/>
          <p:cNvGrpSpPr/>
          <p:nvPr/>
        </p:nvGrpSpPr>
        <p:grpSpPr>
          <a:xfrm>
            <a:off x="844200" y="1355760"/>
            <a:ext cx="3288240" cy="1953360"/>
            <a:chOff x="844200" y="1355760"/>
            <a:chExt cx="3288240" cy="1953360"/>
          </a:xfrm>
        </p:grpSpPr>
        <p:sp>
          <p:nvSpPr>
            <p:cNvPr id="996" name=""/>
            <p:cNvSpPr/>
            <p:nvPr/>
          </p:nvSpPr>
          <p:spPr>
            <a:xfrm>
              <a:off x="1768320" y="1355760"/>
              <a:ext cx="2364120" cy="1638360"/>
            </a:xfrm>
            <a:custGeom>
              <a:avLst/>
              <a:gdLst/>
              <a:ahLst/>
              <a:rect l="l" t="t" r="r" b="b"/>
              <a:pathLst>
                <a:path w="1489" h="1032">
                  <a:moveTo>
                    <a:pt x="865" y="408"/>
                  </a:moveTo>
                  <a:cubicBezTo>
                    <a:pt x="860" y="309"/>
                    <a:pt x="868" y="209"/>
                    <a:pt x="850" y="112"/>
                  </a:cubicBezTo>
                  <a:cubicBezTo>
                    <a:pt x="845" y="87"/>
                    <a:pt x="806" y="63"/>
                    <a:pt x="780" y="58"/>
                  </a:cubicBezTo>
                  <a:cubicBezTo>
                    <a:pt x="680" y="38"/>
                    <a:pt x="585" y="26"/>
                    <a:pt x="483" y="19"/>
                  </a:cubicBezTo>
                  <a:cubicBezTo>
                    <a:pt x="372" y="0"/>
                    <a:pt x="262" y="3"/>
                    <a:pt x="156" y="42"/>
                  </a:cubicBezTo>
                  <a:cubicBezTo>
                    <a:pt x="93" y="106"/>
                    <a:pt x="118" y="77"/>
                    <a:pt x="78" y="128"/>
                  </a:cubicBezTo>
                  <a:cubicBezTo>
                    <a:pt x="75" y="144"/>
                    <a:pt x="75" y="160"/>
                    <a:pt x="70" y="175"/>
                  </a:cubicBezTo>
                  <a:cubicBezTo>
                    <a:pt x="62" y="197"/>
                    <a:pt x="39" y="237"/>
                    <a:pt x="39" y="237"/>
                  </a:cubicBezTo>
                  <a:cubicBezTo>
                    <a:pt x="31" y="271"/>
                    <a:pt x="21" y="303"/>
                    <a:pt x="16" y="338"/>
                  </a:cubicBezTo>
                  <a:cubicBezTo>
                    <a:pt x="10" y="380"/>
                    <a:pt x="0" y="463"/>
                    <a:pt x="0" y="463"/>
                  </a:cubicBezTo>
                  <a:cubicBezTo>
                    <a:pt x="5" y="531"/>
                    <a:pt x="3" y="599"/>
                    <a:pt x="16" y="666"/>
                  </a:cubicBezTo>
                  <a:cubicBezTo>
                    <a:pt x="26" y="714"/>
                    <a:pt x="187" y="724"/>
                    <a:pt x="234" y="736"/>
                  </a:cubicBezTo>
                  <a:cubicBezTo>
                    <a:pt x="361" y="733"/>
                    <a:pt x="489" y="732"/>
                    <a:pt x="616" y="728"/>
                  </a:cubicBezTo>
                  <a:cubicBezTo>
                    <a:pt x="647" y="727"/>
                    <a:pt x="680" y="731"/>
                    <a:pt x="709" y="720"/>
                  </a:cubicBezTo>
                  <a:cubicBezTo>
                    <a:pt x="724" y="714"/>
                    <a:pt x="778" y="659"/>
                    <a:pt x="795" y="642"/>
                  </a:cubicBezTo>
                  <a:cubicBezTo>
                    <a:pt x="820" y="934"/>
                    <a:pt x="782" y="755"/>
                    <a:pt x="826" y="860"/>
                  </a:cubicBezTo>
                  <a:cubicBezTo>
                    <a:pt x="832" y="873"/>
                    <a:pt x="838" y="932"/>
                    <a:pt x="850" y="938"/>
                  </a:cubicBezTo>
                  <a:cubicBezTo>
                    <a:pt x="942" y="980"/>
                    <a:pt x="1127" y="986"/>
                    <a:pt x="1224" y="993"/>
                  </a:cubicBezTo>
                  <a:cubicBezTo>
                    <a:pt x="1294" y="998"/>
                    <a:pt x="1434" y="1009"/>
                    <a:pt x="1434" y="1009"/>
                  </a:cubicBezTo>
                  <a:cubicBezTo>
                    <a:pt x="1453" y="1015"/>
                    <a:pt x="1474" y="1017"/>
                    <a:pt x="1489" y="1032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844200" y="2971800"/>
              <a:ext cx="328356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nhances bass to original lev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98" name=""/>
              <p:cNvSpPr txBox="1"/>
              <p:nvPr/>
            </p:nvSpPr>
            <p:spPr>
              <a:xfrm>
                <a:off x="152280" y="3429000"/>
                <a:ext cx="274320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IAA recording filter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R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sτ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sτ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sτ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9" name=""/>
              <p:cNvSpPr txBox="1"/>
              <p:nvPr/>
            </p:nvSpPr>
            <p:spPr>
              <a:xfrm>
                <a:off x="152280" y="4419720"/>
                <a:ext cx="123192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z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μs</m:t>
                        </m:r>
                      </m:e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z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180</m:t>
                        </m:r>
                        <m:r>
                          <m:t xml:space="preserve">μs</m:t>
                        </m:r>
                      </m:e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18</m:t>
                        </m:r>
                        <m:r>
                          <m:t xml:space="preserve">μ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0" name=""/>
              <p:cNvSpPr txBox="1"/>
              <p:nvPr/>
            </p:nvSpPr>
            <p:spPr>
              <a:xfrm>
                <a:off x="1600200" y="4648320"/>
                <a:ext cx="18795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K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1" name=""/>
              <p:cNvSpPr txBox="1"/>
              <p:nvPr/>
            </p:nvSpPr>
            <p:spPr>
              <a:xfrm>
                <a:off x="228600" y="5638680"/>
                <a:ext cx="321300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zeros: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z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r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[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kHz</m:t>
                        </m:r>
                        <m:r>
                          <m:t xml:space="preserve">]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z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rPr>
                            <m:lit/>
                            <m:nor/>
                          </m:rPr>
                          <m:t xml:space="preserve">Hz</m:t>
                        </m:r>
                        <m:r>
                          <m:t xml:space="preserve">]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ole: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346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500</m:t>
                        </m:r>
                        <m:r>
                          <m:rPr>
                            <m:lit/>
                            <m:nor/>
                          </m:rPr>
                          <m:t xml:space="preserve">Hz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02" name=""/>
          <p:cNvGrpSpPr/>
          <p:nvPr/>
        </p:nvGrpSpPr>
        <p:grpSpPr>
          <a:xfrm>
            <a:off x="5257800" y="685800"/>
            <a:ext cx="3438360" cy="2093400"/>
            <a:chOff x="5257800" y="685800"/>
            <a:chExt cx="3438360" cy="2093400"/>
          </a:xfrm>
        </p:grpSpPr>
        <p:pic>
          <p:nvPicPr>
            <p:cNvPr id="1003" name="F13.026A_W1241" descr=""/>
            <p:cNvPicPr/>
            <p:nvPr/>
          </p:nvPicPr>
          <p:blipFill>
            <a:blip r:embed="rId2"/>
            <a:stretch/>
          </p:blipFill>
          <p:spPr>
            <a:xfrm>
              <a:off x="5257800" y="855360"/>
              <a:ext cx="3438360" cy="19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4" name=""/>
            <p:cNvSpPr/>
            <p:nvPr/>
          </p:nvSpPr>
          <p:spPr>
            <a:xfrm>
              <a:off x="5281920" y="685800"/>
              <a:ext cx="202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le-zero map fo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5" name=""/>
                <p:cNvSpPr txBox="1"/>
                <p:nvPr/>
              </p:nvSpPr>
              <p:spPr>
                <a:xfrm>
                  <a:off x="7238880" y="703080"/>
                  <a:ext cx="660600" cy="29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vR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06" name=""/>
          <p:cNvGrpSpPr/>
          <p:nvPr/>
        </p:nvGrpSpPr>
        <p:grpSpPr>
          <a:xfrm>
            <a:off x="4724280" y="3030480"/>
            <a:ext cx="3803040" cy="1031760"/>
            <a:chOff x="4724280" y="3030480"/>
            <a:chExt cx="3803040" cy="1031760"/>
          </a:xfrm>
        </p:grpSpPr>
        <p:sp>
          <p:nvSpPr>
            <p:cNvPr id="1007" name=""/>
            <p:cNvSpPr/>
            <p:nvPr/>
          </p:nvSpPr>
          <p:spPr>
            <a:xfrm>
              <a:off x="4785120" y="3030480"/>
              <a:ext cx="37422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playback filter is the reciproc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8" name=""/>
                <p:cNvSpPr txBox="1"/>
                <p:nvPr/>
              </p:nvSpPr>
              <p:spPr>
                <a:xfrm>
                  <a:off x="4724280" y="3429000"/>
                  <a:ext cx="1460520" cy="63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vp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rp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09" name=""/>
          <p:cNvGrpSpPr/>
          <p:nvPr/>
        </p:nvGrpSpPr>
        <p:grpSpPr>
          <a:xfrm>
            <a:off x="4278960" y="4114800"/>
            <a:ext cx="4407840" cy="2066760"/>
            <a:chOff x="4278960" y="4114800"/>
            <a:chExt cx="4407840" cy="2066760"/>
          </a:xfrm>
        </p:grpSpPr>
        <p:pic>
          <p:nvPicPr>
            <p:cNvPr id="1010" name="F13.026C_W1241" descr=""/>
            <p:cNvPicPr/>
            <p:nvPr/>
          </p:nvPicPr>
          <p:blipFill>
            <a:blip r:embed="rId3"/>
            <a:stretch/>
          </p:blipFill>
          <p:spPr>
            <a:xfrm>
              <a:off x="5257800" y="4267080"/>
              <a:ext cx="3429000" cy="191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1" name=""/>
            <p:cNvSpPr/>
            <p:nvPr/>
          </p:nvSpPr>
          <p:spPr>
            <a:xfrm>
              <a:off x="4278960" y="4114800"/>
              <a:ext cx="37072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le/zero of playback filter canc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le/zero of recording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12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13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"/>
          <p:cNvSpPr/>
          <p:nvPr/>
        </p:nvSpPr>
        <p:spPr>
          <a:xfrm>
            <a:off x="110880" y="76320"/>
            <a:ext cx="2369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6" name="F13.027_W1242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4505400" cy="1571400"/>
          </a:xfrm>
          <a:prstGeom prst="rect">
            <a:avLst/>
          </a:prstGeom>
          <a:ln w="0">
            <a:noFill/>
          </a:ln>
        </p:spPr>
      </p:pic>
      <p:sp>
        <p:nvSpPr>
          <p:cNvPr id="1017" name=""/>
          <p:cNvSpPr/>
          <p:nvPr/>
        </p:nvSpPr>
        <p:spPr>
          <a:xfrm>
            <a:off x="2733840" y="58680"/>
            <a:ext cx="4374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ltering noise in a data transmission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1438920" y="609480"/>
            <a:ext cx="2232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ata bits at 1000b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4561920" y="515880"/>
            <a:ext cx="2477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ise source is 100k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4566600" y="914400"/>
            <a:ext cx="444780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LUTION: Insert a second order low-pa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lter in the path. Should not affect da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gnal and should attenuate no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28800" y="2286000"/>
            <a:ext cx="4533840" cy="2295360"/>
            <a:chOff x="28800" y="2286000"/>
            <a:chExt cx="4533840" cy="2295360"/>
          </a:xfrm>
        </p:grpSpPr>
        <p:pic>
          <p:nvPicPr>
            <p:cNvPr id="1022" name="F13.028_W1243" descr=""/>
            <p:cNvPicPr/>
            <p:nvPr/>
          </p:nvPicPr>
          <p:blipFill>
            <a:blip r:embed="rId2"/>
            <a:stretch/>
          </p:blipFill>
          <p:spPr>
            <a:xfrm>
              <a:off x="152280" y="2286000"/>
              <a:ext cx="4410360" cy="22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3" name=""/>
            <p:cNvSpPr/>
            <p:nvPr/>
          </p:nvSpPr>
          <p:spPr>
            <a:xfrm>
              <a:off x="28800" y="2558880"/>
              <a:ext cx="16833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roposed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1905120" y="3138480"/>
            <a:ext cx="914400" cy="809640"/>
            <a:chOff x="1905120" y="3138480"/>
            <a:chExt cx="914400" cy="809640"/>
          </a:xfrm>
        </p:grpSpPr>
        <mc:AlternateContent>
          <mc:Choice xmlns:a14="http://schemas.microsoft.com/office/drawing/2010/main" Requires="a14">
            <p:sp>
              <p:nvSpPr>
                <p:cNvPr id="1025" name=""/>
                <p:cNvSpPr txBox="1"/>
                <p:nvPr/>
              </p:nvSpPr>
              <p:spPr>
                <a:xfrm>
                  <a:off x="1905120" y="3138480"/>
                  <a:ext cx="2142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26" name=""/>
                <p:cNvSpPr txBox="1"/>
                <p:nvPr/>
              </p:nvSpPr>
              <p:spPr>
                <a:xfrm>
                  <a:off x="2209680" y="3657600"/>
                  <a:ext cx="6098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−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27" name=""/>
          <p:cNvGrpSpPr/>
          <p:nvPr/>
        </p:nvGrpSpPr>
        <p:grpSpPr>
          <a:xfrm>
            <a:off x="990720" y="2971800"/>
            <a:ext cx="1143000" cy="1295280"/>
            <a:chOff x="990720" y="2971800"/>
            <a:chExt cx="1143000" cy="1295280"/>
          </a:xfrm>
        </p:grpSpPr>
        <p:sp>
          <p:nvSpPr>
            <p:cNvPr id="1028" name=""/>
            <p:cNvSpPr/>
            <p:nvPr/>
          </p:nvSpPr>
          <p:spPr>
            <a:xfrm flipH="1">
              <a:off x="990720" y="3733920"/>
              <a:ext cx="7617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981080" y="3809880"/>
              <a:ext cx="0" cy="457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1905120" y="3657600"/>
              <a:ext cx="2286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V="1">
              <a:off x="1752480" y="2971800"/>
              <a:ext cx="0" cy="457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32" name=""/>
              <p:cNvSpPr txBox="1"/>
              <p:nvPr/>
            </p:nvSpPr>
            <p:spPr>
              <a:xfrm>
                <a:off x="152280" y="4572000"/>
                <a:ext cx="3467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at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33" name=""/>
          <p:cNvGrpSpPr/>
          <p:nvPr/>
        </p:nvGrpSpPr>
        <p:grpSpPr>
          <a:xfrm>
            <a:off x="2513160" y="3352680"/>
            <a:ext cx="992160" cy="74880"/>
            <a:chOff x="2513160" y="3352680"/>
            <a:chExt cx="992160" cy="74880"/>
          </a:xfrm>
        </p:grpSpPr>
        <p:sp>
          <p:nvSpPr>
            <p:cNvPr id="1034" name=""/>
            <p:cNvSpPr/>
            <p:nvPr/>
          </p:nvSpPr>
          <p:spPr>
            <a:xfrm>
              <a:off x="2513160" y="3427560"/>
              <a:ext cx="2286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 flipH="1">
              <a:off x="3048120" y="335268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36" name=""/>
              <p:cNvSpPr txBox="1"/>
              <p:nvPr/>
            </p:nvSpPr>
            <p:spPr>
              <a:xfrm>
                <a:off x="152280" y="5257800"/>
                <a:ext cx="1587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7" name=""/>
              <p:cNvSpPr txBox="1"/>
              <p:nvPr/>
            </p:nvSpPr>
            <p:spPr>
              <a:xfrm>
                <a:off x="4191120" y="2095560"/>
                <a:ext cx="477504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ata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038" name=""/>
          <p:cNvGrpSpPr/>
          <p:nvPr/>
        </p:nvGrpSpPr>
        <p:grpSpPr>
          <a:xfrm>
            <a:off x="4916520" y="2676600"/>
            <a:ext cx="4213080" cy="1374840"/>
            <a:chOff x="4916520" y="2676600"/>
            <a:chExt cx="4213080" cy="1374840"/>
          </a:xfrm>
        </p:grpSpPr>
        <p:sp>
          <p:nvSpPr>
            <p:cNvPr id="1039" name=""/>
            <p:cNvSpPr/>
            <p:nvPr/>
          </p:nvSpPr>
          <p:spPr>
            <a:xfrm>
              <a:off x="4916520" y="2676600"/>
              <a:ext cx="4213080" cy="1374840"/>
            </a:xfrm>
            <a:custGeom>
              <a:avLst/>
              <a:gdLst/>
              <a:ahLst/>
              <a:rect l="l" t="t" r="r" b="b"/>
              <a:pathLst>
                <a:path w="2654" h="866">
                  <a:moveTo>
                    <a:pt x="2576" y="566"/>
                  </a:moveTo>
                  <a:cubicBezTo>
                    <a:pt x="2593" y="450"/>
                    <a:pt x="2606" y="339"/>
                    <a:pt x="2615" y="223"/>
                  </a:cubicBezTo>
                  <a:cubicBezTo>
                    <a:pt x="2612" y="158"/>
                    <a:pt x="2635" y="87"/>
                    <a:pt x="2607" y="28"/>
                  </a:cubicBezTo>
                  <a:cubicBezTo>
                    <a:pt x="2593" y="0"/>
                    <a:pt x="2545" y="14"/>
                    <a:pt x="2514" y="13"/>
                  </a:cubicBezTo>
                  <a:cubicBezTo>
                    <a:pt x="2452" y="11"/>
                    <a:pt x="2389" y="18"/>
                    <a:pt x="2327" y="21"/>
                  </a:cubicBezTo>
                  <a:cubicBezTo>
                    <a:pt x="2234" y="31"/>
                    <a:pt x="2152" y="47"/>
                    <a:pt x="2062" y="60"/>
                  </a:cubicBezTo>
                  <a:cubicBezTo>
                    <a:pt x="1980" y="72"/>
                    <a:pt x="1895" y="72"/>
                    <a:pt x="1812" y="83"/>
                  </a:cubicBezTo>
                  <a:cubicBezTo>
                    <a:pt x="1351" y="79"/>
                    <a:pt x="854" y="97"/>
                    <a:pt x="386" y="44"/>
                  </a:cubicBezTo>
                  <a:cubicBezTo>
                    <a:pt x="356" y="46"/>
                    <a:pt x="151" y="35"/>
                    <a:pt x="75" y="83"/>
                  </a:cubicBezTo>
                  <a:cubicBezTo>
                    <a:pt x="54" y="96"/>
                    <a:pt x="34" y="140"/>
                    <a:pt x="20" y="161"/>
                  </a:cubicBezTo>
                  <a:cubicBezTo>
                    <a:pt x="0" y="280"/>
                    <a:pt x="7" y="403"/>
                    <a:pt x="82" y="504"/>
                  </a:cubicBezTo>
                  <a:cubicBezTo>
                    <a:pt x="98" y="599"/>
                    <a:pt x="103" y="598"/>
                    <a:pt x="176" y="660"/>
                  </a:cubicBezTo>
                  <a:cubicBezTo>
                    <a:pt x="249" y="722"/>
                    <a:pt x="192" y="695"/>
                    <a:pt x="269" y="722"/>
                  </a:cubicBezTo>
                  <a:cubicBezTo>
                    <a:pt x="342" y="774"/>
                    <a:pt x="715" y="759"/>
                    <a:pt x="760" y="761"/>
                  </a:cubicBezTo>
                  <a:cubicBezTo>
                    <a:pt x="880" y="765"/>
                    <a:pt x="1119" y="777"/>
                    <a:pt x="1119" y="777"/>
                  </a:cubicBezTo>
                  <a:cubicBezTo>
                    <a:pt x="1510" y="774"/>
                    <a:pt x="2178" y="866"/>
                    <a:pt x="2638" y="706"/>
                  </a:cubicBezTo>
                  <a:cubicBezTo>
                    <a:pt x="2643" y="698"/>
                    <a:pt x="2654" y="692"/>
                    <a:pt x="2654" y="683"/>
                  </a:cubicBezTo>
                  <a:cubicBezTo>
                    <a:pt x="2654" y="654"/>
                    <a:pt x="2634" y="537"/>
                    <a:pt x="2576" y="566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40" name=""/>
                <p:cNvSpPr txBox="1"/>
                <p:nvPr/>
              </p:nvSpPr>
              <p:spPr>
                <a:xfrm>
                  <a:off x="5562720" y="3505320"/>
                  <a:ext cx="14731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2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ςω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s</m:t>
                      </m:r>
                      <m:r>
                        <m:t xml:space="preserve">+</m:t>
                      </m:r>
                      <m:sSubSup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41" name=""/>
          <p:cNvGrpSpPr/>
          <p:nvPr/>
        </p:nvGrpSpPr>
        <p:grpSpPr>
          <a:xfrm>
            <a:off x="3607560" y="4925880"/>
            <a:ext cx="5050800" cy="1931760"/>
            <a:chOff x="3607560" y="4925880"/>
            <a:chExt cx="5050800" cy="1931760"/>
          </a:xfrm>
        </p:grpSpPr>
        <p:grpSp>
          <p:nvGrpSpPr>
            <p:cNvPr id="1042" name=""/>
            <p:cNvGrpSpPr/>
            <p:nvPr/>
          </p:nvGrpSpPr>
          <p:grpSpPr>
            <a:xfrm>
              <a:off x="3607560" y="4925880"/>
              <a:ext cx="5050800" cy="1931760"/>
              <a:chOff x="3607560" y="4925880"/>
              <a:chExt cx="5050800" cy="1931760"/>
            </a:xfrm>
          </p:grpSpPr>
          <p:pic>
            <p:nvPicPr>
              <p:cNvPr id="1043" name="F13.029_W1244" descr=""/>
              <p:cNvPicPr/>
              <p:nvPr/>
            </p:nvPicPr>
            <p:blipFill>
              <a:blip r:embed="rId3"/>
              <a:stretch/>
            </p:blipFill>
            <p:spPr>
              <a:xfrm>
                <a:off x="5029200" y="4943160"/>
                <a:ext cx="3629160" cy="1914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44" name=""/>
              <p:cNvGrpSpPr/>
              <p:nvPr/>
            </p:nvGrpSpPr>
            <p:grpSpPr>
              <a:xfrm>
                <a:off x="6816600" y="5611680"/>
                <a:ext cx="1838160" cy="579240"/>
                <a:chOff x="6816600" y="5611680"/>
                <a:chExt cx="1838160" cy="579240"/>
              </a:xfrm>
            </p:grpSpPr>
            <p:sp>
              <p:nvSpPr>
                <p:cNvPr id="1045" name=""/>
                <p:cNvSpPr/>
                <p:nvPr/>
              </p:nvSpPr>
              <p:spPr>
                <a:xfrm>
                  <a:off x="6816600" y="5705280"/>
                  <a:ext cx="408240" cy="485640"/>
                </a:xfrm>
                <a:custGeom>
                  <a:avLst/>
                  <a:gdLst/>
                  <a:ahLst/>
                  <a:rect l="l" t="t" r="r" b="b"/>
                  <a:pathLst>
                    <a:path w="257" h="306">
                      <a:moveTo>
                        <a:pt x="257" y="90"/>
                      </a:moveTo>
                      <a:cubicBezTo>
                        <a:pt x="86" y="0"/>
                        <a:pt x="164" y="18"/>
                        <a:pt x="31" y="4"/>
                      </a:cubicBezTo>
                      <a:cubicBezTo>
                        <a:pt x="16" y="76"/>
                        <a:pt x="8" y="149"/>
                        <a:pt x="0" y="222"/>
                      </a:cubicBezTo>
                      <a:cubicBezTo>
                        <a:pt x="84" y="279"/>
                        <a:pt x="105" y="306"/>
                        <a:pt x="195" y="261"/>
                      </a:cubicBezTo>
                      <a:cubicBezTo>
                        <a:pt x="232" y="211"/>
                        <a:pt x="213" y="247"/>
                        <a:pt x="226" y="168"/>
                      </a:cubicBezTo>
                      <a:cubicBezTo>
                        <a:pt x="228" y="158"/>
                        <a:pt x="233" y="137"/>
                        <a:pt x="233" y="137"/>
                      </a:cubicBezTo>
                    </a:path>
                  </a:pathLst>
                </a:custGeom>
                <a:noFill/>
                <a:ln w="25560">
                  <a:solidFill>
                    <a:srgbClr val="3333cc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7331040" y="5611680"/>
                  <a:ext cx="1323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"/>
                    </a:rPr>
                    <a:t>Below 100k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7" name=""/>
              <p:cNvGrpSpPr/>
              <p:nvPr/>
            </p:nvGrpSpPr>
            <p:grpSpPr>
              <a:xfrm>
                <a:off x="5937120" y="4925880"/>
                <a:ext cx="2224800" cy="662040"/>
                <a:chOff x="5937120" y="4925880"/>
                <a:chExt cx="2224800" cy="662040"/>
              </a:xfrm>
            </p:grpSpPr>
            <p:sp>
              <p:nvSpPr>
                <p:cNvPr id="1048" name=""/>
                <p:cNvSpPr/>
                <p:nvPr/>
              </p:nvSpPr>
              <p:spPr>
                <a:xfrm>
                  <a:off x="5937120" y="5151240"/>
                  <a:ext cx="420840" cy="436680"/>
                </a:xfrm>
                <a:custGeom>
                  <a:avLst/>
                  <a:gdLst/>
                  <a:ahLst/>
                  <a:rect l="l" t="t" r="r" b="b"/>
                  <a:pathLst>
                    <a:path w="265" h="275">
                      <a:moveTo>
                        <a:pt x="265" y="158"/>
                      </a:moveTo>
                      <a:cubicBezTo>
                        <a:pt x="163" y="75"/>
                        <a:pt x="143" y="0"/>
                        <a:pt x="16" y="104"/>
                      </a:cubicBezTo>
                      <a:cubicBezTo>
                        <a:pt x="0" y="117"/>
                        <a:pt x="11" y="145"/>
                        <a:pt x="8" y="166"/>
                      </a:cubicBezTo>
                      <a:cubicBezTo>
                        <a:pt x="11" y="189"/>
                        <a:pt x="8" y="214"/>
                        <a:pt x="16" y="236"/>
                      </a:cubicBezTo>
                      <a:cubicBezTo>
                        <a:pt x="23" y="255"/>
                        <a:pt x="99" y="269"/>
                        <a:pt x="117" y="275"/>
                      </a:cubicBezTo>
                      <a:cubicBezTo>
                        <a:pt x="140" y="272"/>
                        <a:pt x="165" y="274"/>
                        <a:pt x="187" y="267"/>
                      </a:cubicBezTo>
                      <a:cubicBezTo>
                        <a:pt x="206" y="261"/>
                        <a:pt x="216" y="237"/>
                        <a:pt x="234" y="228"/>
                      </a:cubicBezTo>
                      <a:cubicBezTo>
                        <a:pt x="261" y="215"/>
                        <a:pt x="258" y="231"/>
                        <a:pt x="258" y="213"/>
                      </a:cubicBezTo>
                    </a:path>
                  </a:pathLst>
                </a:custGeom>
                <a:noFill/>
                <a:ln w="25560">
                  <a:solidFill>
                    <a:srgbClr val="3333cc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6350400" y="4925880"/>
                  <a:ext cx="181152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"/>
                    </a:rPr>
                    <a:t>Well below 100k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"/>
                    </a:rPr>
                    <a:t>above 1k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0" name=""/>
              <p:cNvSpPr/>
              <p:nvPr/>
            </p:nvSpPr>
            <p:spPr>
              <a:xfrm>
                <a:off x="3607560" y="5553000"/>
                <a:ext cx="1442520" cy="5806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Filter desig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criteri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051" name=""/>
                <p:cNvSpPr txBox="1"/>
                <p:nvPr/>
              </p:nvSpPr>
              <p:spPr>
                <a:xfrm>
                  <a:off x="5867280" y="5933880"/>
                  <a:ext cx="4572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ς</m:t>
                      </m:r>
                      <m:r>
                        <m:t xml:space="preserve">&gt;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52" name=""/>
          <p:cNvGrpSpPr/>
          <p:nvPr/>
        </p:nvGrpSpPr>
        <p:grpSpPr>
          <a:xfrm>
            <a:off x="4724280" y="3962520"/>
            <a:ext cx="3924360" cy="929160"/>
            <a:chOff x="4724280" y="3962520"/>
            <a:chExt cx="3924360" cy="929160"/>
          </a:xfrm>
        </p:grpSpPr>
        <mc:AlternateContent>
          <mc:Choice xmlns:a14="http://schemas.microsoft.com/office/drawing/2010/main" Requires="a14">
            <p:sp>
              <p:nvSpPr>
                <p:cNvPr id="1053" name=""/>
                <p:cNvSpPr txBox="1"/>
                <p:nvPr/>
              </p:nvSpPr>
              <p:spPr>
                <a:xfrm>
                  <a:off x="4724280" y="3962520"/>
                  <a:ext cx="3924360" cy="66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⇒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R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rad>
                        </m:den>
                      </m:f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ς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1054" name=""/>
            <p:cNvSpPr/>
            <p:nvPr/>
          </p:nvSpPr>
          <p:spPr>
            <a:xfrm>
              <a:off x="4760280" y="4554360"/>
              <a:ext cx="1939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sign equ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55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56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8" name=""/>
          <p:cNvGrpSpPr/>
          <p:nvPr/>
        </p:nvGrpSpPr>
        <p:grpSpPr>
          <a:xfrm>
            <a:off x="204840" y="152280"/>
            <a:ext cx="3925800" cy="1590480"/>
            <a:chOff x="204840" y="152280"/>
            <a:chExt cx="3925800" cy="1590480"/>
          </a:xfrm>
        </p:grpSpPr>
        <p:pic>
          <p:nvPicPr>
            <p:cNvPr id="1059" name="F13.030_W1245" descr=""/>
            <p:cNvPicPr/>
            <p:nvPr/>
          </p:nvPicPr>
          <p:blipFill>
            <a:blip r:embed="rId1"/>
            <a:stretch/>
          </p:blipFill>
          <p:spPr>
            <a:xfrm>
              <a:off x="473040" y="152280"/>
              <a:ext cx="3657600" cy="159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0" name=""/>
            <p:cNvSpPr/>
            <p:nvPr/>
          </p:nvSpPr>
          <p:spPr>
            <a:xfrm>
              <a:off x="204840" y="210960"/>
              <a:ext cx="32256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elected pole location or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61" name=""/>
              <p:cNvSpPr txBox="1"/>
              <p:nvPr/>
            </p:nvSpPr>
            <p:spPr>
              <a:xfrm>
                <a:off x="152280" y="1523880"/>
                <a:ext cx="367056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elect 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k</m:t>
                        </m:r>
                        <m:r>
                          <m:t xml:space="preserve">Ω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,</m:t>
                        </m:r>
                        <m:r>
                          <m:t xml:space="preserve">ς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Use design equations </m:t>
                        </m:r>
                        <m:r>
                          <m:rPr>
                            <m:lit/>
                            <m:nor/>
                          </m:rPr>
                          <m:t xml:space="preserve">and determine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rPr>
                            <m:lit/>
                            <m:nor/>
                          </m:rPr>
                          <m:t xml:space="preserve">nF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rPr>
                            <m:lit/>
                            <m:nor/>
                          </m:rPr>
                          <m:t xml:space="preserve">n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62" name=""/>
          <p:cNvGrpSpPr/>
          <p:nvPr/>
        </p:nvGrpSpPr>
        <p:grpSpPr>
          <a:xfrm>
            <a:off x="76320" y="2652840"/>
            <a:ext cx="4562280" cy="3672360"/>
            <a:chOff x="76320" y="2652840"/>
            <a:chExt cx="4562280" cy="3672360"/>
          </a:xfrm>
        </p:grpSpPr>
        <p:pic>
          <p:nvPicPr>
            <p:cNvPr id="1063" name="F13.031_W1246" descr=""/>
            <p:cNvPicPr/>
            <p:nvPr/>
          </p:nvPicPr>
          <p:blipFill>
            <a:blip r:embed="rId2"/>
            <a:stretch/>
          </p:blipFill>
          <p:spPr>
            <a:xfrm>
              <a:off x="76320" y="2652840"/>
              <a:ext cx="4562280" cy="330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4" name=""/>
            <p:cNvSpPr/>
            <p:nvPr/>
          </p:nvSpPr>
          <p:spPr>
            <a:xfrm>
              <a:off x="407160" y="5987880"/>
              <a:ext cx="29469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simulating the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5" name=""/>
          <p:cNvGrpSpPr/>
          <p:nvPr/>
        </p:nvGrpSpPr>
        <p:grpSpPr>
          <a:xfrm>
            <a:off x="0" y="3809880"/>
            <a:ext cx="1219320" cy="700920"/>
            <a:chOff x="0" y="3809880"/>
            <a:chExt cx="1219320" cy="700920"/>
          </a:xfrm>
        </p:grpSpPr>
        <p:sp>
          <p:nvSpPr>
            <p:cNvPr id="1066" name=""/>
            <p:cNvSpPr/>
            <p:nvPr/>
          </p:nvSpPr>
          <p:spPr>
            <a:xfrm>
              <a:off x="317880" y="4173480"/>
              <a:ext cx="72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oi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0" y="3809880"/>
              <a:ext cx="1219320" cy="4572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8" name=""/>
          <p:cNvGrpSpPr/>
          <p:nvPr/>
        </p:nvGrpSpPr>
        <p:grpSpPr>
          <a:xfrm>
            <a:off x="4495680" y="0"/>
            <a:ext cx="4419720" cy="3187800"/>
            <a:chOff x="4495680" y="0"/>
            <a:chExt cx="4419720" cy="3187800"/>
          </a:xfrm>
        </p:grpSpPr>
        <p:pic>
          <p:nvPicPr>
            <p:cNvPr id="1069" name="F13.032_W1247" descr=""/>
            <p:cNvPicPr/>
            <p:nvPr/>
          </p:nvPicPr>
          <p:blipFill>
            <a:blip r:embed="rId3"/>
            <a:stretch/>
          </p:blipFill>
          <p:spPr>
            <a:xfrm>
              <a:off x="4495680" y="0"/>
              <a:ext cx="4419720" cy="31878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070" name=""/>
                <p:cNvSpPr txBox="1"/>
                <p:nvPr/>
              </p:nvSpPr>
              <p:spPr>
                <a:xfrm>
                  <a:off x="6553080" y="1066680"/>
                  <a:ext cx="11559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π</m:t>
                      </m:r>
                      <m:r>
                        <m:t xml:space="preserve">×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5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71" name=""/>
          <p:cNvGrpSpPr/>
          <p:nvPr/>
        </p:nvGrpSpPr>
        <p:grpSpPr>
          <a:xfrm>
            <a:off x="4416480" y="2189160"/>
            <a:ext cx="2966400" cy="1591920"/>
            <a:chOff x="4416480" y="2189160"/>
            <a:chExt cx="2966400" cy="1591920"/>
          </a:xfrm>
        </p:grpSpPr>
        <p:sp>
          <p:nvSpPr>
            <p:cNvPr id="1072" name=""/>
            <p:cNvSpPr/>
            <p:nvPr/>
          </p:nvSpPr>
          <p:spPr>
            <a:xfrm>
              <a:off x="4416480" y="2189160"/>
              <a:ext cx="1474560" cy="719280"/>
            </a:xfrm>
            <a:custGeom>
              <a:avLst/>
              <a:gdLst/>
              <a:ahLst/>
              <a:rect l="l" t="t" r="r" b="b"/>
              <a:pathLst>
                <a:path w="929" h="453">
                  <a:moveTo>
                    <a:pt x="70" y="47"/>
                  </a:moveTo>
                  <a:cubicBezTo>
                    <a:pt x="10" y="117"/>
                    <a:pt x="11" y="137"/>
                    <a:pt x="0" y="226"/>
                  </a:cubicBezTo>
                  <a:cubicBezTo>
                    <a:pt x="1" y="231"/>
                    <a:pt x="23" y="323"/>
                    <a:pt x="31" y="335"/>
                  </a:cubicBezTo>
                  <a:cubicBezTo>
                    <a:pt x="110" y="453"/>
                    <a:pt x="313" y="423"/>
                    <a:pt x="429" y="429"/>
                  </a:cubicBezTo>
                  <a:cubicBezTo>
                    <a:pt x="586" y="420"/>
                    <a:pt x="718" y="420"/>
                    <a:pt x="865" y="382"/>
                  </a:cubicBezTo>
                  <a:cubicBezTo>
                    <a:pt x="903" y="307"/>
                    <a:pt x="929" y="230"/>
                    <a:pt x="896" y="141"/>
                  </a:cubicBezTo>
                  <a:cubicBezTo>
                    <a:pt x="890" y="125"/>
                    <a:pt x="863" y="133"/>
                    <a:pt x="849" y="125"/>
                  </a:cubicBezTo>
                  <a:cubicBezTo>
                    <a:pt x="764" y="78"/>
                    <a:pt x="699" y="17"/>
                    <a:pt x="600" y="0"/>
                  </a:cubicBezTo>
                  <a:cubicBezTo>
                    <a:pt x="480" y="3"/>
                    <a:pt x="331" y="16"/>
                    <a:pt x="203" y="1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503240" y="3200400"/>
              <a:ext cx="28796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filter eliminates nois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ut smooths data pul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4" name=""/>
          <p:cNvGrpSpPr/>
          <p:nvPr/>
        </p:nvGrpSpPr>
        <p:grpSpPr>
          <a:xfrm>
            <a:off x="4038480" y="3733920"/>
            <a:ext cx="5159160" cy="3085920"/>
            <a:chOff x="4038480" y="3733920"/>
            <a:chExt cx="5159160" cy="3085920"/>
          </a:xfrm>
        </p:grpSpPr>
        <p:grpSp>
          <p:nvGrpSpPr>
            <p:cNvPr id="1075" name=""/>
            <p:cNvGrpSpPr/>
            <p:nvPr/>
          </p:nvGrpSpPr>
          <p:grpSpPr>
            <a:xfrm>
              <a:off x="4038480" y="3733920"/>
              <a:ext cx="5078880" cy="3085920"/>
              <a:chOff x="4038480" y="3733920"/>
              <a:chExt cx="5078880" cy="3085920"/>
            </a:xfrm>
          </p:grpSpPr>
          <p:pic>
            <p:nvPicPr>
              <p:cNvPr id="1076" name="F13.034_W1249" descr=""/>
              <p:cNvPicPr/>
              <p:nvPr/>
            </p:nvPicPr>
            <p:blipFill>
              <a:blip r:embed="rId4"/>
              <a:stretch/>
            </p:blipFill>
            <p:spPr>
              <a:xfrm>
                <a:off x="4038480" y="3733920"/>
                <a:ext cx="4581720" cy="3085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7" name=""/>
              <p:cNvSpPr/>
              <p:nvPr/>
            </p:nvSpPr>
            <p:spPr>
              <a:xfrm>
                <a:off x="7545240" y="3868560"/>
                <a:ext cx="1572120" cy="82404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25kbp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data transf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r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8" name=""/>
            <p:cNvSpPr/>
            <p:nvPr/>
          </p:nvSpPr>
          <p:spPr>
            <a:xfrm>
              <a:off x="7570800" y="4935600"/>
              <a:ext cx="16268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iltered 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s usel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085160" y="5492880"/>
              <a:ext cx="1796760" cy="569880"/>
            </a:xfrm>
            <a:custGeom>
              <a:avLst/>
              <a:gdLst/>
              <a:ahLst/>
              <a:rect l="l" t="t" r="r" b="b"/>
              <a:pathLst>
                <a:path w="1132" h="359">
                  <a:moveTo>
                    <a:pt x="1132" y="0"/>
                  </a:moveTo>
                  <a:cubicBezTo>
                    <a:pt x="908" y="11"/>
                    <a:pt x="687" y="42"/>
                    <a:pt x="462" y="55"/>
                  </a:cubicBezTo>
                  <a:cubicBezTo>
                    <a:pt x="446" y="57"/>
                    <a:pt x="273" y="75"/>
                    <a:pt x="244" y="86"/>
                  </a:cubicBezTo>
                  <a:cubicBezTo>
                    <a:pt x="235" y="89"/>
                    <a:pt x="235" y="103"/>
                    <a:pt x="228" y="109"/>
                  </a:cubicBezTo>
                  <a:cubicBezTo>
                    <a:pt x="0" y="317"/>
                    <a:pt x="285" y="37"/>
                    <a:pt x="88" y="234"/>
                  </a:cubicBezTo>
                  <a:cubicBezTo>
                    <a:pt x="70" y="275"/>
                    <a:pt x="69" y="305"/>
                    <a:pt x="33" y="327"/>
                  </a:cubicBezTo>
                  <a:cubicBezTo>
                    <a:pt x="15" y="356"/>
                    <a:pt x="26" y="347"/>
                    <a:pt x="2" y="359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0" name=""/>
          <p:cNvSpPr/>
          <p:nvPr/>
        </p:nvSpPr>
        <p:spPr>
          <a:xfrm>
            <a:off x="7767000" y="5850000"/>
            <a:ext cx="1249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DESIG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1" name="geaux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82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4" name=""/>
          <p:cNvGrpSpPr/>
          <p:nvPr/>
        </p:nvGrpSpPr>
        <p:grpSpPr>
          <a:xfrm>
            <a:off x="304920" y="287280"/>
            <a:ext cx="3819240" cy="2075040"/>
            <a:chOff x="304920" y="287280"/>
            <a:chExt cx="3819240" cy="2075040"/>
          </a:xfrm>
        </p:grpSpPr>
        <p:sp>
          <p:nvSpPr>
            <p:cNvPr id="1085" name=""/>
            <p:cNvSpPr/>
            <p:nvPr/>
          </p:nvSpPr>
          <p:spPr>
            <a:xfrm>
              <a:off x="328320" y="287280"/>
              <a:ext cx="259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ew pole-zero sel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6" name="F13.035_W1249A" descr=""/>
            <p:cNvPicPr/>
            <p:nvPr/>
          </p:nvPicPr>
          <p:blipFill>
            <a:blip r:embed="rId1"/>
            <a:stretch/>
          </p:blipFill>
          <p:spPr>
            <a:xfrm>
              <a:off x="304920" y="838080"/>
              <a:ext cx="3819240" cy="152424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087" name=""/>
                <p:cNvSpPr txBox="1"/>
                <p:nvPr/>
              </p:nvSpPr>
              <p:spPr>
                <a:xfrm>
                  <a:off x="2971800" y="304920"/>
                  <a:ext cx="4572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ς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88" name=""/>
          <p:cNvGrpSpPr/>
          <p:nvPr/>
        </p:nvGrpSpPr>
        <p:grpSpPr>
          <a:xfrm>
            <a:off x="152280" y="2801880"/>
            <a:ext cx="4543560" cy="3608280"/>
            <a:chOff x="152280" y="2801880"/>
            <a:chExt cx="4543560" cy="3608280"/>
          </a:xfrm>
        </p:grpSpPr>
        <p:pic>
          <p:nvPicPr>
            <p:cNvPr id="1089" name="F13.036_W1250" descr=""/>
            <p:cNvPicPr/>
            <p:nvPr/>
          </p:nvPicPr>
          <p:blipFill>
            <a:blip r:embed="rId2"/>
            <a:stretch/>
          </p:blipFill>
          <p:spPr>
            <a:xfrm>
              <a:off x="152280" y="3200400"/>
              <a:ext cx="4543560" cy="32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0" name=""/>
            <p:cNvSpPr/>
            <p:nvPr/>
          </p:nvSpPr>
          <p:spPr>
            <a:xfrm>
              <a:off x="725400" y="2801880"/>
              <a:ext cx="2393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imulation for 25kb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91" name=""/>
              <p:cNvSpPr txBox="1"/>
              <p:nvPr/>
            </p:nvSpPr>
            <p:spPr>
              <a:xfrm>
                <a:off x="4800600" y="380880"/>
                <a:ext cx="274320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sign equations</m:t>
                        </m:r>
                      </m:e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rad>
                          </m:den>
                        </m:f>
                      </m:e>
                      <m:e>
                        <m:r>
                          <m:t xml:space="preserve">ς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92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3" name=""/>
          <p:cNvGrpSpPr/>
          <p:nvPr/>
        </p:nvGrpSpPr>
        <p:grpSpPr>
          <a:xfrm>
            <a:off x="7560000" y="5710320"/>
            <a:ext cx="1521720" cy="1143000"/>
            <a:chOff x="7560000" y="5710320"/>
            <a:chExt cx="1521720" cy="1143000"/>
          </a:xfrm>
        </p:grpSpPr>
        <p:pic>
          <p:nvPicPr>
            <p:cNvPr id="1094" name="stop" descr=""/>
            <p:cNvPicPr/>
            <p:nvPr/>
          </p:nvPicPr>
          <p:blipFill>
            <a:blip r:embed="rId3"/>
            <a:stretch/>
          </p:blipFill>
          <p:spPr>
            <a:xfrm>
              <a:off x="7968960" y="633888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5" name=""/>
            <p:cNvSpPr/>
            <p:nvPr/>
          </p:nvSpPr>
          <p:spPr>
            <a:xfrm>
              <a:off x="7560000" y="5710320"/>
              <a:ext cx="1521720" cy="58068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LAPL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46240" y="58680"/>
            <a:ext cx="20599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pacitor: Model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52280" y="533520"/>
          <a:ext cx="5257800" cy="151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533520"/>
                    <a:ext cx="5257800" cy="151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2438280" y="2133720"/>
                <a:ext cx="1994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s</m:t>
                        </m:r>
                      </m:den>
                    </m:f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52280" y="2057400"/>
                <a:ext cx="21718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+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4" name=""/>
          <p:cNvGrpSpPr/>
          <p:nvPr/>
        </p:nvGrpSpPr>
        <p:grpSpPr>
          <a:xfrm>
            <a:off x="0" y="3124080"/>
            <a:ext cx="5638680" cy="1708200"/>
            <a:chOff x="0" y="3124080"/>
            <a:chExt cx="5638680" cy="1708200"/>
          </a:xfrm>
        </p:grpSpPr>
        <p:graphicFrame>
          <p:nvGraphicFramePr>
            <p:cNvPr id="135" name=""/>
            <p:cNvGraphicFramePr/>
            <p:nvPr/>
          </p:nvGraphicFramePr>
          <p:xfrm>
            <a:off x="0" y="3500280"/>
            <a:ext cx="5638680" cy="1332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3500280"/>
                      <a:ext cx="5638680" cy="133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7" name=""/>
            <p:cNvSpPr/>
            <p:nvPr/>
          </p:nvSpPr>
          <p:spPr>
            <a:xfrm>
              <a:off x="185760" y="3124080"/>
              <a:ext cx="20599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pacitor: Mod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76320" y="4952880"/>
                <a:ext cx="21715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+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4572000" y="2286000"/>
                <a:ext cx="4302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2597040" y="4876920"/>
                <a:ext cx="20829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sV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1" name=""/>
          <p:cNvGrpSpPr/>
          <p:nvPr/>
        </p:nvGrpSpPr>
        <p:grpSpPr>
          <a:xfrm>
            <a:off x="3604680" y="76320"/>
            <a:ext cx="2477520" cy="2058840"/>
            <a:chOff x="3604680" y="76320"/>
            <a:chExt cx="2477520" cy="2058840"/>
          </a:xfrm>
        </p:grpSpPr>
        <p:sp>
          <p:nvSpPr>
            <p:cNvPr id="142" name=""/>
            <p:cNvSpPr/>
            <p:nvPr/>
          </p:nvSpPr>
          <p:spPr>
            <a:xfrm>
              <a:off x="4113360" y="382680"/>
              <a:ext cx="1295280" cy="17524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04680" y="76320"/>
              <a:ext cx="24775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ource transform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5629320" y="685800"/>
            <a:ext cx="1825560" cy="3532320"/>
            <a:chOff x="5629320" y="685800"/>
            <a:chExt cx="1825560" cy="3532320"/>
          </a:xfrm>
        </p:grpSpPr>
        <mc:AlternateContent>
          <mc:Choice xmlns:a14="http://schemas.microsoft.com/office/drawing/2010/main" Requires="a14">
            <p:sp>
              <p:nvSpPr>
                <p:cNvPr id="145" name=""/>
                <p:cNvSpPr txBox="1"/>
                <p:nvPr/>
              </p:nvSpPr>
              <p:spPr>
                <a:xfrm>
                  <a:off x="5715000" y="685800"/>
                  <a:ext cx="1739880" cy="1104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q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f>
                            <m:num>
                              <m:r>
                                <m:t xml:space="preserve">v</m:t>
                              </m:r>
                              <m:r>
                                <m:t xml:space="preserve">(</m:t>
                              </m:r>
                              <m:r>
                                <m:t xml:space="preserve">0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t xml:space="preserve">s</m:t>
                              </m:r>
                            </m:den>
                          </m:f>
                        </m:num>
                        <m:den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Cs</m:t>
                              </m:r>
                            </m:den>
                          </m:f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v</m:t>
                      </m:r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46" name=""/>
            <p:cNvSpPr/>
            <p:nvPr/>
          </p:nvSpPr>
          <p:spPr>
            <a:xfrm>
              <a:off x="5629320" y="1830240"/>
              <a:ext cx="1249200" cy="2387880"/>
            </a:xfrm>
            <a:custGeom>
              <a:avLst/>
              <a:gdLst/>
              <a:ahLst/>
              <a:rect l="l" t="t" r="r" b="b"/>
              <a:pathLst>
                <a:path w="787" h="1504">
                  <a:moveTo>
                    <a:pt x="787" y="0"/>
                  </a:moveTo>
                  <a:cubicBezTo>
                    <a:pt x="784" y="301"/>
                    <a:pt x="784" y="603"/>
                    <a:pt x="779" y="904"/>
                  </a:cubicBezTo>
                  <a:cubicBezTo>
                    <a:pt x="777" y="1013"/>
                    <a:pt x="755" y="1126"/>
                    <a:pt x="732" y="1232"/>
                  </a:cubicBezTo>
                  <a:cubicBezTo>
                    <a:pt x="721" y="1284"/>
                    <a:pt x="711" y="1336"/>
                    <a:pt x="701" y="1388"/>
                  </a:cubicBezTo>
                  <a:cubicBezTo>
                    <a:pt x="698" y="1404"/>
                    <a:pt x="699" y="1426"/>
                    <a:pt x="685" y="1434"/>
                  </a:cubicBezTo>
                  <a:cubicBezTo>
                    <a:pt x="588" y="1485"/>
                    <a:pt x="400" y="1474"/>
                    <a:pt x="296" y="1481"/>
                  </a:cubicBezTo>
                  <a:cubicBezTo>
                    <a:pt x="193" y="1498"/>
                    <a:pt x="106" y="1504"/>
                    <a:pt x="0" y="150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444040" y="2725560"/>
            <a:ext cx="2387520" cy="3247920"/>
            <a:chOff x="2444040" y="2725560"/>
            <a:chExt cx="2387520" cy="3247920"/>
          </a:xfrm>
        </p:grpSpPr>
        <p:sp>
          <p:nvSpPr>
            <p:cNvPr id="148" name=""/>
            <p:cNvSpPr/>
            <p:nvPr/>
          </p:nvSpPr>
          <p:spPr>
            <a:xfrm>
              <a:off x="2528280" y="2725560"/>
              <a:ext cx="22122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mpedance in ser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ith voltage sour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44040" y="5392800"/>
              <a:ext cx="23875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mpedance in parall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ith current sour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7162920" y="76320"/>
                <a:ext cx="179064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i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51" name="geaux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2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71000" y="76320"/>
            <a:ext cx="1841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ductor Mod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228600" y="457200"/>
          <a:ext cx="2516040" cy="18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57200"/>
                    <a:ext cx="251604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304920" y="2362320"/>
                <a:ext cx="35938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2819520" y="685800"/>
                <a:ext cx="1879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892160" y="2895480"/>
                <a:ext cx="17020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60" name=""/>
          <p:cNvGrpSpPr/>
          <p:nvPr/>
        </p:nvGrpSpPr>
        <p:grpSpPr>
          <a:xfrm>
            <a:off x="533520" y="3809880"/>
            <a:ext cx="7334280" cy="2387880"/>
            <a:chOff x="533520" y="3809880"/>
            <a:chExt cx="7334280" cy="2387880"/>
          </a:xfrm>
        </p:grpSpPr>
        <p:graphicFrame>
          <p:nvGraphicFramePr>
            <p:cNvPr id="161" name=""/>
            <p:cNvGraphicFramePr/>
            <p:nvPr/>
          </p:nvGraphicFramePr>
          <p:xfrm>
            <a:off x="533520" y="3809880"/>
            <a:ext cx="7334280" cy="19051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33520" y="3809880"/>
                      <a:ext cx="7334280" cy="190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163" name=""/>
                <p:cNvSpPr txBox="1"/>
                <p:nvPr/>
              </p:nvSpPr>
              <p:spPr>
                <a:xfrm>
                  <a:off x="5105520" y="5638680"/>
                  <a:ext cx="170172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V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Ls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i</m:t>
                          </m:r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s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4" name=""/>
                <p:cNvSpPr txBox="1"/>
                <p:nvPr/>
              </p:nvSpPr>
              <p:spPr>
                <a:xfrm>
                  <a:off x="990720" y="5715000"/>
                  <a:ext cx="201924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LsI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Li</m:t>
                      </m:r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65" name="geaux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6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17520" y="2781360"/>
                <a:ext cx="41022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s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s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s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213120" y="135000"/>
            <a:ext cx="2105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utual Induc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76320" y="533520"/>
          <a:ext cx="4800600" cy="207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533520"/>
                    <a:ext cx="4800600" cy="20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5181480" y="1066680"/>
                <a:ext cx="255276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73" name=""/>
          <p:cNvGrpSpPr/>
          <p:nvPr/>
        </p:nvGrpSpPr>
        <p:grpSpPr>
          <a:xfrm>
            <a:off x="1849320" y="2585880"/>
            <a:ext cx="7194960" cy="538200"/>
            <a:chOff x="1849320" y="2585880"/>
            <a:chExt cx="7194960" cy="538200"/>
          </a:xfrm>
        </p:grpSpPr>
        <p:sp>
          <p:nvSpPr>
            <p:cNvPr id="174" name=""/>
            <p:cNvSpPr/>
            <p:nvPr/>
          </p:nvSpPr>
          <p:spPr>
            <a:xfrm>
              <a:off x="1849320" y="2585880"/>
              <a:ext cx="2560680" cy="538200"/>
            </a:xfrm>
            <a:custGeom>
              <a:avLst/>
              <a:gdLst/>
              <a:ahLst/>
              <a:rect l="l" t="t" r="r" b="b"/>
              <a:pathLst>
                <a:path w="1613" h="339">
                  <a:moveTo>
                    <a:pt x="374" y="0"/>
                  </a:moveTo>
                  <a:cubicBezTo>
                    <a:pt x="381" y="73"/>
                    <a:pt x="398" y="142"/>
                    <a:pt x="421" y="211"/>
                  </a:cubicBezTo>
                  <a:cubicBezTo>
                    <a:pt x="403" y="263"/>
                    <a:pt x="320" y="268"/>
                    <a:pt x="273" y="273"/>
                  </a:cubicBezTo>
                  <a:cubicBezTo>
                    <a:pt x="242" y="281"/>
                    <a:pt x="217" y="294"/>
                    <a:pt x="187" y="304"/>
                  </a:cubicBezTo>
                  <a:cubicBezTo>
                    <a:pt x="26" y="296"/>
                    <a:pt x="40" y="339"/>
                    <a:pt x="15" y="242"/>
                  </a:cubicBezTo>
                  <a:cubicBezTo>
                    <a:pt x="9" y="197"/>
                    <a:pt x="0" y="154"/>
                    <a:pt x="15" y="109"/>
                  </a:cubicBezTo>
                  <a:cubicBezTo>
                    <a:pt x="18" y="100"/>
                    <a:pt x="76" y="67"/>
                    <a:pt x="86" y="63"/>
                  </a:cubicBezTo>
                  <a:cubicBezTo>
                    <a:pt x="178" y="25"/>
                    <a:pt x="301" y="30"/>
                    <a:pt x="397" y="24"/>
                  </a:cubicBezTo>
                  <a:cubicBezTo>
                    <a:pt x="766" y="26"/>
                    <a:pt x="1135" y="24"/>
                    <a:pt x="1504" y="31"/>
                  </a:cubicBezTo>
                  <a:cubicBezTo>
                    <a:pt x="1525" y="31"/>
                    <a:pt x="1548" y="35"/>
                    <a:pt x="1566" y="47"/>
                  </a:cubicBezTo>
                  <a:cubicBezTo>
                    <a:pt x="1571" y="50"/>
                    <a:pt x="1606" y="177"/>
                    <a:pt x="1613" y="203"/>
                  </a:cubicBezTo>
                  <a:cubicBezTo>
                    <a:pt x="1610" y="224"/>
                    <a:pt x="1613" y="246"/>
                    <a:pt x="1605" y="265"/>
                  </a:cubicBezTo>
                  <a:cubicBezTo>
                    <a:pt x="1600" y="277"/>
                    <a:pt x="1568" y="286"/>
                    <a:pt x="1558" y="289"/>
                  </a:cubicBezTo>
                  <a:cubicBezTo>
                    <a:pt x="1504" y="304"/>
                    <a:pt x="1458" y="320"/>
                    <a:pt x="1403" y="327"/>
                  </a:cubicBezTo>
                  <a:cubicBezTo>
                    <a:pt x="1251" y="320"/>
                    <a:pt x="1245" y="338"/>
                    <a:pt x="1153" y="250"/>
                  </a:cubicBezTo>
                  <a:cubicBezTo>
                    <a:pt x="1138" y="204"/>
                    <a:pt x="1138" y="176"/>
                    <a:pt x="1138" y="125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434840" y="2598480"/>
              <a:ext cx="460944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mbine into a single source in the prim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1928880" y="3043080"/>
            <a:ext cx="5871960" cy="714600"/>
            <a:chOff x="1928880" y="3043080"/>
            <a:chExt cx="5871960" cy="714600"/>
          </a:xfrm>
        </p:grpSpPr>
        <p:sp>
          <p:nvSpPr>
            <p:cNvPr id="177" name=""/>
            <p:cNvSpPr/>
            <p:nvPr/>
          </p:nvSpPr>
          <p:spPr>
            <a:xfrm>
              <a:off x="1928880" y="3043080"/>
              <a:ext cx="2527200" cy="714600"/>
            </a:xfrm>
            <a:custGeom>
              <a:avLst/>
              <a:gdLst/>
              <a:ahLst/>
              <a:rect l="l" t="t" r="r" b="b"/>
              <a:pathLst>
                <a:path w="1592" h="450">
                  <a:moveTo>
                    <a:pt x="445" y="211"/>
                  </a:moveTo>
                  <a:cubicBezTo>
                    <a:pt x="451" y="176"/>
                    <a:pt x="465" y="117"/>
                    <a:pt x="445" y="86"/>
                  </a:cubicBezTo>
                  <a:cubicBezTo>
                    <a:pt x="405" y="24"/>
                    <a:pt x="306" y="15"/>
                    <a:pt x="242" y="0"/>
                  </a:cubicBezTo>
                  <a:cubicBezTo>
                    <a:pt x="198" y="3"/>
                    <a:pt x="154" y="3"/>
                    <a:pt x="110" y="8"/>
                  </a:cubicBezTo>
                  <a:cubicBezTo>
                    <a:pt x="91" y="10"/>
                    <a:pt x="68" y="9"/>
                    <a:pt x="55" y="23"/>
                  </a:cubicBezTo>
                  <a:cubicBezTo>
                    <a:pt x="41" y="39"/>
                    <a:pt x="11" y="124"/>
                    <a:pt x="1" y="156"/>
                  </a:cubicBezTo>
                  <a:cubicBezTo>
                    <a:pt x="3" y="174"/>
                    <a:pt x="0" y="194"/>
                    <a:pt x="8" y="211"/>
                  </a:cubicBezTo>
                  <a:cubicBezTo>
                    <a:pt x="35" y="271"/>
                    <a:pt x="154" y="266"/>
                    <a:pt x="203" y="273"/>
                  </a:cubicBezTo>
                  <a:cubicBezTo>
                    <a:pt x="274" y="268"/>
                    <a:pt x="332" y="262"/>
                    <a:pt x="398" y="242"/>
                  </a:cubicBezTo>
                  <a:cubicBezTo>
                    <a:pt x="475" y="373"/>
                    <a:pt x="347" y="170"/>
                    <a:pt x="476" y="312"/>
                  </a:cubicBezTo>
                  <a:cubicBezTo>
                    <a:pt x="487" y="324"/>
                    <a:pt x="480" y="347"/>
                    <a:pt x="492" y="359"/>
                  </a:cubicBezTo>
                  <a:cubicBezTo>
                    <a:pt x="583" y="450"/>
                    <a:pt x="763" y="425"/>
                    <a:pt x="881" y="437"/>
                  </a:cubicBezTo>
                  <a:cubicBezTo>
                    <a:pt x="1043" y="428"/>
                    <a:pt x="1203" y="410"/>
                    <a:pt x="1364" y="398"/>
                  </a:cubicBezTo>
                  <a:cubicBezTo>
                    <a:pt x="1428" y="382"/>
                    <a:pt x="1486" y="363"/>
                    <a:pt x="1551" y="351"/>
                  </a:cubicBezTo>
                  <a:cubicBezTo>
                    <a:pt x="1583" y="330"/>
                    <a:pt x="1588" y="334"/>
                    <a:pt x="1590" y="281"/>
                  </a:cubicBezTo>
                  <a:cubicBezTo>
                    <a:pt x="1592" y="237"/>
                    <a:pt x="1589" y="192"/>
                    <a:pt x="1583" y="148"/>
                  </a:cubicBezTo>
                  <a:cubicBezTo>
                    <a:pt x="1578" y="117"/>
                    <a:pt x="1547" y="93"/>
                    <a:pt x="1520" y="78"/>
                  </a:cubicBezTo>
                  <a:cubicBezTo>
                    <a:pt x="1456" y="43"/>
                    <a:pt x="1372" y="30"/>
                    <a:pt x="1302" y="8"/>
                  </a:cubicBezTo>
                  <a:cubicBezTo>
                    <a:pt x="1260" y="13"/>
                    <a:pt x="1218" y="14"/>
                    <a:pt x="1177" y="23"/>
                  </a:cubicBezTo>
                  <a:cubicBezTo>
                    <a:pt x="1121" y="35"/>
                    <a:pt x="1123" y="123"/>
                    <a:pt x="1107" y="172"/>
                  </a:cubicBezTo>
                  <a:cubicBezTo>
                    <a:pt x="1117" y="293"/>
                    <a:pt x="1096" y="238"/>
                    <a:pt x="1162" y="327"/>
                  </a:cubicBezTo>
                  <a:cubicBezTo>
                    <a:pt x="1190" y="364"/>
                    <a:pt x="1174" y="350"/>
                    <a:pt x="1193" y="366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39960" y="3060720"/>
              <a:ext cx="326088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ingle source in the second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79" name=""/>
          <p:cNvGraphicFramePr/>
          <p:nvPr/>
        </p:nvGraphicFramePr>
        <p:xfrm>
          <a:off x="152280" y="4114800"/>
          <a:ext cx="5451480" cy="230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4114800"/>
                    <a:ext cx="5451480" cy="23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1" name=""/>
          <p:cNvGrpSpPr/>
          <p:nvPr/>
        </p:nvGrpSpPr>
        <p:grpSpPr>
          <a:xfrm>
            <a:off x="66600" y="2533680"/>
            <a:ext cx="4838760" cy="1712880"/>
            <a:chOff x="66600" y="2533680"/>
            <a:chExt cx="4838760" cy="1712880"/>
          </a:xfrm>
        </p:grpSpPr>
        <p:sp>
          <p:nvSpPr>
            <p:cNvPr id="182" name=""/>
            <p:cNvSpPr/>
            <p:nvPr/>
          </p:nvSpPr>
          <p:spPr>
            <a:xfrm>
              <a:off x="66600" y="2533680"/>
              <a:ext cx="2024280" cy="1712880"/>
            </a:xfrm>
            <a:custGeom>
              <a:avLst/>
              <a:gdLst/>
              <a:ahLst/>
              <a:rect l="l" t="t" r="r" b="b"/>
              <a:pathLst>
                <a:path w="1275" h="1079">
                  <a:moveTo>
                    <a:pt x="1275" y="87"/>
                  </a:moveTo>
                  <a:cubicBezTo>
                    <a:pt x="1170" y="6"/>
                    <a:pt x="1136" y="18"/>
                    <a:pt x="1010" y="2"/>
                  </a:cubicBezTo>
                  <a:cubicBezTo>
                    <a:pt x="615" y="6"/>
                    <a:pt x="431" y="0"/>
                    <a:pt x="114" y="41"/>
                  </a:cubicBezTo>
                  <a:cubicBezTo>
                    <a:pt x="74" y="66"/>
                    <a:pt x="49" y="101"/>
                    <a:pt x="28" y="142"/>
                  </a:cubicBezTo>
                  <a:cubicBezTo>
                    <a:pt x="0" y="362"/>
                    <a:pt x="15" y="388"/>
                    <a:pt x="59" y="719"/>
                  </a:cubicBezTo>
                  <a:cubicBezTo>
                    <a:pt x="68" y="789"/>
                    <a:pt x="77" y="779"/>
                    <a:pt x="129" y="796"/>
                  </a:cubicBezTo>
                  <a:cubicBezTo>
                    <a:pt x="164" y="831"/>
                    <a:pt x="151" y="824"/>
                    <a:pt x="215" y="843"/>
                  </a:cubicBezTo>
                  <a:cubicBezTo>
                    <a:pt x="256" y="855"/>
                    <a:pt x="340" y="874"/>
                    <a:pt x="340" y="874"/>
                  </a:cubicBezTo>
                  <a:cubicBezTo>
                    <a:pt x="443" y="946"/>
                    <a:pt x="547" y="973"/>
                    <a:pt x="667" y="999"/>
                  </a:cubicBezTo>
                  <a:cubicBezTo>
                    <a:pt x="719" y="1034"/>
                    <a:pt x="770" y="1059"/>
                    <a:pt x="831" y="1069"/>
                  </a:cubicBezTo>
                  <a:cubicBezTo>
                    <a:pt x="859" y="1079"/>
                    <a:pt x="846" y="1077"/>
                    <a:pt x="870" y="1077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859200" y="3551400"/>
              <a:ext cx="1046160" cy="604800"/>
            </a:xfrm>
            <a:custGeom>
              <a:avLst/>
              <a:gdLst/>
              <a:ahLst/>
              <a:rect l="l" t="t" r="r" b="b"/>
              <a:pathLst>
                <a:path w="659" h="381">
                  <a:moveTo>
                    <a:pt x="390" y="0"/>
                  </a:moveTo>
                  <a:cubicBezTo>
                    <a:pt x="485" y="10"/>
                    <a:pt x="546" y="18"/>
                    <a:pt x="631" y="46"/>
                  </a:cubicBezTo>
                  <a:cubicBezTo>
                    <a:pt x="659" y="101"/>
                    <a:pt x="656" y="72"/>
                    <a:pt x="593" y="140"/>
                  </a:cubicBezTo>
                  <a:cubicBezTo>
                    <a:pt x="583" y="151"/>
                    <a:pt x="574" y="164"/>
                    <a:pt x="561" y="171"/>
                  </a:cubicBezTo>
                  <a:cubicBezTo>
                    <a:pt x="542" y="181"/>
                    <a:pt x="519" y="180"/>
                    <a:pt x="499" y="187"/>
                  </a:cubicBezTo>
                  <a:cubicBezTo>
                    <a:pt x="375" y="228"/>
                    <a:pt x="238" y="241"/>
                    <a:pt x="109" y="272"/>
                  </a:cubicBezTo>
                  <a:cubicBezTo>
                    <a:pt x="84" y="289"/>
                    <a:pt x="64" y="310"/>
                    <a:pt x="39" y="327"/>
                  </a:cubicBezTo>
                  <a:cubicBezTo>
                    <a:pt x="30" y="352"/>
                    <a:pt x="25" y="370"/>
                    <a:pt x="0" y="381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4" name="geaux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8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06200" y="76320"/>
            <a:ext cx="23068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O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D13.002A_W1209" descr=""/>
          <p:cNvPicPr/>
          <p:nvPr/>
        </p:nvPicPr>
        <p:blipFill>
          <a:blip r:embed="rId1"/>
          <a:stretch/>
        </p:blipFill>
        <p:spPr>
          <a:xfrm>
            <a:off x="152280" y="1100160"/>
            <a:ext cx="2971800" cy="1643040"/>
          </a:xfrm>
          <a:prstGeom prst="rect">
            <a:avLst/>
          </a:prstGeom>
          <a:ln w="0">
            <a:noFill/>
          </a:ln>
        </p:spPr>
      </p:pic>
      <p:grpSp>
        <p:nvGrpSpPr>
          <p:cNvPr id="189" name=""/>
          <p:cNvGrpSpPr/>
          <p:nvPr/>
        </p:nvGrpSpPr>
        <p:grpSpPr>
          <a:xfrm>
            <a:off x="1981080" y="1023840"/>
            <a:ext cx="862200" cy="457200"/>
            <a:chOff x="1981080" y="1023840"/>
            <a:chExt cx="862200" cy="457200"/>
          </a:xfrm>
        </p:grpSpPr>
        <p:sp>
          <p:nvSpPr>
            <p:cNvPr id="190" name=""/>
            <p:cNvSpPr/>
            <p:nvPr/>
          </p:nvSpPr>
          <p:spPr>
            <a:xfrm>
              <a:off x="1981080" y="148104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1" name=""/>
                <p:cNvSpPr txBox="1"/>
                <p:nvPr/>
              </p:nvSpPr>
              <p:spPr>
                <a:xfrm>
                  <a:off x="1981080" y="1023840"/>
                  <a:ext cx="8622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2" name=""/>
          <p:cNvSpPr/>
          <p:nvPr/>
        </p:nvSpPr>
        <p:spPr>
          <a:xfrm>
            <a:off x="2612880" y="28440"/>
            <a:ext cx="63118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model in the s-domain and the expression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voltage across the indu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2374920" y="1066680"/>
            <a:ext cx="2184840" cy="1487520"/>
            <a:chOff x="2374920" y="1066680"/>
            <a:chExt cx="2184840" cy="1487520"/>
          </a:xfrm>
        </p:grpSpPr>
        <p:sp>
          <p:nvSpPr>
            <p:cNvPr id="194" name=""/>
            <p:cNvSpPr/>
            <p:nvPr/>
          </p:nvSpPr>
          <p:spPr>
            <a:xfrm>
              <a:off x="2374920" y="1576440"/>
              <a:ext cx="1189080" cy="977760"/>
            </a:xfrm>
            <a:custGeom>
              <a:avLst/>
              <a:gdLst/>
              <a:ahLst/>
              <a:rect l="l" t="t" r="r" b="b"/>
              <a:pathLst>
                <a:path w="749" h="616">
                  <a:moveTo>
                    <a:pt x="717" y="187"/>
                  </a:moveTo>
                  <a:cubicBezTo>
                    <a:pt x="714" y="146"/>
                    <a:pt x="724" y="101"/>
                    <a:pt x="709" y="63"/>
                  </a:cubicBezTo>
                  <a:cubicBezTo>
                    <a:pt x="701" y="44"/>
                    <a:pt x="675" y="38"/>
                    <a:pt x="655" y="32"/>
                  </a:cubicBezTo>
                  <a:cubicBezTo>
                    <a:pt x="593" y="15"/>
                    <a:pt x="505" y="7"/>
                    <a:pt x="437" y="0"/>
                  </a:cubicBezTo>
                  <a:cubicBezTo>
                    <a:pt x="302" y="5"/>
                    <a:pt x="203" y="7"/>
                    <a:pt x="78" y="47"/>
                  </a:cubicBezTo>
                  <a:cubicBezTo>
                    <a:pt x="4" y="99"/>
                    <a:pt x="12" y="166"/>
                    <a:pt x="0" y="250"/>
                  </a:cubicBezTo>
                  <a:cubicBezTo>
                    <a:pt x="3" y="323"/>
                    <a:pt x="4" y="395"/>
                    <a:pt x="8" y="468"/>
                  </a:cubicBezTo>
                  <a:cubicBezTo>
                    <a:pt x="9" y="486"/>
                    <a:pt x="21" y="546"/>
                    <a:pt x="31" y="562"/>
                  </a:cubicBezTo>
                  <a:cubicBezTo>
                    <a:pt x="43" y="581"/>
                    <a:pt x="87" y="582"/>
                    <a:pt x="101" y="585"/>
                  </a:cubicBezTo>
                  <a:cubicBezTo>
                    <a:pt x="164" y="599"/>
                    <a:pt x="224" y="608"/>
                    <a:pt x="288" y="616"/>
                  </a:cubicBezTo>
                  <a:cubicBezTo>
                    <a:pt x="392" y="611"/>
                    <a:pt x="497" y="613"/>
                    <a:pt x="600" y="601"/>
                  </a:cubicBezTo>
                  <a:cubicBezTo>
                    <a:pt x="633" y="597"/>
                    <a:pt x="694" y="569"/>
                    <a:pt x="694" y="569"/>
                  </a:cubicBezTo>
                  <a:cubicBezTo>
                    <a:pt x="749" y="494"/>
                    <a:pt x="725" y="371"/>
                    <a:pt x="725" y="289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972520" y="1066680"/>
              <a:ext cx="15872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ductor wi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itial curr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96" name=""/>
          <p:cNvGraphicFramePr/>
          <p:nvPr/>
        </p:nvGraphicFramePr>
        <p:xfrm>
          <a:off x="5867280" y="914400"/>
          <a:ext cx="1244880" cy="1866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67280" y="914400"/>
                    <a:ext cx="1244880" cy="1866960"/>
                  </a:xfrm>
                  <a:prstGeom prst="rect">
                    <a:avLst/>
                  </a:prstGeom>
                  <a:ln w="50760">
                    <a:solidFill>
                      <a:srgbClr val="ccffcc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98" name=""/>
          <p:cNvGrpSpPr/>
          <p:nvPr/>
        </p:nvGrpSpPr>
        <p:grpSpPr>
          <a:xfrm>
            <a:off x="343440" y="3048120"/>
            <a:ext cx="2257920" cy="2942640"/>
            <a:chOff x="343440" y="3048120"/>
            <a:chExt cx="2257920" cy="2942640"/>
          </a:xfrm>
        </p:grpSpPr>
        <p:pic>
          <p:nvPicPr>
            <p:cNvPr id="199" name="D13.002B_W1209" descr=""/>
            <p:cNvPicPr/>
            <p:nvPr/>
          </p:nvPicPr>
          <p:blipFill>
            <a:blip r:embed="rId4"/>
            <a:stretch/>
          </p:blipFill>
          <p:spPr>
            <a:xfrm>
              <a:off x="750960" y="3048120"/>
              <a:ext cx="1846080" cy="25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343440" y="5410080"/>
              <a:ext cx="22579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 circuit i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-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2743200" y="4343400"/>
                <a:ext cx="302256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Ohm's Law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×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02" name=""/>
          <p:cNvGrpSpPr/>
          <p:nvPr/>
        </p:nvGrpSpPr>
        <p:grpSpPr>
          <a:xfrm>
            <a:off x="1082520" y="3603600"/>
            <a:ext cx="3451320" cy="1382760"/>
            <a:chOff x="1082520" y="3603600"/>
            <a:chExt cx="3451320" cy="1382760"/>
          </a:xfrm>
        </p:grpSpPr>
        <mc:AlternateContent>
          <mc:Choice xmlns:a14="http://schemas.microsoft.com/office/drawing/2010/main" Requires="a14">
            <p:sp>
              <p:nvSpPr>
                <p:cNvPr id="203" name=""/>
                <p:cNvSpPr txBox="1"/>
                <p:nvPr/>
              </p:nvSpPr>
              <p:spPr>
                <a:xfrm>
                  <a:off x="2666880" y="3962520"/>
                  <a:ext cx="186696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KVL:  </m:t>
                      </m:r>
                      <m:r>
                        <m:t xml:space="preserve">1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4" name=""/>
            <p:cNvSpPr/>
            <p:nvPr/>
          </p:nvSpPr>
          <p:spPr>
            <a:xfrm>
              <a:off x="1082520" y="3603600"/>
              <a:ext cx="698760" cy="1382760"/>
            </a:xfrm>
            <a:custGeom>
              <a:avLst/>
              <a:gdLst/>
              <a:ahLst/>
              <a:rect l="l" t="t" r="r" b="b"/>
              <a:pathLst>
                <a:path w="440" h="871">
                  <a:moveTo>
                    <a:pt x="440" y="99"/>
                  </a:moveTo>
                  <a:cubicBezTo>
                    <a:pt x="376" y="284"/>
                    <a:pt x="418" y="713"/>
                    <a:pt x="417" y="738"/>
                  </a:cubicBezTo>
                  <a:cubicBezTo>
                    <a:pt x="416" y="759"/>
                    <a:pt x="418" y="860"/>
                    <a:pt x="378" y="863"/>
                  </a:cubicBezTo>
                  <a:cubicBezTo>
                    <a:pt x="285" y="870"/>
                    <a:pt x="191" y="868"/>
                    <a:pt x="97" y="871"/>
                  </a:cubicBezTo>
                  <a:cubicBezTo>
                    <a:pt x="45" y="599"/>
                    <a:pt x="0" y="393"/>
                    <a:pt x="89" y="60"/>
                  </a:cubicBezTo>
                  <a:cubicBezTo>
                    <a:pt x="105" y="0"/>
                    <a:pt x="214" y="66"/>
                    <a:pt x="276" y="68"/>
                  </a:cubicBezTo>
                  <a:cubicBezTo>
                    <a:pt x="315" y="69"/>
                    <a:pt x="354" y="68"/>
                    <a:pt x="393" y="6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965160" y="609480"/>
            <a:ext cx="216036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eady state for t&lt;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geaux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07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3030480" y="85680"/>
            <a:ext cx="311760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ANALYSIS TECHN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90480" y="609480"/>
            <a:ext cx="599940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ll the analysis techniques are applicable in the s-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76320" y="1125360"/>
            <a:ext cx="8569080" cy="2335320"/>
            <a:chOff x="76320" y="1125360"/>
            <a:chExt cx="8569080" cy="2335320"/>
          </a:xfrm>
        </p:grpSpPr>
        <p:sp>
          <p:nvSpPr>
            <p:cNvPr id="212" name=""/>
            <p:cNvSpPr/>
            <p:nvPr/>
          </p:nvSpPr>
          <p:spPr>
            <a:xfrm>
              <a:off x="91800" y="112536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530080" y="1125360"/>
              <a:ext cx="61153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raw the s-domain equivalent and find the voltage in bo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-domain and time 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4" name="F13.003A_W1210" descr=""/>
            <p:cNvPicPr/>
            <p:nvPr/>
          </p:nvPicPr>
          <p:blipFill>
            <a:blip r:embed="rId1"/>
            <a:stretch/>
          </p:blipFill>
          <p:spPr>
            <a:xfrm>
              <a:off x="76320" y="1792440"/>
              <a:ext cx="4495680" cy="1668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5" name=""/>
          <p:cNvGrpSpPr/>
          <p:nvPr/>
        </p:nvGrpSpPr>
        <p:grpSpPr>
          <a:xfrm>
            <a:off x="0" y="2590920"/>
            <a:ext cx="3048120" cy="838080"/>
            <a:chOff x="0" y="2590920"/>
            <a:chExt cx="3048120" cy="838080"/>
          </a:xfrm>
        </p:grpSpPr>
        <p:sp>
          <p:nvSpPr>
            <p:cNvPr id="216" name=""/>
            <p:cNvSpPr/>
            <p:nvPr/>
          </p:nvSpPr>
          <p:spPr>
            <a:xfrm>
              <a:off x="0" y="2590920"/>
              <a:ext cx="1523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7" name=""/>
                <p:cNvSpPr txBox="1"/>
                <p:nvPr/>
              </p:nvSpPr>
              <p:spPr>
                <a:xfrm>
                  <a:off x="571680" y="3138480"/>
                  <a:ext cx="24764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  <m:r>
                        <m:t xml:space="preserve">&lt;</m:t>
                      </m:r>
                      <m:r>
                        <m:t xml:space="preserve">0</m:t>
                      </m:r>
                      <m:r>
                        <m:t xml:space="preserve">⇒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18" name=""/>
          <p:cNvSpPr/>
          <p:nvPr/>
        </p:nvSpPr>
        <p:spPr>
          <a:xfrm>
            <a:off x="4599000" y="1811160"/>
            <a:ext cx="44906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e needs to determine the initial vol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cross the capac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304920" y="1600200"/>
                <a:ext cx="11811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220" name=""/>
          <p:cNvGraphicFramePr/>
          <p:nvPr/>
        </p:nvGraphicFramePr>
        <p:xfrm>
          <a:off x="5791320" y="2438280"/>
          <a:ext cx="2262240" cy="1791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91320" y="2438280"/>
                    <a:ext cx="2262240" cy="1791000"/>
                  </a:xfrm>
                  <a:prstGeom prst="rect">
                    <a:avLst/>
                  </a:prstGeom>
                  <a:ln w="50760">
                    <a:solidFill>
                      <a:srgbClr val="ccffcc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222" name="F13.003B_W1210" descr=""/>
          <p:cNvPicPr/>
          <p:nvPr/>
        </p:nvPicPr>
        <p:blipFill>
          <a:blip r:embed="rId4"/>
          <a:stretch/>
        </p:blipFill>
        <p:spPr>
          <a:xfrm>
            <a:off x="380880" y="3733920"/>
            <a:ext cx="3810240" cy="1538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1371600" y="4952880"/>
                <a:ext cx="2082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s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1040" y="5562720"/>
                <a:ext cx="393696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s</m:t>
                            </m:r>
                          </m:den>
                        </m:f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s</m:t>
                            </m:r>
                          </m:den>
                        </m:f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2590920" y="3429000"/>
                <a:ext cx="30351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C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5029200" y="4267080"/>
                <a:ext cx="32004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5105520" y="4876920"/>
                <a:ext cx="25527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5410080" y="5791320"/>
                <a:ext cx="22734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29" name="geaux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30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10:13:52Z</dcterms:created>
  <dc:creator>Jorge Aravena</dc:creator>
  <dc:description/>
  <dc:language>en-US</dc:language>
  <cp:lastModifiedBy>student</cp:lastModifiedBy>
  <cp:lastPrinted>2001-10-19T21:23:10Z</cp:lastPrinted>
  <dcterms:modified xsi:type="dcterms:W3CDTF">2001-10-19T21:24:01Z</dcterms:modified>
  <cp:revision>23</cp:revision>
  <dc:subject/>
  <dc:title>No Slide Title</dc:title>
</cp:coreProperties>
</file>