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504-25FE-4304-A0FB-C0DD1F70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12A-A5A4-40BD-93EC-EE6A55B4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508-59A6-4ADE-9B03-8DE16559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9A0-3E4D-478E-9B14-EDDC72E5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AF2-A82A-49BF-9F83-5C3881AD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BE5-B335-4D8E-8B4B-7DDA16A9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B94-1FAC-4EF3-BB3D-3921187D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15A-11C7-4E04-90EE-D7C9DE1F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DC0-542A-46CC-B937-F0A8FA63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F47-C8E7-4BE1-8D5D-F1C23DEE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AE4-6999-493C-BF23-59688609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6C1-D7BE-4F8B-B903-099F7530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047C-6C1E-4923-9849-29F416FA9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2280" y="76320"/>
            <a:ext cx="45226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LYPHASE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240" y="873000"/>
            <a:ext cx="28645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2640" y="150660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vantages of poly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14880" y="2344680"/>
            <a:ext cx="556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onfigurations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2920" y="3182760"/>
            <a:ext cx="31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Y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4880" y="4097160"/>
            <a:ext cx="5725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udy power delivered by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9480" y="4935600"/>
            <a:ext cx="592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ing power factor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85760" y="95400"/>
            <a:ext cx="307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 CONNECTED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F10.009A_W1068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33920" cy="31719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4493880" y="135000"/>
            <a:ext cx="4056120" cy="3570120"/>
            <a:chOff x="4493880" y="135000"/>
            <a:chExt cx="4056120" cy="3570120"/>
          </a:xfrm>
        </p:grpSpPr>
        <p:sp>
          <p:nvSpPr>
            <p:cNvPr id="223" name=""/>
            <p:cNvSpPr/>
            <p:nvPr/>
          </p:nvSpPr>
          <p:spPr>
            <a:xfrm>
              <a:off x="4493880" y="135000"/>
              <a:ext cx="40561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an equivalent Y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F10.009B_W1068" descr=""/>
            <p:cNvPicPr/>
            <p:nvPr/>
          </p:nvPicPr>
          <p:blipFill>
            <a:blip r:embed="rId2"/>
            <a:stretch/>
          </p:blipFill>
          <p:spPr>
            <a:xfrm>
              <a:off x="4952880" y="609480"/>
              <a:ext cx="3429000" cy="30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457200" y="3733920"/>
            <a:ext cx="4076640" cy="2849040"/>
            <a:chOff x="457200" y="3733920"/>
            <a:chExt cx="4076640" cy="2849040"/>
          </a:xfrm>
        </p:grpSpPr>
        <p:grpSp>
          <p:nvGrpSpPr>
            <p:cNvPr id="226" name=""/>
            <p:cNvGrpSpPr/>
            <p:nvPr/>
          </p:nvGrpSpPr>
          <p:grpSpPr>
            <a:xfrm>
              <a:off x="457200" y="3733920"/>
              <a:ext cx="2901960" cy="2849040"/>
              <a:chOff x="457200" y="3733920"/>
              <a:chExt cx="2901960" cy="2849040"/>
            </a:xfrm>
          </p:grpSpPr>
          <p:pic>
            <p:nvPicPr>
              <p:cNvPr id="227" name="F10.007B_W1066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3733920"/>
                <a:ext cx="2390760" cy="26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92000" y="6002280"/>
                <a:ext cx="25671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lationship betwe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and lin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616120" y="4678200"/>
              <a:ext cx="1917720" cy="766080"/>
              <a:chOff x="2616120" y="4678200"/>
              <a:chExt cx="1917720" cy="766080"/>
            </a:xfrm>
          </p:grpSpPr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2666880" y="4678200"/>
                    <a:ext cx="180324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2616120" y="5154120"/>
                    <a:ext cx="191772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ags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3429000"/>
                <a:ext cx="1955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705720" y="3429000"/>
                <a:ext cx="17906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10320" y="5524560"/>
                <a:ext cx="170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4572000" y="5202360"/>
            <a:ext cx="1981080" cy="1350360"/>
            <a:chOff x="4572000" y="5202360"/>
            <a:chExt cx="1981080" cy="13503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572000" y="5524560"/>
                  <a:ext cx="1981080" cy="102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4594680" y="5202360"/>
              <a:ext cx="10432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00640" y="76320"/>
            <a:ext cx="564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ine voltages at the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F10.010A_W1069" descr=""/>
          <p:cNvPicPr/>
          <p:nvPr/>
        </p:nvPicPr>
        <p:blipFill>
          <a:blip r:embed="rId1"/>
          <a:stretch/>
        </p:blipFill>
        <p:spPr>
          <a:xfrm>
            <a:off x="0" y="685800"/>
            <a:ext cx="54482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45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F10.010B_W1069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33433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038480" y="3429000"/>
                <a:ext cx="4483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81280" y="4052880"/>
                <a:ext cx="552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799080" y="4991040"/>
            <a:ext cx="4877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other phases using the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581280" y="5448240"/>
                <a:ext cx="27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81280" y="441972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62720" y="4419720"/>
                <a:ext cx="234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88200" y="5410080"/>
                <a:ext cx="27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3080" y="135000"/>
            <a:ext cx="571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magnitude of the line voltage at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64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962520" y="342900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76320" y="3505320"/>
            <a:ext cx="3343320" cy="2666880"/>
            <a:chOff x="76320" y="3505320"/>
            <a:chExt cx="3343320" cy="2666880"/>
          </a:xfrm>
        </p:grpSpPr>
        <p:grpSp>
          <p:nvGrpSpPr>
            <p:cNvPr id="270" name=""/>
            <p:cNvGrpSpPr/>
            <p:nvPr/>
          </p:nvGrpSpPr>
          <p:grpSpPr>
            <a:xfrm>
              <a:off x="76320" y="3505320"/>
              <a:ext cx="3343320" cy="2666880"/>
              <a:chOff x="76320" y="3505320"/>
              <a:chExt cx="3343320" cy="2666880"/>
            </a:xfrm>
          </p:grpSpPr>
          <p:pic>
            <p:nvPicPr>
              <p:cNvPr id="271" name="F10.010B_W106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505320"/>
                <a:ext cx="3343320" cy="2666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272" name=""/>
                  <p:cNvSpPr txBox="1"/>
                  <p:nvPr/>
                </p:nvSpPr>
                <p:spPr>
                  <a:xfrm>
                    <a:off x="2819520" y="4191120"/>
                    <a:ext cx="4194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514600" y="3505320"/>
                  <a:ext cx="609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3985920" y="4097160"/>
            <a:ext cx="33339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terested in magnitud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38480" y="44197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733920" y="5029200"/>
                <a:ext cx="1803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43600" y="51055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3160" y="76320"/>
            <a:ext cx="274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2360" y="3564000"/>
            <a:ext cx="26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1: Solve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80" y="4038480"/>
            <a:ext cx="4224600" cy="1706040"/>
            <a:chOff x="29880" y="4038480"/>
            <a:chExt cx="4224600" cy="1706040"/>
          </a:xfrm>
        </p:grpSpPr>
        <p:grpSp>
          <p:nvGrpSpPr>
            <p:cNvPr id="285" name=""/>
            <p:cNvGrpSpPr/>
            <p:nvPr/>
          </p:nvGrpSpPr>
          <p:grpSpPr>
            <a:xfrm>
              <a:off x="29880" y="4038480"/>
              <a:ext cx="1995840" cy="1706040"/>
              <a:chOff x="29880" y="4038480"/>
              <a:chExt cx="1995840" cy="1706040"/>
            </a:xfrm>
          </p:grpSpPr>
          <mc:AlternateContent>
            <mc:Choice xmlns:a14="http://schemas.microsoft.com/office/drawing/2010/main" Requires="a14">
              <p:sp>
                <p:nvSpPr>
                  <p:cNvPr id="286" name=""/>
                  <p:cNvSpPr txBox="1"/>
                  <p:nvPr/>
                </p:nvSpPr>
                <p:spPr>
                  <a:xfrm>
                    <a:off x="152640" y="4038480"/>
                    <a:ext cx="1752480" cy="109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7" name=""/>
              <p:cNvSpPr/>
              <p:nvPr/>
            </p:nvSpPr>
            <p:spPr>
              <a:xfrm>
                <a:off x="29880" y="5163840"/>
                <a:ext cx="199584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2133720" y="4076640"/>
                  <a:ext cx="2120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1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0" y="0"/>
                <a:ext cx="266688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572000" y="2324160"/>
                <a:ext cx="1498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647240" y="3809880"/>
            <a:ext cx="4290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2: We can also convert the del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ed load into a Y connected 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ormulas derived for resis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are applicable to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572000" y="4952880"/>
                <a:ext cx="2400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lanced case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572000" y="5549760"/>
                <a:ext cx="4038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B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den>
                                  </m:f>
                                </m:num>
                                <m:den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Δ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19520" y="2209680"/>
                <a:ext cx="1409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467480" y="457200"/>
                <a:ext cx="1371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32360" y="5410080"/>
            <a:ext cx="2093400" cy="1266480"/>
            <a:chOff x="2232360" y="541008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2438280" y="541008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2232360" y="609588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08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11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3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14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343400" y="2819520"/>
            <a:ext cx="4712040" cy="965880"/>
            <a:chOff x="4343400" y="2819520"/>
            <a:chExt cx="4712040" cy="96588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343400" y="2819520"/>
                  <a:ext cx="2095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6705720" y="2819520"/>
                  <a:ext cx="2108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4363560" y="3448080"/>
              <a:ext cx="46918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IN THE THIRD AND SOLVE FOR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590920" y="2895480"/>
            <a:ext cx="5194080" cy="3289320"/>
            <a:chOff x="2590920" y="2895480"/>
            <a:chExt cx="5194080" cy="328932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2590920" y="2895480"/>
                  <a:ext cx="1689120" cy="229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→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5334120" y="3886200"/>
                  <a:ext cx="2450880" cy="22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27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52280" y="228600"/>
                <a:ext cx="17020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VIEW OF 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form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57800" y="6248520"/>
                <a:ext cx="2844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F10.012A_W1072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343400" cy="32670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0" y="3486240"/>
            <a:ext cx="5715000" cy="3143160"/>
            <a:chOff x="0" y="3486240"/>
            <a:chExt cx="5715000" cy="3143160"/>
          </a:xfrm>
        </p:grpSpPr>
        <p:pic>
          <p:nvPicPr>
            <p:cNvPr id="334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486240"/>
              <a:ext cx="5715000" cy="3143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736800" y="4711320"/>
                  <a:ext cx="13644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6" name=""/>
          <p:cNvGrpSpPr/>
          <p:nvPr/>
        </p:nvGrpSpPr>
        <p:grpSpPr>
          <a:xfrm>
            <a:off x="4589640" y="3276720"/>
            <a:ext cx="2093400" cy="1266480"/>
            <a:chOff x="4589640" y="32767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4795560" y="32767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4589640" y="39625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876920" y="152280"/>
            <a:ext cx="3657600" cy="2648160"/>
            <a:chOff x="4876920" y="152280"/>
            <a:chExt cx="3657600" cy="2648160"/>
          </a:xfrm>
        </p:grpSpPr>
        <p:pic>
          <p:nvPicPr>
            <p:cNvPr id="340" name="F10.007B_W1066" descr=""/>
            <p:cNvPicPr/>
            <p:nvPr/>
          </p:nvPicPr>
          <p:blipFill>
            <a:blip r:embed="rId3"/>
            <a:stretch/>
          </p:blipFill>
          <p:spPr>
            <a:xfrm>
              <a:off x="4876920" y="152280"/>
              <a:ext cx="2390760" cy="2648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6553080" y="1295280"/>
                  <a:ext cx="1981440" cy="145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ine-phase voltag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elationship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6034680" y="4630680"/>
            <a:ext cx="2449800" cy="1019160"/>
            <a:chOff x="6034680" y="4630680"/>
            <a:chExt cx="2449800" cy="1019160"/>
          </a:xfrm>
        </p:grpSpPr>
        <p:sp>
          <p:nvSpPr>
            <p:cNvPr id="343" name=""/>
            <p:cNvSpPr/>
            <p:nvPr/>
          </p:nvSpPr>
          <p:spPr>
            <a:xfrm>
              <a:off x="6034680" y="46306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095880" y="5029200"/>
                  <a:ext cx="23749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°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 the phase current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172200" y="5638680"/>
                <a:ext cx="1701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048120" y="1905120"/>
                <a:ext cx="314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94160" y="58680"/>
            <a:ext cx="6369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 consists of 10-Ohm resistance i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20-mH inductance. Source is Y-connected, abc sequ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20-V rms, 60Hz. Determine all line and phase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276720" y="914400"/>
                <a:ext cx="2082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429000" y="129528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ucta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0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51120" y="2362320"/>
                <a:ext cx="453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"/>
          <p:cNvGrpSpPr/>
          <p:nvPr/>
        </p:nvGrpSpPr>
        <p:grpSpPr>
          <a:xfrm>
            <a:off x="17640" y="5029200"/>
            <a:ext cx="2093400" cy="1266480"/>
            <a:chOff x="17640" y="50292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3560" y="50292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17640" y="57150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4290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352680" y="3886200"/>
                <a:ext cx="2654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638520" y="304812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397320" y="4343400"/>
                <a:ext cx="28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4089960" y="1905120"/>
            <a:ext cx="4892760" cy="3781080"/>
            <a:chOff x="4089960" y="1905120"/>
            <a:chExt cx="4892760" cy="378108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6324480" y="190512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4089960" y="5105520"/>
              <a:ext cx="4892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ly, determine first the line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n the delta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F10.012A_W1072" descr=""/>
          <p:cNvPicPr/>
          <p:nvPr/>
        </p:nvPicPr>
        <p:blipFill>
          <a:blip r:embed="rId1"/>
          <a:stretch/>
        </p:blipFill>
        <p:spPr>
          <a:xfrm>
            <a:off x="0" y="457200"/>
            <a:ext cx="4343400" cy="3267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11400" y="76320"/>
            <a:ext cx="3186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809880"/>
            <a:ext cx="4572000" cy="2762280"/>
            <a:chOff x="0" y="3809880"/>
            <a:chExt cx="4572000" cy="2762280"/>
          </a:xfrm>
        </p:grpSpPr>
        <p:pic>
          <p:nvPicPr>
            <p:cNvPr id="372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809880"/>
              <a:ext cx="4572000" cy="2762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989440" y="4886640"/>
                  <a:ext cx="10908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09880" y="609480"/>
                <a:ext cx="19814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5" name=""/>
          <p:cNvGrpSpPr/>
          <p:nvPr/>
        </p:nvGrpSpPr>
        <p:grpSpPr>
          <a:xfrm>
            <a:off x="3751560" y="3429000"/>
            <a:ext cx="2093400" cy="1266480"/>
            <a:chOff x="3751560" y="34290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3957480" y="34290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"/>
            <p:cNvSpPr/>
            <p:nvPr/>
          </p:nvSpPr>
          <p:spPr>
            <a:xfrm>
              <a:off x="3751560" y="41148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62520" y="21337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038480" y="281952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114800" y="472428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114800" y="552600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5791320" y="1980720"/>
            <a:ext cx="3108600" cy="1586520"/>
            <a:chOff x="5791320" y="1980720"/>
            <a:chExt cx="3108600" cy="1586520"/>
          </a:xfrm>
        </p:grpSpPr>
        <p:grpSp>
          <p:nvGrpSpPr>
            <p:cNvPr id="383" name=""/>
            <p:cNvGrpSpPr/>
            <p:nvPr/>
          </p:nvGrpSpPr>
          <p:grpSpPr>
            <a:xfrm>
              <a:off x="5791320" y="1980720"/>
              <a:ext cx="3108600" cy="1586520"/>
              <a:chOff x="5791320" y="1980720"/>
              <a:chExt cx="3108600" cy="158652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5791320" y="1980720"/>
                <a:ext cx="2438280" cy="1295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791320" y="3200400"/>
                <a:ext cx="1905120" cy="7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6" name=""/>
                  <p:cNvSpPr txBox="1"/>
                  <p:nvPr/>
                </p:nvSpPr>
                <p:spPr>
                  <a:xfrm>
                    <a:off x="8305920" y="198108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7" name=""/>
                  <p:cNvSpPr txBox="1"/>
                  <p:nvPr/>
                </p:nvSpPr>
                <p:spPr>
                  <a:xfrm>
                    <a:off x="7239240" y="327672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8" name=""/>
              <p:cNvSpPr/>
              <p:nvPr/>
            </p:nvSpPr>
            <p:spPr>
              <a:xfrm>
                <a:off x="6553440" y="2895480"/>
                <a:ext cx="164880" cy="38124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00400" y="272556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324120" y="2946240"/>
                  <a:ext cx="3171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248520" y="40384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6222960" y="820800"/>
            <a:ext cx="2545560" cy="2297160"/>
            <a:chOff x="6222960" y="820800"/>
            <a:chExt cx="2545560" cy="2297160"/>
          </a:xfrm>
        </p:grpSpPr>
        <p:sp>
          <p:nvSpPr>
            <p:cNvPr id="393" name=""/>
            <p:cNvSpPr/>
            <p:nvPr/>
          </p:nvSpPr>
          <p:spPr>
            <a:xfrm>
              <a:off x="6222960" y="1125360"/>
              <a:ext cx="2065320" cy="199260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16160" y="820800"/>
              <a:ext cx="205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- 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6811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11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81280" y="763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factor angl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4621680" y="1278000"/>
            <a:ext cx="4395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nd the value of load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 phase in the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52280" y="3048120"/>
                <a:ext cx="2654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28600" y="4114800"/>
                <a:ext cx="2425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666880" y="42670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169920" y="4876920"/>
            <a:ext cx="2093400" cy="1266480"/>
            <a:chOff x="169920" y="48769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375840" y="48769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"/>
            <p:cNvSpPr/>
            <p:nvPr/>
          </p:nvSpPr>
          <p:spPr>
            <a:xfrm>
              <a:off x="169920" y="55627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362320" y="54864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419720" y="5257800"/>
                <a:ext cx="245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343400" y="609480"/>
            <a:ext cx="2817720" cy="4713480"/>
            <a:chOff x="4343400" y="609480"/>
            <a:chExt cx="2817720" cy="4713480"/>
          </a:xfrm>
        </p:grpSpPr>
        <p:sp>
          <p:nvSpPr>
            <p:cNvPr id="412" name=""/>
            <p:cNvSpPr/>
            <p:nvPr/>
          </p:nvSpPr>
          <p:spPr>
            <a:xfrm>
              <a:off x="4343400" y="609480"/>
              <a:ext cx="2817720" cy="4713480"/>
            </a:xfrm>
            <a:custGeom>
              <a:avLst/>
              <a:gdLst/>
              <a:ahLst/>
              <a:rect l="l" t="t" r="r" b="b"/>
              <a:pathLst>
                <a:path w="1775" h="2969">
                  <a:moveTo>
                    <a:pt x="743" y="0"/>
                  </a:moveTo>
                  <a:cubicBezTo>
                    <a:pt x="1069" y="6"/>
                    <a:pt x="1381" y="14"/>
                    <a:pt x="1702" y="55"/>
                  </a:cubicBezTo>
                  <a:cubicBezTo>
                    <a:pt x="1715" y="156"/>
                    <a:pt x="1775" y="285"/>
                    <a:pt x="1631" y="327"/>
                  </a:cubicBezTo>
                  <a:cubicBezTo>
                    <a:pt x="1566" y="346"/>
                    <a:pt x="1496" y="332"/>
                    <a:pt x="1429" y="335"/>
                  </a:cubicBezTo>
                  <a:cubicBezTo>
                    <a:pt x="988" y="391"/>
                    <a:pt x="526" y="389"/>
                    <a:pt x="88" y="413"/>
                  </a:cubicBezTo>
                  <a:cubicBezTo>
                    <a:pt x="0" y="531"/>
                    <a:pt x="21" y="495"/>
                    <a:pt x="3" y="631"/>
                  </a:cubicBezTo>
                  <a:cubicBezTo>
                    <a:pt x="12" y="743"/>
                    <a:pt x="19" y="858"/>
                    <a:pt x="88" y="951"/>
                  </a:cubicBezTo>
                  <a:cubicBezTo>
                    <a:pt x="104" y="1048"/>
                    <a:pt x="78" y="948"/>
                    <a:pt x="143" y="1044"/>
                  </a:cubicBezTo>
                  <a:cubicBezTo>
                    <a:pt x="166" y="1078"/>
                    <a:pt x="169" y="1148"/>
                    <a:pt x="174" y="1185"/>
                  </a:cubicBezTo>
                  <a:cubicBezTo>
                    <a:pt x="177" y="1258"/>
                    <a:pt x="134" y="1401"/>
                    <a:pt x="229" y="1426"/>
                  </a:cubicBezTo>
                  <a:cubicBezTo>
                    <a:pt x="264" y="1473"/>
                    <a:pt x="284" y="1530"/>
                    <a:pt x="314" y="1582"/>
                  </a:cubicBezTo>
                  <a:cubicBezTo>
                    <a:pt x="351" y="1872"/>
                    <a:pt x="352" y="2165"/>
                    <a:pt x="392" y="2455"/>
                  </a:cubicBezTo>
                  <a:cubicBezTo>
                    <a:pt x="400" y="2651"/>
                    <a:pt x="408" y="2760"/>
                    <a:pt x="408" y="296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010120" y="3292560"/>
                  <a:ext cx="165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5715000" y="2438280"/>
            <a:ext cx="3155040" cy="2957760"/>
            <a:chOff x="5715000" y="2438280"/>
            <a:chExt cx="3155040" cy="2957760"/>
          </a:xfrm>
        </p:grpSpPr>
        <p:grpSp>
          <p:nvGrpSpPr>
            <p:cNvPr id="415" name=""/>
            <p:cNvGrpSpPr/>
            <p:nvPr/>
          </p:nvGrpSpPr>
          <p:grpSpPr>
            <a:xfrm>
              <a:off x="5715000" y="3809520"/>
              <a:ext cx="3108600" cy="1586520"/>
              <a:chOff x="5715000" y="3809520"/>
              <a:chExt cx="3108600" cy="1586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715000" y="3809520"/>
                <a:ext cx="3108600" cy="1586520"/>
                <a:chOff x="5715000" y="3809520"/>
                <a:chExt cx="3108600" cy="1586520"/>
              </a:xfrm>
            </p:grpSpPr>
            <p:sp>
              <p:nvSpPr>
                <p:cNvPr id="417" name=""/>
                <p:cNvSpPr/>
                <p:nvPr/>
              </p:nvSpPr>
              <p:spPr>
                <a:xfrm flipV="1">
                  <a:off x="5715000" y="3809520"/>
                  <a:ext cx="2438280" cy="12956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715000" y="5029200"/>
                  <a:ext cx="1905120" cy="7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9" name=""/>
                    <p:cNvSpPr txBox="1"/>
                    <p:nvPr/>
                  </p:nvSpPr>
                  <p:spPr>
                    <a:xfrm>
                      <a:off x="8229600" y="3809880"/>
                      <a:ext cx="4190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20" name=""/>
                    <p:cNvSpPr txBox="1"/>
                    <p:nvPr/>
                  </p:nvSpPr>
                  <p:spPr>
                    <a:xfrm>
                      <a:off x="7162920" y="5105520"/>
                      <a:ext cx="4046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21" name=""/>
                <p:cNvSpPr/>
                <p:nvPr/>
              </p:nvSpPr>
              <p:spPr>
                <a:xfrm>
                  <a:off x="6477120" y="4724280"/>
                  <a:ext cx="164880" cy="381240"/>
                </a:xfrm>
                <a:custGeom>
                  <a:avLst/>
                  <a:gdLst/>
                  <a:ahLst/>
                  <a:rect l="l" t="t" r="r" b="b"/>
                  <a:pathLst>
                    <a:path w="104" h="240">
                      <a:moveTo>
                        <a:pt x="0" y="0"/>
                      </a:moveTo>
                      <a:cubicBezTo>
                        <a:pt x="44" y="4"/>
                        <a:pt x="88" y="8"/>
                        <a:pt x="96" y="48"/>
                      </a:cubicBezTo>
                      <a:cubicBezTo>
                        <a:pt x="104" y="88"/>
                        <a:pt x="76" y="164"/>
                        <a:pt x="48" y="240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24080" y="4554360"/>
                  <a:ext cx="2099520" cy="337320"/>
                </a:xfrm>
                <a:prstGeom prst="rect">
                  <a:avLst/>
                </a:prstGeom>
                <a:noFill/>
                <a:ln w="255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Power factor ang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6247800" y="4775040"/>
                    <a:ext cx="3171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24" name=""/>
            <p:cNvGrpSpPr/>
            <p:nvPr/>
          </p:nvGrpSpPr>
          <p:grpSpPr>
            <a:xfrm>
              <a:off x="6324480" y="2438280"/>
              <a:ext cx="2545560" cy="2297160"/>
              <a:chOff x="6324480" y="2438280"/>
              <a:chExt cx="2545560" cy="2297160"/>
            </a:xfrm>
          </p:grpSpPr>
          <p:sp>
            <p:nvSpPr>
              <p:cNvPr id="425" name=""/>
              <p:cNvSpPr/>
              <p:nvPr/>
            </p:nvSpPr>
            <p:spPr>
              <a:xfrm>
                <a:off x="6324480" y="2742840"/>
                <a:ext cx="2065320" cy="1992600"/>
              </a:xfrm>
              <a:custGeom>
                <a:avLst/>
                <a:gdLst/>
                <a:ahLst/>
                <a:rect l="l" t="t" r="r" b="b"/>
                <a:pathLst>
                  <a:path w="1301" h="1255">
                    <a:moveTo>
                      <a:pt x="0" y="1255"/>
                    </a:moveTo>
                    <a:cubicBezTo>
                      <a:pt x="105" y="1013"/>
                      <a:pt x="34" y="1171"/>
                      <a:pt x="226" y="787"/>
                    </a:cubicBezTo>
                    <a:cubicBezTo>
                      <a:pt x="293" y="654"/>
                      <a:pt x="331" y="514"/>
                      <a:pt x="397" y="382"/>
                    </a:cubicBezTo>
                    <a:cubicBezTo>
                      <a:pt x="409" y="290"/>
                      <a:pt x="424" y="199"/>
                      <a:pt x="444" y="109"/>
                    </a:cubicBezTo>
                    <a:cubicBezTo>
                      <a:pt x="447" y="94"/>
                      <a:pt x="443" y="76"/>
                      <a:pt x="452" y="63"/>
                    </a:cubicBezTo>
                    <a:cubicBezTo>
                      <a:pt x="458" y="54"/>
                      <a:pt x="472" y="56"/>
                      <a:pt x="483" y="55"/>
                    </a:cubicBezTo>
                    <a:cubicBezTo>
                      <a:pt x="558" y="44"/>
                      <a:pt x="640" y="33"/>
                      <a:pt x="717" y="24"/>
                    </a:cubicBezTo>
                    <a:cubicBezTo>
                      <a:pt x="925" y="0"/>
                      <a:pt x="1025" y="16"/>
                      <a:pt x="1301" y="16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17680" y="2438280"/>
                <a:ext cx="2052360" cy="337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- Impedance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62120" y="1219320"/>
                <a:ext cx="430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2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152280" y="1492200"/>
            <a:ext cx="4628880" cy="4161600"/>
            <a:chOff x="152280" y="1492200"/>
            <a:chExt cx="4628880" cy="4161600"/>
          </a:xfrm>
        </p:grpSpPr>
        <p:sp>
          <p:nvSpPr>
            <p:cNvPr id="435" name=""/>
            <p:cNvSpPr/>
            <p:nvPr/>
          </p:nvSpPr>
          <p:spPr>
            <a:xfrm>
              <a:off x="1878480" y="4495680"/>
              <a:ext cx="29026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circuit is 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ata on any one phase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ffic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52280" y="1492200"/>
              <a:ext cx="3657600" cy="2774880"/>
              <a:chOff x="152280" y="1492200"/>
              <a:chExt cx="3657600" cy="2774880"/>
            </a:xfrm>
          </p:grpSpPr>
          <p:pic>
            <p:nvPicPr>
              <p:cNvPr id="437" name="F10.008_W1067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3429000" cy="277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"/>
              <p:cNvGrpSpPr/>
              <p:nvPr/>
            </p:nvGrpSpPr>
            <p:grpSpPr>
              <a:xfrm>
                <a:off x="152280" y="3244680"/>
                <a:ext cx="2365920" cy="656640"/>
                <a:chOff x="152280" y="3244680"/>
                <a:chExt cx="2365920" cy="656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9" name=""/>
                    <p:cNvSpPr txBox="1"/>
                    <p:nvPr/>
                  </p:nvSpPr>
                  <p:spPr>
                    <a:xfrm>
                      <a:off x="152280" y="3244680"/>
                      <a:ext cx="736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40" name=""/>
                <p:cNvSpPr/>
                <p:nvPr/>
              </p:nvSpPr>
              <p:spPr>
                <a:xfrm>
                  <a:off x="1083240" y="3320640"/>
                  <a:ext cx="1434960" cy="5806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hos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s refere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250560" y="4267080"/>
              <a:ext cx="1676160" cy="1386720"/>
              <a:chOff x="250560" y="4267080"/>
              <a:chExt cx="1676160" cy="1386720"/>
            </a:xfrm>
          </p:grpSpPr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250560" y="4267080"/>
                    <a:ext cx="1676160" cy="100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" name=""/>
              <p:cNvSpPr/>
              <p:nvPr/>
            </p:nvSpPr>
            <p:spPr>
              <a:xfrm>
                <a:off x="257400" y="5316480"/>
                <a:ext cx="15645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bc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28600" y="57150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44440" y="896760"/>
            <a:ext cx="871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 and reactive power per phase at the load and total real, reactiv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 at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229280" y="15238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229280" y="19051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267080" y="2209680"/>
                <a:ext cx="4546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67080" y="2666880"/>
                <a:ext cx="4559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6222960" y="2295360"/>
            <a:ext cx="2646360" cy="1289160"/>
            <a:chOff x="6222960" y="2295360"/>
            <a:chExt cx="2646360" cy="1289160"/>
          </a:xfrm>
        </p:grpSpPr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 rot="10800000">
                  <a:off x="6343560" y="2971800"/>
                  <a:ext cx="971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 rot="10800000">
                  <a:off x="7605720" y="3048120"/>
                  <a:ext cx="1000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6222960" y="2533680"/>
              <a:ext cx="1198440" cy="917640"/>
            </a:xfrm>
            <a:custGeom>
              <a:avLst/>
              <a:gdLst/>
              <a:ahLst/>
              <a:rect l="l" t="t" r="r" b="b"/>
              <a:pathLst>
                <a:path w="755" h="578">
                  <a:moveTo>
                    <a:pt x="662" y="578"/>
                  </a:moveTo>
                  <a:cubicBezTo>
                    <a:pt x="680" y="570"/>
                    <a:pt x="705" y="571"/>
                    <a:pt x="717" y="555"/>
                  </a:cubicBezTo>
                  <a:cubicBezTo>
                    <a:pt x="755" y="503"/>
                    <a:pt x="669" y="363"/>
                    <a:pt x="662" y="352"/>
                  </a:cubicBezTo>
                  <a:cubicBezTo>
                    <a:pt x="653" y="340"/>
                    <a:pt x="570" y="330"/>
                    <a:pt x="561" y="329"/>
                  </a:cubicBezTo>
                  <a:cubicBezTo>
                    <a:pt x="471" y="200"/>
                    <a:pt x="630" y="54"/>
                    <a:pt x="459" y="25"/>
                  </a:cubicBezTo>
                  <a:cubicBezTo>
                    <a:pt x="411" y="0"/>
                    <a:pt x="370" y="16"/>
                    <a:pt x="319" y="25"/>
                  </a:cubicBezTo>
                  <a:cubicBezTo>
                    <a:pt x="298" y="76"/>
                    <a:pt x="278" y="110"/>
                    <a:pt x="272" y="165"/>
                  </a:cubicBezTo>
                  <a:cubicBezTo>
                    <a:pt x="269" y="191"/>
                    <a:pt x="269" y="217"/>
                    <a:pt x="265" y="243"/>
                  </a:cubicBezTo>
                  <a:cubicBezTo>
                    <a:pt x="264" y="251"/>
                    <a:pt x="265" y="265"/>
                    <a:pt x="257" y="267"/>
                  </a:cubicBezTo>
                  <a:cubicBezTo>
                    <a:pt x="201" y="279"/>
                    <a:pt x="142" y="277"/>
                    <a:pt x="85" y="282"/>
                  </a:cubicBezTo>
                  <a:cubicBezTo>
                    <a:pt x="3" y="303"/>
                    <a:pt x="12" y="296"/>
                    <a:pt x="0" y="376"/>
                  </a:cubicBezTo>
                  <a:cubicBezTo>
                    <a:pt x="5" y="412"/>
                    <a:pt x="3" y="450"/>
                    <a:pt x="15" y="485"/>
                  </a:cubicBezTo>
                  <a:cubicBezTo>
                    <a:pt x="22" y="506"/>
                    <a:pt x="48" y="523"/>
                    <a:pt x="70" y="524"/>
                  </a:cubicBezTo>
                  <a:cubicBezTo>
                    <a:pt x="215" y="532"/>
                    <a:pt x="361" y="529"/>
                    <a:pt x="506" y="532"/>
                  </a:cubicBezTo>
                  <a:cubicBezTo>
                    <a:pt x="567" y="540"/>
                    <a:pt x="609" y="547"/>
                    <a:pt x="662" y="5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48680" y="2295360"/>
              <a:ext cx="1520640" cy="1289160"/>
            </a:xfrm>
            <a:custGeom>
              <a:avLst/>
              <a:gdLst/>
              <a:ahLst/>
              <a:rect l="l" t="t" r="r" b="b"/>
              <a:pathLst>
                <a:path w="958" h="812">
                  <a:moveTo>
                    <a:pt x="834" y="650"/>
                  </a:moveTo>
                  <a:cubicBezTo>
                    <a:pt x="834" y="648"/>
                    <a:pt x="846" y="524"/>
                    <a:pt x="849" y="518"/>
                  </a:cubicBezTo>
                  <a:cubicBezTo>
                    <a:pt x="855" y="506"/>
                    <a:pt x="901" y="497"/>
                    <a:pt x="912" y="494"/>
                  </a:cubicBezTo>
                  <a:cubicBezTo>
                    <a:pt x="944" y="462"/>
                    <a:pt x="944" y="427"/>
                    <a:pt x="958" y="385"/>
                  </a:cubicBezTo>
                  <a:cubicBezTo>
                    <a:pt x="914" y="0"/>
                    <a:pt x="796" y="236"/>
                    <a:pt x="156" y="230"/>
                  </a:cubicBezTo>
                  <a:cubicBezTo>
                    <a:pt x="143" y="227"/>
                    <a:pt x="130" y="222"/>
                    <a:pt x="117" y="222"/>
                  </a:cubicBezTo>
                  <a:cubicBezTo>
                    <a:pt x="88" y="222"/>
                    <a:pt x="56" y="217"/>
                    <a:pt x="31" y="230"/>
                  </a:cubicBezTo>
                  <a:cubicBezTo>
                    <a:pt x="21" y="235"/>
                    <a:pt x="3" y="335"/>
                    <a:pt x="0" y="346"/>
                  </a:cubicBezTo>
                  <a:cubicBezTo>
                    <a:pt x="3" y="393"/>
                    <a:pt x="1" y="440"/>
                    <a:pt x="8" y="487"/>
                  </a:cubicBezTo>
                  <a:cubicBezTo>
                    <a:pt x="10" y="502"/>
                    <a:pt x="45" y="568"/>
                    <a:pt x="54" y="588"/>
                  </a:cubicBezTo>
                  <a:cubicBezTo>
                    <a:pt x="74" y="635"/>
                    <a:pt x="83" y="688"/>
                    <a:pt x="101" y="736"/>
                  </a:cubicBezTo>
                  <a:cubicBezTo>
                    <a:pt x="114" y="812"/>
                    <a:pt x="126" y="796"/>
                    <a:pt x="202" y="806"/>
                  </a:cubicBezTo>
                  <a:cubicBezTo>
                    <a:pt x="233" y="804"/>
                    <a:pt x="430" y="804"/>
                    <a:pt x="522" y="783"/>
                  </a:cubicBezTo>
                  <a:cubicBezTo>
                    <a:pt x="564" y="774"/>
                    <a:pt x="647" y="752"/>
                    <a:pt x="647" y="752"/>
                  </a:cubicBezTo>
                  <a:cubicBezTo>
                    <a:pt x="685" y="725"/>
                    <a:pt x="708" y="728"/>
                    <a:pt x="756" y="7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65760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863960" y="4357800"/>
                <a:ext cx="3175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 phas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68880" y="5181480"/>
                <a:ext cx="2590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016600" y="5867280"/>
                <a:ext cx="3289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5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5000" y="85680"/>
            <a:ext cx="30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10.001A_W1060" descr=""/>
          <p:cNvPicPr/>
          <p:nvPr/>
        </p:nvPicPr>
        <p:blipFill>
          <a:blip r:embed="rId1"/>
          <a:stretch/>
        </p:blipFill>
        <p:spPr>
          <a:xfrm>
            <a:off x="0" y="609480"/>
            <a:ext cx="5353200" cy="2905200"/>
          </a:xfrm>
          <a:prstGeom prst="rect">
            <a:avLst/>
          </a:prstGeom>
          <a:ln w="0">
            <a:noFill/>
          </a:ln>
        </p:spPr>
      </p:pic>
      <p:pic>
        <p:nvPicPr>
          <p:cNvPr id="52" name="F10.001B_W1060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247920" cy="1695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954760" y="2286000"/>
                <a:ext cx="2948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hase Voltag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219320" y="547560"/>
            <a:ext cx="3124080" cy="1266840"/>
            <a:chOff x="1219320" y="547560"/>
            <a:chExt cx="3124080" cy="1266840"/>
          </a:xfrm>
        </p:grpSpPr>
        <p:grpSp>
          <p:nvGrpSpPr>
            <p:cNvPr id="55" name=""/>
            <p:cNvGrpSpPr/>
            <p:nvPr/>
          </p:nvGrpSpPr>
          <p:grpSpPr>
            <a:xfrm>
              <a:off x="1219320" y="547560"/>
              <a:ext cx="914400" cy="290520"/>
              <a:chOff x="1219320" y="547560"/>
              <a:chExt cx="914400" cy="290520"/>
            </a:xfrm>
          </p:grpSpPr>
          <p:sp>
            <p:nvSpPr>
              <p:cNvPr id="56" name=""/>
              <p:cNvSpPr/>
              <p:nvPr/>
            </p:nvSpPr>
            <p:spPr>
              <a:xfrm>
                <a:off x="1219320" y="83808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1600200" y="54756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" name=""/>
            <p:cNvGrpSpPr/>
            <p:nvPr/>
          </p:nvGrpSpPr>
          <p:grpSpPr>
            <a:xfrm>
              <a:off x="2362320" y="1066680"/>
              <a:ext cx="914400" cy="290520"/>
              <a:chOff x="2362320" y="1066680"/>
              <a:chExt cx="914400" cy="29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362320" y="13572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2743200" y="106668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" name=""/>
            <p:cNvGrpSpPr/>
            <p:nvPr/>
          </p:nvGrpSpPr>
          <p:grpSpPr>
            <a:xfrm>
              <a:off x="3429000" y="1523880"/>
              <a:ext cx="914400" cy="290520"/>
              <a:chOff x="3429000" y="1523880"/>
              <a:chExt cx="914400" cy="290520"/>
            </a:xfrm>
          </p:grpSpPr>
          <p:sp>
            <p:nvSpPr>
              <p:cNvPr id="62" name=""/>
              <p:cNvSpPr/>
              <p:nvPr/>
            </p:nvSpPr>
            <p:spPr>
              <a:xfrm>
                <a:off x="3429000" y="18144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" name=""/>
                  <p:cNvSpPr txBox="1"/>
                  <p:nvPr/>
                </p:nvSpPr>
                <p:spPr>
                  <a:xfrm>
                    <a:off x="3816360" y="1523880"/>
                    <a:ext cx="176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" y="3200400"/>
                <a:ext cx="2654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alance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" y="1371600"/>
                <a:ext cx="1143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971800" y="3809880"/>
                <a:ext cx="3809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77000" y="4707000"/>
            <a:ext cx="7380000" cy="1247760"/>
            <a:chOff x="477000" y="4707000"/>
            <a:chExt cx="7380000" cy="1247760"/>
          </a:xfrm>
        </p:grpSpPr>
        <p:sp>
          <p:nvSpPr>
            <p:cNvPr id="68" name=""/>
            <p:cNvSpPr/>
            <p:nvPr/>
          </p:nvSpPr>
          <p:spPr>
            <a:xfrm>
              <a:off x="477000" y="4707000"/>
              <a:ext cx="738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76520" y="541008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28600" y="5335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27080" y="1071720"/>
                <a:ext cx="1701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876920" y="457200"/>
                <a:ext cx="3276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is balan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1: 24kW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lagg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2: 10kW at pf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3: 12kVA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lea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79040" y="58680"/>
            <a:ext cx="624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line currents and the combined 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" y="2743200"/>
                <a:ext cx="3149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699080" y="209556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16000" y="3429000"/>
                <a:ext cx="275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203040" y="388152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induc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2280" y="4191120"/>
                <a:ext cx="30355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2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65240" y="5246640"/>
                <a:ext cx="3035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V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52280" y="626256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din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apaci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225960" y="4419720"/>
                <a:ext cx="584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200400" y="47242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892840" y="4789440"/>
                <a:ext cx="2793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019920" y="5638680"/>
                <a:ext cx="1841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" name=""/>
          <p:cNvGrpSpPr/>
          <p:nvPr/>
        </p:nvGrpSpPr>
        <p:grpSpPr>
          <a:xfrm>
            <a:off x="6248520" y="1981080"/>
            <a:ext cx="2739960" cy="2300400"/>
            <a:chOff x="6248520" y="1981080"/>
            <a:chExt cx="2739960" cy="2300400"/>
          </a:xfrm>
        </p:grpSpPr>
        <p:grpSp>
          <p:nvGrpSpPr>
            <p:cNvPr id="480" name=""/>
            <p:cNvGrpSpPr/>
            <p:nvPr/>
          </p:nvGrpSpPr>
          <p:grpSpPr>
            <a:xfrm>
              <a:off x="6248520" y="1981080"/>
              <a:ext cx="2739960" cy="2300400"/>
              <a:chOff x="6248520" y="1981080"/>
              <a:chExt cx="2739960" cy="2300400"/>
            </a:xfrm>
          </p:grpSpPr>
          <p:graphicFrame>
            <p:nvGraphicFramePr>
              <p:cNvPr id="481" name=""/>
              <p:cNvGraphicFramePr/>
              <p:nvPr/>
            </p:nvGraphicFramePr>
            <p:xfrm>
              <a:off x="6248520" y="1981080"/>
              <a:ext cx="2427480" cy="2300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48520" y="1981080"/>
                        <a:ext cx="2427480" cy="230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3" name=""/>
              <p:cNvSpPr/>
              <p:nvPr/>
            </p:nvSpPr>
            <p:spPr>
              <a:xfrm>
                <a:off x="7764480" y="199332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78880" y="386964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6934320" y="2870280"/>
                  <a:ext cx="4572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791320" y="5943600"/>
                <a:ext cx="204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343400" y="350532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5632920" y="6307200"/>
            <a:ext cx="1459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38280" y="76320"/>
                <a:ext cx="55119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line impedances are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line voltages and power factor at the sour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107640" y="76320"/>
            <a:ext cx="2224440" cy="5806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85800" y="327672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5" name=""/>
          <p:cNvGraphicFramePr/>
          <p:nvPr/>
        </p:nvGraphicFramePr>
        <p:xfrm>
          <a:off x="228600" y="838080"/>
          <a:ext cx="43434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43434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77840" y="3733920"/>
                <a:ext cx="389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85800" y="42670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6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2600" y="4648320"/>
                <a:ext cx="4635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0" y="5105520"/>
                <a:ext cx="483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38120" y="5715000"/>
                <a:ext cx="2527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2" name=""/>
          <p:cNvGrpSpPr/>
          <p:nvPr/>
        </p:nvGrpSpPr>
        <p:grpSpPr>
          <a:xfrm>
            <a:off x="5562720" y="990720"/>
            <a:ext cx="2739960" cy="2300040"/>
            <a:chOff x="5562720" y="990720"/>
            <a:chExt cx="2739960" cy="2300040"/>
          </a:xfrm>
        </p:grpSpPr>
        <p:grpSp>
          <p:nvGrpSpPr>
            <p:cNvPr id="503" name=""/>
            <p:cNvGrpSpPr/>
            <p:nvPr/>
          </p:nvGrpSpPr>
          <p:grpSpPr>
            <a:xfrm>
              <a:off x="5562720" y="990720"/>
              <a:ext cx="2739960" cy="2300040"/>
              <a:chOff x="5562720" y="990720"/>
              <a:chExt cx="2739960" cy="2300040"/>
            </a:xfrm>
          </p:grpSpPr>
          <p:graphicFrame>
            <p:nvGraphicFramePr>
              <p:cNvPr id="504" name=""/>
              <p:cNvGraphicFramePr/>
              <p:nvPr/>
            </p:nvGraphicFramePr>
            <p:xfrm>
              <a:off x="5562720" y="990720"/>
              <a:ext cx="2427480" cy="2300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562720" y="990720"/>
                        <a:ext cx="2427480" cy="230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6" name=""/>
              <p:cNvSpPr/>
              <p:nvPr/>
            </p:nvSpPr>
            <p:spPr>
              <a:xfrm>
                <a:off x="7078680" y="100260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93080" y="287892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6248520" y="1879560"/>
                  <a:ext cx="45720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86400" y="3581280"/>
                <a:ext cx="3289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105520" y="44956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1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38520" y="-17640"/>
            <a:ext cx="62812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Y -Y balanced three-phase circuit has a line voltag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08-Vrms. The total real power absorbed by the load is 12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pf=0.8 lagging. Determine the per-phase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F10.012A_W1072" descr=""/>
          <p:cNvPicPr/>
          <p:nvPr/>
        </p:nvPicPr>
        <p:blipFill>
          <a:blip r:embed="rId1"/>
          <a:stretch/>
        </p:blipFill>
        <p:spPr>
          <a:xfrm>
            <a:off x="0" y="1066680"/>
            <a:ext cx="4343400" cy="326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962520" y="1295280"/>
                <a:ext cx="198108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191120" y="28195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80880" y="3886200"/>
                <a:ext cx="2743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28600" y="4660920"/>
                <a:ext cx="3784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1" name=""/>
          <p:cNvGrpSpPr/>
          <p:nvPr/>
        </p:nvGrpSpPr>
        <p:grpSpPr>
          <a:xfrm>
            <a:off x="5924520" y="2452680"/>
            <a:ext cx="3108600" cy="1585440"/>
            <a:chOff x="5924520" y="2452680"/>
            <a:chExt cx="3108600" cy="1585440"/>
          </a:xfrm>
        </p:grpSpPr>
        <p:grpSp>
          <p:nvGrpSpPr>
            <p:cNvPr id="522" name=""/>
            <p:cNvGrpSpPr/>
            <p:nvPr/>
          </p:nvGrpSpPr>
          <p:grpSpPr>
            <a:xfrm>
              <a:off x="5924520" y="2452680"/>
              <a:ext cx="3108600" cy="1585440"/>
              <a:chOff x="5924520" y="2452680"/>
              <a:chExt cx="3108600" cy="1585440"/>
            </a:xfrm>
          </p:grpSpPr>
          <p:sp>
            <p:nvSpPr>
              <p:cNvPr id="523" name=""/>
              <p:cNvSpPr/>
              <p:nvPr/>
            </p:nvSpPr>
            <p:spPr>
              <a:xfrm flipV="1">
                <a:off x="5924520" y="24526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924520" y="36712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5" name=""/>
                  <p:cNvSpPr txBox="1"/>
                  <p:nvPr/>
                </p:nvSpPr>
                <p:spPr>
                  <a:xfrm>
                    <a:off x="8439120" y="24526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7372440" y="37479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7" name=""/>
              <p:cNvSpPr/>
              <p:nvPr/>
            </p:nvSpPr>
            <p:spPr>
              <a:xfrm>
                <a:off x="6686640" y="33667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600" y="31968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6457320" y="3417480"/>
                  <a:ext cx="317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6356520" y="1292400"/>
            <a:ext cx="2481120" cy="2296440"/>
            <a:chOff x="6356520" y="1292400"/>
            <a:chExt cx="2481120" cy="2296440"/>
          </a:xfrm>
        </p:grpSpPr>
        <p:sp>
          <p:nvSpPr>
            <p:cNvPr id="531" name=""/>
            <p:cNvSpPr/>
            <p:nvPr/>
          </p:nvSpPr>
          <p:spPr>
            <a:xfrm>
              <a:off x="6356520" y="1596600"/>
              <a:ext cx="2064960" cy="199224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1160" y="1292400"/>
              <a:ext cx="1986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28600" y="5575320"/>
                <a:ext cx="300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470480" y="327672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33520" y="5943600"/>
                <a:ext cx="213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2697120" y="5048280"/>
            <a:ext cx="1866960" cy="1192320"/>
          </a:xfrm>
          <a:custGeom>
            <a:avLst/>
            <a:gdLst/>
            <a:ahLst/>
            <a:rect l="l" t="t" r="r" b="b"/>
            <a:pathLst>
              <a:path w="1176" h="751">
                <a:moveTo>
                  <a:pt x="802" y="0"/>
                </a:moveTo>
                <a:cubicBezTo>
                  <a:pt x="861" y="9"/>
                  <a:pt x="915" y="38"/>
                  <a:pt x="974" y="46"/>
                </a:cubicBezTo>
                <a:cubicBezTo>
                  <a:pt x="1025" y="52"/>
                  <a:pt x="1131" y="59"/>
                  <a:pt x="1176" y="62"/>
                </a:cubicBezTo>
                <a:cubicBezTo>
                  <a:pt x="1078" y="67"/>
                  <a:pt x="1027" y="37"/>
                  <a:pt x="982" y="109"/>
                </a:cubicBezTo>
                <a:cubicBezTo>
                  <a:pt x="965" y="175"/>
                  <a:pt x="953" y="256"/>
                  <a:pt x="912" y="311"/>
                </a:cubicBezTo>
                <a:cubicBezTo>
                  <a:pt x="891" y="383"/>
                  <a:pt x="872" y="429"/>
                  <a:pt x="818" y="483"/>
                </a:cubicBezTo>
                <a:cubicBezTo>
                  <a:pt x="782" y="592"/>
                  <a:pt x="818" y="565"/>
                  <a:pt x="740" y="592"/>
                </a:cubicBezTo>
                <a:cubicBezTo>
                  <a:pt x="622" y="751"/>
                  <a:pt x="496" y="673"/>
                  <a:pt x="273" y="678"/>
                </a:cubicBezTo>
                <a:cubicBezTo>
                  <a:pt x="182" y="683"/>
                  <a:pt x="91" y="693"/>
                  <a:pt x="0" y="6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495680" y="4800600"/>
                <a:ext cx="2730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041560" y="5430960"/>
            <a:ext cx="5664240" cy="520560"/>
          </a:xfrm>
          <a:custGeom>
            <a:avLst/>
            <a:gdLst/>
            <a:ahLst/>
            <a:rect l="l" t="t" r="r" b="b"/>
            <a:pathLst>
              <a:path w="3568" h="328">
                <a:moveTo>
                  <a:pt x="0" y="304"/>
                </a:moveTo>
                <a:cubicBezTo>
                  <a:pt x="659" y="328"/>
                  <a:pt x="291" y="318"/>
                  <a:pt x="1106" y="328"/>
                </a:cubicBezTo>
                <a:cubicBezTo>
                  <a:pt x="1769" y="322"/>
                  <a:pt x="2425" y="304"/>
                  <a:pt x="3086" y="281"/>
                </a:cubicBezTo>
                <a:cubicBezTo>
                  <a:pt x="3101" y="278"/>
                  <a:pt x="3116" y="274"/>
                  <a:pt x="3132" y="273"/>
                </a:cubicBezTo>
                <a:cubicBezTo>
                  <a:pt x="3194" y="269"/>
                  <a:pt x="3257" y="269"/>
                  <a:pt x="3319" y="265"/>
                </a:cubicBezTo>
                <a:cubicBezTo>
                  <a:pt x="3335" y="264"/>
                  <a:pt x="3350" y="259"/>
                  <a:pt x="3366" y="257"/>
                </a:cubicBezTo>
                <a:cubicBezTo>
                  <a:pt x="3402" y="254"/>
                  <a:pt x="3439" y="253"/>
                  <a:pt x="3475" y="250"/>
                </a:cubicBezTo>
                <a:cubicBezTo>
                  <a:pt x="3498" y="248"/>
                  <a:pt x="3568" y="242"/>
                  <a:pt x="3545" y="242"/>
                </a:cubicBezTo>
                <a:cubicBezTo>
                  <a:pt x="3449" y="242"/>
                  <a:pt x="3353" y="247"/>
                  <a:pt x="3257" y="250"/>
                </a:cubicBezTo>
                <a:cubicBezTo>
                  <a:pt x="3190" y="259"/>
                  <a:pt x="3129" y="281"/>
                  <a:pt x="3062" y="289"/>
                </a:cubicBezTo>
                <a:cubicBezTo>
                  <a:pt x="3021" y="177"/>
                  <a:pt x="3041" y="248"/>
                  <a:pt x="3023" y="70"/>
                </a:cubicBezTo>
                <a:cubicBezTo>
                  <a:pt x="3016" y="3"/>
                  <a:pt x="3024" y="13"/>
                  <a:pt x="2984" y="0"/>
                </a:cubicBezTo>
                <a:cubicBezTo>
                  <a:pt x="2896" y="59"/>
                  <a:pt x="2902" y="40"/>
                  <a:pt x="2758" y="47"/>
                </a:cubicBezTo>
                <a:cubicBezTo>
                  <a:pt x="2611" y="77"/>
                  <a:pt x="2497" y="65"/>
                  <a:pt x="2330" y="70"/>
                </a:cubicBezTo>
                <a:cubicBezTo>
                  <a:pt x="2184" y="74"/>
                  <a:pt x="2039" y="81"/>
                  <a:pt x="1893" y="86"/>
                </a:cubicBezTo>
                <a:cubicBezTo>
                  <a:pt x="1318" y="63"/>
                  <a:pt x="1378" y="63"/>
                  <a:pt x="1550" y="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858000" y="5943600"/>
                <a:ext cx="2197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h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8600" y="47242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"/>
          <p:cNvGrpSpPr/>
          <p:nvPr/>
        </p:nvGrpSpPr>
        <p:grpSpPr>
          <a:xfrm>
            <a:off x="5648400" y="609480"/>
            <a:ext cx="3343320" cy="3657600"/>
            <a:chOff x="5648400" y="609480"/>
            <a:chExt cx="3343320" cy="3657600"/>
          </a:xfrm>
        </p:grpSpPr>
        <p:sp>
          <p:nvSpPr>
            <p:cNvPr id="546" name=""/>
            <p:cNvSpPr/>
            <p:nvPr/>
          </p:nvSpPr>
          <p:spPr>
            <a:xfrm>
              <a:off x="5807880" y="60948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72000" y="1219320"/>
              <a:ext cx="2114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e one pha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48400" y="1600200"/>
              <a:ext cx="3343320" cy="2666880"/>
              <a:chOff x="5648400" y="1600200"/>
              <a:chExt cx="3343320" cy="266688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648400" y="1600200"/>
                <a:ext cx="3343320" cy="2666880"/>
                <a:chOff x="5648400" y="1600200"/>
                <a:chExt cx="3343320" cy="2666880"/>
              </a:xfrm>
            </p:grpSpPr>
            <p:pic>
              <p:nvPicPr>
                <p:cNvPr id="550" name="F10.010B_W106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48400" y="1600200"/>
                  <a:ext cx="3343320" cy="266688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551" name=""/>
                    <p:cNvSpPr txBox="1"/>
                    <p:nvPr/>
                  </p:nvSpPr>
                  <p:spPr>
                    <a:xfrm>
                      <a:off x="8391600" y="2286000"/>
                      <a:ext cx="41940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552" name=""/>
                  <p:cNvSpPr txBox="1"/>
                  <p:nvPr/>
                </p:nvSpPr>
                <p:spPr>
                  <a:xfrm>
                    <a:off x="8086680" y="1600200"/>
                    <a:ext cx="609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28600" y="53341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4720" y="0"/>
            <a:ext cx="597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, reactive and complex power at both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80880" y="3124080"/>
                <a:ext cx="2870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038480"/>
                <a:ext cx="3162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276720" y="3124080"/>
                <a:ext cx="358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422520" y="4038480"/>
                <a:ext cx="3429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886200" y="5029200"/>
                <a:ext cx="264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65240" y="58680"/>
            <a:ext cx="534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480-V rms line feeds two balanced 3-phase loa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oads are 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1: 5kVA at 0.8 pf 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2: 10kVA at 0.9 pf lagg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1200" y="1201680"/>
            <a:ext cx="743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current from the 408-V rms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953400" y="1676520"/>
            <a:ext cx="1454040" cy="1699920"/>
            <a:chOff x="6953400" y="1676520"/>
            <a:chExt cx="1454040" cy="1699920"/>
          </a:xfrm>
        </p:grpSpPr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7086600" y="167652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953400" y="3086280"/>
                  <a:ext cx="1371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84320" y="1600200"/>
                <a:ext cx="284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52280" y="266688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7680" y="3048120"/>
                <a:ext cx="29462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74760" y="4495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324480" y="3505320"/>
                <a:ext cx="2667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298600" y="49528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67400" y="76320"/>
            <a:ext cx="313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F10.013_W1073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4482360" y="1125360"/>
            <a:ext cx="11073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8960" y="210960"/>
            <a:ext cx="3224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single phase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apacitors to increa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1201680"/>
            <a:ext cx="311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eep clear about total/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, line/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3505320"/>
            <a:ext cx="1409760" cy="1509480"/>
            <a:chOff x="0" y="3505320"/>
            <a:chExt cx="1409760" cy="150948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0" y="3505320"/>
                  <a:ext cx="13082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0" y="4343400"/>
                  <a:ext cx="1409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371600" y="396252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active Power to be add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1516320" y="4572000"/>
            <a:ext cx="2974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use capacitors this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uld be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0" y="5257800"/>
                <a:ext cx="2933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depends on h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apacitors are connec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971800" y="525780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1" name=""/>
          <p:cNvGrpSpPr/>
          <p:nvPr/>
        </p:nvGrpSpPr>
        <p:grpSpPr>
          <a:xfrm>
            <a:off x="4343400" y="5334120"/>
            <a:ext cx="4724280" cy="660240"/>
            <a:chOff x="4343400" y="5334120"/>
            <a:chExt cx="4724280" cy="660240"/>
          </a:xfrm>
        </p:grpSpPr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4343400" y="5334120"/>
                  <a:ext cx="30225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7391520" y="5334120"/>
                  <a:ext cx="16761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"/>
          <p:cNvGrpSpPr/>
          <p:nvPr/>
        </p:nvGrpSpPr>
        <p:grpSpPr>
          <a:xfrm>
            <a:off x="4246560" y="5603760"/>
            <a:ext cx="1836720" cy="833400"/>
            <a:chOff x="4246560" y="5603760"/>
            <a:chExt cx="1836720" cy="83340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4495680" y="6172200"/>
                  <a:ext cx="1587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96" name=""/>
            <p:cNvGrpSpPr/>
            <p:nvPr/>
          </p:nvGrpSpPr>
          <p:grpSpPr>
            <a:xfrm>
              <a:off x="4246560" y="5603760"/>
              <a:ext cx="1417680" cy="669960"/>
              <a:chOff x="4246560" y="5603760"/>
              <a:chExt cx="1417680" cy="66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4246560" y="5603760"/>
                <a:ext cx="244440" cy="669960"/>
              </a:xfrm>
              <a:custGeom>
                <a:avLst/>
                <a:gdLst/>
                <a:ahLst/>
                <a:rect l="l" t="t" r="r" b="b"/>
                <a:pathLst>
                  <a:path w="154" h="422">
                    <a:moveTo>
                      <a:pt x="13" y="0"/>
                    </a:moveTo>
                    <a:cubicBezTo>
                      <a:pt x="16" y="47"/>
                      <a:pt x="15" y="94"/>
                      <a:pt x="21" y="141"/>
                    </a:cubicBezTo>
                    <a:cubicBezTo>
                      <a:pt x="24" y="162"/>
                      <a:pt x="18" y="193"/>
                      <a:pt x="37" y="203"/>
                    </a:cubicBezTo>
                    <a:cubicBezTo>
                      <a:pt x="72" y="221"/>
                      <a:pt x="115" y="208"/>
                      <a:pt x="154" y="211"/>
                    </a:cubicBezTo>
                    <a:cubicBezTo>
                      <a:pt x="131" y="218"/>
                      <a:pt x="108" y="227"/>
                      <a:pt x="84" y="234"/>
                    </a:cubicBezTo>
                    <a:cubicBezTo>
                      <a:pt x="63" y="240"/>
                      <a:pt x="21" y="250"/>
                      <a:pt x="21" y="250"/>
                    </a:cubicBezTo>
                    <a:cubicBezTo>
                      <a:pt x="15" y="310"/>
                      <a:pt x="11" y="343"/>
                      <a:pt x="29" y="398"/>
                    </a:cubicBezTo>
                    <a:cubicBezTo>
                      <a:pt x="0" y="417"/>
                      <a:pt x="6" y="422"/>
                      <a:pt x="6" y="39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4495680" y="5791320"/>
                    <a:ext cx="11685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 rot="10800000">
                <a:off x="2400480" y="75600"/>
                <a:ext cx="5678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ad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6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9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11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3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14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15" name=""/>
          <p:cNvGrpSpPr/>
          <p:nvPr/>
        </p:nvGrpSpPr>
        <p:grpSpPr>
          <a:xfrm>
            <a:off x="2882880" y="2895480"/>
            <a:ext cx="5753160" cy="1087560"/>
            <a:chOff x="2882880" y="2895480"/>
            <a:chExt cx="5753160" cy="108756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4699080" y="2895480"/>
                  <a:ext cx="393696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724280" y="3619440"/>
                <a:ext cx="306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648320" y="4952880"/>
                <a:ext cx="3949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943600" y="5791320"/>
                <a:ext cx="1206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 rot="10800000">
                <a:off x="2394000" y="75600"/>
                <a:ext cx="569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32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33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34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36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37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882880" y="2895480"/>
            <a:ext cx="5880240" cy="1087560"/>
            <a:chOff x="2882880" y="2895480"/>
            <a:chExt cx="5880240" cy="1087560"/>
          </a:xfrm>
        </p:grpSpPr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4572000" y="2895480"/>
                  <a:ext cx="41911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7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673520" y="361944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4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4654440" y="4952880"/>
                <a:ext cx="39369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99320" y="579132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76320" y="685800"/>
          <a:ext cx="63244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85800"/>
                    <a:ext cx="63244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"/>
          <p:cNvGrpSpPr/>
          <p:nvPr/>
        </p:nvGrpSpPr>
        <p:grpSpPr>
          <a:xfrm>
            <a:off x="6222960" y="1752480"/>
            <a:ext cx="2882880" cy="2590920"/>
            <a:chOff x="6222960" y="1752480"/>
            <a:chExt cx="2882880" cy="2590920"/>
          </a:xfrm>
        </p:grpSpPr>
        <p:sp>
          <p:nvSpPr>
            <p:cNvPr id="651" name=""/>
            <p:cNvSpPr/>
            <p:nvPr/>
          </p:nvSpPr>
          <p:spPr>
            <a:xfrm>
              <a:off x="6222960" y="1752480"/>
              <a:ext cx="28828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owing. Convert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s to 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F10.007B_W1066" descr=""/>
            <p:cNvPicPr/>
            <p:nvPr/>
          </p:nvPicPr>
          <p:blipFill>
            <a:blip r:embed="rId3"/>
            <a:stretch/>
          </p:blipFill>
          <p:spPr>
            <a:xfrm>
              <a:off x="6477120" y="2590920"/>
              <a:ext cx="227016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79600" y="76320"/>
            <a:ext cx="28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ING POWER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00200" y="1295280"/>
            <a:ext cx="4813200" cy="304920"/>
            <a:chOff x="1600200" y="1295280"/>
            <a:chExt cx="4813200" cy="304920"/>
          </a:xfrm>
        </p:grpSpPr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1600200" y="132084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4952880" y="129528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8" name=""/>
          <p:cNvSpPr/>
          <p:nvPr/>
        </p:nvSpPr>
        <p:spPr>
          <a:xfrm>
            <a:off x="5246280" y="76320"/>
            <a:ext cx="3885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ch circuit is the sour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average power suppli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320" y="3352680"/>
            <a:ext cx="6324480" cy="1691280"/>
            <a:chOff x="76320" y="3352680"/>
            <a:chExt cx="6324480" cy="1691280"/>
          </a:xfrm>
        </p:grpSpPr>
        <p:graphicFrame>
          <p:nvGraphicFramePr>
            <p:cNvPr id="660" name=""/>
            <p:cNvGraphicFramePr/>
            <p:nvPr/>
          </p:nvGraphicFramePr>
          <p:xfrm>
            <a:off x="76320" y="3352680"/>
            <a:ext cx="6324480" cy="150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320" y="3352680"/>
                      <a:ext cx="632448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"/>
            <p:cNvSpPr/>
            <p:nvPr/>
          </p:nvSpPr>
          <p:spPr>
            <a:xfrm>
              <a:off x="1552320" y="470664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1-phas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0" y="5029200"/>
                <a:ext cx="453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52280" y="601992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864480" y="4002120"/>
                <a:ext cx="1650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  <m:sup/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705200" y="4800600"/>
                <a:ext cx="4114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24280" y="5524560"/>
                <a:ext cx="149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772400" y="5638680"/>
                <a:ext cx="1295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4779360" y="6216480"/>
            <a:ext cx="243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stem Y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24280" y="5156280"/>
                <a:ext cx="4254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971800" y="64008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6630480" y="820800"/>
            <a:ext cx="2212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e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power flow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50480" y="7632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2280" y="592200"/>
            <a:ext cx="716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 for power factor correction are normally specified in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353880" y="939960"/>
                <a:ext cx="74948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and frequency must be given in order to know the capaci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 unless other value is giv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181480" y="4419720"/>
                <a:ext cx="3467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181480" y="5181480"/>
                <a:ext cx="3353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105520" y="3657600"/>
                <a:ext cx="3378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5105520"/>
                <a:ext cx="311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3" name=""/>
          <p:cNvGrpSpPr/>
          <p:nvPr/>
        </p:nvGrpSpPr>
        <p:grpSpPr>
          <a:xfrm>
            <a:off x="0" y="2039760"/>
            <a:ext cx="4419360" cy="2984400"/>
            <a:chOff x="0" y="2039760"/>
            <a:chExt cx="4419360" cy="2984400"/>
          </a:xfrm>
        </p:grpSpPr>
        <p:sp>
          <p:nvSpPr>
            <p:cNvPr id="684" name=""/>
            <p:cNvSpPr/>
            <p:nvPr/>
          </p:nvSpPr>
          <p:spPr>
            <a:xfrm>
              <a:off x="183960" y="2039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0" y="2438280"/>
              <a:ext cx="4419360" cy="2585880"/>
              <a:chOff x="0" y="2438280"/>
              <a:chExt cx="4419360" cy="2585880"/>
            </a:xfrm>
          </p:grpSpPr>
          <p:pic>
            <p:nvPicPr>
              <p:cNvPr id="686" name="F10.013_W1073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124080"/>
                <a:ext cx="4419360" cy="1900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87" name=""/>
                  <p:cNvSpPr txBox="1"/>
                  <p:nvPr/>
                </p:nvSpPr>
                <p:spPr>
                  <a:xfrm>
                    <a:off x="838080" y="2438280"/>
                    <a:ext cx="314964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pf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 leading one needs</m:t>
                            </m:r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88" name=""/>
          <p:cNvGrpSpPr/>
          <p:nvPr/>
        </p:nvGrpSpPr>
        <p:grpSpPr>
          <a:xfrm>
            <a:off x="4495680" y="2192400"/>
            <a:ext cx="4648320" cy="1324080"/>
            <a:chOff x="4495680" y="2192400"/>
            <a:chExt cx="4648320" cy="1324080"/>
          </a:xfrm>
        </p:grpSpPr>
        <p:graphicFrame>
          <p:nvGraphicFramePr>
            <p:cNvPr id="689" name=""/>
            <p:cNvGraphicFramePr/>
            <p:nvPr/>
          </p:nvGraphicFramePr>
          <p:xfrm>
            <a:off x="4495680" y="2514600"/>
            <a:ext cx="4648320" cy="10018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2514600"/>
                      <a:ext cx="46483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1" name=""/>
            <p:cNvSpPr/>
            <p:nvPr/>
          </p:nvSpPr>
          <p:spPr>
            <a:xfrm>
              <a:off x="5582520" y="2192400"/>
              <a:ext cx="1925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ices 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05640" y="5562720"/>
            <a:ext cx="41385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1 is not rated at high en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92600" y="6002280"/>
            <a:ext cx="360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3 is the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92840" y="76320"/>
            <a:ext cx="7380000" cy="1247760"/>
            <a:chOff x="492840" y="76320"/>
            <a:chExt cx="7380000" cy="1247760"/>
          </a:xfrm>
        </p:grpSpPr>
        <p:sp>
          <p:nvSpPr>
            <p:cNvPr id="74" name=""/>
            <p:cNvSpPr/>
            <p:nvPr/>
          </p:nvSpPr>
          <p:spPr>
            <a:xfrm>
              <a:off x="492840" y="76320"/>
              <a:ext cx="7380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 of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692360" y="77940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1447920"/>
                <a:ext cx="43560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</m:eqAr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920" y="312408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3520" y="3809880"/>
                <a:ext cx="3352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914400"/>
                <a:ext cx="4025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685800"/>
                <a:ext cx="1447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4572000" y="2895480"/>
            <a:ext cx="4267080" cy="341280"/>
            <a:chOff x="4572000" y="2895480"/>
            <a:chExt cx="4267080" cy="341280"/>
          </a:xfrm>
        </p:grpSpPr>
        <p:sp>
          <p:nvSpPr>
            <p:cNvPr id="82" name=""/>
            <p:cNvSpPr/>
            <p:nvPr/>
          </p:nvSpPr>
          <p:spPr>
            <a:xfrm>
              <a:off x="4572000" y="2895480"/>
              <a:ext cx="4267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952880" y="2971800"/>
                  <a:ext cx="3467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43000" y="4876920"/>
                <a:ext cx="2514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F10.015_W1075" descr=""/>
          <p:cNvPicPr/>
          <p:nvPr/>
        </p:nvPicPr>
        <p:blipFill>
          <a:blip r:embed="rId1"/>
          <a:stretch/>
        </p:blipFill>
        <p:spPr>
          <a:xfrm>
            <a:off x="152280" y="550800"/>
            <a:ext cx="6658200" cy="24955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5659920" y="45720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new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1371600" y="550800"/>
                <a:ext cx="3251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4ACSR wire rated at 170 A 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1" name=""/>
          <p:cNvGrpSpPr/>
          <p:nvPr/>
        </p:nvGrpSpPr>
        <p:grpSpPr>
          <a:xfrm>
            <a:off x="6670440" y="896760"/>
            <a:ext cx="2449800" cy="2104920"/>
            <a:chOff x="6670440" y="896760"/>
            <a:chExt cx="2449800" cy="2104920"/>
          </a:xfrm>
        </p:grpSpPr>
        <p:grpSp>
          <p:nvGrpSpPr>
            <p:cNvPr id="702" name=""/>
            <p:cNvGrpSpPr/>
            <p:nvPr/>
          </p:nvGrpSpPr>
          <p:grpSpPr>
            <a:xfrm>
              <a:off x="6670440" y="896760"/>
              <a:ext cx="2449800" cy="1524600"/>
              <a:chOff x="6670440" y="896760"/>
              <a:chExt cx="2449800" cy="1524600"/>
            </a:xfrm>
          </p:grpSpPr>
          <p:sp>
            <p:nvSpPr>
              <p:cNvPr id="703" name=""/>
              <p:cNvSpPr/>
              <p:nvPr/>
            </p:nvSpPr>
            <p:spPr>
              <a:xfrm>
                <a:off x="6670440" y="896760"/>
                <a:ext cx="2449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1. Is the wire suitable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29120" y="1353960"/>
                <a:ext cx="2298960" cy="1067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. What capac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ould be required 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have a composi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f =0.92 lagg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6820920" y="2421000"/>
              <a:ext cx="220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 are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 - 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858000" y="3048120"/>
            <a:ext cx="2286000" cy="2525760"/>
            <a:chOff x="6858000" y="3048120"/>
            <a:chExt cx="2286000" cy="2525760"/>
          </a:xfrm>
        </p:grpSpPr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7696080" y="335268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6858000" y="4800600"/>
                  <a:ext cx="22860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  <m:sup/>
                          </m:sSubSup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  <m:sup/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9" name=""/>
                <p:cNvSpPr txBox="1"/>
                <p:nvPr/>
              </p:nvSpPr>
              <p:spPr>
                <a:xfrm>
                  <a:off x="7162920" y="3048120"/>
                  <a:ext cx="1815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38080" y="3048120"/>
                <a:ext cx="189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819520" y="3048120"/>
                <a:ext cx="185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4876920" y="3048120"/>
                <a:ext cx="1917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4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838080" y="3733920"/>
                <a:ext cx="4254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3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838080" y="4114800"/>
                <a:ext cx="4432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5496120" y="4249800"/>
            <a:ext cx="121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re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76320" y="4800600"/>
                <a:ext cx="1409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w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152280" y="55627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473120" y="4952880"/>
                <a:ext cx="1346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2819520" y="4952880"/>
                <a:ext cx="1257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1828800" y="5562720"/>
                <a:ext cx="139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101520" y="5867280"/>
                <a:ext cx="2032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 capacito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52280" y="6248520"/>
                <a:ext cx="1955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209680" y="5918040"/>
                <a:ext cx="2616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4952880" y="609588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7511760" y="5774760"/>
            <a:ext cx="1415160" cy="1078560"/>
            <a:chOff x="7511760" y="5774760"/>
            <a:chExt cx="1415160" cy="1078560"/>
          </a:xfrm>
        </p:grpSpPr>
        <p:pic>
          <p:nvPicPr>
            <p:cNvPr id="728" name="stop" descr=""/>
            <p:cNvPicPr/>
            <p:nvPr/>
          </p:nvPicPr>
          <p:blipFill>
            <a:blip r:embed="rId2"/>
            <a:stretch/>
          </p:blipFill>
          <p:spPr>
            <a:xfrm>
              <a:off x="81853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51176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ly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70840" y="85680"/>
            <a:ext cx="3819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-PHAS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F10.002_W1061" descr=""/>
          <p:cNvPicPr/>
          <p:nvPr/>
        </p:nvPicPr>
        <p:blipFill>
          <a:blip r:embed="rId1"/>
          <a:stretch/>
        </p:blipFill>
        <p:spPr>
          <a:xfrm>
            <a:off x="76320" y="539640"/>
            <a:ext cx="3352680" cy="2826000"/>
          </a:xfrm>
          <a:prstGeom prst="rect">
            <a:avLst/>
          </a:prstGeom>
          <a:ln w="0">
            <a:noFill/>
          </a:ln>
        </p:spPr>
      </p:pic>
      <p:pic>
        <p:nvPicPr>
          <p:cNvPr id="90" name="F10.003_W1062" descr=""/>
          <p:cNvPicPr/>
          <p:nvPr/>
        </p:nvPicPr>
        <p:blipFill>
          <a:blip r:embed="rId2"/>
          <a:stretch/>
        </p:blipFill>
        <p:spPr>
          <a:xfrm>
            <a:off x="3657600" y="762120"/>
            <a:ext cx="2390760" cy="25146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896080" y="1219320"/>
            <a:ext cx="3247920" cy="2028240"/>
            <a:chOff x="5896080" y="1219320"/>
            <a:chExt cx="3247920" cy="2028240"/>
          </a:xfrm>
        </p:grpSpPr>
        <p:pic>
          <p:nvPicPr>
            <p:cNvPr id="92" name="F10.001B_W1060" descr=""/>
            <p:cNvPicPr/>
            <p:nvPr/>
          </p:nvPicPr>
          <p:blipFill>
            <a:blip r:embed="rId3"/>
            <a:stretch/>
          </p:blipFill>
          <p:spPr>
            <a:xfrm>
              <a:off x="5896080" y="1219320"/>
              <a:ext cx="32479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659280" y="266688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-b-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429000"/>
            <a:ext cx="4991040" cy="3390840"/>
            <a:chOff x="0" y="3429000"/>
            <a:chExt cx="4991040" cy="3390840"/>
          </a:xfrm>
        </p:grpSpPr>
        <p:pic>
          <p:nvPicPr>
            <p:cNvPr id="95" name="F10.004A_W1063" descr="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193356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F10.004B_W1063" descr=""/>
            <p:cNvPicPr/>
            <p:nvPr/>
          </p:nvPicPr>
          <p:blipFill>
            <a:blip r:embed="rId5"/>
            <a:stretch/>
          </p:blipFill>
          <p:spPr>
            <a:xfrm>
              <a:off x="1981080" y="3429000"/>
              <a:ext cx="300996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360" y="6002280"/>
              <a:ext cx="1427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-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05520" y="3657600"/>
            <a:ext cx="4038480" cy="2834280"/>
            <a:chOff x="5105520" y="3657600"/>
            <a:chExt cx="4038480" cy="2834280"/>
          </a:xfrm>
        </p:grpSpPr>
        <p:pic>
          <p:nvPicPr>
            <p:cNvPr id="99" name="F10.005A_W1064" descr=""/>
            <p:cNvPicPr/>
            <p:nvPr/>
          </p:nvPicPr>
          <p:blipFill>
            <a:blip r:embed="rId6"/>
            <a:stretch/>
          </p:blipFill>
          <p:spPr>
            <a:xfrm>
              <a:off x="5105520" y="373392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F10.005B_W1064" descr=""/>
            <p:cNvPicPr/>
            <p:nvPr/>
          </p:nvPicPr>
          <p:blipFill>
            <a:blip r:embed="rId7"/>
            <a:stretch/>
          </p:blipFill>
          <p:spPr>
            <a:xfrm>
              <a:off x="7191360" y="365760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93440" y="6154560"/>
              <a:ext cx="242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lta connected 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10.007A_W1066" descr=""/>
          <p:cNvPicPr/>
          <p:nvPr/>
        </p:nvPicPr>
        <p:blipFill>
          <a:blip r:embed="rId1"/>
          <a:stretch/>
        </p:blipFill>
        <p:spPr>
          <a:xfrm>
            <a:off x="7391520" y="123840"/>
            <a:ext cx="1657080" cy="20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12880" y="85680"/>
            <a:ext cx="394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F10.006_W1065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066760" cy="32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6840" y="1066680"/>
            <a:ext cx="30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 Y-Y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06600" y="1722600"/>
            <a:ext cx="1995840" cy="1706040"/>
            <a:chOff x="3306600" y="17226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3429000" y="1722600"/>
                  <a:ext cx="175212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3306600" y="284796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1066680"/>
            <a:ext cx="6714720" cy="2684520"/>
            <a:chOff x="380880" y="1066680"/>
            <a:chExt cx="6714720" cy="2684520"/>
          </a:xfrm>
        </p:grpSpPr>
        <p:grpSp>
          <p:nvGrpSpPr>
            <p:cNvPr id="113" name=""/>
            <p:cNvGrpSpPr/>
            <p:nvPr/>
          </p:nvGrpSpPr>
          <p:grpSpPr>
            <a:xfrm>
              <a:off x="380880" y="1998360"/>
              <a:ext cx="1687680" cy="1752840"/>
              <a:chOff x="380880" y="1998360"/>
              <a:chExt cx="1687680" cy="1752840"/>
            </a:xfrm>
          </p:grpSpPr>
          <p:sp>
            <p:nvSpPr>
              <p:cNvPr id="114" name=""/>
              <p:cNvSpPr/>
              <p:nvPr/>
            </p:nvSpPr>
            <p:spPr>
              <a:xfrm>
                <a:off x="1752480" y="199836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1752480" y="222696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" name=""/>
              <p:cNvSpPr/>
              <p:nvPr/>
            </p:nvSpPr>
            <p:spPr>
              <a:xfrm>
                <a:off x="1752480" y="298908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1752480" y="32176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>
                <a:off x="761760" y="2151000"/>
                <a:ext cx="0" cy="1600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" name=""/>
                  <p:cNvSpPr txBox="1"/>
                  <p:nvPr/>
                </p:nvSpPr>
                <p:spPr>
                  <a:xfrm>
                    <a:off x="380880" y="27604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0" name=""/>
            <p:cNvSpPr/>
            <p:nvPr/>
          </p:nvSpPr>
          <p:spPr>
            <a:xfrm>
              <a:off x="5569200" y="1066680"/>
              <a:ext cx="152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62720" y="2235240"/>
                <a:ext cx="308592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2" name="F10.007B_W1066" descr=""/>
          <p:cNvPicPr/>
          <p:nvPr/>
        </p:nvPicPr>
        <p:blipFill>
          <a:blip r:embed="rId3"/>
          <a:stretch/>
        </p:blipFill>
        <p:spPr>
          <a:xfrm>
            <a:off x="3124080" y="3429000"/>
            <a:ext cx="239076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911920" y="4648320"/>
                <a:ext cx="21207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15000" y="5486400"/>
                <a:ext cx="2692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in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5029200"/>
                <a:ext cx="252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" y="5791320"/>
                <a:ext cx="495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1722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637360" y="6095880"/>
            <a:ext cx="6043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balanced circuit it is enough to analyze on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724280" y="3886200"/>
            <a:ext cx="2901960" cy="2849040"/>
            <a:chOff x="4724280" y="3886200"/>
            <a:chExt cx="2901960" cy="2849040"/>
          </a:xfrm>
        </p:grpSpPr>
        <p:pic>
          <p:nvPicPr>
            <p:cNvPr id="13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724280" y="38862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059080" y="61545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3080" y="13500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343400" y="533520"/>
                <a:ext cx="1600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613960" y="896760"/>
            <a:ext cx="3233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685800"/>
            <a:ext cx="2066760" cy="3672720"/>
            <a:chOff x="228600" y="685800"/>
            <a:chExt cx="2066760" cy="3672720"/>
          </a:xfrm>
        </p:grpSpPr>
        <p:pic>
          <p:nvPicPr>
            <p:cNvPr id="140" name="F10.006_W1065" descr=""/>
            <p:cNvPicPr/>
            <p:nvPr/>
          </p:nvPicPr>
          <p:blipFill>
            <a:blip r:embed="rId2"/>
            <a:stretch/>
          </p:blipFill>
          <p:spPr>
            <a:xfrm>
              <a:off x="228600" y="685800"/>
              <a:ext cx="206676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6720" y="4021200"/>
              <a:ext cx="1585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 Y -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90720" y="1295280"/>
            <a:ext cx="5486400" cy="2514600"/>
            <a:chOff x="2790720" y="1295280"/>
            <a:chExt cx="5486400" cy="2514600"/>
          </a:xfrm>
        </p:grpSpPr>
        <p:pic>
          <p:nvPicPr>
            <p:cNvPr id="143" name="F10.003_W1062" descr=""/>
            <p:cNvPicPr/>
            <p:nvPr/>
          </p:nvPicPr>
          <p:blipFill>
            <a:blip r:embed="rId3"/>
            <a:stretch/>
          </p:blipFill>
          <p:spPr>
            <a:xfrm>
              <a:off x="2790720" y="129528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5029200" y="1752480"/>
              <a:ext cx="3247920" cy="2028240"/>
              <a:chOff x="5029200" y="1752480"/>
              <a:chExt cx="3247920" cy="2028240"/>
            </a:xfrm>
          </p:grpSpPr>
          <p:pic>
            <p:nvPicPr>
              <p:cNvPr id="145" name="F10.001B_W1060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75248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792400" y="320004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37360" y="394344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2773080" y="3886200"/>
            <a:ext cx="1995840" cy="1706040"/>
            <a:chOff x="2773080" y="38862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895840" y="3886200"/>
                  <a:ext cx="17524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2773080" y="5011560"/>
              <a:ext cx="1995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77120" y="5486400"/>
                <a:ext cx="2539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086600" y="44197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61040" y="49528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33520" y="4876920"/>
                <a:ext cx="16761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677760" y="1430280"/>
            <a:ext cx="5274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diagram could be rotated by any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25640" y="820800"/>
            <a:ext cx="4453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oad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3280" y="439560"/>
            <a:ext cx="2902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circuit is 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on any one phase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F10.008_W1067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429000" cy="2775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04920" y="3048120"/>
            <a:ext cx="2365920" cy="656640"/>
            <a:chOff x="304920" y="3048120"/>
            <a:chExt cx="2365920" cy="6566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04920" y="3048120"/>
                  <a:ext cx="7365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235880" y="3124080"/>
              <a:ext cx="1434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" y="4038480"/>
            <a:ext cx="1676520" cy="1386720"/>
            <a:chOff x="228600" y="4038480"/>
            <a:chExt cx="1676520" cy="138672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28600" y="4038480"/>
                  <a:ext cx="1676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35080" y="5087880"/>
              <a:ext cx="15645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bc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" y="54864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371600"/>
                <a:ext cx="318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24382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00600" y="28195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56280" y="3429000"/>
                <a:ext cx="30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72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160" y="685800"/>
                <a:ext cx="430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ind the line voltag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4876920" y="579600"/>
            <a:ext cx="2901960" cy="2849040"/>
            <a:chOff x="4876920" y="579600"/>
            <a:chExt cx="2901960" cy="2849040"/>
          </a:xfrm>
        </p:grpSpPr>
        <p:pic>
          <p:nvPicPr>
            <p:cNvPr id="18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876920" y="5796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211720" y="28479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523880"/>
            <a:ext cx="1917720" cy="766800"/>
            <a:chOff x="7035840" y="1523880"/>
            <a:chExt cx="1917720" cy="7668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086600" y="1523880"/>
                  <a:ext cx="180324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7035840" y="2000160"/>
                  <a:ext cx="191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lags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by 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95480" y="114300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d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3520" y="1752480"/>
                <a:ext cx="2641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66680" y="2438280"/>
                <a:ext cx="2667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4480" y="3733920"/>
                <a:ext cx="445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the phase volta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00400" y="419112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4495680"/>
                <a:ext cx="2412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174840" y="5029200"/>
                <a:ext cx="24638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488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4280" y="457200"/>
                <a:ext cx="6364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,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4480" y="820800"/>
            <a:ext cx="35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sourc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1295280"/>
            <a:ext cx="4254480" cy="2775240"/>
            <a:chOff x="304920" y="1295280"/>
            <a:chExt cx="4254480" cy="2775240"/>
          </a:xfrm>
        </p:grpSpPr>
        <p:pic>
          <p:nvPicPr>
            <p:cNvPr id="203" name="F10.008_W1067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3429000" cy="277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362320" y="2630520"/>
                  <a:ext cx="21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3352680" y="2057400"/>
                  <a:ext cx="381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276720" y="3164040"/>
                  <a:ext cx="442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3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693320" y="914400"/>
            <a:ext cx="4065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re not required. Us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152388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105520" y="2133720"/>
                <a:ext cx="3504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5880" y="281952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228600" y="4114800"/>
            <a:ext cx="5486400" cy="2514600"/>
            <a:chOff x="228600" y="4114800"/>
            <a:chExt cx="5486400" cy="2514600"/>
          </a:xfrm>
        </p:grpSpPr>
        <p:pic>
          <p:nvPicPr>
            <p:cNvPr id="212" name="F10.003_W1062" descr=""/>
            <p:cNvPicPr/>
            <p:nvPr/>
          </p:nvPicPr>
          <p:blipFill>
            <a:blip r:embed="rId2"/>
            <a:stretch/>
          </p:blipFill>
          <p:spPr>
            <a:xfrm>
              <a:off x="228600" y="411480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"/>
            <p:cNvGrpSpPr/>
            <p:nvPr/>
          </p:nvGrpSpPr>
          <p:grpSpPr>
            <a:xfrm>
              <a:off x="2467080" y="4572000"/>
              <a:ext cx="3247920" cy="2028240"/>
              <a:chOff x="2467080" y="4572000"/>
              <a:chExt cx="3247920" cy="2028240"/>
            </a:xfrm>
          </p:grpSpPr>
          <p:pic>
            <p:nvPicPr>
              <p:cNvPr id="214" name="F10.001B_W106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67080" y="457200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230280" y="601956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19920" y="3124080"/>
                <a:ext cx="1587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9:30:43Z</dcterms:created>
  <dc:creator>Jorge Aravena</dc:creator>
  <dc:description/>
  <dc:language>en-US</dc:language>
  <cp:lastModifiedBy>student</cp:lastModifiedBy>
  <dcterms:modified xsi:type="dcterms:W3CDTF">2001-08-29T18:03:22Z</dcterms:modified>
  <cp:revision>23</cp:revision>
  <dc:subject/>
  <dc:title>No Slide Title</dc:title>
</cp:coreProperties>
</file>